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16A-A356-4478-A232-EB538B7F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4E6-E3E1-4077-A3F4-99E236C9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C37-2A87-4666-B505-B44E886E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61C-0D35-4857-8688-51913090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4856-41CA-4269-9E43-993E981C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8A9F-6A19-44B8-8B00-258B23A7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E258-CE3F-4F11-AF45-BC80D54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3E29-F860-45FA-8E43-36D9A7B2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BF4D-6C89-4FEE-970B-AEBBB092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243-6ECF-4596-B9F2-98E0108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9E7B-B2E7-4939-8F91-133DECB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E86-3EB8-4518-B837-6EA5F2BC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C6FF-9EF6-4856-BBF3-B31960F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AF5-2D8B-4FF0-9A75-7A0445E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B638-095D-4796-A76D-64D3DE72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6DC8-7EFD-496E-8B85-DB5B82D1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0A04-7D55-4C49-9847-DE390D01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16F-2E39-4F28-8FB5-E8DDA412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0CF-68AD-4731-948C-AFF96530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EB9-9E58-46CD-A100-C7CEF21B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CED-1A9D-446F-A5B2-F6E2AE94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1C7-D588-415B-B080-8B833A1B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524-D72A-4E44-AAE0-FE83B1D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B3F-0A0B-4938-ADB0-7D1210FE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DBD0-A774-44CC-8126-AA0A8FAF7E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49D2-37C2-463B-967A-C470D2E3DA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ПОКАЗАТЕЛЬНАЯ ФУНКЦ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ВОЙСТВА И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БОУ Видновская СОШ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лешова Т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0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lt;a&l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648320" y="6248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graphicFrame>
          <p:nvGraphicFramePr>
            <p:cNvPr id="229" name="Object 6"/>
            <p:cNvGraphicFramePr/>
            <p:nvPr/>
          </p:nvGraphicFramePr>
          <p:xfrm>
            <a:off x="0" y="1828800"/>
            <a:ext cx="4266720" cy="44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28800"/>
                      <a:ext cx="4266720" cy="44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7"/>
            <p:cNvSpPr/>
            <p:nvPr/>
          </p:nvSpPr>
          <p:spPr>
            <a:xfrm>
              <a:off x="2649600" y="2179440"/>
              <a:ext cx="132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0"/>
          <p:cNvSpPr/>
          <p:nvPr/>
        </p:nvSpPr>
        <p:spPr>
          <a:xfrm>
            <a:off x="4267080" y="2209680"/>
            <a:ext cx="4343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значений –  множество всех положительных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e9ce8"/>
                </a:solidFill>
                <a:latin typeface="Arial"/>
              </a:rPr>
              <a:t>E(</a:t>
            </a:r>
            <a:r>
              <a:rPr b="0" i="1" lang="ru-RU" sz="28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0" i="1" lang="en-US" sz="28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7e9ce8"/>
                </a:solidFill>
                <a:latin typeface="Arial"/>
              </a:rPr>
              <a:t>)= </a:t>
            </a:r>
            <a:r>
              <a:rPr b="1" lang="en-US" sz="2800" spc="-1" strike="noStrike">
                <a:solidFill>
                  <a:srgbClr val="7e9ce8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7e9ce8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 flipV="1">
            <a:off x="2095560" y="2057400"/>
            <a:ext cx="0" cy="32004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125"/>
                            </p:stCondLst>
                            <p:childTnLst>
                              <p:par>
                                <p:cTn id="2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625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0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lt;a&l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724280" y="6248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graphicFrame>
          <p:nvGraphicFramePr>
            <p:cNvPr id="238" name="Object 6"/>
            <p:cNvGraphicFramePr/>
            <p:nvPr/>
          </p:nvGraphicFramePr>
          <p:xfrm>
            <a:off x="0" y="1828800"/>
            <a:ext cx="4266720" cy="44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28800"/>
                      <a:ext cx="4266720" cy="44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0" name="Text Box 7"/>
            <p:cNvSpPr/>
            <p:nvPr/>
          </p:nvSpPr>
          <p:spPr>
            <a:xfrm>
              <a:off x="2649600" y="2179440"/>
              <a:ext cx="132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8"/>
          <p:cNvSpPr/>
          <p:nvPr/>
        </p:nvSpPr>
        <p:spPr>
          <a:xfrm>
            <a:off x="4343400" y="2743200"/>
            <a:ext cx="426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убывает на всей области 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8"/>
          <p:cNvGrpSpPr/>
          <p:nvPr/>
        </p:nvGrpSpPr>
        <p:grpSpPr>
          <a:xfrm>
            <a:off x="170640" y="528840"/>
            <a:ext cx="5027760" cy="4895280"/>
            <a:chOff x="170640" y="528840"/>
            <a:chExt cx="5027760" cy="4895280"/>
          </a:xfrm>
        </p:grpSpPr>
        <p:sp>
          <p:nvSpPr>
            <p:cNvPr id="244" name="Arc 16"/>
            <p:cNvSpPr/>
            <p:nvPr/>
          </p:nvSpPr>
          <p:spPr>
            <a:xfrm flipV="1" rot="5015400">
              <a:off x="568080" y="996120"/>
              <a:ext cx="3387960" cy="3828600"/>
            </a:xfrm>
            <a:custGeom>
              <a:avLst/>
              <a:gdLst/>
              <a:ahLst/>
              <a:rect l="l" t="t" r="r" b="b"/>
              <a:pathLst>
                <a:path fill="none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</a:path>
                <a:path stroke="0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  <a:lnTo>
                    <a:pt x="0" y="21310"/>
                  </a:lnTo>
                  <a:lnTo>
                    <a:pt x="3527" y="-1"/>
                  </a:lnTo>
                  <a:close/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rc 17"/>
            <p:cNvSpPr/>
            <p:nvPr/>
          </p:nvSpPr>
          <p:spPr>
            <a:xfrm flipV="1" rot="4938600">
              <a:off x="1139040" y="1473840"/>
              <a:ext cx="4533840" cy="3005280"/>
            </a:xfrm>
            <a:custGeom>
              <a:avLst/>
              <a:gdLst/>
              <a:ahLst/>
              <a:rect l="l" t="t" r="r" b="b"/>
              <a:pathLst>
                <a:path fill="none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</a:path>
                <a:path stroke="0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  <a:lnTo>
                    <a:pt x="0" y="12650"/>
                  </a:lnTo>
                  <a:lnTo>
                    <a:pt x="17508" y="-1"/>
                  </a:lnTo>
                  <a:close/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1" dur="75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0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lt;a&l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4419720" y="6248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graphicFrame>
          <p:nvGraphicFramePr>
            <p:cNvPr id="249" name="Object 6"/>
            <p:cNvGraphicFramePr/>
            <p:nvPr/>
          </p:nvGraphicFramePr>
          <p:xfrm>
            <a:off x="0" y="1828800"/>
            <a:ext cx="4266720" cy="44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28800"/>
                      <a:ext cx="4266720" cy="44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1" name="Text Box 7"/>
            <p:cNvSpPr/>
            <p:nvPr/>
          </p:nvSpPr>
          <p:spPr>
            <a:xfrm>
              <a:off x="2649600" y="2179440"/>
              <a:ext cx="132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343400" y="2908440"/>
            <a:ext cx="41911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0 значение функции равно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25"/>
                            </p:stCondLst>
                            <p:childTnLst>
                              <p:par>
                                <p:cTn id="26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25"/>
                            </p:stCondLst>
                            <p:childTnLst>
                              <p:par>
                                <p:cTn id="2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3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725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0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lt;a&l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90640" y="2781000"/>
            <a:ext cx="41958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о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133720" y="6248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graphicFrame>
          <p:nvGraphicFramePr>
            <p:cNvPr id="259" name="Object 6"/>
            <p:cNvGraphicFramePr/>
            <p:nvPr/>
          </p:nvGraphicFramePr>
          <p:xfrm>
            <a:off x="0" y="1828800"/>
            <a:ext cx="4266720" cy="44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28800"/>
                      <a:ext cx="4266720" cy="44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Text Box 7"/>
            <p:cNvSpPr/>
            <p:nvPr/>
          </p:nvSpPr>
          <p:spPr>
            <a:xfrm>
              <a:off x="2649600" y="2179440"/>
              <a:ext cx="132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Arc 9"/>
          <p:cNvSpPr/>
          <p:nvPr/>
        </p:nvSpPr>
        <p:spPr>
          <a:xfrm flipV="1" rot="4938600">
            <a:off x="1139040" y="1473840"/>
            <a:ext cx="4533840" cy="3005280"/>
          </a:xfrm>
          <a:custGeom>
            <a:avLst/>
            <a:gdLst/>
            <a:ahLst/>
            <a:rect l="l" t="t" r="r" b="b"/>
            <a:pathLst>
              <a:path fill="none" w="21228" h="12650">
                <a:moveTo>
                  <a:pt x="17508" y="-1"/>
                </a:moveTo>
                <a:cubicBezTo>
                  <a:pt x="19370" y="2577"/>
                  <a:pt x="20640" y="5533"/>
                  <a:pt x="21227" y="8658"/>
                </a:cubicBezTo>
              </a:path>
              <a:path stroke="0" w="21228" h="12650">
                <a:moveTo>
                  <a:pt x="17508" y="-1"/>
                </a:moveTo>
                <a:cubicBezTo>
                  <a:pt x="19370" y="2577"/>
                  <a:pt x="20640" y="5533"/>
                  <a:pt x="21227" y="8658"/>
                </a:cubicBezTo>
                <a:lnTo>
                  <a:pt x="0" y="12650"/>
                </a:lnTo>
                <a:lnTo>
                  <a:pt x="17508" y="-1"/>
                </a:lnTo>
                <a:close/>
              </a:path>
            </a:pathLst>
          </a:custGeom>
          <a:noFill/>
          <a:ln w="507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75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0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lt;a&l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34000" y="2781000"/>
            <a:ext cx="3952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495680" y="6248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graphicFrame>
          <p:nvGraphicFramePr>
            <p:cNvPr id="268" name="Object 6"/>
            <p:cNvGraphicFramePr/>
            <p:nvPr/>
          </p:nvGraphicFramePr>
          <p:xfrm>
            <a:off x="0" y="1828800"/>
            <a:ext cx="4266720" cy="44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28800"/>
                      <a:ext cx="4266720" cy="44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0" name="Text Box 7"/>
            <p:cNvSpPr/>
            <p:nvPr/>
          </p:nvSpPr>
          <p:spPr>
            <a:xfrm>
              <a:off x="2649600" y="2179440"/>
              <a:ext cx="132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rc 8"/>
          <p:cNvSpPr/>
          <p:nvPr/>
        </p:nvSpPr>
        <p:spPr>
          <a:xfrm flipV="1" rot="5015400">
            <a:off x="534960" y="996480"/>
            <a:ext cx="3454200" cy="3828960"/>
          </a:xfrm>
          <a:custGeom>
            <a:avLst/>
            <a:gdLst/>
            <a:ahLst/>
            <a:rect l="l" t="t" r="r" b="b"/>
            <a:pathLst>
              <a:path fill="none" w="17547" h="21310">
                <a:moveTo>
                  <a:pt x="3527" y="-1"/>
                </a:moveTo>
                <a:cubicBezTo>
                  <a:pt x="9169" y="933"/>
                  <a:pt x="14211" y="4067"/>
                  <a:pt x="17547" y="8713"/>
                </a:cubicBezTo>
              </a:path>
              <a:path stroke="0" w="17547" h="21310">
                <a:moveTo>
                  <a:pt x="3527" y="-1"/>
                </a:moveTo>
                <a:cubicBezTo>
                  <a:pt x="9169" y="933"/>
                  <a:pt x="14211" y="4067"/>
                  <a:pt x="17547" y="8713"/>
                </a:cubicBezTo>
                <a:lnTo>
                  <a:pt x="0" y="21310"/>
                </a:lnTo>
                <a:lnTo>
                  <a:pt x="3527" y="-1"/>
                </a:lnTo>
                <a:close/>
              </a:path>
            </a:pathLst>
          </a:custGeom>
          <a:noFill/>
          <a:ln w="507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Определение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, заданная формулой </a:t>
            </a:r>
            <a:r>
              <a:rPr b="0" i="1" lang="ru-RU" sz="24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0" i="1" lang="en-US" sz="24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зывается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</a:rPr>
              <a:t>показательной функцией с основанием</a:t>
            </a:r>
            <a:r>
              <a:rPr b="0" i="1" lang="ru-RU" sz="2400" spc="-1" strike="noStrike" u="sng">
                <a:solidFill>
                  <a:srgbClr val="7e9ce8"/>
                </a:solidFill>
                <a:uFillTx/>
                <a:latin typeface="Arial"/>
              </a:rPr>
              <a:t>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657600" y="6095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определение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762120" y="2819520"/>
            <a:ext cx="3278160" cy="2877840"/>
            <a:chOff x="762120" y="2819520"/>
            <a:chExt cx="3278160" cy="28778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762120" y="2819520"/>
            <a:ext cx="3278160" cy="287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819520"/>
                      <a:ext cx="3278160" cy="287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9"/>
            <p:cNvSpPr/>
            <p:nvPr/>
          </p:nvSpPr>
          <p:spPr>
            <a:xfrm>
              <a:off x="838080" y="3124080"/>
              <a:ext cx="914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4495680" y="2819520"/>
            <a:ext cx="3681360" cy="2881080"/>
            <a:chOff x="4495680" y="2819520"/>
            <a:chExt cx="3681360" cy="2881080"/>
          </a:xfrm>
        </p:grpSpPr>
        <p:graphicFrame>
          <p:nvGraphicFramePr>
            <p:cNvPr id="159" name="Object 7"/>
            <p:cNvGraphicFramePr/>
            <p:nvPr/>
          </p:nvGraphicFramePr>
          <p:xfrm>
            <a:off x="4495680" y="2819520"/>
            <a:ext cx="3681360" cy="28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2819520"/>
                      <a:ext cx="3681360" cy="28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Text Box 10"/>
            <p:cNvSpPr/>
            <p:nvPr/>
          </p:nvSpPr>
          <p:spPr>
            <a:xfrm>
              <a:off x="6781680" y="3048120"/>
              <a:ext cx="1143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3"/>
          <p:cNvSpPr/>
          <p:nvPr/>
        </p:nvSpPr>
        <p:spPr>
          <a:xfrm>
            <a:off x="457200" y="1295280"/>
            <a:ext cx="82296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75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g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66720" y="2313000"/>
            <a:ext cx="434340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ласть определения – множество всех действительных чисел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D(</a:t>
            </a:r>
            <a:r>
              <a:rPr b="0" i="1" lang="ru-RU" sz="26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0" i="1" lang="en-US" sz="26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) = </a:t>
            </a:r>
            <a:r>
              <a:rPr b="1" lang="en-US" sz="2600" spc="-1" strike="noStrike">
                <a:solidFill>
                  <a:srgbClr val="7e9ce8"/>
                </a:solidFill>
                <a:latin typeface="Arial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graphicFrame>
          <p:nvGraphicFramePr>
            <p:cNvPr id="166" name="Object 5"/>
            <p:cNvGraphicFramePr/>
            <p:nvPr/>
          </p:nvGraphicFramePr>
          <p:xfrm>
            <a:off x="0" y="1905120"/>
            <a:ext cx="4190760" cy="41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05120"/>
                      <a:ext cx="4190760" cy="41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6"/>
            <p:cNvSpPr/>
            <p:nvPr/>
          </p:nvSpPr>
          <p:spPr>
            <a:xfrm>
              <a:off x="96840" y="2348280"/>
              <a:ext cx="1168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10"/>
          <p:cNvSpPr/>
          <p:nvPr/>
        </p:nvSpPr>
        <p:spPr>
          <a:xfrm>
            <a:off x="3657600" y="6248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перво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0" y="5105520"/>
            <a:ext cx="4191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425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775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275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775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g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graphicFrame>
          <p:nvGraphicFramePr>
            <p:cNvPr id="174" name="Object 5"/>
            <p:cNvGraphicFramePr/>
            <p:nvPr/>
          </p:nvGraphicFramePr>
          <p:xfrm>
            <a:off x="0" y="1905120"/>
            <a:ext cx="4190760" cy="41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05120"/>
                      <a:ext cx="4190760" cy="41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Text Box 6"/>
            <p:cNvSpPr/>
            <p:nvPr/>
          </p:nvSpPr>
          <p:spPr>
            <a:xfrm>
              <a:off x="96840" y="2348280"/>
              <a:ext cx="1168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9"/>
          <p:cNvSpPr/>
          <p:nvPr/>
        </p:nvSpPr>
        <p:spPr>
          <a:xfrm>
            <a:off x="4267080" y="2209680"/>
            <a:ext cx="4343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значений –  множество всех положительных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e9ce8"/>
                </a:solidFill>
                <a:latin typeface="Arial"/>
              </a:rPr>
              <a:t>E(</a:t>
            </a:r>
            <a:r>
              <a:rPr b="0" i="1" lang="ru-RU" sz="28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0" i="1" lang="en-US" sz="28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7e9ce8"/>
                </a:solidFill>
                <a:latin typeface="Arial"/>
              </a:rPr>
              <a:t>)= </a:t>
            </a:r>
            <a:r>
              <a:rPr b="1" lang="en-US" sz="2800" spc="-1" strike="noStrike">
                <a:solidFill>
                  <a:srgbClr val="7e9ce8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7e9ce8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809880" y="62485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второ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1955880" y="210780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125"/>
                            </p:stCondLst>
                            <p:childTnLst>
                              <p:par>
                                <p:cTn id="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625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125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g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43040" y="2833560"/>
            <a:ext cx="426708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ункция возрастает на всей области о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graphicFrame>
          <p:nvGraphicFramePr>
            <p:cNvPr id="184" name="Object 5"/>
            <p:cNvGraphicFramePr/>
            <p:nvPr/>
          </p:nvGraphicFramePr>
          <p:xfrm>
            <a:off x="0" y="1905120"/>
            <a:ext cx="4190760" cy="41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05120"/>
                      <a:ext cx="4190760" cy="41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Text Box 6"/>
            <p:cNvSpPr/>
            <p:nvPr/>
          </p:nvSpPr>
          <p:spPr>
            <a:xfrm>
              <a:off x="96840" y="2348280"/>
              <a:ext cx="1168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AutoShape 9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10"/>
          <p:cNvSpPr/>
          <p:nvPr/>
        </p:nvSpPr>
        <p:spPr>
          <a:xfrm flipV="1">
            <a:off x="0" y="1065600"/>
            <a:ext cx="3952800" cy="3886200"/>
          </a:xfrm>
          <a:custGeom>
            <a:avLst/>
            <a:gdLst/>
            <a:ahLst/>
            <a:rect l="l" t="t" r="r" b="b"/>
            <a:pathLst>
              <a:path fill="none" w="20746" h="21600">
                <a:moveTo>
                  <a:pt x="-1" y="0"/>
                </a:moveTo>
                <a:cubicBezTo>
                  <a:pt x="9613" y="0"/>
                  <a:pt x="18069" y="6353"/>
                  <a:pt x="20745" y="15586"/>
                </a:cubicBezTo>
              </a:path>
              <a:path stroke="0" w="20746" h="21600">
                <a:moveTo>
                  <a:pt x="-1" y="0"/>
                </a:moveTo>
                <a:cubicBezTo>
                  <a:pt x="9613" y="0"/>
                  <a:pt x="18069" y="6353"/>
                  <a:pt x="20745" y="1558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3733920" y="6248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треть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75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75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g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43400" y="2908440"/>
            <a:ext cx="41911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0 значение функции равно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graphicFrame>
          <p:nvGraphicFramePr>
            <p:cNvPr id="193" name="Object 5"/>
            <p:cNvGraphicFramePr/>
            <p:nvPr/>
          </p:nvGraphicFramePr>
          <p:xfrm>
            <a:off x="0" y="1905120"/>
            <a:ext cx="4190760" cy="41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05120"/>
                      <a:ext cx="4190760" cy="41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6"/>
            <p:cNvSpPr/>
            <p:nvPr/>
          </p:nvSpPr>
          <p:spPr>
            <a:xfrm>
              <a:off x="96840" y="2348280"/>
              <a:ext cx="1168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9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1917720" y="445788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657600" y="6248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четверто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25"/>
                            </p:stCondLst>
                            <p:childTnLst>
                              <p:par>
                                <p:cTn id="1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25"/>
                            </p:stCondLst>
                            <p:childTnLst>
                              <p:par>
                                <p:cTn id="1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g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723920" y="3055680"/>
            <a:ext cx="388620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graphicFrame>
          <p:nvGraphicFramePr>
            <p:cNvPr id="202" name="Object 5"/>
            <p:cNvGraphicFramePr/>
            <p:nvPr/>
          </p:nvGraphicFramePr>
          <p:xfrm>
            <a:off x="0" y="1905120"/>
            <a:ext cx="4190760" cy="41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05120"/>
                      <a:ext cx="4190760" cy="41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Text Box 6"/>
            <p:cNvSpPr/>
            <p:nvPr/>
          </p:nvSpPr>
          <p:spPr>
            <a:xfrm>
              <a:off x="96840" y="2348280"/>
              <a:ext cx="1168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3733920" y="6248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пято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12"/>
          <p:cNvSpPr/>
          <p:nvPr/>
        </p:nvSpPr>
        <p:spPr>
          <a:xfrm flipV="1">
            <a:off x="0" y="1064880"/>
            <a:ext cx="3952800" cy="3411360"/>
          </a:xfrm>
          <a:custGeom>
            <a:avLst/>
            <a:gdLst/>
            <a:ahLst/>
            <a:rect l="l" t="t" r="r" b="b"/>
            <a:pathLst>
              <a:path fill="none" w="20746" h="18962">
                <a:moveTo>
                  <a:pt x="10344" y="-1"/>
                </a:moveTo>
                <a:cubicBezTo>
                  <a:pt x="15398" y="2757"/>
                  <a:pt x="19142" y="7418"/>
                  <a:pt x="20745" y="12948"/>
                </a:cubicBezTo>
              </a:path>
              <a:path stroke="0" w="20746" h="18962">
                <a:moveTo>
                  <a:pt x="10344" y="-1"/>
                </a:moveTo>
                <a:cubicBezTo>
                  <a:pt x="15398" y="2757"/>
                  <a:pt x="19142" y="7418"/>
                  <a:pt x="20745" y="12948"/>
                </a:cubicBezTo>
                <a:lnTo>
                  <a:pt x="0" y="18962"/>
                </a:lnTo>
                <a:lnTo>
                  <a:pt x="10344" y="-1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g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95320" y="3130200"/>
            <a:ext cx="403884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&lt;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graphicFrame>
          <p:nvGraphicFramePr>
            <p:cNvPr id="211" name="Object 5"/>
            <p:cNvGraphicFramePr/>
            <p:nvPr/>
          </p:nvGraphicFramePr>
          <p:xfrm>
            <a:off x="0" y="1905120"/>
            <a:ext cx="4190760" cy="41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05120"/>
                      <a:ext cx="4190760" cy="41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Text Box 6"/>
            <p:cNvSpPr/>
            <p:nvPr/>
          </p:nvSpPr>
          <p:spPr>
            <a:xfrm>
              <a:off x="96840" y="2348280"/>
              <a:ext cx="1168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a&g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AutoShape 9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10"/>
          <p:cNvSpPr/>
          <p:nvPr/>
        </p:nvSpPr>
        <p:spPr>
          <a:xfrm flipV="1">
            <a:off x="0" y="1065600"/>
            <a:ext cx="1944720" cy="3886200"/>
          </a:xfrm>
          <a:custGeom>
            <a:avLst/>
            <a:gdLst/>
            <a:ahLst/>
            <a:rect l="l" t="t" r="r" b="b"/>
            <a:pathLst>
              <a:path fill="none" w="10208" h="21600">
                <a:moveTo>
                  <a:pt x="-1" y="0"/>
                </a:moveTo>
                <a:cubicBezTo>
                  <a:pt x="3562" y="0"/>
                  <a:pt x="7068" y="880"/>
                  <a:pt x="10207" y="2564"/>
                </a:cubicBezTo>
              </a:path>
              <a:path stroke="0" w="10208" h="21600">
                <a:moveTo>
                  <a:pt x="-1" y="0"/>
                </a:moveTo>
                <a:cubicBezTo>
                  <a:pt x="3562" y="0"/>
                  <a:pt x="7068" y="880"/>
                  <a:pt x="10207" y="25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733920" y="6248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шесто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7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7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войства показательной функции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у=а</a:t>
            </a:r>
            <a:r>
              <a:rPr b="1" i="1" lang="en-US" sz="30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р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7e9ce8"/>
                </a:solidFill>
                <a:latin typeface="Arial"/>
              </a:rPr>
              <a:t>0</a:t>
            </a:r>
            <a:r>
              <a:rPr b="1" i="1" lang="en-US" sz="3000" spc="-1" strike="noStrike">
                <a:solidFill>
                  <a:srgbClr val="7e9ce8"/>
                </a:solidFill>
                <a:latin typeface="Arial"/>
              </a:rPr>
              <a:t>&lt;a&lt;1</a:t>
            </a:r>
            <a:r>
              <a:rPr b="1" i="1" lang="ru-RU" sz="1700" spc="-1" strike="noStrike">
                <a:solidFill>
                  <a:srgbClr val="7e9c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724280" y="6248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свойство в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graphicFrame>
          <p:nvGraphicFramePr>
            <p:cNvPr id="220" name="Object 9"/>
            <p:cNvGraphicFramePr/>
            <p:nvPr/>
          </p:nvGraphicFramePr>
          <p:xfrm>
            <a:off x="0" y="1828800"/>
            <a:ext cx="4266720" cy="44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28800"/>
                      <a:ext cx="4266720" cy="44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Text Box 10"/>
            <p:cNvSpPr/>
            <p:nvPr/>
          </p:nvSpPr>
          <p:spPr>
            <a:xfrm>
              <a:off x="2649600" y="2179440"/>
              <a:ext cx="132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у=а</a:t>
              </a:r>
              <a:r>
                <a:rPr b="0" i="1" lang="en-US" sz="2000" spc="-1" strike="noStrike" baseline="30000">
                  <a:solidFill>
                    <a:srgbClr val="7e9ce8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e9ce8"/>
                  </a:solidFill>
                  <a:latin typeface="Arial"/>
                </a:rPr>
                <a:t>0&lt;a&lt;1</a:t>
              </a:r>
              <a:r>
                <a:rPr b="0" i="1" lang="ru-RU" sz="2000" spc="-1" strike="noStrike">
                  <a:solidFill>
                    <a:srgbClr val="7e9ce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66720" y="2313000"/>
            <a:ext cx="434340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ласть определения – множество всех действительных чисел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D(</a:t>
            </a:r>
            <a:r>
              <a:rPr b="0" i="1" lang="ru-RU" sz="2600" spc="-1" strike="noStrike">
                <a:solidFill>
                  <a:srgbClr val="7e9ce8"/>
                </a:solidFill>
                <a:latin typeface="Arial"/>
              </a:rPr>
              <a:t>а</a:t>
            </a:r>
            <a:r>
              <a:rPr b="0" i="1" lang="en-US" sz="2600" spc="-1" strike="noStrike" baseline="30000">
                <a:solidFill>
                  <a:srgbClr val="7e9ce8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) = </a:t>
            </a:r>
            <a:r>
              <a:rPr b="1" lang="en-US" sz="2600" spc="-1" strike="noStrike">
                <a:solidFill>
                  <a:srgbClr val="7e9ce8"/>
                </a:solidFill>
                <a:latin typeface="Arial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0" y="5257800"/>
            <a:ext cx="4267080" cy="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75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75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425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625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4:33:33Z</dcterms:created>
  <dc:creator>Дубинская Л.А.</dc:creator>
  <dc:description/>
  <dc:language>en-US</dc:language>
  <cp:lastModifiedBy>Татьяна</cp:lastModifiedBy>
  <dcterms:modified xsi:type="dcterms:W3CDTF">2016-01-03T09:05:12Z</dcterms:modified>
  <cp:revision>16</cp:revision>
  <dc:subject/>
  <dc:title>Показательная функция</dc:title>
</cp:coreProperties>
</file>