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725-78A8-4143-B568-B0CB8331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269-9AB7-406A-91CB-E63D2CE0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6BF-B7D4-4F56-A66D-46A9A18A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B60-BEDB-4CE1-A531-0C64373F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0AEC-8BC2-4BD8-9D75-FC64D71D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A74D-467F-42A4-A21B-2C3CCB3A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04E-FED9-4C96-B782-C31CFCB0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10FF-4B92-4EBA-ABDA-6889143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184-001B-4E25-BECF-A8365CF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1920960"/>
            <a:ext cx="82245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E3A9-C1C6-4A86-A218-8973A1E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9B4-AB60-4043-B6B4-13B2BB3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3D3-0CAE-4E47-B4D9-42387976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75EE-6492-47A6-8F53-185A20D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30BA-07D9-4E95-A08B-61EDB88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3E4-63EA-4D4B-AB58-E5AB83BE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52BA-93E8-4720-8C1A-7BCA27E6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EA8-10A9-4ED1-8B6F-88F0B092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AEB-6135-4A75-86E0-4BBD0AE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9C5-A08E-4D6E-8A41-A6BF9B2D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C50-FC2C-42D5-94F8-CE2DC9BF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920960"/>
            <a:ext cx="82245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43F-61C9-44FF-9415-56C187B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9D8-58A8-4E73-BDD1-F6A8C9A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6E5-A195-4F0A-B3D4-3F0D921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CA9-E293-4B90-B997-CFDBF63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3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29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45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48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2040"/>
            <a:ext cx="21286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2040"/>
            <a:ext cx="2894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AF9331-11C9-4852-A6CD-FF61645118F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109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135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151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154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2040"/>
            <a:ext cx="21286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2040"/>
            <a:ext cx="2894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5205D3-CE7B-4395-BA8C-040FBFA692D4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50480"/>
            <a:ext cx="822636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Разработка методических рекомендаций использования современных информационных технологий на уроках математики при подготовке к ЕГЭ  по теме 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« Показательная  функция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читель математики МБОУ СОШ №1 г. Видное Ленинского района Московской обла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улешова Татьяна Викторо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4716360" y="620640"/>
            <a:ext cx="3672000" cy="72072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a&gt;0, a≠1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2"/>
          <p:cNvSpPr/>
          <p:nvPr/>
        </p:nvSpPr>
        <p:spPr>
          <a:xfrm>
            <a:off x="6154560" y="1628640"/>
            <a:ext cx="1081440" cy="936720"/>
          </a:xfrm>
          <a:prstGeom prst="diamond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b&gt;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148360" y="1700280"/>
            <a:ext cx="79200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7451640" y="1700280"/>
            <a:ext cx="79236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не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7021440" y="2637000"/>
            <a:ext cx="1871640" cy="86328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Решени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не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4000" y="2205000"/>
            <a:ext cx="1368360" cy="1297080"/>
          </a:xfrm>
          <a:prstGeom prst="diamond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1187280" y="2997360"/>
            <a:ext cx="2305080" cy="1728720"/>
          </a:xfrm>
          <a:prstGeom prst="diamond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b=1,</a:t>
            </a: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т.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79280" y="4869000"/>
            <a:ext cx="136836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f(x)=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3640" y="4869000"/>
            <a:ext cx="1368360" cy="64908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f(x)=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α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859280" y="3789360"/>
            <a:ext cx="3384720" cy="93492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Тема следующего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уро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1"/>
              <p:cNvSpPr txBox="1"/>
              <p:nvPr/>
            </p:nvSpPr>
            <p:spPr>
              <a:xfrm>
                <a:off x="4859280" y="739800"/>
                <a:ext cx="1584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2"/>
              <p:cNvSpPr txBox="1"/>
              <p:nvPr/>
            </p:nvSpPr>
            <p:spPr>
              <a:xfrm>
                <a:off x="3706920" y="256536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Rectangle 13"/>
          <p:cNvSpPr/>
          <p:nvPr/>
        </p:nvSpPr>
        <p:spPr>
          <a:xfrm>
            <a:off x="2627280" y="2492280"/>
            <a:ext cx="79236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50920" y="3573360"/>
            <a:ext cx="79200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5076720" y="2492280"/>
            <a:ext cx="79236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не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3708360" y="3573360"/>
            <a:ext cx="792360" cy="647640"/>
          </a:xfrm>
          <a:prstGeom prst="rect">
            <a:avLst/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не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7"/>
              <p:cNvSpPr txBox="1"/>
              <p:nvPr/>
            </p:nvSpPr>
            <p:spPr>
              <a:xfrm>
                <a:off x="1692360" y="3789360"/>
                <a:ext cx="1224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Line 18"/>
          <p:cNvSpPr/>
          <p:nvPr/>
        </p:nvSpPr>
        <p:spPr>
          <a:xfrm>
            <a:off x="6732720" y="1413000"/>
            <a:ext cx="1440" cy="2156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7236000" y="2060640"/>
            <a:ext cx="144360" cy="14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 flipH="1">
            <a:off x="6010200" y="2060640"/>
            <a:ext cx="76320" cy="14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8244000" y="2060640"/>
            <a:ext cx="360360" cy="14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8604360" y="2060640"/>
            <a:ext cx="1440" cy="4316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 flipH="1">
            <a:off x="4282920" y="1916280"/>
            <a:ext cx="866880" cy="14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4284720" y="1916280"/>
            <a:ext cx="1440" cy="2174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4932360" y="2852640"/>
            <a:ext cx="144360" cy="18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 flipH="1">
            <a:off x="3417840" y="2852640"/>
            <a:ext cx="147600" cy="18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409480" y="2781360"/>
            <a:ext cx="219240" cy="14292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8"/>
          <p:cNvSpPr/>
          <p:nvPr/>
        </p:nvSpPr>
        <p:spPr>
          <a:xfrm flipH="1">
            <a:off x="1041480" y="3860640"/>
            <a:ext cx="147600" cy="18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3492360" y="3860640"/>
            <a:ext cx="216000" cy="18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611280" y="4221000"/>
            <a:ext cx="1440" cy="6480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3995640" y="4221000"/>
            <a:ext cx="1800" cy="64800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2"/>
          <p:cNvSpPr/>
          <p:nvPr/>
        </p:nvSpPr>
        <p:spPr>
          <a:xfrm>
            <a:off x="5508720" y="3141720"/>
            <a:ext cx="1440" cy="6476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179280" y="5950080"/>
            <a:ext cx="896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Рис. 1. Блок-схема решения простейших ПУ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186840"/>
            <a:ext cx="822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: Показательные неравен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ок 1: ввести понятие показательного неравенства; формировать умение решать показательные неравенств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ок 3,4:закрепить умение решать показательные уравнения; отработать навыки решения показательных неравенств основными методам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Решение простейших показательных неравенст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Object 2"/>
          <p:cNvGraphicFramePr/>
          <p:nvPr/>
        </p:nvGraphicFramePr>
        <p:xfrm>
          <a:off x="2624040" y="1984320"/>
          <a:ext cx="316728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4040" y="1984320"/>
                    <a:ext cx="31672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3"/>
          <p:cNvGraphicFramePr/>
          <p:nvPr/>
        </p:nvGraphicFramePr>
        <p:xfrm>
          <a:off x="3505320" y="1447920"/>
          <a:ext cx="20574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447920"/>
                    <a:ext cx="20574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4"/>
          <p:cNvGraphicFramePr/>
          <p:nvPr/>
        </p:nvGraphicFramePr>
        <p:xfrm>
          <a:off x="2193840" y="3486240"/>
          <a:ext cx="136692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3840" y="3486240"/>
                    <a:ext cx="1366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5"/>
          <p:cNvSpPr/>
          <p:nvPr/>
        </p:nvSpPr>
        <p:spPr>
          <a:xfrm>
            <a:off x="2987640" y="2852640"/>
            <a:ext cx="1800" cy="6476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5508720" y="2852640"/>
            <a:ext cx="1440" cy="6476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5033880" y="3500280"/>
          <a:ext cx="1668600" cy="54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500280"/>
                    <a:ext cx="16686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AutoShape 8"/>
          <p:cNvSpPr/>
          <p:nvPr/>
        </p:nvSpPr>
        <p:spPr>
          <a:xfrm>
            <a:off x="2700360" y="407664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5651640" y="407664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00cc66"/>
          </a:solidFill>
          <a:ln cap="sq"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Object 10"/>
          <p:cNvGraphicFramePr/>
          <p:nvPr/>
        </p:nvGraphicFramePr>
        <p:xfrm>
          <a:off x="1690560" y="4703760"/>
          <a:ext cx="230184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0560" y="4703760"/>
                    <a:ext cx="2301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1"/>
          <p:cNvGraphicFramePr/>
          <p:nvPr/>
        </p:nvGraphicFramePr>
        <p:xfrm>
          <a:off x="4716360" y="4724280"/>
          <a:ext cx="230364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4724280"/>
                    <a:ext cx="2303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2"/>
          <p:cNvSpPr/>
          <p:nvPr/>
        </p:nvSpPr>
        <p:spPr>
          <a:xfrm>
            <a:off x="2990520" y="551664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нак нераве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696680" y="60213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охра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5151600" y="59500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сновная мотивация данного проекта состоит в успешном изучении предложенной темы и успешной подготовке к сдаче ЕГЭ, так как задания включающие показательные уравнения и неравенства входят как в первый, так и во второй раздел экзамен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838080"/>
            <a:ext cx="822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Введ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Рабочая программа для 10 класс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Уроки по теме проек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Заклю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Литерату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ведено обоснование разработки рабочей программы по алгебре и началам анализа в 10, 11 класс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ложена точна зрения на порядок подготовки К ЕГЭ  в 11 класс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ложена основная цель данного проекта:  показать насколько может быть эффективным использование информационных технологий, как при  изучение темы проекта, так и при итоговом повторени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анный проект рассчитан на учителей, преподающих в старших классах и готовящих учеников 11 класса к выпускным экзамен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Тема: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казательная функция, ее свойства и графи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рок1,2:формировать умение строить графики показательных функций ,  если 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gt;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0 или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1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; развить умение читать  графики функций, выделяя их свойств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ля проведения уроков используются две презентации по данной тем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которые слайды из них: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0" y="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948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Функция, заданная формулой </a:t>
            </a:r>
            <a:r>
              <a:rPr b="0" i="1" lang="ru-RU" sz="2600" spc="-1" strike="noStrike">
                <a:solidFill>
                  <a:srgbClr val="65b2ff"/>
                </a:solidFill>
                <a:latin typeface="Arial"/>
              </a:rPr>
              <a:t>у=а</a:t>
            </a:r>
            <a:r>
              <a:rPr b="0" i="1" lang="en-US" sz="2600" spc="-1" strike="noStrike" baseline="30000">
                <a:solidFill>
                  <a:srgbClr val="65b2ff"/>
                </a:solidFill>
                <a:latin typeface="Arial"/>
              </a:rPr>
              <a:t>x</a:t>
            </a:r>
            <a:r>
              <a:rPr b="0" i="1" lang="en-US" sz="26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где </a:t>
            </a:r>
            <a:r>
              <a:rPr b="0" i="1" lang="ru-RU" sz="2600" spc="-1" strike="noStrike">
                <a:solidFill>
                  <a:srgbClr val="eaeaea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&gt;0</a:t>
            </a: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, a</a:t>
            </a:r>
            <a:r>
              <a:rPr b="0" lang="en-US" sz="26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, называется </a:t>
            </a:r>
            <a:r>
              <a:rPr b="0" lang="ru-RU" sz="2600" spc="-1" strike="noStrike" u="sng">
                <a:solidFill>
                  <a:srgbClr val="65b2ff"/>
                </a:solidFill>
                <a:uFillTx/>
                <a:latin typeface="Arial"/>
              </a:rPr>
              <a:t>показательной функцией с основанием</a:t>
            </a:r>
            <a:r>
              <a:rPr b="0" i="1" lang="ru-RU" sz="2600" spc="-1" strike="noStrike" u="sng">
                <a:solidFill>
                  <a:srgbClr val="65b2ff"/>
                </a:solidFill>
                <a:uFillTx/>
                <a:latin typeface="Arial"/>
              </a:rPr>
              <a:t> а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65760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пишите определение в тетр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19520"/>
            <a:ext cx="3276360" cy="2876400"/>
            <a:chOff x="762120" y="2819520"/>
            <a:chExt cx="3276360" cy="2876400"/>
          </a:xfrm>
        </p:grpSpPr>
        <p:graphicFrame>
          <p:nvGraphicFramePr>
            <p:cNvPr id="226" name="Object 5"/>
            <p:cNvGraphicFramePr/>
            <p:nvPr/>
          </p:nvGraphicFramePr>
          <p:xfrm>
            <a:off x="762120" y="2819520"/>
            <a:ext cx="3276360" cy="28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819520"/>
                      <a:ext cx="3276360" cy="28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Text Box 6"/>
            <p:cNvSpPr/>
            <p:nvPr/>
          </p:nvSpPr>
          <p:spPr>
            <a:xfrm>
              <a:off x="838080" y="3124080"/>
              <a:ext cx="912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2000" spc="-1" strike="noStrike">
                  <a:solidFill>
                    <a:srgbClr val="65b2ff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65b2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65b2ff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65b2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7"/>
          <p:cNvGrpSpPr/>
          <p:nvPr/>
        </p:nvGrpSpPr>
        <p:grpSpPr>
          <a:xfrm>
            <a:off x="4495680" y="2819520"/>
            <a:ext cx="3679920" cy="2879640"/>
            <a:chOff x="4495680" y="2819520"/>
            <a:chExt cx="3679920" cy="2879640"/>
          </a:xfrm>
        </p:grpSpPr>
        <p:graphicFrame>
          <p:nvGraphicFramePr>
            <p:cNvPr id="230" name="Object 8"/>
            <p:cNvGraphicFramePr/>
            <p:nvPr/>
          </p:nvGraphicFramePr>
          <p:xfrm>
            <a:off x="4495680" y="2819520"/>
            <a:ext cx="367992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2819520"/>
                      <a:ext cx="367992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Text Box 9"/>
            <p:cNvSpPr/>
            <p:nvPr/>
          </p:nvSpPr>
          <p:spPr>
            <a:xfrm>
              <a:off x="6781680" y="3048120"/>
              <a:ext cx="1141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2000" spc="-1" strike="noStrike">
                  <a:solidFill>
                    <a:srgbClr val="65b2ff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65b2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65b2ff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65b2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457200" y="1295280"/>
            <a:ext cx="8229600" cy="160020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Упражнения. Укажите</a:t>
            </a:r>
            <a:r>
              <a:rPr b="0" i="1" lang="ru-RU" sz="2800" spc="-1" strike="noStrike">
                <a:solidFill>
                  <a:srgbClr val="54547a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множество значений функ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239840" y="164772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268280"/>
                <a:ext cx="208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Text Box 4"/>
          <p:cNvSpPr/>
          <p:nvPr/>
        </p:nvSpPr>
        <p:spPr>
          <a:xfrm>
            <a:off x="181620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1692360" y="2492280"/>
                <a:ext cx="1942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Text Box 6"/>
          <p:cNvSpPr/>
          <p:nvPr/>
        </p:nvSpPr>
        <p:spPr>
          <a:xfrm>
            <a:off x="2031840" y="4168800"/>
            <a:ext cx="10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476360" y="3789360"/>
                <a:ext cx="244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,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8"/>
          <p:cNvSpPr/>
          <p:nvPr/>
        </p:nvSpPr>
        <p:spPr>
          <a:xfrm>
            <a:off x="260820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1476360" y="4724280"/>
                <a:ext cx="237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3095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900000" y="5493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пражнения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Используя свойства убывания или возрастания показательной функции, сравнить с единицей следующие числа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476360" y="1916280"/>
                <a:ext cx="1150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,3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Text Box 5"/>
          <p:cNvSpPr/>
          <p:nvPr/>
        </p:nvSpPr>
        <p:spPr>
          <a:xfrm>
            <a:off x="1671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1403280" y="2924280"/>
                <a:ext cx="11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203184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1258920" y="3789360"/>
                <a:ext cx="1512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534348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219640" y="1844640"/>
                <a:ext cx="15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Text Box 11"/>
          <p:cNvSpPr/>
          <p:nvPr/>
        </p:nvSpPr>
        <p:spPr>
          <a:xfrm>
            <a:off x="5775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2"/>
              <p:cNvSpPr txBox="1"/>
              <p:nvPr/>
            </p:nvSpPr>
            <p:spPr>
              <a:xfrm>
                <a:off x="5292720" y="3429000"/>
                <a:ext cx="1800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186840"/>
            <a:ext cx="822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:Показательные уравн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рок 1: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вести понятие показательного уравнения; формировать умение решать  показательные уравнения основными методами: функционально-графическим, методом уравнивания показателей степеней, методом  введения новой переменн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рок2,3:отработать навыки решения показательных уравнений основными методами: функционально-графическим, методом уравнивания показателей степеней, методом  введения ново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менной и др.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ля проведения уроков используется  презентация по данной тем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которые слайды из презентации: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1258920" y="83664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равнение, содержащее неизвестное только в показателе степени, называется показате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258920" y="2781360"/>
            <a:ext cx="7489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Простейшим видом показательного уравнения  является уравнение ви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где </a:t>
            </a: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a&gt;0 </a:t>
            </a:r>
            <a:r>
              <a:rPr b="0" lang="ru-RU" sz="2900" spc="-1" strike="noStrike">
                <a:solidFill>
                  <a:srgbClr val="eaeaea"/>
                </a:solidFill>
                <a:latin typeface="Verdana"/>
              </a:rPr>
              <a:t>и</a:t>
            </a: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 a≠1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3328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3352680" y="4038480"/>
                <a:ext cx="2086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6-01-03T09:11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