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E659-B3CB-4250-8AE1-8A8781FE1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6ABF-E9CF-4DDB-82CE-D11EC1A4A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677E-BE8F-4CA6-88DD-5F7EF9F62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3E0F-BCC6-4FD0-AECE-F87219A2E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952A-FC04-42F2-991F-BF6C23A6C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9B36-0F7D-4921-97ED-B283C0899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1126-D515-4EC9-A7BE-1C49393B3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A28E-6B2C-464F-A0D4-9AEB5CF2D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AF7A-AED5-42AF-8817-A143559F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2023-1778-4A9F-8CB6-B4A87579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180B-7278-4413-9BC5-31E73D9AA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9311-09F7-442B-B3D4-E74ACEF2B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CE264-AA0D-49F6-8C2C-A167C5A826E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АОУ гимназии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Красноарме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кунов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65120" y="1305000"/>
            <a:ext cx="709632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-1165320"/>
            <a:ext cx="822960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 9. Как-то от Бабы Яги убежала избушка. Она переплыла озеро и стала жить на острове. Как Бабе Яге перебраться на остров, если известно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авать она не умее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тупа и метла остались в избушке, а без них она не может лета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зеро круглое, в диаметре составляет 200 метров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на острове и на берегу растут 2 дерев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у Бабы Яги есть веревка длиной 205 метров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105520"/>
            <a:ext cx="83059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вязать веревку к дереву одним концом, обежать вокруг озера, веревка обогнет другое дерево, получится веревочный к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 10. Малыш сказал однажды Карлсону: «Позавчера мне было 9 лет, а в будущем году мне исполнится 12 лет. В какой день мой день рождения?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31 дека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3522600" cy="30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32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0"/>
            <a:ext cx="8763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 1. Путешествуя в Изумрудный город по дороге, вымощенной желтым кирпичом, друзья загадали по одному двузначному числу. Число Элли оказалось на 10 больше числа Страшилы, но на 6 меньше числа Железного Дровосека, а число Тотошки в два раза меньше числа Страшилы и в четыре раза больше числа Трусливого Льва. Какое число задумал кажд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усливый Лев задумал число 10, Тотошка – 40, Страшила – 80, Элли – 90, Железный Дровосек – 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37874" r="0" b="0"/>
          <a:stretch/>
        </p:blipFill>
        <p:spPr>
          <a:xfrm>
            <a:off x="762120" y="3903840"/>
            <a:ext cx="2971800" cy="29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44360"/>
            <a:ext cx="8763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  2. Муха-Цокотуха купила самовар, пригласила гостей, испекла к чаю 20 булочек и 40 крендельков. Каждому гостю досталось по 2 кренделька и по одной булочке. Сколько было госте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160880"/>
            <a:ext cx="28954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9 г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4338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-8244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 3. Решили сделать из мухи слона – накормить ее до слонового веса. Сколько нужно еды, если муха весит 1/10 часть грамма, а слон – 14 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572000"/>
            <a:ext cx="2819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12 т 60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95480" y="4068720"/>
            <a:ext cx="232416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1032120" cy="81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525780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24. Когда дядюшка Тыква начал строить дом, семья Чиполлино решила помочь ему перенести кирпичи. За один раз Тыква берет 7 кирпичей, Чиполлино – 7, его отец – 6, а старенький дедушка – 3. Сколько раз надо прогуляться, чтобы забрать 116 кирпичей? Кто заберет последние кирпичи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029200"/>
            <a:ext cx="3581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5 раз, останется 1 кирп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-417600"/>
            <a:ext cx="8229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 5. В сказке «Дюймовочка» есть лягушка-мама и лягушка-сын. Каждый раз, когда они проголодаются, садятся на кочку и ловят комаров: мама – комара, сын – комара, потом опять: мама – комара, сын – комара, и так же по очереди съедают. Кто съест больше комаров: мама или сын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5105520"/>
            <a:ext cx="2514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ро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19279" r="0" b="0"/>
          <a:stretch/>
        </p:blipFill>
        <p:spPr>
          <a:xfrm>
            <a:off x="990720" y="4130640"/>
            <a:ext cx="4647960" cy="27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 6. Дюймовочка и Мышь несли с поля Кроту 3 колоска. Мышь несла 2 колоска, а Дюймовочка – 1. Мышь может донести 2 колоска за 12 мин, а Дюймовочка 1 колосок – в два раза быстрее. Если мышь понесет 1 колосок, то будет двигаться, как Дюймовочка. У Крота строго: только солнышко взойдет, все ходы и выходы на замок. До закрытия дверей осталось 11 мин. Как успеть попасть в г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495680"/>
            <a:ext cx="6858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юймовочка донесет колосок за 6 мин, в это время мышь будет на полпути. Дюймовочка вернется на встречу мыши за 1,5 мин. Добавим еще 3 мин = 4,5 мин. Итого: 10,5 мин, они усп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9562" t="9478" r="21787" b="9778"/>
          <a:stretch/>
        </p:blipFill>
        <p:spPr>
          <a:xfrm>
            <a:off x="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104760"/>
            <a:ext cx="91440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 7. Черепаха Тортила дарит Буратино три коробочки. На каждой надп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расной – «Здесь лежит золотой ключик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иней – «Зеленая коробочка пуста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еленой – «Здесь сидит змея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надписи неверные. Где ключик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648320"/>
            <a:ext cx="3505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зеленой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4800" r="0" b="28007"/>
          <a:stretch/>
        </p:blipFill>
        <p:spPr>
          <a:xfrm>
            <a:off x="838080" y="3657600"/>
            <a:ext cx="33242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-615960"/>
            <a:ext cx="8763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28. Сколько лет Бабе Яге? Если отсчитать подряд 8 чисел, начиная с двух, через одно число, последнее число увеличить в 5 раз и вычесть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5181480"/>
            <a:ext cx="2590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 в е 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9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1-05T08:16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