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201-896E-4EA6-8623-A9DCA037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15C-CE9A-43FB-8E8B-264BC8CC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1C8-C504-4BE5-8DF2-682EA5B3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2CA-65D4-4742-905F-299B0C69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4A99-4C11-40FC-AE1F-2FBBA70D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6DD2-FB16-46B0-9797-1447693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8DEF-3369-4137-B006-09611211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B329-AC91-4EDF-A111-4B27B81C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226A-9AAF-467A-A8DF-4FE17914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BF6A-0A2D-4A49-BD4C-6D87DED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FEC-59BB-4AB4-81F3-7CCFF51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3D3-1B40-4E45-ADB2-49693FEE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7362-04D4-4C01-8409-78EFCCF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3A91-872F-40CB-BB90-5311026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F438-8B87-49E3-9299-587BE57A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5A34-AB90-4856-9218-57B3115D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6551-B906-434E-B676-0970C402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F37D-BBEF-480F-9C2C-E920BE54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EABE-6045-4AE8-9E86-E091953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00CF-FBAA-4787-B060-5431790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0C85-212F-4EBA-891A-3B23331E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FA4B-1712-444D-A617-9107055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ACE-D619-41A8-BCFA-D70598C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4F5F-A198-4125-8033-2E2FA50F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2A2B-5C94-43D9-9A9A-1C35E9C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3C53-2B1C-4495-AB2D-75D75C6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0D71-736F-4ABE-9DA5-0758042D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9D9C-C9A3-436C-B09D-CAFA982E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9F9D-AE61-4039-8382-64CCDBDF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BD78-444F-418C-A498-7BEEEEA4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5929-E7FD-44DE-830A-135213B8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08537-5AD7-4D5D-AF71-2E14D1D7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DDB65-0C44-4AF4-AE14-53320BCC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583-EA01-4578-97BA-6212BF3E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75A3-7665-428D-ADD9-7E1E5D95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12FC-9115-4F3D-B49A-B6C7D308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492D-49AB-4719-9596-5EAB8A15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0DE4-C9A2-4EDB-9F79-4C10A39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5F97-3176-4B37-BA03-5CBFD24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F4E2-7BB3-4F88-8641-B717955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B8F6-AA4C-4B01-8BE3-96E65B67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07804-B9B2-446F-A5D3-84A945B7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82EF-F15F-4676-A27C-E45D7A6E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8AFC5-9FB2-451A-95B8-CBFEE0F9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FFE-AC28-49A7-A80B-8A3964C7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A498-CA6E-4CFA-9663-F27A5DC0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61E99-7817-44A0-AF7F-E74B176D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471E-BA3C-4B36-9E01-C822980A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BD74-DA08-4E98-B0B5-A1A71761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E971-6A45-401C-8F99-3EE1C23D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5460-0398-414E-B547-7610928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25618-7F72-45D7-B416-09EAA9C1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8902C-96C6-488B-80DB-40FE45D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ADA6-95F1-4AD0-B43F-04778434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5A2E2-C14F-4634-A64E-7F0C6925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A4C-BAD1-4CAC-AB90-CC16D31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34F6-2E67-4814-88CD-BE4CE7F8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2BC39-F8D5-4D89-8F4F-6755CD69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4E01B-1521-4C4E-A5E5-350739E6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C602-2650-4811-9374-B82EE3BC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4EC01-F480-4040-88F5-78F45003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AA115-5EE5-4704-A81E-DD057E4B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C208-F030-4519-A808-46C517EF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B8CB-308C-460D-B343-E393F5F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D9A2C-108C-4108-9BA5-A1B26029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F651-5B9E-4F63-A3F7-1B1F40F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F0F-E758-494E-BA81-8D681498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3A08E-C2EC-41AA-B5C8-471E2BD9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1EBFF-EA00-4B9A-A070-E3A1C746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F706-8139-4864-8E8B-AACF2DBF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E16A-900C-43E6-AB22-92DCD381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A550F-470C-46DB-932F-3367C095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A2811-4117-49DE-BD75-1898E8BC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0C152-7672-4BCF-98AF-BD392484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6EFC9-DE61-47AA-BEBE-09961324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5623E-3BEE-484A-8F2C-AD7875A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AAEDE-6A6C-4BA5-A8C8-E32AAEB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0C2-FF6F-4091-B492-AC8FC6A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BD94-5BD5-4B5E-B30B-A3B3574F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FEF80-ECF3-4974-8D86-21A8E70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D4BD5-BCDF-45C8-A783-55045373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00B3-6B33-4AF8-9CFD-76631668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C9B7B-1A88-499A-A700-45A81F2E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ABF-4112-4DF2-82B4-AF1819E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6A29-5A88-4FEC-91A4-7390A7E515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3103-FEC2-402B-8CA3-11748CF722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46C-F652-441C-8587-572C4650FD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4CA5-0464-4F7E-8F77-B56D57B23D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41EC-6AD2-45EA-90FB-8A29784150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B09F-B8DD-4D50-A308-2203BBB024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52DB-25C8-4A5E-853F-B2A8358B01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Группа 31"/>
          <p:cNvGrpSpPr/>
          <p:nvPr/>
        </p:nvGrpSpPr>
        <p:grpSpPr>
          <a:xfrm>
            <a:off x="971640" y="1268280"/>
            <a:ext cx="3239640" cy="3240360"/>
            <a:chOff x="971640" y="1268280"/>
            <a:chExt cx="3239640" cy="3240360"/>
          </a:xfrm>
        </p:grpSpPr>
        <p:sp>
          <p:nvSpPr>
            <p:cNvPr id="319" name="Прямоугольник 3"/>
            <p:cNvSpPr/>
            <p:nvPr/>
          </p:nvSpPr>
          <p:spPr>
            <a:xfrm>
              <a:off x="971640" y="1268280"/>
              <a:ext cx="3239640" cy="324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0" name="Прямоугольник 16"/>
            <p:cNvSpPr/>
            <p:nvPr/>
          </p:nvSpPr>
          <p:spPr>
            <a:xfrm>
              <a:off x="979200" y="1279080"/>
              <a:ext cx="809640" cy="81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1" name="Прямоугольник 17"/>
            <p:cNvSpPr/>
            <p:nvPr/>
          </p:nvSpPr>
          <p:spPr>
            <a:xfrm>
              <a:off x="1782720" y="2090160"/>
              <a:ext cx="809640" cy="81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2" name="Прямоугольник 18"/>
            <p:cNvSpPr/>
            <p:nvPr/>
          </p:nvSpPr>
          <p:spPr>
            <a:xfrm>
              <a:off x="2593800" y="2892240"/>
              <a:ext cx="809640" cy="81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3" name="Прямоугольник 19"/>
            <p:cNvSpPr/>
            <p:nvPr/>
          </p:nvSpPr>
          <p:spPr>
            <a:xfrm>
              <a:off x="3401640" y="3697920"/>
              <a:ext cx="809640" cy="81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24" name="Группа 32"/>
          <p:cNvGrpSpPr/>
          <p:nvPr/>
        </p:nvGrpSpPr>
        <p:grpSpPr>
          <a:xfrm>
            <a:off x="4862520" y="1268280"/>
            <a:ext cx="3247920" cy="3240360"/>
            <a:chOff x="4862520" y="1268280"/>
            <a:chExt cx="3247920" cy="3240360"/>
          </a:xfrm>
        </p:grpSpPr>
        <p:sp>
          <p:nvSpPr>
            <p:cNvPr id="325" name="Прямоугольник 22"/>
            <p:cNvSpPr/>
            <p:nvPr/>
          </p:nvSpPr>
          <p:spPr>
            <a:xfrm>
              <a:off x="4862520" y="1268280"/>
              <a:ext cx="3241440" cy="324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Прямоугольник 26"/>
            <p:cNvSpPr/>
            <p:nvPr/>
          </p:nvSpPr>
          <p:spPr>
            <a:xfrm>
              <a:off x="4868640" y="1268280"/>
              <a:ext cx="1080360" cy="108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7" name="Прямоугольник 27"/>
            <p:cNvSpPr/>
            <p:nvPr/>
          </p:nvSpPr>
          <p:spPr>
            <a:xfrm>
              <a:off x="7030080" y="3428640"/>
              <a:ext cx="1080360" cy="108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8" name="Прямоугольник 28"/>
            <p:cNvSpPr/>
            <p:nvPr/>
          </p:nvSpPr>
          <p:spPr>
            <a:xfrm>
              <a:off x="5949360" y="2348280"/>
              <a:ext cx="1080360" cy="108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9" name="TextBox 29"/>
          <p:cNvSpPr/>
          <p:nvPr/>
        </p:nvSpPr>
        <p:spPr>
          <a:xfrm>
            <a:off x="2336400" y="468936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0"/>
          <p:cNvSpPr/>
          <p:nvPr/>
        </p:nvSpPr>
        <p:spPr>
          <a:xfrm>
            <a:off x="6398640" y="464328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Группа 31"/>
          <p:cNvGrpSpPr/>
          <p:nvPr/>
        </p:nvGrpSpPr>
        <p:grpSpPr>
          <a:xfrm>
            <a:off x="971640" y="1268280"/>
            <a:ext cx="3239640" cy="3240360"/>
            <a:chOff x="971640" y="1268280"/>
            <a:chExt cx="3239640" cy="3240360"/>
          </a:xfrm>
        </p:grpSpPr>
        <p:sp>
          <p:nvSpPr>
            <p:cNvPr id="332" name="Прямоугольник 3"/>
            <p:cNvSpPr/>
            <p:nvPr/>
          </p:nvSpPr>
          <p:spPr>
            <a:xfrm>
              <a:off x="971640" y="1268280"/>
              <a:ext cx="3239640" cy="324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3" name="Прямоугольник 16"/>
            <p:cNvSpPr/>
            <p:nvPr/>
          </p:nvSpPr>
          <p:spPr>
            <a:xfrm>
              <a:off x="979200" y="1279080"/>
              <a:ext cx="809640" cy="81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4" name="Прямоугольник 17"/>
            <p:cNvSpPr/>
            <p:nvPr/>
          </p:nvSpPr>
          <p:spPr>
            <a:xfrm>
              <a:off x="1782720" y="2090160"/>
              <a:ext cx="809640" cy="81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5" name="Прямоугольник 18"/>
            <p:cNvSpPr/>
            <p:nvPr/>
          </p:nvSpPr>
          <p:spPr>
            <a:xfrm>
              <a:off x="2593800" y="2892240"/>
              <a:ext cx="809640" cy="81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6" name="Прямоугольник 19"/>
            <p:cNvSpPr/>
            <p:nvPr/>
          </p:nvSpPr>
          <p:spPr>
            <a:xfrm>
              <a:off x="3401640" y="3697920"/>
              <a:ext cx="809640" cy="81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37" name="Группа 32"/>
          <p:cNvGrpSpPr/>
          <p:nvPr/>
        </p:nvGrpSpPr>
        <p:grpSpPr>
          <a:xfrm>
            <a:off x="4862520" y="1268280"/>
            <a:ext cx="3247920" cy="3240360"/>
            <a:chOff x="4862520" y="1268280"/>
            <a:chExt cx="3247920" cy="3240360"/>
          </a:xfrm>
        </p:grpSpPr>
        <p:sp>
          <p:nvSpPr>
            <p:cNvPr id="338" name="Прямоугольник 22"/>
            <p:cNvSpPr/>
            <p:nvPr/>
          </p:nvSpPr>
          <p:spPr>
            <a:xfrm>
              <a:off x="4862520" y="1268280"/>
              <a:ext cx="3241440" cy="324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9" name="Прямоугольник 26"/>
            <p:cNvSpPr/>
            <p:nvPr/>
          </p:nvSpPr>
          <p:spPr>
            <a:xfrm>
              <a:off x="4868640" y="1268280"/>
              <a:ext cx="1080360" cy="108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40" name="Прямоугольник 27"/>
            <p:cNvSpPr/>
            <p:nvPr/>
          </p:nvSpPr>
          <p:spPr>
            <a:xfrm>
              <a:off x="7030080" y="3428640"/>
              <a:ext cx="1080360" cy="108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41" name="Прямоугольник 28"/>
            <p:cNvSpPr/>
            <p:nvPr/>
          </p:nvSpPr>
          <p:spPr>
            <a:xfrm>
              <a:off x="5949360" y="2348280"/>
              <a:ext cx="1080360" cy="108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42" name="TextBox 29"/>
          <p:cNvSpPr/>
          <p:nvPr/>
        </p:nvSpPr>
        <p:spPr>
          <a:xfrm>
            <a:off x="2336400" y="468936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TextBox 30"/>
          <p:cNvSpPr/>
          <p:nvPr/>
        </p:nvSpPr>
        <p:spPr>
          <a:xfrm>
            <a:off x="6398640" y="464328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920" y="2258640"/>
            <a:ext cx="74995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Всегда, везде и всюду – хочу, могу и буду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106640" y="324000"/>
          <a:ext cx="7831080" cy="5948280"/>
        </p:xfrm>
        <a:graphic>
          <a:graphicData uri="http://schemas.openxmlformats.org/drawingml/2006/table">
            <a:tbl>
              <a:tblPr/>
              <a:tblGrid>
                <a:gridCol w="3375000"/>
                <a:gridCol w="1215720"/>
                <a:gridCol w="1214640"/>
                <a:gridCol w="2025720"/>
              </a:tblGrid>
              <a:tr h="315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ы учителя: «Верно ли, чт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 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ё мнение «до» и «после» совпал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начал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онц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 знают виды уг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лы измеряют с помощью линей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ица измерения углов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пересечении двух углов могут образоваться новые геометрическ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оклассники могут вычислить площадь треуголь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иметр двух прямоугольников, присоединённых друг к другу, будет всегда одинаков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14.12.15_02.wmv" descr=""/>
          <p:cNvPicPr/>
          <p:nvPr/>
        </p:nvPicPr>
        <p:blipFill>
          <a:blip r:embed="rId1"/>
          <a:stretch/>
        </p:blipFill>
        <p:spPr>
          <a:xfrm>
            <a:off x="504720" y="114300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466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Содержимое 3" descr="Снимок1.PNG"/>
          <p:cNvPicPr/>
          <p:nvPr/>
        </p:nvPicPr>
        <p:blipFill>
          <a:blip r:embed="rId1"/>
          <a:stretch/>
        </p:blipFill>
        <p:spPr>
          <a:xfrm>
            <a:off x="657360" y="646200"/>
            <a:ext cx="814392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Содержимое 3" descr="20140704_133526.jpg"/>
          <p:cNvPicPr/>
          <p:nvPr/>
        </p:nvPicPr>
        <p:blipFill>
          <a:blip r:embed="rId1"/>
          <a:srcRect l="22024" t="25130" r="32366" b="18328"/>
          <a:stretch/>
        </p:blipFill>
        <p:spPr>
          <a:xfrm>
            <a:off x="341280" y="414360"/>
            <a:ext cx="84549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3T12:26:47Z</dcterms:created>
  <dc:creator>xelix</dc:creator>
  <dc:description/>
  <dc:language>en-US</dc:language>
  <cp:lastModifiedBy>xelix</cp:lastModifiedBy>
  <dcterms:modified xsi:type="dcterms:W3CDTF">2016-01-08T17:39:15Z</dcterms:modified>
  <cp:revision>258</cp:revision>
  <dc:subject/>
  <dc:title>Слайд 1</dc:title>
</cp:coreProperties>
</file>