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0C4AF-2848-4B38-945F-A6FDB0C62C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128160"/>
            <a:ext cx="75675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198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198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9C91D-8BCB-46D5-8CC0-1AFF92B283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128160"/>
            <a:ext cx="75675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67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1480" y="1980720"/>
            <a:ext cx="3767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67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41480" y="4192200"/>
            <a:ext cx="3767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66D32-3D10-4028-9C2B-65AC5378B0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128160"/>
            <a:ext cx="75675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485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95800" y="1980720"/>
            <a:ext cx="2485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06160" y="1980720"/>
            <a:ext cx="2485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485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95800" y="4192200"/>
            <a:ext cx="2485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906160" y="4192200"/>
            <a:ext cx="2485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7ED6C-62EA-4C69-8E26-CA753D0D6E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4E214-310E-48FE-9BA3-C067C4B55E6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128160"/>
            <a:ext cx="75675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1984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C5056-9795-4A1C-BD7D-892A890CFEB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128160"/>
            <a:ext cx="75675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198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D29BB-92D1-4179-8438-350B861A068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128160"/>
            <a:ext cx="75675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670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41480" y="1980720"/>
            <a:ext cx="37670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90C35-5467-402E-8046-34D6E4CD396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128160"/>
            <a:ext cx="75675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E84F6-120D-4601-8630-95CC9FB5C6E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837720" y="128160"/>
            <a:ext cx="75675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D2A82-467F-4618-B1CB-A68E0C4C65F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128160"/>
            <a:ext cx="75675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67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41480" y="1980720"/>
            <a:ext cx="37670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67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DDC4D-322A-4B69-93A8-CCCD43BA38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128160"/>
            <a:ext cx="75675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1984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119A8-1E8D-4AD7-910A-85557D8470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128160"/>
            <a:ext cx="75675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670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41480" y="1980720"/>
            <a:ext cx="3767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41480" y="4192200"/>
            <a:ext cx="3767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FB082-0767-4DBF-8355-B38B615770A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128160"/>
            <a:ext cx="75675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67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41480" y="1980720"/>
            <a:ext cx="3767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198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BA828-DAF7-4E9F-B950-59057F2C66E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128160"/>
            <a:ext cx="75675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198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198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0AE4E-38E5-4D41-B3BD-66943329DB8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128160"/>
            <a:ext cx="75675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67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41480" y="1980720"/>
            <a:ext cx="3767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67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41480" y="4192200"/>
            <a:ext cx="3767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C3C7B-DDBA-42FB-BAC1-E50825C5D7C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128160"/>
            <a:ext cx="75675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485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95800" y="1980720"/>
            <a:ext cx="2485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6160" y="1980720"/>
            <a:ext cx="2485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485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95800" y="4192200"/>
            <a:ext cx="2485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5906160" y="4192200"/>
            <a:ext cx="2485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12232-7D6B-4B90-AFBB-E65AB32CAF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128160"/>
            <a:ext cx="75675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198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29261-3BEE-4D72-8872-393CE6C701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128160"/>
            <a:ext cx="75675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670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1480" y="1980720"/>
            <a:ext cx="37670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E5C9A-4B9B-48E9-9E8F-D24F21326D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128160"/>
            <a:ext cx="75675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4B630-5F9C-48D9-9ACF-BCF22A6FC9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837720" y="128160"/>
            <a:ext cx="75675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86D72-9452-4301-8073-9CADC554EA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128160"/>
            <a:ext cx="75675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67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1480" y="1980720"/>
            <a:ext cx="37670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67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8B479-5D67-41EB-8131-4274774201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128160"/>
            <a:ext cx="75675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670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1480" y="1980720"/>
            <a:ext cx="3767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41480" y="4192200"/>
            <a:ext cx="3767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89212-05F3-4849-B823-3DB80701C7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128160"/>
            <a:ext cx="75675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67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41480" y="1980720"/>
            <a:ext cx="3767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198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0A69E-B9FF-478B-B67A-756A5B3292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8929520" y="-15185880"/>
            <a:ext cx="31318560" cy="31153680"/>
            <a:chOff x="-18929520" y="-15185880"/>
            <a:chExt cx="31318560" cy="31153680"/>
          </a:xfrm>
        </p:grpSpPr>
        <p:grpSp>
          <p:nvGrpSpPr>
            <p:cNvPr id="1" name=""/>
            <p:cNvGrpSpPr/>
            <p:nvPr/>
          </p:nvGrpSpPr>
          <p:grpSpPr>
            <a:xfrm>
              <a:off x="-18929520" y="-15185880"/>
              <a:ext cx="31318560" cy="31153680"/>
              <a:chOff x="-18929520" y="-15185880"/>
              <a:chExt cx="31318560" cy="31153680"/>
            </a:xfrm>
          </p:grpSpPr>
          <p:sp>
            <p:nvSpPr>
              <p:cNvPr id="2" name=""/>
              <p:cNvSpPr/>
              <p:nvPr/>
            </p:nvSpPr>
            <p:spPr>
              <a:xfrm>
                <a:off x="-489600" y="5382360"/>
                <a:ext cx="3337200" cy="3880080"/>
              </a:xfrm>
              <a:custGeom>
                <a:avLst/>
                <a:gdLst>
                  <a:gd name="textAreaLeft" fmla="*/ 0 w 3337200"/>
                  <a:gd name="textAreaRight" fmla="*/ 3337560 w 3337200"/>
                  <a:gd name="textAreaTop" fmla="*/ 0 h 3880080"/>
                  <a:gd name="textAreaBottom" fmla="*/ 3880440 h 3880080"/>
                </a:gdLst>
                <a:ahLst/>
                <a:rect l="textAreaLeft" t="textAreaTop" r="textAreaRight" b="textAreaBottom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-6095160" y="2733120"/>
                <a:ext cx="4854600" cy="4759200"/>
              </a:xfrm>
              <a:custGeom>
                <a:avLst/>
                <a:gdLst>
                  <a:gd name="textAreaLeft" fmla="*/ 0 w 4854600"/>
                  <a:gd name="textAreaRight" fmla="*/ 4854960 w 4854600"/>
                  <a:gd name="textAreaTop" fmla="*/ 0 h 4759200"/>
                  <a:gd name="textAreaBottom" fmla="*/ 4759560 h 475920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-5639760" y="5763600"/>
                <a:ext cx="3165480" cy="4155480"/>
              </a:xfrm>
              <a:custGeom>
                <a:avLst/>
                <a:gdLst>
                  <a:gd name="textAreaLeft" fmla="*/ 0 w 3165480"/>
                  <a:gd name="textAreaRight" fmla="*/ 3165840 w 3165480"/>
                  <a:gd name="textAreaTop" fmla="*/ 0 h 4155480"/>
                  <a:gd name="textAreaBottom" fmla="*/ 4155480 h 4155480"/>
                </a:gdLst>
                <a:ahLst/>
                <a:rect l="textAreaLeft" t="textAreaTop" r="textAreaRight" b="textAreaBottom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-4046760" y="9145800"/>
                <a:ext cx="3114720" cy="5122080"/>
              </a:xfrm>
              <a:custGeom>
                <a:avLst/>
                <a:gdLst>
                  <a:gd name="textAreaLeft" fmla="*/ 0 w 3114720"/>
                  <a:gd name="textAreaRight" fmla="*/ 3115080 w 3114720"/>
                  <a:gd name="textAreaTop" fmla="*/ 0 h 5122080"/>
                  <a:gd name="textAreaBottom" fmla="*/ 5122440 h 512208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860560" y="-2237040"/>
                <a:ext cx="2588400" cy="4109400"/>
              </a:xfrm>
              <a:custGeom>
                <a:avLst/>
                <a:gdLst>
                  <a:gd name="textAreaLeft" fmla="*/ 0 w 2588400"/>
                  <a:gd name="textAreaRight" fmla="*/ 2588760 w 2588400"/>
                  <a:gd name="textAreaTop" fmla="*/ 0 h 4109400"/>
                  <a:gd name="textAreaBottom" fmla="*/ 4109760 h 410940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-1634760" y="-707760"/>
                <a:ext cx="3344040" cy="3889800"/>
              </a:xfrm>
              <a:custGeom>
                <a:avLst/>
                <a:gdLst>
                  <a:gd name="textAreaLeft" fmla="*/ 0 w 3344040"/>
                  <a:gd name="textAreaRight" fmla="*/ 3344400 w 3344040"/>
                  <a:gd name="textAreaTop" fmla="*/ 0 h 3889800"/>
                  <a:gd name="textAreaBottom" fmla="*/ 3890160 h 3889800"/>
                </a:gdLst>
                <a:ahLst/>
                <a:rect l="textAreaLeft" t="textAreaTop" r="textAreaRight" b="textAreaBottom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rot="3300000">
                <a:off x="-6235200" y="-1270080"/>
                <a:ext cx="4086360" cy="3901320"/>
              </a:xfrm>
              <a:custGeom>
                <a:avLst/>
                <a:gdLst>
                  <a:gd name="textAreaLeft" fmla="*/ 0 w 4086360"/>
                  <a:gd name="textAreaRight" fmla="*/ 4086720 w 4086360"/>
                  <a:gd name="textAreaTop" fmla="*/ 0 h 3901320"/>
                  <a:gd name="textAreaBottom" fmla="*/ 3901680 h 390132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21000000">
                <a:off x="-2245320" y="7913160"/>
                <a:ext cx="2588400" cy="4130280"/>
              </a:xfrm>
              <a:custGeom>
                <a:avLst/>
                <a:gdLst>
                  <a:gd name="textAreaLeft" fmla="*/ -360 w 2588400"/>
                  <a:gd name="textAreaRight" fmla="*/ 2588400 w 2588400"/>
                  <a:gd name="textAreaTop" fmla="*/ 0 h 4130280"/>
                  <a:gd name="textAreaBottom" fmla="*/ 4130640 h 413028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-8009280" y="5461920"/>
                <a:ext cx="4247640" cy="5110560"/>
              </a:xfrm>
              <a:custGeom>
                <a:avLst/>
                <a:gdLst>
                  <a:gd name="textAreaLeft" fmla="*/ 0 w 4247640"/>
                  <a:gd name="textAreaRight" fmla="*/ 4248000 w 4247640"/>
                  <a:gd name="textAreaTop" fmla="*/ 0 h 5110560"/>
                  <a:gd name="textAreaBottom" fmla="*/ 5110920 h 5110560"/>
                </a:gdLst>
                <a:ahLst/>
                <a:rect l="textAreaLeft" t="textAreaTop" r="textAreaRight" b="textAreaBottom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16260000">
                <a:off x="682200" y="10877760"/>
                <a:ext cx="3396240" cy="3135600"/>
              </a:xfrm>
              <a:custGeom>
                <a:avLst/>
                <a:gdLst>
                  <a:gd name="textAreaLeft" fmla="*/ 360 w 3396240"/>
                  <a:gd name="textAreaRight" fmla="*/ 3396960 w 3396240"/>
                  <a:gd name="textAreaTop" fmla="*/ 0 h 3135600"/>
                  <a:gd name="textAreaBottom" fmla="*/ 3135960 h 313560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rot="6000000">
                <a:off x="-7817040" y="9732600"/>
                <a:ext cx="5154840" cy="3449160"/>
              </a:xfrm>
              <a:custGeom>
                <a:avLst/>
                <a:gdLst>
                  <a:gd name="textAreaLeft" fmla="*/ 0 w 5154840"/>
                  <a:gd name="textAreaRight" fmla="*/ 5155200 w 5154840"/>
                  <a:gd name="textAreaTop" fmla="*/ 0 h 3449160"/>
                  <a:gd name="textAreaBottom" fmla="*/ 3449520 h 344916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rot="6300000">
                <a:off x="-442440" y="6572880"/>
                <a:ext cx="4086360" cy="3899520"/>
              </a:xfrm>
              <a:custGeom>
                <a:avLst/>
                <a:gdLst>
                  <a:gd name="textAreaLeft" fmla="*/ 0 w 4086360"/>
                  <a:gd name="textAreaRight" fmla="*/ 4086720 w 4086360"/>
                  <a:gd name="textAreaTop" fmla="*/ 0 h 3899520"/>
                  <a:gd name="textAreaBottom" fmla="*/ 3899880 h 389952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V="1" rot="19260000">
                <a:off x="-1053720" y="529560"/>
                <a:ext cx="3109320" cy="5117760"/>
              </a:xfrm>
              <a:custGeom>
                <a:avLst/>
                <a:gdLst>
                  <a:gd name="textAreaLeft" fmla="*/ 0 w 3109320"/>
                  <a:gd name="textAreaRight" fmla="*/ 3109680 w 3109320"/>
                  <a:gd name="textAreaTop" fmla="*/ 360 h 5117760"/>
                  <a:gd name="textAreaBottom" fmla="*/ 5118480 h 511776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 rot="600000">
                <a:off x="-8201160" y="1279800"/>
                <a:ext cx="2578320" cy="4109400"/>
              </a:xfrm>
              <a:custGeom>
                <a:avLst/>
                <a:gdLst>
                  <a:gd name="textAreaLeft" fmla="*/ -360 w 2578320"/>
                  <a:gd name="textAreaRight" fmla="*/ 2578320 w 2578320"/>
                  <a:gd name="textAreaTop" fmla="*/ 0 h 4109400"/>
                  <a:gd name="textAreaBottom" fmla="*/ 4109760 h 410940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-10993320" y="3683160"/>
                <a:ext cx="3344040" cy="3891600"/>
              </a:xfrm>
              <a:custGeom>
                <a:avLst/>
                <a:gdLst>
                  <a:gd name="textAreaLeft" fmla="*/ 0 w 3344040"/>
                  <a:gd name="textAreaRight" fmla="*/ 3344400 w 3344040"/>
                  <a:gd name="textAreaTop" fmla="*/ 0 h 3891600"/>
                  <a:gd name="textAreaBottom" fmla="*/ 3891960 h 3891600"/>
                </a:gdLst>
                <a:ahLst/>
                <a:rect l="textAreaLeft" t="textAreaTop" r="textAreaRight" b="textAreaBottom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-16605720" y="2685600"/>
                <a:ext cx="4858200" cy="4757400"/>
              </a:xfrm>
              <a:custGeom>
                <a:avLst/>
                <a:gdLst>
                  <a:gd name="textAreaLeft" fmla="*/ 0 w 4858200"/>
                  <a:gd name="textAreaRight" fmla="*/ 4858560 w 4858200"/>
                  <a:gd name="textAreaTop" fmla="*/ 0 h 4757400"/>
                  <a:gd name="textAreaBottom" fmla="*/ 4757760 h 475740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-16392960" y="5478120"/>
                <a:ext cx="3167280" cy="4154040"/>
              </a:xfrm>
              <a:custGeom>
                <a:avLst/>
                <a:gdLst>
                  <a:gd name="textAreaLeft" fmla="*/ 0 w 3167280"/>
                  <a:gd name="textAreaRight" fmla="*/ 3167640 w 3167280"/>
                  <a:gd name="textAreaTop" fmla="*/ 0 h 4154040"/>
                  <a:gd name="textAreaBottom" fmla="*/ 4154400 h 4154040"/>
                </a:gdLst>
                <a:ahLst/>
                <a:rect l="textAreaLeft" t="textAreaTop" r="textAreaRight" b="textAreaBottom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19440000">
                <a:off x="-13512600" y="10420920"/>
                <a:ext cx="3114720" cy="5120280"/>
              </a:xfrm>
              <a:custGeom>
                <a:avLst/>
                <a:gdLst>
                  <a:gd name="textAreaLeft" fmla="*/ 0 w 3114720"/>
                  <a:gd name="textAreaRight" fmla="*/ 3115080 w 3114720"/>
                  <a:gd name="textAreaTop" fmla="*/ 0 h 5120280"/>
                  <a:gd name="textAreaBottom" fmla="*/ 5120640 h 512028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-8009280" y="-1425600"/>
                <a:ext cx="2578680" cy="4114080"/>
              </a:xfrm>
              <a:custGeom>
                <a:avLst/>
                <a:gdLst>
                  <a:gd name="textAreaLeft" fmla="*/ 0 w 2578680"/>
                  <a:gd name="textAreaRight" fmla="*/ 2579040 w 2578680"/>
                  <a:gd name="textAreaTop" fmla="*/ 0 h 4114080"/>
                  <a:gd name="textAreaBottom" fmla="*/ 4114080 h 411408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-12125160" y="-753840"/>
                <a:ext cx="3344040" cy="3891600"/>
              </a:xfrm>
              <a:custGeom>
                <a:avLst/>
                <a:gdLst>
                  <a:gd name="textAreaLeft" fmla="*/ 0 w 3344040"/>
                  <a:gd name="textAreaRight" fmla="*/ 3344400 w 3344040"/>
                  <a:gd name="textAreaTop" fmla="*/ 0 h 3891600"/>
                  <a:gd name="textAreaBottom" fmla="*/ 3891960 h 3891600"/>
                </a:gdLst>
                <a:ahLst/>
                <a:rect l="textAreaLeft" t="textAreaTop" r="textAreaRight" b="textAreaBottom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3300000">
                <a:off x="-17934120" y="-533880"/>
                <a:ext cx="4082760" cy="3899880"/>
              </a:xfrm>
              <a:custGeom>
                <a:avLst/>
                <a:gdLst>
                  <a:gd name="textAreaLeft" fmla="*/ 0 w 4082760"/>
                  <a:gd name="textAreaRight" fmla="*/ 4083120 w 4082760"/>
                  <a:gd name="textAreaTop" fmla="*/ 0 h 3899880"/>
                  <a:gd name="textAreaBottom" fmla="*/ 3900240 h 389988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flipH="1" rot="21000000">
                <a:off x="-12753720" y="7858800"/>
                <a:ext cx="2589840" cy="4132800"/>
              </a:xfrm>
              <a:custGeom>
                <a:avLst/>
                <a:gdLst>
                  <a:gd name="textAreaLeft" fmla="*/ -360 w 2589840"/>
                  <a:gd name="textAreaRight" fmla="*/ 2589840 w 2589840"/>
                  <a:gd name="textAreaTop" fmla="*/ 0 h 4132800"/>
                  <a:gd name="textAreaBottom" fmla="*/ 4133160 h 413280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-17231040" y="5171400"/>
                <a:ext cx="4246200" cy="5109120"/>
              </a:xfrm>
              <a:custGeom>
                <a:avLst/>
                <a:gdLst>
                  <a:gd name="textAreaLeft" fmla="*/ 0 w 4246200"/>
                  <a:gd name="textAreaRight" fmla="*/ 4246560 w 4246200"/>
                  <a:gd name="textAreaTop" fmla="*/ 0 h 5109120"/>
                  <a:gd name="textAreaBottom" fmla="*/ 5109480 h 5109120"/>
                </a:gdLst>
                <a:ahLst/>
                <a:rect l="textAreaLeft" t="textAreaTop" r="textAreaRight" b="textAreaBottom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flipH="1" rot="16260000">
                <a:off x="-9890280" y="10730880"/>
                <a:ext cx="3403080" cy="3135960"/>
              </a:xfrm>
              <a:custGeom>
                <a:avLst/>
                <a:gdLst>
                  <a:gd name="textAreaLeft" fmla="*/ 360 w 3403080"/>
                  <a:gd name="textAreaRight" fmla="*/ 3403800 w 3403080"/>
                  <a:gd name="textAreaTop" fmla="*/ 0 h 3135960"/>
                  <a:gd name="textAreaBottom" fmla="*/ 3136320 h 313596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520000">
                <a:off x="-17807400" y="9372240"/>
                <a:ext cx="5151600" cy="3441240"/>
              </a:xfrm>
              <a:custGeom>
                <a:avLst/>
                <a:gdLst>
                  <a:gd name="textAreaLeft" fmla="*/ 0 w 5151600"/>
                  <a:gd name="textAreaRight" fmla="*/ 5151960 w 5151600"/>
                  <a:gd name="textAreaTop" fmla="*/ 0 h 3441240"/>
                  <a:gd name="textAreaBottom" fmla="*/ 3441600 h 344124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6300000">
                <a:off x="-11695680" y="5482440"/>
                <a:ext cx="4089600" cy="3902760"/>
              </a:xfrm>
              <a:custGeom>
                <a:avLst/>
                <a:gdLst>
                  <a:gd name="textAreaLeft" fmla="*/ 0 w 4089600"/>
                  <a:gd name="textAreaRight" fmla="*/ 4089960 w 4089600"/>
                  <a:gd name="textAreaTop" fmla="*/ 0 h 3902760"/>
                  <a:gd name="textAreaBottom" fmla="*/ 3903120 h 390276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flipV="1" rot="19260000">
                <a:off x="-12347280" y="-955440"/>
                <a:ext cx="3114360" cy="5120640"/>
              </a:xfrm>
              <a:custGeom>
                <a:avLst/>
                <a:gdLst>
                  <a:gd name="textAreaLeft" fmla="*/ 0 w 3114360"/>
                  <a:gd name="textAreaRight" fmla="*/ 3114720 w 3114360"/>
                  <a:gd name="textAreaTop" fmla="*/ 360 h 5120640"/>
                  <a:gd name="textAreaBottom" fmla="*/ 5121360 h 51206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flipH="1" rot="600000">
                <a:off x="-14715000" y="373680"/>
                <a:ext cx="2576520" cy="4117680"/>
              </a:xfrm>
              <a:custGeom>
                <a:avLst/>
                <a:gdLst>
                  <a:gd name="textAreaLeft" fmla="*/ 360 w 2576520"/>
                  <a:gd name="textAreaRight" fmla="*/ 2577240 w 2576520"/>
                  <a:gd name="textAreaTop" fmla="*/ 0 h 4117680"/>
                  <a:gd name="textAreaBottom" fmla="*/ 4117680 h 411768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-11080800" y="-8542080"/>
                <a:ext cx="3344040" cy="3884760"/>
              </a:xfrm>
              <a:custGeom>
                <a:avLst/>
                <a:gdLst>
                  <a:gd name="textAreaLeft" fmla="*/ 0 w 3344040"/>
                  <a:gd name="textAreaRight" fmla="*/ 3344400 w 3344040"/>
                  <a:gd name="textAreaTop" fmla="*/ 0 h 3884760"/>
                  <a:gd name="textAreaBottom" fmla="*/ 3885120 h 3884760"/>
                </a:gdLst>
                <a:ahLst/>
                <a:rect l="textAreaLeft" t="textAreaTop" r="textAreaRight" b="textAreaBottom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-16676280" y="-11203200"/>
                <a:ext cx="4857840" cy="4755960"/>
              </a:xfrm>
              <a:custGeom>
                <a:avLst/>
                <a:gdLst>
                  <a:gd name="textAreaLeft" fmla="*/ 0 w 4857840"/>
                  <a:gd name="textAreaRight" fmla="*/ 4858200 w 4857840"/>
                  <a:gd name="textAreaTop" fmla="*/ 0 h 4755960"/>
                  <a:gd name="textAreaBottom" fmla="*/ 4756320 h 475596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-17267040" y="-6907320"/>
                <a:ext cx="3167280" cy="4142160"/>
              </a:xfrm>
              <a:custGeom>
                <a:avLst/>
                <a:gdLst>
                  <a:gd name="textAreaLeft" fmla="*/ 0 w 3167280"/>
                  <a:gd name="textAreaRight" fmla="*/ 3167640 w 3167280"/>
                  <a:gd name="textAreaTop" fmla="*/ 0 h 4142160"/>
                  <a:gd name="textAreaBottom" fmla="*/ 4142520 h 4142160"/>
                </a:gdLst>
                <a:ahLst/>
                <a:rect l="textAreaLeft" t="textAreaTop" r="textAreaRight" b="textAreaBottom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-13533840" y="-3546720"/>
                <a:ext cx="3111120" cy="5106960"/>
              </a:xfrm>
              <a:custGeom>
                <a:avLst/>
                <a:gdLst>
                  <a:gd name="textAreaLeft" fmla="*/ 0 w 3111120"/>
                  <a:gd name="textAreaRight" fmla="*/ 3111480 w 3111120"/>
                  <a:gd name="textAreaTop" fmla="*/ 0 h 5106960"/>
                  <a:gd name="textAreaBottom" fmla="*/ 5107320 h 510696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-8093160" y="-14286600"/>
                <a:ext cx="2584800" cy="4114080"/>
              </a:xfrm>
              <a:custGeom>
                <a:avLst/>
                <a:gdLst>
                  <a:gd name="textAreaLeft" fmla="*/ 0 w 2584800"/>
                  <a:gd name="textAreaRight" fmla="*/ 2585160 w 2584800"/>
                  <a:gd name="textAreaTop" fmla="*/ 0 h 4114080"/>
                  <a:gd name="textAreaBottom" fmla="*/ 4114080 h 411408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-12209400" y="-13605480"/>
                <a:ext cx="3344040" cy="3880080"/>
              </a:xfrm>
              <a:custGeom>
                <a:avLst/>
                <a:gdLst>
                  <a:gd name="textAreaLeft" fmla="*/ 0 w 3344040"/>
                  <a:gd name="textAreaRight" fmla="*/ 3344400 w 3344040"/>
                  <a:gd name="textAreaTop" fmla="*/ 0 h 3880080"/>
                  <a:gd name="textAreaBottom" fmla="*/ 3880440 h 3880080"/>
                </a:gdLst>
                <a:ahLst/>
                <a:rect l="textAreaLeft" t="textAreaTop" r="textAreaRight" b="textAreaBottom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00000">
                <a:off x="-16625160" y="-14346360"/>
                <a:ext cx="4081320" cy="3903120"/>
              </a:xfrm>
              <a:custGeom>
                <a:avLst/>
                <a:gdLst>
                  <a:gd name="textAreaLeft" fmla="*/ 0 w 4081320"/>
                  <a:gd name="textAreaRight" fmla="*/ 4081680 w 4081320"/>
                  <a:gd name="textAreaTop" fmla="*/ 0 h 3903120"/>
                  <a:gd name="textAreaBottom" fmla="*/ 3903480 h 390312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flipH="1" rot="21000000">
                <a:off x="-12817440" y="-6017760"/>
                <a:ext cx="2578320" cy="4114080"/>
              </a:xfrm>
              <a:custGeom>
                <a:avLst/>
                <a:gdLst>
                  <a:gd name="textAreaLeft" fmla="*/ -360 w 2578320"/>
                  <a:gd name="textAreaRight" fmla="*/ 2578320 w 2578320"/>
                  <a:gd name="textAreaTop" fmla="*/ 0 h 4114080"/>
                  <a:gd name="textAreaBottom" fmla="*/ 4114080 h 411408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-16237800" y="-8007480"/>
                <a:ext cx="4245840" cy="5110560"/>
              </a:xfrm>
              <a:custGeom>
                <a:avLst/>
                <a:gdLst>
                  <a:gd name="textAreaLeft" fmla="*/ 0 w 4245840"/>
                  <a:gd name="textAreaRight" fmla="*/ 4246200 w 4245840"/>
                  <a:gd name="textAreaTop" fmla="*/ 0 h 5110560"/>
                  <a:gd name="textAreaBottom" fmla="*/ 5110920 h 5110560"/>
                </a:gdLst>
                <a:ahLst/>
                <a:rect l="textAreaLeft" t="textAreaTop" r="textAreaRight" b="textAreaBottom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flipH="1" rot="16260000">
                <a:off x="-10010160" y="-4160520"/>
                <a:ext cx="3396600" cy="3129120"/>
              </a:xfrm>
              <a:custGeom>
                <a:avLst/>
                <a:gdLst>
                  <a:gd name="textAreaLeft" fmla="*/ 360 w 3396600"/>
                  <a:gd name="textAreaRight" fmla="*/ 3397320 w 3396600"/>
                  <a:gd name="textAreaTop" fmla="*/ 0 h 3129120"/>
                  <a:gd name="textAreaBottom" fmla="*/ 3129480 h 312912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400000">
                <a:off x="-17937000" y="-3236040"/>
                <a:ext cx="3937680" cy="4521600"/>
              </a:xfrm>
              <a:custGeom>
                <a:avLst/>
                <a:gdLst>
                  <a:gd name="textAreaLeft" fmla="*/ 0 w 3937680"/>
                  <a:gd name="textAreaRight" fmla="*/ 3938040 w 3937680"/>
                  <a:gd name="textAreaTop" fmla="*/ 0 h 4521600"/>
                  <a:gd name="textAreaBottom" fmla="*/ 4521960 h 452160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6300000">
                <a:off x="-11029320" y="-7381800"/>
                <a:ext cx="4086360" cy="3901320"/>
              </a:xfrm>
              <a:custGeom>
                <a:avLst/>
                <a:gdLst>
                  <a:gd name="textAreaLeft" fmla="*/ 0 w 4086360"/>
                  <a:gd name="textAreaRight" fmla="*/ 4086720 w 4086360"/>
                  <a:gd name="textAreaTop" fmla="*/ 0 h 3901320"/>
                  <a:gd name="textAreaBottom" fmla="*/ 3901680 h 390132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flipV="1" rot="19260000">
                <a:off x="-12449880" y="-13795560"/>
                <a:ext cx="3109680" cy="5115600"/>
              </a:xfrm>
              <a:custGeom>
                <a:avLst/>
                <a:gdLst>
                  <a:gd name="textAreaLeft" fmla="*/ 0 w 3109680"/>
                  <a:gd name="textAreaRight" fmla="*/ 3110040 w 3109680"/>
                  <a:gd name="textAreaTop" fmla="*/ -360 h 5115600"/>
                  <a:gd name="textAreaBottom" fmla="*/ 5115600 h 511560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flipH="1" rot="600000">
                <a:off x="-17336880" y="-12653280"/>
                <a:ext cx="2576520" cy="4110840"/>
              </a:xfrm>
              <a:custGeom>
                <a:avLst/>
                <a:gdLst>
                  <a:gd name="textAreaLeft" fmla="*/ 360 w 2576520"/>
                  <a:gd name="textAreaRight" fmla="*/ 2577240 w 2576520"/>
                  <a:gd name="textAreaTop" fmla="*/ 0 h 4110840"/>
                  <a:gd name="textAreaBottom" fmla="*/ 4111200 h 4110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-540720" y="-8542080"/>
                <a:ext cx="3338640" cy="3884760"/>
              </a:xfrm>
              <a:custGeom>
                <a:avLst/>
                <a:gdLst>
                  <a:gd name="textAreaLeft" fmla="*/ 0 w 3338640"/>
                  <a:gd name="textAreaRight" fmla="*/ 3339000 w 3338640"/>
                  <a:gd name="textAreaTop" fmla="*/ 0 h 3884760"/>
                  <a:gd name="textAreaBottom" fmla="*/ 3885120 h 3884760"/>
                </a:gdLst>
                <a:ahLst/>
                <a:rect l="textAreaLeft" t="textAreaTop" r="textAreaRight" b="textAreaBottom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-6134760" y="-11203200"/>
                <a:ext cx="4856400" cy="4755960"/>
              </a:xfrm>
              <a:custGeom>
                <a:avLst/>
                <a:gdLst>
                  <a:gd name="textAreaLeft" fmla="*/ 0 w 4856400"/>
                  <a:gd name="textAreaRight" fmla="*/ 4856760 w 4856400"/>
                  <a:gd name="textAreaTop" fmla="*/ 0 h 4755960"/>
                  <a:gd name="textAreaBottom" fmla="*/ 4756320 h 475596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-6730560" y="-6907320"/>
                <a:ext cx="3167280" cy="4142160"/>
              </a:xfrm>
              <a:custGeom>
                <a:avLst/>
                <a:gdLst>
                  <a:gd name="textAreaLeft" fmla="*/ 0 w 3167280"/>
                  <a:gd name="textAreaRight" fmla="*/ 3167640 w 3167280"/>
                  <a:gd name="textAreaTop" fmla="*/ 0 h 4142160"/>
                  <a:gd name="textAreaBottom" fmla="*/ 4142520 h 4142160"/>
                </a:gdLst>
                <a:ahLst/>
                <a:rect l="textAreaLeft" t="textAreaTop" r="textAreaRight" b="textAreaBottom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-2989080" y="-3546720"/>
                <a:ext cx="3114720" cy="5106960"/>
              </a:xfrm>
              <a:custGeom>
                <a:avLst/>
                <a:gdLst>
                  <a:gd name="textAreaLeft" fmla="*/ 0 w 3114720"/>
                  <a:gd name="textAreaRight" fmla="*/ 3115080 w 3114720"/>
                  <a:gd name="textAreaTop" fmla="*/ 0 h 5106960"/>
                  <a:gd name="textAreaBottom" fmla="*/ 5107320 h 510696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2444760" y="-14286600"/>
                <a:ext cx="2581560" cy="4114080"/>
              </a:xfrm>
              <a:custGeom>
                <a:avLst/>
                <a:gdLst>
                  <a:gd name="textAreaLeft" fmla="*/ 0 w 2581560"/>
                  <a:gd name="textAreaRight" fmla="*/ 2581920 w 2581560"/>
                  <a:gd name="textAreaTop" fmla="*/ 0 h 4114080"/>
                  <a:gd name="textAreaBottom" fmla="*/ 4114080 h 411408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-1671120" y="-13605480"/>
                <a:ext cx="3344040" cy="3880080"/>
              </a:xfrm>
              <a:custGeom>
                <a:avLst/>
                <a:gdLst>
                  <a:gd name="textAreaLeft" fmla="*/ 0 w 3344040"/>
                  <a:gd name="textAreaRight" fmla="*/ 3344400 w 3344040"/>
                  <a:gd name="textAreaTop" fmla="*/ 0 h 3880080"/>
                  <a:gd name="textAreaBottom" fmla="*/ 3880440 h 3880080"/>
                </a:gdLst>
                <a:ahLst/>
                <a:rect l="textAreaLeft" t="textAreaTop" r="textAreaRight" b="textAreaBottom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3300000">
                <a:off x="-7486560" y="-13387680"/>
                <a:ext cx="4086360" cy="3902760"/>
              </a:xfrm>
              <a:custGeom>
                <a:avLst/>
                <a:gdLst>
                  <a:gd name="textAreaLeft" fmla="*/ 0 w 4086360"/>
                  <a:gd name="textAreaRight" fmla="*/ 4086720 w 4086360"/>
                  <a:gd name="textAreaTop" fmla="*/ 0 h 3902760"/>
                  <a:gd name="textAreaBottom" fmla="*/ 3903120 h 390276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flipH="1" rot="21000000">
                <a:off x="-2291040" y="-6019920"/>
                <a:ext cx="2578680" cy="4130640"/>
              </a:xfrm>
              <a:custGeom>
                <a:avLst/>
                <a:gdLst>
                  <a:gd name="textAreaLeft" fmla="*/ 360 w 2578680"/>
                  <a:gd name="textAreaRight" fmla="*/ 2579400 w 2578680"/>
                  <a:gd name="textAreaTop" fmla="*/ 0 h 4130640"/>
                  <a:gd name="textAreaBottom" fmla="*/ 4131000 h 41306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-7568280" y="-7222320"/>
                <a:ext cx="4245840" cy="5120280"/>
              </a:xfrm>
              <a:custGeom>
                <a:avLst/>
                <a:gdLst>
                  <a:gd name="textAreaLeft" fmla="*/ 0 w 4245840"/>
                  <a:gd name="textAreaRight" fmla="*/ 4246200 w 4245840"/>
                  <a:gd name="textAreaTop" fmla="*/ 0 h 5120280"/>
                  <a:gd name="textAreaBottom" fmla="*/ 5120640 h 5120280"/>
                </a:gdLst>
                <a:ahLst/>
                <a:rect l="textAreaLeft" t="textAreaTop" r="textAreaRight" b="textAreaBottom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H="1" rot="16260000">
                <a:off x="511920" y="-4163040"/>
                <a:ext cx="3396600" cy="3135960"/>
              </a:xfrm>
              <a:custGeom>
                <a:avLst/>
                <a:gdLst>
                  <a:gd name="textAreaLeft" fmla="*/ -360 w 3396600"/>
                  <a:gd name="textAreaRight" fmla="*/ 3396600 w 3396600"/>
                  <a:gd name="textAreaTop" fmla="*/ 0 h 3135960"/>
                  <a:gd name="textAreaBottom" fmla="*/ 3136320 h 313596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2400000">
                <a:off x="-7376760" y="-3258360"/>
                <a:ext cx="3915000" cy="4520160"/>
              </a:xfrm>
              <a:custGeom>
                <a:avLst/>
                <a:gdLst>
                  <a:gd name="textAreaLeft" fmla="*/ 0 w 3915000"/>
                  <a:gd name="textAreaRight" fmla="*/ 3915360 w 3915000"/>
                  <a:gd name="textAreaTop" fmla="*/ 0 h 4520160"/>
                  <a:gd name="textAreaBottom" fmla="*/ 4520520 h 452016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6300000">
                <a:off x="-480600" y="-7371360"/>
                <a:ext cx="4089600" cy="3903120"/>
              </a:xfrm>
              <a:custGeom>
                <a:avLst/>
                <a:gdLst>
                  <a:gd name="textAreaLeft" fmla="*/ 0 w 4089600"/>
                  <a:gd name="textAreaRight" fmla="*/ 4089960 w 4089600"/>
                  <a:gd name="textAreaTop" fmla="*/ 0 h 3903120"/>
                  <a:gd name="textAreaBottom" fmla="*/ 3903480 h 390312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V="1" rot="19260000">
                <a:off x="-1903320" y="-13813560"/>
                <a:ext cx="3109320" cy="5122440"/>
              </a:xfrm>
              <a:custGeom>
                <a:avLst/>
                <a:gdLst>
                  <a:gd name="textAreaLeft" fmla="*/ 0 w 3109320"/>
                  <a:gd name="textAreaRight" fmla="*/ 3109680 w 3109320"/>
                  <a:gd name="textAreaTop" fmla="*/ 360 h 5122440"/>
                  <a:gd name="textAreaBottom" fmla="*/ 5123160 h 51224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 rot="600000">
                <a:off x="-7954200" y="-12637800"/>
                <a:ext cx="2578320" cy="4110840"/>
              </a:xfrm>
              <a:custGeom>
                <a:avLst/>
                <a:gdLst>
                  <a:gd name="textAreaLeft" fmla="*/ -360 w 2578320"/>
                  <a:gd name="textAreaRight" fmla="*/ 2578320 w 2578320"/>
                  <a:gd name="textAreaTop" fmla="*/ 0 h 4110840"/>
                  <a:gd name="textAreaBottom" fmla="*/ 4111200 h 41108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>
                <a:off x="8359920" y="-8558640"/>
                <a:ext cx="3335400" cy="3886560"/>
              </a:xfrm>
              <a:custGeom>
                <a:avLst/>
                <a:gdLst>
                  <a:gd name="textAreaLeft" fmla="*/ -360 w 3335400"/>
                  <a:gd name="textAreaRight" fmla="*/ 3335400 w 3335400"/>
                  <a:gd name="textAreaTop" fmla="*/ 0 h 3886560"/>
                  <a:gd name="textAreaBottom" fmla="*/ 3886920 h 3886560"/>
                </a:gdLst>
                <a:ahLst/>
                <a:rect l="textAreaLeft" t="textAreaTop" r="textAreaRight" b="textAreaBottom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413240" y="-11132280"/>
                <a:ext cx="4853160" cy="4757400"/>
              </a:xfrm>
              <a:custGeom>
                <a:avLst/>
                <a:gdLst>
                  <a:gd name="textAreaLeft" fmla="*/ 0 w 4853160"/>
                  <a:gd name="textAreaRight" fmla="*/ 4853520 w 4853160"/>
                  <a:gd name="textAreaTop" fmla="*/ 0 h 4757400"/>
                  <a:gd name="textAreaBottom" fmla="*/ 4757760 h 475740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834000" y="-6849720"/>
                <a:ext cx="3170520" cy="4137480"/>
              </a:xfrm>
              <a:custGeom>
                <a:avLst/>
                <a:gdLst>
                  <a:gd name="textAreaLeft" fmla="*/ 0 w 3170520"/>
                  <a:gd name="textAreaRight" fmla="*/ 3170880 w 3170520"/>
                  <a:gd name="textAreaTop" fmla="*/ 0 h 4137480"/>
                  <a:gd name="textAreaBottom" fmla="*/ 4137840 h 4137480"/>
                </a:gdLst>
                <a:ahLst/>
                <a:rect l="textAreaLeft" t="textAreaTop" r="textAreaRight" b="textAreaBottom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466120" y="-3871800"/>
                <a:ext cx="3114720" cy="5117400"/>
              </a:xfrm>
              <a:custGeom>
                <a:avLst/>
                <a:gdLst>
                  <a:gd name="textAreaLeft" fmla="*/ 0 w 3114720"/>
                  <a:gd name="textAreaRight" fmla="*/ 3115080 w 3114720"/>
                  <a:gd name="textAreaTop" fmla="*/ 0 h 5117400"/>
                  <a:gd name="textAreaBottom" fmla="*/ 5117760 h 511740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139880" y="-14103360"/>
                <a:ext cx="3343680" cy="3888000"/>
              </a:xfrm>
              <a:custGeom>
                <a:avLst/>
                <a:gdLst>
                  <a:gd name="textAreaLeft" fmla="*/ 0 w 3343680"/>
                  <a:gd name="textAreaRight" fmla="*/ 3344040 w 3343680"/>
                  <a:gd name="textAreaTop" fmla="*/ 0 h 3888000"/>
                  <a:gd name="textAreaBottom" fmla="*/ 3888360 h 3888000"/>
                </a:gdLst>
                <a:ahLst/>
                <a:rect l="textAreaLeft" t="textAreaTop" r="textAreaRight" b="textAreaBottom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3300000">
                <a:off x="3234960" y="-14026680"/>
                <a:ext cx="4086360" cy="3901320"/>
              </a:xfrm>
              <a:custGeom>
                <a:avLst/>
                <a:gdLst>
                  <a:gd name="textAreaLeft" fmla="*/ 0 w 4086360"/>
                  <a:gd name="textAreaRight" fmla="*/ 4086720 w 4086360"/>
                  <a:gd name="textAreaTop" fmla="*/ 0 h 3901320"/>
                  <a:gd name="textAreaBottom" fmla="*/ 3901680 h 390132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21000000">
                <a:off x="8268840" y="-5964840"/>
                <a:ext cx="2578680" cy="4115880"/>
              </a:xfrm>
              <a:custGeom>
                <a:avLst/>
                <a:gdLst>
                  <a:gd name="textAreaLeft" fmla="*/ -360 w 2578680"/>
                  <a:gd name="textAreaRight" fmla="*/ 2578680 w 2578680"/>
                  <a:gd name="textAreaTop" fmla="*/ 0 h 4115880"/>
                  <a:gd name="textAreaBottom" fmla="*/ 4116240 h 411588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614480" y="-8030880"/>
                <a:ext cx="4245840" cy="5104080"/>
              </a:xfrm>
              <a:custGeom>
                <a:avLst/>
                <a:gdLst>
                  <a:gd name="textAreaLeft" fmla="*/ 0 w 4245840"/>
                  <a:gd name="textAreaRight" fmla="*/ 4246200 w 4245840"/>
                  <a:gd name="textAreaTop" fmla="*/ 0 h 5104080"/>
                  <a:gd name="textAreaBottom" fmla="*/ 5104440 h 5104080"/>
                </a:gdLst>
                <a:ahLst/>
                <a:rect l="textAreaLeft" t="textAreaTop" r="textAreaRight" b="textAreaBottom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H="1" rot="16260000">
                <a:off x="8531280" y="7347240"/>
                <a:ext cx="3396600" cy="3129120"/>
              </a:xfrm>
              <a:custGeom>
                <a:avLst/>
                <a:gdLst>
                  <a:gd name="textAreaLeft" fmla="*/ -360 w 3396600"/>
                  <a:gd name="textAreaRight" fmla="*/ 3396600 w 3396600"/>
                  <a:gd name="textAreaTop" fmla="*/ 0 h 3129120"/>
                  <a:gd name="textAreaBottom" fmla="*/ 3129480 h 312912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400000">
                <a:off x="3835440" y="-3767760"/>
                <a:ext cx="3914640" cy="4521600"/>
              </a:xfrm>
              <a:custGeom>
                <a:avLst/>
                <a:gdLst>
                  <a:gd name="textAreaLeft" fmla="*/ 0 w 3914640"/>
                  <a:gd name="textAreaRight" fmla="*/ 3915000 w 3914640"/>
                  <a:gd name="textAreaTop" fmla="*/ 0 h 4521600"/>
                  <a:gd name="textAreaBottom" fmla="*/ 4521960 h 452160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6300000">
                <a:off x="7114320" y="-8488080"/>
                <a:ext cx="4082760" cy="3902760"/>
              </a:xfrm>
              <a:custGeom>
                <a:avLst/>
                <a:gdLst>
                  <a:gd name="textAreaLeft" fmla="*/ 0 w 4082760"/>
                  <a:gd name="textAreaRight" fmla="*/ 4083120 w 4082760"/>
                  <a:gd name="textAreaTop" fmla="*/ 0 h 3902760"/>
                  <a:gd name="textAreaBottom" fmla="*/ 3903120 h 390276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V="1" rot="21000000">
                <a:off x="8670960" y="-14283360"/>
                <a:ext cx="3109320" cy="5120640"/>
              </a:xfrm>
              <a:custGeom>
                <a:avLst/>
                <a:gdLst>
                  <a:gd name="textAreaLeft" fmla="*/ 0 w 3109320"/>
                  <a:gd name="textAreaRight" fmla="*/ 3109680 w 3109320"/>
                  <a:gd name="textAreaTop" fmla="*/ -360 h 5120640"/>
                  <a:gd name="textAreaBottom" fmla="*/ 5120640 h 51206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600000">
                <a:off x="2002320" y="-11163600"/>
                <a:ext cx="2576520" cy="4125960"/>
              </a:xfrm>
              <a:custGeom>
                <a:avLst/>
                <a:gdLst>
                  <a:gd name="textAreaLeft" fmla="*/ -360 w 2576520"/>
                  <a:gd name="textAreaRight" fmla="*/ 2576520 w 2576520"/>
                  <a:gd name="textAreaTop" fmla="*/ 0 h 4125960"/>
                  <a:gd name="textAreaBottom" fmla="*/ 4126320 h 412596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6540000">
                <a:off x="8080560" y="5645520"/>
                <a:ext cx="4396320" cy="2949480"/>
              </a:xfrm>
              <a:custGeom>
                <a:avLst/>
                <a:gdLst>
                  <a:gd name="textAreaLeft" fmla="*/ 0 w 4396320"/>
                  <a:gd name="textAreaRight" fmla="*/ 4396680 w 4396320"/>
                  <a:gd name="textAreaTop" fmla="*/ 0 h 2949480"/>
                  <a:gd name="textAreaBottom" fmla="*/ 2949840 h 2949480"/>
                </a:gdLst>
                <a:ahLst/>
                <a:rect l="textAreaLeft" t="textAreaTop" r="textAreaRight" b="textAreaBottom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4413240" y="2743200"/>
                <a:ext cx="4853160" cy="4762440"/>
              </a:xfrm>
              <a:custGeom>
                <a:avLst/>
                <a:gdLst>
                  <a:gd name="textAreaLeft" fmla="*/ 0 w 4853160"/>
                  <a:gd name="textAreaRight" fmla="*/ 4853520 w 4853160"/>
                  <a:gd name="textAreaTop" fmla="*/ 0 h 4762440"/>
                  <a:gd name="textAreaBottom" fmla="*/ 4762440 h 476244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834000" y="7035840"/>
                <a:ext cx="3170520" cy="4143960"/>
              </a:xfrm>
              <a:custGeom>
                <a:avLst/>
                <a:gdLst>
                  <a:gd name="textAreaLeft" fmla="*/ 0 w 3170520"/>
                  <a:gd name="textAreaRight" fmla="*/ 3170880 w 3170520"/>
                  <a:gd name="textAreaTop" fmla="*/ 0 h 4143960"/>
                  <a:gd name="textAreaBottom" fmla="*/ 4144320 h 4143960"/>
                </a:gdLst>
                <a:ahLst/>
                <a:rect l="textAreaLeft" t="textAreaTop" r="textAreaRight" b="textAreaBottom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820000">
                <a:off x="7855920" y="10152720"/>
                <a:ext cx="4086360" cy="3902760"/>
              </a:xfrm>
              <a:custGeom>
                <a:avLst/>
                <a:gdLst>
                  <a:gd name="textAreaLeft" fmla="*/ 0 w 4086360"/>
                  <a:gd name="textAreaRight" fmla="*/ 4086720 w 4086360"/>
                  <a:gd name="textAreaTop" fmla="*/ 0 h 3902760"/>
                  <a:gd name="textAreaBottom" fmla="*/ 3903120 h 390276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263720" y="-862920"/>
                <a:ext cx="3336840" cy="3891600"/>
              </a:xfrm>
              <a:custGeom>
                <a:avLst/>
                <a:gdLst>
                  <a:gd name="textAreaLeft" fmla="*/ 0 w 3336840"/>
                  <a:gd name="textAreaRight" fmla="*/ 3337200 w 3336840"/>
                  <a:gd name="textAreaTop" fmla="*/ 0 h 3891600"/>
                  <a:gd name="textAreaBottom" fmla="*/ 3891960 h 3891600"/>
                </a:gdLst>
                <a:ahLst/>
                <a:rect l="textAreaLeft" t="textAreaTop" r="textAreaRight" b="textAreaBottom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3300000">
                <a:off x="3063960" y="-470880"/>
                <a:ext cx="4092480" cy="3903120"/>
              </a:xfrm>
              <a:custGeom>
                <a:avLst/>
                <a:gdLst>
                  <a:gd name="textAreaLeft" fmla="*/ 0 w 4092480"/>
                  <a:gd name="textAreaRight" fmla="*/ 4092840 w 4092480"/>
                  <a:gd name="textAreaTop" fmla="*/ 0 h 3903120"/>
                  <a:gd name="textAreaBottom" fmla="*/ 3903480 h 390312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21000000">
                <a:off x="7663680" y="9917280"/>
                <a:ext cx="2588400" cy="4108680"/>
              </a:xfrm>
              <a:custGeom>
                <a:avLst/>
                <a:gdLst>
                  <a:gd name="textAreaLeft" fmla="*/ 360 w 2588400"/>
                  <a:gd name="textAreaRight" fmla="*/ 2589120 w 2588400"/>
                  <a:gd name="textAreaTop" fmla="*/ 0 h 4108680"/>
                  <a:gd name="textAreaBottom" fmla="*/ 4109040 h 410868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2981160" y="6722280"/>
                <a:ext cx="4246200" cy="5120640"/>
              </a:xfrm>
              <a:custGeom>
                <a:avLst/>
                <a:gdLst>
                  <a:gd name="textAreaLeft" fmla="*/ 0 w 4246200"/>
                  <a:gd name="textAreaRight" fmla="*/ 4246560 w 4246200"/>
                  <a:gd name="textAreaTop" fmla="*/ 0 h 5120640"/>
                  <a:gd name="textAreaBottom" fmla="*/ 5121000 h 5120640"/>
                </a:gdLst>
                <a:ahLst/>
                <a:rect l="textAreaLeft" t="textAreaTop" r="textAreaRight" b="textAreaBottom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rot="6840000">
                <a:off x="3242520" y="10273680"/>
                <a:ext cx="5157000" cy="3441240"/>
              </a:xfrm>
              <a:custGeom>
                <a:avLst/>
                <a:gdLst>
                  <a:gd name="textAreaLeft" fmla="*/ 0 w 5157000"/>
                  <a:gd name="textAreaRight" fmla="*/ 5157360 w 5157000"/>
                  <a:gd name="textAreaTop" fmla="*/ 0 h 3441240"/>
                  <a:gd name="textAreaBottom" fmla="*/ 3441600 h 344124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300000">
                <a:off x="5531040" y="3348360"/>
                <a:ext cx="4089600" cy="3901320"/>
              </a:xfrm>
              <a:custGeom>
                <a:avLst/>
                <a:gdLst>
                  <a:gd name="textAreaLeft" fmla="*/ 0 w 4089600"/>
                  <a:gd name="textAreaRight" fmla="*/ 4089960 w 4089600"/>
                  <a:gd name="textAreaTop" fmla="*/ 0 h 3901320"/>
                  <a:gd name="textAreaBottom" fmla="*/ 3901680 h 390132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V="1" rot="15960000">
                <a:off x="8206920" y="248040"/>
                <a:ext cx="4086360" cy="3900960"/>
              </a:xfrm>
              <a:custGeom>
                <a:avLst/>
                <a:gdLst>
                  <a:gd name="textAreaLeft" fmla="*/ 0 w 4086360"/>
                  <a:gd name="textAreaRight" fmla="*/ 4086720 w 4086360"/>
                  <a:gd name="textAreaTop" fmla="*/ 360 h 3900960"/>
                  <a:gd name="textAreaBottom" fmla="*/ 3901680 h 390096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 rot="600000">
                <a:off x="2777400" y="1700280"/>
                <a:ext cx="2576520" cy="4122360"/>
              </a:xfrm>
              <a:custGeom>
                <a:avLst/>
                <a:gdLst>
                  <a:gd name="textAreaLeft" fmla="*/ -360 w 2576520"/>
                  <a:gd name="textAreaRight" fmla="*/ 2576520 w 2576520"/>
                  <a:gd name="textAreaTop" fmla="*/ 0 h 4122360"/>
                  <a:gd name="textAreaBottom" fmla="*/ 4122720 h 412236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190440" y="473040"/>
              <a:ext cx="8693280" cy="171360"/>
              <a:chOff x="190440" y="473040"/>
              <a:chExt cx="8693280" cy="171360"/>
            </a:xfrm>
          </p:grpSpPr>
          <p:sp>
            <p:nvSpPr>
              <p:cNvPr id="84" name=""/>
              <p:cNvSpPr/>
              <p:nvPr/>
            </p:nvSpPr>
            <p:spPr>
              <a:xfrm>
                <a:off x="190440" y="473040"/>
                <a:ext cx="8693280" cy="171360"/>
              </a:xfrm>
              <a:prstGeom prst="roundRect">
                <a:avLst>
                  <a:gd name="adj" fmla="val 50000"/>
                </a:avLst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31840" y="536400"/>
                <a:ext cx="8596080" cy="324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82440" y="382680"/>
              <a:ext cx="8693280" cy="171360"/>
              <a:chOff x="82440" y="382680"/>
              <a:chExt cx="8693280" cy="171360"/>
            </a:xfrm>
          </p:grpSpPr>
          <p:sp>
            <p:nvSpPr>
              <p:cNvPr id="87" name=""/>
              <p:cNvSpPr/>
              <p:nvPr/>
            </p:nvSpPr>
            <p:spPr>
              <a:xfrm>
                <a:off x="82440" y="382680"/>
                <a:ext cx="8693280" cy="171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25252"/>
                  </a:gs>
                  <a:gs pos="50000">
                    <a:srgbClr val="b2b2b2"/>
                  </a:gs>
                  <a:gs pos="100000">
                    <a:srgbClr val="5252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23840" y="446040"/>
                <a:ext cx="8596440" cy="324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eaeaea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>
              <a:off x="154080" y="476280"/>
              <a:ext cx="1322280" cy="1209600"/>
            </a:xfrm>
            <a:custGeom>
              <a:avLst/>
              <a:gdLst>
                <a:gd name="textAreaLeft" fmla="*/ 0 w 1322280"/>
                <a:gd name="textAreaRight" fmla="*/ 1322640 w 1322280"/>
                <a:gd name="textAreaTop" fmla="*/ 0 h 1209600"/>
                <a:gd name="textAreaBottom" fmla="*/ 1209960 h 1209600"/>
              </a:gdLst>
              <a:ahLst/>
              <a:rect l="textAreaLeft" t="textAreaTop" r="textAreaRight" b="textAreaBottom"/>
              <a:pathLst>
                <a:path w="866" h="795">
                  <a:moveTo>
                    <a:pt x="17" y="180"/>
                  </a:moveTo>
                  <a:cubicBezTo>
                    <a:pt x="49" y="413"/>
                    <a:pt x="206" y="636"/>
                    <a:pt x="284" y="720"/>
                  </a:cubicBezTo>
                  <a:cubicBezTo>
                    <a:pt x="359" y="795"/>
                    <a:pt x="422" y="771"/>
                    <a:pt x="380" y="687"/>
                  </a:cubicBezTo>
                  <a:cubicBezTo>
                    <a:pt x="284" y="378"/>
                    <a:pt x="197" y="183"/>
                    <a:pt x="647" y="249"/>
                  </a:cubicBezTo>
                  <a:cubicBezTo>
                    <a:pt x="866" y="276"/>
                    <a:pt x="791" y="175"/>
                    <a:pt x="716" y="138"/>
                  </a:cubicBezTo>
                  <a:cubicBezTo>
                    <a:pt x="575" y="63"/>
                    <a:pt x="317" y="6"/>
                    <a:pt x="182" y="0"/>
                  </a:cubicBezTo>
                  <a:cubicBezTo>
                    <a:pt x="95" y="0"/>
                    <a:pt x="0" y="32"/>
                    <a:pt x="17" y="180"/>
                  </a:cubicBezTo>
                  <a:close/>
                </a:path>
              </a:pathLst>
            </a:cu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6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216000" y="149400"/>
              <a:ext cx="1201680" cy="1117440"/>
              <a:chOff x="216000" y="149400"/>
              <a:chExt cx="1201680" cy="1117440"/>
            </a:xfrm>
          </p:grpSpPr>
          <p:sp>
            <p:nvSpPr>
              <p:cNvPr id="91" name=""/>
              <p:cNvSpPr/>
              <p:nvPr/>
            </p:nvSpPr>
            <p:spPr>
              <a:xfrm>
                <a:off x="216000" y="166680"/>
                <a:ext cx="1201680" cy="1100160"/>
              </a:xfrm>
              <a:custGeom>
                <a:avLst/>
                <a:gdLst>
                  <a:gd name="textAreaLeft" fmla="*/ 0 w 1201680"/>
                  <a:gd name="textAreaRight" fmla="*/ 1202040 w 1201680"/>
                  <a:gd name="textAreaTop" fmla="*/ 0 h 1100160"/>
                  <a:gd name="textAreaBottom" fmla="*/ 1100520 h 1100160"/>
                </a:gdLst>
                <a:ahLst/>
                <a:rect l="textAreaLeft" t="textAreaTop" r="textAreaRight" b="textAreaBottom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solidFill>
                <a:srgbClr val="f5cd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35080" y="173160"/>
                <a:ext cx="234720" cy="793800"/>
              </a:xfrm>
              <a:custGeom>
                <a:avLst/>
                <a:gdLst>
                  <a:gd name="textAreaLeft" fmla="*/ 0 w 234720"/>
                  <a:gd name="textAreaRight" fmla="*/ 235080 w 234720"/>
                  <a:gd name="textAreaTop" fmla="*/ 0 h 793800"/>
                  <a:gd name="textAreaBottom" fmla="*/ 794160 h 793800"/>
                </a:gdLst>
                <a:ahLst/>
                <a:rect l="textAreaLeft" t="textAreaTop" r="textAreaRight" b="textAreaBottom"/>
                <a:pathLst>
                  <a:path w="181" h="533">
                    <a:moveTo>
                      <a:pt x="60" y="12"/>
                    </a:moveTo>
                    <a:cubicBezTo>
                      <a:pt x="18" y="35"/>
                      <a:pt x="0" y="83"/>
                      <a:pt x="2" y="153"/>
                    </a:cubicBezTo>
                    <a:cubicBezTo>
                      <a:pt x="3" y="212"/>
                      <a:pt x="39" y="306"/>
                      <a:pt x="63" y="366"/>
                    </a:cubicBezTo>
                    <a:cubicBezTo>
                      <a:pt x="87" y="426"/>
                      <a:pt x="131" y="492"/>
                      <a:pt x="146" y="512"/>
                    </a:cubicBezTo>
                    <a:cubicBezTo>
                      <a:pt x="162" y="533"/>
                      <a:pt x="168" y="526"/>
                      <a:pt x="156" y="489"/>
                    </a:cubicBezTo>
                    <a:cubicBezTo>
                      <a:pt x="144" y="453"/>
                      <a:pt x="90" y="350"/>
                      <a:pt x="74" y="294"/>
                    </a:cubicBezTo>
                    <a:cubicBezTo>
                      <a:pt x="59" y="239"/>
                      <a:pt x="59" y="196"/>
                      <a:pt x="63" y="155"/>
                    </a:cubicBezTo>
                    <a:cubicBezTo>
                      <a:pt x="67" y="115"/>
                      <a:pt x="86" y="74"/>
                      <a:pt x="98" y="53"/>
                    </a:cubicBezTo>
                    <a:cubicBezTo>
                      <a:pt x="110" y="33"/>
                      <a:pt x="121" y="39"/>
                      <a:pt x="135" y="32"/>
                    </a:cubicBezTo>
                    <a:cubicBezTo>
                      <a:pt x="148" y="26"/>
                      <a:pt x="177" y="21"/>
                      <a:pt x="179" y="16"/>
                    </a:cubicBezTo>
                    <a:cubicBezTo>
                      <a:pt x="181" y="11"/>
                      <a:pt x="161" y="4"/>
                      <a:pt x="146" y="2"/>
                    </a:cubicBezTo>
                    <a:cubicBezTo>
                      <a:pt x="132" y="0"/>
                      <a:pt x="107" y="1"/>
                      <a:pt x="93" y="2"/>
                    </a:cubicBezTo>
                    <a:cubicBezTo>
                      <a:pt x="78" y="4"/>
                      <a:pt x="74" y="0"/>
                      <a:pt x="60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5cddf"/>
                  </a:gs>
                  <a:gs pos="100000">
                    <a:srgbClr val="b99ba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98440" y="149400"/>
                <a:ext cx="1004760" cy="257040"/>
              </a:xfrm>
              <a:custGeom>
                <a:avLst/>
                <a:gdLst>
                  <a:gd name="textAreaLeft" fmla="*/ 0 w 1004760"/>
                  <a:gd name="textAreaRight" fmla="*/ 1005120 w 100476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666" h="195">
                    <a:moveTo>
                      <a:pt x="10" y="32"/>
                    </a:moveTo>
                    <a:cubicBezTo>
                      <a:pt x="20" y="24"/>
                      <a:pt x="38" y="6"/>
                      <a:pt x="72" y="3"/>
                    </a:cubicBezTo>
                    <a:cubicBezTo>
                      <a:pt x="106" y="0"/>
                      <a:pt x="153" y="4"/>
                      <a:pt x="214" y="16"/>
                    </a:cubicBezTo>
                    <a:cubicBezTo>
                      <a:pt x="275" y="28"/>
                      <a:pt x="375" y="53"/>
                      <a:pt x="440" y="74"/>
                    </a:cubicBezTo>
                    <a:cubicBezTo>
                      <a:pt x="505" y="95"/>
                      <a:pt x="568" y="122"/>
                      <a:pt x="604" y="140"/>
                    </a:cubicBezTo>
                    <a:cubicBezTo>
                      <a:pt x="640" y="158"/>
                      <a:pt x="647" y="174"/>
                      <a:pt x="653" y="182"/>
                    </a:cubicBezTo>
                    <a:cubicBezTo>
                      <a:pt x="659" y="190"/>
                      <a:pt x="666" y="195"/>
                      <a:pt x="638" y="186"/>
                    </a:cubicBezTo>
                    <a:cubicBezTo>
                      <a:pt x="609" y="177"/>
                      <a:pt x="548" y="150"/>
                      <a:pt x="483" y="129"/>
                    </a:cubicBezTo>
                    <a:cubicBezTo>
                      <a:pt x="416" y="109"/>
                      <a:pt x="306" y="78"/>
                      <a:pt x="244" y="64"/>
                    </a:cubicBezTo>
                    <a:cubicBezTo>
                      <a:pt x="181" y="51"/>
                      <a:pt x="139" y="49"/>
                      <a:pt x="107" y="51"/>
                    </a:cubicBezTo>
                    <a:cubicBezTo>
                      <a:pt x="76" y="53"/>
                      <a:pt x="71" y="75"/>
                      <a:pt x="55" y="74"/>
                    </a:cubicBezTo>
                    <a:cubicBezTo>
                      <a:pt x="39" y="74"/>
                      <a:pt x="18" y="57"/>
                      <a:pt x="10" y="50"/>
                    </a:cubicBezTo>
                    <a:cubicBezTo>
                      <a:pt x="2" y="43"/>
                      <a:pt x="0" y="40"/>
                      <a:pt x="10" y="3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5cddf"/>
                  </a:gs>
                  <a:gs pos="100000">
                    <a:srgbClr val="b99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82480" y="460440"/>
                <a:ext cx="630360" cy="609480"/>
              </a:xfrm>
              <a:custGeom>
                <a:avLst/>
                <a:gdLst>
                  <a:gd name="textAreaLeft" fmla="*/ 0 w 630360"/>
                  <a:gd name="textAreaRight" fmla="*/ 630720 w 630360"/>
                  <a:gd name="textAreaTop" fmla="*/ 0 h 609480"/>
                  <a:gd name="textAreaBottom" fmla="*/ 609840 h 609480"/>
                </a:gdLst>
                <a:ahLst/>
                <a:rect l="textAreaLeft" t="textAreaTop" r="textAreaRight" b="textAreaBottom"/>
                <a:pathLst>
                  <a:path w="1547" h="1502">
                    <a:moveTo>
                      <a:pt x="54" y="275"/>
                    </a:moveTo>
                    <a:cubicBezTo>
                      <a:pt x="112" y="178"/>
                      <a:pt x="177" y="66"/>
                      <a:pt x="388" y="33"/>
                    </a:cubicBezTo>
                    <a:cubicBezTo>
                      <a:pt x="599" y="0"/>
                      <a:pt x="1146" y="55"/>
                      <a:pt x="1323" y="74"/>
                    </a:cubicBezTo>
                    <a:cubicBezTo>
                      <a:pt x="1500" y="93"/>
                      <a:pt x="1547" y="143"/>
                      <a:pt x="1448" y="149"/>
                    </a:cubicBezTo>
                    <a:cubicBezTo>
                      <a:pt x="1349" y="155"/>
                      <a:pt x="920" y="97"/>
                      <a:pt x="730" y="108"/>
                    </a:cubicBezTo>
                    <a:cubicBezTo>
                      <a:pt x="540" y="119"/>
                      <a:pt x="402" y="147"/>
                      <a:pt x="305" y="216"/>
                    </a:cubicBezTo>
                    <a:cubicBezTo>
                      <a:pt x="208" y="285"/>
                      <a:pt x="156" y="373"/>
                      <a:pt x="146" y="525"/>
                    </a:cubicBezTo>
                    <a:cubicBezTo>
                      <a:pt x="136" y="677"/>
                      <a:pt x="214" y="974"/>
                      <a:pt x="246" y="1126"/>
                    </a:cubicBezTo>
                    <a:cubicBezTo>
                      <a:pt x="278" y="1278"/>
                      <a:pt x="332" y="1383"/>
                      <a:pt x="338" y="1435"/>
                    </a:cubicBezTo>
                    <a:cubicBezTo>
                      <a:pt x="344" y="1487"/>
                      <a:pt x="316" y="1502"/>
                      <a:pt x="280" y="1435"/>
                    </a:cubicBezTo>
                    <a:cubicBezTo>
                      <a:pt x="244" y="1368"/>
                      <a:pt x="161" y="1170"/>
                      <a:pt x="121" y="1034"/>
                    </a:cubicBezTo>
                    <a:cubicBezTo>
                      <a:pt x="81" y="898"/>
                      <a:pt x="49" y="743"/>
                      <a:pt x="38" y="617"/>
                    </a:cubicBezTo>
                    <a:cubicBezTo>
                      <a:pt x="27" y="491"/>
                      <a:pt x="0" y="375"/>
                      <a:pt x="54" y="27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5cddf"/>
                  </a:gs>
                  <a:gs pos="50000">
                    <a:srgbClr val="fdf7fa"/>
                  </a:gs>
                  <a:gs pos="100000">
                    <a:srgbClr val="f5cdd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87440" y="379440"/>
                <a:ext cx="353880" cy="35064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350640"/>
                  <a:gd name="textAreaBottom" fmla="*/ 351000 h 350640"/>
                </a:gdLst>
                <a:ahLst/>
                <a:rect l="textAreaLeft" t="textAreaTop" r="textAreaRight" b="textAreaBottom"/>
                <a:pathLst>
                  <a:path w="921" h="912">
                    <a:moveTo>
                      <a:pt x="14" y="164"/>
                    </a:moveTo>
                    <a:cubicBezTo>
                      <a:pt x="0" y="66"/>
                      <a:pt x="67" y="0"/>
                      <a:pt x="216" y="33"/>
                    </a:cubicBezTo>
                    <a:cubicBezTo>
                      <a:pt x="419" y="54"/>
                      <a:pt x="487" y="8"/>
                      <a:pt x="871" y="217"/>
                    </a:cubicBezTo>
                    <a:cubicBezTo>
                      <a:pt x="921" y="234"/>
                      <a:pt x="692" y="228"/>
                      <a:pt x="613" y="258"/>
                    </a:cubicBezTo>
                    <a:cubicBezTo>
                      <a:pt x="534" y="288"/>
                      <a:pt x="450" y="347"/>
                      <a:pt x="396" y="400"/>
                    </a:cubicBezTo>
                    <a:cubicBezTo>
                      <a:pt x="342" y="453"/>
                      <a:pt x="309" y="502"/>
                      <a:pt x="287" y="576"/>
                    </a:cubicBezTo>
                    <a:cubicBezTo>
                      <a:pt x="265" y="650"/>
                      <a:pt x="308" y="912"/>
                      <a:pt x="262" y="843"/>
                    </a:cubicBezTo>
                    <a:cubicBezTo>
                      <a:pt x="45" y="626"/>
                      <a:pt x="59" y="295"/>
                      <a:pt x="14" y="16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ef9fb"/>
                  </a:gs>
                  <a:gs pos="100000">
                    <a:srgbClr val="f5cdd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</p:grp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128160"/>
            <a:ext cx="75675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198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6248520"/>
            <a:ext cx="1905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9" name=""/>
          <p:cNvSpPr/>
          <p:nvPr/>
        </p:nvSpPr>
        <p:spPr>
          <a:xfrm>
            <a:off x="3124080" y="6248520"/>
            <a:ext cx="28958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160"/>
            <a:ext cx="185256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3600" spc="-1" strike="noStrike">
                <a:solidFill>
                  <a:srgbClr val="333333"/>
                </a:solidFill>
                <a:latin typeface="Arial Narrow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B3B3A0-778B-4464-A239-7E6BC3B1D45B}" type="slidenum">
              <a:rPr b="0" lang="ru-RU" sz="3600" spc="-1" strike="noStrike">
                <a:solidFill>
                  <a:srgbClr val="333333"/>
                </a:solidFill>
                <a:latin typeface="Arial Narrow"/>
              </a:rPr>
              <a:t>&lt;number&gt;</a:t>
            </a:fld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-2266200" y="-8053200"/>
            <a:ext cx="61108560" cy="64180800"/>
            <a:chOff x="-2266200" y="-8053200"/>
            <a:chExt cx="61108560" cy="64180800"/>
          </a:xfrm>
        </p:grpSpPr>
        <p:grpSp>
          <p:nvGrpSpPr>
            <p:cNvPr id="138" name=""/>
            <p:cNvGrpSpPr/>
            <p:nvPr/>
          </p:nvGrpSpPr>
          <p:grpSpPr>
            <a:xfrm>
              <a:off x="3989520" y="10347840"/>
              <a:ext cx="2731320" cy="1617480"/>
              <a:chOff x="3989520" y="10347840"/>
              <a:chExt cx="2731320" cy="1617480"/>
            </a:xfrm>
          </p:grpSpPr>
          <p:sp>
            <p:nvSpPr>
              <p:cNvPr id="139" name=""/>
              <p:cNvSpPr/>
              <p:nvPr/>
            </p:nvSpPr>
            <p:spPr>
              <a:xfrm>
                <a:off x="6217200" y="11426040"/>
                <a:ext cx="122040" cy="19800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98000"/>
                  <a:gd name="textAreaBottom" fmla="*/ 198360 h 198000"/>
                </a:gdLst>
                <a:ahLst/>
                <a:rect l="textAreaLeft" t="textAreaTop" r="textAreaRight" b="textAreaBottom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995440" y="11284560"/>
                <a:ext cx="182160" cy="245880"/>
              </a:xfrm>
              <a:custGeom>
                <a:avLst/>
                <a:gdLst>
                  <a:gd name="textAreaLeft" fmla="*/ 0 w 182160"/>
                  <a:gd name="textAreaRight" fmla="*/ 182520 w 182160"/>
                  <a:gd name="textAreaTop" fmla="*/ 0 h 245880"/>
                  <a:gd name="textAreaBottom" fmla="*/ 246240 h 24588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014520" y="11447280"/>
                <a:ext cx="115560" cy="21060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210600"/>
                  <a:gd name="textAreaBottom" fmla="*/ 210960 h 210600"/>
                </a:gdLst>
                <a:ahLst/>
                <a:rect l="textAreaLeft" t="textAreaTop" r="textAreaRight" b="textAreaBottom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6075000" y="11626560"/>
                <a:ext cx="113760" cy="26208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262080"/>
                  <a:gd name="textAreaBottom" fmla="*/ 262440 h 26208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347160" y="11019240"/>
                <a:ext cx="93240" cy="21060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210600"/>
                  <a:gd name="textAreaBottom" fmla="*/ 210960 h 21060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171480" y="11105640"/>
                <a:ext cx="121680" cy="197640"/>
              </a:xfrm>
              <a:custGeom>
                <a:avLst/>
                <a:gdLst>
                  <a:gd name="textAreaLeft" fmla="*/ 0 w 121680"/>
                  <a:gd name="textAreaRight" fmla="*/ 122040 w 121680"/>
                  <a:gd name="textAreaTop" fmla="*/ 0 h 197640"/>
                  <a:gd name="textAreaBottom" fmla="*/ 198000 h 197640"/>
                </a:gdLst>
                <a:ahLst/>
                <a:rect l="textAreaLeft" t="textAreaTop" r="textAreaRight" b="textAreaBottom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3300000">
                <a:off x="5961960" y="11103480"/>
                <a:ext cx="210240" cy="145440"/>
              </a:xfrm>
              <a:custGeom>
                <a:avLst/>
                <a:gdLst>
                  <a:gd name="textAreaLeft" fmla="*/ 0 w 210240"/>
                  <a:gd name="textAreaRight" fmla="*/ 210600 w 210240"/>
                  <a:gd name="textAreaTop" fmla="*/ 0 h 145440"/>
                  <a:gd name="textAreaBottom" fmla="*/ 145800 h 1454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H="1" rot="21000000">
                <a:off x="6147000" y="11563920"/>
                <a:ext cx="93600" cy="212400"/>
              </a:xfrm>
              <a:custGeom>
                <a:avLst/>
                <a:gdLst>
                  <a:gd name="textAreaLeft" fmla="*/ 360 w 93600"/>
                  <a:gd name="textAreaRight" fmla="*/ 94320 w 93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921280" y="11433240"/>
                <a:ext cx="158400" cy="262080"/>
              </a:xfrm>
              <a:custGeom>
                <a:avLst/>
                <a:gdLst>
                  <a:gd name="textAreaLeft" fmla="*/ 0 w 158400"/>
                  <a:gd name="textAreaRight" fmla="*/ 158760 w 158400"/>
                  <a:gd name="textAreaTop" fmla="*/ 0 h 262080"/>
                  <a:gd name="textAreaBottom" fmla="*/ 262440 h 262080"/>
                </a:gdLst>
                <a:ahLst/>
                <a:rect l="textAreaLeft" t="textAreaTop" r="textAreaRight" b="textAreaBottom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 rot="16260000">
                <a:off x="6233400" y="11743200"/>
                <a:ext cx="176400" cy="117360"/>
              </a:xfrm>
              <a:custGeom>
                <a:avLst/>
                <a:gdLst>
                  <a:gd name="textAreaLeft" fmla="*/ 360 w 176400"/>
                  <a:gd name="textAreaRight" fmla="*/ 177120 w 17640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6000000">
                <a:off x="5893200" y="11684160"/>
                <a:ext cx="267480" cy="129960"/>
              </a:xfrm>
              <a:custGeom>
                <a:avLst/>
                <a:gdLst>
                  <a:gd name="textAreaLeft" fmla="*/ 0 w 267480"/>
                  <a:gd name="textAreaRight" fmla="*/ 267840 w 267480"/>
                  <a:gd name="textAreaTop" fmla="*/ 0 h 129960"/>
                  <a:gd name="textAreaBottom" fmla="*/ 130320 h 12996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6300000">
                <a:off x="6186240" y="11512080"/>
                <a:ext cx="210240" cy="147600"/>
              </a:xfrm>
              <a:custGeom>
                <a:avLst/>
                <a:gdLst>
                  <a:gd name="textAreaLeft" fmla="*/ 0 w 210240"/>
                  <a:gd name="textAreaRight" fmla="*/ 210600 w 210240"/>
                  <a:gd name="textAreaTop" fmla="*/ 0 h 147600"/>
                  <a:gd name="textAreaBottom" fmla="*/ 147960 h 14760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V="1" rot="19260000">
                <a:off x="6190200" y="11171160"/>
                <a:ext cx="113760" cy="26424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360 h 264240"/>
                  <a:gd name="textAreaBottom" fmla="*/ 264960 h 2642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 rot="600000">
                <a:off x="5914800" y="11205360"/>
                <a:ext cx="93240" cy="21240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805360" y="11336400"/>
                <a:ext cx="121680" cy="197640"/>
              </a:xfrm>
              <a:custGeom>
                <a:avLst/>
                <a:gdLst>
                  <a:gd name="textAreaLeft" fmla="*/ 0 w 121680"/>
                  <a:gd name="textAreaRight" fmla="*/ 122040 w 121680"/>
                  <a:gd name="textAreaTop" fmla="*/ 0 h 197640"/>
                  <a:gd name="textAreaBottom" fmla="*/ 198000 h 197640"/>
                </a:gdLst>
                <a:ahLst/>
                <a:rect l="textAreaLeft" t="textAreaTop" r="textAreaRight" b="textAreaBottom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585040" y="11284560"/>
                <a:ext cx="182160" cy="244440"/>
              </a:xfrm>
              <a:custGeom>
                <a:avLst/>
                <a:gdLst>
                  <a:gd name="textAreaLeft" fmla="*/ 0 w 182160"/>
                  <a:gd name="textAreaRight" fmla="*/ 182520 w 18216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592960" y="11431080"/>
                <a:ext cx="115560" cy="21240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19440000">
                <a:off x="5705280" y="11692440"/>
                <a:ext cx="114120" cy="2642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921280" y="11060640"/>
                <a:ext cx="94680" cy="21204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212040"/>
                  <a:gd name="textAreaBottom" fmla="*/ 212400 h 2120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759280" y="11100240"/>
                <a:ext cx="122040" cy="1976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97640"/>
                  <a:gd name="textAreaBottom" fmla="*/ 198000 h 197640"/>
                </a:gdLst>
                <a:ahLst/>
                <a:rect l="textAreaLeft" t="textAreaTop" r="textAreaRight" b="textAreaBottom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3300000">
                <a:off x="5502960" y="11140200"/>
                <a:ext cx="210240" cy="147240"/>
              </a:xfrm>
              <a:custGeom>
                <a:avLst/>
                <a:gdLst>
                  <a:gd name="textAreaLeft" fmla="*/ 0 w 210240"/>
                  <a:gd name="textAreaRight" fmla="*/ 210600 w 210240"/>
                  <a:gd name="textAreaTop" fmla="*/ 0 h 147240"/>
                  <a:gd name="textAreaBottom" fmla="*/ 147600 h 1472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rot="21000000">
                <a:off x="5735520" y="11563920"/>
                <a:ext cx="94680" cy="210240"/>
              </a:xfrm>
              <a:custGeom>
                <a:avLst/>
                <a:gdLst>
                  <a:gd name="textAreaLeft" fmla="*/ -360 w 94680"/>
                  <a:gd name="textAreaRight" fmla="*/ 94680 w 94680"/>
                  <a:gd name="textAreaTop" fmla="*/ 0 h 210240"/>
                  <a:gd name="textAreaBottom" fmla="*/ 210600 h 2102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559480" y="11413080"/>
                <a:ext cx="158400" cy="264240"/>
              </a:xfrm>
              <a:custGeom>
                <a:avLst/>
                <a:gdLst>
                  <a:gd name="textAreaLeft" fmla="*/ 0 w 158400"/>
                  <a:gd name="textAreaRight" fmla="*/ 158760 w 15840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60000">
                <a:off x="5819760" y="11734200"/>
                <a:ext cx="176400" cy="117360"/>
              </a:xfrm>
              <a:custGeom>
                <a:avLst/>
                <a:gdLst>
                  <a:gd name="textAreaLeft" fmla="*/ 360 w 176400"/>
                  <a:gd name="textAreaRight" fmla="*/ 177120 w 17640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5520000">
                <a:off x="5499720" y="11665080"/>
                <a:ext cx="267840" cy="128160"/>
              </a:xfrm>
              <a:custGeom>
                <a:avLst/>
                <a:gdLst>
                  <a:gd name="textAreaLeft" fmla="*/ 0 w 267840"/>
                  <a:gd name="textAreaRight" fmla="*/ 268200 w 267840"/>
                  <a:gd name="textAreaTop" fmla="*/ 0 h 128160"/>
                  <a:gd name="textAreaBottom" fmla="*/ 128520 h 12816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6300000">
                <a:off x="5748120" y="11453400"/>
                <a:ext cx="210600" cy="147240"/>
              </a:xfrm>
              <a:custGeom>
                <a:avLst/>
                <a:gdLst>
                  <a:gd name="textAreaLeft" fmla="*/ 0 w 210600"/>
                  <a:gd name="textAreaRight" fmla="*/ 210960 w 210600"/>
                  <a:gd name="textAreaTop" fmla="*/ 0 h 147240"/>
                  <a:gd name="textAreaBottom" fmla="*/ 147600 h 1472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V="1" rot="19260000">
                <a:off x="5749920" y="11091960"/>
                <a:ext cx="113760" cy="26424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360 h 264240"/>
                  <a:gd name="textAreaBottom" fmla="*/ 264960 h 2642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 rot="600000">
                <a:off x="5659200" y="11158560"/>
                <a:ext cx="95040" cy="210600"/>
              </a:xfrm>
              <a:custGeom>
                <a:avLst/>
                <a:gdLst>
                  <a:gd name="textAreaLeft" fmla="*/ 360 w 95040"/>
                  <a:gd name="textAreaRight" fmla="*/ 95760 w 95040"/>
                  <a:gd name="textAreaTop" fmla="*/ 0 h 210600"/>
                  <a:gd name="textAreaBottom" fmla="*/ 210960 h 21060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802120" y="10684800"/>
                <a:ext cx="122040" cy="1976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97640"/>
                  <a:gd name="textAreaBottom" fmla="*/ 198000 h 197640"/>
                </a:gdLst>
                <a:ahLst/>
                <a:rect l="textAreaLeft" t="textAreaTop" r="textAreaRight" b="textAreaBottom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583600" y="10542960"/>
                <a:ext cx="182160" cy="244440"/>
              </a:xfrm>
              <a:custGeom>
                <a:avLst/>
                <a:gdLst>
                  <a:gd name="textAreaLeft" fmla="*/ 0 w 182160"/>
                  <a:gd name="textAreaRight" fmla="*/ 182520 w 18216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559480" y="10774080"/>
                <a:ext cx="115560" cy="21024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210240"/>
                  <a:gd name="textAreaBottom" fmla="*/ 210600 h 210240"/>
                </a:gdLst>
                <a:ahLst/>
                <a:rect l="textAreaLeft" t="textAreaTop" r="textAreaRight" b="textAreaBottom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704200" y="10949400"/>
                <a:ext cx="113760" cy="26424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918040" y="10378440"/>
                <a:ext cx="93240" cy="2102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210240"/>
                  <a:gd name="textAreaBottom" fmla="*/ 210600 h 2102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757840" y="10415880"/>
                <a:ext cx="121680" cy="198000"/>
              </a:xfrm>
              <a:custGeom>
                <a:avLst/>
                <a:gdLst>
                  <a:gd name="textAreaLeft" fmla="*/ 0 w 121680"/>
                  <a:gd name="textAreaRight" fmla="*/ 122040 w 121680"/>
                  <a:gd name="textAreaTop" fmla="*/ 0 h 198000"/>
                  <a:gd name="textAreaBottom" fmla="*/ 198360 h 198000"/>
                </a:gdLst>
                <a:ahLst/>
                <a:rect l="textAreaLeft" t="textAreaTop" r="textAreaRight" b="textAreaBottom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3300000">
                <a:off x="5551920" y="10402200"/>
                <a:ext cx="210240" cy="147240"/>
              </a:xfrm>
              <a:custGeom>
                <a:avLst/>
                <a:gdLst>
                  <a:gd name="textAreaLeft" fmla="*/ 0 w 210240"/>
                  <a:gd name="textAreaRight" fmla="*/ 210600 w 210240"/>
                  <a:gd name="textAreaTop" fmla="*/ 0 h 147240"/>
                  <a:gd name="textAreaBottom" fmla="*/ 147600 h 1472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 rot="21000000">
                <a:off x="5733360" y="10818360"/>
                <a:ext cx="91800" cy="210600"/>
              </a:xfrm>
              <a:custGeom>
                <a:avLst/>
                <a:gdLst>
                  <a:gd name="textAreaLeft" fmla="*/ -360 w 91800"/>
                  <a:gd name="textAreaRight" fmla="*/ 91800 w 91800"/>
                  <a:gd name="textAreaTop" fmla="*/ 0 h 210600"/>
                  <a:gd name="textAreaBottom" fmla="*/ 210960 h 21060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600880" y="10711440"/>
                <a:ext cx="158400" cy="263880"/>
              </a:xfrm>
              <a:custGeom>
                <a:avLst/>
                <a:gdLst>
                  <a:gd name="textAreaLeft" fmla="*/ 0 w 158400"/>
                  <a:gd name="textAreaRight" fmla="*/ 158760 w 158400"/>
                  <a:gd name="textAreaTop" fmla="*/ 0 h 263880"/>
                  <a:gd name="textAreaBottom" fmla="*/ 264240 h 263880"/>
                </a:gdLst>
                <a:ahLst/>
                <a:rect l="textAreaLeft" t="textAreaTop" r="textAreaRight" b="textAreaBottom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 rot="16260000">
                <a:off x="5812920" y="10940040"/>
                <a:ext cx="174600" cy="117000"/>
              </a:xfrm>
              <a:custGeom>
                <a:avLst/>
                <a:gdLst>
                  <a:gd name="textAreaLeft" fmla="*/ -360 w 174600"/>
                  <a:gd name="textAreaRight" fmla="*/ 174600 w 174600"/>
                  <a:gd name="textAreaTop" fmla="*/ 0 h 117000"/>
                  <a:gd name="textAreaBottom" fmla="*/ 117360 h 11700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2400000">
                <a:off x="5532480" y="10971000"/>
                <a:ext cx="144360" cy="23004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230040"/>
                  <a:gd name="textAreaBottom" fmla="*/ 230400 h 23004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6300000">
                <a:off x="5771880" y="10769040"/>
                <a:ext cx="212040" cy="145800"/>
              </a:xfrm>
              <a:custGeom>
                <a:avLst/>
                <a:gdLst>
                  <a:gd name="textAreaLeft" fmla="*/ 0 w 212040"/>
                  <a:gd name="textAreaRight" fmla="*/ 212400 w 21204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V="1" rot="19260000">
                <a:off x="5744880" y="10404360"/>
                <a:ext cx="113760" cy="26388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-360 h 263880"/>
                  <a:gd name="textAreaBottom" fmla="*/ 263880 h 26388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 rot="600000">
                <a:off x="5556960" y="10464480"/>
                <a:ext cx="93240" cy="21060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210600"/>
                  <a:gd name="textAreaBottom" fmla="*/ 210960 h 21060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215760" y="10684800"/>
                <a:ext cx="122040" cy="1976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97640"/>
                  <a:gd name="textAreaBottom" fmla="*/ 198000 h 197640"/>
                </a:gdLst>
                <a:ahLst/>
                <a:rect l="textAreaLeft" t="textAreaTop" r="textAreaRight" b="textAreaBottom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992200" y="10542960"/>
                <a:ext cx="182160" cy="244440"/>
              </a:xfrm>
              <a:custGeom>
                <a:avLst/>
                <a:gdLst>
                  <a:gd name="textAreaLeft" fmla="*/ 0 w 182160"/>
                  <a:gd name="textAreaRight" fmla="*/ 182520 w 18216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970240" y="10774080"/>
                <a:ext cx="115200" cy="21024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210240"/>
                  <a:gd name="textAreaBottom" fmla="*/ 210600 h 210240"/>
                </a:gdLst>
                <a:ahLst/>
                <a:rect l="textAreaLeft" t="textAreaTop" r="textAreaRight" b="textAreaBottom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117840" y="10949400"/>
                <a:ext cx="113760" cy="26424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331320" y="10378440"/>
                <a:ext cx="93240" cy="2102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210240"/>
                  <a:gd name="textAreaBottom" fmla="*/ 210600 h 2102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169680" y="10415880"/>
                <a:ext cx="122040" cy="19800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98000"/>
                  <a:gd name="textAreaBottom" fmla="*/ 198360 h 198000"/>
                </a:gdLst>
                <a:ahLst/>
                <a:rect l="textAreaLeft" t="textAreaTop" r="textAreaRight" b="textAreaBottom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3300000">
                <a:off x="5911200" y="10455840"/>
                <a:ext cx="212400" cy="145800"/>
              </a:xfrm>
              <a:custGeom>
                <a:avLst/>
                <a:gdLst>
                  <a:gd name="textAreaLeft" fmla="*/ 0 w 212400"/>
                  <a:gd name="textAreaRight" fmla="*/ 212760 w 21240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 rot="21000000">
                <a:off x="3989160" y="10848960"/>
                <a:ext cx="360" cy="175680"/>
              </a:xfrm>
              <a:custGeom>
                <a:avLst/>
                <a:gdLst>
                  <a:gd name="textAreaLeft" fmla="*/ -360 w 360"/>
                  <a:gd name="textAreaRight" fmla="*/ 360 w 360"/>
                  <a:gd name="textAreaTop" fmla="*/ 0 h 175680"/>
                  <a:gd name="textAreaBottom" fmla="*/ 175680 h 17568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940000" y="10754640"/>
                <a:ext cx="158400" cy="262080"/>
              </a:xfrm>
              <a:custGeom>
                <a:avLst/>
                <a:gdLst>
                  <a:gd name="textAreaLeft" fmla="*/ 0 w 158400"/>
                  <a:gd name="textAreaRight" fmla="*/ 158760 w 158400"/>
                  <a:gd name="textAreaTop" fmla="*/ 0 h 262080"/>
                  <a:gd name="textAreaBottom" fmla="*/ 262440 h 262080"/>
                </a:gdLst>
                <a:ahLst/>
                <a:rect l="textAreaLeft" t="textAreaTop" r="textAreaRight" b="textAreaBottom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 rot="16260000">
                <a:off x="6224400" y="10940400"/>
                <a:ext cx="174600" cy="116640"/>
              </a:xfrm>
              <a:custGeom>
                <a:avLst/>
                <a:gdLst>
                  <a:gd name="textAreaLeft" fmla="*/ -360 w 174600"/>
                  <a:gd name="textAreaRight" fmla="*/ 174600 w 174600"/>
                  <a:gd name="textAreaTop" fmla="*/ 0 h 116640"/>
                  <a:gd name="textAreaBottom" fmla="*/ 117000 h 1166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2400000">
                <a:off x="5945760" y="10967040"/>
                <a:ext cx="144360" cy="23364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233640"/>
                  <a:gd name="textAreaBottom" fmla="*/ 234000 h 23364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6300000">
                <a:off x="6184440" y="10767240"/>
                <a:ext cx="213840" cy="147600"/>
              </a:xfrm>
              <a:custGeom>
                <a:avLst/>
                <a:gdLst>
                  <a:gd name="textAreaLeft" fmla="*/ 0 w 213840"/>
                  <a:gd name="textAreaRight" fmla="*/ 214200 w 213840"/>
                  <a:gd name="textAreaTop" fmla="*/ 0 h 147600"/>
                  <a:gd name="textAreaBottom" fmla="*/ 147960 h 14760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 rot="19260000">
                <a:off x="6158520" y="10407960"/>
                <a:ext cx="113760" cy="26388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-360 h 263880"/>
                  <a:gd name="textAreaBottom" fmla="*/ 263880 h 26388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 rot="600000">
                <a:off x="5921640" y="10466280"/>
                <a:ext cx="93240" cy="2102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210240"/>
                  <a:gd name="textAreaBottom" fmla="*/ 210600 h 2102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>
                <a:off x="6559560" y="10682640"/>
                <a:ext cx="121680" cy="198000"/>
              </a:xfrm>
              <a:custGeom>
                <a:avLst/>
                <a:gdLst>
                  <a:gd name="textAreaLeft" fmla="*/ 360 w 121680"/>
                  <a:gd name="textAreaRight" fmla="*/ 122400 w 121680"/>
                  <a:gd name="textAreaTop" fmla="*/ 0 h 198000"/>
                  <a:gd name="textAreaBottom" fmla="*/ 198360 h 198000"/>
                </a:gdLst>
                <a:ahLst/>
                <a:rect l="textAreaLeft" t="textAreaTop" r="textAreaRight" b="textAreaBottom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405840" y="10545120"/>
                <a:ext cx="182160" cy="244440"/>
              </a:xfrm>
              <a:custGeom>
                <a:avLst/>
                <a:gdLst>
                  <a:gd name="textAreaLeft" fmla="*/ 0 w 182160"/>
                  <a:gd name="textAreaRight" fmla="*/ 182520 w 18216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385320" y="10776240"/>
                <a:ext cx="115560" cy="21024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210240"/>
                  <a:gd name="textAreaBottom" fmla="*/ 210600 h 210240"/>
                </a:gdLst>
                <a:ahLst/>
                <a:rect l="textAreaLeft" t="textAreaTop" r="textAreaRight" b="textAreaBottom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566040" y="10931760"/>
                <a:ext cx="113760" cy="26424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513480" y="10387440"/>
                <a:ext cx="122040" cy="1976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97640"/>
                  <a:gd name="textAreaBottom" fmla="*/ 198000 h 197640"/>
                </a:gdLst>
                <a:ahLst/>
                <a:rect l="textAreaLeft" t="textAreaTop" r="textAreaRight" b="textAreaBottom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3300000">
                <a:off x="6332400" y="10422720"/>
                <a:ext cx="210600" cy="145440"/>
              </a:xfrm>
              <a:custGeom>
                <a:avLst/>
                <a:gdLst>
                  <a:gd name="textAreaLeft" fmla="*/ 0 w 210600"/>
                  <a:gd name="textAreaRight" fmla="*/ 210960 w 210600"/>
                  <a:gd name="textAreaTop" fmla="*/ 0 h 145440"/>
                  <a:gd name="textAreaBottom" fmla="*/ 145800 h 1454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 rot="21000000">
                <a:off x="6556320" y="10824480"/>
                <a:ext cx="95040" cy="210240"/>
              </a:xfrm>
              <a:custGeom>
                <a:avLst/>
                <a:gdLst>
                  <a:gd name="textAreaLeft" fmla="*/ 360 w 95040"/>
                  <a:gd name="textAreaRight" fmla="*/ 95760 w 95040"/>
                  <a:gd name="textAreaTop" fmla="*/ 0 h 210240"/>
                  <a:gd name="textAreaBottom" fmla="*/ 210600 h 2102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417000" y="10711800"/>
                <a:ext cx="158400" cy="262080"/>
              </a:xfrm>
              <a:custGeom>
                <a:avLst/>
                <a:gdLst>
                  <a:gd name="textAreaLeft" fmla="*/ 0 w 158400"/>
                  <a:gd name="textAreaRight" fmla="*/ 158760 w 158400"/>
                  <a:gd name="textAreaTop" fmla="*/ 0 h 262080"/>
                  <a:gd name="textAreaBottom" fmla="*/ 262440 h 262080"/>
                </a:gdLst>
                <a:ahLst/>
                <a:rect l="textAreaLeft" t="textAreaTop" r="textAreaRight" b="textAreaBottom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 rot="16260000">
                <a:off x="6540120" y="11552400"/>
                <a:ext cx="174600" cy="117000"/>
              </a:xfrm>
              <a:custGeom>
                <a:avLst/>
                <a:gdLst>
                  <a:gd name="textAreaLeft" fmla="*/ -360 w 174600"/>
                  <a:gd name="textAreaRight" fmla="*/ 174600 w 174600"/>
                  <a:gd name="textAreaTop" fmla="*/ 0 h 117000"/>
                  <a:gd name="textAreaBottom" fmla="*/ 117360 h 11700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rot="2400000">
                <a:off x="6381720" y="10944360"/>
                <a:ext cx="145800" cy="230040"/>
              </a:xfrm>
              <a:custGeom>
                <a:avLst/>
                <a:gdLst>
                  <a:gd name="textAreaLeft" fmla="*/ 0 w 145800"/>
                  <a:gd name="textAreaRight" fmla="*/ 146160 w 145800"/>
                  <a:gd name="textAreaTop" fmla="*/ 0 h 230040"/>
                  <a:gd name="textAreaBottom" fmla="*/ 230400 h 23004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6300000">
                <a:off x="6481080" y="10707480"/>
                <a:ext cx="210240" cy="145800"/>
              </a:xfrm>
              <a:custGeom>
                <a:avLst/>
                <a:gdLst>
                  <a:gd name="textAreaLeft" fmla="*/ 0 w 210240"/>
                  <a:gd name="textAreaRight" fmla="*/ 210600 w 21024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 rot="21000000">
                <a:off x="6570720" y="10381320"/>
                <a:ext cx="113760" cy="26280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360 h 262800"/>
                  <a:gd name="textAreaBottom" fmla="*/ 263520 h 26280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 rot="600000">
                <a:off x="6311520" y="10544760"/>
                <a:ext cx="95040" cy="210240"/>
              </a:xfrm>
              <a:custGeom>
                <a:avLst/>
                <a:gdLst>
                  <a:gd name="textAreaLeft" fmla="*/ 360 w 95040"/>
                  <a:gd name="textAreaRight" fmla="*/ 95760 w 95040"/>
                  <a:gd name="textAreaTop" fmla="*/ 0 h 210240"/>
                  <a:gd name="textAreaBottom" fmla="*/ 210600 h 2102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6540000">
                <a:off x="6516720" y="11462400"/>
                <a:ext cx="228600" cy="11088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405840" y="11284560"/>
                <a:ext cx="182160" cy="245880"/>
              </a:xfrm>
              <a:custGeom>
                <a:avLst/>
                <a:gdLst>
                  <a:gd name="textAreaLeft" fmla="*/ 0 w 182160"/>
                  <a:gd name="textAreaRight" fmla="*/ 182520 w 182160"/>
                  <a:gd name="textAreaTop" fmla="*/ 0 h 245880"/>
                  <a:gd name="textAreaBottom" fmla="*/ 246240 h 24588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385320" y="11513520"/>
                <a:ext cx="115560" cy="21240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820000">
                <a:off x="6513480" y="11707560"/>
                <a:ext cx="212400" cy="145440"/>
              </a:xfrm>
              <a:custGeom>
                <a:avLst/>
                <a:gdLst>
                  <a:gd name="textAreaLeft" fmla="*/ 0 w 212400"/>
                  <a:gd name="textAreaRight" fmla="*/ 212760 w 212400"/>
                  <a:gd name="textAreaTop" fmla="*/ 0 h 145440"/>
                  <a:gd name="textAreaBottom" fmla="*/ 145800 h 1454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518160" y="11096640"/>
                <a:ext cx="122040" cy="1976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97640"/>
                  <a:gd name="textAreaBottom" fmla="*/ 198000 h 197640"/>
                </a:gdLst>
                <a:ahLst/>
                <a:rect l="textAreaLeft" t="textAreaTop" r="textAreaRight" b="textAreaBottom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3300000">
                <a:off x="6325200" y="11139840"/>
                <a:ext cx="210240" cy="147600"/>
              </a:xfrm>
              <a:custGeom>
                <a:avLst/>
                <a:gdLst>
                  <a:gd name="textAreaLeft" fmla="*/ 0 w 210240"/>
                  <a:gd name="textAreaRight" fmla="*/ 210600 w 210240"/>
                  <a:gd name="textAreaTop" fmla="*/ 0 h 147600"/>
                  <a:gd name="textAreaBottom" fmla="*/ 147960 h 14760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rot="21000000">
                <a:off x="6530760" y="11669400"/>
                <a:ext cx="93240" cy="21240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351840" y="11499480"/>
                <a:ext cx="158400" cy="262080"/>
              </a:xfrm>
              <a:custGeom>
                <a:avLst/>
                <a:gdLst>
                  <a:gd name="textAreaLeft" fmla="*/ 0 w 158400"/>
                  <a:gd name="textAreaRight" fmla="*/ 158760 w 158400"/>
                  <a:gd name="textAreaTop" fmla="*/ 0 h 262080"/>
                  <a:gd name="textAreaBottom" fmla="*/ 262440 h 262080"/>
                </a:gdLst>
                <a:ahLst/>
                <a:rect l="textAreaLeft" t="textAreaTop" r="textAreaRight" b="textAreaBottom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6840000">
                <a:off x="6323760" y="11710080"/>
                <a:ext cx="267840" cy="128160"/>
              </a:xfrm>
              <a:custGeom>
                <a:avLst/>
                <a:gdLst>
                  <a:gd name="textAreaLeft" fmla="*/ 0 w 267840"/>
                  <a:gd name="textAreaRight" fmla="*/ 268200 w 267840"/>
                  <a:gd name="textAreaTop" fmla="*/ 0 h 128160"/>
                  <a:gd name="textAreaBottom" fmla="*/ 128520 h 128160"/>
                </a:gdLst>
                <a:ahLst/>
                <a:rect l="textAreaLeft" t="textAreaTop" r="textAreaRight" b="textAreaBottom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6300000">
                <a:off x="6418440" y="11338920"/>
                <a:ext cx="213840" cy="147240"/>
              </a:xfrm>
              <a:custGeom>
                <a:avLst/>
                <a:gdLst>
                  <a:gd name="textAreaLeft" fmla="*/ 0 w 213840"/>
                  <a:gd name="textAreaRight" fmla="*/ 214200 w 213840"/>
                  <a:gd name="textAreaTop" fmla="*/ 0 h 147240"/>
                  <a:gd name="textAreaBottom" fmla="*/ 147600 h 14724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V="1" rot="15960000">
                <a:off x="6526800" y="11178720"/>
                <a:ext cx="210600" cy="145800"/>
              </a:xfrm>
              <a:custGeom>
                <a:avLst/>
                <a:gdLst>
                  <a:gd name="textAreaLeft" fmla="*/ 0 w 210600"/>
                  <a:gd name="textAreaRight" fmla="*/ 210960 w 210600"/>
                  <a:gd name="textAreaTop" fmla="*/ -360 h 145800"/>
                  <a:gd name="textAreaBottom" fmla="*/ 145800 h 145800"/>
                </a:gdLst>
                <a:ahLst/>
                <a:rect l="textAreaLeft" t="textAreaTop" r="textAreaRight" b="textAreaBottom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 rot="600000">
                <a:off x="6343560" y="11226960"/>
                <a:ext cx="91800" cy="210240"/>
              </a:xfrm>
              <a:custGeom>
                <a:avLst/>
                <a:gdLst>
                  <a:gd name="textAreaLeft" fmla="*/ -360 w 91800"/>
                  <a:gd name="textAreaRight" fmla="*/ 91800 w 91800"/>
                  <a:gd name="textAreaTop" fmla="*/ 0 h 210240"/>
                  <a:gd name="textAreaBottom" fmla="*/ 210600 h 210240"/>
                </a:gdLst>
                <a:ahLst/>
                <a:rect l="textAreaLeft" t="textAreaTop" r="textAreaRight" b="textAreaBottom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cap="sq"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-2266200" y="-8053200"/>
              <a:ext cx="61108560" cy="64180800"/>
              <a:chOff x="-2266200" y="-8053200"/>
              <a:chExt cx="61108560" cy="64180800"/>
            </a:xfrm>
          </p:grpSpPr>
          <p:sp>
            <p:nvSpPr>
              <p:cNvPr id="221" name=""/>
              <p:cNvSpPr/>
              <p:nvPr/>
            </p:nvSpPr>
            <p:spPr>
              <a:xfrm rot="17940000">
                <a:off x="5994000" y="11345400"/>
                <a:ext cx="121320" cy="79560"/>
              </a:xfrm>
              <a:custGeom>
                <a:avLst/>
                <a:gdLst>
                  <a:gd name="textAreaLeft" fmla="*/ 0 w 121320"/>
                  <a:gd name="textAreaRight" fmla="*/ 121680 w 121320"/>
                  <a:gd name="textAreaTop" fmla="*/ 0 h 79560"/>
                  <a:gd name="textAreaBottom" fmla="*/ 79920 h 79560"/>
                </a:gdLst>
                <a:ahLst/>
                <a:rect l="textAreaLeft" t="textAreaTop" r="textAreaRight" b="textAreaBottom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grpSp>
            <p:nvGrpSpPr>
              <p:cNvPr id="222" name=""/>
              <p:cNvGrpSpPr/>
              <p:nvPr/>
            </p:nvGrpSpPr>
            <p:grpSpPr>
              <a:xfrm>
                <a:off x="6005520" y="11346120"/>
                <a:ext cx="460440" cy="2880"/>
                <a:chOff x="6005520" y="11346120"/>
                <a:chExt cx="460440" cy="288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6005520" y="11347200"/>
                  <a:ext cx="460440" cy="1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80808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36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6006960" y="11346120"/>
                  <a:ext cx="455760" cy="360"/>
                </a:xfrm>
                <a:prstGeom prst="rect">
                  <a:avLst/>
                </a:prstGeom>
                <a:solidFill>
                  <a:srgbClr val="80808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36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5999040" y="11339280"/>
                <a:ext cx="460440" cy="4680"/>
                <a:chOff x="5999040" y="11339280"/>
                <a:chExt cx="460440" cy="468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5999040" y="11340360"/>
                  <a:ext cx="460440" cy="36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525252"/>
                    </a:gs>
                    <a:gs pos="50000">
                      <a:srgbClr val="b2b2b2"/>
                    </a:gs>
                    <a:gs pos="100000">
                      <a:srgbClr val="52525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920" bIns="-43920" anchor="ctr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36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000840" y="11339280"/>
                  <a:ext cx="455400" cy="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b2b2b2"/>
                    </a:gs>
                    <a:gs pos="50000">
                      <a:srgbClr val="eaeaea"/>
                    </a:gs>
                    <a:gs pos="100000">
                      <a:srgbClr val="b2b2b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36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-2266200" y="-8053200"/>
                <a:ext cx="61108560" cy="64180800"/>
                <a:chOff x="-2266200" y="-8053200"/>
                <a:chExt cx="61108560" cy="64180800"/>
              </a:xfrm>
            </p:grpSpPr>
            <p:sp>
              <p:nvSpPr>
                <p:cNvPr id="229" name=""/>
                <p:cNvSpPr/>
                <p:nvPr/>
              </p:nvSpPr>
              <p:spPr>
                <a:xfrm rot="17940000">
                  <a:off x="3276720" y="2966400"/>
                  <a:ext cx="50022360" cy="42140880"/>
                </a:xfrm>
                <a:custGeom>
                  <a:avLst/>
                  <a:gdLst>
                    <a:gd name="textAreaLeft" fmla="*/ 0 w 50022360"/>
                    <a:gd name="textAreaRight" fmla="*/ 50022720 w 50022360"/>
                    <a:gd name="textAreaTop" fmla="*/ 0 h 42140880"/>
                    <a:gd name="textAreaBottom" fmla="*/ 42141240 h 42140880"/>
                  </a:gdLst>
                  <a:ahLst/>
                  <a:rect l="textAreaLeft" t="textAreaTop" r="textAreaRight" b="textAreaBottom"/>
                  <a:pathLst>
                    <a:path w="866" h="795">
                      <a:moveTo>
                        <a:pt x="17" y="180"/>
                      </a:moveTo>
                      <a:cubicBezTo>
                        <a:pt x="49" y="413"/>
                        <a:pt x="206" y="636"/>
                        <a:pt x="284" y="720"/>
                      </a:cubicBezTo>
                      <a:cubicBezTo>
                        <a:pt x="359" y="795"/>
                        <a:pt x="422" y="771"/>
                        <a:pt x="380" y="687"/>
                      </a:cubicBezTo>
                      <a:cubicBezTo>
                        <a:pt x="284" y="378"/>
                        <a:pt x="197" y="183"/>
                        <a:pt x="647" y="249"/>
                      </a:cubicBezTo>
                      <a:cubicBezTo>
                        <a:pt x="866" y="276"/>
                        <a:pt x="791" y="175"/>
                        <a:pt x="716" y="138"/>
                      </a:cubicBezTo>
                      <a:cubicBezTo>
                        <a:pt x="575" y="63"/>
                        <a:pt x="317" y="6"/>
                        <a:pt x="182" y="0"/>
                      </a:cubicBezTo>
                      <a:cubicBezTo>
                        <a:pt x="95" y="0"/>
                        <a:pt x="0" y="32"/>
                        <a:pt x="17" y="180"/>
                      </a:cubicBezTo>
                      <a:close/>
                    </a:path>
                  </a:pathLst>
                </a:custGeom>
                <a:solidFill>
                  <a:srgbClr val="f5cd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36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 rot="17940000">
                  <a:off x="9650520" y="21853080"/>
                  <a:ext cx="11034720" cy="30840120"/>
                </a:xfrm>
                <a:custGeom>
                  <a:avLst/>
                  <a:gdLst>
                    <a:gd name="textAreaLeft" fmla="*/ 0 w 11034720"/>
                    <a:gd name="textAreaRight" fmla="*/ 11035080 w 11034720"/>
                    <a:gd name="textAreaTop" fmla="*/ 0 h 30840120"/>
                    <a:gd name="textAreaBottom" fmla="*/ 30840480 h 30840120"/>
                  </a:gdLst>
                  <a:ahLst/>
                  <a:rect l="textAreaLeft" t="textAreaTop" r="textAreaRight" b="textAreaBottom"/>
                  <a:pathLst>
                    <a:path w="642" h="1919">
                      <a:moveTo>
                        <a:pt x="209" y="42"/>
                      </a:moveTo>
                      <a:cubicBezTo>
                        <a:pt x="59" y="125"/>
                        <a:pt x="0" y="338"/>
                        <a:pt x="1" y="551"/>
                      </a:cubicBezTo>
                      <a:cubicBezTo>
                        <a:pt x="2" y="764"/>
                        <a:pt x="132" y="1103"/>
                        <a:pt x="218" y="1319"/>
                      </a:cubicBezTo>
                      <a:cubicBezTo>
                        <a:pt x="304" y="1535"/>
                        <a:pt x="462" y="1771"/>
                        <a:pt x="518" y="1845"/>
                      </a:cubicBezTo>
                      <a:cubicBezTo>
                        <a:pt x="574" y="1919"/>
                        <a:pt x="594" y="1892"/>
                        <a:pt x="551" y="1761"/>
                      </a:cubicBezTo>
                      <a:cubicBezTo>
                        <a:pt x="508" y="1630"/>
                        <a:pt x="314" y="1260"/>
                        <a:pt x="259" y="1060"/>
                      </a:cubicBezTo>
                      <a:cubicBezTo>
                        <a:pt x="204" y="860"/>
                        <a:pt x="204" y="704"/>
                        <a:pt x="218" y="559"/>
                      </a:cubicBezTo>
                      <a:cubicBezTo>
                        <a:pt x="232" y="414"/>
                        <a:pt x="300" y="266"/>
                        <a:pt x="343" y="192"/>
                      </a:cubicBezTo>
                      <a:cubicBezTo>
                        <a:pt x="386" y="118"/>
                        <a:pt x="427" y="139"/>
                        <a:pt x="476" y="117"/>
                      </a:cubicBezTo>
                      <a:cubicBezTo>
                        <a:pt x="525" y="95"/>
                        <a:pt x="628" y="76"/>
                        <a:pt x="635" y="58"/>
                      </a:cubicBezTo>
                      <a:cubicBezTo>
                        <a:pt x="642" y="40"/>
                        <a:pt x="569" y="16"/>
                        <a:pt x="518" y="8"/>
                      </a:cubicBezTo>
                      <a:cubicBezTo>
                        <a:pt x="467" y="0"/>
                        <a:pt x="378" y="2"/>
                        <a:pt x="326" y="8"/>
                      </a:cubicBezTo>
                      <a:cubicBezTo>
                        <a:pt x="274" y="14"/>
                        <a:pt x="259" y="0"/>
                        <a:pt x="209" y="42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5cddf"/>
                    </a:gs>
                    <a:gs pos="100000">
                      <a:srgbClr val="b99ba9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36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 rot="17940000">
                  <a:off x="-7314840" y="10802880"/>
                  <a:ext cx="42395400" cy="9960840"/>
                </a:xfrm>
                <a:custGeom>
                  <a:avLst/>
                  <a:gdLst>
                    <a:gd name="textAreaLeft" fmla="*/ 0 w 42395400"/>
                    <a:gd name="textAreaRight" fmla="*/ 42395760 w 42395400"/>
                    <a:gd name="textAreaTop" fmla="*/ 0 h 9960840"/>
                    <a:gd name="textAreaBottom" fmla="*/ 9960840 h 9960840"/>
                  </a:gdLst>
                  <a:ahLst/>
                  <a:rect l="textAreaLeft" t="textAreaTop" r="textAreaRight" b="textAreaBottom"/>
                  <a:pathLst>
                    <a:path w="2411" h="630">
                      <a:moveTo>
                        <a:pt x="11" y="117"/>
                      </a:moveTo>
                      <a:cubicBezTo>
                        <a:pt x="41" y="92"/>
                        <a:pt x="124" y="20"/>
                        <a:pt x="250" y="10"/>
                      </a:cubicBezTo>
                      <a:cubicBezTo>
                        <a:pt x="375" y="0"/>
                        <a:pt x="545" y="18"/>
                        <a:pt x="765" y="58"/>
                      </a:cubicBezTo>
                      <a:cubicBezTo>
                        <a:pt x="986" y="100"/>
                        <a:pt x="1341" y="187"/>
                        <a:pt x="1574" y="256"/>
                      </a:cubicBezTo>
                      <a:cubicBezTo>
                        <a:pt x="1807" y="324"/>
                        <a:pt x="2032" y="415"/>
                        <a:pt x="2162" y="470"/>
                      </a:cubicBezTo>
                      <a:cubicBezTo>
                        <a:pt x="2293" y="525"/>
                        <a:pt x="2336" y="565"/>
                        <a:pt x="2359" y="586"/>
                      </a:cubicBezTo>
                      <a:cubicBezTo>
                        <a:pt x="2383" y="607"/>
                        <a:pt x="2411" y="630"/>
                        <a:pt x="2307" y="601"/>
                      </a:cubicBezTo>
                      <a:cubicBezTo>
                        <a:pt x="2204" y="573"/>
                        <a:pt x="1980" y="481"/>
                        <a:pt x="1741" y="415"/>
                      </a:cubicBezTo>
                      <a:cubicBezTo>
                        <a:pt x="1502" y="351"/>
                        <a:pt x="1100" y="251"/>
                        <a:pt x="874" y="212"/>
                      </a:cubicBezTo>
                      <a:cubicBezTo>
                        <a:pt x="648" y="173"/>
                        <a:pt x="495" y="169"/>
                        <a:pt x="382" y="179"/>
                      </a:cubicBezTo>
                      <a:cubicBezTo>
                        <a:pt x="269" y="189"/>
                        <a:pt x="256" y="269"/>
                        <a:pt x="198" y="270"/>
                      </a:cubicBezTo>
                      <a:cubicBezTo>
                        <a:pt x="140" y="271"/>
                        <a:pt x="62" y="212"/>
                        <a:pt x="31" y="187"/>
                      </a:cubicBezTo>
                      <a:cubicBezTo>
                        <a:pt x="0" y="162"/>
                        <a:pt x="15" y="132"/>
                        <a:pt x="11" y="11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5cddf"/>
                    </a:gs>
                    <a:gs pos="100000">
                      <a:srgbClr val="b99b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36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rot="17940000">
                  <a:off x="17745840" y="10119960"/>
                  <a:ext cx="27130680" cy="24140880"/>
                </a:xfrm>
                <a:custGeom>
                  <a:avLst/>
                  <a:gdLst>
                    <a:gd name="textAreaLeft" fmla="*/ 0 w 27130680"/>
                    <a:gd name="textAreaRight" fmla="*/ 27131040 w 27130680"/>
                    <a:gd name="textAreaTop" fmla="*/ 0 h 24140880"/>
                    <a:gd name="textAreaBottom" fmla="*/ 24141240 h 24140880"/>
                  </a:gdLst>
                  <a:ahLst/>
                  <a:rect l="textAreaLeft" t="textAreaTop" r="textAreaRight" b="textAreaBottom"/>
                  <a:pathLst>
                    <a:path w="1547" h="1502">
                      <a:moveTo>
                        <a:pt x="54" y="275"/>
                      </a:moveTo>
                      <a:cubicBezTo>
                        <a:pt x="112" y="178"/>
                        <a:pt x="177" y="66"/>
                        <a:pt x="388" y="33"/>
                      </a:cubicBezTo>
                      <a:cubicBezTo>
                        <a:pt x="599" y="0"/>
                        <a:pt x="1146" y="55"/>
                        <a:pt x="1323" y="74"/>
                      </a:cubicBezTo>
                      <a:cubicBezTo>
                        <a:pt x="1500" y="93"/>
                        <a:pt x="1547" y="143"/>
                        <a:pt x="1448" y="149"/>
                      </a:cubicBezTo>
                      <a:cubicBezTo>
                        <a:pt x="1349" y="155"/>
                        <a:pt x="920" y="97"/>
                        <a:pt x="730" y="108"/>
                      </a:cubicBezTo>
                      <a:cubicBezTo>
                        <a:pt x="540" y="119"/>
                        <a:pt x="402" y="147"/>
                        <a:pt x="305" y="216"/>
                      </a:cubicBezTo>
                      <a:cubicBezTo>
                        <a:pt x="208" y="285"/>
                        <a:pt x="156" y="373"/>
                        <a:pt x="146" y="525"/>
                      </a:cubicBezTo>
                      <a:cubicBezTo>
                        <a:pt x="136" y="677"/>
                        <a:pt x="214" y="974"/>
                        <a:pt x="246" y="1126"/>
                      </a:cubicBezTo>
                      <a:cubicBezTo>
                        <a:pt x="278" y="1278"/>
                        <a:pt x="332" y="1383"/>
                        <a:pt x="338" y="1435"/>
                      </a:cubicBezTo>
                      <a:cubicBezTo>
                        <a:pt x="344" y="1487"/>
                        <a:pt x="316" y="1502"/>
                        <a:pt x="280" y="1435"/>
                      </a:cubicBezTo>
                      <a:cubicBezTo>
                        <a:pt x="244" y="1368"/>
                        <a:pt x="161" y="1170"/>
                        <a:pt x="121" y="1034"/>
                      </a:cubicBezTo>
                      <a:cubicBezTo>
                        <a:pt x="81" y="898"/>
                        <a:pt x="49" y="743"/>
                        <a:pt x="38" y="617"/>
                      </a:cubicBezTo>
                      <a:cubicBezTo>
                        <a:pt x="27" y="491"/>
                        <a:pt x="0" y="375"/>
                        <a:pt x="54" y="27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5cddf"/>
                    </a:gs>
                    <a:gs pos="50000">
                      <a:srgbClr val="fdf7fa"/>
                    </a:gs>
                    <a:gs pos="100000">
                      <a:srgbClr val="f5cddf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36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17940000">
                  <a:off x="12260520" y="19002600"/>
                  <a:ext cx="15991200" cy="14474520"/>
                </a:xfrm>
                <a:custGeom>
                  <a:avLst/>
                  <a:gdLst>
                    <a:gd name="textAreaLeft" fmla="*/ 0 w 15991200"/>
                    <a:gd name="textAreaRight" fmla="*/ 15991560 w 15991200"/>
                    <a:gd name="textAreaTop" fmla="*/ 0 h 14474520"/>
                    <a:gd name="textAreaBottom" fmla="*/ 14474880 h 14474520"/>
                  </a:gdLst>
                  <a:ahLst/>
                  <a:rect l="textAreaLeft" t="textAreaTop" r="textAreaRight" b="textAreaBottom"/>
                  <a:pathLst>
                    <a:path w="921" h="912">
                      <a:moveTo>
                        <a:pt x="14" y="164"/>
                      </a:moveTo>
                      <a:cubicBezTo>
                        <a:pt x="0" y="66"/>
                        <a:pt x="67" y="0"/>
                        <a:pt x="216" y="33"/>
                      </a:cubicBezTo>
                      <a:cubicBezTo>
                        <a:pt x="419" y="54"/>
                        <a:pt x="487" y="8"/>
                        <a:pt x="871" y="217"/>
                      </a:cubicBezTo>
                      <a:cubicBezTo>
                        <a:pt x="921" y="234"/>
                        <a:pt x="692" y="228"/>
                        <a:pt x="613" y="258"/>
                      </a:cubicBezTo>
                      <a:cubicBezTo>
                        <a:pt x="534" y="288"/>
                        <a:pt x="450" y="347"/>
                        <a:pt x="396" y="400"/>
                      </a:cubicBezTo>
                      <a:cubicBezTo>
                        <a:pt x="342" y="453"/>
                        <a:pt x="309" y="502"/>
                        <a:pt x="287" y="576"/>
                      </a:cubicBezTo>
                      <a:cubicBezTo>
                        <a:pt x="265" y="650"/>
                        <a:pt x="308" y="912"/>
                        <a:pt x="262" y="843"/>
                      </a:cubicBezTo>
                      <a:cubicBezTo>
                        <a:pt x="45" y="626"/>
                        <a:pt x="59" y="295"/>
                        <a:pt x="14" y="16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f9fb"/>
                    </a:gs>
                    <a:gs pos="100000">
                      <a:srgbClr val="f5cdd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36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</p:grpSp>
        </p:grpSp>
      </p:grp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128160"/>
            <a:ext cx="75675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198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8525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333333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108C44B-712B-44F1-A329-A134BFE42C26}" type="slidenum">
              <a:rPr b="0" lang="ru-RU" sz="1400" spc="-1" strike="noStrike">
                <a:solidFill>
                  <a:srgbClr val="333333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755640" y="2565360"/>
            <a:ext cx="76201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Monotype Corsiva"/>
              </a:rPr>
              <a:t>СЛОЖНЫЕ ПРЕДЛОЖЕНИЯ С РАЗЛИЧНЫМИ ВИДАМИ СОЮЗНОЙ И БЕССОЮЗНОЙ СВЯЗИ.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6" name=""/>
          <p:cNvSpPr/>
          <p:nvPr/>
        </p:nvSpPr>
        <p:spPr>
          <a:xfrm>
            <a:off x="2592360" y="4680000"/>
            <a:ext cx="6288120" cy="1373760"/>
          </a:xfrm>
          <a:prstGeom prst="rect">
            <a:avLst/>
          </a:prstGeom>
          <a:solidFill>
            <a:srgbClr val="ccffff"/>
          </a:solidFill>
          <a:ln cap="sq"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Monotype Corsiva"/>
              </a:rPr>
              <a:t>Мир освещается солнцем,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Monotype Corsiva"/>
              </a:rPr>
              <a:t>А человек освещается знанием!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Monotype Corsiva"/>
              </a:rPr>
              <a:t>	</a:t>
            </a:r>
            <a:r>
              <a:rPr b="1" lang="ru-RU" sz="2800" spc="-1" strike="noStrike">
                <a:solidFill>
                  <a:srgbClr val="c00000"/>
                </a:solidFill>
                <a:latin typeface="Monotype Corsiva"/>
              </a:rPr>
              <a:t>	</a:t>
            </a:r>
            <a:r>
              <a:rPr b="1" lang="ru-RU" sz="2800" spc="-1" strike="noStrike">
                <a:solidFill>
                  <a:srgbClr val="c00000"/>
                </a:solidFill>
                <a:latin typeface="Monotype Corsiva"/>
              </a:rPr>
              <a:t>	</a:t>
            </a:r>
            <a:r>
              <a:rPr b="1" lang="ru-RU" sz="2800" spc="-1" strike="noStrike">
                <a:solidFill>
                  <a:srgbClr val="c00000"/>
                </a:solidFill>
                <a:latin typeface="Monotype Corsiva"/>
              </a:rPr>
              <a:t>	</a:t>
            </a:r>
            <a:r>
              <a:rPr b="1" lang="ru-RU" sz="2800" spc="-1" strike="noStrike">
                <a:solidFill>
                  <a:srgbClr val="c00000"/>
                </a:solidFill>
                <a:latin typeface="Monotype Corsiva"/>
              </a:rPr>
              <a:t>	</a:t>
            </a:r>
            <a:r>
              <a:rPr b="1" lang="ru-RU" sz="2800" spc="-1" strike="noStrike">
                <a:solidFill>
                  <a:srgbClr val="c00000"/>
                </a:solidFill>
                <a:latin typeface="Monotype Corsiva"/>
              </a:rPr>
              <a:t>Пословица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863640" y="57240"/>
            <a:ext cx="7200720" cy="1311120"/>
          </a:xfrm>
          <a:prstGeom prst="rect">
            <a:avLst/>
          </a:prstGeom>
          <a:solidFill>
            <a:srgbClr val="ccffff"/>
          </a:solidFill>
          <a:ln cap="sq"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Monotype Corsiva"/>
              </a:rPr>
              <a:t>Задание 3</a:t>
            </a:r>
            <a:r>
              <a:rPr b="1" lang="en-US" sz="2400" spc="-1" strike="noStrike">
                <a:solidFill>
                  <a:srgbClr val="9933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993300"/>
                </a:solidFill>
                <a:latin typeface="Monotype Corsiva"/>
              </a:rPr>
              <a:t>.</a:t>
            </a:r>
            <a:r>
              <a:rPr b="1" lang="ru-RU" sz="2400" spc="-1" strike="noStrike">
                <a:solidFill>
                  <a:srgbClr val="007572"/>
                </a:solidFill>
                <a:latin typeface="Arial Narrow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007572"/>
                </a:solidFill>
                <a:latin typeface="Arial Narrow"/>
              </a:rPr>
              <a:t> </a:t>
            </a:r>
            <a:r>
              <a:rPr b="1" i="1" lang="ru-RU" sz="2800" spc="-1" strike="noStrike">
                <a:solidFill>
                  <a:srgbClr val="c00000"/>
                </a:solidFill>
                <a:latin typeface="Monotype Corsiva"/>
              </a:rPr>
              <a:t>Определите виды связи , составьте схемы</a:t>
            </a:r>
            <a:r>
              <a:rPr b="1" lang="ru-RU" sz="2800" spc="-1" strike="noStrike">
                <a:solidFill>
                  <a:srgbClr val="c00000"/>
                </a:solidFill>
                <a:latin typeface="Monotype Corsiva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14" name=""/>
          <p:cNvSpPr/>
          <p:nvPr/>
        </p:nvSpPr>
        <p:spPr>
          <a:xfrm>
            <a:off x="647640" y="1295280"/>
            <a:ext cx="8067600" cy="6073920"/>
          </a:xfrm>
          <a:prstGeom prst="rect">
            <a:avLst/>
          </a:prstGeom>
          <a:solidFill>
            <a:srgbClr val="f5cddf"/>
          </a:solidFill>
          <a:ln cap="sq"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 Narrow"/>
              </a:rPr>
              <a:t>1. </a:t>
            </a:r>
            <a:r>
              <a:rPr b="1" lang="ru-RU" sz="2400" spc="-1" strike="noStrike">
                <a:solidFill>
                  <a:srgbClr val="002060"/>
                </a:solidFill>
                <a:latin typeface="Arial Narrow"/>
              </a:rPr>
              <a:t>У памятника сейчас же собирались дети, прохожие, и все они умолкали в ожидании музыки, потому что она утешает людей, обещает им счастье и славную жизнь. (А. Платонов)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Narrow"/>
              </a:rPr>
              <a:t>2. Мы услышали: по реке проплыла лодка, и на душе стало легко. (В. Арсеньев)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Narrow"/>
              </a:rPr>
              <a:t>3.Поставь над собой и сто учителей — они окажутся бессильными, если ты не можешь сам заставить себя.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 Narrow"/>
              </a:rPr>
              <a:t>(В Сухомлинский)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Narrow"/>
              </a:rPr>
              <a:t>4.После обеда, когда солнце находилось в зените, мы решили сделать остановку, но неожиданно наши планы изменились: слишком мало времени было у нас в запасе.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928800" y="628560"/>
            <a:ext cx="7200720" cy="884160"/>
          </a:xfrm>
          <a:prstGeom prst="rect">
            <a:avLst/>
          </a:prstGeom>
          <a:solidFill>
            <a:srgbClr val="ccffff"/>
          </a:solidFill>
          <a:ln cap="sq"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Monotype Corsiva"/>
              </a:rPr>
              <a:t>Задание 3</a:t>
            </a:r>
            <a:r>
              <a:rPr b="1" lang="en-US" sz="2400" spc="-1" strike="noStrike">
                <a:solidFill>
                  <a:srgbClr val="9933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993300"/>
                </a:solidFill>
                <a:latin typeface="Monotype Corsiva"/>
              </a:rPr>
              <a:t>.</a:t>
            </a:r>
            <a:r>
              <a:rPr b="1" lang="ru-RU" sz="2400" spc="-1" strike="noStrike">
                <a:solidFill>
                  <a:srgbClr val="007572"/>
                </a:solidFill>
                <a:latin typeface="Arial Narrow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007572"/>
                </a:solidFill>
                <a:latin typeface="Arial Narrow"/>
              </a:rPr>
              <a:t> </a:t>
            </a:r>
            <a:r>
              <a:rPr b="1" i="1" lang="ru-RU" sz="2800" spc="-1" strike="noStrike">
                <a:solidFill>
                  <a:srgbClr val="c00000"/>
                </a:solidFill>
                <a:latin typeface="Monotype Corsiva"/>
              </a:rPr>
              <a:t>Ответы.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16" name=""/>
          <p:cNvSpPr/>
          <p:nvPr/>
        </p:nvSpPr>
        <p:spPr>
          <a:xfrm>
            <a:off x="685800" y="1714680"/>
            <a:ext cx="8029440" cy="4714560"/>
          </a:xfrm>
          <a:prstGeom prst="rect">
            <a:avLst/>
          </a:prstGeom>
          <a:solidFill>
            <a:srgbClr val="f5cddf"/>
          </a:solidFill>
          <a:ln cap="sq"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57200" indent="-45576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Narrow"/>
              </a:rPr>
              <a:t>У памятника сейчас же собирались дети, прохожие, и все они умолкали в ожидании музыки, потому что она утешает людей, обещает им счастье и славную жизнь. (А. Платонов)</a:t>
            </a:r>
            <a:r>
              <a:rPr b="0" lang="ru-RU" sz="2400" spc="-1" strike="noStrike">
                <a:solidFill>
                  <a:srgbClr val="333333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marL="457200" indent="-45576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 Narrow"/>
              </a:rPr>
              <a:t>  </a:t>
            </a:r>
            <a:r>
              <a:rPr b="1" i="1" lang="ru-RU" sz="2400" spc="-1" strike="noStrike">
                <a:solidFill>
                  <a:srgbClr val="ff0000"/>
                </a:solidFill>
                <a:latin typeface="Arial Narrow"/>
              </a:rPr>
              <a:t>-</a:t>
            </a:r>
            <a:r>
              <a:rPr b="1" i="1" lang="ru-RU" sz="2400" spc="-1" strike="noStrike">
                <a:solidFill>
                  <a:srgbClr val="000099"/>
                </a:solidFill>
                <a:latin typeface="Arial Narrow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Arial Narrow"/>
              </a:rPr>
              <a:t>Сочинительная и подчинительная: </a:t>
            </a:r>
            <a:r>
              <a:rPr b="1" lang="ru-RU" sz="2400" spc="-1" strike="noStrike">
                <a:solidFill>
                  <a:srgbClr val="ff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marL="457200" indent="-45576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Narrow"/>
              </a:rPr>
              <a:t>[     ], и [    ], потому что (     )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marL="457200" indent="-45576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marL="457200" indent="-45576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Narrow"/>
              </a:rPr>
              <a:t>2. Мы услышали: по реке проплыла лодка, и на душе стало легко. (В. Арсеньев)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marL="457200" indent="-45576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 Narrow"/>
              </a:rPr>
              <a:t>  </a:t>
            </a:r>
            <a:r>
              <a:rPr b="0" lang="ru-RU" sz="24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 Narrow"/>
              </a:rPr>
              <a:t>-</a:t>
            </a:r>
            <a:r>
              <a:rPr b="0" lang="ru-RU" sz="2400" spc="-1" strike="noStrike">
                <a:solidFill>
                  <a:srgbClr val="333333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 Narrow"/>
              </a:rPr>
              <a:t>Бессоюзная и сочинительная</a:t>
            </a:r>
            <a:r>
              <a:rPr b="1" i="1" lang="ru-RU" sz="2400" spc="-1" strike="noStrike">
                <a:solidFill>
                  <a:srgbClr val="ff0000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marL="457200" indent="-45576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Narrow"/>
              </a:rPr>
              <a:t>[     ]  :  [     ], и [     ]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marL="457200" indent="-455760"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928800" y="628560"/>
            <a:ext cx="7200720" cy="884160"/>
          </a:xfrm>
          <a:prstGeom prst="rect">
            <a:avLst/>
          </a:prstGeom>
          <a:solidFill>
            <a:srgbClr val="ccffff"/>
          </a:solidFill>
          <a:ln cap="sq"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Monotype Corsiva"/>
              </a:rPr>
              <a:t>Задание 3</a:t>
            </a:r>
            <a:r>
              <a:rPr b="1" lang="en-US" sz="2400" spc="-1" strike="noStrike">
                <a:solidFill>
                  <a:srgbClr val="9933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993300"/>
                </a:solidFill>
                <a:latin typeface="Monotype Corsiva"/>
              </a:rPr>
              <a:t>.</a:t>
            </a:r>
            <a:r>
              <a:rPr b="1" lang="ru-RU" sz="2400" spc="-1" strike="noStrike">
                <a:solidFill>
                  <a:srgbClr val="007572"/>
                </a:solidFill>
                <a:latin typeface="Arial Narrow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007572"/>
                </a:solidFill>
                <a:latin typeface="Arial Narrow"/>
              </a:rPr>
              <a:t> </a:t>
            </a:r>
            <a:r>
              <a:rPr b="1" i="1" lang="ru-RU" sz="2800" spc="-1" strike="noStrike">
                <a:solidFill>
                  <a:srgbClr val="c00000"/>
                </a:solidFill>
                <a:latin typeface="Monotype Corsiva"/>
              </a:rPr>
              <a:t>Ответы.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1714680"/>
            <a:ext cx="8029440" cy="4922640"/>
          </a:xfrm>
          <a:prstGeom prst="rect">
            <a:avLst/>
          </a:prstGeom>
          <a:solidFill>
            <a:srgbClr val="f5cddf"/>
          </a:solidFill>
          <a:ln cap="sq"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Narrow"/>
              </a:rPr>
              <a:t>3.Поставь над собой и сто учителей — они окажутся бессильными, если ты не можешь сам заставить себя.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 Narrow"/>
              </a:rPr>
              <a:t>(В Сухомлинский)</a:t>
            </a:r>
            <a:r>
              <a:rPr b="0" i="1" lang="ru-RU" sz="2400" spc="-1" strike="noStrike">
                <a:solidFill>
                  <a:srgbClr val="333333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 Narrow"/>
              </a:rPr>
              <a:t>- Бессоюзная и подчинительная: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Narrow"/>
              </a:rPr>
              <a:t>[     ] - [     ], если(      )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Narrow"/>
              </a:rPr>
              <a:t>4.После обеда, когда солнце находилось в зените, мы решили сделать остановку, но неожиданно наши планы изменились: слишком мало времени было у нас в запасе.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 Narrow"/>
              </a:rPr>
              <a:t>-</a:t>
            </a:r>
            <a:r>
              <a:rPr b="1" lang="ru-RU" sz="24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Arial Narrow"/>
              </a:rPr>
              <a:t>Сочинительная,подчинительная, бессоюзная: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Narrow"/>
              </a:rPr>
              <a:t>[   , ( когда...    ),     ], но [     ] : [     ]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928800" y="628560"/>
            <a:ext cx="7200720" cy="884160"/>
          </a:xfrm>
          <a:prstGeom prst="rect">
            <a:avLst/>
          </a:prstGeom>
          <a:solidFill>
            <a:srgbClr val="ccffff"/>
          </a:solidFill>
          <a:ln cap="sq"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Monotype Corsiva"/>
              </a:rPr>
              <a:t>Задание 4.</a:t>
            </a:r>
            <a:r>
              <a:rPr b="1" lang="ru-RU" sz="2400" spc="-1" strike="noStrike">
                <a:solidFill>
                  <a:srgbClr val="007572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993300"/>
                </a:solidFill>
                <a:latin typeface="Monotype Corsiva"/>
              </a:rPr>
              <a:t>Работа в парах.</a:t>
            </a:r>
            <a:br>
              <a:rPr sz="2800"/>
            </a:br>
            <a:r>
              <a:rPr b="1" lang="ru-RU" sz="2800" spc="-1" strike="noStrike">
                <a:solidFill>
                  <a:srgbClr val="993300"/>
                </a:solidFill>
                <a:latin typeface="Monotype Corsiva"/>
              </a:rPr>
              <a:t>Собери предложение</a:t>
            </a:r>
            <a:r>
              <a:rPr b="1" lang="ru-RU" sz="2800" spc="-1" strike="noStrike">
                <a:solidFill>
                  <a:srgbClr val="007572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1714680"/>
            <a:ext cx="8029440" cy="4714560"/>
          </a:xfrm>
          <a:prstGeom prst="rect">
            <a:avLst/>
          </a:prstGeom>
          <a:solidFill>
            <a:srgbClr val="f5cddf"/>
          </a:solidFill>
          <a:ln cap="sq"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90520" indent="-290520" algn="just">
              <a:lnSpc>
                <a:spcPct val="100000"/>
              </a:lnSpc>
              <a:spcBef>
                <a:spcPts val="901"/>
              </a:spcBef>
              <a:buClr>
                <a:srgbClr val="002060"/>
              </a:buClr>
              <a:buFont typeface="Monotype Corsiva"/>
              <a:buChar char="•"/>
              <a:tabLst>
                <a:tab algn="l" pos="290520"/>
                <a:tab algn="l" pos="738360"/>
                <a:tab algn="l" pos="1187280"/>
                <a:tab algn="l" pos="1636560"/>
                <a:tab algn="l" pos="2085840"/>
                <a:tab algn="l" pos="2535120"/>
                <a:tab algn="l" pos="2984400"/>
                <a:tab algn="l" pos="3433680"/>
                <a:tab algn="l" pos="3882960"/>
                <a:tab algn="l" pos="4332240"/>
                <a:tab algn="l" pos="4781520"/>
                <a:tab algn="l" pos="5230800"/>
                <a:tab algn="l" pos="5680080"/>
                <a:tab algn="l" pos="6129360"/>
                <a:tab algn="l" pos="6578640"/>
                <a:tab algn="l" pos="7027920"/>
                <a:tab algn="l" pos="7477200"/>
                <a:tab algn="l" pos="7926480"/>
                <a:tab algn="l" pos="8375760"/>
                <a:tab algn="l" pos="8825040"/>
                <a:tab algn="l" pos="9274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Monotype Corsiva"/>
              </a:rPr>
              <a:t>Жизнь – пример начать как человек отрешиться он жить только по сердца наносной Пришвин того от всего веление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  <a:p>
            <a:pPr marL="290520" indent="-290520" algn="ctr">
              <a:lnSpc>
                <a:spcPct val="100000"/>
              </a:lnSpc>
              <a:tabLst>
                <a:tab algn="l" pos="0"/>
                <a:tab algn="l" pos="290520"/>
                <a:tab algn="l" pos="738360"/>
                <a:tab algn="l" pos="1187280"/>
                <a:tab algn="l" pos="1636560"/>
                <a:tab algn="l" pos="2085840"/>
                <a:tab algn="l" pos="2535120"/>
                <a:tab algn="l" pos="2984400"/>
                <a:tab algn="l" pos="3433680"/>
                <a:tab algn="l" pos="3882960"/>
                <a:tab algn="l" pos="4332240"/>
                <a:tab algn="l" pos="4781520"/>
                <a:tab algn="l" pos="5230800"/>
                <a:tab algn="l" pos="5680080"/>
                <a:tab algn="l" pos="6129360"/>
                <a:tab algn="l" pos="6578640"/>
                <a:tab algn="l" pos="7027920"/>
                <a:tab algn="l" pos="7477200"/>
                <a:tab algn="l" pos="7926480"/>
                <a:tab algn="l" pos="8375760"/>
                <a:tab algn="l" pos="8825040"/>
                <a:tab algn="l" pos="9274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 Narrow"/>
              </a:rPr>
              <a:t>[</a:t>
            </a:r>
            <a:r>
              <a:rPr b="1" lang="en-US" sz="5400" spc="-1" strike="noStrike">
                <a:solidFill>
                  <a:srgbClr val="ff0000"/>
                </a:solidFill>
                <a:latin typeface="Arial Narrow"/>
              </a:rPr>
              <a:t>	</a:t>
            </a:r>
            <a:r>
              <a:rPr b="1" lang="en-US" sz="5400" spc="-1" strike="noStrike">
                <a:solidFill>
                  <a:srgbClr val="ff0000"/>
                </a:solidFill>
                <a:latin typeface="Arial Narrow"/>
              </a:rPr>
              <a:t>] (</a:t>
            </a:r>
            <a:r>
              <a:rPr b="1" lang="en-US" sz="5400" spc="-1" strike="noStrike">
                <a:solidFill>
                  <a:srgbClr val="ff0000"/>
                </a:solidFill>
                <a:latin typeface="Arial Narrow"/>
              </a:rPr>
              <a:t>	</a:t>
            </a:r>
            <a:r>
              <a:rPr b="1" lang="en-US" sz="5400" spc="-1" strike="noStrike">
                <a:solidFill>
                  <a:srgbClr val="ff0000"/>
                </a:solidFill>
                <a:latin typeface="Arial Narrow"/>
              </a:rPr>
              <a:t>) </a:t>
            </a:r>
            <a:r>
              <a:rPr b="1" lang="ru-RU" sz="5400" spc="-1" strike="noStrike">
                <a:solidFill>
                  <a:srgbClr val="ff0000"/>
                </a:solidFill>
                <a:latin typeface="Arial Narrow"/>
              </a:rPr>
              <a:t>: </a:t>
            </a:r>
            <a:r>
              <a:rPr b="1" lang="en-US" sz="5400" spc="-1" strike="noStrike">
                <a:solidFill>
                  <a:srgbClr val="ff0000"/>
                </a:solidFill>
                <a:latin typeface="Arial Narrow"/>
              </a:rPr>
              <a:t>[    ]</a:t>
            </a:r>
            <a:endParaRPr b="0" lang="en-US" sz="5400" spc="-1" strike="noStrike">
              <a:solidFill>
                <a:srgbClr val="333333"/>
              </a:solidFill>
              <a:latin typeface="Arial Narrow"/>
            </a:endParaRPr>
          </a:p>
          <a:p>
            <a:pPr marL="290520" indent="-290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90520"/>
                <a:tab algn="l" pos="738360"/>
                <a:tab algn="l" pos="1187280"/>
                <a:tab algn="l" pos="1636560"/>
                <a:tab algn="l" pos="2085840"/>
                <a:tab algn="l" pos="2535120"/>
                <a:tab algn="l" pos="2984400"/>
                <a:tab algn="l" pos="3433680"/>
                <a:tab algn="l" pos="3882960"/>
                <a:tab algn="l" pos="4332240"/>
                <a:tab algn="l" pos="4781520"/>
                <a:tab algn="l" pos="5230800"/>
                <a:tab algn="l" pos="5680080"/>
                <a:tab algn="l" pos="6129360"/>
                <a:tab algn="l" pos="6578640"/>
                <a:tab algn="l" pos="7027920"/>
                <a:tab algn="l" pos="7477200"/>
                <a:tab algn="l" pos="7926480"/>
                <a:tab algn="l" pos="8375760"/>
                <a:tab algn="l" pos="8825040"/>
                <a:tab algn="l" pos="92743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290520" indent="-290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90520"/>
                <a:tab algn="l" pos="738360"/>
                <a:tab algn="l" pos="1187280"/>
                <a:tab algn="l" pos="1636560"/>
                <a:tab algn="l" pos="2085840"/>
                <a:tab algn="l" pos="2535120"/>
                <a:tab algn="l" pos="2984400"/>
                <a:tab algn="l" pos="3433680"/>
                <a:tab algn="l" pos="3882960"/>
                <a:tab algn="l" pos="4332240"/>
                <a:tab algn="l" pos="4781520"/>
                <a:tab algn="l" pos="5230800"/>
                <a:tab algn="l" pos="5680080"/>
                <a:tab algn="l" pos="6129360"/>
                <a:tab algn="l" pos="6578640"/>
                <a:tab algn="l" pos="7027920"/>
                <a:tab algn="l" pos="7477200"/>
                <a:tab algn="l" pos="7926480"/>
                <a:tab algn="l" pos="8375760"/>
                <a:tab algn="l" pos="8825040"/>
                <a:tab algn="l" pos="92743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290520" indent="-290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90520"/>
                <a:tab algn="l" pos="738360"/>
                <a:tab algn="l" pos="1187280"/>
                <a:tab algn="l" pos="1636560"/>
                <a:tab algn="l" pos="2085840"/>
                <a:tab algn="l" pos="2535120"/>
                <a:tab algn="l" pos="2984400"/>
                <a:tab algn="l" pos="3433680"/>
                <a:tab algn="l" pos="3882960"/>
                <a:tab algn="l" pos="4332240"/>
                <a:tab algn="l" pos="4781520"/>
                <a:tab algn="l" pos="5230800"/>
                <a:tab algn="l" pos="5680080"/>
                <a:tab algn="l" pos="6129360"/>
                <a:tab algn="l" pos="6578640"/>
                <a:tab algn="l" pos="7027920"/>
                <a:tab algn="l" pos="7477200"/>
                <a:tab algn="l" pos="7926480"/>
                <a:tab algn="l" pos="8375760"/>
                <a:tab algn="l" pos="8825040"/>
                <a:tab algn="l" pos="92743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928800" y="628560"/>
            <a:ext cx="7200720" cy="884160"/>
          </a:xfrm>
          <a:prstGeom prst="rect">
            <a:avLst/>
          </a:prstGeom>
          <a:solidFill>
            <a:srgbClr val="ccffff"/>
          </a:solidFill>
          <a:ln cap="sq"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Monotype Corsiva"/>
              </a:rPr>
              <a:t>Задание 4.</a:t>
            </a:r>
            <a:r>
              <a:rPr b="1" lang="ru-RU" sz="2400" spc="-1" strike="noStrike">
                <a:solidFill>
                  <a:srgbClr val="007572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993300"/>
                </a:solidFill>
                <a:latin typeface="Monotype Corsiva"/>
              </a:rPr>
              <a:t>Работа в парах.</a:t>
            </a:r>
            <a:br>
              <a:rPr sz="2800"/>
            </a:br>
            <a:r>
              <a:rPr b="1" lang="ru-RU" sz="2800" spc="-1" strike="noStrike">
                <a:solidFill>
                  <a:srgbClr val="993300"/>
                </a:solidFill>
                <a:latin typeface="Monotype Corsiva"/>
              </a:rPr>
              <a:t>Собери предложение</a:t>
            </a:r>
            <a:r>
              <a:rPr b="1" lang="ru-RU" sz="2800" spc="-1" strike="noStrike">
                <a:solidFill>
                  <a:srgbClr val="c00000"/>
                </a:solidFill>
                <a:latin typeface="Arial Narrow"/>
              </a:rPr>
              <a:t>.</a:t>
            </a:r>
            <a:r>
              <a:rPr b="1" lang="ru-RU" sz="2800" spc="-1" strike="noStrike">
                <a:solidFill>
                  <a:srgbClr val="007572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Monotype Corsiva"/>
              </a:rPr>
              <a:t>Ответы.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22" name=""/>
          <p:cNvSpPr/>
          <p:nvPr/>
        </p:nvSpPr>
        <p:spPr>
          <a:xfrm>
            <a:off x="685800" y="1714680"/>
            <a:ext cx="8029440" cy="4916160"/>
          </a:xfrm>
          <a:prstGeom prst="rect">
            <a:avLst/>
          </a:prstGeom>
          <a:solidFill>
            <a:srgbClr val="f5cddf"/>
          </a:solidFill>
          <a:ln cap="sq"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 Narrow"/>
              </a:rPr>
              <a:t>[</a:t>
            </a:r>
            <a:r>
              <a:rPr b="1" lang="en-US" sz="5400" spc="-1" strike="noStrike">
                <a:solidFill>
                  <a:srgbClr val="ff0000"/>
                </a:solidFill>
                <a:latin typeface="Arial Narrow"/>
              </a:rPr>
              <a:t>	</a:t>
            </a:r>
            <a:r>
              <a:rPr b="1" lang="en-US" sz="5400" spc="-1" strike="noStrike">
                <a:solidFill>
                  <a:srgbClr val="ff0000"/>
                </a:solidFill>
                <a:latin typeface="Arial Narrow"/>
              </a:rPr>
              <a:t>],как (</a:t>
            </a:r>
            <a:r>
              <a:rPr b="1" lang="en-US" sz="5400" spc="-1" strike="noStrike">
                <a:solidFill>
                  <a:srgbClr val="ff0000"/>
                </a:solidFill>
                <a:latin typeface="Arial Narrow"/>
              </a:rPr>
              <a:t>	</a:t>
            </a:r>
            <a:r>
              <a:rPr b="1" lang="en-US" sz="5400" spc="-1" strike="noStrike">
                <a:solidFill>
                  <a:srgbClr val="ff0000"/>
                </a:solidFill>
                <a:latin typeface="Arial Narrow"/>
              </a:rPr>
              <a:t>) </a:t>
            </a:r>
            <a:r>
              <a:rPr b="1" lang="ru-RU" sz="5400" spc="-1" strike="noStrike">
                <a:solidFill>
                  <a:srgbClr val="ff0000"/>
                </a:solidFill>
                <a:latin typeface="Arial Narrow"/>
              </a:rPr>
              <a:t>: </a:t>
            </a:r>
            <a:r>
              <a:rPr b="1" lang="en-US" sz="5400" spc="-1" strike="noStrike">
                <a:solidFill>
                  <a:srgbClr val="ff0000"/>
                </a:solidFill>
                <a:latin typeface="Arial Narrow"/>
              </a:rPr>
              <a:t>[    ]</a:t>
            </a:r>
            <a:endParaRPr b="0" lang="en-US" sz="5400" spc="-1" strike="noStrike">
              <a:solidFill>
                <a:srgbClr val="333333"/>
              </a:solidFill>
              <a:latin typeface="Arial Narrow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1920"/>
                <a:tab algn="l" pos="10779120"/>
                <a:tab algn="l" pos="10780560"/>
                <a:tab algn="l" pos="10782360"/>
              </a:tabLst>
            </a:pP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1920"/>
                <a:tab algn="l" pos="10779120"/>
                <a:tab algn="l" pos="10780560"/>
                <a:tab algn="l" pos="10782360"/>
              </a:tabLst>
            </a:pP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Monotype Corsiva"/>
              </a:rPr>
              <a:t>Жизнь Пришвина – пример того, как человек отрешился от всего наносного: он начал жить только по велению сердца.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1920"/>
                <a:tab algn="l" pos="10779120"/>
                <a:tab algn="l" pos="10780560"/>
                <a:tab algn="l" pos="1078236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23" name=""/>
          <p:cNvSpPr/>
          <p:nvPr/>
        </p:nvSpPr>
        <p:spPr>
          <a:xfrm>
            <a:off x="-20880" y="90360"/>
            <a:ext cx="918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Segoe UI"/>
                <a:ea typeface="Times New Roman"/>
              </a:rPr>
              <a:t>Жизнь Пришвина </a:t>
            </a:r>
            <a:r>
              <a:rPr b="0" lang="ru-RU" sz="1200" spc="-1" strike="noStrike">
                <a:solidFill>
                  <a:srgbClr val="333333"/>
                </a:solidFill>
                <a:latin typeface="Arial Narrow"/>
                <a:ea typeface="Times New Roman"/>
              </a:rPr>
              <a:t>–</a:t>
            </a:r>
            <a:r>
              <a:rPr b="0" lang="ru-RU" sz="1200" spc="-1" strike="noStrike">
                <a:solidFill>
                  <a:srgbClr val="333333"/>
                </a:solidFill>
                <a:latin typeface="Segoe UI"/>
                <a:ea typeface="Times New Roman"/>
              </a:rPr>
              <a:t> пример того, как человек отрешился от всего наносного</a:t>
            </a:r>
            <a:r>
              <a:rPr b="0" lang="ru-RU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r>
              <a:rPr b="0" lang="ru-RU" sz="1200" spc="-1" strike="noStrike">
                <a:solidFill>
                  <a:srgbClr val="333333"/>
                </a:solidFill>
                <a:latin typeface="Segoe UI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он</a:t>
            </a:r>
            <a:r>
              <a:rPr b="0" lang="ru-RU" sz="1200" spc="-1" strike="noStrike">
                <a:solidFill>
                  <a:srgbClr val="333333"/>
                </a:solidFill>
                <a:latin typeface="Segoe UI"/>
                <a:ea typeface="Times New Roman"/>
              </a:rPr>
              <a:t> начал жить только по велению сердца</a:t>
            </a:r>
            <a:r>
              <a:rPr b="0" lang="ru-RU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838080" y="609480"/>
            <a:ext cx="7620120" cy="1143000"/>
          </a:xfrm>
          <a:prstGeom prst="rect">
            <a:avLst/>
          </a:prstGeom>
          <a:solidFill>
            <a:srgbClr val="ccffff"/>
          </a:solidFill>
          <a:ln cap="sq"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Monotype Corsiva"/>
              </a:rPr>
              <a:t>Спасибо всем!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1908000" y="2133720"/>
            <a:ext cx="4338720" cy="3336840"/>
            <a:chOff x="1908000" y="2133720"/>
            <a:chExt cx="4338720" cy="3336840"/>
          </a:xfrm>
        </p:grpSpPr>
        <p:pic>
          <p:nvPicPr>
            <p:cNvPr id="326" name="" descr=""/>
            <p:cNvPicPr/>
            <p:nvPr/>
          </p:nvPicPr>
          <p:blipFill>
            <a:blip r:embed="rId1"/>
            <a:stretch/>
          </p:blipFill>
          <p:spPr>
            <a:xfrm>
              <a:off x="1908000" y="2133720"/>
              <a:ext cx="4338720" cy="33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1908000" y="2133720"/>
              <a:ext cx="4338720" cy="333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6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</p:grp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2050920" y="609480"/>
            <a:ext cx="381636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7572"/>
                </a:solidFill>
                <a:latin typeface="Monotype Corsiva"/>
              </a:rPr>
              <a:t>Цели урока: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8" name=""/>
          <p:cNvSpPr/>
          <p:nvPr/>
        </p:nvSpPr>
        <p:spPr>
          <a:xfrm>
            <a:off x="685800" y="1981080"/>
            <a:ext cx="7199280" cy="4494240"/>
          </a:xfrm>
          <a:prstGeom prst="rect">
            <a:avLst/>
          </a:prstGeom>
          <a:noFill/>
          <a:ln cap="sq" w="57240">
            <a:solidFill>
              <a:srgbClr val="0075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93760" indent="-290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93760"/>
                <a:tab algn="l" pos="741240"/>
                <a:tab algn="l" pos="1190520"/>
                <a:tab algn="l" pos="1639800"/>
                <a:tab algn="l" pos="2089080"/>
                <a:tab algn="l" pos="2538360"/>
                <a:tab algn="l" pos="2987640"/>
                <a:tab algn="l" pos="3436920"/>
                <a:tab algn="l" pos="3886200"/>
                <a:tab algn="l" pos="4335480"/>
                <a:tab algn="l" pos="4784760"/>
                <a:tab algn="l" pos="5234040"/>
                <a:tab algn="l" pos="5683320"/>
                <a:tab algn="l" pos="6132600"/>
                <a:tab algn="l" pos="6581880"/>
                <a:tab algn="l" pos="7031160"/>
                <a:tab algn="l" pos="7480440"/>
                <a:tab algn="l" pos="7929720"/>
                <a:tab algn="l" pos="8379000"/>
                <a:tab algn="l" pos="8827920"/>
                <a:tab algn="l" pos="9277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Monotype Corsiva"/>
              </a:rPr>
              <a:t>Систематизировать знания по теме «Сложное предложение»;                                              Проверить умение различать предложения по структуре и способам связи;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marL="293760" indent="-290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93760"/>
                <a:tab algn="l" pos="741240"/>
                <a:tab algn="l" pos="1190520"/>
                <a:tab algn="l" pos="1639800"/>
                <a:tab algn="l" pos="2089080"/>
                <a:tab algn="l" pos="2538360"/>
                <a:tab algn="l" pos="2987640"/>
                <a:tab algn="l" pos="3436920"/>
                <a:tab algn="l" pos="3886200"/>
                <a:tab algn="l" pos="4335480"/>
                <a:tab algn="l" pos="4784760"/>
                <a:tab algn="l" pos="5234040"/>
                <a:tab algn="l" pos="5683320"/>
                <a:tab algn="l" pos="6132600"/>
                <a:tab algn="l" pos="6581880"/>
                <a:tab algn="l" pos="7031160"/>
                <a:tab algn="l" pos="7480440"/>
                <a:tab algn="l" pos="7929720"/>
                <a:tab algn="l" pos="8379000"/>
                <a:tab algn="l" pos="8827920"/>
                <a:tab algn="l" pos="9277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Monotype Corsiva"/>
              </a:rPr>
              <a:t>Проверить умение объяснять постановку знаков препинания;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marL="293760" indent="-290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93760"/>
                <a:tab algn="l" pos="741240"/>
                <a:tab algn="l" pos="1190520"/>
                <a:tab algn="l" pos="1639800"/>
                <a:tab algn="l" pos="2089080"/>
                <a:tab algn="l" pos="2538360"/>
                <a:tab algn="l" pos="2987640"/>
                <a:tab algn="l" pos="3436920"/>
                <a:tab algn="l" pos="3886200"/>
                <a:tab algn="l" pos="4335480"/>
                <a:tab algn="l" pos="4784760"/>
                <a:tab algn="l" pos="5234040"/>
                <a:tab algn="l" pos="5683320"/>
                <a:tab algn="l" pos="6132600"/>
                <a:tab algn="l" pos="6581880"/>
                <a:tab algn="l" pos="7031160"/>
                <a:tab algn="l" pos="7480440"/>
                <a:tab algn="l" pos="7929720"/>
                <a:tab algn="l" pos="8379000"/>
                <a:tab algn="l" pos="8827920"/>
                <a:tab algn="l" pos="9277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Monotype Corsiva"/>
              </a:rPr>
              <a:t>Проверить умение составлять схемы предложений;                                                        Повторить орфограммы Н -НН в словах разных частей речи;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marL="293760" indent="-290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93760"/>
                <a:tab algn="l" pos="741240"/>
                <a:tab algn="l" pos="1190520"/>
                <a:tab algn="l" pos="1639800"/>
                <a:tab algn="l" pos="2089080"/>
                <a:tab algn="l" pos="2538360"/>
                <a:tab algn="l" pos="2987640"/>
                <a:tab algn="l" pos="3436920"/>
                <a:tab algn="l" pos="3886200"/>
                <a:tab algn="l" pos="4335480"/>
                <a:tab algn="l" pos="4784760"/>
                <a:tab algn="l" pos="5234040"/>
                <a:tab algn="l" pos="5683320"/>
                <a:tab algn="l" pos="6132600"/>
                <a:tab algn="l" pos="6581880"/>
                <a:tab algn="l" pos="7031160"/>
                <a:tab algn="l" pos="7480440"/>
                <a:tab algn="l" pos="7929720"/>
                <a:tab algn="l" pos="8379000"/>
                <a:tab algn="l" pos="8827920"/>
                <a:tab algn="l" pos="9277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Monotype Corsiva"/>
              </a:rPr>
              <a:t>Подготовиться к сдаче ГИА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956720" y="1413000"/>
            <a:ext cx="761760" cy="9522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838080" y="60948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993300"/>
                </a:solidFill>
                <a:latin typeface="Monotype Corsiva"/>
              </a:rPr>
              <a:t>Словарный диктант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2286000" y="1911240"/>
            <a:ext cx="4805280" cy="3591000"/>
            <a:chOff x="2286000" y="1911240"/>
            <a:chExt cx="4805280" cy="3591000"/>
          </a:xfrm>
        </p:grpSpPr>
        <p:pic>
          <p:nvPicPr>
            <p:cNvPr id="282" name="" descr=""/>
            <p:cNvPicPr/>
            <p:nvPr/>
          </p:nvPicPr>
          <p:blipFill>
            <a:blip r:embed="rId1"/>
            <a:stretch/>
          </p:blipFill>
          <p:spPr>
            <a:xfrm>
              <a:off x="2286000" y="1911240"/>
              <a:ext cx="4805280" cy="359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2286000" y="1911240"/>
              <a:ext cx="4805280" cy="359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6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</p:grp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971640" y="620640"/>
            <a:ext cx="7200720" cy="1440000"/>
          </a:xfrm>
          <a:prstGeom prst="rect">
            <a:avLst/>
          </a:prstGeom>
          <a:solidFill>
            <a:srgbClr val="ccffff"/>
          </a:solidFill>
          <a:ln cap="sq"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Monotype Corsiva"/>
              </a:rPr>
              <a:t>Задание </a:t>
            </a:r>
            <a:r>
              <a:rPr b="1" lang="en-US" sz="3200" spc="-1" strike="noStrike">
                <a:solidFill>
                  <a:srgbClr val="993300"/>
                </a:solidFill>
                <a:latin typeface="Monotype Corsiva"/>
              </a:rPr>
              <a:t>I </a:t>
            </a:r>
            <a:br>
              <a:rPr sz="3200"/>
            </a:br>
            <a:r>
              <a:rPr b="1" lang="ru-RU" sz="3200" spc="-1" strike="noStrike">
                <a:solidFill>
                  <a:srgbClr val="993300"/>
                </a:solidFill>
                <a:latin typeface="Monotype Corsiva"/>
              </a:rPr>
              <a:t>Словарный диктант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85" name=""/>
          <p:cNvSpPr/>
          <p:nvPr/>
        </p:nvSpPr>
        <p:spPr>
          <a:xfrm>
            <a:off x="685800" y="2133720"/>
            <a:ext cx="7772400" cy="4873680"/>
          </a:xfrm>
          <a:prstGeom prst="rect">
            <a:avLst/>
          </a:prstGeom>
          <a:solidFill>
            <a:srgbClr val="f5cddf"/>
          </a:solidFill>
          <a:ln cap="sq"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90520" indent="-290520"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290520"/>
                <a:tab algn="l" pos="738360"/>
                <a:tab algn="l" pos="1187280"/>
                <a:tab algn="l" pos="1636560"/>
                <a:tab algn="l" pos="2085840"/>
                <a:tab algn="l" pos="2535120"/>
                <a:tab algn="l" pos="2984400"/>
                <a:tab algn="l" pos="3433680"/>
                <a:tab algn="l" pos="3882960"/>
                <a:tab algn="l" pos="4332240"/>
                <a:tab algn="l" pos="4781520"/>
                <a:tab algn="l" pos="5230800"/>
                <a:tab algn="l" pos="5680080"/>
                <a:tab algn="l" pos="6129360"/>
                <a:tab algn="l" pos="6578640"/>
                <a:tab algn="l" pos="7027920"/>
                <a:tab algn="l" pos="7477200"/>
                <a:tab algn="l" pos="7926480"/>
                <a:tab algn="l" pos="8375760"/>
                <a:tab algn="l" pos="8825040"/>
                <a:tab algn="l" pos="9274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 Narrow"/>
              </a:rPr>
              <a:t>Рождё</a:t>
            </a:r>
            <a:r>
              <a:rPr b="0" lang="ru-RU" sz="2800" spc="-1" strike="noStrike">
                <a:solidFill>
                  <a:srgbClr val="c00000"/>
                </a:solidFill>
                <a:latin typeface="Arial Narrow"/>
              </a:rPr>
              <a:t>нн</a:t>
            </a:r>
            <a:r>
              <a:rPr b="0" lang="ru-RU" sz="2800" spc="-1" strike="noStrike">
                <a:solidFill>
                  <a:srgbClr val="333333"/>
                </a:solidFill>
                <a:latin typeface="Arial Narrow"/>
              </a:rPr>
              <a:t>ые в неволе медвежата,  полирова</a:t>
            </a:r>
            <a:r>
              <a:rPr b="0" lang="ru-RU" sz="2800" spc="-1" strike="noStrike">
                <a:solidFill>
                  <a:srgbClr val="c00000"/>
                </a:solidFill>
                <a:latin typeface="Arial Narrow"/>
              </a:rPr>
              <a:t>нн</a:t>
            </a:r>
            <a:r>
              <a:rPr b="0" lang="ru-RU" sz="2800" spc="-1" strike="noStrike">
                <a:solidFill>
                  <a:srgbClr val="333333"/>
                </a:solidFill>
                <a:latin typeface="Arial Narrow"/>
              </a:rPr>
              <a:t>ая мебель, золочё</a:t>
            </a:r>
            <a:r>
              <a:rPr b="0" lang="ru-RU" sz="2800" spc="-1" strike="noStrike">
                <a:solidFill>
                  <a:srgbClr val="c00000"/>
                </a:solidFill>
                <a:latin typeface="Arial Narrow"/>
              </a:rPr>
              <a:t>н</a:t>
            </a:r>
            <a:r>
              <a:rPr b="0" lang="ru-RU" sz="2800" spc="-1" strike="noStrike">
                <a:solidFill>
                  <a:srgbClr val="333333"/>
                </a:solidFill>
                <a:latin typeface="Arial Narrow"/>
              </a:rPr>
              <a:t>ый купол, глиня</a:t>
            </a:r>
            <a:r>
              <a:rPr b="0" lang="ru-RU" sz="2800" spc="-1" strike="noStrike">
                <a:solidFill>
                  <a:srgbClr val="c00000"/>
                </a:solidFill>
                <a:latin typeface="Arial Narrow"/>
              </a:rPr>
              <a:t>н</a:t>
            </a:r>
            <a:r>
              <a:rPr b="0" lang="ru-RU" sz="2800" spc="-1" strike="noStrike">
                <a:solidFill>
                  <a:srgbClr val="333333"/>
                </a:solidFill>
                <a:latin typeface="Arial Narrow"/>
              </a:rPr>
              <a:t>ые дощечки, масля</a:t>
            </a:r>
            <a:r>
              <a:rPr b="0" lang="ru-RU" sz="2800" spc="-1" strike="noStrike">
                <a:solidFill>
                  <a:srgbClr val="c00000"/>
                </a:solidFill>
                <a:latin typeface="Arial Narrow"/>
              </a:rPr>
              <a:t>н</a:t>
            </a:r>
            <a:r>
              <a:rPr b="0" lang="ru-RU" sz="2800" spc="-1" strike="noStrike">
                <a:solidFill>
                  <a:srgbClr val="333333"/>
                </a:solidFill>
                <a:latin typeface="Arial Narrow"/>
              </a:rPr>
              <a:t>ый крем, маринова</a:t>
            </a:r>
            <a:r>
              <a:rPr b="0" lang="ru-RU" sz="2800" spc="-1" strike="noStrike">
                <a:solidFill>
                  <a:srgbClr val="c00000"/>
                </a:solidFill>
                <a:latin typeface="Arial Narrow"/>
              </a:rPr>
              <a:t>нн</a:t>
            </a:r>
            <a:r>
              <a:rPr b="0" lang="ru-RU" sz="2800" spc="-1" strike="noStrike">
                <a:solidFill>
                  <a:srgbClr val="333333"/>
                </a:solidFill>
                <a:latin typeface="Arial Narrow"/>
              </a:rPr>
              <a:t>ый огурец, ране</a:t>
            </a:r>
            <a:r>
              <a:rPr b="0" lang="ru-RU" sz="2800" spc="-1" strike="noStrike">
                <a:solidFill>
                  <a:srgbClr val="c00000"/>
                </a:solidFill>
                <a:latin typeface="Arial Narrow"/>
              </a:rPr>
              <a:t>н</a:t>
            </a:r>
            <a:r>
              <a:rPr b="0" lang="ru-RU" sz="2800" spc="-1" strike="noStrike">
                <a:solidFill>
                  <a:srgbClr val="333333"/>
                </a:solidFill>
                <a:latin typeface="Arial Narrow"/>
              </a:rPr>
              <a:t>ый боец, масле</a:t>
            </a:r>
            <a:r>
              <a:rPr b="0" lang="ru-RU" sz="2800" spc="-1" strike="noStrike">
                <a:solidFill>
                  <a:srgbClr val="c00000"/>
                </a:solidFill>
                <a:latin typeface="Arial Narrow"/>
              </a:rPr>
              <a:t>н</a:t>
            </a:r>
            <a:r>
              <a:rPr b="0" lang="ru-RU" sz="2800" spc="-1" strike="noStrike">
                <a:solidFill>
                  <a:srgbClr val="333333"/>
                </a:solidFill>
                <a:latin typeface="Arial Narrow"/>
              </a:rPr>
              <a:t>ица, жела</a:t>
            </a:r>
            <a:r>
              <a:rPr b="0" lang="ru-RU" sz="2800" spc="-1" strike="noStrike">
                <a:solidFill>
                  <a:srgbClr val="c00000"/>
                </a:solidFill>
                <a:latin typeface="Arial Narrow"/>
              </a:rPr>
              <a:t>нн</a:t>
            </a:r>
            <a:r>
              <a:rPr b="0" lang="ru-RU" sz="2800" spc="-1" strike="noStrike">
                <a:solidFill>
                  <a:srgbClr val="333333"/>
                </a:solidFill>
                <a:latin typeface="Arial Narrow"/>
              </a:rPr>
              <a:t>ый, стари</a:t>
            </a:r>
            <a:r>
              <a:rPr b="0" lang="ru-RU" sz="2800" spc="-1" strike="noStrike">
                <a:solidFill>
                  <a:srgbClr val="c00000"/>
                </a:solidFill>
                <a:latin typeface="Arial Narrow"/>
              </a:rPr>
              <a:t>нн</a:t>
            </a:r>
            <a:r>
              <a:rPr b="0" lang="ru-RU" sz="2800" spc="-1" strike="noStrike">
                <a:solidFill>
                  <a:srgbClr val="333333"/>
                </a:solidFill>
                <a:latin typeface="Arial Narrow"/>
              </a:rPr>
              <a:t>ый, смышле</a:t>
            </a:r>
            <a:r>
              <a:rPr b="0" lang="ru-RU" sz="2800" spc="-1" strike="noStrike">
                <a:solidFill>
                  <a:srgbClr val="c00000"/>
                </a:solidFill>
                <a:latin typeface="Arial Narrow"/>
              </a:rPr>
              <a:t>н</a:t>
            </a:r>
            <a:r>
              <a:rPr b="0" lang="ru-RU" sz="2800" spc="-1" strike="noStrike">
                <a:solidFill>
                  <a:srgbClr val="333333"/>
                </a:solidFill>
                <a:latin typeface="Arial Narrow"/>
              </a:rPr>
              <a:t>ый ученик, оловя</a:t>
            </a:r>
            <a:r>
              <a:rPr b="0" lang="ru-RU" sz="2800" spc="-1" strike="noStrike">
                <a:solidFill>
                  <a:srgbClr val="c00000"/>
                </a:solidFill>
                <a:latin typeface="Arial Narrow"/>
              </a:rPr>
              <a:t>нн</a:t>
            </a:r>
            <a:r>
              <a:rPr b="0" lang="ru-RU" sz="2800" spc="-1" strike="noStrike">
                <a:solidFill>
                  <a:srgbClr val="333333"/>
                </a:solidFill>
                <a:latin typeface="Arial Narrow"/>
              </a:rPr>
              <a:t>ый, отчая</a:t>
            </a:r>
            <a:r>
              <a:rPr b="0" lang="ru-RU" sz="2800" spc="-1" strike="noStrike">
                <a:solidFill>
                  <a:srgbClr val="c00000"/>
                </a:solidFill>
                <a:latin typeface="Arial Narrow"/>
              </a:rPr>
              <a:t>нн</a:t>
            </a:r>
            <a:r>
              <a:rPr b="0" lang="ru-RU" sz="2800" spc="-1" strike="noStrike">
                <a:solidFill>
                  <a:srgbClr val="333333"/>
                </a:solidFill>
                <a:latin typeface="Arial Narrow"/>
              </a:rPr>
              <a:t>ый, жаре</a:t>
            </a:r>
            <a:r>
              <a:rPr b="0" lang="ru-RU" sz="2800" spc="-1" strike="noStrike">
                <a:solidFill>
                  <a:srgbClr val="c00000"/>
                </a:solidFill>
                <a:latin typeface="Arial Narrow"/>
              </a:rPr>
              <a:t>н</a:t>
            </a:r>
            <a:r>
              <a:rPr b="0" lang="ru-RU" sz="2800" spc="-1" strike="noStrike">
                <a:solidFill>
                  <a:srgbClr val="333333"/>
                </a:solidFill>
                <a:latin typeface="Arial Narrow"/>
              </a:rPr>
              <a:t>ый картофель, жаре</a:t>
            </a:r>
            <a:r>
              <a:rPr b="0" lang="ru-RU" sz="2800" spc="-1" strike="noStrike">
                <a:solidFill>
                  <a:srgbClr val="c00000"/>
                </a:solidFill>
                <a:latin typeface="Arial Narrow"/>
              </a:rPr>
              <a:t>нн</a:t>
            </a:r>
            <a:r>
              <a:rPr b="0" lang="ru-RU" sz="2800" spc="-1" strike="noStrike">
                <a:solidFill>
                  <a:srgbClr val="333333"/>
                </a:solidFill>
                <a:latin typeface="Arial Narrow"/>
              </a:rPr>
              <a:t>ый в духовке, свежезамороже</a:t>
            </a:r>
            <a:r>
              <a:rPr b="0" lang="ru-RU" sz="2800" spc="-1" strike="noStrike">
                <a:solidFill>
                  <a:srgbClr val="c00000"/>
                </a:solidFill>
                <a:latin typeface="Arial Narrow"/>
              </a:rPr>
              <a:t>нн</a:t>
            </a:r>
            <a:r>
              <a:rPr b="0" lang="ru-RU" sz="2800" spc="-1" strike="noStrike">
                <a:solidFill>
                  <a:srgbClr val="333333"/>
                </a:solidFill>
                <a:latin typeface="Arial Narrow"/>
              </a:rPr>
              <a:t>ый, ране</a:t>
            </a:r>
            <a:r>
              <a:rPr b="0" lang="ru-RU" sz="2800" spc="-1" strike="noStrike">
                <a:solidFill>
                  <a:srgbClr val="c00000"/>
                </a:solidFill>
                <a:latin typeface="Arial Narrow"/>
              </a:rPr>
              <a:t>нн</a:t>
            </a:r>
            <a:r>
              <a:rPr b="0" lang="ru-RU" sz="2800" spc="-1" strike="noStrike">
                <a:solidFill>
                  <a:srgbClr val="333333"/>
                </a:solidFill>
                <a:latin typeface="Arial Narrow"/>
              </a:rPr>
              <a:t>ый в руку, гости</a:t>
            </a:r>
            <a:r>
              <a:rPr b="0" lang="ru-RU" sz="2800" spc="-1" strike="noStrike">
                <a:solidFill>
                  <a:srgbClr val="c00000"/>
                </a:solidFill>
                <a:latin typeface="Arial Narrow"/>
              </a:rPr>
              <a:t>н</a:t>
            </a:r>
            <a:r>
              <a:rPr b="0" lang="ru-RU" sz="2800" spc="-1" strike="noStrike">
                <a:solidFill>
                  <a:srgbClr val="333333"/>
                </a:solidFill>
                <a:latin typeface="Arial Narrow"/>
              </a:rPr>
              <a:t>ица.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290520" indent="-290520">
              <a:spcBef>
                <a:spcPts val="700"/>
              </a:spcBef>
              <a:tabLst>
                <a:tab algn="l" pos="0"/>
                <a:tab algn="l" pos="290520"/>
                <a:tab algn="l" pos="738360"/>
                <a:tab algn="l" pos="1187280"/>
                <a:tab algn="l" pos="1636560"/>
                <a:tab algn="l" pos="2085840"/>
                <a:tab algn="l" pos="2535120"/>
                <a:tab algn="l" pos="2984400"/>
                <a:tab algn="l" pos="3433680"/>
                <a:tab algn="l" pos="3882960"/>
                <a:tab algn="l" pos="4332240"/>
                <a:tab algn="l" pos="4781520"/>
                <a:tab algn="l" pos="5230800"/>
                <a:tab algn="l" pos="5680080"/>
                <a:tab algn="l" pos="6129360"/>
                <a:tab algn="l" pos="6578640"/>
                <a:tab algn="l" pos="7027920"/>
                <a:tab algn="l" pos="7477200"/>
                <a:tab algn="l" pos="7926480"/>
                <a:tab algn="l" pos="8375760"/>
                <a:tab algn="l" pos="8825040"/>
                <a:tab algn="l" pos="92743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638360" y="2495520"/>
            <a:ext cx="2271600" cy="857160"/>
          </a:xfrm>
          <a:prstGeom prst="rect">
            <a:avLst/>
          </a:prstGeom>
          <a:solidFill>
            <a:srgbClr val="dddddd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333333"/>
                </a:solidFill>
                <a:latin typeface="Arial Narrow"/>
              </a:rPr>
              <a:t>Союзные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87" name=""/>
          <p:cNvSpPr/>
          <p:nvPr/>
        </p:nvSpPr>
        <p:spPr>
          <a:xfrm>
            <a:off x="4680000" y="2448000"/>
            <a:ext cx="2744640" cy="863640"/>
          </a:xfrm>
          <a:prstGeom prst="rect">
            <a:avLst/>
          </a:prstGeom>
          <a:solidFill>
            <a:srgbClr val="dddddd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333333"/>
                </a:solidFill>
                <a:latin typeface="Arial Narrow"/>
              </a:rPr>
              <a:t>Бессоюзные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88" name=""/>
          <p:cNvSpPr/>
          <p:nvPr/>
        </p:nvSpPr>
        <p:spPr>
          <a:xfrm>
            <a:off x="1709640" y="4067280"/>
            <a:ext cx="2428920" cy="1342800"/>
          </a:xfrm>
          <a:prstGeom prst="rect">
            <a:avLst/>
          </a:prstGeom>
          <a:solidFill>
            <a:srgbClr val="dddddd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 Narrow"/>
              </a:rPr>
              <a:t>Сложно-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 Narrow"/>
              </a:rPr>
              <a:t>сочинённые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89" name=""/>
          <p:cNvSpPr/>
          <p:nvPr/>
        </p:nvSpPr>
        <p:spPr>
          <a:xfrm>
            <a:off x="4751280" y="4067280"/>
            <a:ext cx="2602080" cy="1333440"/>
          </a:xfrm>
          <a:prstGeom prst="rect">
            <a:avLst/>
          </a:prstGeom>
          <a:solidFill>
            <a:srgbClr val="dddddd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 Narrow"/>
              </a:rPr>
              <a:t>Сложно-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 Narrow"/>
              </a:rPr>
              <a:t>подчинённые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cxnSp>
        <p:nvCxnSpPr>
          <p:cNvPr id="290" name=""/>
          <p:cNvCxnSpPr/>
          <p:nvPr/>
        </p:nvCxnSpPr>
        <p:spPr>
          <a:xfrm flipH="1">
            <a:off x="2072880" y="3422520"/>
            <a:ext cx="573840" cy="57384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1" name=""/>
          <p:cNvCxnSpPr/>
          <p:nvPr/>
        </p:nvCxnSpPr>
        <p:spPr>
          <a:xfrm>
            <a:off x="3138480" y="3424320"/>
            <a:ext cx="2216880" cy="57384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2" name=""/>
          <p:cNvCxnSpPr/>
          <p:nvPr/>
        </p:nvCxnSpPr>
        <p:spPr>
          <a:xfrm>
            <a:off x="5351400" y="1922400"/>
            <a:ext cx="573840" cy="35784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3" name=""/>
          <p:cNvSpPr/>
          <p:nvPr/>
        </p:nvSpPr>
        <p:spPr>
          <a:xfrm>
            <a:off x="1143000" y="928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333333"/>
                </a:solidFill>
                <a:latin typeface="Arial Narrow"/>
              </a:rPr>
              <a:t>Виды сложных предложений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cxnSp>
        <p:nvCxnSpPr>
          <p:cNvPr id="294" name=""/>
          <p:cNvCxnSpPr/>
          <p:nvPr/>
        </p:nvCxnSpPr>
        <p:spPr>
          <a:xfrm flipH="1">
            <a:off x="2879280" y="2225520"/>
            <a:ext cx="542160" cy="26424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652320" y="54864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Microsoft YaHei"/>
              </a:rPr>
              <a:t>ПРОЗРАЧНЫЙ ЛЕС ОДИН ЧЕРНЕЕТ , </a:t>
            </a:r>
            <a:r>
              <a:rPr b="1" lang="ru-RU" sz="2800" spc="-1" strike="noStrike">
                <a:solidFill>
                  <a:srgbClr val="ffc000"/>
                </a:solidFill>
                <a:latin typeface="Times New Roman"/>
                <a:ea typeface="Microsoft YaHei"/>
              </a:rPr>
              <a:t>И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Microsoft YaHei"/>
              </a:rPr>
              <a:t>  ЕЛЬ  СКВОЗЬ  ИНЕЙ ЗЕЛЕНЕЕТ, </a:t>
            </a:r>
            <a:r>
              <a:rPr b="1" lang="ru-RU" sz="2800" spc="-1" strike="noStrike">
                <a:solidFill>
                  <a:srgbClr val="ffc000"/>
                </a:solidFill>
                <a:latin typeface="Times New Roman"/>
                <a:ea typeface="Microsoft YaHei"/>
              </a:rPr>
              <a:t>И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Microsoft YaHei"/>
              </a:rPr>
              <a:t>РЕЧКА ПОДО ЛЬДОМ БЛЕСТИТ.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96" name=""/>
          <p:cNvSpPr/>
          <p:nvPr/>
        </p:nvSpPr>
        <p:spPr>
          <a:xfrm>
            <a:off x="1081080" y="1066680"/>
            <a:ext cx="7486560" cy="39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marL="457200" indent="-412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7030a0"/>
                </a:solidFill>
                <a:uFillTx/>
                <a:latin typeface="Times New Roman"/>
                <a:ea typeface="Microsoft YaHei"/>
              </a:rPr>
              <a:t>Сложносочинённое предложение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Microsoft YaHei"/>
              </a:rPr>
              <a:t>– это сложное предложение,  части которого соединены сочинительными союзами и грамматически не зависимы друг от друга, то есть находятся в отношениях равноправия, равнозначности.  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97" name=""/>
          <p:cNvSpPr/>
          <p:nvPr/>
        </p:nvSpPr>
        <p:spPr>
          <a:xfrm>
            <a:off x="723960" y="5557680"/>
            <a:ext cx="71280" cy="357480"/>
          </a:xfrm>
          <a:custGeom>
            <a:avLst/>
            <a:gdLst>
              <a:gd name="textAreaLeft" fmla="*/ 20880 w 71280"/>
              <a:gd name="textAreaRight" fmla="*/ 71640 w 71280"/>
              <a:gd name="textAreaTop" fmla="*/ 2880 h 357480"/>
              <a:gd name="textAreaBottom" fmla="*/ 354600 h 357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80"/>
                  <a:pt x="0" y="360"/>
                </a:cubicBezTo>
                <a:lnTo>
                  <a:pt x="0" y="21240"/>
                </a:lnTo>
                <a:cubicBezTo>
                  <a:pt x="0" y="21420"/>
                  <a:pt x="10800" y="21600"/>
                  <a:pt x="21600" y="21600"/>
                </a:cubicBezTo>
              </a:path>
            </a:pathLst>
          </a:cu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98" name=""/>
          <p:cNvSpPr/>
          <p:nvPr/>
        </p:nvSpPr>
        <p:spPr>
          <a:xfrm>
            <a:off x="744480" y="5986440"/>
            <a:ext cx="50760" cy="357120"/>
          </a:xfrm>
          <a:custGeom>
            <a:avLst/>
            <a:gdLst>
              <a:gd name="textAreaLeft" fmla="*/ 14760 w 50760"/>
              <a:gd name="textAreaRight" fmla="*/ 51120 w 50760"/>
              <a:gd name="textAreaTop" fmla="*/ 1800 h 357120"/>
              <a:gd name="textAreaBottom" fmla="*/ 355320 h 35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30"/>
                  <a:pt x="0" y="259"/>
                </a:cubicBezTo>
                <a:lnTo>
                  <a:pt x="0" y="21341"/>
                </a:lnTo>
                <a:cubicBezTo>
                  <a:pt x="0" y="21471"/>
                  <a:pt x="10800" y="21600"/>
                  <a:pt x="21600" y="21600"/>
                </a:cubicBezTo>
              </a:path>
            </a:pathLst>
          </a:cu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99" name=""/>
          <p:cNvSpPr/>
          <p:nvPr/>
        </p:nvSpPr>
        <p:spPr>
          <a:xfrm>
            <a:off x="7083360" y="5557680"/>
            <a:ext cx="46080" cy="357480"/>
          </a:xfrm>
          <a:custGeom>
            <a:avLst/>
            <a:gdLst>
              <a:gd name="textAreaLeft" fmla="*/ 0 w 46080"/>
              <a:gd name="textAreaRight" fmla="*/ 32400 w 46080"/>
              <a:gd name="textAreaTop" fmla="*/ 1800 h 357480"/>
              <a:gd name="textAreaBottom" fmla="*/ 35568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15"/>
                  <a:pt x="21600" y="230"/>
                </a:cubicBezTo>
                <a:lnTo>
                  <a:pt x="21600" y="21370"/>
                </a:lnTo>
                <a:cubicBezTo>
                  <a:pt x="21600" y="21485"/>
                  <a:pt x="10800" y="21600"/>
                  <a:pt x="0" y="21600"/>
                </a:cubicBezTo>
              </a:path>
            </a:pathLst>
          </a:cu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00" name=""/>
          <p:cNvSpPr/>
          <p:nvPr/>
        </p:nvSpPr>
        <p:spPr>
          <a:xfrm>
            <a:off x="6226200" y="5986440"/>
            <a:ext cx="73080" cy="357120"/>
          </a:xfrm>
          <a:custGeom>
            <a:avLst/>
            <a:gdLst>
              <a:gd name="textAreaLeft" fmla="*/ 0 w 73080"/>
              <a:gd name="textAreaRight" fmla="*/ 51480 w 73080"/>
              <a:gd name="textAreaTop" fmla="*/ 2880 h 357120"/>
              <a:gd name="textAreaBottom" fmla="*/ 354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5"/>
                  <a:pt x="21600" y="369"/>
                </a:cubicBezTo>
                <a:lnTo>
                  <a:pt x="21600" y="21231"/>
                </a:lnTo>
                <a:cubicBezTo>
                  <a:pt x="21600" y="21416"/>
                  <a:pt x="10800" y="21600"/>
                  <a:pt x="0" y="21600"/>
                </a:cubicBezTo>
              </a:path>
            </a:pathLst>
          </a:cu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01" name=""/>
          <p:cNvSpPr/>
          <p:nvPr/>
        </p:nvSpPr>
        <p:spPr>
          <a:xfrm>
            <a:off x="6867360" y="5986440"/>
            <a:ext cx="46080" cy="357120"/>
          </a:xfrm>
          <a:custGeom>
            <a:avLst/>
            <a:gdLst>
              <a:gd name="textAreaLeft" fmla="*/ 13320 w 46080"/>
              <a:gd name="textAreaRight" fmla="*/ 46440 w 46080"/>
              <a:gd name="textAreaTop" fmla="*/ 1800 h 357120"/>
              <a:gd name="textAreaBottom" fmla="*/ 355320 h 35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15"/>
                  <a:pt x="0" y="230"/>
                </a:cubicBezTo>
                <a:lnTo>
                  <a:pt x="0" y="21370"/>
                </a:lnTo>
                <a:cubicBezTo>
                  <a:pt x="0" y="21485"/>
                  <a:pt x="10800" y="21600"/>
                  <a:pt x="21600" y="21600"/>
                </a:cubicBezTo>
              </a:path>
            </a:pathLst>
          </a:cu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02" name=""/>
          <p:cNvSpPr/>
          <p:nvPr/>
        </p:nvSpPr>
        <p:spPr>
          <a:xfrm>
            <a:off x="5010120" y="6415200"/>
            <a:ext cx="71640" cy="357120"/>
          </a:xfrm>
          <a:custGeom>
            <a:avLst/>
            <a:gdLst>
              <a:gd name="textAreaLeft" fmla="*/ 0 w 71640"/>
              <a:gd name="textAreaRight" fmla="*/ 50400 w 71640"/>
              <a:gd name="textAreaTop" fmla="*/ 2880 h 357120"/>
              <a:gd name="textAreaBottom" fmla="*/ 354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0"/>
                  <a:pt x="21600" y="360"/>
                </a:cubicBezTo>
                <a:lnTo>
                  <a:pt x="21600" y="21240"/>
                </a:lnTo>
                <a:cubicBezTo>
                  <a:pt x="21600" y="21420"/>
                  <a:pt x="10800" y="21600"/>
                  <a:pt x="0" y="21600"/>
                </a:cubicBezTo>
              </a:path>
            </a:pathLst>
          </a:cu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360440" y="692280"/>
            <a:ext cx="7128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  </a:t>
            </a:r>
            <a:r>
              <a:rPr b="0" i="1" lang="ru-RU" sz="1200" spc="-1" strike="noStrike">
                <a:solidFill>
                  <a:srgbClr val="280099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80099"/>
                </a:solidFill>
                <a:latin typeface="Arial"/>
                <a:ea typeface="Times New Roman"/>
              </a:rPr>
              <a:t>Сложноподчинённым предложением называется такое сложное  предложение, части которого связаны между собой подчинительными союзами (или союзными словами)</a:t>
            </a:r>
            <a:r>
              <a:rPr b="1" lang="ru-RU" sz="2400" spc="-1" strike="noStrike">
                <a:solidFill>
                  <a:srgbClr val="280099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80099"/>
                </a:solidFill>
                <a:latin typeface="Arial"/>
                <a:ea typeface="Times New Roman"/>
              </a:rPr>
              <a:t>и находятся в отношениях формального неравноправ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04" name=""/>
          <p:cNvSpPr/>
          <p:nvPr/>
        </p:nvSpPr>
        <p:spPr>
          <a:xfrm>
            <a:off x="-4608360" y="3540240"/>
            <a:ext cx="144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05" name=""/>
          <p:cNvSpPr/>
          <p:nvPr/>
        </p:nvSpPr>
        <p:spPr>
          <a:xfrm>
            <a:off x="208080" y="3242880"/>
            <a:ext cx="7777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Пример:</a:t>
            </a:r>
            <a:r>
              <a:rPr b="0" lang="ru-RU" sz="2400" spc="-1" strike="noStrike">
                <a:solidFill>
                  <a:srgbClr val="b80047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 baseline="30000">
                <a:solidFill>
                  <a:srgbClr val="b80047"/>
                </a:solidFill>
                <a:latin typeface="Arial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b80047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 u="sng">
                <a:solidFill>
                  <a:srgbClr val="b80047"/>
                </a:solidFill>
                <a:uFillTx/>
                <a:latin typeface="Arial"/>
                <a:ea typeface="Times New Roman"/>
              </a:rPr>
              <a:t>Я не хочу, чтоб свет узнал мою таинственную повесть.</a:t>
            </a:r>
            <a:r>
              <a:rPr b="0" lang="ru-RU" sz="2400" spc="-1" strike="noStrike">
                <a:solidFill>
                  <a:srgbClr val="b80047"/>
                </a:solidFill>
                <a:latin typeface="Arial"/>
                <a:ea typeface="Times New Roman"/>
              </a:rPr>
              <a:t> (М. Лермонтов)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Первая часть – главная, а вторая – зависимая(называемая придаточной частью). Зависимость второй от первой части формально обнаруживается в самой возможности логического вопроса от главной к зависимой. Связаны части с помощью подчинительного  союза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чтоб.</a:t>
            </a:r>
            <a:r>
              <a:rPr b="0" i="1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</a:t>
            </a:r>
            <a:r>
              <a:rPr b="0" lang="ru-RU" sz="12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ru-RU" sz="1100" spc="-1" strike="noStrike">
                <a:solidFill>
                  <a:srgbClr val="0000ff"/>
                </a:solidFill>
                <a:latin typeface="Arial"/>
                <a:ea typeface="Microsoft YaHei"/>
              </a:rPr>
              <a:t> </a:t>
            </a:r>
            <a:endParaRPr b="0" lang="en-US" sz="11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76360" y="476280"/>
            <a:ext cx="8064360" cy="936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ессоюзное сложное предложение</a:t>
            </a:r>
            <a:endParaRPr b="0" lang="en-US" sz="36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76360" y="476280"/>
            <a:ext cx="8064360" cy="936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ессоюзное сложное предложение</a:t>
            </a:r>
            <a:endParaRPr b="0" lang="en-US" sz="36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576360" y="476280"/>
            <a:ext cx="8064360" cy="936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ессоюзное сложное предложение</a:t>
            </a:r>
            <a:endParaRPr b="0" lang="en-US" sz="36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03280" y="1800360"/>
            <a:ext cx="842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БЕССОЮЗОЕ СЛОЖНОЕ ПРЕДЛОЖЕНИЕ – ЭТО СЛОЖНОЕ ПРЕДЛОЖЕНИЕ, ЧАСТИ КОТОРОГО СВЯЗАНЫ ПО СМЫСЛУ И ИНТОНАЦИИ.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10" name=""/>
          <p:cNvSpPr/>
          <p:nvPr/>
        </p:nvSpPr>
        <p:spPr>
          <a:xfrm>
            <a:off x="2519280" y="3743280"/>
            <a:ext cx="5327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Травка зеленеет, 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Солнышко блестит,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Ласточка с весною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В сени к нам летит.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                    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(А.Плещеев)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1079640" y="360360"/>
            <a:ext cx="7200720" cy="1440000"/>
          </a:xfrm>
          <a:prstGeom prst="rect">
            <a:avLst/>
          </a:prstGeom>
          <a:solidFill>
            <a:srgbClr val="ccffff"/>
          </a:solidFill>
          <a:ln cap="sq"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Monotype Corsiva"/>
              </a:rPr>
              <a:t>Задание 2</a:t>
            </a:r>
            <a:r>
              <a:rPr b="1" lang="en-US" sz="2400" spc="-1" strike="noStrike">
                <a:solidFill>
                  <a:srgbClr val="993300"/>
                </a:solidFill>
                <a:latin typeface="Monotype Corsiva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007572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993300"/>
                </a:solidFill>
                <a:latin typeface="Monotype Corsiva"/>
              </a:rPr>
              <a:t>Устная коллективная работа. </a:t>
            </a:r>
            <a:br>
              <a:rPr sz="2800"/>
            </a:br>
            <a:r>
              <a:rPr b="1" lang="ru-RU" sz="2800" spc="-1" strike="noStrike">
                <a:solidFill>
                  <a:srgbClr val="993300"/>
                </a:solidFill>
                <a:latin typeface="Monotype Corsiva"/>
              </a:rPr>
              <a:t>Дайте характеристику предложений.</a:t>
            </a:r>
            <a:r>
              <a:rPr b="0" lang="ru-RU" sz="2800" spc="-1" strike="noStrike">
                <a:solidFill>
                  <a:srgbClr val="9933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12" name=""/>
          <p:cNvSpPr/>
          <p:nvPr/>
        </p:nvSpPr>
        <p:spPr>
          <a:xfrm>
            <a:off x="936720" y="1800360"/>
            <a:ext cx="7772400" cy="5516280"/>
          </a:xfrm>
          <a:prstGeom prst="rect">
            <a:avLst/>
          </a:prstGeom>
          <a:solidFill>
            <a:srgbClr val="f5cddf"/>
          </a:solidFill>
          <a:ln cap="sq"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61880" indent="-461880">
              <a:spcBef>
                <a:spcPts val="601"/>
              </a:spcBef>
              <a:buClr>
                <a:srgbClr val="002060"/>
              </a:buClr>
              <a:buFont typeface="Arial Narrow"/>
              <a:buAutoNum type="arabicPeriod"/>
              <a:tabLst>
                <a:tab algn="l" pos="461880"/>
                <a:tab algn="l" pos="909720"/>
                <a:tab algn="l" pos="1359000"/>
                <a:tab algn="l" pos="1808280"/>
                <a:tab algn="l" pos="2257560"/>
                <a:tab algn="l" pos="2706840"/>
                <a:tab algn="l" pos="3156120"/>
                <a:tab algn="l" pos="3605040"/>
                <a:tab algn="l" pos="4054320"/>
                <a:tab algn="l" pos="4503600"/>
                <a:tab algn="l" pos="4952880"/>
                <a:tab algn="l" pos="5402160"/>
                <a:tab algn="l" pos="5851440"/>
                <a:tab algn="l" pos="6300720"/>
                <a:tab algn="l" pos="6750000"/>
                <a:tab algn="l" pos="7199280"/>
                <a:tab algn="l" pos="7648560"/>
                <a:tab algn="l" pos="8097840"/>
                <a:tab algn="l" pos="8547120"/>
                <a:tab algn="l" pos="8996400"/>
                <a:tab algn="l" pos="944568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Narrow"/>
              </a:rPr>
              <a:t>Вновь я посетил тот уголок земли, где я провёл изгнанником два года незаметных.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marL="461880" indent="-461880">
              <a:spcBef>
                <a:spcPts val="601"/>
              </a:spcBef>
              <a:buClr>
                <a:srgbClr val="002060"/>
              </a:buClr>
              <a:buFont typeface="Arial Narrow"/>
              <a:buAutoNum type="arabicPeriod"/>
              <a:tabLst>
                <a:tab algn="l" pos="461880"/>
                <a:tab algn="l" pos="909720"/>
                <a:tab algn="l" pos="1359000"/>
                <a:tab algn="l" pos="1808280"/>
                <a:tab algn="l" pos="2257560"/>
                <a:tab algn="l" pos="2706840"/>
                <a:tab algn="l" pos="3156120"/>
                <a:tab algn="l" pos="3605040"/>
                <a:tab algn="l" pos="4054320"/>
                <a:tab algn="l" pos="4503600"/>
                <a:tab algn="l" pos="4952880"/>
                <a:tab algn="l" pos="5402160"/>
                <a:tab algn="l" pos="5851440"/>
                <a:tab algn="l" pos="6300720"/>
                <a:tab algn="l" pos="6750000"/>
                <a:tab algn="l" pos="7199280"/>
                <a:tab algn="l" pos="7648560"/>
                <a:tab algn="l" pos="8097840"/>
                <a:tab algn="l" pos="8547120"/>
                <a:tab algn="l" pos="8996400"/>
                <a:tab algn="l" pos="944568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 Narrow"/>
              </a:rPr>
              <a:t>В саду было тихо, и лишь откуда-то издали доносился шум колёс.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marL="461880" indent="-461880">
              <a:spcBef>
                <a:spcPts val="601"/>
              </a:spcBef>
              <a:buClr>
                <a:srgbClr val="002060"/>
              </a:buClr>
              <a:buFont typeface="Arial Narrow"/>
              <a:buAutoNum type="arabicPeriod"/>
              <a:tabLst>
                <a:tab algn="l" pos="461880"/>
                <a:tab algn="l" pos="909720"/>
                <a:tab algn="l" pos="1359000"/>
                <a:tab algn="l" pos="1808280"/>
                <a:tab algn="l" pos="2257560"/>
                <a:tab algn="l" pos="2706840"/>
                <a:tab algn="l" pos="3156120"/>
                <a:tab algn="l" pos="3605040"/>
                <a:tab algn="l" pos="4054320"/>
                <a:tab algn="l" pos="4503600"/>
                <a:tab algn="l" pos="4952880"/>
                <a:tab algn="l" pos="5402160"/>
                <a:tab algn="l" pos="5851440"/>
                <a:tab algn="l" pos="6300720"/>
                <a:tab algn="l" pos="6750000"/>
                <a:tab algn="l" pos="7199280"/>
                <a:tab algn="l" pos="7648560"/>
                <a:tab algn="l" pos="8097840"/>
                <a:tab algn="l" pos="8547120"/>
                <a:tab algn="l" pos="8996400"/>
                <a:tab algn="l" pos="944568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 Narrow"/>
              </a:rPr>
              <a:t>Я знал: удар судьбы меня не обойдёт.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marL="461880" indent="-461880">
              <a:spcBef>
                <a:spcPts val="601"/>
              </a:spcBef>
              <a:buClr>
                <a:srgbClr val="002060"/>
              </a:buClr>
              <a:buFont typeface="Arial Narrow"/>
              <a:buAutoNum type="arabicPeriod"/>
              <a:tabLst>
                <a:tab algn="l" pos="461880"/>
                <a:tab algn="l" pos="909720"/>
                <a:tab algn="l" pos="1359000"/>
                <a:tab algn="l" pos="1808280"/>
                <a:tab algn="l" pos="2257560"/>
                <a:tab algn="l" pos="2706840"/>
                <a:tab algn="l" pos="3156120"/>
                <a:tab algn="l" pos="3605040"/>
                <a:tab algn="l" pos="4054320"/>
                <a:tab algn="l" pos="4503600"/>
                <a:tab algn="l" pos="4952880"/>
                <a:tab algn="l" pos="5402160"/>
                <a:tab algn="l" pos="5851440"/>
                <a:tab algn="l" pos="6300720"/>
                <a:tab algn="l" pos="6750000"/>
                <a:tab algn="l" pos="7199280"/>
                <a:tab algn="l" pos="7648560"/>
                <a:tab algn="l" pos="8097840"/>
                <a:tab algn="l" pos="8547120"/>
                <a:tab algn="l" pos="8996400"/>
                <a:tab algn="l" pos="944568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Narrow"/>
              </a:rPr>
              <a:t>Зелень травы и деревьев чернела, покрываясь росой.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marL="461880" indent="-461880">
              <a:spcBef>
                <a:spcPts val="601"/>
              </a:spcBef>
              <a:tabLst>
                <a:tab algn="l" pos="0"/>
                <a:tab algn="l" pos="461880"/>
                <a:tab algn="l" pos="909720"/>
                <a:tab algn="l" pos="1359000"/>
                <a:tab algn="l" pos="1808280"/>
                <a:tab algn="l" pos="2257560"/>
                <a:tab algn="l" pos="2706840"/>
                <a:tab algn="l" pos="3156120"/>
                <a:tab algn="l" pos="3605040"/>
                <a:tab algn="l" pos="4054320"/>
                <a:tab algn="l" pos="4503600"/>
                <a:tab algn="l" pos="4952880"/>
                <a:tab algn="l" pos="5402160"/>
                <a:tab algn="l" pos="5851440"/>
                <a:tab algn="l" pos="6300720"/>
                <a:tab algn="l" pos="6750000"/>
                <a:tab algn="l" pos="7199280"/>
                <a:tab algn="l" pos="7648560"/>
                <a:tab algn="l" pos="8097840"/>
                <a:tab algn="l" pos="8547120"/>
                <a:tab algn="l" pos="8996400"/>
                <a:tab algn="l" pos="94456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1T15:28:35Z</dcterms:created>
  <dc:creator>Администратор</dc:creator>
  <dc:description/>
  <dc:language>en-US</dc:language>
  <cp:lastModifiedBy>Админ</cp:lastModifiedBy>
  <dcterms:modified xsi:type="dcterms:W3CDTF">2012-02-11T13:48:03Z</dcterms:modified>
  <cp:revision>155</cp:revision>
  <dc:subject/>
  <dc:title>Презентация PowerPoint</dc:title>
</cp:coreProperties>
</file>