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6.gif" ContentType="image/gif"/>
  <Override PartName="/ppt/media/image28.jpeg" ContentType="image/jpeg"/>
  <Override PartName="/ppt/media/image11.jpeg" ContentType="image/jpeg"/>
  <Override PartName="/ppt/media/image5.gif" ContentType="image/gif"/>
  <Override PartName="/ppt/media/image35.gif" ContentType="image/gif"/>
  <Override PartName="/ppt/media/image10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8.gif" ContentType="image/gif"/>
  <Override PartName="/ppt/media/image12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34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9.gif" ContentType="image/gif"/>
  <Override PartName="/ppt/media/image16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418D-97C8-4700-833E-D6D854487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1595-137A-4B4D-885C-6BFE48534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66E-1458-4087-8EFF-E31F734A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F11-3D9C-442D-9E30-C1F9F236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066-8638-4831-9F07-D6624E5C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BCA-47A8-43A1-AF6E-E6533821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0AD-8005-4EB1-8370-877A39DE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0D6-113C-4B9C-B4A3-E3670D8E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0E3-7B4D-4A19-97DF-EEC4F16C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4E6-6A73-4A40-83EE-C5D52EAB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44E-A2D9-4E5C-A2E2-569A0988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B2A-BBDD-4A1B-B576-EC6A3B2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794-E9C2-4DF3-8F6F-21EA919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E56-679E-4AE3-B413-B003E7F2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2369-BDE7-45EC-8894-BDE1C31BDC7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8CC6-E04B-4132-B79C-C70315E80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60;&#1088;&#1072;&#1085;&#1094;&#1091;&#1079;&#1089;&#1082;&#1080;&#1081;%20&#1082;&#1086;&#1088;&#1086;&#1083;&#1100;%20&#1060;&#1080;&#1083;&#1080;&#1087;&#1087;%20IV%20&#1050;&#1088;&#1072;&#1089;&#1080;&#1074;&#1099;&#1081;%20&#1074;&#1086;&#1090;.avi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15BE-DF1B-4396-A8D4-FC27544DF39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318F-B5A6-4456-AF2E-D1FD6551A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раграф 17, вопросы, записи в тетради, кроссворд по желанию на оцен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A720-1D66-49C9-A955-51D40D22CF3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7123-1DBE-4D5B-AAC0-BBAD7791F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1" descr="Рисунок3"/>
          <p:cNvPicPr/>
          <p:nvPr/>
        </p:nvPicPr>
        <p:blipFill>
          <a:blip r:embed="rId1"/>
          <a:stretch/>
        </p:blipFill>
        <p:spPr>
          <a:xfrm>
            <a:off x="609480" y="1447920"/>
            <a:ext cx="1524240" cy="27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Рисунок4"/>
          <p:cNvPicPr/>
          <p:nvPr/>
        </p:nvPicPr>
        <p:blipFill>
          <a:blip r:embed="rId2"/>
          <a:stretch/>
        </p:blipFill>
        <p:spPr>
          <a:xfrm>
            <a:off x="2666880" y="1447920"/>
            <a:ext cx="1524240" cy="273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Рисунок5"/>
          <p:cNvPicPr/>
          <p:nvPr/>
        </p:nvPicPr>
        <p:blipFill>
          <a:blip r:embed="rId3"/>
          <a:stretch/>
        </p:blipFill>
        <p:spPr>
          <a:xfrm>
            <a:off x="7086600" y="1447920"/>
            <a:ext cx="15336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4" descr="Рисунок6"/>
          <p:cNvPicPr/>
          <p:nvPr/>
        </p:nvPicPr>
        <p:blipFill>
          <a:blip r:embed="rId4"/>
          <a:stretch/>
        </p:blipFill>
        <p:spPr>
          <a:xfrm>
            <a:off x="4800600" y="1447920"/>
            <a:ext cx="1523880" cy="28177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0"/>
          <p:cNvSpPr/>
          <p:nvPr/>
        </p:nvSpPr>
        <p:spPr>
          <a:xfrm>
            <a:off x="685800" y="4114800"/>
            <a:ext cx="79246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редние сло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горожане, рыцари, свободные крестьяне, церков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457200" y="0"/>
            <a:ext cx="8229600" cy="1295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интересованы в   объединен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H:\Алена\Алёна работа\анимашки по истории и не только\44-0-1935.jpg"/>
          <p:cNvPicPr/>
          <p:nvPr/>
        </p:nvPicPr>
        <p:blipFill>
          <a:blip r:embed="rId5"/>
          <a:stretch/>
        </p:blipFill>
        <p:spPr>
          <a:xfrm>
            <a:off x="7467480" y="4800600"/>
            <a:ext cx="16765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778-1C2F-4B13-8A53-07021C82ED2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97FB-7343-4659-89B2-959D7A0DB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2"/>
          <p:cNvPicPr/>
          <p:nvPr/>
        </p:nvPicPr>
        <p:blipFill>
          <a:blip r:embed="rId2"/>
          <a:stretch/>
        </p:blipFill>
        <p:spPr>
          <a:xfrm>
            <a:off x="4724280" y="1752480"/>
            <a:ext cx="4159440" cy="4262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0"/>
          <p:cNvPicPr/>
          <p:nvPr/>
        </p:nvPicPr>
        <p:blipFill>
          <a:blip r:embed="rId3"/>
          <a:stretch/>
        </p:blipFill>
        <p:spPr>
          <a:xfrm>
            <a:off x="6400800" y="2362320"/>
            <a:ext cx="1066680" cy="83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6"/>
          <p:cNvPicPr/>
          <p:nvPr/>
        </p:nvPicPr>
        <p:blipFill>
          <a:blip r:embed="rId4"/>
          <a:stretch/>
        </p:blipFill>
        <p:spPr>
          <a:xfrm>
            <a:off x="5257800" y="2592360"/>
            <a:ext cx="83808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filipp2avg"/>
          <p:cNvPicPr/>
          <p:nvPr/>
        </p:nvPicPr>
        <p:blipFill>
          <a:blip r:embed="rId5"/>
          <a:stretch/>
        </p:blipFill>
        <p:spPr>
          <a:xfrm>
            <a:off x="6400800" y="3429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1"/>
          <p:cNvPicPr/>
          <p:nvPr/>
        </p:nvPicPr>
        <p:blipFill>
          <a:blip r:embed="rId6"/>
          <a:stretch/>
        </p:blipFill>
        <p:spPr>
          <a:xfrm>
            <a:off x="6629400" y="4724280"/>
            <a:ext cx="833400" cy="106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Герб Святого Престола"/>
          <p:cNvPicPr/>
          <p:nvPr/>
        </p:nvPicPr>
        <p:blipFill>
          <a:blip r:embed="rId7"/>
          <a:stretch/>
        </p:blipFill>
        <p:spPr>
          <a:xfrm>
            <a:off x="7924680" y="4419720"/>
            <a:ext cx="811440" cy="1100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93640" y="411120"/>
            <a:ext cx="818460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152280" y="1600200"/>
            <a:ext cx="4800600" cy="4952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ачала кор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чиняли васс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обственных земл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тем начали подчи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е независ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телей обшир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5DE3-F582-4950-8E0C-B4CC8044B52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2AF-4785-4626-8BA7-DC04227D7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457200" y="274680"/>
            <a:ext cx="8458200" cy="109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Сена в Париже. Вид с моста Пон Неф"/>
          <p:cNvPicPr/>
          <p:nvPr/>
        </p:nvPicPr>
        <p:blipFill>
          <a:blip r:embed="rId2"/>
          <a:stretch/>
        </p:blipFill>
        <p:spPr>
          <a:xfrm>
            <a:off x="5181480" y="1447920"/>
            <a:ext cx="3505320" cy="2635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Луара в Нанте"/>
          <p:cNvPicPr/>
          <p:nvPr/>
        </p:nvPicPr>
        <p:blipFill>
          <a:blip r:embed="rId3"/>
          <a:stretch/>
        </p:blipFill>
        <p:spPr>
          <a:xfrm>
            <a:off x="4952880" y="4114800"/>
            <a:ext cx="3962520" cy="2519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228600" y="1523880"/>
            <a:ext cx="4572000" cy="510552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й борьбе коро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шлось столкну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англий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лё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сведения 12">
            <a:hlinkClick r:id="" action="ppaction://hlinkshowjump?jump=lastslide"/>
          </p:cNvPr>
          <p:cNvSpPr/>
          <p:nvPr/>
        </p:nvSpPr>
        <p:spPr>
          <a:xfrm>
            <a:off x="3809880" y="6095880"/>
            <a:ext cx="838440" cy="60984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92" h="21600">
                <a:moveTo>
                  <a:pt x="0" y="0"/>
                </a:moveTo>
                <a:lnTo>
                  <a:pt x="29692" y="0"/>
                </a:lnTo>
                <a:lnTo>
                  <a:pt x="29692" y="21600"/>
                </a:lnTo>
                <a:lnTo>
                  <a:pt x="0" y="21600"/>
                </a:lnTo>
                <a:close/>
              </a:path>
              <a:path fill="lightenLess" w="29692" h="21600">
                <a:moveTo>
                  <a:pt x="0" y="0"/>
                </a:moveTo>
                <a:lnTo>
                  <a:pt x="29692" y="0"/>
                </a:lnTo>
                <a:lnTo>
                  <a:pt x="28292" y="1400"/>
                </a:lnTo>
                <a:lnTo>
                  <a:pt x="1400" y="1400"/>
                </a:lnTo>
                <a:close/>
              </a:path>
              <a:path fill="darken" w="29692" h="21600">
                <a:moveTo>
                  <a:pt x="29692" y="0"/>
                </a:moveTo>
                <a:lnTo>
                  <a:pt x="29692" y="21600"/>
                </a:lnTo>
                <a:lnTo>
                  <a:pt x="28292" y="20200"/>
                </a:lnTo>
                <a:lnTo>
                  <a:pt x="28292" y="1400"/>
                </a:lnTo>
                <a:close/>
              </a:path>
              <a:path fill="darkenLess" w="29692" h="21600">
                <a:moveTo>
                  <a:pt x="2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2" y="20200"/>
                </a:lnTo>
                <a:close/>
              </a:path>
              <a:path fill="lighten" w="2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2" h="21600">
                <a:moveTo>
                  <a:pt x="148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692" h="21600">
                <a:moveTo>
                  <a:pt x="148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692" h="21600">
                <a:moveTo>
                  <a:pt x="12270" y="8224"/>
                </a:moveTo>
                <a:lnTo>
                  <a:pt x="16134" y="8224"/>
                </a:lnTo>
                <a:lnTo>
                  <a:pt x="16134" y="15221"/>
                </a:lnTo>
                <a:lnTo>
                  <a:pt x="17422" y="15221"/>
                </a:lnTo>
                <a:lnTo>
                  <a:pt x="17422" y="16144"/>
                </a:lnTo>
                <a:lnTo>
                  <a:pt x="12270" y="16144"/>
                </a:lnTo>
                <a:lnTo>
                  <a:pt x="12270" y="15221"/>
                </a:lnTo>
                <a:lnTo>
                  <a:pt x="13558" y="15221"/>
                </a:lnTo>
                <a:lnTo>
                  <a:pt x="13558" y="9129"/>
                </a:lnTo>
                <a:lnTo>
                  <a:pt x="12270" y="91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EE19-9010-4EFB-9D41-4FB1793A2D2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CF1D-0A35-401F-8E31-577346304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Филипп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Авгу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(1180-122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File:Louis-Félix Amiel-Philippe II dit Philippe-Auguste Roi de France (1165-1223).jpg"/>
          <p:cNvPicPr/>
          <p:nvPr/>
        </p:nvPicPr>
        <p:blipFill>
          <a:blip r:embed="rId2"/>
          <a:stretch/>
        </p:blipFill>
        <p:spPr>
          <a:xfrm>
            <a:off x="4952880" y="1523880"/>
            <a:ext cx="3984840" cy="5029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1642-E36D-40C0-8ED4-030AEB8668C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C935-E75D-4941-B047-0ABA2F873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вгуст отобрал у английского корол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рманд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ругие области на севере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англичан во Франции осталась лишь часть Аквитан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2"/>
          <p:cNvPicPr/>
          <p:nvPr/>
        </p:nvPicPr>
        <p:blipFill>
          <a:blip r:embed="rId2"/>
          <a:stretch/>
        </p:blipFill>
        <p:spPr>
          <a:xfrm>
            <a:off x="3886200" y="1447920"/>
            <a:ext cx="4998960" cy="41907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57" name="Rectangle 8"/>
          <p:cNvSpPr/>
          <p:nvPr/>
        </p:nvSpPr>
        <p:spPr>
          <a:xfrm>
            <a:off x="3886200" y="5638680"/>
            <a:ext cx="4876920" cy="10670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14г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ва пр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увин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F866-8DC2-41BD-A4BD-516B7B5EFDF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6F5F-3693-435D-8E10-B215A5743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Людовик IX Святой"/>
          <p:cNvPicPr/>
          <p:nvPr/>
        </p:nvPicPr>
        <p:blipFill>
          <a:blip r:embed="rId2"/>
          <a:stretch/>
        </p:blipFill>
        <p:spPr>
          <a:xfrm>
            <a:off x="380880" y="1447920"/>
            <a:ext cx="4119840" cy="51814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6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572000" y="1371600"/>
            <a:ext cx="4419720" cy="5334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л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юдовик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ятой (1226-12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 силь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го феод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и. Изда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ы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овал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.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Королевские законы на всей территории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Запреты междоусобных вой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Королевский су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Королевская мон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Рисунок13"/>
          <p:cNvPicPr/>
          <p:nvPr/>
        </p:nvPicPr>
        <p:blipFill>
          <a:blip r:embed="rId1"/>
          <a:stretch/>
        </p:blipFill>
        <p:spPr>
          <a:xfrm>
            <a:off x="1676520" y="4267080"/>
            <a:ext cx="139212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Рисунок14"/>
          <p:cNvPicPr/>
          <p:nvPr/>
        </p:nvPicPr>
        <p:blipFill>
          <a:blip r:embed="rId2"/>
          <a:stretch/>
        </p:blipFill>
        <p:spPr>
          <a:xfrm>
            <a:off x="4191120" y="4267080"/>
            <a:ext cx="1447560" cy="1427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1843560" y="5791320"/>
            <a:ext cx="382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олотой и серебряный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к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CA71-38F8-427D-8E72-555BF157F4D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59CE-2661-49CD-93C3-4E74B4AEA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1920" y="2361960"/>
            <a:ext cx="4800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Филипп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расивом (1285-131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присоединено богатое графство Шампань и лежащая в Пиренейских горах на юге страна Навар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 и его конфликт с па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Филипп IV Красивый"/>
          <p:cNvPicPr/>
          <p:nvPr/>
        </p:nvPicPr>
        <p:blipFill>
          <a:blip r:embed="rId2"/>
          <a:stretch/>
        </p:blipFill>
        <p:spPr>
          <a:xfrm>
            <a:off x="4911840" y="1600200"/>
            <a:ext cx="4232160" cy="4500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77" name="Rectangle 8"/>
          <p:cNvSpPr/>
          <p:nvPr/>
        </p:nvSpPr>
        <p:spPr>
          <a:xfrm>
            <a:off x="4876920" y="6019920"/>
            <a:ext cx="4267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илипп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рас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Управляющая кнопка: сведения 9">
            <a:hlinkClick r:id="" action="ppaction://hlinkshowjump?jump=lastslide"/>
          </p:cNvPr>
          <p:cNvSpPr/>
          <p:nvPr/>
        </p:nvSpPr>
        <p:spPr>
          <a:xfrm>
            <a:off x="152280" y="60199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3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289">
                <a:moveTo>
                  <a:pt x="10800" y="551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289">
                <a:moveTo>
                  <a:pt x="8224" y="9568"/>
                </a:moveTo>
                <a:lnTo>
                  <a:pt x="12088" y="9568"/>
                </a:lnTo>
                <a:lnTo>
                  <a:pt x="12088" y="16566"/>
                </a:lnTo>
                <a:lnTo>
                  <a:pt x="13376" y="16566"/>
                </a:lnTo>
                <a:lnTo>
                  <a:pt x="13376" y="17488"/>
                </a:lnTo>
                <a:lnTo>
                  <a:pt x="8224" y="17488"/>
                </a:lnTo>
                <a:lnTo>
                  <a:pt x="8224" y="16566"/>
                </a:lnTo>
                <a:lnTo>
                  <a:pt x="9512" y="16566"/>
                </a:lnTo>
                <a:lnTo>
                  <a:pt x="9512" y="10473"/>
                </a:lnTo>
                <a:lnTo>
                  <a:pt x="8224" y="1047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ля чего Филиппу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V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ужны были огромные финансовые сред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53341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анцузский король Филипп IV Красивый вот.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A200-C11B-403D-8047-3A89CB8ECD8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A453-A7C6-48AE-A8EB-4BF59C81B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457200" y="274680"/>
            <a:ext cx="8229600" cy="944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расивый и его конфликт с пап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H:\Алена\Алёна работа\анимашки по истории и не только\вопрос сова.jpg"/>
          <p:cNvPicPr/>
          <p:nvPr/>
        </p:nvPicPr>
        <p:blipFill>
          <a:blip r:embed="rId2"/>
          <a:stretch/>
        </p:blipFill>
        <p:spPr>
          <a:xfrm>
            <a:off x="0" y="4191120"/>
            <a:ext cx="2438280" cy="2666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H:\Алена\Алёна работа\анимашки по истории и не только\44-0-1935.jpg"/>
          <p:cNvPicPr/>
          <p:nvPr/>
        </p:nvPicPr>
        <p:blipFill>
          <a:blip r:embed="rId3"/>
          <a:stretch/>
        </p:blipFill>
        <p:spPr>
          <a:xfrm>
            <a:off x="7620120" y="0"/>
            <a:ext cx="16761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120F-DC41-4D6E-A848-1670B580FD5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742F-1B54-43D1-AE8C-C5BB6042A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ежные трудности вызвали конфликт Филиппа IV с папой,  Бонифацием VI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13080" y="430560"/>
            <a:ext cx="7917840" cy="93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расивый и его конфликт с пап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File:Bonifatius VIII Grabstatue.JPG"/>
          <p:cNvPicPr/>
          <p:nvPr/>
        </p:nvPicPr>
        <p:blipFill>
          <a:blip r:embed="rId2"/>
          <a:stretch/>
        </p:blipFill>
        <p:spPr>
          <a:xfrm>
            <a:off x="4191120" y="1600200"/>
            <a:ext cx="4570200" cy="48769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5105520" y="6488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НИФАЦИЙ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407B-62AC-4FEF-8E09-2909DCAAFF5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8712-BF47-4673-838C-22F647DCA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871560" y="2011320"/>
            <a:ext cx="7785000" cy="11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:\Алена\Алёна работа\анимашки по истории и не только\цветок.jpg"/>
          <p:cNvPicPr/>
          <p:nvPr/>
        </p:nvPicPr>
        <p:blipFill>
          <a:blip r:embed="rId3"/>
          <a:stretch/>
        </p:blipFill>
        <p:spPr>
          <a:xfrm>
            <a:off x="990720" y="3486240"/>
            <a:ext cx="1600200" cy="337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:\Алена\Алёна работа\анимашки по истории и не только\цветы растутjpg.jpg"/>
          <p:cNvPicPr/>
          <p:nvPr/>
        </p:nvPicPr>
        <p:blipFill>
          <a:blip r:embed="rId4"/>
          <a:stretch/>
        </p:blipFill>
        <p:spPr>
          <a:xfrm>
            <a:off x="3962520" y="3733920"/>
            <a:ext cx="1676160" cy="32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:\Алена\Алёна работа\анимашки по истории и не только\цветы ростjpg.jpg"/>
          <p:cNvPicPr/>
          <p:nvPr/>
        </p:nvPicPr>
        <p:blipFill>
          <a:blip r:embed="rId5"/>
          <a:stretch/>
        </p:blipFill>
        <p:spPr>
          <a:xfrm>
            <a:off x="7162920" y="3657600"/>
            <a:ext cx="144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5029200"/>
            <a:ext cx="8508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виньонское пленение (1309-1378гг)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был со всех сторон окружённый    владениями французского ко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84360" y="465300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редневековый Авин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859280" y="4581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зиденция Папы в Авинь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Рисунок20"/>
          <p:cNvPicPr/>
          <p:nvPr/>
        </p:nvPicPr>
        <p:blipFill>
          <a:blip r:embed="rId1"/>
          <a:stretch/>
        </p:blipFill>
        <p:spPr>
          <a:xfrm>
            <a:off x="457200" y="1197000"/>
            <a:ext cx="3429000" cy="354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Рисунок21"/>
          <p:cNvPicPr/>
          <p:nvPr/>
        </p:nvPicPr>
        <p:blipFill>
          <a:blip r:embed="rId2"/>
          <a:stretch/>
        </p:blipFill>
        <p:spPr>
          <a:xfrm>
            <a:off x="3962520" y="1197000"/>
            <a:ext cx="4860720" cy="3479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/>
          <p:cNvSpPr/>
          <p:nvPr/>
        </p:nvSpPr>
        <p:spPr>
          <a:xfrm>
            <a:off x="457200" y="0"/>
            <a:ext cx="8229600" cy="12193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сивый и его конфликт с пап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884D-79BD-4808-BA1D-E65ADDFD3B0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1963-B1D4-4C0B-8BA9-3D9CB6EDB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302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Генеральные ш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Генеральные штаты"/>
          <p:cNvPicPr/>
          <p:nvPr/>
        </p:nvPicPr>
        <p:blipFill>
          <a:blip r:embed="rId2"/>
          <a:stretch/>
        </p:blipFill>
        <p:spPr>
          <a:xfrm>
            <a:off x="2666880" y="1523880"/>
            <a:ext cx="3592800" cy="5181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838080" y="28954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I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духовенство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48520" y="373392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II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дворянство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91440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Monotype Corsiva"/>
              </a:rPr>
              <a:t>III 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бюргерство</a:t>
            </a:r>
            <a:r>
              <a:rPr b="1" lang="en-US" sz="28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5029200"/>
            <a:ext cx="76327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чал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ка во Франции возникл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ословная монарх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458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ранцузский король сопровождаемый представителями трех со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8" descr="Рисунок23"/>
          <p:cNvPicPr/>
          <p:nvPr/>
        </p:nvPicPr>
        <p:blipFill>
          <a:blip r:embed="rId1"/>
          <a:stretch/>
        </p:blipFill>
        <p:spPr>
          <a:xfrm>
            <a:off x="539640" y="907920"/>
            <a:ext cx="8083800" cy="3624480"/>
          </a:xfrm>
          <a:prstGeom prst="rect">
            <a:avLst/>
          </a:prstGeom>
          <a:ln w="0">
            <a:noFill/>
          </a:ln>
        </p:spPr>
      </p:pic>
      <p:sp>
        <p:nvSpPr>
          <p:cNvPr id="214" name="Управляющая кнопка: сведения 7">
            <a:hlinkClick r:id="" action="ppaction://hlinkshowjump?jump=nextslide"/>
          </p:cNvPr>
          <p:cNvSpPr/>
          <p:nvPr/>
        </p:nvSpPr>
        <p:spPr>
          <a:xfrm>
            <a:off x="822960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1162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255" h="21600">
                <a:moveTo>
                  <a:pt x="1162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255" h="21600">
                <a:moveTo>
                  <a:pt x="9051" y="8224"/>
                </a:moveTo>
                <a:lnTo>
                  <a:pt x="12915" y="8224"/>
                </a:lnTo>
                <a:lnTo>
                  <a:pt x="12915" y="15221"/>
                </a:lnTo>
                <a:lnTo>
                  <a:pt x="14204" y="15221"/>
                </a:lnTo>
                <a:lnTo>
                  <a:pt x="14204" y="16144"/>
                </a:lnTo>
                <a:lnTo>
                  <a:pt x="9051" y="16144"/>
                </a:lnTo>
                <a:lnTo>
                  <a:pt x="9051" y="15221"/>
                </a:lnTo>
                <a:lnTo>
                  <a:pt x="10339" y="15221"/>
                </a:lnTo>
                <a:lnTo>
                  <a:pt x="10339" y="9129"/>
                </a:lnTo>
                <a:lnTo>
                  <a:pt x="9051" y="91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3840" y="123840"/>
            <a:ext cx="8896320" cy="74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неральные ш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E7E-1745-4E3D-AE8C-91135DB2023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CAF1-24C6-4AEA-93DB-98B66C10D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ва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ословная монарх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централизованное государство, в котором королевская власть опиралась на собрание представителей сосло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7"/>
          <p:cNvSpPr/>
          <p:nvPr/>
        </p:nvSpPr>
        <p:spPr>
          <a:xfrm>
            <a:off x="152280" y="4191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Генеральные шта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рание представителей сосло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H:\Алена\Алёна работа\анимашки по истории и не только\44-0-1935.jpg"/>
          <p:cNvPicPr/>
          <p:nvPr/>
        </p:nvPicPr>
        <p:blipFill>
          <a:blip r:embed="rId2"/>
          <a:stretch/>
        </p:blipFill>
        <p:spPr>
          <a:xfrm>
            <a:off x="228600" y="0"/>
            <a:ext cx="16765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ABE9-C4A9-4DFA-82BE-F62441CADA0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F6F7-C687-4932-9E34-6ADD6E1AD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тельно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ранции было неизбеж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ыт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правляющая кнопка: сведения 9">
            <a:hlinkClick r:id="" action="ppaction://hlinkshowjump?jump=firstslide"/>
          </p:cNvPr>
          <p:cNvSpPr/>
          <p:nvPr/>
        </p:nvSpPr>
        <p:spPr>
          <a:xfrm>
            <a:off x="7848720" y="5815080"/>
            <a:ext cx="1295280" cy="1042920"/>
          </a:xfrm>
          <a:custGeom>
            <a:avLst/>
            <a:gdLst>
              <a:gd name="textAreaLeft" fmla="*/ 67320 w 1295280"/>
              <a:gd name="textAreaRight" fmla="*/ 1227960 w 1295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825" h="21600">
                <a:moveTo>
                  <a:pt x="0" y="0"/>
                </a:moveTo>
                <a:lnTo>
                  <a:pt x="26825" y="0"/>
                </a:lnTo>
                <a:lnTo>
                  <a:pt x="26825" y="21600"/>
                </a:lnTo>
                <a:lnTo>
                  <a:pt x="0" y="21600"/>
                </a:lnTo>
                <a:close/>
              </a:path>
              <a:path fill="lightenLess" w="26825" h="21600">
                <a:moveTo>
                  <a:pt x="0" y="0"/>
                </a:moveTo>
                <a:lnTo>
                  <a:pt x="26825" y="0"/>
                </a:lnTo>
                <a:lnTo>
                  <a:pt x="25425" y="1400"/>
                </a:lnTo>
                <a:lnTo>
                  <a:pt x="1400" y="1400"/>
                </a:lnTo>
                <a:close/>
              </a:path>
              <a:path fill="darken" w="26825" h="21600">
                <a:moveTo>
                  <a:pt x="26825" y="0"/>
                </a:moveTo>
                <a:lnTo>
                  <a:pt x="26825" y="21600"/>
                </a:lnTo>
                <a:lnTo>
                  <a:pt x="25425" y="20200"/>
                </a:lnTo>
                <a:lnTo>
                  <a:pt x="25425" y="1400"/>
                </a:lnTo>
                <a:close/>
              </a:path>
              <a:path fill="darkenLess" w="26825" h="21600">
                <a:moveTo>
                  <a:pt x="2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25" y="20200"/>
                </a:lnTo>
                <a:close/>
              </a:path>
              <a:path fill="lighten" w="2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25" h="21600">
                <a:moveTo>
                  <a:pt x="1341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825" h="21600">
                <a:moveTo>
                  <a:pt x="1341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825" h="21600">
                <a:moveTo>
                  <a:pt x="10836" y="8224"/>
                </a:moveTo>
                <a:lnTo>
                  <a:pt x="14701" y="8224"/>
                </a:lnTo>
                <a:lnTo>
                  <a:pt x="14701" y="15221"/>
                </a:lnTo>
                <a:lnTo>
                  <a:pt x="15989" y="15221"/>
                </a:lnTo>
                <a:lnTo>
                  <a:pt x="15989" y="16144"/>
                </a:lnTo>
                <a:lnTo>
                  <a:pt x="10836" y="16144"/>
                </a:lnTo>
                <a:lnTo>
                  <a:pt x="10836" y="15221"/>
                </a:lnTo>
                <a:lnTo>
                  <a:pt x="12124" y="15221"/>
                </a:lnTo>
                <a:lnTo>
                  <a:pt x="12124" y="9129"/>
                </a:lnTo>
                <a:lnTo>
                  <a:pt x="10836" y="91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H:\Алена\Алёна работа\анимашки по истории и не только\вопросик.gif"/>
          <p:cNvPicPr/>
          <p:nvPr/>
        </p:nvPicPr>
        <p:blipFill>
          <a:blip r:embed="rId2"/>
          <a:stretch/>
        </p:blipFill>
        <p:spPr>
          <a:xfrm>
            <a:off x="3048120" y="3809880"/>
            <a:ext cx="3066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Да» или «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. Во время феодальной раздробленности королей Франции называли: «первый среди равн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о Франции действовал принцип «вассал моего вассала – не мой васс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роли Франции не имели поддержки горожан в усилиях объединить стр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DAC4-B4AC-47D2-B8EB-2E081868D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 созывом Генеральных штатов во Франции установилась сословная 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ленение пап проходило в городе Авиньон, который был окружен владениями французского ко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B6C5-9FD7-4714-A46F-010A9AC3E21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B0C0-B831-475E-8B78-44ACC5114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600200"/>
          <a:ext cx="8229600" cy="378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А. Филипп </a:t>
                      </a:r>
                      <a:r>
                        <a:rPr b="1" i="1" lang="en-US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I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здал Генеральные шта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здал систему королевского управл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бедил в битве при Був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учил прозвище Свят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 нём началось авиньонское пленение п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 Людовик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 Филипп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87A5-9599-44BF-8994-D6F593204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33520" y="2286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репл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ите соответств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57200" y="1600200"/>
          <a:ext cx="8229600" cy="4022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 АЛЬБИГОЙ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Земельные владения наследника французского прест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 ДОФ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олотая и серебренная монета во Фра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 СОСЛО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Личное владение французского ко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 ДОМ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Еретическая секта на юге Фра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. ЭК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Большая группа людей, отличающаяся закреплёнными за ними правами и обязанностями, передающаяся по наследст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9C60-7DAB-486C-867E-836C38E1438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5923-5886-4069-9F78-FABB6747E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реплени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ите соответств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637A-49B6-4659-BE7F-655DE976B14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79F8-AE3B-46AC-9B5F-B13F31E7C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раграф 17, вопросы, записи в тетради, кроссворд по желанию на оцен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Найдите лишне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Ричард Львиное серд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Филип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вгу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рб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Фридрих Барбаро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ак европейцы называли египетского султана захватившего Иерусали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-Биру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рун ар-Раш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лад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Во время четвёртого крестового похода крестоносцы отправились не в Палестину, а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не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изант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нг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95B9-F2E3-4BDD-9EF6-33DB2CE5E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457200" y="0"/>
            <a:ext cx="8229600" cy="9144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:\Алена\Алёна работа\анимашки по истории и не только\вопрос сова.jpg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243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19D9-F021-4EDD-9B42-2519B902CAF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B47F-3049-4034-9B90-903D01307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6" descr=""/>
          <p:cNvPicPr/>
          <p:nvPr/>
        </p:nvPicPr>
        <p:blipFill>
          <a:blip r:embed="rId2"/>
          <a:stretch/>
        </p:blipFill>
        <p:spPr>
          <a:xfrm>
            <a:off x="871560" y="2011320"/>
            <a:ext cx="7785000" cy="1152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H:\Алена\Алёна работа\анимашки по истории и не только\цветок.jpg"/>
          <p:cNvPicPr/>
          <p:nvPr/>
        </p:nvPicPr>
        <p:blipFill>
          <a:blip r:embed="rId3"/>
          <a:stretch/>
        </p:blipFill>
        <p:spPr>
          <a:xfrm>
            <a:off x="990720" y="3486240"/>
            <a:ext cx="1600200" cy="3371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H:\Алена\Алёна работа\анимашки по истории и не только\цветы растутjpg.jpg"/>
          <p:cNvPicPr/>
          <p:nvPr/>
        </p:nvPicPr>
        <p:blipFill>
          <a:blip r:embed="rId4"/>
          <a:stretch/>
        </p:blipFill>
        <p:spPr>
          <a:xfrm>
            <a:off x="3962520" y="3733920"/>
            <a:ext cx="1676160" cy="32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H:\Алена\Алёна работа\анимашки по истории и не только\цветы ростjpg.jpg"/>
          <p:cNvPicPr/>
          <p:nvPr/>
        </p:nvPicPr>
        <p:blipFill>
          <a:blip r:embed="rId5"/>
          <a:stretch/>
        </p:blipFill>
        <p:spPr>
          <a:xfrm>
            <a:off x="7162920" y="3657600"/>
            <a:ext cx="144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C:\Documents and Settings\User\Рабочий стол\урок открытый\карта.jpg"/>
          <p:cNvPicPr/>
          <p:nvPr/>
        </p:nvPicPr>
        <p:blipFill>
          <a:blip r:embed="rId1"/>
          <a:stretch/>
        </p:blipFill>
        <p:spPr>
          <a:xfrm>
            <a:off x="9907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Управляющая кнопка: возврат 2">
            <a:hlinkClick r:id="" action="ppaction://hlinkshowjump?jump=previousslide"/>
          </p:cNvPr>
          <p:cNvSpPr/>
          <p:nvPr/>
        </p:nvSpPr>
        <p:spPr>
          <a:xfrm>
            <a:off x="81532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8471"/>
                </a:moveTo>
                <a:lnTo>
                  <a:pt x="7301" y="8471"/>
                </a:lnTo>
                <a:lnTo>
                  <a:pt x="7301" y="13806"/>
                </a:lnTo>
                <a:cubicBezTo>
                  <a:pt x="7301" y="14729"/>
                  <a:pt x="8102" y="15460"/>
                  <a:pt x="9138" y="15460"/>
                </a:cubicBezTo>
                <a:lnTo>
                  <a:pt x="10800" y="15460"/>
                </a:lnTo>
                <a:cubicBezTo>
                  <a:pt x="11836" y="15460"/>
                  <a:pt x="12636" y="14729"/>
                  <a:pt x="12636" y="13806"/>
                </a:cubicBezTo>
                <a:lnTo>
                  <a:pt x="12636" y="8471"/>
                </a:lnTo>
                <a:lnTo>
                  <a:pt x="10800" y="8471"/>
                </a:lnTo>
                <a:lnTo>
                  <a:pt x="14308" y="4963"/>
                </a:lnTo>
                <a:lnTo>
                  <a:pt x="17981" y="8471"/>
                </a:lnTo>
                <a:lnTo>
                  <a:pt x="16144" y="8471"/>
                </a:lnTo>
                <a:lnTo>
                  <a:pt x="16144" y="13806"/>
                </a:lnTo>
                <a:cubicBezTo>
                  <a:pt x="16144" y="16574"/>
                  <a:pt x="13568" y="19133"/>
                  <a:pt x="10800" y="19133"/>
                </a:cubicBezTo>
                <a:lnTo>
                  <a:pt x="9138" y="19133"/>
                </a:lnTo>
                <a:cubicBezTo>
                  <a:pt x="6370" y="19133"/>
                  <a:pt x="3794" y="16574"/>
                  <a:pt x="3794" y="13806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C:\Documents and Settings\User\Рабочий стол\глобус.gif"/>
          <p:cNvPicPr/>
          <p:nvPr/>
        </p:nvPicPr>
        <p:blipFill>
          <a:blip r:embed="rId2"/>
          <a:stretch/>
        </p:blipFill>
        <p:spPr>
          <a:xfrm>
            <a:off x="6629400" y="2514600"/>
            <a:ext cx="2286000" cy="29923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6790680" y="53352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1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т орден был основан группой французских рыцарей, его главная резиденция находилась на месте разрушенного иудейского х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питаль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вто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пли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аком году образовалось Иерусалимское королев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95г.     2. 1097г. 3. 109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из перечисленных участвуя в третьем крестовом походе утонул переправляясь через ре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Фридрих Барбаро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Энрико Дандол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ичард Львиное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7562-C402-4614-BD05-C07D20DB1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H:\Алена\Алёна работа\анимашки по истории и не только\вопрос сова.jpg"/>
          <p:cNvPicPr/>
          <p:nvPr/>
        </p:nvPicPr>
        <p:blipFill>
          <a:blip r:embed="rId1"/>
          <a:stretch/>
        </p:blipFill>
        <p:spPr>
          <a:xfrm>
            <a:off x="7162920" y="4800600"/>
            <a:ext cx="1981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-360" y="3124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« Как происходило объединение Франции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ата 4"/>
          <p:cNvSpPr/>
          <p:nvPr/>
        </p:nvSpPr>
        <p:spPr>
          <a:xfrm>
            <a:off x="457200" y="6858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675-8347-4127-947D-06CF799F8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H:\Алена\Алёна работа\анимашки по истории и не только\аним фон.gif"/>
          <p:cNvPicPr/>
          <p:nvPr/>
        </p:nvPicPr>
        <p:blipFill>
          <a:blip r:embed="rId2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:\Алена\Алёна работа\анимашки по истории и не только\аним фон.gif"/>
          <p:cNvPicPr/>
          <p:nvPr/>
        </p:nvPicPr>
        <p:blipFill>
          <a:blip r:embed="rId3"/>
          <a:stretch/>
        </p:blipFill>
        <p:spPr>
          <a:xfrm>
            <a:off x="0" y="6572160"/>
            <a:ext cx="914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212-B5C0-43F2-80D2-F6CA55D1575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5B69-1ADD-4340-9CF4-AAADB3E25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79880" y="297000"/>
            <a:ext cx="8184240" cy="13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04920" y="914400"/>
            <a:ext cx="8839080" cy="480060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был заинтересован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единении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Первые успехи объед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Филипп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расивый и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фликт с пап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Генеральные шт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3421-449A-4009-BE73-8295F9304D2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975A-C074-4B09-B3E1-0A2168B48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йствительно 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ранции было неизбежн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быт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H:\Алена\Алёна работа\анимашки по истории и не только\вопросик.gif"/>
          <p:cNvPicPr/>
          <p:nvPr/>
        </p:nvPicPr>
        <p:blipFill>
          <a:blip r:embed="rId2"/>
          <a:stretch/>
        </p:blipFill>
        <p:spPr>
          <a:xfrm>
            <a:off x="6172200" y="3886200"/>
            <a:ext cx="2971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был заинтересован в объедин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80880" y="1600200"/>
            <a:ext cx="822960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то мог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интересован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динении Фран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.146, пункт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H:\Алена\Алёна работа\анимашки по истории и не только\вопрос сова.jpg"/>
          <p:cNvPicPr/>
          <p:nvPr/>
        </p:nvPicPr>
        <p:blipFill>
          <a:blip r:embed="rId2"/>
          <a:stretch/>
        </p:blipFill>
        <p:spPr>
          <a:xfrm>
            <a:off x="3352680" y="4425840"/>
            <a:ext cx="2286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990360"/>
            <a:ext cx="76197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1. Какой город во Франции, был  экономическим и политическим центром Фран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. Что может мешать развитию стра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3.  Что  или кто мог навести порядок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4. Какими были взаимоотношения городов и сеньо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5. Какими действиями король мог ослабить непокорных васса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6. Как крестьяне благодарили короля за оказанную помощ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7. Кто не хотел усиления власти короля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09AA-75D8-4158-ACB4-B46E9970C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:\Алена\Алёна работа\анимашки по истории и не только\вопрос сова.jpg"/>
          <p:cNvPicPr/>
          <p:nvPr/>
        </p:nvPicPr>
        <p:blipFill>
          <a:blip r:embed="rId1"/>
          <a:stretch/>
        </p:blipFill>
        <p:spPr>
          <a:xfrm>
            <a:off x="6781680" y="380880"/>
            <a:ext cx="20732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ча</cp:lastModifiedBy>
  <dcterms:modified xsi:type="dcterms:W3CDTF">2015-11-18T19:56:1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