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51.png" ContentType="image/png"/>
  <Override PartName="/ppt/media/image4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CD3A-ED0F-406F-9022-A6B5B15F0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CF6-977B-4EDA-9091-7F8AD4662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0AA-F186-4828-B6BD-0CCDD672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153-6D75-4D8B-AFFC-0B8F05D3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3F6-FFC1-4E73-AE4D-3A0996A6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9F8-B1E5-4946-B5BA-D3D32F2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1F5-5046-4633-BEFE-F4CF098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DA1-266B-4EE3-A1FA-8374900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5AD1-4DE6-459E-9A08-25F15CC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58B-B0B5-4B0C-A062-7958CF91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C2F-E00B-4C76-806C-ED24741F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9B4-A90B-471D-985E-7737C1D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AA8D-6F13-434E-AE31-CE23E1E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4B-BBE0-4FC5-941C-5FCBA9D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974-E952-4F92-A695-412D511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19F2-955E-4533-92E2-80DDBDD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83E-C771-40A1-A2A9-B9F4FB89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5E06-E155-4F62-B19A-16FB5E66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DED-852C-47A2-99F8-D2D6657D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A650-118A-4B8D-ADE8-AA13AFEE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AC5F-3326-41CC-AEF5-425E3E26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D2A6-22CC-413B-852D-5D2B8C1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DD31-4F34-4E3E-AD9E-793DDED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75E3-6DEA-444D-ADB0-05D77C47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DBE-6FFB-41BD-95EF-D8E35376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D709-CD6E-49DB-9BAB-F091532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95D6-C66C-4698-B965-1ED794E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8CC1-BD6C-408B-8B35-0D15D43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6858-ABBD-4D8F-8454-F145D24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FC6F-28DF-4B65-A74F-14E2035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1072-7D0F-4E7D-92B3-D286D98B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3C96-F047-4292-9ADC-DF761E7A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2B53-FC99-4A53-A068-C628DFEA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5FED-CC00-4BDA-AE19-500DBC61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9799-A923-4CC1-AC9E-13B6926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3ED-51A8-4B05-9542-EE8D6E96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B7B7-6EF4-40B8-AC24-7B892AFA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B780-1E12-49C9-9179-767BBA85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4160-47A5-4C56-BF2A-00E973C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AEBA8-C1F5-42A0-8034-E369514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F445-66A4-4369-BEA9-429BD7B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F7F8-60B9-4FA3-B344-ED44473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C5D3-780D-4BBE-9A33-66ED3D6C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B6C3-2299-4353-A1D0-D10E0B2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DF5D-03EE-4D47-AD5D-B5D3BD0F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54D-CB91-47C8-B9D5-59DBBEB5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DE5-3D10-45B6-85AA-A63FCA5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A1B-3077-41B9-AF68-5DF11F8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A2E-2F48-4087-91E0-ECD7D4A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39F-58F3-405E-9391-ADA37A3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11E-83C8-4C11-894E-AF43D5FB932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BA7-0B02-4AE6-8755-74CC3396B23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7C9-E532-4CFD-ADF8-D9EE370BEFF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B85-4F91-47A7-AD6C-43B9723AFEA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имся читать по-немец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ель немецкого язык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БОУ  СОШ № 18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.Новосибирс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ьина Яна Валерьев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22143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000680" y="714240"/>
            <a:ext cx="4643280" cy="18576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сверху две антен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 нам поставить можн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змени произношение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делав губки уж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7-конечная звезда 3"/>
          <p:cNvSpPr/>
          <p:nvPr/>
        </p:nvSpPr>
        <p:spPr>
          <a:xfrm>
            <a:off x="0" y="0"/>
            <a:ext cx="3000240" cy="242892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Блок-схема: перфолента 12" descr=""/>
          <p:cNvPicPr/>
          <p:nvPr/>
        </p:nvPicPr>
        <p:blipFill>
          <a:blip r:embed="rId1"/>
          <a:stretch/>
        </p:blipFill>
        <p:spPr>
          <a:xfrm>
            <a:off x="2792520" y="4743360"/>
            <a:ext cx="3773520" cy="17366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9"/>
          <p:cNvSpPr/>
          <p:nvPr/>
        </p:nvSpPr>
        <p:spPr>
          <a:xfrm>
            <a:off x="428760" y="0"/>
            <a:ext cx="186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      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ä</a:t>
            </a: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ö</a:t>
            </a: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Блок-схема: перфолента 10" descr=""/>
          <p:cNvPicPr/>
          <p:nvPr/>
        </p:nvPicPr>
        <p:blipFill>
          <a:blip r:embed="rId2"/>
          <a:stretch/>
        </p:blipFill>
        <p:spPr>
          <a:xfrm>
            <a:off x="4932360" y="3103560"/>
            <a:ext cx="3930480" cy="1730520"/>
          </a:xfrm>
          <a:prstGeom prst="rect">
            <a:avLst/>
          </a:prstGeom>
          <a:ln w="0">
            <a:noFill/>
          </a:ln>
        </p:spPr>
      </p:pic>
      <p:pic>
        <p:nvPicPr>
          <p:cNvPr id="318" name="Блок-схема: перфолента 11" descr=""/>
          <p:cNvPicPr/>
          <p:nvPr/>
        </p:nvPicPr>
        <p:blipFill>
          <a:blip r:embed="rId3"/>
          <a:stretch/>
        </p:blipFill>
        <p:spPr>
          <a:xfrm>
            <a:off x="360360" y="2743200"/>
            <a:ext cx="2706840" cy="173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22143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143160" y="1143000"/>
            <a:ext cx="5786640" cy="221472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огда в начале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о мне приходят справа в гост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Я их соседство не терплю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каждый раз на их шипл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7-конечная звезда 3"/>
          <p:cNvSpPr/>
          <p:nvPr/>
        </p:nvSpPr>
        <p:spPr>
          <a:xfrm>
            <a:off x="0" y="214200"/>
            <a:ext cx="3071880" cy="22860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sp,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Волна 5" descr=""/>
          <p:cNvPicPr/>
          <p:nvPr/>
        </p:nvPicPr>
        <p:blipFill>
          <a:blip r:embed="rId1"/>
          <a:stretch/>
        </p:blipFill>
        <p:spPr>
          <a:xfrm>
            <a:off x="231840" y="3249720"/>
            <a:ext cx="2889360" cy="179856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1359000" y="4816440"/>
            <a:ext cx="3852720" cy="1663560"/>
          </a:xfrm>
          <a:prstGeom prst="rect">
            <a:avLst/>
          </a:prstGeom>
          <a:ln w="0">
            <a:noFill/>
          </a:ln>
        </p:spPr>
      </p:pic>
      <p:pic>
        <p:nvPicPr>
          <p:cNvPr id="325" name="Блок-схема: перфолента 12" descr=""/>
          <p:cNvPicPr/>
          <p:nvPr/>
        </p:nvPicPr>
        <p:blipFill>
          <a:blip r:embed="rId3"/>
          <a:stretch/>
        </p:blipFill>
        <p:spPr>
          <a:xfrm>
            <a:off x="5430960" y="3956040"/>
            <a:ext cx="349380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43574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en-US" sz="5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h,eh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h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oh,uh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2714400"/>
            <a:ext cx="4643280" cy="242892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жентльмен я после гласных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Уступлю им место сраз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Хоть я сам и не звуч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Я их звук продлить хоч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7-конечная звезда 3"/>
          <p:cNvSpPr/>
          <p:nvPr/>
        </p:nvSpPr>
        <p:spPr>
          <a:xfrm>
            <a:off x="0" y="0"/>
            <a:ext cx="4143240" cy="25002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Волна 5" descr=""/>
          <p:cNvPicPr/>
          <p:nvPr/>
        </p:nvPicPr>
        <p:blipFill>
          <a:blip r:embed="rId1"/>
          <a:stretch/>
        </p:blipFill>
        <p:spPr>
          <a:xfrm>
            <a:off x="146160" y="5321160"/>
            <a:ext cx="2566800" cy="16956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261040" y="3749760"/>
            <a:ext cx="3706920" cy="1663560"/>
          </a:xfrm>
          <a:prstGeom prst="rect">
            <a:avLst/>
          </a:prstGeom>
          <a:ln w="0">
            <a:noFill/>
          </a:ln>
        </p:spPr>
      </p:pic>
      <p:pic>
        <p:nvPicPr>
          <p:cNvPr id="332" name="Блок-схема: перфолента 12" descr=""/>
          <p:cNvPicPr/>
          <p:nvPr/>
        </p:nvPicPr>
        <p:blipFill>
          <a:blip r:embed="rId3"/>
          <a:stretch/>
        </p:blipFill>
        <p:spPr>
          <a:xfrm>
            <a:off x="5364000" y="5389560"/>
            <a:ext cx="2633760" cy="1657440"/>
          </a:xfrm>
          <a:prstGeom prst="rect">
            <a:avLst/>
          </a:prstGeom>
          <a:ln w="0">
            <a:noFill/>
          </a:ln>
        </p:spPr>
      </p:pic>
      <p:sp>
        <p:nvSpPr>
          <p:cNvPr id="333" name="Содержимое 2"/>
          <p:cNvSpPr/>
          <p:nvPr/>
        </p:nvSpPr>
        <p:spPr>
          <a:xfrm>
            <a:off x="4786200" y="2286000"/>
            <a:ext cx="4357800" cy="11430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После 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я исчез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оже место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уступаю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7-конечная звезда 11"/>
          <p:cNvSpPr/>
          <p:nvPr/>
        </p:nvSpPr>
        <p:spPr>
          <a:xfrm>
            <a:off x="6000840" y="0"/>
            <a:ext cx="2714400" cy="20718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5072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ja,je,j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3280" y="1071720"/>
            <a:ext cx="4214880" cy="307152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рядом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j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кажем громко: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Я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рядом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j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кажем дружно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Ю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рядом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j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кажем вместе: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Е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7-конечная звезда 3"/>
          <p:cNvSpPr/>
          <p:nvPr/>
        </p:nvSpPr>
        <p:spPr>
          <a:xfrm>
            <a:off x="214200" y="0"/>
            <a:ext cx="3429000" cy="25002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Волна 5" descr=""/>
          <p:cNvPicPr/>
          <p:nvPr/>
        </p:nvPicPr>
        <p:blipFill>
          <a:blip r:embed="rId1"/>
          <a:stretch/>
        </p:blipFill>
        <p:spPr>
          <a:xfrm>
            <a:off x="219240" y="3535200"/>
            <a:ext cx="3706560" cy="17258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578560" y="4352760"/>
            <a:ext cx="3419280" cy="1663920"/>
          </a:xfrm>
          <a:prstGeom prst="rect">
            <a:avLst/>
          </a:prstGeom>
          <a:ln w="0">
            <a:noFill/>
          </a:ln>
        </p:spPr>
      </p:pic>
      <p:pic>
        <p:nvPicPr>
          <p:cNvPr id="341" name="Блок-схема: перфолента 12" descr=""/>
          <p:cNvPicPr/>
          <p:nvPr/>
        </p:nvPicPr>
        <p:blipFill>
          <a:blip r:embed="rId3"/>
          <a:stretch/>
        </p:blipFill>
        <p:spPr>
          <a:xfrm>
            <a:off x="2292480" y="5205240"/>
            <a:ext cx="2919240" cy="166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45720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642760" y="1143000"/>
            <a:ext cx="6286680" cy="221472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смотри в конец словеч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идишь буквы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i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а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g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лышишь, как они хохочут вмест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«Ихь,ихь,ихь» -да,да,д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7-конечная звезда 3"/>
          <p:cNvSpPr/>
          <p:nvPr/>
        </p:nvSpPr>
        <p:spPr>
          <a:xfrm>
            <a:off x="0" y="0"/>
            <a:ext cx="2571840" cy="22860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Волна 5" descr=""/>
          <p:cNvPicPr/>
          <p:nvPr/>
        </p:nvPicPr>
        <p:blipFill>
          <a:blip r:embed="rId1"/>
          <a:stretch/>
        </p:blipFill>
        <p:spPr>
          <a:xfrm>
            <a:off x="291960" y="3749760"/>
            <a:ext cx="3846600" cy="16938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924520" y="4389480"/>
            <a:ext cx="3073320" cy="1730160"/>
          </a:xfrm>
          <a:prstGeom prst="rect">
            <a:avLst/>
          </a:prstGeom>
          <a:ln w="0">
            <a:noFill/>
          </a:ln>
        </p:spPr>
      </p:pic>
      <p:pic>
        <p:nvPicPr>
          <p:cNvPr id="348" name="Блок-схема: перфолента 12" descr=""/>
          <p:cNvPicPr/>
          <p:nvPr/>
        </p:nvPicPr>
        <p:blipFill>
          <a:blip r:embed="rId3"/>
          <a:stretch/>
        </p:blipFill>
        <p:spPr>
          <a:xfrm>
            <a:off x="2792520" y="5205240"/>
            <a:ext cx="3058920" cy="166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45720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000680" y="1285920"/>
            <a:ext cx="4714560" cy="164304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z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идели на траве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упала,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пропал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то остался на тру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7-конечная звезда 3"/>
          <p:cNvSpPr/>
          <p:nvPr/>
        </p:nvSpPr>
        <p:spPr>
          <a:xfrm>
            <a:off x="214200" y="0"/>
            <a:ext cx="2857680" cy="25002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Волна 5" descr=""/>
          <p:cNvPicPr/>
          <p:nvPr/>
        </p:nvPicPr>
        <p:blipFill>
          <a:blip r:embed="rId1"/>
          <a:stretch/>
        </p:blipFill>
        <p:spPr>
          <a:xfrm>
            <a:off x="291960" y="3535200"/>
            <a:ext cx="3846600" cy="16956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578560" y="3780000"/>
            <a:ext cx="3132000" cy="16635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перфолента 12" descr=""/>
          <p:cNvPicPr/>
          <p:nvPr/>
        </p:nvPicPr>
        <p:blipFill>
          <a:blip r:embed="rId3"/>
          <a:stretch/>
        </p:blipFill>
        <p:spPr>
          <a:xfrm>
            <a:off x="2792520" y="5205240"/>
            <a:ext cx="3058920" cy="166536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9"/>
          <p:cNvSpPr/>
          <p:nvPr/>
        </p:nvSpPr>
        <p:spPr>
          <a:xfrm>
            <a:off x="642960" y="78588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t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45720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999800" y="2643120"/>
            <a:ext cx="6072120" cy="164304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onstantia"/>
              </a:rPr>
              <a:t>DANKE SCH</a:t>
            </a:r>
            <a:r>
              <a:rPr b="0" i="1" lang="ru-RU" sz="8800" spc="-1" strike="noStrike">
                <a:solidFill>
                  <a:srgbClr val="ff0000"/>
                </a:solidFill>
                <a:latin typeface="Century Schoolbook"/>
              </a:rPr>
              <a:t>ö</a:t>
            </a:r>
            <a:r>
              <a:rPr b="1" i="1" lang="en-US" sz="6000" spc="-1" strike="noStrike">
                <a:solidFill>
                  <a:srgbClr val="ff0000"/>
                </a:solidFill>
                <a:latin typeface="Constantia"/>
              </a:rPr>
              <a:t>N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14288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4900" spc="-1" strike="noStrike">
                <a:solidFill>
                  <a:srgbClr val="ff0000"/>
                </a:solidFill>
                <a:latin typeface="Calibri"/>
              </a:rPr>
              <a:t>ei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85520" y="2142720"/>
            <a:ext cx="7715160" cy="11430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гласные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e,i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друг поставить рядом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Будут гласные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e,i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Ай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 кричать с досады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7-конечная звезда 3"/>
          <p:cNvSpPr/>
          <p:nvPr/>
        </p:nvSpPr>
        <p:spPr>
          <a:xfrm>
            <a:off x="214200" y="0"/>
            <a:ext cx="2714760" cy="185724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Волна 5"/>
          <p:cNvGrpSpPr/>
          <p:nvPr/>
        </p:nvGrpSpPr>
        <p:grpSpPr>
          <a:xfrm>
            <a:off x="219240" y="3676680"/>
            <a:ext cx="2993760" cy="1407960"/>
            <a:chOff x="219240" y="3676680"/>
            <a:chExt cx="2993760" cy="1407960"/>
          </a:xfrm>
        </p:grpSpPr>
        <p:pic>
          <p:nvPicPr>
            <p:cNvPr id="208" name="Волна 5" descr=""/>
            <p:cNvPicPr/>
            <p:nvPr/>
          </p:nvPicPr>
          <p:blipFill>
            <a:blip r:embed="rId1"/>
            <a:stretch/>
          </p:blipFill>
          <p:spPr>
            <a:xfrm>
              <a:off x="219240" y="3676680"/>
              <a:ext cx="29937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85840" y="4037040"/>
              <a:ext cx="28573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Блок-схема: перфолента 8"/>
          <p:cNvGrpSpPr/>
          <p:nvPr/>
        </p:nvGrpSpPr>
        <p:grpSpPr>
          <a:xfrm>
            <a:off x="3645000" y="5102280"/>
            <a:ext cx="2639880" cy="1206360"/>
            <a:chOff x="3645000" y="5102280"/>
            <a:chExt cx="2639880" cy="1206360"/>
          </a:xfrm>
        </p:grpSpPr>
        <p:pic>
          <p:nvPicPr>
            <p:cNvPr id="212" name="Блок-схема: перфолента 8" descr=""/>
            <p:cNvPicPr/>
            <p:nvPr/>
          </p:nvPicPr>
          <p:blipFill>
            <a:blip r:embed="rId2"/>
            <a:stretch/>
          </p:blipFill>
          <p:spPr>
            <a:xfrm>
              <a:off x="3645000" y="5102280"/>
              <a:ext cx="26398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714840" y="5357880"/>
              <a:ext cx="2500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Блок-схема: перфолента 12"/>
          <p:cNvGrpSpPr/>
          <p:nvPr/>
        </p:nvGrpSpPr>
        <p:grpSpPr>
          <a:xfrm>
            <a:off x="5505480" y="3389400"/>
            <a:ext cx="3346560" cy="1201680"/>
            <a:chOff x="5505480" y="3389400"/>
            <a:chExt cx="3346560" cy="1201680"/>
          </a:xfrm>
        </p:grpSpPr>
        <p:pic>
          <p:nvPicPr>
            <p:cNvPr id="215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5505480" y="3389400"/>
              <a:ext cx="3346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080" y="3643200"/>
              <a:ext cx="3214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Прямоугольник 17" descr=""/>
          <p:cNvPicPr/>
          <p:nvPr/>
        </p:nvPicPr>
        <p:blipFill>
          <a:blip r:embed="rId4"/>
          <a:stretch/>
        </p:blipFill>
        <p:spPr>
          <a:xfrm>
            <a:off x="5851440" y="3432240"/>
            <a:ext cx="2586240" cy="155412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9" descr=""/>
          <p:cNvPicPr/>
          <p:nvPr/>
        </p:nvPicPr>
        <p:blipFill>
          <a:blip r:embed="rId5"/>
          <a:stretch/>
        </p:blipFill>
        <p:spPr>
          <a:xfrm>
            <a:off x="3638520" y="5078520"/>
            <a:ext cx="2865600" cy="155412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21" descr=""/>
          <p:cNvPicPr/>
          <p:nvPr/>
        </p:nvPicPr>
        <p:blipFill>
          <a:blip r:embed="rId6"/>
          <a:stretch/>
        </p:blipFill>
        <p:spPr>
          <a:xfrm>
            <a:off x="281160" y="3790800"/>
            <a:ext cx="2938320" cy="155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57760" y="1571400"/>
            <a:ext cx="4286160" cy="11430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после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Значит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ты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д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7-конечная звезда 3"/>
          <p:cNvSpPr/>
          <p:nvPr/>
        </p:nvSpPr>
        <p:spPr>
          <a:xfrm>
            <a:off x="214200" y="0"/>
            <a:ext cx="2643480" cy="214308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Волна 5"/>
          <p:cNvGrpSpPr/>
          <p:nvPr/>
        </p:nvGrpSpPr>
        <p:grpSpPr>
          <a:xfrm>
            <a:off x="360360" y="3608280"/>
            <a:ext cx="3278160" cy="1408320"/>
            <a:chOff x="360360" y="3608280"/>
            <a:chExt cx="3278160" cy="1408320"/>
          </a:xfrm>
        </p:grpSpPr>
        <p:pic>
          <p:nvPicPr>
            <p:cNvPr id="224" name="Волна 5" descr=""/>
            <p:cNvPicPr/>
            <p:nvPr/>
          </p:nvPicPr>
          <p:blipFill>
            <a:blip r:embed="rId1"/>
            <a:stretch/>
          </p:blipFill>
          <p:spPr>
            <a:xfrm>
              <a:off x="360360" y="3608280"/>
              <a:ext cx="32781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28760" y="3965400"/>
              <a:ext cx="3143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Блок-схема: перфолента 8"/>
          <p:cNvGrpSpPr/>
          <p:nvPr/>
        </p:nvGrpSpPr>
        <p:grpSpPr>
          <a:xfrm>
            <a:off x="3219480" y="5029200"/>
            <a:ext cx="2705040" cy="1206360"/>
            <a:chOff x="3219480" y="5029200"/>
            <a:chExt cx="2705040" cy="1206360"/>
          </a:xfrm>
        </p:grpSpPr>
        <p:pic>
          <p:nvPicPr>
            <p:cNvPr id="228" name="Блок-схема: перфолента 8" descr=""/>
            <p:cNvPicPr/>
            <p:nvPr/>
          </p:nvPicPr>
          <p:blipFill>
            <a:blip r:embed="rId2"/>
            <a:stretch/>
          </p:blipFill>
          <p:spPr>
            <a:xfrm>
              <a:off x="3219480" y="5029200"/>
              <a:ext cx="27050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286080" y="5286240"/>
              <a:ext cx="2571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Блок-схема: перфолента 12"/>
          <p:cNvGrpSpPr/>
          <p:nvPr/>
        </p:nvGrpSpPr>
        <p:grpSpPr>
          <a:xfrm>
            <a:off x="5505480" y="3103560"/>
            <a:ext cx="2492280" cy="1487520"/>
            <a:chOff x="5505480" y="3103560"/>
            <a:chExt cx="2492280" cy="1487520"/>
          </a:xfrm>
        </p:grpSpPr>
        <p:pic>
          <p:nvPicPr>
            <p:cNvPr id="231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5505480" y="3103560"/>
              <a:ext cx="24922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572080" y="3414600"/>
              <a:ext cx="235764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Прямоугольник 17" descr=""/>
          <p:cNvPicPr/>
          <p:nvPr/>
        </p:nvPicPr>
        <p:blipFill>
          <a:blip r:embed="rId4"/>
          <a:stretch/>
        </p:blipFill>
        <p:spPr>
          <a:xfrm>
            <a:off x="5851440" y="3219480"/>
            <a:ext cx="1871640" cy="155412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19" descr=""/>
          <p:cNvPicPr/>
          <p:nvPr/>
        </p:nvPicPr>
        <p:blipFill>
          <a:blip r:embed="rId5"/>
          <a:stretch/>
        </p:blipFill>
        <p:spPr>
          <a:xfrm>
            <a:off x="3279600" y="5005440"/>
            <a:ext cx="2872080" cy="155412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21" descr=""/>
          <p:cNvPicPr/>
          <p:nvPr/>
        </p:nvPicPr>
        <p:blipFill>
          <a:blip r:embed="rId6"/>
          <a:stretch/>
        </p:blipFill>
        <p:spPr>
          <a:xfrm>
            <a:off x="420840" y="3718080"/>
            <a:ext cx="3230280" cy="155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18572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qu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785760" y="857160"/>
            <a:ext cx="5072040" cy="221472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к нам добавить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ы кричим лягушкой 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в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букву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 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брать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ем мы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в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звуч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7-конечная звезда 3"/>
          <p:cNvSpPr/>
          <p:nvPr/>
        </p:nvSpPr>
        <p:spPr>
          <a:xfrm>
            <a:off x="0" y="0"/>
            <a:ext cx="2857680" cy="235728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Волна 5"/>
          <p:cNvGrpSpPr/>
          <p:nvPr/>
        </p:nvGrpSpPr>
        <p:grpSpPr>
          <a:xfrm>
            <a:off x="219240" y="3535200"/>
            <a:ext cx="3992400" cy="1262160"/>
            <a:chOff x="219240" y="3535200"/>
            <a:chExt cx="3992400" cy="1262160"/>
          </a:xfrm>
        </p:grpSpPr>
        <p:pic>
          <p:nvPicPr>
            <p:cNvPr id="240" name="Волна 5" descr=""/>
            <p:cNvPicPr/>
            <p:nvPr/>
          </p:nvPicPr>
          <p:blipFill>
            <a:blip r:embed="rId1"/>
            <a:stretch/>
          </p:blipFill>
          <p:spPr>
            <a:xfrm>
              <a:off x="219240" y="3535200"/>
              <a:ext cx="39924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85840" y="3857760"/>
              <a:ext cx="3857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3865680" y="5029200"/>
            <a:ext cx="42051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244" name="Блок-схема: перфолента 12"/>
          <p:cNvGrpSpPr/>
          <p:nvPr/>
        </p:nvGrpSpPr>
        <p:grpSpPr>
          <a:xfrm>
            <a:off x="4791240" y="3389400"/>
            <a:ext cx="4060800" cy="1133280"/>
            <a:chOff x="4791240" y="3389400"/>
            <a:chExt cx="4060800" cy="1133280"/>
          </a:xfrm>
        </p:grpSpPr>
        <p:pic>
          <p:nvPicPr>
            <p:cNvPr id="245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4791240" y="3389400"/>
              <a:ext cx="40608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857840" y="3629160"/>
              <a:ext cx="39290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Прямоугольник 17" descr=""/>
          <p:cNvPicPr/>
          <p:nvPr/>
        </p:nvPicPr>
        <p:blipFill>
          <a:blip r:embed="rId4"/>
          <a:stretch/>
        </p:blipFill>
        <p:spPr>
          <a:xfrm>
            <a:off x="4559400" y="3432240"/>
            <a:ext cx="4236840" cy="155412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19" descr=""/>
          <p:cNvPicPr/>
          <p:nvPr/>
        </p:nvPicPr>
        <p:blipFill>
          <a:blip r:embed="rId5"/>
          <a:stretch/>
        </p:blipFill>
        <p:spPr>
          <a:xfrm>
            <a:off x="4206960" y="5353200"/>
            <a:ext cx="3803400" cy="839520"/>
          </a:xfrm>
          <a:prstGeom prst="rect">
            <a:avLst/>
          </a:prstGeom>
          <a:ln w="0">
            <a:noFill/>
          </a:ln>
        </p:spPr>
      </p:pic>
      <p:pic>
        <p:nvPicPr>
          <p:cNvPr id="249" name="TextBox 21" descr=""/>
          <p:cNvPicPr/>
          <p:nvPr/>
        </p:nvPicPr>
        <p:blipFill>
          <a:blip r:embed="rId6"/>
          <a:stretch/>
        </p:blipFill>
        <p:spPr>
          <a:xfrm>
            <a:off x="133200" y="3578400"/>
            <a:ext cx="4305600" cy="155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720" y="1000080"/>
            <a:ext cx="14284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hs</a:t>
            </a:r>
            <a:br>
              <a:rPr sz="40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57400" y="1285560"/>
            <a:ext cx="4714920" cy="11430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chs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буква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м дают одно лишь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с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7-конечная звезда 3"/>
          <p:cNvSpPr/>
          <p:nvPr/>
        </p:nvSpPr>
        <p:spPr>
          <a:xfrm>
            <a:off x="0" y="0"/>
            <a:ext cx="3429000" cy="20718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Волна 5"/>
          <p:cNvGrpSpPr/>
          <p:nvPr/>
        </p:nvGrpSpPr>
        <p:grpSpPr>
          <a:xfrm>
            <a:off x="573120" y="2610000"/>
            <a:ext cx="3638520" cy="1388880"/>
            <a:chOff x="573120" y="2610000"/>
            <a:chExt cx="3638520" cy="1388880"/>
          </a:xfrm>
        </p:grpSpPr>
        <p:pic>
          <p:nvPicPr>
            <p:cNvPr id="254" name="Волна 5" descr=""/>
            <p:cNvPicPr/>
            <p:nvPr/>
          </p:nvPicPr>
          <p:blipFill>
            <a:blip r:embed="rId1"/>
            <a:stretch/>
          </p:blipFill>
          <p:spPr>
            <a:xfrm>
              <a:off x="573120" y="2610000"/>
              <a:ext cx="363852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42960" y="2960640"/>
              <a:ext cx="3500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Блок-схема: перфолента 12"/>
          <p:cNvGrpSpPr/>
          <p:nvPr/>
        </p:nvGrpSpPr>
        <p:grpSpPr>
          <a:xfrm>
            <a:off x="4863960" y="3316320"/>
            <a:ext cx="3346560" cy="1487520"/>
            <a:chOff x="4863960" y="3316320"/>
            <a:chExt cx="3346560" cy="1487520"/>
          </a:xfrm>
        </p:grpSpPr>
        <p:pic>
          <p:nvPicPr>
            <p:cNvPr id="258" name="Блок-схема: перфолента 12" descr=""/>
            <p:cNvPicPr/>
            <p:nvPr/>
          </p:nvPicPr>
          <p:blipFill>
            <a:blip r:embed="rId2"/>
            <a:stretch/>
          </p:blipFill>
          <p:spPr>
            <a:xfrm>
              <a:off x="4863960" y="3316320"/>
              <a:ext cx="33465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929120" y="3629160"/>
              <a:ext cx="32148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Прямоугольник 17" descr=""/>
          <p:cNvPicPr/>
          <p:nvPr/>
        </p:nvPicPr>
        <p:blipFill>
          <a:blip r:embed="rId3"/>
          <a:stretch/>
        </p:blipFill>
        <p:spPr>
          <a:xfrm>
            <a:off x="4925880" y="3432240"/>
            <a:ext cx="3011760" cy="155412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21" descr=""/>
          <p:cNvPicPr/>
          <p:nvPr/>
        </p:nvPicPr>
        <p:blipFill>
          <a:blip r:embed="rId4"/>
          <a:stretch/>
        </p:blipFill>
        <p:spPr>
          <a:xfrm>
            <a:off x="420840" y="2792520"/>
            <a:ext cx="4157640" cy="1554120"/>
          </a:xfrm>
          <a:prstGeom prst="rect">
            <a:avLst/>
          </a:prstGeom>
          <a:ln w="0">
            <a:noFill/>
          </a:ln>
        </p:spPr>
      </p:pic>
      <p:pic>
        <p:nvPicPr>
          <p:cNvPr id="262" name="Блок-схема: перфолента 10" descr=""/>
          <p:cNvPicPr/>
          <p:nvPr/>
        </p:nvPicPr>
        <p:blipFill>
          <a:blip r:embed="rId5"/>
          <a:stretch/>
        </p:blipFill>
        <p:spPr>
          <a:xfrm>
            <a:off x="2077920" y="4889520"/>
            <a:ext cx="3348000" cy="180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200016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u,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ä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14760" y="1714680"/>
            <a:ext cx="6000480" cy="178560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авненько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подружек не видала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тут внезапно повстречал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А те, качая головой, сказали: «Ой,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й,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й!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7-конечная звезда 3"/>
          <p:cNvSpPr/>
          <p:nvPr/>
        </p:nvSpPr>
        <p:spPr>
          <a:xfrm>
            <a:off x="214200" y="0"/>
            <a:ext cx="2786040" cy="235728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Волна 5"/>
          <p:cNvGrpSpPr/>
          <p:nvPr/>
        </p:nvGrpSpPr>
        <p:grpSpPr>
          <a:xfrm>
            <a:off x="291960" y="3676680"/>
            <a:ext cx="2700360" cy="1481040"/>
            <a:chOff x="291960" y="3676680"/>
            <a:chExt cx="2700360" cy="1481040"/>
          </a:xfrm>
        </p:grpSpPr>
        <p:pic>
          <p:nvPicPr>
            <p:cNvPr id="267" name="Волна 5" descr=""/>
            <p:cNvPicPr/>
            <p:nvPr/>
          </p:nvPicPr>
          <p:blipFill>
            <a:blip r:embed="rId1"/>
            <a:stretch/>
          </p:blipFill>
          <p:spPr>
            <a:xfrm>
              <a:off x="291960" y="3676680"/>
              <a:ext cx="2700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7120" y="4054320"/>
              <a:ext cx="257184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Блок-схема: перфолента 12"/>
          <p:cNvGrpSpPr/>
          <p:nvPr/>
        </p:nvGrpSpPr>
        <p:grpSpPr>
          <a:xfrm>
            <a:off x="5505480" y="3743280"/>
            <a:ext cx="3278160" cy="1346400"/>
            <a:chOff x="5505480" y="3743280"/>
            <a:chExt cx="3278160" cy="1346400"/>
          </a:xfrm>
        </p:grpSpPr>
        <p:pic>
          <p:nvPicPr>
            <p:cNvPr id="271" name="Блок-схема: перфолента 12" descr=""/>
            <p:cNvPicPr/>
            <p:nvPr/>
          </p:nvPicPr>
          <p:blipFill>
            <a:blip r:embed="rId2"/>
            <a:stretch/>
          </p:blipFill>
          <p:spPr>
            <a:xfrm>
              <a:off x="5505480" y="3743280"/>
              <a:ext cx="32781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572080" y="4029120"/>
              <a:ext cx="31431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Прямоугольник 17" descr=""/>
          <p:cNvPicPr/>
          <p:nvPr/>
        </p:nvPicPr>
        <p:blipFill>
          <a:blip r:embed="rId3"/>
          <a:stretch/>
        </p:blipFill>
        <p:spPr>
          <a:xfrm>
            <a:off x="5065560" y="3754440"/>
            <a:ext cx="3548160" cy="178128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1" descr=""/>
          <p:cNvPicPr/>
          <p:nvPr/>
        </p:nvPicPr>
        <p:blipFill>
          <a:blip r:embed="rId4"/>
          <a:stretch/>
        </p:blipFill>
        <p:spPr>
          <a:xfrm>
            <a:off x="274680" y="3790800"/>
            <a:ext cx="2590920" cy="1555920"/>
          </a:xfrm>
          <a:prstGeom prst="rect">
            <a:avLst/>
          </a:prstGeom>
          <a:ln w="0">
            <a:noFill/>
          </a:ln>
        </p:spPr>
      </p:pic>
      <p:pic>
        <p:nvPicPr>
          <p:cNvPr id="275" name="Блок-схема: перфолента 10" descr=""/>
          <p:cNvPicPr/>
          <p:nvPr/>
        </p:nvPicPr>
        <p:blipFill>
          <a:blip r:embed="rId5"/>
          <a:stretch/>
        </p:blipFill>
        <p:spPr>
          <a:xfrm>
            <a:off x="2932200" y="5389560"/>
            <a:ext cx="3352680" cy="173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713880"/>
            <a:ext cx="107136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       </a:t>
            </a:r>
            <a:br>
              <a:rPr sz="4500"/>
            </a:br>
            <a:br>
              <a:rPr sz="4500"/>
            </a:b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k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85680" y="1285920"/>
            <a:ext cx="6357960" cy="164304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Злится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c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 букву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чему?- Я зн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тому что я всегда букву 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к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чит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7-конечная звезда 3"/>
          <p:cNvSpPr/>
          <p:nvPr/>
        </p:nvSpPr>
        <p:spPr>
          <a:xfrm>
            <a:off x="0" y="0"/>
            <a:ext cx="2643120" cy="242892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Волна 5"/>
          <p:cNvGrpSpPr/>
          <p:nvPr/>
        </p:nvGrpSpPr>
        <p:grpSpPr>
          <a:xfrm>
            <a:off x="646200" y="3462480"/>
            <a:ext cx="3565440" cy="1481040"/>
            <a:chOff x="646200" y="3462480"/>
            <a:chExt cx="3565440" cy="1481040"/>
          </a:xfrm>
        </p:grpSpPr>
        <p:pic>
          <p:nvPicPr>
            <p:cNvPr id="280" name="Волна 5" descr=""/>
            <p:cNvPicPr/>
            <p:nvPr/>
          </p:nvPicPr>
          <p:blipFill>
            <a:blip r:embed="rId1"/>
            <a:stretch/>
          </p:blipFill>
          <p:spPr>
            <a:xfrm>
              <a:off x="646200" y="3462480"/>
              <a:ext cx="35654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14240" y="3840120"/>
              <a:ext cx="3429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005440" y="5315040"/>
            <a:ext cx="34192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Блок-схема: перфолента 12"/>
          <p:cNvGrpSpPr/>
          <p:nvPr/>
        </p:nvGrpSpPr>
        <p:grpSpPr>
          <a:xfrm>
            <a:off x="5145120" y="3316320"/>
            <a:ext cx="2639880" cy="1274760"/>
            <a:chOff x="5145120" y="3316320"/>
            <a:chExt cx="2639880" cy="1274760"/>
          </a:xfrm>
        </p:grpSpPr>
        <p:pic>
          <p:nvPicPr>
            <p:cNvPr id="285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5145120" y="3316320"/>
              <a:ext cx="2639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214960" y="3586320"/>
              <a:ext cx="25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Прямоугольник 17" descr=""/>
          <p:cNvPicPr/>
          <p:nvPr/>
        </p:nvPicPr>
        <p:blipFill>
          <a:blip r:embed="rId4"/>
          <a:stretch/>
        </p:blipFill>
        <p:spPr>
          <a:xfrm>
            <a:off x="4925880" y="3432240"/>
            <a:ext cx="3011760" cy="1554120"/>
          </a:xfrm>
          <a:prstGeom prst="rect">
            <a:avLst/>
          </a:prstGeom>
          <a:ln w="0">
            <a:noFill/>
          </a:ln>
        </p:spPr>
      </p:pic>
      <p:pic>
        <p:nvPicPr>
          <p:cNvPr id="288" name="TextBox 21" descr=""/>
          <p:cNvPicPr/>
          <p:nvPr/>
        </p:nvPicPr>
        <p:blipFill>
          <a:blip r:embed="rId5"/>
          <a:stretch/>
        </p:blipFill>
        <p:spPr>
          <a:xfrm>
            <a:off x="566640" y="3578400"/>
            <a:ext cx="3872160" cy="155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5520" y="428400"/>
            <a:ext cx="15714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br>
              <a:rPr sz="40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Calibri"/>
              </a:rPr>
              <a:t>SCH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499840" y="1357200"/>
            <a:ext cx="6643800" cy="157176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Хоккеисты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s,c,h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из одной коман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кричали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ружно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м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Ш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айбу!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Ш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айбу!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Ш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айбу!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7-конечная звезда 3"/>
          <p:cNvSpPr/>
          <p:nvPr/>
        </p:nvSpPr>
        <p:spPr>
          <a:xfrm>
            <a:off x="214200" y="0"/>
            <a:ext cx="2357640" cy="207180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Волна 5"/>
          <p:cNvGrpSpPr/>
          <p:nvPr/>
        </p:nvGrpSpPr>
        <p:grpSpPr>
          <a:xfrm>
            <a:off x="291960" y="2962440"/>
            <a:ext cx="3200400" cy="1323720"/>
            <a:chOff x="291960" y="2962440"/>
            <a:chExt cx="3200400" cy="1323720"/>
          </a:xfrm>
        </p:grpSpPr>
        <p:pic>
          <p:nvPicPr>
            <p:cNvPr id="293" name="Волна 5" descr=""/>
            <p:cNvPicPr/>
            <p:nvPr/>
          </p:nvPicPr>
          <p:blipFill>
            <a:blip r:embed="rId1"/>
            <a:stretch/>
          </p:blipFill>
          <p:spPr>
            <a:xfrm>
              <a:off x="291960" y="2962440"/>
              <a:ext cx="320040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57120" y="3300480"/>
              <a:ext cx="30718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Прямоугольник 7"/>
          <p:cNvSpPr/>
          <p:nvPr/>
        </p:nvSpPr>
        <p:spPr>
          <a:xfrm>
            <a:off x="439416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2077920" y="5241960"/>
            <a:ext cx="3846600" cy="1665360"/>
          </a:xfrm>
          <a:prstGeom prst="rect">
            <a:avLst/>
          </a:prstGeom>
          <a:ln w="0">
            <a:noFill/>
          </a:ln>
        </p:spPr>
      </p:pic>
      <p:grpSp>
        <p:nvGrpSpPr>
          <p:cNvPr id="297" name="Блок-схема: перфолента 12"/>
          <p:cNvGrpSpPr/>
          <p:nvPr/>
        </p:nvGrpSpPr>
        <p:grpSpPr>
          <a:xfrm>
            <a:off x="4863960" y="3316320"/>
            <a:ext cx="3773520" cy="1206360"/>
            <a:chOff x="4863960" y="3316320"/>
            <a:chExt cx="3773520" cy="1206360"/>
          </a:xfrm>
        </p:grpSpPr>
        <p:pic>
          <p:nvPicPr>
            <p:cNvPr id="298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4863960" y="3316320"/>
              <a:ext cx="37735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929120" y="3571920"/>
              <a:ext cx="36435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Прямоугольник 17" descr=""/>
          <p:cNvPicPr/>
          <p:nvPr/>
        </p:nvPicPr>
        <p:blipFill>
          <a:blip r:embed="rId4"/>
          <a:stretch/>
        </p:blipFill>
        <p:spPr>
          <a:xfrm>
            <a:off x="5205240" y="3432240"/>
            <a:ext cx="3232440" cy="1554120"/>
          </a:xfrm>
          <a:prstGeom prst="rect">
            <a:avLst/>
          </a:prstGeom>
          <a:ln w="0">
            <a:noFill/>
          </a:ln>
        </p:spPr>
      </p:pic>
      <p:pic>
        <p:nvPicPr>
          <p:cNvPr id="301" name="TextBox 21" descr=""/>
          <p:cNvPicPr/>
          <p:nvPr/>
        </p:nvPicPr>
        <p:blipFill>
          <a:blip r:embed="rId5"/>
          <a:stretch/>
        </p:blipFill>
        <p:spPr>
          <a:xfrm>
            <a:off x="353880" y="2712960"/>
            <a:ext cx="3011760" cy="193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221472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  </a:t>
            </a:r>
            <a:br>
              <a:rPr sz="45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en-US" sz="4500" spc="-1" strike="noStrike">
                <a:solidFill>
                  <a:srgbClr val="ff0000"/>
                </a:solidFill>
                <a:latin typeface="Calibri"/>
              </a:rPr>
              <a:t>TSC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571320"/>
            <a:ext cx="4643280" cy="221436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с четверо, нас четвер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с четверо сейч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 «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ч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» звучим четвер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любим черный ча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7-конечная звезда 3"/>
          <p:cNvSpPr/>
          <p:nvPr/>
        </p:nvSpPr>
        <p:spPr>
          <a:xfrm>
            <a:off x="214200" y="285840"/>
            <a:ext cx="3000600" cy="2000160"/>
          </a:xfrm>
          <a:prstGeom prst="pie">
            <a:avLst/>
          </a:prstGeom>
          <a:noFill/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Волна 5" descr=""/>
          <p:cNvPicPr/>
          <p:nvPr/>
        </p:nvPicPr>
        <p:blipFill>
          <a:blip r:embed="rId1"/>
          <a:stretch/>
        </p:blipFill>
        <p:spPr>
          <a:xfrm>
            <a:off x="-36360" y="2889360"/>
            <a:ext cx="4705200" cy="1768320"/>
          </a:xfrm>
          <a:prstGeom prst="rect">
            <a:avLst/>
          </a:prstGeom>
          <a:ln w="0">
            <a:noFill/>
          </a:ln>
        </p:spPr>
      </p:pic>
      <p:pic>
        <p:nvPicPr>
          <p:cNvPr id="306" name="Блок-схема: перфолента 8" descr=""/>
          <p:cNvPicPr/>
          <p:nvPr/>
        </p:nvPicPr>
        <p:blipFill>
          <a:blip r:embed="rId2"/>
          <a:stretch/>
        </p:blipFill>
        <p:spPr>
          <a:xfrm>
            <a:off x="573120" y="5315040"/>
            <a:ext cx="4705200" cy="1665360"/>
          </a:xfrm>
          <a:prstGeom prst="rect">
            <a:avLst/>
          </a:prstGeom>
          <a:ln w="0">
            <a:noFill/>
          </a:ln>
        </p:spPr>
      </p:pic>
      <p:grpSp>
        <p:nvGrpSpPr>
          <p:cNvPr id="307" name="Блок-схема: перфолента 12"/>
          <p:cNvGrpSpPr/>
          <p:nvPr/>
        </p:nvGrpSpPr>
        <p:grpSpPr>
          <a:xfrm>
            <a:off x="4791240" y="3889440"/>
            <a:ext cx="4206600" cy="1347840"/>
            <a:chOff x="4791240" y="3889440"/>
            <a:chExt cx="4206600" cy="1347840"/>
          </a:xfrm>
        </p:grpSpPr>
        <p:pic>
          <p:nvPicPr>
            <p:cNvPr id="308" name="Блок-схема: перфолента 12" descr=""/>
            <p:cNvPicPr/>
            <p:nvPr/>
          </p:nvPicPr>
          <p:blipFill>
            <a:blip r:embed="rId3"/>
            <a:stretch/>
          </p:blipFill>
          <p:spPr>
            <a:xfrm>
              <a:off x="4791240" y="3889440"/>
              <a:ext cx="4206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857840" y="4172040"/>
              <a:ext cx="4071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Прямоугольник 17" descr=""/>
          <p:cNvPicPr/>
          <p:nvPr/>
        </p:nvPicPr>
        <p:blipFill>
          <a:blip r:embed="rId4"/>
          <a:stretch/>
        </p:blipFill>
        <p:spPr>
          <a:xfrm>
            <a:off x="4853160" y="3932280"/>
            <a:ext cx="4082760" cy="155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22:13Z</dcterms:created>
  <dc:creator>1</dc:creator>
  <dc:description/>
  <dc:language>en-US</dc:language>
  <cp:lastModifiedBy>ENVY</cp:lastModifiedBy>
  <dcterms:modified xsi:type="dcterms:W3CDTF">2015-12-17T15:15:28Z</dcterms:modified>
  <cp:revision>51</cp:revision>
  <dc:subject/>
  <dc:title>Учимся читать  по- немецки!</dc:title>
</cp:coreProperties>
</file>