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D88-770F-4C6C-A33B-CC0B2609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2A5-782F-44F7-A506-EB720A46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46A-AB23-443A-92F2-9BF1CFFD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E82-6D4C-42B8-BF34-EB4B7C32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2C0D-B9A1-4090-81BB-F5BF7BF2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D89D-D353-45DA-9707-5FDEF75C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2380-A86A-473B-AF1E-95DD2A57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4549-E1AB-49A4-8E71-D9734C7C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4C11-CD19-459F-8BCE-891188DC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5732-5EC6-4E55-9618-C20EE592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13B6-6636-47DE-88CA-313DA86E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EA4-666B-4068-889C-71E05EBB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959A-795E-4C29-8172-1467824F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2EE8-7F50-468D-A20F-0FB06216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E7D8-3BD1-46D8-83EA-C938731C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9FFC-75AB-464E-B440-A245BDDC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25EB-4651-45C7-A56E-7E824F9F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954-9966-42C4-9602-5EB45FBB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BA6-9B53-4037-8DFE-E8F85BED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0569-E036-4D7E-821D-51B39113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B265-6353-4BC8-B7C3-1447EC1A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D1B-05BF-4B80-B188-358F2582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FD5-D009-4EE8-B6A4-D7EBE9A2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043-2AC6-40CC-B161-87B31A62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BA54-6BFE-4347-9D30-CEBDAC0BEB4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F783-80EC-45CC-A741-32B00ADF21D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ewalls.com/pic/201012/1024x600/reWalls.com-14679.jpg" TargetMode="External"/><Relationship Id="rId2" Type="http://schemas.openxmlformats.org/officeDocument/2006/relationships/hyperlink" Target="http://i.vigoda.ru/img/offer/pictures/004/457/1000.jpg" TargetMode="External"/><Relationship Id="rId3" Type="http://schemas.openxmlformats.org/officeDocument/2006/relationships/hyperlink" Target="http://www.oldcity.ru/pictures/skandinavia/big/denmark_kopengagen3.jpg" TargetMode="External"/><Relationship Id="rId4" Type="http://schemas.openxmlformats.org/officeDocument/2006/relationships/hyperlink" Target="http://sunny7.com.ua/sites/default/files/images/brussel.jpeg" TargetMode="External"/><Relationship Id="rId5" Type="http://schemas.openxmlformats.org/officeDocument/2006/relationships/hyperlink" Target="http://www.kruiz-n.ru/aklipart/moscow_2.jpg" TargetMode="External"/><Relationship Id="rId6" Type="http://schemas.openxmlformats.org/officeDocument/2006/relationships/hyperlink" Target="http://www.sunhome.ru/UsersGallery/Cards/3/17193132.jpg" TargetMode="External"/><Relationship Id="rId7" Type="http://schemas.openxmlformats.org/officeDocument/2006/relationships/hyperlink" Target="http://img1.liveinternet.ru/images/foto/717939/f_833420.jpg" TargetMode="External"/><Relationship Id="rId8" Type="http://schemas.openxmlformats.org/officeDocument/2006/relationships/hyperlink" Target="http://www.caringheartsofpeedee.com/wp-content/uploads/2011/02/&#1076;&#1088;&#1077;&#1074;&#1085;&#1103;&#1103;-&#1088;&#1077;&#1083;&#1080;&#1075;&#1080;&#1103;-&#1073;&#1091;&#1076;&#1076;&#1080;&#1079;&#1084;.JPG" TargetMode="External"/><Relationship Id="rId9" Type="http://schemas.openxmlformats.org/officeDocument/2006/relationships/hyperlink" Target="http://img715.imageshack.us/img715/5796/7ece84a1627e9dac7f97ecd.jpg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Средние века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ли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редневековь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Христианство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48360" y="2361960"/>
            <a:ext cx="3744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явилось в 1 веке в Палестин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истиане верят в Иисуса Христ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лавный источник вероучения – Священное писание (Библия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дания для молитвы: церкви, собо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Рисунок 6" descr="17193132.jpg"/>
          <p:cNvPicPr/>
          <p:nvPr/>
        </p:nvPicPr>
        <p:blipFill>
          <a:blip r:embed="rId1"/>
          <a:stretch/>
        </p:blipFill>
        <p:spPr>
          <a:xfrm>
            <a:off x="826920" y="256536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Ислам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3573000"/>
            <a:ext cx="8126640" cy="25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-арабски означает «покорность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зник в Аравии в 7 век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новал пророк Мухаммед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ледователи религии – мусульман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лоняются единому богу – Аллах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новы учения изложены в священной книге – Коран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дания для молитв – мусульманские мече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Рисунок 5" descr="f_833420.jpg"/>
          <p:cNvPicPr/>
          <p:nvPr/>
        </p:nvPicPr>
        <p:blipFill>
          <a:blip r:embed="rId1"/>
          <a:stretch/>
        </p:blipFill>
        <p:spPr>
          <a:xfrm>
            <a:off x="3911760" y="189000"/>
            <a:ext cx="507204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Буддизм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219640" y="2707920"/>
            <a:ext cx="367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зник раньше всех – в Индии, в 5-6 в.в. до н.э.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нователь религии – Сиддхартха Гаутам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дания для молитв – буддистские храм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Рисунок 5" descr="древняя-религия-буддизм.JPG"/>
          <p:cNvPicPr/>
          <p:nvPr/>
        </p:nvPicPr>
        <p:blipFill>
          <a:blip r:embed="rId1"/>
          <a:stretch/>
        </p:blipFill>
        <p:spPr>
          <a:xfrm>
            <a:off x="900000" y="2708280"/>
            <a:ext cx="4267440" cy="31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то такой рыцарь?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566064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ин на коне, закованный в латы, в шлеме, с мечом и щит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Рисунок 5" descr="7ece84a1627e9dac7f97ecd (1).jpg"/>
          <p:cNvPicPr/>
          <p:nvPr/>
        </p:nvPicPr>
        <p:blipFill>
          <a:blip r:embed="rId1"/>
          <a:stretch/>
        </p:blipFill>
        <p:spPr>
          <a:xfrm>
            <a:off x="3132000" y="213372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Где жили рыцари?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2340000" y="630864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замка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Рисунок 7" descr="0_6e6af_d20f4b6a_XL.jpg"/>
          <p:cNvPicPr/>
          <p:nvPr/>
        </p:nvPicPr>
        <p:blipFill>
          <a:blip r:embed="rId1"/>
          <a:stretch/>
        </p:blipFill>
        <p:spPr>
          <a:xfrm>
            <a:off x="2268360" y="2421000"/>
            <a:ext cx="5256360" cy="377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кое место выбирали для строительства замков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920" y="5084640"/>
            <a:ext cx="76932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сокий холм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47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рывистый утёс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47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тров посреди ре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Рисунок 3" descr="b5c7b89f57f1.jpg"/>
          <p:cNvPicPr/>
          <p:nvPr/>
        </p:nvPicPr>
        <p:blipFill>
          <a:blip r:embed="rId1"/>
          <a:stretch/>
        </p:blipFill>
        <p:spPr>
          <a:xfrm>
            <a:off x="2556000" y="2421000"/>
            <a:ext cx="4464000" cy="26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9160" y="914040"/>
            <a:ext cx="8227080" cy="106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Какие укрепительные сооружения были у замков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мки были окружены глубоким рвом с водо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 ворот был подъёмный мост на прочных цепях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жилище вели тяжёлые дубовые ворота, окованные железо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ход преграждала металлическая решётка с острыми зубьями на верх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Рисунок 3" descr="wpapers_ru_Замок-на-фоне-воды.jpg"/>
          <p:cNvPicPr/>
          <p:nvPr/>
        </p:nvPicPr>
        <p:blipFill>
          <a:blip r:embed="rId1"/>
          <a:srcRect l="0" t="24152" r="0" b="0"/>
          <a:stretch/>
        </p:blipFill>
        <p:spPr>
          <a:xfrm>
            <a:off x="5148360" y="4645080"/>
            <a:ext cx="3816360" cy="20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840" y="693720"/>
            <a:ext cx="823572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Удобное ли было это жилище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26560" y="2565360"/>
            <a:ext cx="81378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илище было не очень удобным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текла на окнах не было, их закрывали ставнями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 замке было холодно и сыро, сквозняки гуляли по коридорам и комнатам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огреться можно было только у камин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21160" y="821520"/>
            <a:ext cx="826308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ем занимались обитатели замка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560" y="5084640"/>
            <a:ext cx="8137800" cy="13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озяин охотился, принимал гостей, устраивал пиры, рыцарские турнир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Женщины занимались рукоделие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Рисунок 5" descr="d8c59d8a86611b2ebd18e10c1f150f47.jpg"/>
          <p:cNvPicPr/>
          <p:nvPr/>
        </p:nvPicPr>
        <p:blipFill>
          <a:blip r:embed="rId1"/>
          <a:stretch/>
        </p:blipFill>
        <p:spPr>
          <a:xfrm>
            <a:off x="2700360" y="2349360"/>
            <a:ext cx="4267080" cy="26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8129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к учёные узнают о жизни людей в Средневековье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140000" y="2565000"/>
            <a:ext cx="5003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ыло изобретено книгопечатание в 1445 году немцем Иоганном Гуттенберг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н предложил использовать разборный шрифт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таллические буквы назывались – литер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чатный станок работал вручну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Рисунок 5" descr="proj13397-image-ioganngutenberg.jpg"/>
          <p:cNvPicPr/>
          <p:nvPr/>
        </p:nvPicPr>
        <p:blipFill>
          <a:blip r:embed="rId1"/>
          <a:stretch/>
        </p:blipFill>
        <p:spPr>
          <a:xfrm>
            <a:off x="971640" y="2708280"/>
            <a:ext cx="3071880" cy="339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колько лет длилась эта эпоха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000 ле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 конца 5 века до конца 15 век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МКОУ «СОШ ст. Евсино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Искитимского райо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Новосибирской област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201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Автор – составитель: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Фокина Лидия Петровна,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учитель начальных класс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Используемые источники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826920" y="2498760"/>
            <a:ext cx="80661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Дмитриева О. И. Поурочные разработки по курсу «Окружающий мир»: 4 класс. М.: ВАКО, 2006, 400 с. (В помощь школьному учителю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Картинки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Лес 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1"/>
              </a:rPr>
              <a:t>http://rewalls.com/pic/201012/1024x600/reWalls.com-14679.jpg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Берлин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2"/>
              </a:rPr>
              <a:t>http://i.vigoda.ru/img/offer/pictures/004/457/1000.jpg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Копенгаген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3"/>
              </a:rPr>
              <a:t>http://www.oldcity.ru/pictures/skandinavia/big/denmark_kopengagen3.jpg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Амстердам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4"/>
              </a:rPr>
              <a:t>http://sunny7.com.ua/sites/default/files/images/brussel.jpeg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Москва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5"/>
              </a:rPr>
              <a:t>http://www.kruiz-n.ru/aklipart/moscow_2.jpg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Христианство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6"/>
              </a:rPr>
              <a:t>http://www.sunhome.ru/UsersGallery/Cards/3/17193132.jpg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Ислам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7"/>
              </a:rPr>
              <a:t>http://img1.liveinternet.ru/images/foto/717939/f_833420.jpg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Буддизм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8"/>
              </a:rPr>
              <a:t>http://www.caringheartsofpeedee.com/wp-content/uploads/2011/02/%D0%B4%D1%80%D0%B5%D0%B2%D0%BD%D1%8F%D1%8F-%D1%80%D0%B5%D0%BB%D0%B8%D0%B3%D0%B8%D1%8F-%D0%B1%D1%83%D0%B4%D0%B4%D0%B8%D0%B7%D0%BC.JPG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Рыцарь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  <a:hlinkClick r:id="rId9"/>
              </a:rPr>
              <a:t>http://img715.imageshack.us/img715/5796/7ece84a1627e9dac7f97ecd.jpg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Замок http://img-fotki.yandex.ru/get/4528/140915576.1/0_6e6af_d20f4b6a_X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Замок 1 http://v.foto.radikal.ru/0705/c4/b5c7b89f57f1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Замок 2 http://wpapers.ru/wallpapers/Architecture/Castles/1523/PREV_%D0%97%D0%B0%D0%BC%D0%BE%D0%BA-%D0%BD%D0%B0-%D1%84%D0%BE%D0%BD%D0%B5-%D0%B2%D0%BE%D0%B4%D1%8B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Замок 3 http://asio.ru/uploads/images/54/d8c59d8a86611b2ebd18e10c1f150f47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Иоганн Гутенберг http://gym1505.ru/files/project/proj-13397/proj13397-image-ioganngutenberg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Что было сначала?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602136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ся Европа была покрыта густым лес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Рисунок 5" descr="reWalls.com-14679.jpg"/>
          <p:cNvPicPr/>
          <p:nvPr/>
        </p:nvPicPr>
        <p:blipFill>
          <a:blip r:embed="rId1"/>
          <a:stretch/>
        </p:blipFill>
        <p:spPr>
          <a:xfrm>
            <a:off x="1619280" y="2349360"/>
            <a:ext cx="5977080" cy="365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24480" y="1581480"/>
            <a:ext cx="7604640" cy="232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Через столетия выросли и расцвели город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Берлин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Рисунок 6" descr="1000.jpg"/>
          <p:cNvPicPr/>
          <p:nvPr/>
        </p:nvPicPr>
        <p:blipFill>
          <a:blip r:embed="rId1"/>
          <a:stretch/>
        </p:blipFill>
        <p:spPr>
          <a:xfrm>
            <a:off x="971640" y="2421000"/>
            <a:ext cx="6480000" cy="43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опенгаген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Рисунок 6" descr="denmark_kopengagen3.jpg"/>
          <p:cNvPicPr/>
          <p:nvPr/>
        </p:nvPicPr>
        <p:blipFill>
          <a:blip r:embed="rId1"/>
          <a:stretch/>
        </p:blipFill>
        <p:spPr>
          <a:xfrm>
            <a:off x="1332000" y="2421000"/>
            <a:ext cx="5616360" cy="43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Амстердам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Рисунок 6" descr="brussel.jpeg"/>
          <p:cNvPicPr/>
          <p:nvPr/>
        </p:nvPicPr>
        <p:blipFill>
          <a:blip r:embed="rId1"/>
          <a:stretch/>
        </p:blipFill>
        <p:spPr>
          <a:xfrm>
            <a:off x="1187280" y="2421000"/>
            <a:ext cx="604872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Москва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Рисунок 6" descr="moscow_2.jpg"/>
          <p:cNvPicPr/>
          <p:nvPr/>
        </p:nvPicPr>
        <p:blipFill>
          <a:blip r:embed="rId1"/>
          <a:stretch/>
        </p:blipFill>
        <p:spPr>
          <a:xfrm>
            <a:off x="1258920" y="2349360"/>
            <a:ext cx="5905440" cy="43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01880" y="938520"/>
            <a:ext cx="7895160" cy="339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Какие верования возникли в Средневековье?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0:12:32Z</dcterms:created>
  <dc:creator>Лида</dc:creator>
  <dc:description/>
  <dc:language>en-US</dc:language>
  <cp:lastModifiedBy>Компас</cp:lastModifiedBy>
  <dcterms:modified xsi:type="dcterms:W3CDTF">2013-01-24T17:38:52Z</dcterms:modified>
  <cp:revision>21</cp:revision>
  <dc:subject/>
  <dc:title>Средние века</dc:title>
</cp:coreProperties>
</file>