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.jpeg" ContentType="image/jpeg"/>
  <Override PartName="/ppt/media/image50.png" ContentType="image/png"/>
  <Override PartName="/ppt/media/image40.png" ContentType="image/png"/>
  <Override PartName="/ppt/media/image8.wmf" ContentType="image/x-wmf"/>
  <Override PartName="/ppt/media/image25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20.png" ContentType="image/png"/>
  <Override PartName="/ppt/media/image57.png" ContentType="image/png"/>
  <Override PartName="/ppt/media/image29.png" ContentType="image/png"/>
  <Override PartName="/ppt/media/image2.jpeg" ContentType="image/jpeg"/>
  <Override PartName="/ppt/media/image31.png" ContentType="image/png"/>
  <Override PartName="/ppt/media/image15.png" ContentType="image/png"/>
  <Override PartName="/ppt/media/image59.gif" ContentType="image/gif"/>
  <Override PartName="/ppt/media/image27.png" ContentType="image/png"/>
  <Override PartName="/ppt/media/image30.png" ContentType="image/png"/>
  <Override PartName="/ppt/media/image10.jpeg" ContentType="image/jpeg"/>
  <Override PartName="/ppt/media/image14.png" ContentType="image/png"/>
  <Override PartName="/ppt/media/image54.wmf" ContentType="image/x-wmf"/>
  <Override PartName="/ppt/media/image26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4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media/image1.png" ContentType="image/png"/>
  <Override PartName="/ppt/media/image13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7.png" ContentType="image/png"/>
  <Override PartName="/ppt/media/image38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.jpeg" ContentType="image/jpeg"/>
  <Override PartName="/ppt/media/image51.png" ContentType="image/png"/>
  <Override PartName="/ppt/media/image52.png" ContentType="image/png"/>
  <Override PartName="/ppt/media/image53.png" ContentType="image/png"/>
  <Override PartName="/ppt/media/image5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1F78-9451-48A0-AB24-765251565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E2F1-9E90-422F-881C-21D0FA6DB7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0466-500D-4A91-9C30-4A8AD941C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EC77-FE58-421B-A2FB-3F2401F86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CF6-5E3E-4920-8802-D670F0B3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E51-1D69-4C0F-B233-7E5A1979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7DD-3021-441D-90D2-5DE28554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FCB-03F6-4017-8BC4-0F7EBAAA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2109-939D-4B0D-B462-799626E5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7FEA-99C6-49FF-A062-EF0B862E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AB8D-DA56-42A5-B347-11C05530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6963-05CA-4F41-8AFE-A772B214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0630-A196-465A-904D-A35C5133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98A9-7DE7-4168-AFCD-3C9EE149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5248-EFD2-4B53-B1FC-97F67A23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B62-80D0-4E6E-AD74-DA312FF8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1350-7F64-4A81-BEB0-09409DB3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BBF7-AE0F-4369-95B1-6C9286FE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1C38-4459-4184-8240-2B75C40B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969D-99AB-4C17-8643-3C7B1D2A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0AC4-9155-44CE-A729-64C7DFE2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CA6-CD86-4FFE-99B8-7B4A6094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F5D-0F3A-4C3E-BC8D-483B391F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654-404F-44CE-AEE2-2592EEE9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194-867A-4094-81F5-F6CE5A2A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6D3-4286-4326-B129-2E872704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F51-3CCD-4CA7-AD5F-31700D20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723-BA3D-45F7-89E7-1E3036E8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FBB3-2205-4734-B917-9B0F7737B4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6822-DEF6-417A-BFE1-1D9CC4857A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19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25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31.png"/><Relationship Id="rId37" Type="http://schemas.openxmlformats.org/officeDocument/2006/relationships/image" Target="../media/image49.png"/><Relationship Id="rId38" Type="http://schemas.openxmlformats.org/officeDocument/2006/relationships/image" Target="../media/image50.png"/><Relationship Id="rId39" Type="http://schemas.openxmlformats.org/officeDocument/2006/relationships/image" Target="../media/image51.png"/><Relationship Id="rId40" Type="http://schemas.openxmlformats.org/officeDocument/2006/relationships/image" Target="../media/image52.png"/><Relationship Id="rId41" Type="http://schemas.openxmlformats.org/officeDocument/2006/relationships/image" Target="../media/image53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19640" y="2060280"/>
            <a:ext cx="5256000" cy="216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Формирование универсальных учебных действий на уроках математик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в 1 классе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657A-8136-487C-B578-06C78A04FC37}" type="slidenum">
              <a:rPr b="0" lang="en-US" sz="1000" spc="-1" strike="noStrike">
                <a:solidFill>
                  <a:srgbClr val="a2a2a2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971640" y="40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униципальное общеобразовательное учреждение «Средняя общеобразовательная школа № 11 г. Вольс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8" descr="Картинка 33 из 28349"/>
          <p:cNvPicPr/>
          <p:nvPr/>
        </p:nvPicPr>
        <p:blipFill>
          <a:blip r:embed="rId2"/>
          <a:stretch/>
        </p:blipFill>
        <p:spPr>
          <a:xfrm>
            <a:off x="179280" y="2205000"/>
            <a:ext cx="3148200" cy="3673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4356000" y="5157720"/>
            <a:ext cx="44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дготовила С.Н. Фролова, учитель начальных классов МОУ СОШ №11 г. Вольск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Облако 188"/>
          <p:cNvSpPr/>
          <p:nvPr/>
        </p:nvSpPr>
        <p:spPr>
          <a:xfrm>
            <a:off x="500040" y="2286000"/>
            <a:ext cx="8001000" cy="1928880"/>
          </a:xfrm>
          <a:custGeom>
            <a:avLst/>
            <a:gdLst>
              <a:gd name="textAreaLeft" fmla="*/ 1102680 w 8001000"/>
              <a:gd name="textAreaRight" fmla="*/ 6329520 w 80010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11520">
            <a:solidFill>
              <a:srgbClr val="00b05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5" name="Группа 48"/>
          <p:cNvGrpSpPr/>
          <p:nvPr/>
        </p:nvGrpSpPr>
        <p:grpSpPr>
          <a:xfrm>
            <a:off x="4323600" y="2549160"/>
            <a:ext cx="1016280" cy="1094040"/>
            <a:chOff x="4323600" y="2549160"/>
            <a:chExt cx="1016280" cy="1094040"/>
          </a:xfrm>
        </p:grpSpPr>
        <p:sp>
          <p:nvSpPr>
            <p:cNvPr id="606" name="Полилиния 47"/>
            <p:cNvSpPr/>
            <p:nvPr/>
          </p:nvSpPr>
          <p:spPr>
            <a:xfrm>
              <a:off x="4700520" y="297936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7" name="Группа 46"/>
            <p:cNvGrpSpPr/>
            <p:nvPr/>
          </p:nvGrpSpPr>
          <p:grpSpPr>
            <a:xfrm>
              <a:off x="4323600" y="2549160"/>
              <a:ext cx="1016280" cy="861840"/>
              <a:chOff x="4323600" y="2549160"/>
              <a:chExt cx="1016280" cy="861840"/>
            </a:xfrm>
          </p:grpSpPr>
          <p:grpSp>
            <p:nvGrpSpPr>
              <p:cNvPr id="608" name="Группа 14"/>
              <p:cNvGrpSpPr/>
              <p:nvPr/>
            </p:nvGrpSpPr>
            <p:grpSpPr>
              <a:xfrm>
                <a:off x="4835880" y="2719800"/>
                <a:ext cx="345960" cy="317160"/>
                <a:chOff x="4835880" y="2719800"/>
                <a:chExt cx="345960" cy="317160"/>
              </a:xfrm>
            </p:grpSpPr>
            <p:sp>
              <p:nvSpPr>
                <p:cNvPr id="609" name="Полилиния 11"/>
                <p:cNvSpPr/>
                <p:nvPr/>
              </p:nvSpPr>
              <p:spPr>
                <a:xfrm>
                  <a:off x="4835880" y="27198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Полилиния 13"/>
                <p:cNvSpPr/>
                <p:nvPr/>
              </p:nvSpPr>
              <p:spPr>
                <a:xfrm>
                  <a:off x="4835880" y="279936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1" name="Группа 15"/>
              <p:cNvGrpSpPr/>
              <p:nvPr/>
            </p:nvGrpSpPr>
            <p:grpSpPr>
              <a:xfrm>
                <a:off x="4434480" y="2640960"/>
                <a:ext cx="468360" cy="331200"/>
                <a:chOff x="4434480" y="2640960"/>
                <a:chExt cx="468360" cy="331200"/>
              </a:xfrm>
            </p:grpSpPr>
            <p:sp>
              <p:nvSpPr>
                <p:cNvPr id="612" name="Полилиния 16"/>
                <p:cNvSpPr/>
                <p:nvPr/>
              </p:nvSpPr>
              <p:spPr>
                <a:xfrm rot="16842600">
                  <a:off x="4540680" y="259236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Полилиния 17"/>
                <p:cNvSpPr/>
                <p:nvPr/>
              </p:nvSpPr>
              <p:spPr>
                <a:xfrm rot="16842600">
                  <a:off x="4612680" y="273744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4" name="Группа 18"/>
              <p:cNvGrpSpPr/>
              <p:nvPr/>
            </p:nvGrpSpPr>
            <p:grpSpPr>
              <a:xfrm>
                <a:off x="4870800" y="2768400"/>
                <a:ext cx="469080" cy="468720"/>
                <a:chOff x="4870800" y="2768400"/>
                <a:chExt cx="469080" cy="468720"/>
              </a:xfrm>
            </p:grpSpPr>
            <p:sp>
              <p:nvSpPr>
                <p:cNvPr id="615" name="Полилиния 19"/>
                <p:cNvSpPr/>
                <p:nvPr/>
              </p:nvSpPr>
              <p:spPr>
                <a:xfrm rot="2695200">
                  <a:off x="4932000" y="28440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6" name="Полилиния 20"/>
                <p:cNvSpPr/>
                <p:nvPr/>
              </p:nvSpPr>
              <p:spPr>
                <a:xfrm rot="2695200">
                  <a:off x="4942440" y="28620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7" name="Группа 24"/>
              <p:cNvGrpSpPr/>
              <p:nvPr/>
            </p:nvGrpSpPr>
            <p:grpSpPr>
              <a:xfrm>
                <a:off x="4789440" y="2976840"/>
                <a:ext cx="441720" cy="279000"/>
                <a:chOff x="4789440" y="2976840"/>
                <a:chExt cx="441720" cy="279000"/>
              </a:xfrm>
            </p:grpSpPr>
            <p:sp>
              <p:nvSpPr>
                <p:cNvPr id="618" name="Полилиния 25"/>
                <p:cNvSpPr/>
                <p:nvPr/>
              </p:nvSpPr>
              <p:spPr>
                <a:xfrm rot="5589000">
                  <a:off x="4881960" y="290196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9" name="Полилиния 26"/>
                <p:cNvSpPr/>
                <p:nvPr/>
              </p:nvSpPr>
              <p:spPr>
                <a:xfrm rot="5589000">
                  <a:off x="4919040" y="29250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0" name="Группа 27"/>
              <p:cNvGrpSpPr/>
              <p:nvPr/>
            </p:nvGrpSpPr>
            <p:grpSpPr>
              <a:xfrm>
                <a:off x="4620240" y="2941920"/>
                <a:ext cx="493920" cy="469080"/>
                <a:chOff x="4620240" y="2941920"/>
                <a:chExt cx="493920" cy="469080"/>
              </a:xfrm>
            </p:grpSpPr>
            <p:sp>
              <p:nvSpPr>
                <p:cNvPr id="621" name="Полилиния 28"/>
                <p:cNvSpPr/>
                <p:nvPr/>
              </p:nvSpPr>
              <p:spPr>
                <a:xfrm rot="7751400">
                  <a:off x="4739040" y="29620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2" name="Полилиния 29"/>
                <p:cNvSpPr/>
                <p:nvPr/>
              </p:nvSpPr>
              <p:spPr>
                <a:xfrm rot="7751400">
                  <a:off x="4815720" y="2983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3" name="Группа 33"/>
              <p:cNvGrpSpPr/>
              <p:nvPr/>
            </p:nvGrpSpPr>
            <p:grpSpPr>
              <a:xfrm>
                <a:off x="4323600" y="2705400"/>
                <a:ext cx="496440" cy="412560"/>
                <a:chOff x="4323600" y="2705400"/>
                <a:chExt cx="496440" cy="412560"/>
              </a:xfrm>
            </p:grpSpPr>
            <p:sp>
              <p:nvSpPr>
                <p:cNvPr id="624" name="Полилиния 34"/>
                <p:cNvSpPr/>
                <p:nvPr/>
              </p:nvSpPr>
              <p:spPr>
                <a:xfrm rot="14703600">
                  <a:off x="4443840" y="269712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Полилиния 35"/>
                <p:cNvSpPr/>
                <p:nvPr/>
              </p:nvSpPr>
              <p:spPr>
                <a:xfrm rot="14703600">
                  <a:off x="4549680" y="28227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6" name="Группа 36"/>
              <p:cNvGrpSpPr/>
              <p:nvPr/>
            </p:nvGrpSpPr>
            <p:grpSpPr>
              <a:xfrm>
                <a:off x="4376520" y="2815200"/>
                <a:ext cx="449640" cy="436320"/>
                <a:chOff x="4376520" y="2815200"/>
                <a:chExt cx="449640" cy="436320"/>
              </a:xfrm>
            </p:grpSpPr>
            <p:sp>
              <p:nvSpPr>
                <p:cNvPr id="627" name="Полилиния 37"/>
                <p:cNvSpPr/>
                <p:nvPr/>
              </p:nvSpPr>
              <p:spPr>
                <a:xfrm rot="12352200">
                  <a:off x="4428360" y="28746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Полилиния 38"/>
                <p:cNvSpPr/>
                <p:nvPr/>
              </p:nvSpPr>
              <p:spPr>
                <a:xfrm rot="12352200">
                  <a:off x="4587120" y="29538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9" name="Группа 39"/>
              <p:cNvGrpSpPr/>
              <p:nvPr/>
            </p:nvGrpSpPr>
            <p:grpSpPr>
              <a:xfrm>
                <a:off x="4500000" y="2973240"/>
                <a:ext cx="368280" cy="342000"/>
                <a:chOff x="4500000" y="2973240"/>
                <a:chExt cx="368280" cy="342000"/>
              </a:xfrm>
            </p:grpSpPr>
            <p:sp>
              <p:nvSpPr>
                <p:cNvPr id="630" name="Полилиния 40"/>
                <p:cNvSpPr/>
                <p:nvPr/>
              </p:nvSpPr>
              <p:spPr>
                <a:xfrm rot="10547400">
                  <a:off x="4510800" y="298548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Полилиния 41"/>
                <p:cNvSpPr/>
                <p:nvPr/>
              </p:nvSpPr>
              <p:spPr>
                <a:xfrm rot="10547400">
                  <a:off x="4668120" y="30222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2" name="Группа 42"/>
              <p:cNvGrpSpPr/>
              <p:nvPr/>
            </p:nvGrpSpPr>
            <p:grpSpPr>
              <a:xfrm>
                <a:off x="4626720" y="2549160"/>
                <a:ext cx="468360" cy="463320"/>
                <a:chOff x="4626720" y="2549160"/>
                <a:chExt cx="468360" cy="463320"/>
              </a:xfrm>
            </p:grpSpPr>
            <p:sp>
              <p:nvSpPr>
                <p:cNvPr id="633" name="Полилиния 43"/>
                <p:cNvSpPr/>
                <p:nvPr/>
              </p:nvSpPr>
              <p:spPr>
                <a:xfrm rot="19290000">
                  <a:off x="4687560" y="262224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Полилиния 44"/>
                <p:cNvSpPr/>
                <p:nvPr/>
              </p:nvSpPr>
              <p:spPr>
                <a:xfrm rot="19290000">
                  <a:off x="4716360" y="274716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5" name="Блок-схема: узел 45"/>
              <p:cNvSpPr/>
              <p:nvPr/>
            </p:nvSpPr>
            <p:spPr>
              <a:xfrm>
                <a:off x="4783680" y="290592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36" name="Группа 49"/>
          <p:cNvGrpSpPr/>
          <p:nvPr/>
        </p:nvGrpSpPr>
        <p:grpSpPr>
          <a:xfrm>
            <a:off x="3180600" y="1549080"/>
            <a:ext cx="1016280" cy="1094040"/>
            <a:chOff x="3180600" y="1549080"/>
            <a:chExt cx="1016280" cy="1094040"/>
          </a:xfrm>
        </p:grpSpPr>
        <p:sp>
          <p:nvSpPr>
            <p:cNvPr id="637" name="Полилиния 50"/>
            <p:cNvSpPr/>
            <p:nvPr/>
          </p:nvSpPr>
          <p:spPr>
            <a:xfrm>
              <a:off x="3557520" y="197928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38" name="Группа 46"/>
            <p:cNvGrpSpPr/>
            <p:nvPr/>
          </p:nvGrpSpPr>
          <p:grpSpPr>
            <a:xfrm>
              <a:off x="3180600" y="1549080"/>
              <a:ext cx="1016280" cy="861840"/>
              <a:chOff x="3180600" y="1549080"/>
              <a:chExt cx="1016280" cy="861840"/>
            </a:xfrm>
          </p:grpSpPr>
          <p:grpSp>
            <p:nvGrpSpPr>
              <p:cNvPr id="639" name="Группа 14"/>
              <p:cNvGrpSpPr/>
              <p:nvPr/>
            </p:nvGrpSpPr>
            <p:grpSpPr>
              <a:xfrm>
                <a:off x="3692880" y="1719720"/>
                <a:ext cx="345960" cy="317160"/>
                <a:chOff x="3692880" y="1719720"/>
                <a:chExt cx="345960" cy="317160"/>
              </a:xfrm>
            </p:grpSpPr>
            <p:sp>
              <p:nvSpPr>
                <p:cNvPr id="640" name="Полилиния 11"/>
                <p:cNvSpPr/>
                <p:nvPr/>
              </p:nvSpPr>
              <p:spPr>
                <a:xfrm>
                  <a:off x="3692880" y="1719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1" name="Полилиния 79"/>
                <p:cNvSpPr/>
                <p:nvPr/>
              </p:nvSpPr>
              <p:spPr>
                <a:xfrm>
                  <a:off x="3692880" y="1799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2" name="Группа 15"/>
              <p:cNvGrpSpPr/>
              <p:nvPr/>
            </p:nvGrpSpPr>
            <p:grpSpPr>
              <a:xfrm>
                <a:off x="3291480" y="1640880"/>
                <a:ext cx="468360" cy="331200"/>
                <a:chOff x="3291480" y="1640880"/>
                <a:chExt cx="468360" cy="331200"/>
              </a:xfrm>
            </p:grpSpPr>
            <p:sp>
              <p:nvSpPr>
                <p:cNvPr id="643" name="Полилиния 76"/>
                <p:cNvSpPr/>
                <p:nvPr/>
              </p:nvSpPr>
              <p:spPr>
                <a:xfrm rot="16842600">
                  <a:off x="3397680" y="15922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4" name="Полилиния 77"/>
                <p:cNvSpPr/>
                <p:nvPr/>
              </p:nvSpPr>
              <p:spPr>
                <a:xfrm rot="16842600">
                  <a:off x="3469680" y="17373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5" name="Группа 18"/>
              <p:cNvGrpSpPr/>
              <p:nvPr/>
            </p:nvGrpSpPr>
            <p:grpSpPr>
              <a:xfrm>
                <a:off x="3727800" y="1768320"/>
                <a:ext cx="469080" cy="468720"/>
                <a:chOff x="3727800" y="1768320"/>
                <a:chExt cx="469080" cy="468720"/>
              </a:xfrm>
            </p:grpSpPr>
            <p:sp>
              <p:nvSpPr>
                <p:cNvPr id="646" name="Полилиния 74"/>
                <p:cNvSpPr/>
                <p:nvPr/>
              </p:nvSpPr>
              <p:spPr>
                <a:xfrm rot="2695200">
                  <a:off x="3789000" y="18439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7" name="Полилиния 75"/>
                <p:cNvSpPr/>
                <p:nvPr/>
              </p:nvSpPr>
              <p:spPr>
                <a:xfrm rot="2695200">
                  <a:off x="3799440" y="1861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8" name="Группа 24"/>
              <p:cNvGrpSpPr/>
              <p:nvPr/>
            </p:nvGrpSpPr>
            <p:grpSpPr>
              <a:xfrm>
                <a:off x="3646440" y="1976760"/>
                <a:ext cx="441720" cy="279000"/>
                <a:chOff x="3646440" y="1976760"/>
                <a:chExt cx="441720" cy="279000"/>
              </a:xfrm>
            </p:grpSpPr>
            <p:sp>
              <p:nvSpPr>
                <p:cNvPr id="649" name="Полилиния 72"/>
                <p:cNvSpPr/>
                <p:nvPr/>
              </p:nvSpPr>
              <p:spPr>
                <a:xfrm rot="5589000">
                  <a:off x="3738960" y="19018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0" name="Полилиния 73"/>
                <p:cNvSpPr/>
                <p:nvPr/>
              </p:nvSpPr>
              <p:spPr>
                <a:xfrm rot="5589000">
                  <a:off x="3776040" y="19249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1" name="Группа 27"/>
              <p:cNvGrpSpPr/>
              <p:nvPr/>
            </p:nvGrpSpPr>
            <p:grpSpPr>
              <a:xfrm>
                <a:off x="3477240" y="1941840"/>
                <a:ext cx="493920" cy="469080"/>
                <a:chOff x="3477240" y="1941840"/>
                <a:chExt cx="493920" cy="469080"/>
              </a:xfrm>
            </p:grpSpPr>
            <p:sp>
              <p:nvSpPr>
                <p:cNvPr id="652" name="Полилиния 70"/>
                <p:cNvSpPr/>
                <p:nvPr/>
              </p:nvSpPr>
              <p:spPr>
                <a:xfrm rot="7751400">
                  <a:off x="3596040" y="196200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3" name="Полилиния 71"/>
                <p:cNvSpPr/>
                <p:nvPr/>
              </p:nvSpPr>
              <p:spPr>
                <a:xfrm rot="7751400">
                  <a:off x="3672720" y="1983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4" name="Группа 33"/>
              <p:cNvGrpSpPr/>
              <p:nvPr/>
            </p:nvGrpSpPr>
            <p:grpSpPr>
              <a:xfrm>
                <a:off x="3180600" y="1705320"/>
                <a:ext cx="496440" cy="412560"/>
                <a:chOff x="3180600" y="1705320"/>
                <a:chExt cx="496440" cy="412560"/>
              </a:xfrm>
            </p:grpSpPr>
            <p:sp>
              <p:nvSpPr>
                <p:cNvPr id="655" name="Полилиния 68"/>
                <p:cNvSpPr/>
                <p:nvPr/>
              </p:nvSpPr>
              <p:spPr>
                <a:xfrm rot="14703600">
                  <a:off x="3300840" y="169704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6" name="Полилиния 69"/>
                <p:cNvSpPr/>
                <p:nvPr/>
              </p:nvSpPr>
              <p:spPr>
                <a:xfrm rot="14703600">
                  <a:off x="3406680" y="1822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7" name="Группа 36"/>
              <p:cNvGrpSpPr/>
              <p:nvPr/>
            </p:nvGrpSpPr>
            <p:grpSpPr>
              <a:xfrm>
                <a:off x="3233520" y="1815120"/>
                <a:ext cx="449640" cy="436320"/>
                <a:chOff x="3233520" y="1815120"/>
                <a:chExt cx="449640" cy="436320"/>
              </a:xfrm>
            </p:grpSpPr>
            <p:sp>
              <p:nvSpPr>
                <p:cNvPr id="658" name="Полилиния 66"/>
                <p:cNvSpPr/>
                <p:nvPr/>
              </p:nvSpPr>
              <p:spPr>
                <a:xfrm rot="12352200">
                  <a:off x="3285360" y="18745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9" name="Полилиния 67"/>
                <p:cNvSpPr/>
                <p:nvPr/>
              </p:nvSpPr>
              <p:spPr>
                <a:xfrm rot="12352200">
                  <a:off x="3444120" y="19537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0" name="Группа 39"/>
              <p:cNvGrpSpPr/>
              <p:nvPr/>
            </p:nvGrpSpPr>
            <p:grpSpPr>
              <a:xfrm>
                <a:off x="3357000" y="1973160"/>
                <a:ext cx="368280" cy="342000"/>
                <a:chOff x="3357000" y="1973160"/>
                <a:chExt cx="368280" cy="342000"/>
              </a:xfrm>
            </p:grpSpPr>
            <p:sp>
              <p:nvSpPr>
                <p:cNvPr id="661" name="Полилиния 64"/>
                <p:cNvSpPr/>
                <p:nvPr/>
              </p:nvSpPr>
              <p:spPr>
                <a:xfrm rot="10547400">
                  <a:off x="3367800" y="19854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Полилиния 65"/>
                <p:cNvSpPr/>
                <p:nvPr/>
              </p:nvSpPr>
              <p:spPr>
                <a:xfrm rot="10547400">
                  <a:off x="3525120" y="2022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3" name="Группа 42"/>
              <p:cNvGrpSpPr/>
              <p:nvPr/>
            </p:nvGrpSpPr>
            <p:grpSpPr>
              <a:xfrm>
                <a:off x="3483720" y="1549080"/>
                <a:ext cx="468360" cy="463320"/>
                <a:chOff x="3483720" y="1549080"/>
                <a:chExt cx="468360" cy="463320"/>
              </a:xfrm>
            </p:grpSpPr>
            <p:sp>
              <p:nvSpPr>
                <p:cNvPr id="664" name="Полилиния 62"/>
                <p:cNvSpPr/>
                <p:nvPr/>
              </p:nvSpPr>
              <p:spPr>
                <a:xfrm rot="19290000">
                  <a:off x="3544560" y="16221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Полилиния 63"/>
                <p:cNvSpPr/>
                <p:nvPr/>
              </p:nvSpPr>
              <p:spPr>
                <a:xfrm rot="19290000">
                  <a:off x="3573360" y="17470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Блок-схема: узел 61"/>
              <p:cNvSpPr/>
              <p:nvPr/>
            </p:nvSpPr>
            <p:spPr>
              <a:xfrm>
                <a:off x="3640680" y="190584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67" name="Группа 80"/>
          <p:cNvGrpSpPr/>
          <p:nvPr/>
        </p:nvGrpSpPr>
        <p:grpSpPr>
          <a:xfrm>
            <a:off x="5466960" y="1763280"/>
            <a:ext cx="1015920" cy="1094400"/>
            <a:chOff x="5466960" y="1763280"/>
            <a:chExt cx="1015920" cy="1094400"/>
          </a:xfrm>
        </p:grpSpPr>
        <p:sp>
          <p:nvSpPr>
            <p:cNvPr id="668" name="Полилиния 81"/>
            <p:cNvSpPr/>
            <p:nvPr/>
          </p:nvSpPr>
          <p:spPr>
            <a:xfrm>
              <a:off x="5843520" y="219384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9" name="Группа 46"/>
            <p:cNvGrpSpPr/>
            <p:nvPr/>
          </p:nvGrpSpPr>
          <p:grpSpPr>
            <a:xfrm>
              <a:off x="5466960" y="1763280"/>
              <a:ext cx="1015920" cy="862200"/>
              <a:chOff x="5466960" y="1763280"/>
              <a:chExt cx="1015920" cy="862200"/>
            </a:xfrm>
          </p:grpSpPr>
          <p:grpSp>
            <p:nvGrpSpPr>
              <p:cNvPr id="670" name="Группа 14"/>
              <p:cNvGrpSpPr/>
              <p:nvPr/>
            </p:nvGrpSpPr>
            <p:grpSpPr>
              <a:xfrm>
                <a:off x="5978880" y="1934280"/>
                <a:ext cx="345960" cy="317160"/>
                <a:chOff x="5978880" y="1934280"/>
                <a:chExt cx="345960" cy="317160"/>
              </a:xfrm>
            </p:grpSpPr>
            <p:sp>
              <p:nvSpPr>
                <p:cNvPr id="671" name="Полилиния 11"/>
                <p:cNvSpPr/>
                <p:nvPr/>
              </p:nvSpPr>
              <p:spPr>
                <a:xfrm>
                  <a:off x="5978880" y="193428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2" name="Полилиния 110"/>
                <p:cNvSpPr/>
                <p:nvPr/>
              </p:nvSpPr>
              <p:spPr>
                <a:xfrm>
                  <a:off x="5978880" y="201384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73" name="Группа 15"/>
              <p:cNvGrpSpPr/>
              <p:nvPr/>
            </p:nvGrpSpPr>
            <p:grpSpPr>
              <a:xfrm>
                <a:off x="5577480" y="1855440"/>
                <a:ext cx="468720" cy="331560"/>
                <a:chOff x="5577480" y="1855440"/>
                <a:chExt cx="468720" cy="331560"/>
              </a:xfrm>
            </p:grpSpPr>
            <p:sp>
              <p:nvSpPr>
                <p:cNvPr id="674" name="Полилиния 107"/>
                <p:cNvSpPr/>
                <p:nvPr/>
              </p:nvSpPr>
              <p:spPr>
                <a:xfrm rot="16842600">
                  <a:off x="5683320" y="180684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5" name="Полилиния 108"/>
                <p:cNvSpPr/>
                <p:nvPr/>
              </p:nvSpPr>
              <p:spPr>
                <a:xfrm rot="16842600">
                  <a:off x="5755680" y="19522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76" name="Группа 18"/>
              <p:cNvGrpSpPr/>
              <p:nvPr/>
            </p:nvGrpSpPr>
            <p:grpSpPr>
              <a:xfrm>
                <a:off x="6013800" y="1982520"/>
                <a:ext cx="469080" cy="468720"/>
                <a:chOff x="6013800" y="1982520"/>
                <a:chExt cx="469080" cy="468720"/>
              </a:xfrm>
            </p:grpSpPr>
            <p:sp>
              <p:nvSpPr>
                <p:cNvPr id="677" name="Полилиния 105"/>
                <p:cNvSpPr/>
                <p:nvPr/>
              </p:nvSpPr>
              <p:spPr>
                <a:xfrm rot="2695200">
                  <a:off x="6075000" y="20581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8" name="Полилиния 106"/>
                <p:cNvSpPr/>
                <p:nvPr/>
              </p:nvSpPr>
              <p:spPr>
                <a:xfrm rot="2695200">
                  <a:off x="6085440" y="2076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79" name="Группа 24"/>
              <p:cNvGrpSpPr/>
              <p:nvPr/>
            </p:nvGrpSpPr>
            <p:grpSpPr>
              <a:xfrm>
                <a:off x="5932440" y="2190960"/>
                <a:ext cx="441720" cy="279360"/>
                <a:chOff x="5932440" y="2190960"/>
                <a:chExt cx="441720" cy="279360"/>
              </a:xfrm>
            </p:grpSpPr>
            <p:sp>
              <p:nvSpPr>
                <p:cNvPr id="680" name="Полилиния 103"/>
                <p:cNvSpPr/>
                <p:nvPr/>
              </p:nvSpPr>
              <p:spPr>
                <a:xfrm rot="5589000">
                  <a:off x="6024960" y="211608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1" name="Полилиния 104"/>
                <p:cNvSpPr/>
                <p:nvPr/>
              </p:nvSpPr>
              <p:spPr>
                <a:xfrm rot="5589000">
                  <a:off x="6062040" y="21391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2" name="Группа 27"/>
              <p:cNvGrpSpPr/>
              <p:nvPr/>
            </p:nvGrpSpPr>
            <p:grpSpPr>
              <a:xfrm>
                <a:off x="5763600" y="2156040"/>
                <a:ext cx="493920" cy="469440"/>
                <a:chOff x="5763600" y="2156040"/>
                <a:chExt cx="493920" cy="469440"/>
              </a:xfrm>
            </p:grpSpPr>
            <p:sp>
              <p:nvSpPr>
                <p:cNvPr id="683" name="Полилиния 101"/>
                <p:cNvSpPr/>
                <p:nvPr/>
              </p:nvSpPr>
              <p:spPr>
                <a:xfrm rot="7751400">
                  <a:off x="5882040" y="217620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4" name="Полилиния 102"/>
                <p:cNvSpPr/>
                <p:nvPr/>
              </p:nvSpPr>
              <p:spPr>
                <a:xfrm rot="7751400">
                  <a:off x="5958720" y="21978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5" name="Группа 33"/>
              <p:cNvGrpSpPr/>
              <p:nvPr/>
            </p:nvGrpSpPr>
            <p:grpSpPr>
              <a:xfrm>
                <a:off x="5466960" y="1919880"/>
                <a:ext cx="496440" cy="412920"/>
                <a:chOff x="5466960" y="1919880"/>
                <a:chExt cx="496440" cy="412920"/>
              </a:xfrm>
            </p:grpSpPr>
            <p:sp>
              <p:nvSpPr>
                <p:cNvPr id="686" name="Полилиния 99"/>
                <p:cNvSpPr/>
                <p:nvPr/>
              </p:nvSpPr>
              <p:spPr>
                <a:xfrm rot="14703600">
                  <a:off x="5586840" y="191196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7" name="Полилиния 100"/>
                <p:cNvSpPr/>
                <p:nvPr/>
              </p:nvSpPr>
              <p:spPr>
                <a:xfrm rot="14703600">
                  <a:off x="5693040" y="2037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8" name="Группа 36"/>
              <p:cNvGrpSpPr/>
              <p:nvPr/>
            </p:nvGrpSpPr>
            <p:grpSpPr>
              <a:xfrm>
                <a:off x="5519520" y="2029320"/>
                <a:ext cx="449640" cy="436320"/>
                <a:chOff x="5519520" y="2029320"/>
                <a:chExt cx="449640" cy="436320"/>
              </a:xfrm>
            </p:grpSpPr>
            <p:sp>
              <p:nvSpPr>
                <p:cNvPr id="689" name="Полилиния 97"/>
                <p:cNvSpPr/>
                <p:nvPr/>
              </p:nvSpPr>
              <p:spPr>
                <a:xfrm rot="12352200">
                  <a:off x="5571360" y="2088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Полилиния 98"/>
                <p:cNvSpPr/>
                <p:nvPr/>
              </p:nvSpPr>
              <p:spPr>
                <a:xfrm rot="12352200">
                  <a:off x="5730120" y="2167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1" name="Группа 39"/>
              <p:cNvGrpSpPr/>
              <p:nvPr/>
            </p:nvGrpSpPr>
            <p:grpSpPr>
              <a:xfrm>
                <a:off x="5643000" y="2187720"/>
                <a:ext cx="368280" cy="342000"/>
                <a:chOff x="5643000" y="2187720"/>
                <a:chExt cx="368280" cy="342000"/>
              </a:xfrm>
            </p:grpSpPr>
            <p:sp>
              <p:nvSpPr>
                <p:cNvPr id="692" name="Полилиния 95"/>
                <p:cNvSpPr/>
                <p:nvPr/>
              </p:nvSpPr>
              <p:spPr>
                <a:xfrm rot="10547400">
                  <a:off x="5653800" y="21999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3" name="Полилиния 96"/>
                <p:cNvSpPr/>
                <p:nvPr/>
              </p:nvSpPr>
              <p:spPr>
                <a:xfrm rot="10547400">
                  <a:off x="5811120" y="22366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4" name="Группа 42"/>
              <p:cNvGrpSpPr/>
              <p:nvPr/>
            </p:nvGrpSpPr>
            <p:grpSpPr>
              <a:xfrm>
                <a:off x="5769720" y="1763280"/>
                <a:ext cx="468360" cy="463320"/>
                <a:chOff x="5769720" y="1763280"/>
                <a:chExt cx="468360" cy="463320"/>
              </a:xfrm>
            </p:grpSpPr>
            <p:sp>
              <p:nvSpPr>
                <p:cNvPr id="695" name="Полилиния 93"/>
                <p:cNvSpPr/>
                <p:nvPr/>
              </p:nvSpPr>
              <p:spPr>
                <a:xfrm rot="19290000">
                  <a:off x="5830560" y="18363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Полилиния 94"/>
                <p:cNvSpPr/>
                <p:nvPr/>
              </p:nvSpPr>
              <p:spPr>
                <a:xfrm rot="19290000">
                  <a:off x="5859360" y="1961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7" name="Блок-схема: узел 92"/>
              <p:cNvSpPr/>
              <p:nvPr/>
            </p:nvSpPr>
            <p:spPr>
              <a:xfrm>
                <a:off x="5926680" y="212040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98" name="Группа 111"/>
          <p:cNvGrpSpPr/>
          <p:nvPr/>
        </p:nvGrpSpPr>
        <p:grpSpPr>
          <a:xfrm>
            <a:off x="6609600" y="2692080"/>
            <a:ext cx="1016280" cy="1094040"/>
            <a:chOff x="6609600" y="2692080"/>
            <a:chExt cx="1016280" cy="1094040"/>
          </a:xfrm>
        </p:grpSpPr>
        <p:sp>
          <p:nvSpPr>
            <p:cNvPr id="699" name="Полилиния 112"/>
            <p:cNvSpPr/>
            <p:nvPr/>
          </p:nvSpPr>
          <p:spPr>
            <a:xfrm>
              <a:off x="6986520" y="312228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0" name="Группа 46"/>
            <p:cNvGrpSpPr/>
            <p:nvPr/>
          </p:nvGrpSpPr>
          <p:grpSpPr>
            <a:xfrm>
              <a:off x="6609600" y="2692080"/>
              <a:ext cx="1016280" cy="861840"/>
              <a:chOff x="6609600" y="2692080"/>
              <a:chExt cx="1016280" cy="861840"/>
            </a:xfrm>
          </p:grpSpPr>
          <p:grpSp>
            <p:nvGrpSpPr>
              <p:cNvPr id="701" name="Группа 14"/>
              <p:cNvGrpSpPr/>
              <p:nvPr/>
            </p:nvGrpSpPr>
            <p:grpSpPr>
              <a:xfrm>
                <a:off x="7121880" y="2862720"/>
                <a:ext cx="345960" cy="317160"/>
                <a:chOff x="7121880" y="2862720"/>
                <a:chExt cx="345960" cy="317160"/>
              </a:xfrm>
            </p:grpSpPr>
            <p:sp>
              <p:nvSpPr>
                <p:cNvPr id="702" name="Полилиния 11"/>
                <p:cNvSpPr/>
                <p:nvPr/>
              </p:nvSpPr>
              <p:spPr>
                <a:xfrm>
                  <a:off x="7121880" y="2862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Полилиния 141"/>
                <p:cNvSpPr/>
                <p:nvPr/>
              </p:nvSpPr>
              <p:spPr>
                <a:xfrm>
                  <a:off x="7121880" y="2942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04" name="Группа 15"/>
              <p:cNvGrpSpPr/>
              <p:nvPr/>
            </p:nvGrpSpPr>
            <p:grpSpPr>
              <a:xfrm>
                <a:off x="6720480" y="2783880"/>
                <a:ext cx="468360" cy="331200"/>
                <a:chOff x="6720480" y="2783880"/>
                <a:chExt cx="468360" cy="331200"/>
              </a:xfrm>
            </p:grpSpPr>
            <p:sp>
              <p:nvSpPr>
                <p:cNvPr id="705" name="Полилиния 138"/>
                <p:cNvSpPr/>
                <p:nvPr/>
              </p:nvSpPr>
              <p:spPr>
                <a:xfrm rot="16842600">
                  <a:off x="6826680" y="27352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Полилиния 139"/>
                <p:cNvSpPr/>
                <p:nvPr/>
              </p:nvSpPr>
              <p:spPr>
                <a:xfrm rot="16842600">
                  <a:off x="6898680" y="28803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07" name="Группа 18"/>
              <p:cNvGrpSpPr/>
              <p:nvPr/>
            </p:nvGrpSpPr>
            <p:grpSpPr>
              <a:xfrm>
                <a:off x="7156800" y="2911320"/>
                <a:ext cx="469080" cy="468720"/>
                <a:chOff x="7156800" y="2911320"/>
                <a:chExt cx="469080" cy="468720"/>
              </a:xfrm>
            </p:grpSpPr>
            <p:sp>
              <p:nvSpPr>
                <p:cNvPr id="708" name="Полилиния 136"/>
                <p:cNvSpPr/>
                <p:nvPr/>
              </p:nvSpPr>
              <p:spPr>
                <a:xfrm rot="2695200">
                  <a:off x="7218000" y="29869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9" name="Полилиния 137"/>
                <p:cNvSpPr/>
                <p:nvPr/>
              </p:nvSpPr>
              <p:spPr>
                <a:xfrm rot="2695200">
                  <a:off x="7228440" y="3004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0" name="Группа 24"/>
              <p:cNvGrpSpPr/>
              <p:nvPr/>
            </p:nvGrpSpPr>
            <p:grpSpPr>
              <a:xfrm>
                <a:off x="7075440" y="3119760"/>
                <a:ext cx="441720" cy="279000"/>
                <a:chOff x="7075440" y="3119760"/>
                <a:chExt cx="441720" cy="279000"/>
              </a:xfrm>
            </p:grpSpPr>
            <p:sp>
              <p:nvSpPr>
                <p:cNvPr id="711" name="Полилиния 134"/>
                <p:cNvSpPr/>
                <p:nvPr/>
              </p:nvSpPr>
              <p:spPr>
                <a:xfrm rot="5589000">
                  <a:off x="7167960" y="30448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Полилиния 135"/>
                <p:cNvSpPr/>
                <p:nvPr/>
              </p:nvSpPr>
              <p:spPr>
                <a:xfrm rot="5589000">
                  <a:off x="7205040" y="30679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3" name="Группа 27"/>
              <p:cNvGrpSpPr/>
              <p:nvPr/>
            </p:nvGrpSpPr>
            <p:grpSpPr>
              <a:xfrm>
                <a:off x="6906240" y="3084840"/>
                <a:ext cx="493920" cy="469080"/>
                <a:chOff x="6906240" y="3084840"/>
                <a:chExt cx="493920" cy="469080"/>
              </a:xfrm>
            </p:grpSpPr>
            <p:sp>
              <p:nvSpPr>
                <p:cNvPr id="714" name="Полилиния 132"/>
                <p:cNvSpPr/>
                <p:nvPr/>
              </p:nvSpPr>
              <p:spPr>
                <a:xfrm rot="7751400">
                  <a:off x="7025040" y="310500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Полилиния 133"/>
                <p:cNvSpPr/>
                <p:nvPr/>
              </p:nvSpPr>
              <p:spPr>
                <a:xfrm rot="7751400">
                  <a:off x="7101720" y="3126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6" name="Группа 33"/>
              <p:cNvGrpSpPr/>
              <p:nvPr/>
            </p:nvGrpSpPr>
            <p:grpSpPr>
              <a:xfrm>
                <a:off x="6609600" y="2848320"/>
                <a:ext cx="496440" cy="412560"/>
                <a:chOff x="6609600" y="2848320"/>
                <a:chExt cx="496440" cy="412560"/>
              </a:xfrm>
            </p:grpSpPr>
            <p:sp>
              <p:nvSpPr>
                <p:cNvPr id="717" name="Полилиния 130"/>
                <p:cNvSpPr/>
                <p:nvPr/>
              </p:nvSpPr>
              <p:spPr>
                <a:xfrm rot="14703600">
                  <a:off x="6729840" y="284004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8" name="Полилиния 131"/>
                <p:cNvSpPr/>
                <p:nvPr/>
              </p:nvSpPr>
              <p:spPr>
                <a:xfrm rot="14703600">
                  <a:off x="6835680" y="2965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9" name="Группа 36"/>
              <p:cNvGrpSpPr/>
              <p:nvPr/>
            </p:nvGrpSpPr>
            <p:grpSpPr>
              <a:xfrm>
                <a:off x="6662520" y="2958120"/>
                <a:ext cx="449640" cy="436320"/>
                <a:chOff x="6662520" y="2958120"/>
                <a:chExt cx="449640" cy="436320"/>
              </a:xfrm>
            </p:grpSpPr>
            <p:sp>
              <p:nvSpPr>
                <p:cNvPr id="720" name="Полилиния 128"/>
                <p:cNvSpPr/>
                <p:nvPr/>
              </p:nvSpPr>
              <p:spPr>
                <a:xfrm rot="12352200">
                  <a:off x="6714360" y="30175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1" name="Полилиния 129"/>
                <p:cNvSpPr/>
                <p:nvPr/>
              </p:nvSpPr>
              <p:spPr>
                <a:xfrm rot="12352200">
                  <a:off x="6873120" y="30967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2" name="Группа 39"/>
              <p:cNvGrpSpPr/>
              <p:nvPr/>
            </p:nvGrpSpPr>
            <p:grpSpPr>
              <a:xfrm>
                <a:off x="6786000" y="3116160"/>
                <a:ext cx="368280" cy="342000"/>
                <a:chOff x="6786000" y="3116160"/>
                <a:chExt cx="368280" cy="342000"/>
              </a:xfrm>
            </p:grpSpPr>
            <p:sp>
              <p:nvSpPr>
                <p:cNvPr id="723" name="Полилиния 126"/>
                <p:cNvSpPr/>
                <p:nvPr/>
              </p:nvSpPr>
              <p:spPr>
                <a:xfrm rot="10547400">
                  <a:off x="6796800" y="31284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4" name="Полилиния 127"/>
                <p:cNvSpPr/>
                <p:nvPr/>
              </p:nvSpPr>
              <p:spPr>
                <a:xfrm rot="10547400">
                  <a:off x="6954120" y="3165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5" name="Группа 42"/>
              <p:cNvGrpSpPr/>
              <p:nvPr/>
            </p:nvGrpSpPr>
            <p:grpSpPr>
              <a:xfrm>
                <a:off x="6912720" y="2692080"/>
                <a:ext cx="468360" cy="463320"/>
                <a:chOff x="6912720" y="2692080"/>
                <a:chExt cx="468360" cy="463320"/>
              </a:xfrm>
            </p:grpSpPr>
            <p:sp>
              <p:nvSpPr>
                <p:cNvPr id="726" name="Полилиния 124"/>
                <p:cNvSpPr/>
                <p:nvPr/>
              </p:nvSpPr>
              <p:spPr>
                <a:xfrm rot="19290000">
                  <a:off x="6973560" y="27651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7" name="Полилиния 125"/>
                <p:cNvSpPr/>
                <p:nvPr/>
              </p:nvSpPr>
              <p:spPr>
                <a:xfrm rot="19290000">
                  <a:off x="7002360" y="28900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28" name="Блок-схема: узел 123"/>
              <p:cNvSpPr/>
              <p:nvPr/>
            </p:nvSpPr>
            <p:spPr>
              <a:xfrm>
                <a:off x="7069680" y="304884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729" name="Группа 190"/>
          <p:cNvGrpSpPr/>
          <p:nvPr/>
        </p:nvGrpSpPr>
        <p:grpSpPr>
          <a:xfrm>
            <a:off x="804960" y="1756800"/>
            <a:ext cx="1928160" cy="1865880"/>
            <a:chOff x="804960" y="1756800"/>
            <a:chExt cx="1928160" cy="1865880"/>
          </a:xfrm>
        </p:grpSpPr>
        <p:sp>
          <p:nvSpPr>
            <p:cNvPr id="730" name="Полилиния 155"/>
            <p:cNvSpPr/>
            <p:nvPr/>
          </p:nvSpPr>
          <p:spPr>
            <a:xfrm>
              <a:off x="1522440" y="2507760"/>
              <a:ext cx="243000" cy="111492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31" name="Группа 46"/>
            <p:cNvGrpSpPr/>
            <p:nvPr/>
          </p:nvGrpSpPr>
          <p:grpSpPr>
            <a:xfrm>
              <a:off x="804960" y="1756800"/>
              <a:ext cx="1928160" cy="1510560"/>
              <a:chOff x="804960" y="1756800"/>
              <a:chExt cx="1928160" cy="1510560"/>
            </a:xfrm>
          </p:grpSpPr>
          <p:grpSp>
            <p:nvGrpSpPr>
              <p:cNvPr id="732" name="Группа 14"/>
              <p:cNvGrpSpPr/>
              <p:nvPr/>
            </p:nvGrpSpPr>
            <p:grpSpPr>
              <a:xfrm>
                <a:off x="1784880" y="2071800"/>
                <a:ext cx="671400" cy="532800"/>
                <a:chOff x="1784880" y="2071800"/>
                <a:chExt cx="671400" cy="532800"/>
              </a:xfrm>
            </p:grpSpPr>
            <p:sp>
              <p:nvSpPr>
                <p:cNvPr id="733" name="Полилиния 11"/>
                <p:cNvSpPr/>
                <p:nvPr/>
              </p:nvSpPr>
              <p:spPr>
                <a:xfrm>
                  <a:off x="1784880" y="207180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Полилиния 184"/>
                <p:cNvSpPr/>
                <p:nvPr/>
              </p:nvSpPr>
              <p:spPr>
                <a:xfrm>
                  <a:off x="1784880" y="220572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35" name="Группа 15"/>
              <p:cNvGrpSpPr/>
              <p:nvPr/>
            </p:nvGrpSpPr>
            <p:grpSpPr>
              <a:xfrm>
                <a:off x="1012320" y="1928880"/>
                <a:ext cx="896760" cy="577080"/>
                <a:chOff x="1012320" y="1928880"/>
                <a:chExt cx="896760" cy="577080"/>
              </a:xfrm>
            </p:grpSpPr>
            <p:sp>
              <p:nvSpPr>
                <p:cNvPr id="736" name="Полилиния 181"/>
                <p:cNvSpPr/>
                <p:nvPr/>
              </p:nvSpPr>
              <p:spPr>
                <a:xfrm rot="16842600">
                  <a:off x="1245240" y="18014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Полилиния 182"/>
                <p:cNvSpPr/>
                <p:nvPr/>
              </p:nvSpPr>
              <p:spPr>
                <a:xfrm rot="16842600">
                  <a:off x="1373040" y="206820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38" name="Группа 18"/>
              <p:cNvGrpSpPr/>
              <p:nvPr/>
            </p:nvGrpSpPr>
            <p:grpSpPr>
              <a:xfrm>
                <a:off x="1881360" y="2120760"/>
                <a:ext cx="851760" cy="851400"/>
                <a:chOff x="1881360" y="2120760"/>
                <a:chExt cx="851760" cy="851400"/>
              </a:xfrm>
            </p:grpSpPr>
            <p:sp>
              <p:nvSpPr>
                <p:cNvPr id="739" name="Полилиния 179"/>
                <p:cNvSpPr/>
                <p:nvPr/>
              </p:nvSpPr>
              <p:spPr>
                <a:xfrm rot="2695200">
                  <a:off x="1971360" y="227988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Полилиния 180"/>
                <p:cNvSpPr/>
                <p:nvPr/>
              </p:nvSpPr>
              <p:spPr>
                <a:xfrm rot="2695200">
                  <a:off x="1994760" y="229572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1" name="Группа 24"/>
              <p:cNvGrpSpPr/>
              <p:nvPr/>
            </p:nvGrpSpPr>
            <p:grpSpPr>
              <a:xfrm>
                <a:off x="1695600" y="2499840"/>
                <a:ext cx="853560" cy="475200"/>
                <a:chOff x="1695600" y="2499840"/>
                <a:chExt cx="853560" cy="475200"/>
              </a:xfrm>
            </p:grpSpPr>
            <p:sp>
              <p:nvSpPr>
                <p:cNvPr id="742" name="Полилиния 177"/>
                <p:cNvSpPr/>
                <p:nvPr/>
              </p:nvSpPr>
              <p:spPr>
                <a:xfrm rot="5589000">
                  <a:off x="1906920" y="23216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3" name="Полилиния 178"/>
                <p:cNvSpPr/>
                <p:nvPr/>
              </p:nvSpPr>
              <p:spPr>
                <a:xfrm rot="5589000">
                  <a:off x="1963080" y="238104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4" name="Группа 27"/>
              <p:cNvGrpSpPr/>
              <p:nvPr/>
            </p:nvGrpSpPr>
            <p:grpSpPr>
              <a:xfrm>
                <a:off x="1387440" y="2408760"/>
                <a:ext cx="916200" cy="858600"/>
                <a:chOff x="1387440" y="2408760"/>
                <a:chExt cx="916200" cy="858600"/>
              </a:xfrm>
            </p:grpSpPr>
            <p:sp>
              <p:nvSpPr>
                <p:cNvPr id="745" name="Полилиния 175"/>
                <p:cNvSpPr/>
                <p:nvPr/>
              </p:nvSpPr>
              <p:spPr>
                <a:xfrm rot="7751400">
                  <a:off x="1630440" y="24224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6" name="Полилиния 176"/>
                <p:cNvSpPr/>
                <p:nvPr/>
              </p:nvSpPr>
              <p:spPr>
                <a:xfrm rot="7751400">
                  <a:off x="1753560" y="247608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7" name="Группа 33"/>
              <p:cNvGrpSpPr/>
              <p:nvPr/>
            </p:nvGrpSpPr>
            <p:grpSpPr>
              <a:xfrm>
                <a:off x="804960" y="2023200"/>
                <a:ext cx="935280" cy="740520"/>
                <a:chOff x="804960" y="2023200"/>
                <a:chExt cx="935280" cy="740520"/>
              </a:xfrm>
            </p:grpSpPr>
            <p:sp>
              <p:nvSpPr>
                <p:cNvPr id="748" name="Полилиния 173"/>
                <p:cNvSpPr/>
                <p:nvPr/>
              </p:nvSpPr>
              <p:spPr>
                <a:xfrm rot="14703600">
                  <a:off x="1057320" y="197748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9" name="Полилиния 174"/>
                <p:cNvSpPr/>
                <p:nvPr/>
              </p:nvSpPr>
              <p:spPr>
                <a:xfrm rot="14703600">
                  <a:off x="1241280" y="220716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0" name="Группа 36"/>
              <p:cNvGrpSpPr/>
              <p:nvPr/>
            </p:nvGrpSpPr>
            <p:grpSpPr>
              <a:xfrm>
                <a:off x="911880" y="2212920"/>
                <a:ext cx="836640" cy="772200"/>
                <a:chOff x="911880" y="2212920"/>
                <a:chExt cx="836640" cy="772200"/>
              </a:xfrm>
            </p:grpSpPr>
            <p:sp>
              <p:nvSpPr>
                <p:cNvPr id="751" name="Полилиния 171"/>
                <p:cNvSpPr/>
                <p:nvPr/>
              </p:nvSpPr>
              <p:spPr>
                <a:xfrm rot="12352200">
                  <a:off x="994320" y="233244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2" name="Полилиния 172"/>
                <p:cNvSpPr/>
                <p:nvPr/>
              </p:nvSpPr>
              <p:spPr>
                <a:xfrm rot="12352200">
                  <a:off x="1300320" y="247464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3" name="Группа 39"/>
              <p:cNvGrpSpPr/>
              <p:nvPr/>
            </p:nvGrpSpPr>
            <p:grpSpPr>
              <a:xfrm>
                <a:off x="1136520" y="2494800"/>
                <a:ext cx="708840" cy="580680"/>
                <a:chOff x="1136520" y="2494800"/>
                <a:chExt cx="708840" cy="580680"/>
              </a:xfrm>
            </p:grpSpPr>
            <p:sp>
              <p:nvSpPr>
                <p:cNvPr id="754" name="Полилиния 169"/>
                <p:cNvSpPr/>
                <p:nvPr/>
              </p:nvSpPr>
              <p:spPr>
                <a:xfrm rot="10547400">
                  <a:off x="1155240" y="251856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5" name="Полилиния 170"/>
                <p:cNvSpPr/>
                <p:nvPr/>
              </p:nvSpPr>
              <p:spPr>
                <a:xfrm rot="10547400">
                  <a:off x="1460880" y="257940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6" name="Группа 42"/>
              <p:cNvGrpSpPr/>
              <p:nvPr/>
            </p:nvGrpSpPr>
            <p:grpSpPr>
              <a:xfrm>
                <a:off x="1404720" y="1756800"/>
                <a:ext cx="857160" cy="834840"/>
                <a:chOff x="1404720" y="1756800"/>
                <a:chExt cx="857160" cy="834840"/>
              </a:xfrm>
            </p:grpSpPr>
            <p:sp>
              <p:nvSpPr>
                <p:cNvPr id="757" name="Полилиния 167"/>
                <p:cNvSpPr/>
                <p:nvPr/>
              </p:nvSpPr>
              <p:spPr>
                <a:xfrm rot="19290000">
                  <a:off x="1497240" y="190764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8" name="Полилиния 168"/>
                <p:cNvSpPr/>
                <p:nvPr/>
              </p:nvSpPr>
              <p:spPr>
                <a:xfrm rot="19290000">
                  <a:off x="1550160" y="213084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59" name="Блок-схема: узел 166"/>
              <p:cNvSpPr/>
              <p:nvPr/>
            </p:nvSpPr>
            <p:spPr>
              <a:xfrm>
                <a:off x="1683360" y="2384280"/>
                <a:ext cx="278640" cy="17856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60" name="TextBox 186"/>
          <p:cNvSpPr/>
          <p:nvPr/>
        </p:nvSpPr>
        <p:spPr>
          <a:xfrm>
            <a:off x="357120" y="7142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Составьте четыре выра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Придумайте рассказ по каждому выражению с вопро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TextBox 189"/>
          <p:cNvSpPr/>
          <p:nvPr/>
        </p:nvSpPr>
        <p:spPr>
          <a:xfrm>
            <a:off x="71424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4 =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TextBox 162"/>
          <p:cNvSpPr/>
          <p:nvPr/>
        </p:nvSpPr>
        <p:spPr>
          <a:xfrm>
            <a:off x="2714760" y="214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Целое и ча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TextBox 163"/>
          <p:cNvSpPr/>
          <p:nvPr/>
        </p:nvSpPr>
        <p:spPr>
          <a:xfrm>
            <a:off x="714240" y="48578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1 =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TextBox 164"/>
          <p:cNvSpPr/>
          <p:nvPr/>
        </p:nvSpPr>
        <p:spPr>
          <a:xfrm>
            <a:off x="292896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1 =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TextBox 165"/>
          <p:cNvSpPr/>
          <p:nvPr/>
        </p:nvSpPr>
        <p:spPr>
          <a:xfrm>
            <a:off x="2928960" y="48578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4 =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"/>
          <p:cNvSpPr/>
          <p:nvPr/>
        </p:nvSpPr>
        <p:spPr>
          <a:xfrm>
            <a:off x="4427640" y="5734080"/>
            <a:ext cx="647640" cy="57636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"/>
          <p:cNvSpPr/>
          <p:nvPr/>
        </p:nvSpPr>
        <p:spPr>
          <a:xfrm>
            <a:off x="5219640" y="5734080"/>
            <a:ext cx="649440" cy="5745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"/>
          <p:cNvSpPr/>
          <p:nvPr/>
        </p:nvSpPr>
        <p:spPr>
          <a:xfrm>
            <a:off x="766440" y="5805360"/>
            <a:ext cx="3167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II.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Актуализация зн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971640" y="1773360"/>
            <a:ext cx="36716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"/>
          <p:cNvSpPr/>
          <p:nvPr/>
        </p:nvSpPr>
        <p:spPr>
          <a:xfrm>
            <a:off x="1403280" y="1773360"/>
            <a:ext cx="31687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лесной полянке выросли четыре маленькие и одна большая незабудка. Сколько незабудок выросло на лесной полянке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"/>
          <p:cNvSpPr/>
          <p:nvPr/>
        </p:nvSpPr>
        <p:spPr>
          <a:xfrm>
            <a:off x="5580000" y="1773360"/>
            <a:ext cx="33130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лесной полянке выросли четыре маленькие и одна большая незабудка. Красивые были цветы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Облако 188"/>
          <p:cNvSpPr/>
          <p:nvPr/>
        </p:nvSpPr>
        <p:spPr>
          <a:xfrm>
            <a:off x="4284720" y="4941720"/>
            <a:ext cx="4608360" cy="1151280"/>
          </a:xfrm>
          <a:custGeom>
            <a:avLst/>
            <a:gdLst>
              <a:gd name="textAreaLeft" fmla="*/ 635040 w 4608360"/>
              <a:gd name="textAreaRight" fmla="*/ 3645720 w 4608360"/>
              <a:gd name="textAreaTop" fmla="*/ 173880 h 1151280"/>
              <a:gd name="textAreaBottom" fmla="*/ 924120 h 1151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11520">
            <a:solidFill>
              <a:srgbClr val="00b05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3" name="Группа 190"/>
          <p:cNvGrpSpPr/>
          <p:nvPr/>
        </p:nvGrpSpPr>
        <p:grpSpPr>
          <a:xfrm>
            <a:off x="4381920" y="4313160"/>
            <a:ext cx="1466280" cy="1354320"/>
            <a:chOff x="4381920" y="4313160"/>
            <a:chExt cx="1466280" cy="1354320"/>
          </a:xfrm>
        </p:grpSpPr>
        <p:sp>
          <p:nvSpPr>
            <p:cNvPr id="774" name="Полилиния 155"/>
            <p:cNvSpPr/>
            <p:nvPr/>
          </p:nvSpPr>
          <p:spPr>
            <a:xfrm rot="21459000">
              <a:off x="4945320" y="4867920"/>
              <a:ext cx="186120" cy="79596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5" name="Группа 46"/>
            <p:cNvGrpSpPr/>
            <p:nvPr/>
          </p:nvGrpSpPr>
          <p:grpSpPr>
            <a:xfrm>
              <a:off x="4381920" y="4313160"/>
              <a:ext cx="1466280" cy="1098360"/>
              <a:chOff x="4381920" y="4313160"/>
              <a:chExt cx="1466280" cy="1098360"/>
            </a:xfrm>
          </p:grpSpPr>
          <p:grpSp>
            <p:nvGrpSpPr>
              <p:cNvPr id="776" name="Группа 14"/>
              <p:cNvGrpSpPr/>
              <p:nvPr/>
            </p:nvGrpSpPr>
            <p:grpSpPr>
              <a:xfrm>
                <a:off x="5117400" y="4531680"/>
                <a:ext cx="528840" cy="401040"/>
                <a:chOff x="5117400" y="4531680"/>
                <a:chExt cx="528840" cy="401040"/>
              </a:xfrm>
            </p:grpSpPr>
            <p:sp>
              <p:nvSpPr>
                <p:cNvPr id="777" name="Полилиния 11"/>
                <p:cNvSpPr/>
                <p:nvPr/>
              </p:nvSpPr>
              <p:spPr>
                <a:xfrm rot="21459000">
                  <a:off x="5124960" y="4542120"/>
                  <a:ext cx="513720" cy="380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8" name="Полилиния 184"/>
                <p:cNvSpPr/>
                <p:nvPr/>
              </p:nvSpPr>
              <p:spPr>
                <a:xfrm rot="21459000">
                  <a:off x="5125320" y="4642200"/>
                  <a:ext cx="277920" cy="2332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79" name="Группа 15"/>
              <p:cNvGrpSpPr/>
              <p:nvPr/>
            </p:nvGrpSpPr>
            <p:grpSpPr>
              <a:xfrm>
                <a:off x="4536360" y="4469040"/>
                <a:ext cx="673920" cy="396360"/>
                <a:chOff x="4536360" y="4469040"/>
                <a:chExt cx="673920" cy="396360"/>
              </a:xfrm>
            </p:grpSpPr>
            <p:sp>
              <p:nvSpPr>
                <p:cNvPr id="780" name="Полилиния 181"/>
                <p:cNvSpPr/>
                <p:nvPr/>
              </p:nvSpPr>
              <p:spPr>
                <a:xfrm rot="16701600">
                  <a:off x="4719600" y="4348800"/>
                  <a:ext cx="307080" cy="6361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1" name="Полилиния 182"/>
                <p:cNvSpPr/>
                <p:nvPr/>
              </p:nvSpPr>
              <p:spPr>
                <a:xfrm rot="16701600">
                  <a:off x="4816440" y="4546800"/>
                  <a:ext cx="166320" cy="3906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2" name="Группа 18"/>
              <p:cNvGrpSpPr/>
              <p:nvPr/>
            </p:nvGrpSpPr>
            <p:grpSpPr>
              <a:xfrm>
                <a:off x="5212800" y="4561560"/>
                <a:ext cx="635400" cy="627480"/>
                <a:chOff x="5212800" y="4561560"/>
                <a:chExt cx="635400" cy="627480"/>
              </a:xfrm>
            </p:grpSpPr>
            <p:sp>
              <p:nvSpPr>
                <p:cNvPr id="783" name="Полилиния 179"/>
                <p:cNvSpPr/>
                <p:nvPr/>
              </p:nvSpPr>
              <p:spPr>
                <a:xfrm rot="2553600">
                  <a:off x="5273280" y="4685040"/>
                  <a:ext cx="513720" cy="380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Полилиния 180"/>
                <p:cNvSpPr/>
                <p:nvPr/>
              </p:nvSpPr>
              <p:spPr>
                <a:xfrm rot="2553600">
                  <a:off x="5289840" y="4694400"/>
                  <a:ext cx="277920" cy="2332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5" name="Группа 24"/>
              <p:cNvGrpSpPr/>
              <p:nvPr/>
            </p:nvGrpSpPr>
            <p:grpSpPr>
              <a:xfrm>
                <a:off x="5074200" y="4859280"/>
                <a:ext cx="640440" cy="316080"/>
                <a:chOff x="5074200" y="4859280"/>
                <a:chExt cx="640440" cy="316080"/>
              </a:xfrm>
            </p:grpSpPr>
            <p:sp>
              <p:nvSpPr>
                <p:cNvPr id="786" name="Полилиния 177"/>
                <p:cNvSpPr/>
                <p:nvPr/>
              </p:nvSpPr>
              <p:spPr>
                <a:xfrm rot="5448000">
                  <a:off x="5240880" y="4699080"/>
                  <a:ext cx="307080" cy="6361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Полилиния 178"/>
                <p:cNvSpPr/>
                <p:nvPr/>
              </p:nvSpPr>
              <p:spPr>
                <a:xfrm rot="5448000">
                  <a:off x="5275080" y="4750920"/>
                  <a:ext cx="166320" cy="3906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8" name="Группа 27"/>
              <p:cNvGrpSpPr/>
              <p:nvPr/>
            </p:nvGrpSpPr>
            <p:grpSpPr>
              <a:xfrm>
                <a:off x="4839120" y="4784400"/>
                <a:ext cx="693360" cy="627120"/>
                <a:chOff x="4839120" y="4784400"/>
                <a:chExt cx="693360" cy="627120"/>
              </a:xfrm>
            </p:grpSpPr>
            <p:sp>
              <p:nvSpPr>
                <p:cNvPr id="789" name="Полилиния 175"/>
                <p:cNvSpPr/>
                <p:nvPr/>
              </p:nvSpPr>
              <p:spPr>
                <a:xfrm rot="7610400">
                  <a:off x="5032080" y="4779720"/>
                  <a:ext cx="307080" cy="6361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0" name="Полилиния 176"/>
                <p:cNvSpPr/>
                <p:nvPr/>
              </p:nvSpPr>
              <p:spPr>
                <a:xfrm rot="7610400">
                  <a:off x="5114880" y="4824000"/>
                  <a:ext cx="166320" cy="3906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91" name="Группа 33"/>
              <p:cNvGrpSpPr/>
              <p:nvPr/>
            </p:nvGrpSpPr>
            <p:grpSpPr>
              <a:xfrm>
                <a:off x="4381920" y="4516560"/>
                <a:ext cx="705960" cy="564480"/>
                <a:chOff x="4381920" y="4516560"/>
                <a:chExt cx="705960" cy="564480"/>
              </a:xfrm>
            </p:grpSpPr>
            <p:sp>
              <p:nvSpPr>
                <p:cNvPr id="792" name="Полилиния 173"/>
                <p:cNvSpPr/>
                <p:nvPr/>
              </p:nvSpPr>
              <p:spPr>
                <a:xfrm rot="14562600">
                  <a:off x="4581360" y="4480560"/>
                  <a:ext cx="307080" cy="6361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3" name="Полилиния 174"/>
                <p:cNvSpPr/>
                <p:nvPr/>
              </p:nvSpPr>
              <p:spPr>
                <a:xfrm rot="14562600">
                  <a:off x="4717080" y="4648680"/>
                  <a:ext cx="166320" cy="3906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94" name="Группа 36"/>
              <p:cNvGrpSpPr/>
              <p:nvPr/>
            </p:nvGrpSpPr>
            <p:grpSpPr>
              <a:xfrm>
                <a:off x="4473720" y="4665960"/>
                <a:ext cx="622440" cy="553680"/>
                <a:chOff x="4473720" y="4665960"/>
                <a:chExt cx="622440" cy="553680"/>
              </a:xfrm>
            </p:grpSpPr>
            <p:sp>
              <p:nvSpPr>
                <p:cNvPr id="795" name="Полилиния 171"/>
                <p:cNvSpPr/>
                <p:nvPr/>
              </p:nvSpPr>
              <p:spPr>
                <a:xfrm rot="12211800">
                  <a:off x="4527720" y="4752720"/>
                  <a:ext cx="513720" cy="380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6" name="Полилиния 172"/>
                <p:cNvSpPr/>
                <p:nvPr/>
              </p:nvSpPr>
              <p:spPr>
                <a:xfrm rot="12211800">
                  <a:off x="4762800" y="4853160"/>
                  <a:ext cx="277920" cy="2332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97" name="Группа 39"/>
              <p:cNvGrpSpPr/>
              <p:nvPr/>
            </p:nvGrpSpPr>
            <p:grpSpPr>
              <a:xfrm>
                <a:off x="4636440" y="4852440"/>
                <a:ext cx="553680" cy="436320"/>
                <a:chOff x="4636440" y="4852440"/>
                <a:chExt cx="553680" cy="436320"/>
              </a:xfrm>
            </p:grpSpPr>
            <p:sp>
              <p:nvSpPr>
                <p:cNvPr id="798" name="Полилиния 169"/>
                <p:cNvSpPr/>
                <p:nvPr/>
              </p:nvSpPr>
              <p:spPr>
                <a:xfrm rot="10406400">
                  <a:off x="4656240" y="4880160"/>
                  <a:ext cx="513720" cy="380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Полилиния 170"/>
                <p:cNvSpPr/>
                <p:nvPr/>
              </p:nvSpPr>
              <p:spPr>
                <a:xfrm rot="10406400">
                  <a:off x="4888440" y="4918680"/>
                  <a:ext cx="277920" cy="2332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00" name="Группа 42"/>
              <p:cNvGrpSpPr/>
              <p:nvPr/>
            </p:nvGrpSpPr>
            <p:grpSpPr>
              <a:xfrm>
                <a:off x="4838400" y="4313160"/>
                <a:ext cx="637200" cy="623520"/>
                <a:chOff x="4838400" y="4313160"/>
                <a:chExt cx="637200" cy="623520"/>
              </a:xfrm>
            </p:grpSpPr>
            <p:sp>
              <p:nvSpPr>
                <p:cNvPr id="801" name="Полилиния 167"/>
                <p:cNvSpPr/>
                <p:nvPr/>
              </p:nvSpPr>
              <p:spPr>
                <a:xfrm rot="19149000">
                  <a:off x="4899960" y="4434480"/>
                  <a:ext cx="513720" cy="380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Полилиния 168"/>
                <p:cNvSpPr/>
                <p:nvPr/>
              </p:nvSpPr>
              <p:spPr>
                <a:xfrm rot="19149000">
                  <a:off x="4942800" y="4601520"/>
                  <a:ext cx="277920" cy="2332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3" name="Блок-схема: узел 166"/>
              <p:cNvSpPr/>
              <p:nvPr/>
            </p:nvSpPr>
            <p:spPr>
              <a:xfrm rot="21459000">
                <a:off x="5051160" y="4774320"/>
                <a:ext cx="213120" cy="12744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04" name="Группа 48"/>
          <p:cNvGrpSpPr/>
          <p:nvPr/>
        </p:nvGrpSpPr>
        <p:grpSpPr>
          <a:xfrm>
            <a:off x="8292600" y="4529880"/>
            <a:ext cx="716040" cy="774000"/>
            <a:chOff x="8292600" y="4529880"/>
            <a:chExt cx="716040" cy="774000"/>
          </a:xfrm>
        </p:grpSpPr>
        <p:sp>
          <p:nvSpPr>
            <p:cNvPr id="805" name="Полилиния 47"/>
            <p:cNvSpPr/>
            <p:nvPr/>
          </p:nvSpPr>
          <p:spPr>
            <a:xfrm>
              <a:off x="8558280" y="4834080"/>
              <a:ext cx="88200" cy="46980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06" name="Группа 46"/>
            <p:cNvGrpSpPr/>
            <p:nvPr/>
          </p:nvGrpSpPr>
          <p:grpSpPr>
            <a:xfrm>
              <a:off x="8292600" y="4529880"/>
              <a:ext cx="716040" cy="609120"/>
              <a:chOff x="8292600" y="4529880"/>
              <a:chExt cx="716040" cy="609120"/>
            </a:xfrm>
          </p:grpSpPr>
          <p:grpSp>
            <p:nvGrpSpPr>
              <p:cNvPr id="807" name="Группа 14"/>
              <p:cNvGrpSpPr/>
              <p:nvPr/>
            </p:nvGrpSpPr>
            <p:grpSpPr>
              <a:xfrm>
                <a:off x="8653320" y="4650120"/>
                <a:ext cx="243360" cy="224640"/>
                <a:chOff x="8653320" y="4650120"/>
                <a:chExt cx="243360" cy="224640"/>
              </a:xfrm>
            </p:grpSpPr>
            <p:sp>
              <p:nvSpPr>
                <p:cNvPr id="808" name="Полилиния 11"/>
                <p:cNvSpPr/>
                <p:nvPr/>
              </p:nvSpPr>
              <p:spPr>
                <a:xfrm>
                  <a:off x="8653320" y="4650120"/>
                  <a:ext cx="243360" cy="2246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9" name="Полилиния 13"/>
                <p:cNvSpPr/>
                <p:nvPr/>
              </p:nvSpPr>
              <p:spPr>
                <a:xfrm>
                  <a:off x="8653320" y="4706640"/>
                  <a:ext cx="131760" cy="137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0" name="Группа 15"/>
              <p:cNvGrpSpPr/>
              <p:nvPr/>
            </p:nvGrpSpPr>
            <p:grpSpPr>
              <a:xfrm>
                <a:off x="8370720" y="4595040"/>
                <a:ext cx="329760" cy="234360"/>
                <a:chOff x="8370720" y="4595040"/>
                <a:chExt cx="329760" cy="234360"/>
              </a:xfrm>
            </p:grpSpPr>
            <p:sp>
              <p:nvSpPr>
                <p:cNvPr id="811" name="Полилиния 16"/>
                <p:cNvSpPr/>
                <p:nvPr/>
              </p:nvSpPr>
              <p:spPr>
                <a:xfrm rot="16842600">
                  <a:off x="8444880" y="4561200"/>
                  <a:ext cx="18144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2" name="Полилиния 17"/>
                <p:cNvSpPr/>
                <p:nvPr/>
              </p:nvSpPr>
              <p:spPr>
                <a:xfrm rot="16842600">
                  <a:off x="8496000" y="4663440"/>
                  <a:ext cx="9828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3" name="Группа 18"/>
              <p:cNvGrpSpPr/>
              <p:nvPr/>
            </p:nvGrpSpPr>
            <p:grpSpPr>
              <a:xfrm>
                <a:off x="8677440" y="4684680"/>
                <a:ext cx="331200" cy="330840"/>
                <a:chOff x="8677440" y="4684680"/>
                <a:chExt cx="331200" cy="330840"/>
              </a:xfrm>
            </p:grpSpPr>
            <p:sp>
              <p:nvSpPr>
                <p:cNvPr id="814" name="Полилиния 19"/>
                <p:cNvSpPr/>
                <p:nvPr/>
              </p:nvSpPr>
              <p:spPr>
                <a:xfrm rot="2695200">
                  <a:off x="8721360" y="4737600"/>
                  <a:ext cx="243360" cy="2246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5" name="Полилиния 20"/>
                <p:cNvSpPr/>
                <p:nvPr/>
              </p:nvSpPr>
              <p:spPr>
                <a:xfrm rot="2695200">
                  <a:off x="8728200" y="4751280"/>
                  <a:ext cx="131760" cy="137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6" name="Группа 24"/>
              <p:cNvGrpSpPr/>
              <p:nvPr/>
            </p:nvGrpSpPr>
            <p:grpSpPr>
              <a:xfrm>
                <a:off x="8620200" y="4831920"/>
                <a:ext cx="310680" cy="197640"/>
                <a:chOff x="8620200" y="4831920"/>
                <a:chExt cx="310680" cy="197640"/>
              </a:xfrm>
            </p:grpSpPr>
            <p:sp>
              <p:nvSpPr>
                <p:cNvPr id="817" name="Полилиния 25"/>
                <p:cNvSpPr/>
                <p:nvPr/>
              </p:nvSpPr>
              <p:spPr>
                <a:xfrm rot="5589000">
                  <a:off x="8684640" y="4780080"/>
                  <a:ext cx="18144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8" name="Полилиния 26"/>
                <p:cNvSpPr/>
                <p:nvPr/>
              </p:nvSpPr>
              <p:spPr>
                <a:xfrm rot="5589000">
                  <a:off x="8711280" y="4795920"/>
                  <a:ext cx="9828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9" name="Группа 27"/>
              <p:cNvGrpSpPr/>
              <p:nvPr/>
            </p:nvGrpSpPr>
            <p:grpSpPr>
              <a:xfrm>
                <a:off x="8501040" y="4807800"/>
                <a:ext cx="348120" cy="331200"/>
                <a:chOff x="8501040" y="4807800"/>
                <a:chExt cx="348120" cy="331200"/>
              </a:xfrm>
            </p:grpSpPr>
            <p:sp>
              <p:nvSpPr>
                <p:cNvPr id="820" name="Полилиния 28"/>
                <p:cNvSpPr/>
                <p:nvPr/>
              </p:nvSpPr>
              <p:spPr>
                <a:xfrm rot="7751400">
                  <a:off x="8584200" y="4822560"/>
                  <a:ext cx="18144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1" name="Полилиния 29"/>
                <p:cNvSpPr/>
                <p:nvPr/>
              </p:nvSpPr>
              <p:spPr>
                <a:xfrm rot="7751400">
                  <a:off x="8638560" y="4837320"/>
                  <a:ext cx="9828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22" name="Группа 33"/>
              <p:cNvGrpSpPr/>
              <p:nvPr/>
            </p:nvGrpSpPr>
            <p:grpSpPr>
              <a:xfrm>
                <a:off x="8292600" y="4640400"/>
                <a:ext cx="349920" cy="291600"/>
                <a:chOff x="8292600" y="4640400"/>
                <a:chExt cx="349920" cy="291600"/>
              </a:xfrm>
            </p:grpSpPr>
            <p:sp>
              <p:nvSpPr>
                <p:cNvPr id="823" name="Полилиния 34"/>
                <p:cNvSpPr/>
                <p:nvPr/>
              </p:nvSpPr>
              <p:spPr>
                <a:xfrm rot="14703600">
                  <a:off x="8376840" y="4635360"/>
                  <a:ext cx="18144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4" name="Полилиния 35"/>
                <p:cNvSpPr/>
                <p:nvPr/>
              </p:nvSpPr>
              <p:spPr>
                <a:xfrm rot="14703600">
                  <a:off x="8451720" y="4723560"/>
                  <a:ext cx="9828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25" name="Группа 36"/>
              <p:cNvGrpSpPr/>
              <p:nvPr/>
            </p:nvGrpSpPr>
            <p:grpSpPr>
              <a:xfrm>
                <a:off x="8330040" y="4718520"/>
                <a:ext cx="316800" cy="308160"/>
                <a:chOff x="8330040" y="4718520"/>
                <a:chExt cx="316800" cy="308160"/>
              </a:xfrm>
            </p:grpSpPr>
            <p:sp>
              <p:nvSpPr>
                <p:cNvPr id="826" name="Полилиния 37"/>
                <p:cNvSpPr/>
                <p:nvPr/>
              </p:nvSpPr>
              <p:spPr>
                <a:xfrm rot="12352200">
                  <a:off x="8366760" y="4759920"/>
                  <a:ext cx="243360" cy="2246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7" name="Полилиния 38"/>
                <p:cNvSpPr/>
                <p:nvPr/>
              </p:nvSpPr>
              <p:spPr>
                <a:xfrm rot="12352200">
                  <a:off x="8478000" y="4816080"/>
                  <a:ext cx="131760" cy="137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28" name="Группа 39"/>
              <p:cNvGrpSpPr/>
              <p:nvPr/>
            </p:nvGrpSpPr>
            <p:grpSpPr>
              <a:xfrm>
                <a:off x="8417160" y="4830120"/>
                <a:ext cx="259200" cy="241920"/>
                <a:chOff x="8417160" y="4830120"/>
                <a:chExt cx="259200" cy="241920"/>
              </a:xfrm>
            </p:grpSpPr>
            <p:sp>
              <p:nvSpPr>
                <p:cNvPr id="829" name="Полилиния 40"/>
                <p:cNvSpPr/>
                <p:nvPr/>
              </p:nvSpPr>
              <p:spPr>
                <a:xfrm rot="10547400">
                  <a:off x="8425080" y="4838400"/>
                  <a:ext cx="243360" cy="2246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Полилиния 41"/>
                <p:cNvSpPr/>
                <p:nvPr/>
              </p:nvSpPr>
              <p:spPr>
                <a:xfrm rot="10547400">
                  <a:off x="8535240" y="4864680"/>
                  <a:ext cx="131760" cy="137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31" name="Группа 42"/>
              <p:cNvGrpSpPr/>
              <p:nvPr/>
            </p:nvGrpSpPr>
            <p:grpSpPr>
              <a:xfrm>
                <a:off x="8505720" y="4529880"/>
                <a:ext cx="330120" cy="327240"/>
                <a:chOff x="8505720" y="4529880"/>
                <a:chExt cx="330120" cy="327240"/>
              </a:xfrm>
            </p:grpSpPr>
            <p:sp>
              <p:nvSpPr>
                <p:cNvPr id="832" name="Полилиния 43"/>
                <p:cNvSpPr/>
                <p:nvPr/>
              </p:nvSpPr>
              <p:spPr>
                <a:xfrm rot="19290000">
                  <a:off x="8548920" y="4581000"/>
                  <a:ext cx="243360" cy="2246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Полилиния 44"/>
                <p:cNvSpPr/>
                <p:nvPr/>
              </p:nvSpPr>
              <p:spPr>
                <a:xfrm rot="19290000">
                  <a:off x="8569440" y="4669560"/>
                  <a:ext cx="131760" cy="137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4" name="Блок-схема: узел 45"/>
              <p:cNvSpPr/>
              <p:nvPr/>
            </p:nvSpPr>
            <p:spPr>
              <a:xfrm>
                <a:off x="8616600" y="4782240"/>
                <a:ext cx="100800" cy="7524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35" name="Группа 48"/>
          <p:cNvGrpSpPr/>
          <p:nvPr/>
        </p:nvGrpSpPr>
        <p:grpSpPr>
          <a:xfrm>
            <a:off x="7207920" y="4388040"/>
            <a:ext cx="726840" cy="841320"/>
            <a:chOff x="7207920" y="4388040"/>
            <a:chExt cx="726840" cy="841320"/>
          </a:xfrm>
        </p:grpSpPr>
        <p:sp>
          <p:nvSpPr>
            <p:cNvPr id="836" name="Полилиния 47"/>
            <p:cNvSpPr/>
            <p:nvPr/>
          </p:nvSpPr>
          <p:spPr>
            <a:xfrm>
              <a:off x="7477200" y="4714200"/>
              <a:ext cx="88200" cy="51516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37" name="Группа 46"/>
            <p:cNvGrpSpPr/>
            <p:nvPr/>
          </p:nvGrpSpPr>
          <p:grpSpPr>
            <a:xfrm>
              <a:off x="7207920" y="4388040"/>
              <a:ext cx="726840" cy="650880"/>
              <a:chOff x="7207920" y="4388040"/>
              <a:chExt cx="726840" cy="650880"/>
            </a:xfrm>
          </p:grpSpPr>
          <p:grpSp>
            <p:nvGrpSpPr>
              <p:cNvPr id="838" name="Группа 14"/>
              <p:cNvGrpSpPr/>
              <p:nvPr/>
            </p:nvGrpSpPr>
            <p:grpSpPr>
              <a:xfrm>
                <a:off x="7572240" y="4512600"/>
                <a:ext cx="243360" cy="245880"/>
                <a:chOff x="7572240" y="4512600"/>
                <a:chExt cx="243360" cy="245880"/>
              </a:xfrm>
            </p:grpSpPr>
            <p:sp>
              <p:nvSpPr>
                <p:cNvPr id="839" name="Полилиния 11"/>
                <p:cNvSpPr/>
                <p:nvPr/>
              </p:nvSpPr>
              <p:spPr>
                <a:xfrm>
                  <a:off x="7572240" y="451260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0" name="Полилиния 13"/>
                <p:cNvSpPr/>
                <p:nvPr/>
              </p:nvSpPr>
              <p:spPr>
                <a:xfrm>
                  <a:off x="7572240" y="457416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1" name="Группа 15"/>
              <p:cNvGrpSpPr/>
              <p:nvPr/>
            </p:nvGrpSpPr>
            <p:grpSpPr>
              <a:xfrm>
                <a:off x="7288200" y="4454640"/>
                <a:ext cx="333000" cy="251280"/>
                <a:chOff x="7288200" y="4454640"/>
                <a:chExt cx="333000" cy="251280"/>
              </a:xfrm>
            </p:grpSpPr>
            <p:sp>
              <p:nvSpPr>
                <p:cNvPr id="842" name="Полилиния 16"/>
                <p:cNvSpPr/>
                <p:nvPr/>
              </p:nvSpPr>
              <p:spPr>
                <a:xfrm rot="16842600">
                  <a:off x="7355160" y="4429440"/>
                  <a:ext cx="198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3" name="Полилиния 17"/>
                <p:cNvSpPr/>
                <p:nvPr/>
              </p:nvSpPr>
              <p:spPr>
                <a:xfrm rot="16842600">
                  <a:off x="7409160" y="4535280"/>
                  <a:ext cx="10764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4" name="Группа 18"/>
              <p:cNvGrpSpPr/>
              <p:nvPr/>
            </p:nvGrpSpPr>
            <p:grpSpPr>
              <a:xfrm>
                <a:off x="7588800" y="4558680"/>
                <a:ext cx="345960" cy="345960"/>
                <a:chOff x="7588800" y="4558680"/>
                <a:chExt cx="345960" cy="345960"/>
              </a:xfrm>
            </p:grpSpPr>
            <p:sp>
              <p:nvSpPr>
                <p:cNvPr id="845" name="Полилиния 19"/>
                <p:cNvSpPr/>
                <p:nvPr/>
              </p:nvSpPr>
              <p:spPr>
                <a:xfrm rot="2695200">
                  <a:off x="7639920" y="460836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6" name="Полилиния 20"/>
                <p:cNvSpPr/>
                <p:nvPr/>
              </p:nvSpPr>
              <p:spPr>
                <a:xfrm rot="2695200">
                  <a:off x="7646400" y="462672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7" name="Группа 24"/>
              <p:cNvGrpSpPr/>
              <p:nvPr/>
            </p:nvGrpSpPr>
            <p:grpSpPr>
              <a:xfrm>
                <a:off x="7538760" y="4712400"/>
                <a:ext cx="311760" cy="214920"/>
                <a:chOff x="7538760" y="4712400"/>
                <a:chExt cx="311760" cy="214920"/>
              </a:xfrm>
            </p:grpSpPr>
            <p:sp>
              <p:nvSpPr>
                <p:cNvPr id="848" name="Полилиния 25"/>
                <p:cNvSpPr/>
                <p:nvPr/>
              </p:nvSpPr>
              <p:spPr>
                <a:xfrm rot="5589000">
                  <a:off x="7594920" y="4669200"/>
                  <a:ext cx="198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9" name="Полилиния 26"/>
                <p:cNvSpPr/>
                <p:nvPr/>
              </p:nvSpPr>
              <p:spPr>
                <a:xfrm rot="5589000">
                  <a:off x="7625520" y="4681080"/>
                  <a:ext cx="10764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50" name="Группа 27"/>
              <p:cNvGrpSpPr/>
              <p:nvPr/>
            </p:nvGrpSpPr>
            <p:grpSpPr>
              <a:xfrm>
                <a:off x="7414200" y="4694400"/>
                <a:ext cx="359280" cy="344520"/>
                <a:chOff x="7414200" y="4694400"/>
                <a:chExt cx="359280" cy="344520"/>
              </a:xfrm>
            </p:grpSpPr>
            <p:sp>
              <p:nvSpPr>
                <p:cNvPr id="851" name="Полилиния 28"/>
                <p:cNvSpPr/>
                <p:nvPr/>
              </p:nvSpPr>
              <p:spPr>
                <a:xfrm rot="7751400">
                  <a:off x="7494480" y="4715640"/>
                  <a:ext cx="198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2" name="Полилиния 29"/>
                <p:cNvSpPr/>
                <p:nvPr/>
              </p:nvSpPr>
              <p:spPr>
                <a:xfrm rot="7751400">
                  <a:off x="7555320" y="4727880"/>
                  <a:ext cx="10764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53" name="Группа 33"/>
              <p:cNvGrpSpPr/>
              <p:nvPr/>
            </p:nvGrpSpPr>
            <p:grpSpPr>
              <a:xfrm>
                <a:off x="7207920" y="4507920"/>
                <a:ext cx="357120" cy="307080"/>
                <a:chOff x="7207920" y="4507920"/>
                <a:chExt cx="357120" cy="307080"/>
              </a:xfrm>
            </p:grpSpPr>
            <p:sp>
              <p:nvSpPr>
                <p:cNvPr id="854" name="Полилиния 34"/>
                <p:cNvSpPr/>
                <p:nvPr/>
              </p:nvSpPr>
              <p:spPr>
                <a:xfrm rot="14703600">
                  <a:off x="7287120" y="4510440"/>
                  <a:ext cx="198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5" name="Полилиния 35"/>
                <p:cNvSpPr/>
                <p:nvPr/>
              </p:nvSpPr>
              <p:spPr>
                <a:xfrm rot="14703600">
                  <a:off x="7367760" y="4602600"/>
                  <a:ext cx="10764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56" name="Группа 36"/>
              <p:cNvGrpSpPr/>
              <p:nvPr/>
            </p:nvGrpSpPr>
            <p:grpSpPr>
              <a:xfrm>
                <a:off x="7244280" y="4591440"/>
                <a:ext cx="326160" cy="327600"/>
                <a:chOff x="7244280" y="4591440"/>
                <a:chExt cx="326160" cy="327600"/>
              </a:xfrm>
            </p:grpSpPr>
            <p:sp>
              <p:nvSpPr>
                <p:cNvPr id="857" name="Полилиния 37"/>
                <p:cNvSpPr/>
                <p:nvPr/>
              </p:nvSpPr>
              <p:spPr>
                <a:xfrm rot="12352200">
                  <a:off x="7285320" y="463212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8" name="Полилиния 38"/>
                <p:cNvSpPr/>
                <p:nvPr/>
              </p:nvSpPr>
              <p:spPr>
                <a:xfrm rot="12352200">
                  <a:off x="7397640" y="469152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59" name="Группа 39"/>
              <p:cNvGrpSpPr/>
              <p:nvPr/>
            </p:nvGrpSpPr>
            <p:grpSpPr>
              <a:xfrm>
                <a:off x="7335360" y="4709880"/>
                <a:ext cx="260640" cy="263160"/>
                <a:chOff x="7335360" y="4709880"/>
                <a:chExt cx="260640" cy="263160"/>
              </a:xfrm>
            </p:grpSpPr>
            <p:sp>
              <p:nvSpPr>
                <p:cNvPr id="860" name="Полилиния 40"/>
                <p:cNvSpPr/>
                <p:nvPr/>
              </p:nvSpPr>
              <p:spPr>
                <a:xfrm rot="10547400">
                  <a:off x="7343640" y="471816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1" name="Полилиния 41"/>
                <p:cNvSpPr/>
                <p:nvPr/>
              </p:nvSpPr>
              <p:spPr>
                <a:xfrm rot="10547400">
                  <a:off x="7454520" y="474768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62" name="Группа 42"/>
              <p:cNvGrpSpPr/>
              <p:nvPr/>
            </p:nvGrpSpPr>
            <p:grpSpPr>
              <a:xfrm>
                <a:off x="7418160" y="4388040"/>
                <a:ext cx="343440" cy="344160"/>
                <a:chOff x="7418160" y="4388040"/>
                <a:chExt cx="343440" cy="344160"/>
              </a:xfrm>
            </p:grpSpPr>
            <p:sp>
              <p:nvSpPr>
                <p:cNvPr id="863" name="Полилиния 43"/>
                <p:cNvSpPr/>
                <p:nvPr/>
              </p:nvSpPr>
              <p:spPr>
                <a:xfrm rot="19290000">
                  <a:off x="7468200" y="443700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Полилиния 44"/>
                <p:cNvSpPr/>
                <p:nvPr/>
              </p:nvSpPr>
              <p:spPr>
                <a:xfrm rot="19290000">
                  <a:off x="7489080" y="452988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Блок-схема: узел 45"/>
              <p:cNvSpPr/>
              <p:nvPr/>
            </p:nvSpPr>
            <p:spPr>
              <a:xfrm>
                <a:off x="7535520" y="4656960"/>
                <a:ext cx="100800" cy="8244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66" name="Группа 48"/>
          <p:cNvGrpSpPr/>
          <p:nvPr/>
        </p:nvGrpSpPr>
        <p:grpSpPr>
          <a:xfrm>
            <a:off x="6635520" y="5106240"/>
            <a:ext cx="715320" cy="772200"/>
            <a:chOff x="6635520" y="5106240"/>
            <a:chExt cx="715320" cy="772200"/>
          </a:xfrm>
        </p:grpSpPr>
        <p:sp>
          <p:nvSpPr>
            <p:cNvPr id="867" name="Полилиния 47"/>
            <p:cNvSpPr/>
            <p:nvPr/>
          </p:nvSpPr>
          <p:spPr>
            <a:xfrm>
              <a:off x="6900840" y="5409720"/>
              <a:ext cx="88200" cy="46872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8" name="Группа 46"/>
            <p:cNvGrpSpPr/>
            <p:nvPr/>
          </p:nvGrpSpPr>
          <p:grpSpPr>
            <a:xfrm>
              <a:off x="6635520" y="5106240"/>
              <a:ext cx="715320" cy="607680"/>
              <a:chOff x="6635520" y="5106240"/>
              <a:chExt cx="715320" cy="607680"/>
            </a:xfrm>
          </p:grpSpPr>
          <p:grpSp>
            <p:nvGrpSpPr>
              <p:cNvPr id="869" name="Группа 14"/>
              <p:cNvGrpSpPr/>
              <p:nvPr/>
            </p:nvGrpSpPr>
            <p:grpSpPr>
              <a:xfrm>
                <a:off x="6995880" y="5226480"/>
                <a:ext cx="243360" cy="223920"/>
                <a:chOff x="6995880" y="5226480"/>
                <a:chExt cx="243360" cy="223920"/>
              </a:xfrm>
            </p:grpSpPr>
            <p:sp>
              <p:nvSpPr>
                <p:cNvPr id="870" name="Полилиния 11"/>
                <p:cNvSpPr/>
                <p:nvPr/>
              </p:nvSpPr>
              <p:spPr>
                <a:xfrm>
                  <a:off x="6995880" y="5226480"/>
                  <a:ext cx="243360" cy="2239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Полилиния 13"/>
                <p:cNvSpPr/>
                <p:nvPr/>
              </p:nvSpPr>
              <p:spPr>
                <a:xfrm>
                  <a:off x="6995880" y="5282640"/>
                  <a:ext cx="131760" cy="1375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2" name="Группа 15"/>
              <p:cNvGrpSpPr/>
              <p:nvPr/>
            </p:nvGrpSpPr>
            <p:grpSpPr>
              <a:xfrm>
                <a:off x="6713640" y="5171040"/>
                <a:ext cx="329760" cy="233640"/>
                <a:chOff x="6713640" y="5171040"/>
                <a:chExt cx="329760" cy="233640"/>
              </a:xfrm>
            </p:grpSpPr>
            <p:sp>
              <p:nvSpPr>
                <p:cNvPr id="873" name="Полилиния 16"/>
                <p:cNvSpPr/>
                <p:nvPr/>
              </p:nvSpPr>
              <p:spPr>
                <a:xfrm rot="16842600">
                  <a:off x="6787800" y="5136840"/>
                  <a:ext cx="180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Полилиния 17"/>
                <p:cNvSpPr/>
                <p:nvPr/>
              </p:nvSpPr>
              <p:spPr>
                <a:xfrm rot="16842600">
                  <a:off x="6838560" y="5239080"/>
                  <a:ext cx="9792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5" name="Группа 18"/>
              <p:cNvGrpSpPr/>
              <p:nvPr/>
            </p:nvGrpSpPr>
            <p:grpSpPr>
              <a:xfrm>
                <a:off x="7020360" y="5260680"/>
                <a:ext cx="330480" cy="330480"/>
                <a:chOff x="7020360" y="5260680"/>
                <a:chExt cx="330480" cy="330480"/>
              </a:xfrm>
            </p:grpSpPr>
            <p:sp>
              <p:nvSpPr>
                <p:cNvPr id="876" name="Полилиния 19"/>
                <p:cNvSpPr/>
                <p:nvPr/>
              </p:nvSpPr>
              <p:spPr>
                <a:xfrm rot="2695200">
                  <a:off x="7063560" y="5313600"/>
                  <a:ext cx="243360" cy="2239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7" name="Полилиния 20"/>
                <p:cNvSpPr/>
                <p:nvPr/>
              </p:nvSpPr>
              <p:spPr>
                <a:xfrm rot="2695200">
                  <a:off x="7070760" y="5326920"/>
                  <a:ext cx="131760" cy="1375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8" name="Группа 24"/>
              <p:cNvGrpSpPr/>
              <p:nvPr/>
            </p:nvGrpSpPr>
            <p:grpSpPr>
              <a:xfrm>
                <a:off x="6962760" y="5407560"/>
                <a:ext cx="310680" cy="196920"/>
                <a:chOff x="6962760" y="5407560"/>
                <a:chExt cx="310680" cy="196920"/>
              </a:xfrm>
            </p:grpSpPr>
            <p:sp>
              <p:nvSpPr>
                <p:cNvPr id="879" name="Полилиния 25"/>
                <p:cNvSpPr/>
                <p:nvPr/>
              </p:nvSpPr>
              <p:spPr>
                <a:xfrm rot="5589000">
                  <a:off x="7027560" y="5355360"/>
                  <a:ext cx="180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0" name="Полилиния 26"/>
                <p:cNvSpPr/>
                <p:nvPr/>
              </p:nvSpPr>
              <p:spPr>
                <a:xfrm rot="5589000">
                  <a:off x="7053480" y="5371200"/>
                  <a:ext cx="9792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81" name="Группа 27"/>
              <p:cNvGrpSpPr/>
              <p:nvPr/>
            </p:nvGrpSpPr>
            <p:grpSpPr>
              <a:xfrm>
                <a:off x="6843960" y="5383440"/>
                <a:ext cx="347760" cy="330480"/>
                <a:chOff x="6843960" y="5383440"/>
                <a:chExt cx="347760" cy="330480"/>
              </a:xfrm>
            </p:grpSpPr>
            <p:sp>
              <p:nvSpPr>
                <p:cNvPr id="882" name="Полилиния 28"/>
                <p:cNvSpPr/>
                <p:nvPr/>
              </p:nvSpPr>
              <p:spPr>
                <a:xfrm rot="7751400">
                  <a:off x="6927480" y="5397840"/>
                  <a:ext cx="180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3" name="Полилиния 29"/>
                <p:cNvSpPr/>
                <p:nvPr/>
              </p:nvSpPr>
              <p:spPr>
                <a:xfrm rot="7751400">
                  <a:off x="6981120" y="5412960"/>
                  <a:ext cx="9792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84" name="Группа 33"/>
              <p:cNvGrpSpPr/>
              <p:nvPr/>
            </p:nvGrpSpPr>
            <p:grpSpPr>
              <a:xfrm>
                <a:off x="6635520" y="5216400"/>
                <a:ext cx="349560" cy="290880"/>
                <a:chOff x="6635520" y="5216400"/>
                <a:chExt cx="349560" cy="290880"/>
              </a:xfrm>
            </p:grpSpPr>
            <p:sp>
              <p:nvSpPr>
                <p:cNvPr id="885" name="Полилиния 34"/>
                <p:cNvSpPr/>
                <p:nvPr/>
              </p:nvSpPr>
              <p:spPr>
                <a:xfrm rot="14703600">
                  <a:off x="6719760" y="5211000"/>
                  <a:ext cx="180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Полилиния 35"/>
                <p:cNvSpPr/>
                <p:nvPr/>
              </p:nvSpPr>
              <p:spPr>
                <a:xfrm rot="14703600">
                  <a:off x="6794280" y="5299200"/>
                  <a:ext cx="9792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87" name="Группа 36"/>
              <p:cNvGrpSpPr/>
              <p:nvPr/>
            </p:nvGrpSpPr>
            <p:grpSpPr>
              <a:xfrm>
                <a:off x="6672600" y="5293800"/>
                <a:ext cx="316440" cy="307800"/>
                <a:chOff x="6672600" y="5293800"/>
                <a:chExt cx="316440" cy="307800"/>
              </a:xfrm>
            </p:grpSpPr>
            <p:sp>
              <p:nvSpPr>
                <p:cNvPr id="888" name="Полилиния 37"/>
                <p:cNvSpPr/>
                <p:nvPr/>
              </p:nvSpPr>
              <p:spPr>
                <a:xfrm rot="12352200">
                  <a:off x="6708960" y="5335560"/>
                  <a:ext cx="243360" cy="2239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Полилиния 38"/>
                <p:cNvSpPr/>
                <p:nvPr/>
              </p:nvSpPr>
              <p:spPr>
                <a:xfrm rot="12352200">
                  <a:off x="6820560" y="5391720"/>
                  <a:ext cx="131760" cy="1375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90" name="Группа 39"/>
              <p:cNvGrpSpPr/>
              <p:nvPr/>
            </p:nvGrpSpPr>
            <p:grpSpPr>
              <a:xfrm>
                <a:off x="6759720" y="5405760"/>
                <a:ext cx="259200" cy="241200"/>
                <a:chOff x="6759720" y="5405760"/>
                <a:chExt cx="259200" cy="241200"/>
              </a:xfrm>
            </p:grpSpPr>
            <p:sp>
              <p:nvSpPr>
                <p:cNvPr id="891" name="Полилиния 40"/>
                <p:cNvSpPr/>
                <p:nvPr/>
              </p:nvSpPr>
              <p:spPr>
                <a:xfrm rot="10547400">
                  <a:off x="6767640" y="5414040"/>
                  <a:ext cx="243360" cy="2239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2" name="Полилиния 41"/>
                <p:cNvSpPr/>
                <p:nvPr/>
              </p:nvSpPr>
              <p:spPr>
                <a:xfrm rot="10547400">
                  <a:off x="6877800" y="5440320"/>
                  <a:ext cx="131760" cy="1375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93" name="Группа 42"/>
              <p:cNvGrpSpPr/>
              <p:nvPr/>
            </p:nvGrpSpPr>
            <p:grpSpPr>
              <a:xfrm>
                <a:off x="6848640" y="5106240"/>
                <a:ext cx="329760" cy="326880"/>
                <a:chOff x="6848640" y="5106240"/>
                <a:chExt cx="329760" cy="326880"/>
              </a:xfrm>
            </p:grpSpPr>
            <p:sp>
              <p:nvSpPr>
                <p:cNvPr id="894" name="Полилиния 43"/>
                <p:cNvSpPr/>
                <p:nvPr/>
              </p:nvSpPr>
              <p:spPr>
                <a:xfrm rot="19290000">
                  <a:off x="6891840" y="5157360"/>
                  <a:ext cx="243360" cy="2239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Полилиния 44"/>
                <p:cNvSpPr/>
                <p:nvPr/>
              </p:nvSpPr>
              <p:spPr>
                <a:xfrm rot="19290000">
                  <a:off x="6912000" y="5245560"/>
                  <a:ext cx="131760" cy="1375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96" name="Блок-схема: узел 45"/>
              <p:cNvSpPr/>
              <p:nvPr/>
            </p:nvSpPr>
            <p:spPr>
              <a:xfrm>
                <a:off x="6959160" y="5357880"/>
                <a:ext cx="100800" cy="7488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97" name="Группа 48"/>
          <p:cNvGrpSpPr/>
          <p:nvPr/>
        </p:nvGrpSpPr>
        <p:grpSpPr>
          <a:xfrm>
            <a:off x="5912280" y="4532400"/>
            <a:ext cx="726840" cy="841320"/>
            <a:chOff x="5912280" y="4532400"/>
            <a:chExt cx="726840" cy="841320"/>
          </a:xfrm>
        </p:grpSpPr>
        <p:sp>
          <p:nvSpPr>
            <p:cNvPr id="898" name="Полилиния 47"/>
            <p:cNvSpPr/>
            <p:nvPr/>
          </p:nvSpPr>
          <p:spPr>
            <a:xfrm>
              <a:off x="6181560" y="4858560"/>
              <a:ext cx="88200" cy="51516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9" name="Группа 46"/>
            <p:cNvGrpSpPr/>
            <p:nvPr/>
          </p:nvGrpSpPr>
          <p:grpSpPr>
            <a:xfrm>
              <a:off x="5912280" y="4532400"/>
              <a:ext cx="726840" cy="650880"/>
              <a:chOff x="5912280" y="4532400"/>
              <a:chExt cx="726840" cy="650880"/>
            </a:xfrm>
          </p:grpSpPr>
          <p:grpSp>
            <p:nvGrpSpPr>
              <p:cNvPr id="900" name="Группа 14"/>
              <p:cNvGrpSpPr/>
              <p:nvPr/>
            </p:nvGrpSpPr>
            <p:grpSpPr>
              <a:xfrm>
                <a:off x="6276600" y="4656960"/>
                <a:ext cx="243360" cy="245880"/>
                <a:chOff x="6276600" y="4656960"/>
                <a:chExt cx="243360" cy="245880"/>
              </a:xfrm>
            </p:grpSpPr>
            <p:sp>
              <p:nvSpPr>
                <p:cNvPr id="901" name="Полилиния 11"/>
                <p:cNvSpPr/>
                <p:nvPr/>
              </p:nvSpPr>
              <p:spPr>
                <a:xfrm>
                  <a:off x="6276600" y="465696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2" name="Полилиния 13"/>
                <p:cNvSpPr/>
                <p:nvPr/>
              </p:nvSpPr>
              <p:spPr>
                <a:xfrm>
                  <a:off x="6276600" y="471852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03" name="Группа 15"/>
              <p:cNvGrpSpPr/>
              <p:nvPr/>
            </p:nvGrpSpPr>
            <p:grpSpPr>
              <a:xfrm>
                <a:off x="5992560" y="4599000"/>
                <a:ext cx="333000" cy="251280"/>
                <a:chOff x="5992560" y="4599000"/>
                <a:chExt cx="333000" cy="251280"/>
              </a:xfrm>
            </p:grpSpPr>
            <p:sp>
              <p:nvSpPr>
                <p:cNvPr id="904" name="Полилиния 16"/>
                <p:cNvSpPr/>
                <p:nvPr/>
              </p:nvSpPr>
              <p:spPr>
                <a:xfrm rot="16842600">
                  <a:off x="6059520" y="4573800"/>
                  <a:ext cx="198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5" name="Полилиния 17"/>
                <p:cNvSpPr/>
                <p:nvPr/>
              </p:nvSpPr>
              <p:spPr>
                <a:xfrm rot="16842600">
                  <a:off x="6113520" y="4679640"/>
                  <a:ext cx="10764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06" name="Группа 18"/>
              <p:cNvGrpSpPr/>
              <p:nvPr/>
            </p:nvGrpSpPr>
            <p:grpSpPr>
              <a:xfrm>
                <a:off x="6293160" y="4703040"/>
                <a:ext cx="345960" cy="345960"/>
                <a:chOff x="6293160" y="4703040"/>
                <a:chExt cx="345960" cy="345960"/>
              </a:xfrm>
            </p:grpSpPr>
            <p:sp>
              <p:nvSpPr>
                <p:cNvPr id="907" name="Полилиния 19"/>
                <p:cNvSpPr/>
                <p:nvPr/>
              </p:nvSpPr>
              <p:spPr>
                <a:xfrm rot="2695200">
                  <a:off x="6344280" y="475272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8" name="Полилиния 20"/>
                <p:cNvSpPr/>
                <p:nvPr/>
              </p:nvSpPr>
              <p:spPr>
                <a:xfrm rot="2695200">
                  <a:off x="6350760" y="477108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09" name="Группа 24"/>
              <p:cNvGrpSpPr/>
              <p:nvPr/>
            </p:nvGrpSpPr>
            <p:grpSpPr>
              <a:xfrm>
                <a:off x="6243120" y="4856760"/>
                <a:ext cx="311760" cy="214920"/>
                <a:chOff x="6243120" y="4856760"/>
                <a:chExt cx="311760" cy="214920"/>
              </a:xfrm>
            </p:grpSpPr>
            <p:sp>
              <p:nvSpPr>
                <p:cNvPr id="910" name="Полилиния 25"/>
                <p:cNvSpPr/>
                <p:nvPr/>
              </p:nvSpPr>
              <p:spPr>
                <a:xfrm rot="5589000">
                  <a:off x="6299280" y="4813560"/>
                  <a:ext cx="198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1" name="Полилиния 26"/>
                <p:cNvSpPr/>
                <p:nvPr/>
              </p:nvSpPr>
              <p:spPr>
                <a:xfrm rot="5589000">
                  <a:off x="6329880" y="4825440"/>
                  <a:ext cx="10764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12" name="Группа 27"/>
              <p:cNvGrpSpPr/>
              <p:nvPr/>
            </p:nvGrpSpPr>
            <p:grpSpPr>
              <a:xfrm>
                <a:off x="6118560" y="4838760"/>
                <a:ext cx="359280" cy="344520"/>
                <a:chOff x="6118560" y="4838760"/>
                <a:chExt cx="359280" cy="344520"/>
              </a:xfrm>
            </p:grpSpPr>
            <p:sp>
              <p:nvSpPr>
                <p:cNvPr id="913" name="Полилиния 28"/>
                <p:cNvSpPr/>
                <p:nvPr/>
              </p:nvSpPr>
              <p:spPr>
                <a:xfrm rot="7751400">
                  <a:off x="6198840" y="4860000"/>
                  <a:ext cx="198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4" name="Полилиния 29"/>
                <p:cNvSpPr/>
                <p:nvPr/>
              </p:nvSpPr>
              <p:spPr>
                <a:xfrm rot="7751400">
                  <a:off x="6259680" y="4872240"/>
                  <a:ext cx="10764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15" name="Группа 33"/>
              <p:cNvGrpSpPr/>
              <p:nvPr/>
            </p:nvGrpSpPr>
            <p:grpSpPr>
              <a:xfrm>
                <a:off x="5912280" y="4652280"/>
                <a:ext cx="357120" cy="307080"/>
                <a:chOff x="5912280" y="4652280"/>
                <a:chExt cx="357120" cy="307080"/>
              </a:xfrm>
            </p:grpSpPr>
            <p:sp>
              <p:nvSpPr>
                <p:cNvPr id="916" name="Полилиния 34"/>
                <p:cNvSpPr/>
                <p:nvPr/>
              </p:nvSpPr>
              <p:spPr>
                <a:xfrm rot="14703600">
                  <a:off x="5991480" y="4654800"/>
                  <a:ext cx="198720" cy="30132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7" name="Полилиния 35"/>
                <p:cNvSpPr/>
                <p:nvPr/>
              </p:nvSpPr>
              <p:spPr>
                <a:xfrm rot="14703600">
                  <a:off x="6072120" y="4746960"/>
                  <a:ext cx="107640" cy="1850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18" name="Группа 36"/>
              <p:cNvGrpSpPr/>
              <p:nvPr/>
            </p:nvGrpSpPr>
            <p:grpSpPr>
              <a:xfrm>
                <a:off x="5948640" y="4735800"/>
                <a:ext cx="326160" cy="327600"/>
                <a:chOff x="5948640" y="4735800"/>
                <a:chExt cx="326160" cy="327600"/>
              </a:xfrm>
            </p:grpSpPr>
            <p:sp>
              <p:nvSpPr>
                <p:cNvPr id="919" name="Полилиния 37"/>
                <p:cNvSpPr/>
                <p:nvPr/>
              </p:nvSpPr>
              <p:spPr>
                <a:xfrm rot="12352200">
                  <a:off x="5989680" y="477648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0" name="Полилиния 38"/>
                <p:cNvSpPr/>
                <p:nvPr/>
              </p:nvSpPr>
              <p:spPr>
                <a:xfrm rot="12352200">
                  <a:off x="6102000" y="483588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21" name="Группа 39"/>
              <p:cNvGrpSpPr/>
              <p:nvPr/>
            </p:nvGrpSpPr>
            <p:grpSpPr>
              <a:xfrm>
                <a:off x="6039720" y="4854240"/>
                <a:ext cx="260640" cy="263160"/>
                <a:chOff x="6039720" y="4854240"/>
                <a:chExt cx="260640" cy="263160"/>
              </a:xfrm>
            </p:grpSpPr>
            <p:sp>
              <p:nvSpPr>
                <p:cNvPr id="922" name="Полилиния 40"/>
                <p:cNvSpPr/>
                <p:nvPr/>
              </p:nvSpPr>
              <p:spPr>
                <a:xfrm rot="10547400">
                  <a:off x="6048000" y="486252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3" name="Полилиния 41"/>
                <p:cNvSpPr/>
                <p:nvPr/>
              </p:nvSpPr>
              <p:spPr>
                <a:xfrm rot="10547400">
                  <a:off x="6158880" y="489204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24" name="Группа 42"/>
              <p:cNvGrpSpPr/>
              <p:nvPr/>
            </p:nvGrpSpPr>
            <p:grpSpPr>
              <a:xfrm>
                <a:off x="6122520" y="4532400"/>
                <a:ext cx="343440" cy="344160"/>
                <a:chOff x="6122520" y="4532400"/>
                <a:chExt cx="343440" cy="344160"/>
              </a:xfrm>
            </p:grpSpPr>
            <p:sp>
              <p:nvSpPr>
                <p:cNvPr id="925" name="Полилиния 43"/>
                <p:cNvSpPr/>
                <p:nvPr/>
              </p:nvSpPr>
              <p:spPr>
                <a:xfrm rot="19290000">
                  <a:off x="6172560" y="4581360"/>
                  <a:ext cx="243360" cy="24588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Полилиния 44"/>
                <p:cNvSpPr/>
                <p:nvPr/>
              </p:nvSpPr>
              <p:spPr>
                <a:xfrm rot="19290000">
                  <a:off x="6193440" y="4674240"/>
                  <a:ext cx="131760" cy="15084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27" name="Блок-схема: узел 45"/>
              <p:cNvSpPr/>
              <p:nvPr/>
            </p:nvSpPr>
            <p:spPr>
              <a:xfrm>
                <a:off x="6239880" y="4801320"/>
                <a:ext cx="100800" cy="8244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755640" y="333360"/>
            <a:ext cx="7848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Сравните рассказы. Чем они похожи и чем отличаю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"/>
          <p:cNvSpPr/>
          <p:nvPr/>
        </p:nvSpPr>
        <p:spPr>
          <a:xfrm>
            <a:off x="755640" y="6308640"/>
            <a:ext cx="5184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II.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 Выявление места и причины затруд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"/>
          <p:cNvSpPr/>
          <p:nvPr/>
        </p:nvSpPr>
        <p:spPr>
          <a:xfrm>
            <a:off x="6877080" y="6165720"/>
            <a:ext cx="57636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"/>
          <p:cNvSpPr/>
          <p:nvPr/>
        </p:nvSpPr>
        <p:spPr>
          <a:xfrm>
            <a:off x="6084720" y="6165720"/>
            <a:ext cx="576360" cy="50508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2" name="Picture 12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114804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Прямоугольник 1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311640" cy="23032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979640" y="685800"/>
            <a:ext cx="65530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"/>
          <p:cNvSpPr/>
          <p:nvPr/>
        </p:nvSpPr>
        <p:spPr>
          <a:xfrm>
            <a:off x="3780000" y="907920"/>
            <a:ext cx="388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городный 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6" name="" descr="Картинка 10 из 116405"/>
          <p:cNvPicPr/>
          <p:nvPr/>
        </p:nvPicPr>
        <p:blipFill>
          <a:blip r:embed="rId3"/>
          <a:stretch/>
        </p:blipFill>
        <p:spPr>
          <a:xfrm>
            <a:off x="2987640" y="2060640"/>
            <a:ext cx="5543640" cy="38052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250920" y="6237360"/>
            <a:ext cx="7273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II.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 Выявление места и причины затруднения</a:t>
            </a: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93000"/>
            <a:ext cx="576000" cy="50472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"/>
          <p:cNvSpPr/>
          <p:nvPr/>
        </p:nvSpPr>
        <p:spPr>
          <a:xfrm>
            <a:off x="6227640" y="6093000"/>
            <a:ext cx="576360" cy="50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187280" y="549360"/>
            <a:ext cx="6913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Тема урока: ЗАДА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"/>
          <p:cNvSpPr/>
          <p:nvPr/>
        </p:nvSpPr>
        <p:spPr>
          <a:xfrm>
            <a:off x="1042920" y="1916280"/>
            <a:ext cx="734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Цель урока: Узнать, что такое задача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"/>
          <p:cNvSpPr/>
          <p:nvPr/>
        </p:nvSpPr>
        <p:spPr>
          <a:xfrm>
            <a:off x="1116000" y="2492280"/>
            <a:ext cx="6192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Verdana"/>
              </a:rPr>
              <a:t>План действ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"/>
          <p:cNvSpPr/>
          <p:nvPr/>
        </p:nvSpPr>
        <p:spPr>
          <a:xfrm>
            <a:off x="900000" y="3284640"/>
            <a:ext cx="7632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Сами попробуем выполнить задание: узнать, что такое задач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"/>
          <p:cNvSpPr/>
          <p:nvPr/>
        </p:nvSpPr>
        <p:spPr>
          <a:xfrm>
            <a:off x="900000" y="4005360"/>
            <a:ext cx="777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Сопоставим свои предположения с учебником, спросим у учител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"/>
          <p:cNvSpPr/>
          <p:nvPr/>
        </p:nvSpPr>
        <p:spPr>
          <a:xfrm>
            <a:off x="826920" y="4797360"/>
            <a:ext cx="7777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Устраним затрудн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"/>
          <p:cNvSpPr/>
          <p:nvPr/>
        </p:nvSpPr>
        <p:spPr>
          <a:xfrm>
            <a:off x="900000" y="5373720"/>
            <a:ext cx="7488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Применим новое зна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"/>
          <p:cNvSpPr/>
          <p:nvPr/>
        </p:nvSpPr>
        <p:spPr>
          <a:xfrm>
            <a:off x="7308720" y="5805360"/>
            <a:ext cx="576360" cy="5065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"/>
          <p:cNvSpPr/>
          <p:nvPr/>
        </p:nvSpPr>
        <p:spPr>
          <a:xfrm>
            <a:off x="6516720" y="5805360"/>
            <a:ext cx="576360" cy="50508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"/>
          <p:cNvSpPr/>
          <p:nvPr/>
        </p:nvSpPr>
        <p:spPr>
          <a:xfrm>
            <a:off x="826920" y="5877000"/>
            <a:ext cx="5400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IV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. Формулирование темы урока, постановка цели, составление плана ур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10"/>
          <p:cNvSpPr/>
          <p:nvPr/>
        </p:nvSpPr>
        <p:spPr>
          <a:xfrm>
            <a:off x="285840" y="7142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№1, с. 36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TextBox 11"/>
          <p:cNvSpPr/>
          <p:nvPr/>
        </p:nvSpPr>
        <p:spPr>
          <a:xfrm>
            <a:off x="28584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Прочитайте текст справа и сле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TextBox 12"/>
          <p:cNvSpPr/>
          <p:nvPr/>
        </p:nvSpPr>
        <p:spPr>
          <a:xfrm>
            <a:off x="428760" y="2357280"/>
            <a:ext cx="4000320" cy="3506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Петя поймал утром двух крабов, а вечером ещё одного. Сколько всего крабов поймал Пет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TextBox 13"/>
          <p:cNvSpPr/>
          <p:nvPr/>
        </p:nvSpPr>
        <p:spPr>
          <a:xfrm>
            <a:off x="4929120" y="2357280"/>
            <a:ext cx="4000680" cy="3506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Петя поймал утром двух крабов, а вечером ещё одного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Сколько всего крабов поймал Пет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Условие зада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Прямоугольник 14"/>
          <p:cNvSpPr/>
          <p:nvPr/>
        </p:nvSpPr>
        <p:spPr>
          <a:xfrm>
            <a:off x="1606320" y="48578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Прямоугольник 15"/>
          <p:cNvSpPr/>
          <p:nvPr/>
        </p:nvSpPr>
        <p:spPr>
          <a:xfrm>
            <a:off x="5143680" y="4857840"/>
            <a:ext cx="32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Условие зада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TextBox 9"/>
          <p:cNvSpPr/>
          <p:nvPr/>
        </p:nvSpPr>
        <p:spPr>
          <a:xfrm>
            <a:off x="395280" y="58579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V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. Открытие нового знания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Прямоугольник 1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6121440" cy="1590480"/>
          </a:xfrm>
          <a:prstGeom prst="rect">
            <a:avLst/>
          </a:prstGeom>
          <a:ln w="0">
            <a:noFill/>
          </a:ln>
        </p:spPr>
      </p:pic>
      <p:pic>
        <p:nvPicPr>
          <p:cNvPr id="958" name="Прямоугольник 2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4968720" cy="1584360"/>
          </a:xfrm>
          <a:prstGeom prst="rect">
            <a:avLst/>
          </a:prstGeom>
          <a:ln w="0">
            <a:noFill/>
          </a:ln>
        </p:spPr>
      </p:pic>
      <p:sp>
        <p:nvSpPr>
          <p:cNvPr id="959" name="TextBox 18"/>
          <p:cNvSpPr/>
          <p:nvPr/>
        </p:nvSpPr>
        <p:spPr>
          <a:xfrm>
            <a:off x="324000" y="6093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. Открытие нового знания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Прямоугольник 2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8120160" cy="1933560"/>
          </a:xfrm>
          <a:prstGeom prst="rect">
            <a:avLst/>
          </a:prstGeom>
          <a:ln w="0">
            <a:noFill/>
          </a:ln>
        </p:spPr>
      </p:pic>
      <p:sp>
        <p:nvSpPr>
          <p:cNvPr id="961" name="TextBox 18"/>
          <p:cNvSpPr/>
          <p:nvPr/>
        </p:nvSpPr>
        <p:spPr>
          <a:xfrm>
            <a:off x="324000" y="6093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. Открытие нового знания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Прямоугольник 1" descr=""/>
          <p:cNvPicPr/>
          <p:nvPr/>
        </p:nvPicPr>
        <p:blipFill>
          <a:blip r:embed="rId2"/>
          <a:stretch/>
        </p:blipFill>
        <p:spPr>
          <a:xfrm>
            <a:off x="1914480" y="165240"/>
            <a:ext cx="5278320" cy="1590480"/>
          </a:xfrm>
          <a:prstGeom prst="rect">
            <a:avLst/>
          </a:prstGeom>
          <a:ln w="0">
            <a:noFill/>
          </a:ln>
        </p:spPr>
      </p:pic>
      <p:pic>
        <p:nvPicPr>
          <p:cNvPr id="963" name="Прямоугольник 2" descr=""/>
          <p:cNvPicPr/>
          <p:nvPr/>
        </p:nvPicPr>
        <p:blipFill>
          <a:blip r:embed="rId3"/>
          <a:stretch/>
        </p:blipFill>
        <p:spPr>
          <a:xfrm>
            <a:off x="2646360" y="3882960"/>
            <a:ext cx="4224240" cy="1212840"/>
          </a:xfrm>
          <a:prstGeom prst="rect">
            <a:avLst/>
          </a:prstGeom>
          <a:ln w="0">
            <a:noFill/>
          </a:ln>
        </p:spPr>
      </p:pic>
      <p:pic>
        <p:nvPicPr>
          <p:cNvPr id="964" name="Прямоугольник 3" descr=""/>
          <p:cNvPicPr/>
          <p:nvPr/>
        </p:nvPicPr>
        <p:blipFill>
          <a:blip r:embed="rId4"/>
          <a:stretch/>
        </p:blipFill>
        <p:spPr>
          <a:xfrm>
            <a:off x="2359080" y="2170080"/>
            <a:ext cx="4780080" cy="1206360"/>
          </a:xfrm>
          <a:prstGeom prst="rect">
            <a:avLst/>
          </a:prstGeom>
          <a:ln w="0">
            <a:noFill/>
          </a:ln>
        </p:spPr>
      </p:pic>
      <p:sp>
        <p:nvSpPr>
          <p:cNvPr id="965" name="TextBox 18"/>
          <p:cNvSpPr/>
          <p:nvPr/>
        </p:nvSpPr>
        <p:spPr>
          <a:xfrm>
            <a:off x="324000" y="6093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. Открытие нового знания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Прямоугольник 2" descr=""/>
          <p:cNvPicPr/>
          <p:nvPr/>
        </p:nvPicPr>
        <p:blipFill>
          <a:blip r:embed="rId2"/>
          <a:stretch/>
        </p:blipFill>
        <p:spPr>
          <a:xfrm>
            <a:off x="743040" y="1328760"/>
            <a:ext cx="8040600" cy="2762280"/>
          </a:xfrm>
          <a:prstGeom prst="rect">
            <a:avLst/>
          </a:prstGeom>
          <a:ln w="0">
            <a:noFill/>
          </a:ln>
        </p:spPr>
      </p:pic>
      <p:sp>
        <p:nvSpPr>
          <p:cNvPr id="967" name="TextBox 18"/>
          <p:cNvSpPr/>
          <p:nvPr/>
        </p:nvSpPr>
        <p:spPr>
          <a:xfrm>
            <a:off x="324000" y="6093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. Открытие нового знания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Прямоугольник 1" descr=""/>
          <p:cNvPicPr/>
          <p:nvPr/>
        </p:nvPicPr>
        <p:blipFill>
          <a:blip r:embed="rId2"/>
          <a:stretch/>
        </p:blipFill>
        <p:spPr>
          <a:xfrm>
            <a:off x="1914480" y="165240"/>
            <a:ext cx="5278320" cy="1590480"/>
          </a:xfrm>
          <a:prstGeom prst="rect">
            <a:avLst/>
          </a:prstGeom>
          <a:ln w="0">
            <a:noFill/>
          </a:ln>
        </p:spPr>
      </p:pic>
      <p:pic>
        <p:nvPicPr>
          <p:cNvPr id="969" name="Прямоугольник 2" descr=""/>
          <p:cNvPicPr/>
          <p:nvPr/>
        </p:nvPicPr>
        <p:blipFill>
          <a:blip r:embed="rId3"/>
          <a:stretch/>
        </p:blipFill>
        <p:spPr>
          <a:xfrm>
            <a:off x="2646360" y="3882960"/>
            <a:ext cx="4224240" cy="1212840"/>
          </a:xfrm>
          <a:prstGeom prst="rect">
            <a:avLst/>
          </a:prstGeom>
          <a:ln w="0">
            <a:noFill/>
          </a:ln>
        </p:spPr>
      </p:pic>
      <p:pic>
        <p:nvPicPr>
          <p:cNvPr id="970" name="Прямоугольник 3" descr=""/>
          <p:cNvPicPr/>
          <p:nvPr/>
        </p:nvPicPr>
        <p:blipFill>
          <a:blip r:embed="rId4"/>
          <a:stretch/>
        </p:blipFill>
        <p:spPr>
          <a:xfrm>
            <a:off x="2359080" y="2170080"/>
            <a:ext cx="4780080" cy="1206360"/>
          </a:xfrm>
          <a:prstGeom prst="rect">
            <a:avLst/>
          </a:prstGeom>
          <a:ln w="0">
            <a:noFill/>
          </a:ln>
        </p:spPr>
      </p:pic>
      <p:cxnSp>
        <p:nvCxnSpPr>
          <p:cNvPr id="971" name="Прямая со стрелкой 5"/>
          <p:cNvCxnSpPr/>
          <p:nvPr/>
        </p:nvCxnSpPr>
        <p:spPr>
          <a:xfrm flipH="1" flipV="1">
            <a:off x="4571640" y="3285720"/>
            <a:ext cx="216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2" name="TextBox 18"/>
          <p:cNvSpPr/>
          <p:nvPr/>
        </p:nvSpPr>
        <p:spPr>
          <a:xfrm>
            <a:off x="324000" y="6093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. Открытие нового знания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Задачи мастер- клас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знакомить с перечнем универсальных учебных действий, которые должны быть сформированы у обучающихся в первом клас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Прямоугольник 46"/>
          <p:cNvSpPr/>
          <p:nvPr/>
        </p:nvSpPr>
        <p:spPr>
          <a:xfrm>
            <a:off x="1649880" y="51436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+ 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Прямая соединительная линия 61"/>
          <p:cNvSpPr/>
          <p:nvPr/>
        </p:nvSpPr>
        <p:spPr>
          <a:xfrm>
            <a:off x="714240" y="4533840"/>
            <a:ext cx="5143680" cy="1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Прямая соединительная линия 65"/>
          <p:cNvSpPr/>
          <p:nvPr/>
        </p:nvSpPr>
        <p:spPr>
          <a:xfrm flipH="1">
            <a:off x="4642920" y="4390920"/>
            <a:ext cx="18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TextBox 72"/>
          <p:cNvSpPr/>
          <p:nvPr/>
        </p:nvSpPr>
        <p:spPr>
          <a:xfrm>
            <a:off x="3000240" y="36432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?   ц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Прямоугольник 75"/>
          <p:cNvSpPr/>
          <p:nvPr/>
        </p:nvSpPr>
        <p:spPr>
          <a:xfrm>
            <a:off x="4934880" y="457200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2ц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Правая круглая скобка 76"/>
          <p:cNvSpPr/>
          <p:nvPr/>
        </p:nvSpPr>
        <p:spPr>
          <a:xfrm rot="16200000">
            <a:off x="3178800" y="1711440"/>
            <a:ext cx="214200" cy="514368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5143680"/>
              <a:gd name="textAreaBottom" fmla="*/ 513504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8"/>
                  <a:pt x="21600" y="75"/>
                </a:cubicBezTo>
                <a:lnTo>
                  <a:pt x="21600" y="21525"/>
                </a:lnTo>
                <a:cubicBezTo>
                  <a:pt x="21600" y="21563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Прямоугольник 77"/>
          <p:cNvSpPr/>
          <p:nvPr/>
        </p:nvSpPr>
        <p:spPr>
          <a:xfrm>
            <a:off x="1720080" y="450072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7ц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80" name="Прямая со стрелкой 82"/>
          <p:cNvCxnSpPr/>
          <p:nvPr/>
        </p:nvCxnSpPr>
        <p:spPr>
          <a:xfrm>
            <a:off x="3071520" y="1714680"/>
            <a:ext cx="1572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1" name="TextBox 83"/>
          <p:cNvSpPr/>
          <p:nvPr/>
        </p:nvSpPr>
        <p:spPr>
          <a:xfrm>
            <a:off x="3632040" y="1143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2" name="Группа 242"/>
          <p:cNvGrpSpPr/>
          <p:nvPr/>
        </p:nvGrpSpPr>
        <p:grpSpPr>
          <a:xfrm>
            <a:off x="214200" y="1000080"/>
            <a:ext cx="2500200" cy="1488960"/>
            <a:chOff x="214200" y="1000080"/>
            <a:chExt cx="2500200" cy="1488960"/>
          </a:xfrm>
        </p:grpSpPr>
        <p:grpSp>
          <p:nvGrpSpPr>
            <p:cNvPr id="983" name="Группа 239"/>
            <p:cNvGrpSpPr/>
            <p:nvPr/>
          </p:nvGrpSpPr>
          <p:grpSpPr>
            <a:xfrm>
              <a:off x="901800" y="1491480"/>
              <a:ext cx="633240" cy="702720"/>
              <a:chOff x="901800" y="1491480"/>
              <a:chExt cx="633240" cy="702720"/>
            </a:xfrm>
          </p:grpSpPr>
          <p:sp>
            <p:nvSpPr>
              <p:cNvPr id="984" name="Полилиния 44"/>
              <p:cNvSpPr/>
              <p:nvPr/>
            </p:nvSpPr>
            <p:spPr>
              <a:xfrm>
                <a:off x="1135800" y="1758600"/>
                <a:ext cx="81360" cy="43560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985" name="Группа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901800" y="1491480"/>
                <a:ext cx="633240" cy="53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6" name="Группа 240"/>
            <p:cNvGrpSpPr/>
            <p:nvPr/>
          </p:nvGrpSpPr>
          <p:grpSpPr>
            <a:xfrm>
              <a:off x="2081160" y="1147320"/>
              <a:ext cx="633240" cy="702720"/>
              <a:chOff x="2081160" y="1147320"/>
              <a:chExt cx="633240" cy="702720"/>
            </a:xfrm>
          </p:grpSpPr>
          <p:sp>
            <p:nvSpPr>
              <p:cNvPr id="987" name="Полилиния 102"/>
              <p:cNvSpPr/>
              <p:nvPr/>
            </p:nvSpPr>
            <p:spPr>
              <a:xfrm>
                <a:off x="2317680" y="1413000"/>
                <a:ext cx="81360" cy="43704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988" name="Группа 4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1160" y="1147320"/>
                <a:ext cx="633240" cy="53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9" name="Группа 184"/>
            <p:cNvGrpSpPr/>
            <p:nvPr/>
          </p:nvGrpSpPr>
          <p:grpSpPr>
            <a:xfrm>
              <a:off x="1295280" y="1786320"/>
              <a:ext cx="522000" cy="702720"/>
              <a:chOff x="1295280" y="1786320"/>
              <a:chExt cx="522000" cy="702720"/>
            </a:xfrm>
          </p:grpSpPr>
          <p:sp>
            <p:nvSpPr>
              <p:cNvPr id="990" name="Полилиния 134"/>
              <p:cNvSpPr/>
              <p:nvPr/>
            </p:nvSpPr>
            <p:spPr>
              <a:xfrm>
                <a:off x="1491120" y="2050920"/>
                <a:ext cx="82080" cy="43812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991" name="Группа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7800" y="1868040"/>
                <a:ext cx="249480" cy="2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2" name="Группа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457640" y="2014200"/>
                <a:ext cx="353880" cy="26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3" name="Группа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301040" y="1827000"/>
                <a:ext cx="336600" cy="28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4" name="Группа 36" descr=""/>
              <p:cNvPicPr/>
              <p:nvPr/>
            </p:nvPicPr>
            <p:blipFill>
              <a:blip r:embed="rId7"/>
              <a:stretch/>
            </p:blipFill>
            <p:spPr>
              <a:xfrm>
                <a:off x="1295280" y="2019960"/>
                <a:ext cx="290160" cy="15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5" name="Группа 39" descr=""/>
              <p:cNvPicPr/>
              <p:nvPr/>
            </p:nvPicPr>
            <p:blipFill>
              <a:blip r:embed="rId8"/>
              <a:stretch/>
            </p:blipFill>
            <p:spPr>
              <a:xfrm>
                <a:off x="1359000" y="2037600"/>
                <a:ext cx="237960" cy="2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6" name="Группа 42" descr=""/>
              <p:cNvPicPr/>
              <p:nvPr/>
            </p:nvPicPr>
            <p:blipFill>
              <a:blip r:embed="rId9"/>
              <a:stretch/>
            </p:blipFill>
            <p:spPr>
              <a:xfrm>
                <a:off x="1515600" y="1786320"/>
                <a:ext cx="162360" cy="29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7" name="Блок-схема: узел 145"/>
              <p:cNvSpPr/>
              <p:nvPr/>
            </p:nvSpPr>
            <p:spPr>
              <a:xfrm>
                <a:off x="1545480" y="2002680"/>
                <a:ext cx="93960" cy="6984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8" name="Группа 185"/>
            <p:cNvGrpSpPr/>
            <p:nvPr/>
          </p:nvGrpSpPr>
          <p:grpSpPr>
            <a:xfrm>
              <a:off x="606960" y="1000080"/>
              <a:ext cx="522000" cy="702720"/>
              <a:chOff x="606960" y="1000080"/>
              <a:chExt cx="522000" cy="702720"/>
            </a:xfrm>
          </p:grpSpPr>
          <p:sp>
            <p:nvSpPr>
              <p:cNvPr id="999" name="Полилиния 164"/>
              <p:cNvSpPr/>
              <p:nvPr/>
            </p:nvSpPr>
            <p:spPr>
              <a:xfrm>
                <a:off x="803880" y="1265040"/>
                <a:ext cx="82080" cy="43776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000" name="Группа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79480" y="1081800"/>
                <a:ext cx="249480" cy="2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1" name="Группа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5080" y="1227960"/>
                <a:ext cx="353880" cy="26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2" name="Группа 33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8480" y="1040760"/>
                <a:ext cx="330480" cy="28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3" name="Группа 3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6960" y="1233720"/>
                <a:ext cx="290160" cy="15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Группа 39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0680" y="1251360"/>
                <a:ext cx="237960" cy="23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Группа 42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7280" y="1000080"/>
                <a:ext cx="162360" cy="29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Блок-схема: узел 183"/>
              <p:cNvSpPr/>
              <p:nvPr/>
            </p:nvSpPr>
            <p:spPr>
              <a:xfrm>
                <a:off x="858240" y="1216440"/>
                <a:ext cx="93960" cy="69840"/>
              </a:xfrm>
              <a:prstGeom prst="flowChartConnector">
                <a:avLst/>
              </a:prstGeom>
              <a:solidFill>
                <a:srgbClr val="ffc0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07" name="Группа 241"/>
            <p:cNvGrpSpPr/>
            <p:nvPr/>
          </p:nvGrpSpPr>
          <p:grpSpPr>
            <a:xfrm>
              <a:off x="2081160" y="1737360"/>
              <a:ext cx="522000" cy="702720"/>
              <a:chOff x="2081160" y="1737360"/>
              <a:chExt cx="522000" cy="702720"/>
            </a:xfrm>
          </p:grpSpPr>
          <p:sp>
            <p:nvSpPr>
              <p:cNvPr id="1008" name="Полилиния 187"/>
              <p:cNvSpPr/>
              <p:nvPr/>
            </p:nvSpPr>
            <p:spPr>
              <a:xfrm>
                <a:off x="2276640" y="2005560"/>
                <a:ext cx="82080" cy="43452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009" name="Группа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2353680" y="1824120"/>
                <a:ext cx="249480" cy="2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Группа 18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43520" y="1969200"/>
                <a:ext cx="353880" cy="26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Группа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2086920" y="1783440"/>
                <a:ext cx="336600" cy="27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2" name="Группа 36" descr=""/>
              <p:cNvPicPr/>
              <p:nvPr/>
            </p:nvPicPr>
            <p:blipFill>
              <a:blip r:embed="rId19"/>
              <a:stretch/>
            </p:blipFill>
            <p:spPr>
              <a:xfrm>
                <a:off x="2081160" y="1974960"/>
                <a:ext cx="29016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Группа 39" descr=""/>
              <p:cNvPicPr/>
              <p:nvPr/>
            </p:nvPicPr>
            <p:blipFill>
              <a:blip r:embed="rId20"/>
              <a:stretch/>
            </p:blipFill>
            <p:spPr>
              <a:xfrm>
                <a:off x="2144880" y="1992600"/>
                <a:ext cx="237960" cy="23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4" name="Группа 42" descr=""/>
              <p:cNvPicPr/>
              <p:nvPr/>
            </p:nvPicPr>
            <p:blipFill>
              <a:blip r:embed="rId21"/>
              <a:stretch/>
            </p:blipFill>
            <p:spPr>
              <a:xfrm>
                <a:off x="2301480" y="1737360"/>
                <a:ext cx="162360" cy="3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Блок-схема: узел 194"/>
              <p:cNvSpPr/>
              <p:nvPr/>
            </p:nvSpPr>
            <p:spPr>
              <a:xfrm>
                <a:off x="2331000" y="1957320"/>
                <a:ext cx="93960" cy="69480"/>
              </a:xfrm>
              <a:prstGeom prst="flowChartConnector">
                <a:avLst/>
              </a:prstGeom>
              <a:solidFill>
                <a:srgbClr val="f3650d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16" name="Группа 233"/>
            <p:cNvGrpSpPr/>
            <p:nvPr/>
          </p:nvGrpSpPr>
          <p:grpSpPr>
            <a:xfrm>
              <a:off x="1639080" y="1196640"/>
              <a:ext cx="491040" cy="801000"/>
              <a:chOff x="1639080" y="1196640"/>
              <a:chExt cx="491040" cy="801000"/>
            </a:xfrm>
          </p:grpSpPr>
          <p:sp>
            <p:nvSpPr>
              <p:cNvPr id="1017" name="Полилиния 232"/>
              <p:cNvSpPr/>
              <p:nvPr/>
            </p:nvSpPr>
            <p:spPr>
              <a:xfrm>
                <a:off x="1786320" y="1540800"/>
                <a:ext cx="86040" cy="45684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8" name="Полилиния 229"/>
              <p:cNvSpPr/>
              <p:nvPr/>
            </p:nvSpPr>
            <p:spPr>
              <a:xfrm>
                <a:off x="1753560" y="1210680"/>
                <a:ext cx="229680" cy="42840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9" name="Полилиния 230"/>
              <p:cNvSpPr/>
              <p:nvPr/>
            </p:nvSpPr>
            <p:spPr>
              <a:xfrm rot="1149000">
                <a:off x="1810080" y="1240560"/>
                <a:ext cx="258480" cy="41832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0" name="Полилиния 231"/>
              <p:cNvSpPr/>
              <p:nvPr/>
            </p:nvSpPr>
            <p:spPr>
              <a:xfrm>
                <a:off x="1639080" y="1196640"/>
                <a:ext cx="229680" cy="42840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1" name="Группа 234"/>
            <p:cNvGrpSpPr/>
            <p:nvPr/>
          </p:nvGrpSpPr>
          <p:grpSpPr>
            <a:xfrm>
              <a:off x="214200" y="1294920"/>
              <a:ext cx="491040" cy="801000"/>
              <a:chOff x="214200" y="1294920"/>
              <a:chExt cx="491040" cy="801000"/>
            </a:xfrm>
          </p:grpSpPr>
          <p:sp>
            <p:nvSpPr>
              <p:cNvPr id="1022" name="Полилиния 235"/>
              <p:cNvSpPr/>
              <p:nvPr/>
            </p:nvSpPr>
            <p:spPr>
              <a:xfrm>
                <a:off x="361440" y="1639080"/>
                <a:ext cx="86040" cy="45684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3" name="Полилиния 236"/>
              <p:cNvSpPr/>
              <p:nvPr/>
            </p:nvSpPr>
            <p:spPr>
              <a:xfrm>
                <a:off x="328680" y="1308960"/>
                <a:ext cx="229680" cy="42840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4" name="Полилиния 237"/>
              <p:cNvSpPr/>
              <p:nvPr/>
            </p:nvSpPr>
            <p:spPr>
              <a:xfrm rot="1149000">
                <a:off x="385200" y="1338840"/>
                <a:ext cx="258480" cy="41832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5" name="Полилиния 238"/>
              <p:cNvSpPr/>
              <p:nvPr/>
            </p:nvSpPr>
            <p:spPr>
              <a:xfrm>
                <a:off x="214200" y="1294920"/>
                <a:ext cx="229680" cy="42840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26" name="Прямоугольник 243"/>
          <p:cNvSpPr/>
          <p:nvPr/>
        </p:nvSpPr>
        <p:spPr>
          <a:xfrm>
            <a:off x="214200" y="714240"/>
            <a:ext cx="2786040" cy="1714680"/>
          </a:xfrm>
          <a:prstGeom prst="rect">
            <a:avLst/>
          </a:prstGeom>
          <a:noFill/>
          <a:ln w="115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Прямоугольник 244"/>
          <p:cNvSpPr/>
          <p:nvPr/>
        </p:nvSpPr>
        <p:spPr>
          <a:xfrm>
            <a:off x="4857840" y="785880"/>
            <a:ext cx="3857400" cy="1714320"/>
          </a:xfrm>
          <a:prstGeom prst="rect">
            <a:avLst/>
          </a:prstGeom>
          <a:noFill/>
          <a:ln w="115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8" name="Группа 245"/>
          <p:cNvGrpSpPr/>
          <p:nvPr/>
        </p:nvGrpSpPr>
        <p:grpSpPr>
          <a:xfrm>
            <a:off x="5000760" y="1011240"/>
            <a:ext cx="2500200" cy="1488960"/>
            <a:chOff x="5000760" y="1011240"/>
            <a:chExt cx="2500200" cy="1488960"/>
          </a:xfrm>
        </p:grpSpPr>
        <p:grpSp>
          <p:nvGrpSpPr>
            <p:cNvPr id="1029" name="Группа 239"/>
            <p:cNvGrpSpPr/>
            <p:nvPr/>
          </p:nvGrpSpPr>
          <p:grpSpPr>
            <a:xfrm>
              <a:off x="5688360" y="1502640"/>
              <a:ext cx="633240" cy="702720"/>
              <a:chOff x="5688360" y="1502640"/>
              <a:chExt cx="633240" cy="702720"/>
            </a:xfrm>
          </p:grpSpPr>
          <p:sp>
            <p:nvSpPr>
              <p:cNvPr id="1030" name="Полилиния 351"/>
              <p:cNvSpPr/>
              <p:nvPr/>
            </p:nvSpPr>
            <p:spPr>
              <a:xfrm>
                <a:off x="5923440" y="1769400"/>
                <a:ext cx="81360" cy="43596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031" name="Группа 46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88360" y="1502640"/>
                <a:ext cx="633240" cy="535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2" name="Группа 240"/>
            <p:cNvGrpSpPr/>
            <p:nvPr/>
          </p:nvGrpSpPr>
          <p:grpSpPr>
            <a:xfrm>
              <a:off x="6867720" y="1158480"/>
              <a:ext cx="633240" cy="702720"/>
              <a:chOff x="6867720" y="1158480"/>
              <a:chExt cx="633240" cy="702720"/>
            </a:xfrm>
          </p:grpSpPr>
          <p:sp>
            <p:nvSpPr>
              <p:cNvPr id="1033" name="Полилиния 321"/>
              <p:cNvSpPr/>
              <p:nvPr/>
            </p:nvSpPr>
            <p:spPr>
              <a:xfrm>
                <a:off x="7105320" y="1423800"/>
                <a:ext cx="81360" cy="43740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034" name="Группа 46" descr=""/>
              <p:cNvPicPr/>
              <p:nvPr/>
            </p:nvPicPr>
            <p:blipFill>
              <a:blip r:embed="rId23"/>
              <a:stretch/>
            </p:blipFill>
            <p:spPr>
              <a:xfrm>
                <a:off x="6867720" y="1158480"/>
                <a:ext cx="633240" cy="53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5" name="Группа 184"/>
            <p:cNvGrpSpPr/>
            <p:nvPr/>
          </p:nvGrpSpPr>
          <p:grpSpPr>
            <a:xfrm>
              <a:off x="6081480" y="1797480"/>
              <a:ext cx="522000" cy="702720"/>
              <a:chOff x="6081480" y="1797480"/>
              <a:chExt cx="522000" cy="702720"/>
            </a:xfrm>
          </p:grpSpPr>
          <p:sp>
            <p:nvSpPr>
              <p:cNvPr id="1036" name="Полилиния 301"/>
              <p:cNvSpPr/>
              <p:nvPr/>
            </p:nvSpPr>
            <p:spPr>
              <a:xfrm>
                <a:off x="6278400" y="2065680"/>
                <a:ext cx="82080" cy="43452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037" name="Группа 14" descr=""/>
              <p:cNvPicPr/>
              <p:nvPr/>
            </p:nvPicPr>
            <p:blipFill>
              <a:blip r:embed="rId24"/>
              <a:stretch/>
            </p:blipFill>
            <p:spPr>
              <a:xfrm>
                <a:off x="6354000" y="1884240"/>
                <a:ext cx="249480" cy="2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Группа 18" descr=""/>
              <p:cNvPicPr/>
              <p:nvPr/>
            </p:nvPicPr>
            <p:blipFill>
              <a:blip r:embed="rId25"/>
              <a:stretch/>
            </p:blipFill>
            <p:spPr>
              <a:xfrm>
                <a:off x="6249600" y="2029320"/>
                <a:ext cx="353880" cy="26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Группа 33" descr=""/>
              <p:cNvPicPr/>
              <p:nvPr/>
            </p:nvPicPr>
            <p:blipFill>
              <a:blip r:embed="rId26"/>
              <a:stretch/>
            </p:blipFill>
            <p:spPr>
              <a:xfrm>
                <a:off x="6093000" y="1843560"/>
                <a:ext cx="330480" cy="27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Группа 36" descr=""/>
              <p:cNvPicPr/>
              <p:nvPr/>
            </p:nvPicPr>
            <p:blipFill>
              <a:blip r:embed="rId27"/>
              <a:stretch/>
            </p:blipFill>
            <p:spPr>
              <a:xfrm>
                <a:off x="6081480" y="2035080"/>
                <a:ext cx="29016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Группа 39" descr=""/>
              <p:cNvPicPr/>
              <p:nvPr/>
            </p:nvPicPr>
            <p:blipFill>
              <a:blip r:embed="rId28"/>
              <a:stretch/>
            </p:blipFill>
            <p:spPr>
              <a:xfrm>
                <a:off x="6145200" y="2052720"/>
                <a:ext cx="237960" cy="23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Группа 42" descr=""/>
              <p:cNvPicPr/>
              <p:nvPr/>
            </p:nvPicPr>
            <p:blipFill>
              <a:blip r:embed="rId29"/>
              <a:stretch/>
            </p:blipFill>
            <p:spPr>
              <a:xfrm>
                <a:off x="6301800" y="1797480"/>
                <a:ext cx="162360" cy="3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Блок-схема: узел 308"/>
              <p:cNvSpPr/>
              <p:nvPr/>
            </p:nvSpPr>
            <p:spPr>
              <a:xfrm>
                <a:off x="6332760" y="2017440"/>
                <a:ext cx="93960" cy="6948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44" name="Группа 185"/>
            <p:cNvGrpSpPr/>
            <p:nvPr/>
          </p:nvGrpSpPr>
          <p:grpSpPr>
            <a:xfrm>
              <a:off x="5393520" y="1011240"/>
              <a:ext cx="522000" cy="702720"/>
              <a:chOff x="5393520" y="1011240"/>
              <a:chExt cx="522000" cy="702720"/>
            </a:xfrm>
          </p:grpSpPr>
          <p:sp>
            <p:nvSpPr>
              <p:cNvPr id="1045" name="Полилиния 281"/>
              <p:cNvSpPr/>
              <p:nvPr/>
            </p:nvSpPr>
            <p:spPr>
              <a:xfrm>
                <a:off x="5591160" y="1275840"/>
                <a:ext cx="82080" cy="43812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046" name="Группа 14" descr=""/>
              <p:cNvPicPr/>
              <p:nvPr/>
            </p:nvPicPr>
            <p:blipFill>
              <a:blip r:embed="rId30"/>
              <a:stretch/>
            </p:blipFill>
            <p:spPr>
              <a:xfrm>
                <a:off x="5666040" y="1092960"/>
                <a:ext cx="249480" cy="2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Группа 18" descr=""/>
              <p:cNvPicPr/>
              <p:nvPr/>
            </p:nvPicPr>
            <p:blipFill>
              <a:blip r:embed="rId31"/>
              <a:stretch/>
            </p:blipFill>
            <p:spPr>
              <a:xfrm>
                <a:off x="5561640" y="1239120"/>
                <a:ext cx="353880" cy="26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Группа 33" descr=""/>
              <p:cNvPicPr/>
              <p:nvPr/>
            </p:nvPicPr>
            <p:blipFill>
              <a:blip r:embed="rId32"/>
              <a:stretch/>
            </p:blipFill>
            <p:spPr>
              <a:xfrm>
                <a:off x="5405040" y="1051920"/>
                <a:ext cx="330480" cy="28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Группа 36" descr=""/>
              <p:cNvPicPr/>
              <p:nvPr/>
            </p:nvPicPr>
            <p:blipFill>
              <a:blip r:embed="rId33"/>
              <a:stretch/>
            </p:blipFill>
            <p:spPr>
              <a:xfrm>
                <a:off x="5393520" y="1244880"/>
                <a:ext cx="290160" cy="15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Группа 39" descr=""/>
              <p:cNvPicPr/>
              <p:nvPr/>
            </p:nvPicPr>
            <p:blipFill>
              <a:blip r:embed="rId34"/>
              <a:stretch/>
            </p:blipFill>
            <p:spPr>
              <a:xfrm>
                <a:off x="5457240" y="1262520"/>
                <a:ext cx="237960" cy="2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Группа 42" descr=""/>
              <p:cNvPicPr/>
              <p:nvPr/>
            </p:nvPicPr>
            <p:blipFill>
              <a:blip r:embed="rId35"/>
              <a:stretch/>
            </p:blipFill>
            <p:spPr>
              <a:xfrm>
                <a:off x="5613840" y="1011240"/>
                <a:ext cx="162360" cy="29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2" name="Блок-схема: узел 288"/>
              <p:cNvSpPr/>
              <p:nvPr/>
            </p:nvSpPr>
            <p:spPr>
              <a:xfrm>
                <a:off x="5645520" y="1227240"/>
                <a:ext cx="93960" cy="69840"/>
              </a:xfrm>
              <a:prstGeom prst="flowChartConnector">
                <a:avLst/>
              </a:prstGeom>
              <a:solidFill>
                <a:srgbClr val="ffc0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3" name="Группа 241"/>
            <p:cNvGrpSpPr/>
            <p:nvPr/>
          </p:nvGrpSpPr>
          <p:grpSpPr>
            <a:xfrm>
              <a:off x="6867720" y="1748520"/>
              <a:ext cx="522000" cy="702720"/>
              <a:chOff x="6867720" y="1748520"/>
              <a:chExt cx="522000" cy="702720"/>
            </a:xfrm>
          </p:grpSpPr>
          <p:sp>
            <p:nvSpPr>
              <p:cNvPr id="1054" name="Полилиния 261"/>
              <p:cNvSpPr/>
              <p:nvPr/>
            </p:nvSpPr>
            <p:spPr>
              <a:xfrm>
                <a:off x="7064280" y="2016360"/>
                <a:ext cx="82080" cy="43488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055" name="Группа 14" descr=""/>
              <p:cNvPicPr/>
              <p:nvPr/>
            </p:nvPicPr>
            <p:blipFill>
              <a:blip r:embed="rId36"/>
              <a:stretch/>
            </p:blipFill>
            <p:spPr>
              <a:xfrm>
                <a:off x="7140240" y="1835280"/>
                <a:ext cx="249480" cy="23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Группа 18" descr=""/>
              <p:cNvPicPr/>
              <p:nvPr/>
            </p:nvPicPr>
            <p:blipFill>
              <a:blip r:embed="rId37"/>
              <a:stretch/>
            </p:blipFill>
            <p:spPr>
              <a:xfrm>
                <a:off x="7035840" y="1980720"/>
                <a:ext cx="353880" cy="26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Группа 33" descr=""/>
              <p:cNvPicPr/>
              <p:nvPr/>
            </p:nvPicPr>
            <p:blipFill>
              <a:blip r:embed="rId38"/>
              <a:stretch/>
            </p:blipFill>
            <p:spPr>
              <a:xfrm>
                <a:off x="6879240" y="1794960"/>
                <a:ext cx="330480" cy="27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Группа 36" descr=""/>
              <p:cNvPicPr/>
              <p:nvPr/>
            </p:nvPicPr>
            <p:blipFill>
              <a:blip r:embed="rId39"/>
              <a:stretch/>
            </p:blipFill>
            <p:spPr>
              <a:xfrm>
                <a:off x="6867720" y="1986480"/>
                <a:ext cx="29016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Группа 39" descr=""/>
              <p:cNvPicPr/>
              <p:nvPr/>
            </p:nvPicPr>
            <p:blipFill>
              <a:blip r:embed="rId40"/>
              <a:stretch/>
            </p:blipFill>
            <p:spPr>
              <a:xfrm>
                <a:off x="6931440" y="1998000"/>
                <a:ext cx="237960" cy="24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Группа 42" descr=""/>
              <p:cNvPicPr/>
              <p:nvPr/>
            </p:nvPicPr>
            <p:blipFill>
              <a:blip r:embed="rId41"/>
              <a:stretch/>
            </p:blipFill>
            <p:spPr>
              <a:xfrm>
                <a:off x="7088040" y="1748520"/>
                <a:ext cx="162360" cy="3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1" name="Блок-схема: узел 268"/>
              <p:cNvSpPr/>
              <p:nvPr/>
            </p:nvSpPr>
            <p:spPr>
              <a:xfrm>
                <a:off x="7118640" y="1968120"/>
                <a:ext cx="93960" cy="69480"/>
              </a:xfrm>
              <a:prstGeom prst="flowChartConnector">
                <a:avLst/>
              </a:prstGeom>
              <a:solidFill>
                <a:srgbClr val="f3650d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2" name="Группа 233"/>
            <p:cNvGrpSpPr/>
            <p:nvPr/>
          </p:nvGrpSpPr>
          <p:grpSpPr>
            <a:xfrm>
              <a:off x="6425280" y="1207800"/>
              <a:ext cx="491040" cy="801000"/>
              <a:chOff x="6425280" y="1207800"/>
              <a:chExt cx="491040" cy="801000"/>
            </a:xfrm>
          </p:grpSpPr>
          <p:sp>
            <p:nvSpPr>
              <p:cNvPr id="1063" name="Полилиния 257"/>
              <p:cNvSpPr/>
              <p:nvPr/>
            </p:nvSpPr>
            <p:spPr>
              <a:xfrm>
                <a:off x="6572520" y="1551960"/>
                <a:ext cx="86040" cy="45684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4" name="Полилиния 258"/>
              <p:cNvSpPr/>
              <p:nvPr/>
            </p:nvSpPr>
            <p:spPr>
              <a:xfrm>
                <a:off x="6539760" y="1221840"/>
                <a:ext cx="229680" cy="42840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Полилиния 259"/>
              <p:cNvSpPr/>
              <p:nvPr/>
            </p:nvSpPr>
            <p:spPr>
              <a:xfrm rot="1149000">
                <a:off x="6596280" y="1251720"/>
                <a:ext cx="258480" cy="41832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6" name="Полилиния 260"/>
              <p:cNvSpPr/>
              <p:nvPr/>
            </p:nvSpPr>
            <p:spPr>
              <a:xfrm>
                <a:off x="6425280" y="1207800"/>
                <a:ext cx="229680" cy="42840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7" name="Группа 234"/>
            <p:cNvGrpSpPr/>
            <p:nvPr/>
          </p:nvGrpSpPr>
          <p:grpSpPr>
            <a:xfrm>
              <a:off x="5000760" y="1306080"/>
              <a:ext cx="491040" cy="801000"/>
              <a:chOff x="5000760" y="1306080"/>
              <a:chExt cx="491040" cy="801000"/>
            </a:xfrm>
          </p:grpSpPr>
          <p:sp>
            <p:nvSpPr>
              <p:cNvPr id="1068" name="Полилиния 253"/>
              <p:cNvSpPr/>
              <p:nvPr/>
            </p:nvSpPr>
            <p:spPr>
              <a:xfrm>
                <a:off x="5148000" y="1650240"/>
                <a:ext cx="86040" cy="456840"/>
              </a:xfrm>
              <a:custGeom>
                <a:avLst/>
                <a:gdLst/>
                <a:ahLst/>
                <a:rect l="l" t="t" r="r" b="b"/>
                <a:pathLst>
                  <a:path w="186990" h="1338049">
                    <a:moveTo>
                      <a:pt x="69003" y="10694"/>
                    </a:moveTo>
                    <a:cubicBezTo>
                      <a:pt x="73919" y="25442"/>
                      <a:pt x="84068" y="39396"/>
                      <a:pt x="83751" y="54939"/>
                    </a:cubicBezTo>
                    <a:cubicBezTo>
                      <a:pt x="71239" y="668049"/>
                      <a:pt x="96647" y="521412"/>
                      <a:pt x="39506" y="807107"/>
                    </a:cubicBezTo>
                    <a:cubicBezTo>
                      <a:pt x="34590" y="905430"/>
                      <a:pt x="31531" y="1003863"/>
                      <a:pt x="24758" y="1102075"/>
                    </a:cubicBezTo>
                    <a:cubicBezTo>
                      <a:pt x="10925" y="1302646"/>
                      <a:pt x="0" y="1164748"/>
                      <a:pt x="24758" y="1338049"/>
                    </a:cubicBezTo>
                    <a:cubicBezTo>
                      <a:pt x="49339" y="1328217"/>
                      <a:pt x="76957" y="1323940"/>
                      <a:pt x="98500" y="1308552"/>
                    </a:cubicBezTo>
                    <a:cubicBezTo>
                      <a:pt x="112924" y="1298249"/>
                      <a:pt x="122391" y="1281123"/>
                      <a:pt x="127996" y="1264307"/>
                    </a:cubicBezTo>
                    <a:cubicBezTo>
                      <a:pt x="133114" y="1248952"/>
                      <a:pt x="156355" y="1080541"/>
                      <a:pt x="157493" y="1072578"/>
                    </a:cubicBezTo>
                    <a:cubicBezTo>
                      <a:pt x="147661" y="998836"/>
                      <a:pt x="140226" y="924734"/>
                      <a:pt x="127996" y="851352"/>
                    </a:cubicBezTo>
                    <a:cubicBezTo>
                      <a:pt x="125440" y="836017"/>
                      <a:pt x="110692" y="822442"/>
                      <a:pt x="113248" y="807107"/>
                    </a:cubicBezTo>
                    <a:cubicBezTo>
                      <a:pt x="116162" y="789623"/>
                      <a:pt x="132913" y="777610"/>
                      <a:pt x="142745" y="762862"/>
                    </a:cubicBezTo>
                    <a:cubicBezTo>
                      <a:pt x="147661" y="748114"/>
                      <a:pt x="154791" y="733927"/>
                      <a:pt x="157493" y="718617"/>
                    </a:cubicBezTo>
                    <a:cubicBezTo>
                      <a:pt x="169575" y="650150"/>
                      <a:pt x="186990" y="512139"/>
                      <a:pt x="186990" y="512139"/>
                    </a:cubicBezTo>
                    <a:cubicBezTo>
                      <a:pt x="177158" y="403984"/>
                      <a:pt x="170432" y="295502"/>
                      <a:pt x="157493" y="187675"/>
                    </a:cubicBezTo>
                    <a:cubicBezTo>
                      <a:pt x="134972" y="0"/>
                      <a:pt x="142745" y="348889"/>
                      <a:pt x="142745" y="69688"/>
                    </a:cubicBezTo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9" name="Полилиния 254"/>
              <p:cNvSpPr/>
              <p:nvPr/>
            </p:nvSpPr>
            <p:spPr>
              <a:xfrm>
                <a:off x="5115240" y="1320120"/>
                <a:ext cx="229680" cy="42840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0" name="Полилиния 255"/>
              <p:cNvSpPr/>
              <p:nvPr/>
            </p:nvSpPr>
            <p:spPr>
              <a:xfrm rot="1149000">
                <a:off x="5171760" y="1350000"/>
                <a:ext cx="258480" cy="41832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1" name="Полилиния 256"/>
              <p:cNvSpPr/>
              <p:nvPr/>
            </p:nvSpPr>
            <p:spPr>
              <a:xfrm>
                <a:off x="5000760" y="1306080"/>
                <a:ext cx="229680" cy="428400"/>
              </a:xfrm>
              <a:custGeom>
                <a:avLst/>
                <a:gdLst/>
                <a:ahLst/>
                <a:rect l="l" t="t" r="r" b="b"/>
                <a:pathLst>
                  <a:path w="526942" h="977021">
                    <a:moveTo>
                      <a:pt x="232475" y="78119"/>
                    </a:moveTo>
                    <a:cubicBezTo>
                      <a:pt x="216977" y="83285"/>
                      <a:pt x="197532" y="82065"/>
                      <a:pt x="185980" y="93617"/>
                    </a:cubicBezTo>
                    <a:cubicBezTo>
                      <a:pt x="143803" y="135794"/>
                      <a:pt x="123104" y="179510"/>
                      <a:pt x="108488" y="233102"/>
                    </a:cubicBezTo>
                    <a:cubicBezTo>
                      <a:pt x="97279" y="274202"/>
                      <a:pt x="87824" y="315760"/>
                      <a:pt x="77492" y="357089"/>
                    </a:cubicBezTo>
                    <a:cubicBezTo>
                      <a:pt x="72326" y="377753"/>
                      <a:pt x="73808" y="401359"/>
                      <a:pt x="61993" y="419082"/>
                    </a:cubicBezTo>
                    <a:lnTo>
                      <a:pt x="30997" y="465577"/>
                    </a:lnTo>
                    <a:cubicBezTo>
                      <a:pt x="25831" y="491407"/>
                      <a:pt x="21887" y="517513"/>
                      <a:pt x="15498" y="543068"/>
                    </a:cubicBezTo>
                    <a:cubicBezTo>
                      <a:pt x="11536" y="558917"/>
                      <a:pt x="0" y="573226"/>
                      <a:pt x="0" y="589563"/>
                    </a:cubicBezTo>
                    <a:cubicBezTo>
                      <a:pt x="0" y="662073"/>
                      <a:pt x="4742" y="734832"/>
                      <a:pt x="15498" y="806539"/>
                    </a:cubicBezTo>
                    <a:cubicBezTo>
                      <a:pt x="20345" y="838851"/>
                      <a:pt x="19309" y="881405"/>
                      <a:pt x="46495" y="899529"/>
                    </a:cubicBezTo>
                    <a:cubicBezTo>
                      <a:pt x="120177" y="948651"/>
                      <a:pt x="75317" y="924634"/>
                      <a:pt x="185980" y="961522"/>
                    </a:cubicBezTo>
                    <a:lnTo>
                      <a:pt x="232475" y="977021"/>
                    </a:lnTo>
                    <a:cubicBezTo>
                      <a:pt x="284136" y="966689"/>
                      <a:pt x="336123" y="957871"/>
                      <a:pt x="387458" y="946024"/>
                    </a:cubicBezTo>
                    <a:cubicBezTo>
                      <a:pt x="403376" y="942351"/>
                      <a:pt x="421196" y="940731"/>
                      <a:pt x="433953" y="930526"/>
                    </a:cubicBezTo>
                    <a:cubicBezTo>
                      <a:pt x="448498" y="918890"/>
                      <a:pt x="457384" y="901052"/>
                      <a:pt x="464949" y="884031"/>
                    </a:cubicBezTo>
                    <a:cubicBezTo>
                      <a:pt x="478219" y="854174"/>
                      <a:pt x="489538" y="823080"/>
                      <a:pt x="495946" y="791041"/>
                    </a:cubicBezTo>
                    <a:lnTo>
                      <a:pt x="526942" y="636058"/>
                    </a:lnTo>
                    <a:cubicBezTo>
                      <a:pt x="467830" y="251825"/>
                      <a:pt x="523596" y="539099"/>
                      <a:pt x="480448" y="388085"/>
                    </a:cubicBezTo>
                    <a:cubicBezTo>
                      <a:pt x="477866" y="379047"/>
                      <a:pt x="458739" y="293529"/>
                      <a:pt x="449451" y="279597"/>
                    </a:cubicBezTo>
                    <a:cubicBezTo>
                      <a:pt x="437293" y="261360"/>
                      <a:pt x="418454" y="248600"/>
                      <a:pt x="402956" y="233102"/>
                    </a:cubicBezTo>
                    <a:cubicBezTo>
                      <a:pt x="397790" y="217604"/>
                      <a:pt x="394764" y="201219"/>
                      <a:pt x="387458" y="186607"/>
                    </a:cubicBezTo>
                    <a:cubicBezTo>
                      <a:pt x="379128" y="169947"/>
                      <a:pt x="363798" y="157233"/>
                      <a:pt x="356461" y="140112"/>
                    </a:cubicBezTo>
                    <a:cubicBezTo>
                      <a:pt x="296413" y="0"/>
                      <a:pt x="387786" y="148353"/>
                      <a:pt x="309966" y="31624"/>
                    </a:cubicBezTo>
                    <a:cubicBezTo>
                      <a:pt x="294468" y="36790"/>
                      <a:pt x="275023" y="35570"/>
                      <a:pt x="263471" y="47122"/>
                    </a:cubicBezTo>
                    <a:cubicBezTo>
                      <a:pt x="251919" y="58674"/>
                      <a:pt x="255279" y="79005"/>
                      <a:pt x="247973" y="93617"/>
                    </a:cubicBezTo>
                    <a:cubicBezTo>
                      <a:pt x="223037" y="143489"/>
                      <a:pt x="225903" y="135648"/>
                      <a:pt x="185980" y="155611"/>
                    </a:cubicBezTo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72" name="Группа 233"/>
          <p:cNvGrpSpPr/>
          <p:nvPr/>
        </p:nvGrpSpPr>
        <p:grpSpPr>
          <a:xfrm>
            <a:off x="8143920" y="1500120"/>
            <a:ext cx="491400" cy="800280"/>
            <a:chOff x="8143920" y="1500120"/>
            <a:chExt cx="491400" cy="800280"/>
          </a:xfrm>
        </p:grpSpPr>
        <p:sp>
          <p:nvSpPr>
            <p:cNvPr id="1073" name="Полилиния 393"/>
            <p:cNvSpPr/>
            <p:nvPr/>
          </p:nvSpPr>
          <p:spPr>
            <a:xfrm>
              <a:off x="8291520" y="1843920"/>
              <a:ext cx="86400" cy="45648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Полилиния 394"/>
            <p:cNvSpPr/>
            <p:nvPr/>
          </p:nvSpPr>
          <p:spPr>
            <a:xfrm>
              <a:off x="8258400" y="1514160"/>
              <a:ext cx="229680" cy="428040"/>
            </a:xfrm>
            <a:custGeom>
              <a:avLst/>
              <a:gdLst/>
              <a:ahLst/>
              <a:rect l="l" t="t" r="r" b="b"/>
              <a:pathLst>
                <a:path w="526942" h="977021">
                  <a:moveTo>
                    <a:pt x="232475" y="78119"/>
                  </a:moveTo>
                  <a:cubicBezTo>
                    <a:pt x="216977" y="83285"/>
                    <a:pt x="197532" y="82065"/>
                    <a:pt x="185980" y="93617"/>
                  </a:cubicBezTo>
                  <a:cubicBezTo>
                    <a:pt x="143803" y="135794"/>
                    <a:pt x="123104" y="179510"/>
                    <a:pt x="108488" y="233102"/>
                  </a:cubicBezTo>
                  <a:cubicBezTo>
                    <a:pt x="97279" y="274202"/>
                    <a:pt x="87824" y="315760"/>
                    <a:pt x="77492" y="357089"/>
                  </a:cubicBezTo>
                  <a:cubicBezTo>
                    <a:pt x="72326" y="377753"/>
                    <a:pt x="73808" y="401359"/>
                    <a:pt x="61993" y="419082"/>
                  </a:cubicBezTo>
                  <a:lnTo>
                    <a:pt x="30997" y="465577"/>
                  </a:lnTo>
                  <a:cubicBezTo>
                    <a:pt x="25831" y="491407"/>
                    <a:pt x="21887" y="517513"/>
                    <a:pt x="15498" y="543068"/>
                  </a:cubicBezTo>
                  <a:cubicBezTo>
                    <a:pt x="11536" y="558917"/>
                    <a:pt x="0" y="573226"/>
                    <a:pt x="0" y="589563"/>
                  </a:cubicBezTo>
                  <a:cubicBezTo>
                    <a:pt x="0" y="662073"/>
                    <a:pt x="4742" y="734832"/>
                    <a:pt x="15498" y="806539"/>
                  </a:cubicBezTo>
                  <a:cubicBezTo>
                    <a:pt x="20345" y="838851"/>
                    <a:pt x="19309" y="881405"/>
                    <a:pt x="46495" y="899529"/>
                  </a:cubicBezTo>
                  <a:cubicBezTo>
                    <a:pt x="120177" y="948651"/>
                    <a:pt x="75317" y="924634"/>
                    <a:pt x="185980" y="961522"/>
                  </a:cubicBezTo>
                  <a:lnTo>
                    <a:pt x="232475" y="977021"/>
                  </a:lnTo>
                  <a:cubicBezTo>
                    <a:pt x="284136" y="966689"/>
                    <a:pt x="336123" y="957871"/>
                    <a:pt x="387458" y="946024"/>
                  </a:cubicBezTo>
                  <a:cubicBezTo>
                    <a:pt x="403376" y="942351"/>
                    <a:pt x="421196" y="940731"/>
                    <a:pt x="433953" y="930526"/>
                  </a:cubicBezTo>
                  <a:cubicBezTo>
                    <a:pt x="448498" y="918890"/>
                    <a:pt x="457384" y="901052"/>
                    <a:pt x="464949" y="884031"/>
                  </a:cubicBezTo>
                  <a:cubicBezTo>
                    <a:pt x="478219" y="854174"/>
                    <a:pt x="489538" y="823080"/>
                    <a:pt x="495946" y="791041"/>
                  </a:cubicBezTo>
                  <a:lnTo>
                    <a:pt x="526942" y="636058"/>
                  </a:lnTo>
                  <a:cubicBezTo>
                    <a:pt x="467830" y="251825"/>
                    <a:pt x="523596" y="539099"/>
                    <a:pt x="480448" y="388085"/>
                  </a:cubicBezTo>
                  <a:cubicBezTo>
                    <a:pt x="477866" y="379047"/>
                    <a:pt x="458739" y="293529"/>
                    <a:pt x="449451" y="279597"/>
                  </a:cubicBezTo>
                  <a:cubicBezTo>
                    <a:pt x="437293" y="261360"/>
                    <a:pt x="418454" y="248600"/>
                    <a:pt x="402956" y="233102"/>
                  </a:cubicBezTo>
                  <a:cubicBezTo>
                    <a:pt x="397790" y="217604"/>
                    <a:pt x="394764" y="201219"/>
                    <a:pt x="387458" y="186607"/>
                  </a:cubicBezTo>
                  <a:cubicBezTo>
                    <a:pt x="379128" y="169947"/>
                    <a:pt x="363798" y="157233"/>
                    <a:pt x="356461" y="140112"/>
                  </a:cubicBezTo>
                  <a:cubicBezTo>
                    <a:pt x="296413" y="0"/>
                    <a:pt x="387786" y="148353"/>
                    <a:pt x="309966" y="31624"/>
                  </a:cubicBezTo>
                  <a:cubicBezTo>
                    <a:pt x="294468" y="36790"/>
                    <a:pt x="275023" y="35570"/>
                    <a:pt x="263471" y="47122"/>
                  </a:cubicBezTo>
                  <a:cubicBezTo>
                    <a:pt x="251919" y="58674"/>
                    <a:pt x="255279" y="79005"/>
                    <a:pt x="247973" y="93617"/>
                  </a:cubicBezTo>
                  <a:cubicBezTo>
                    <a:pt x="223037" y="143489"/>
                    <a:pt x="225903" y="135648"/>
                    <a:pt x="185980" y="155611"/>
                  </a:cubicBezTo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Полилиния 395"/>
            <p:cNvSpPr/>
            <p:nvPr/>
          </p:nvSpPr>
          <p:spPr>
            <a:xfrm rot="1149000">
              <a:off x="8314920" y="1543680"/>
              <a:ext cx="258840" cy="417960"/>
            </a:xfrm>
            <a:custGeom>
              <a:avLst/>
              <a:gdLst/>
              <a:ahLst/>
              <a:rect l="l" t="t" r="r" b="b"/>
              <a:pathLst>
                <a:path w="526942" h="977021">
                  <a:moveTo>
                    <a:pt x="232475" y="78119"/>
                  </a:moveTo>
                  <a:cubicBezTo>
                    <a:pt x="216977" y="83285"/>
                    <a:pt x="197532" y="82065"/>
                    <a:pt x="185980" y="93617"/>
                  </a:cubicBezTo>
                  <a:cubicBezTo>
                    <a:pt x="143803" y="135794"/>
                    <a:pt x="123104" y="179510"/>
                    <a:pt x="108488" y="233102"/>
                  </a:cubicBezTo>
                  <a:cubicBezTo>
                    <a:pt x="97279" y="274202"/>
                    <a:pt x="87824" y="315760"/>
                    <a:pt x="77492" y="357089"/>
                  </a:cubicBezTo>
                  <a:cubicBezTo>
                    <a:pt x="72326" y="377753"/>
                    <a:pt x="73808" y="401359"/>
                    <a:pt x="61993" y="419082"/>
                  </a:cubicBezTo>
                  <a:lnTo>
                    <a:pt x="30997" y="465577"/>
                  </a:lnTo>
                  <a:cubicBezTo>
                    <a:pt x="25831" y="491407"/>
                    <a:pt x="21887" y="517513"/>
                    <a:pt x="15498" y="543068"/>
                  </a:cubicBezTo>
                  <a:cubicBezTo>
                    <a:pt x="11536" y="558917"/>
                    <a:pt x="0" y="573226"/>
                    <a:pt x="0" y="589563"/>
                  </a:cubicBezTo>
                  <a:cubicBezTo>
                    <a:pt x="0" y="662073"/>
                    <a:pt x="4742" y="734832"/>
                    <a:pt x="15498" y="806539"/>
                  </a:cubicBezTo>
                  <a:cubicBezTo>
                    <a:pt x="20345" y="838851"/>
                    <a:pt x="19309" y="881405"/>
                    <a:pt x="46495" y="899529"/>
                  </a:cubicBezTo>
                  <a:cubicBezTo>
                    <a:pt x="120177" y="948651"/>
                    <a:pt x="75317" y="924634"/>
                    <a:pt x="185980" y="961522"/>
                  </a:cubicBezTo>
                  <a:lnTo>
                    <a:pt x="232475" y="977021"/>
                  </a:lnTo>
                  <a:cubicBezTo>
                    <a:pt x="284136" y="966689"/>
                    <a:pt x="336123" y="957871"/>
                    <a:pt x="387458" y="946024"/>
                  </a:cubicBezTo>
                  <a:cubicBezTo>
                    <a:pt x="403376" y="942351"/>
                    <a:pt x="421196" y="940731"/>
                    <a:pt x="433953" y="930526"/>
                  </a:cubicBezTo>
                  <a:cubicBezTo>
                    <a:pt x="448498" y="918890"/>
                    <a:pt x="457384" y="901052"/>
                    <a:pt x="464949" y="884031"/>
                  </a:cubicBezTo>
                  <a:cubicBezTo>
                    <a:pt x="478219" y="854174"/>
                    <a:pt x="489538" y="823080"/>
                    <a:pt x="495946" y="791041"/>
                  </a:cubicBezTo>
                  <a:lnTo>
                    <a:pt x="526942" y="636058"/>
                  </a:lnTo>
                  <a:cubicBezTo>
                    <a:pt x="467830" y="251825"/>
                    <a:pt x="523596" y="539099"/>
                    <a:pt x="480448" y="388085"/>
                  </a:cubicBezTo>
                  <a:cubicBezTo>
                    <a:pt x="477866" y="379047"/>
                    <a:pt x="458739" y="293529"/>
                    <a:pt x="449451" y="279597"/>
                  </a:cubicBezTo>
                  <a:cubicBezTo>
                    <a:pt x="437293" y="261360"/>
                    <a:pt x="418454" y="248600"/>
                    <a:pt x="402956" y="233102"/>
                  </a:cubicBezTo>
                  <a:cubicBezTo>
                    <a:pt x="397790" y="217604"/>
                    <a:pt x="394764" y="201219"/>
                    <a:pt x="387458" y="186607"/>
                  </a:cubicBezTo>
                  <a:cubicBezTo>
                    <a:pt x="379128" y="169947"/>
                    <a:pt x="363798" y="157233"/>
                    <a:pt x="356461" y="140112"/>
                  </a:cubicBezTo>
                  <a:cubicBezTo>
                    <a:pt x="296413" y="0"/>
                    <a:pt x="387786" y="148353"/>
                    <a:pt x="309966" y="31624"/>
                  </a:cubicBezTo>
                  <a:cubicBezTo>
                    <a:pt x="294468" y="36790"/>
                    <a:pt x="275023" y="35570"/>
                    <a:pt x="263471" y="47122"/>
                  </a:cubicBezTo>
                  <a:cubicBezTo>
                    <a:pt x="251919" y="58674"/>
                    <a:pt x="255279" y="79005"/>
                    <a:pt x="247973" y="93617"/>
                  </a:cubicBezTo>
                  <a:cubicBezTo>
                    <a:pt x="223037" y="143489"/>
                    <a:pt x="225903" y="135648"/>
                    <a:pt x="185980" y="155611"/>
                  </a:cubicBezTo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Полилиния 396"/>
            <p:cNvSpPr/>
            <p:nvPr/>
          </p:nvSpPr>
          <p:spPr>
            <a:xfrm>
              <a:off x="8143920" y="1500120"/>
              <a:ext cx="229680" cy="428040"/>
            </a:xfrm>
            <a:custGeom>
              <a:avLst/>
              <a:gdLst/>
              <a:ahLst/>
              <a:rect l="l" t="t" r="r" b="b"/>
              <a:pathLst>
                <a:path w="526942" h="977021">
                  <a:moveTo>
                    <a:pt x="232475" y="78119"/>
                  </a:moveTo>
                  <a:cubicBezTo>
                    <a:pt x="216977" y="83285"/>
                    <a:pt x="197532" y="82065"/>
                    <a:pt x="185980" y="93617"/>
                  </a:cubicBezTo>
                  <a:cubicBezTo>
                    <a:pt x="143803" y="135794"/>
                    <a:pt x="123104" y="179510"/>
                    <a:pt x="108488" y="233102"/>
                  </a:cubicBezTo>
                  <a:cubicBezTo>
                    <a:pt x="97279" y="274202"/>
                    <a:pt x="87824" y="315760"/>
                    <a:pt x="77492" y="357089"/>
                  </a:cubicBezTo>
                  <a:cubicBezTo>
                    <a:pt x="72326" y="377753"/>
                    <a:pt x="73808" y="401359"/>
                    <a:pt x="61993" y="419082"/>
                  </a:cubicBezTo>
                  <a:lnTo>
                    <a:pt x="30997" y="465577"/>
                  </a:lnTo>
                  <a:cubicBezTo>
                    <a:pt x="25831" y="491407"/>
                    <a:pt x="21887" y="517513"/>
                    <a:pt x="15498" y="543068"/>
                  </a:cubicBezTo>
                  <a:cubicBezTo>
                    <a:pt x="11536" y="558917"/>
                    <a:pt x="0" y="573226"/>
                    <a:pt x="0" y="589563"/>
                  </a:cubicBezTo>
                  <a:cubicBezTo>
                    <a:pt x="0" y="662073"/>
                    <a:pt x="4742" y="734832"/>
                    <a:pt x="15498" y="806539"/>
                  </a:cubicBezTo>
                  <a:cubicBezTo>
                    <a:pt x="20345" y="838851"/>
                    <a:pt x="19309" y="881405"/>
                    <a:pt x="46495" y="899529"/>
                  </a:cubicBezTo>
                  <a:cubicBezTo>
                    <a:pt x="120177" y="948651"/>
                    <a:pt x="75317" y="924634"/>
                    <a:pt x="185980" y="961522"/>
                  </a:cubicBezTo>
                  <a:lnTo>
                    <a:pt x="232475" y="977021"/>
                  </a:lnTo>
                  <a:cubicBezTo>
                    <a:pt x="284136" y="966689"/>
                    <a:pt x="336123" y="957871"/>
                    <a:pt x="387458" y="946024"/>
                  </a:cubicBezTo>
                  <a:cubicBezTo>
                    <a:pt x="403376" y="942351"/>
                    <a:pt x="421196" y="940731"/>
                    <a:pt x="433953" y="930526"/>
                  </a:cubicBezTo>
                  <a:cubicBezTo>
                    <a:pt x="448498" y="918890"/>
                    <a:pt x="457384" y="901052"/>
                    <a:pt x="464949" y="884031"/>
                  </a:cubicBezTo>
                  <a:cubicBezTo>
                    <a:pt x="478219" y="854174"/>
                    <a:pt x="489538" y="823080"/>
                    <a:pt x="495946" y="791041"/>
                  </a:cubicBezTo>
                  <a:lnTo>
                    <a:pt x="526942" y="636058"/>
                  </a:lnTo>
                  <a:cubicBezTo>
                    <a:pt x="467830" y="251825"/>
                    <a:pt x="523596" y="539099"/>
                    <a:pt x="480448" y="388085"/>
                  </a:cubicBezTo>
                  <a:cubicBezTo>
                    <a:pt x="477866" y="379047"/>
                    <a:pt x="458739" y="293529"/>
                    <a:pt x="449451" y="279597"/>
                  </a:cubicBezTo>
                  <a:cubicBezTo>
                    <a:pt x="437293" y="261360"/>
                    <a:pt x="418454" y="248600"/>
                    <a:pt x="402956" y="233102"/>
                  </a:cubicBezTo>
                  <a:cubicBezTo>
                    <a:pt x="397790" y="217604"/>
                    <a:pt x="394764" y="201219"/>
                    <a:pt x="387458" y="186607"/>
                  </a:cubicBezTo>
                  <a:cubicBezTo>
                    <a:pt x="379128" y="169947"/>
                    <a:pt x="363798" y="157233"/>
                    <a:pt x="356461" y="140112"/>
                  </a:cubicBezTo>
                  <a:cubicBezTo>
                    <a:pt x="296413" y="0"/>
                    <a:pt x="387786" y="148353"/>
                    <a:pt x="309966" y="31624"/>
                  </a:cubicBezTo>
                  <a:cubicBezTo>
                    <a:pt x="294468" y="36790"/>
                    <a:pt x="275023" y="35570"/>
                    <a:pt x="263471" y="47122"/>
                  </a:cubicBezTo>
                  <a:cubicBezTo>
                    <a:pt x="251919" y="58674"/>
                    <a:pt x="255279" y="79005"/>
                    <a:pt x="247973" y="93617"/>
                  </a:cubicBezTo>
                  <a:cubicBezTo>
                    <a:pt x="223037" y="143489"/>
                    <a:pt x="225903" y="135648"/>
                    <a:pt x="185980" y="155611"/>
                  </a:cubicBezTo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77" name="Группа 234"/>
          <p:cNvGrpSpPr/>
          <p:nvPr/>
        </p:nvGrpSpPr>
        <p:grpSpPr>
          <a:xfrm>
            <a:off x="7786800" y="928800"/>
            <a:ext cx="491400" cy="799920"/>
            <a:chOff x="7786800" y="928800"/>
            <a:chExt cx="491400" cy="799920"/>
          </a:xfrm>
        </p:grpSpPr>
        <p:sp>
          <p:nvSpPr>
            <p:cNvPr id="1078" name="Полилиния 389"/>
            <p:cNvSpPr/>
            <p:nvPr/>
          </p:nvSpPr>
          <p:spPr>
            <a:xfrm>
              <a:off x="7934400" y="1272240"/>
              <a:ext cx="86400" cy="45648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Полилиния 390"/>
            <p:cNvSpPr/>
            <p:nvPr/>
          </p:nvSpPr>
          <p:spPr>
            <a:xfrm>
              <a:off x="7901280" y="942840"/>
              <a:ext cx="229680" cy="427680"/>
            </a:xfrm>
            <a:custGeom>
              <a:avLst/>
              <a:gdLst/>
              <a:ahLst/>
              <a:rect l="l" t="t" r="r" b="b"/>
              <a:pathLst>
                <a:path w="526942" h="977021">
                  <a:moveTo>
                    <a:pt x="232475" y="78119"/>
                  </a:moveTo>
                  <a:cubicBezTo>
                    <a:pt x="216977" y="83285"/>
                    <a:pt x="197532" y="82065"/>
                    <a:pt x="185980" y="93617"/>
                  </a:cubicBezTo>
                  <a:cubicBezTo>
                    <a:pt x="143803" y="135794"/>
                    <a:pt x="123104" y="179510"/>
                    <a:pt x="108488" y="233102"/>
                  </a:cubicBezTo>
                  <a:cubicBezTo>
                    <a:pt x="97279" y="274202"/>
                    <a:pt x="87824" y="315760"/>
                    <a:pt x="77492" y="357089"/>
                  </a:cubicBezTo>
                  <a:cubicBezTo>
                    <a:pt x="72326" y="377753"/>
                    <a:pt x="73808" y="401359"/>
                    <a:pt x="61993" y="419082"/>
                  </a:cubicBezTo>
                  <a:lnTo>
                    <a:pt x="30997" y="465577"/>
                  </a:lnTo>
                  <a:cubicBezTo>
                    <a:pt x="25831" y="491407"/>
                    <a:pt x="21887" y="517513"/>
                    <a:pt x="15498" y="543068"/>
                  </a:cubicBezTo>
                  <a:cubicBezTo>
                    <a:pt x="11536" y="558917"/>
                    <a:pt x="0" y="573226"/>
                    <a:pt x="0" y="589563"/>
                  </a:cubicBezTo>
                  <a:cubicBezTo>
                    <a:pt x="0" y="662073"/>
                    <a:pt x="4742" y="734832"/>
                    <a:pt x="15498" y="806539"/>
                  </a:cubicBezTo>
                  <a:cubicBezTo>
                    <a:pt x="20345" y="838851"/>
                    <a:pt x="19309" y="881405"/>
                    <a:pt x="46495" y="899529"/>
                  </a:cubicBezTo>
                  <a:cubicBezTo>
                    <a:pt x="120177" y="948651"/>
                    <a:pt x="75317" y="924634"/>
                    <a:pt x="185980" y="961522"/>
                  </a:cubicBezTo>
                  <a:lnTo>
                    <a:pt x="232475" y="977021"/>
                  </a:lnTo>
                  <a:cubicBezTo>
                    <a:pt x="284136" y="966689"/>
                    <a:pt x="336123" y="957871"/>
                    <a:pt x="387458" y="946024"/>
                  </a:cubicBezTo>
                  <a:cubicBezTo>
                    <a:pt x="403376" y="942351"/>
                    <a:pt x="421196" y="940731"/>
                    <a:pt x="433953" y="930526"/>
                  </a:cubicBezTo>
                  <a:cubicBezTo>
                    <a:pt x="448498" y="918890"/>
                    <a:pt x="457384" y="901052"/>
                    <a:pt x="464949" y="884031"/>
                  </a:cubicBezTo>
                  <a:cubicBezTo>
                    <a:pt x="478219" y="854174"/>
                    <a:pt x="489538" y="823080"/>
                    <a:pt x="495946" y="791041"/>
                  </a:cubicBezTo>
                  <a:lnTo>
                    <a:pt x="526942" y="636058"/>
                  </a:lnTo>
                  <a:cubicBezTo>
                    <a:pt x="467830" y="251825"/>
                    <a:pt x="523596" y="539099"/>
                    <a:pt x="480448" y="388085"/>
                  </a:cubicBezTo>
                  <a:cubicBezTo>
                    <a:pt x="477866" y="379047"/>
                    <a:pt x="458739" y="293529"/>
                    <a:pt x="449451" y="279597"/>
                  </a:cubicBezTo>
                  <a:cubicBezTo>
                    <a:pt x="437293" y="261360"/>
                    <a:pt x="418454" y="248600"/>
                    <a:pt x="402956" y="233102"/>
                  </a:cubicBezTo>
                  <a:cubicBezTo>
                    <a:pt x="397790" y="217604"/>
                    <a:pt x="394764" y="201219"/>
                    <a:pt x="387458" y="186607"/>
                  </a:cubicBezTo>
                  <a:cubicBezTo>
                    <a:pt x="379128" y="169947"/>
                    <a:pt x="363798" y="157233"/>
                    <a:pt x="356461" y="140112"/>
                  </a:cubicBezTo>
                  <a:cubicBezTo>
                    <a:pt x="296413" y="0"/>
                    <a:pt x="387786" y="148353"/>
                    <a:pt x="309966" y="31624"/>
                  </a:cubicBezTo>
                  <a:cubicBezTo>
                    <a:pt x="294468" y="36790"/>
                    <a:pt x="275023" y="35570"/>
                    <a:pt x="263471" y="47122"/>
                  </a:cubicBezTo>
                  <a:cubicBezTo>
                    <a:pt x="251919" y="58674"/>
                    <a:pt x="255279" y="79005"/>
                    <a:pt x="247973" y="93617"/>
                  </a:cubicBezTo>
                  <a:cubicBezTo>
                    <a:pt x="223037" y="143489"/>
                    <a:pt x="225903" y="135648"/>
                    <a:pt x="185980" y="155611"/>
                  </a:cubicBezTo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Полилиния 391"/>
            <p:cNvSpPr/>
            <p:nvPr/>
          </p:nvSpPr>
          <p:spPr>
            <a:xfrm rot="1149000">
              <a:off x="7957800" y="972360"/>
              <a:ext cx="258840" cy="417960"/>
            </a:xfrm>
            <a:custGeom>
              <a:avLst/>
              <a:gdLst/>
              <a:ahLst/>
              <a:rect l="l" t="t" r="r" b="b"/>
              <a:pathLst>
                <a:path w="526942" h="977021">
                  <a:moveTo>
                    <a:pt x="232475" y="78119"/>
                  </a:moveTo>
                  <a:cubicBezTo>
                    <a:pt x="216977" y="83285"/>
                    <a:pt x="197532" y="82065"/>
                    <a:pt x="185980" y="93617"/>
                  </a:cubicBezTo>
                  <a:cubicBezTo>
                    <a:pt x="143803" y="135794"/>
                    <a:pt x="123104" y="179510"/>
                    <a:pt x="108488" y="233102"/>
                  </a:cubicBezTo>
                  <a:cubicBezTo>
                    <a:pt x="97279" y="274202"/>
                    <a:pt x="87824" y="315760"/>
                    <a:pt x="77492" y="357089"/>
                  </a:cubicBezTo>
                  <a:cubicBezTo>
                    <a:pt x="72326" y="377753"/>
                    <a:pt x="73808" y="401359"/>
                    <a:pt x="61993" y="419082"/>
                  </a:cubicBezTo>
                  <a:lnTo>
                    <a:pt x="30997" y="465577"/>
                  </a:lnTo>
                  <a:cubicBezTo>
                    <a:pt x="25831" y="491407"/>
                    <a:pt x="21887" y="517513"/>
                    <a:pt x="15498" y="543068"/>
                  </a:cubicBezTo>
                  <a:cubicBezTo>
                    <a:pt x="11536" y="558917"/>
                    <a:pt x="0" y="573226"/>
                    <a:pt x="0" y="589563"/>
                  </a:cubicBezTo>
                  <a:cubicBezTo>
                    <a:pt x="0" y="662073"/>
                    <a:pt x="4742" y="734832"/>
                    <a:pt x="15498" y="806539"/>
                  </a:cubicBezTo>
                  <a:cubicBezTo>
                    <a:pt x="20345" y="838851"/>
                    <a:pt x="19309" y="881405"/>
                    <a:pt x="46495" y="899529"/>
                  </a:cubicBezTo>
                  <a:cubicBezTo>
                    <a:pt x="120177" y="948651"/>
                    <a:pt x="75317" y="924634"/>
                    <a:pt x="185980" y="961522"/>
                  </a:cubicBezTo>
                  <a:lnTo>
                    <a:pt x="232475" y="977021"/>
                  </a:lnTo>
                  <a:cubicBezTo>
                    <a:pt x="284136" y="966689"/>
                    <a:pt x="336123" y="957871"/>
                    <a:pt x="387458" y="946024"/>
                  </a:cubicBezTo>
                  <a:cubicBezTo>
                    <a:pt x="403376" y="942351"/>
                    <a:pt x="421196" y="940731"/>
                    <a:pt x="433953" y="930526"/>
                  </a:cubicBezTo>
                  <a:cubicBezTo>
                    <a:pt x="448498" y="918890"/>
                    <a:pt x="457384" y="901052"/>
                    <a:pt x="464949" y="884031"/>
                  </a:cubicBezTo>
                  <a:cubicBezTo>
                    <a:pt x="478219" y="854174"/>
                    <a:pt x="489538" y="823080"/>
                    <a:pt x="495946" y="791041"/>
                  </a:cubicBezTo>
                  <a:lnTo>
                    <a:pt x="526942" y="636058"/>
                  </a:lnTo>
                  <a:cubicBezTo>
                    <a:pt x="467830" y="251825"/>
                    <a:pt x="523596" y="539099"/>
                    <a:pt x="480448" y="388085"/>
                  </a:cubicBezTo>
                  <a:cubicBezTo>
                    <a:pt x="477866" y="379047"/>
                    <a:pt x="458739" y="293529"/>
                    <a:pt x="449451" y="279597"/>
                  </a:cubicBezTo>
                  <a:cubicBezTo>
                    <a:pt x="437293" y="261360"/>
                    <a:pt x="418454" y="248600"/>
                    <a:pt x="402956" y="233102"/>
                  </a:cubicBezTo>
                  <a:cubicBezTo>
                    <a:pt x="397790" y="217604"/>
                    <a:pt x="394764" y="201219"/>
                    <a:pt x="387458" y="186607"/>
                  </a:cubicBezTo>
                  <a:cubicBezTo>
                    <a:pt x="379128" y="169947"/>
                    <a:pt x="363798" y="157233"/>
                    <a:pt x="356461" y="140112"/>
                  </a:cubicBezTo>
                  <a:cubicBezTo>
                    <a:pt x="296413" y="0"/>
                    <a:pt x="387786" y="148353"/>
                    <a:pt x="309966" y="31624"/>
                  </a:cubicBezTo>
                  <a:cubicBezTo>
                    <a:pt x="294468" y="36790"/>
                    <a:pt x="275023" y="35570"/>
                    <a:pt x="263471" y="47122"/>
                  </a:cubicBezTo>
                  <a:cubicBezTo>
                    <a:pt x="251919" y="58674"/>
                    <a:pt x="255279" y="79005"/>
                    <a:pt x="247973" y="93617"/>
                  </a:cubicBezTo>
                  <a:cubicBezTo>
                    <a:pt x="223037" y="143489"/>
                    <a:pt x="225903" y="135648"/>
                    <a:pt x="185980" y="155611"/>
                  </a:cubicBezTo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1" name="Полилиния 392"/>
            <p:cNvSpPr/>
            <p:nvPr/>
          </p:nvSpPr>
          <p:spPr>
            <a:xfrm>
              <a:off x="7786800" y="928800"/>
              <a:ext cx="229680" cy="427680"/>
            </a:xfrm>
            <a:custGeom>
              <a:avLst/>
              <a:gdLst/>
              <a:ahLst/>
              <a:rect l="l" t="t" r="r" b="b"/>
              <a:pathLst>
                <a:path w="526942" h="977021">
                  <a:moveTo>
                    <a:pt x="232475" y="78119"/>
                  </a:moveTo>
                  <a:cubicBezTo>
                    <a:pt x="216977" y="83285"/>
                    <a:pt x="197532" y="82065"/>
                    <a:pt x="185980" y="93617"/>
                  </a:cubicBezTo>
                  <a:cubicBezTo>
                    <a:pt x="143803" y="135794"/>
                    <a:pt x="123104" y="179510"/>
                    <a:pt x="108488" y="233102"/>
                  </a:cubicBezTo>
                  <a:cubicBezTo>
                    <a:pt x="97279" y="274202"/>
                    <a:pt x="87824" y="315760"/>
                    <a:pt x="77492" y="357089"/>
                  </a:cubicBezTo>
                  <a:cubicBezTo>
                    <a:pt x="72326" y="377753"/>
                    <a:pt x="73808" y="401359"/>
                    <a:pt x="61993" y="419082"/>
                  </a:cubicBezTo>
                  <a:lnTo>
                    <a:pt x="30997" y="465577"/>
                  </a:lnTo>
                  <a:cubicBezTo>
                    <a:pt x="25831" y="491407"/>
                    <a:pt x="21887" y="517513"/>
                    <a:pt x="15498" y="543068"/>
                  </a:cubicBezTo>
                  <a:cubicBezTo>
                    <a:pt x="11536" y="558917"/>
                    <a:pt x="0" y="573226"/>
                    <a:pt x="0" y="589563"/>
                  </a:cubicBezTo>
                  <a:cubicBezTo>
                    <a:pt x="0" y="662073"/>
                    <a:pt x="4742" y="734832"/>
                    <a:pt x="15498" y="806539"/>
                  </a:cubicBezTo>
                  <a:cubicBezTo>
                    <a:pt x="20345" y="838851"/>
                    <a:pt x="19309" y="881405"/>
                    <a:pt x="46495" y="899529"/>
                  </a:cubicBezTo>
                  <a:cubicBezTo>
                    <a:pt x="120177" y="948651"/>
                    <a:pt x="75317" y="924634"/>
                    <a:pt x="185980" y="961522"/>
                  </a:cubicBezTo>
                  <a:lnTo>
                    <a:pt x="232475" y="977021"/>
                  </a:lnTo>
                  <a:cubicBezTo>
                    <a:pt x="284136" y="966689"/>
                    <a:pt x="336123" y="957871"/>
                    <a:pt x="387458" y="946024"/>
                  </a:cubicBezTo>
                  <a:cubicBezTo>
                    <a:pt x="403376" y="942351"/>
                    <a:pt x="421196" y="940731"/>
                    <a:pt x="433953" y="930526"/>
                  </a:cubicBezTo>
                  <a:cubicBezTo>
                    <a:pt x="448498" y="918890"/>
                    <a:pt x="457384" y="901052"/>
                    <a:pt x="464949" y="884031"/>
                  </a:cubicBezTo>
                  <a:cubicBezTo>
                    <a:pt x="478219" y="854174"/>
                    <a:pt x="489538" y="823080"/>
                    <a:pt x="495946" y="791041"/>
                  </a:cubicBezTo>
                  <a:lnTo>
                    <a:pt x="526942" y="636058"/>
                  </a:lnTo>
                  <a:cubicBezTo>
                    <a:pt x="467830" y="251825"/>
                    <a:pt x="523596" y="539099"/>
                    <a:pt x="480448" y="388085"/>
                  </a:cubicBezTo>
                  <a:cubicBezTo>
                    <a:pt x="477866" y="379047"/>
                    <a:pt x="458739" y="293529"/>
                    <a:pt x="449451" y="279597"/>
                  </a:cubicBezTo>
                  <a:cubicBezTo>
                    <a:pt x="437293" y="261360"/>
                    <a:pt x="418454" y="248600"/>
                    <a:pt x="402956" y="233102"/>
                  </a:cubicBezTo>
                  <a:cubicBezTo>
                    <a:pt x="397790" y="217604"/>
                    <a:pt x="394764" y="201219"/>
                    <a:pt x="387458" y="186607"/>
                  </a:cubicBezTo>
                  <a:cubicBezTo>
                    <a:pt x="379128" y="169947"/>
                    <a:pt x="363798" y="157233"/>
                    <a:pt x="356461" y="140112"/>
                  </a:cubicBezTo>
                  <a:cubicBezTo>
                    <a:pt x="296413" y="0"/>
                    <a:pt x="387786" y="148353"/>
                    <a:pt x="309966" y="31624"/>
                  </a:cubicBezTo>
                  <a:cubicBezTo>
                    <a:pt x="294468" y="36790"/>
                    <a:pt x="275023" y="35570"/>
                    <a:pt x="263471" y="47122"/>
                  </a:cubicBezTo>
                  <a:cubicBezTo>
                    <a:pt x="251919" y="58674"/>
                    <a:pt x="255279" y="79005"/>
                    <a:pt x="247973" y="93617"/>
                  </a:cubicBezTo>
                  <a:cubicBezTo>
                    <a:pt x="223037" y="143489"/>
                    <a:pt x="225903" y="135648"/>
                    <a:pt x="185980" y="155611"/>
                  </a:cubicBezTo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2" name="TextBox 517"/>
          <p:cNvSpPr/>
          <p:nvPr/>
        </p:nvSpPr>
        <p:spPr>
          <a:xfrm>
            <a:off x="1857240" y="285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№2, с. 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TextBox 519"/>
          <p:cNvSpPr/>
          <p:nvPr/>
        </p:nvSpPr>
        <p:spPr>
          <a:xfrm>
            <a:off x="285840" y="25718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Georgia"/>
              </a:rPr>
              <a:t>У Кати было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TextBox 520"/>
          <p:cNvSpPr/>
          <p:nvPr/>
        </p:nvSpPr>
        <p:spPr>
          <a:xfrm>
            <a:off x="3286080" y="25002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Georgia"/>
              </a:rPr>
              <a:t>Она добавила ещё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TextBox 521"/>
          <p:cNvSpPr/>
          <p:nvPr/>
        </p:nvSpPr>
        <p:spPr>
          <a:xfrm>
            <a:off x="5786280" y="27147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Georgia"/>
              </a:rPr>
              <a:t>Сколько стало …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TextBox 306"/>
          <p:cNvSpPr/>
          <p:nvPr/>
        </p:nvSpPr>
        <p:spPr>
          <a:xfrm>
            <a:off x="1714680" y="371484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Ста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Прямоугольник 307"/>
          <p:cNvSpPr/>
          <p:nvPr/>
        </p:nvSpPr>
        <p:spPr>
          <a:xfrm>
            <a:off x="2507400" y="51436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 (цв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TextBox 322"/>
          <p:cNvSpPr/>
          <p:nvPr/>
        </p:nvSpPr>
        <p:spPr>
          <a:xfrm>
            <a:off x="1428840" y="56437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: 9 цвет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"/>
          <p:cNvSpPr/>
          <p:nvPr/>
        </p:nvSpPr>
        <p:spPr>
          <a:xfrm>
            <a:off x="5292720" y="6093000"/>
            <a:ext cx="574560" cy="5745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"/>
          <p:cNvSpPr/>
          <p:nvPr/>
        </p:nvSpPr>
        <p:spPr>
          <a:xfrm>
            <a:off x="5940360" y="6093000"/>
            <a:ext cx="576360" cy="57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"/>
          <p:cNvSpPr/>
          <p:nvPr/>
        </p:nvSpPr>
        <p:spPr>
          <a:xfrm>
            <a:off x="6588000" y="6093000"/>
            <a:ext cx="576360" cy="576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TextBox 18"/>
          <p:cNvSpPr/>
          <p:nvPr/>
        </p:nvSpPr>
        <p:spPr>
          <a:xfrm>
            <a:off x="324000" y="6093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. Открытие нового знания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Verdana"/>
              </a:rPr>
              <a:t>Физминут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"/>
          <p:cNvSpPr/>
          <p:nvPr/>
        </p:nvSpPr>
        <p:spPr>
          <a:xfrm>
            <a:off x="1042920" y="4581360"/>
            <a:ext cx="1584360" cy="1368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11144 C -0.02256 -0.16809 -0.10191 -0.19584 -0.09427 -0.23422 C -0.08663 -0.2726 0.01094 -0.29272 0.04375 -0.34196 C 0.07657 -0.39121 0.05643 -0.50728 0.10244 -0.53017 C 0.14827 -0.55306 0.24636 -0.47376 0.31997 -0.47931 C 0.39341 -0.48485 0.48351 -0.58081 0.54375 -0.56393 C 0.60382 -0.54705 0.64723 -0.43353 0.68021 -0.3778 C 0.7132 -0.32208 0.74827 -0.27514 0.74219 -0.22983 C 0.73612 -0.18451 0.65035 -0.16925 0.64375 -0.1052 C 0.63716 -0.04116 0.71459 0.11191 0.70244 0.15491 C 0.69011 0.19792 0.59306 0.15607 0.57066 0.1526 C 0.54827 0.14913 0.59271 0.13688 0.56754 0.13364 C 0.54237 0.13041 0.46875 0.13387 0.41997 0.13364 C 0.37101 0.13341 0.29584 0.15052 0.27396 0.13156 C 0.25209 0.1126 0.32917 0.02358 0.28803 0.01942 C 0.24723 0.01526 0.07587 0.12647 0.02796 0.10613 C -0.01996 0.08578 0.01806 -0.0548 -0.00225 -0.11144 Z">
                                      <p:cBhvr>
                                        <p:cTn id="233" dur="5000" fill="hold"/>
                                        <p:tgtEl>
                                          <p:spTgt spid="10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Rectangle 3" descr=""/>
          <p:cNvPicPr/>
          <p:nvPr/>
        </p:nvPicPr>
        <p:blipFill>
          <a:blip r:embed="rId2"/>
          <a:stretch/>
        </p:blipFill>
        <p:spPr>
          <a:xfrm>
            <a:off x="927000" y="4218120"/>
            <a:ext cx="2132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8.67052E-007 C 0.00192 -0.00671 0.00348 -0.0111 0.00331 -0.01896 C 0.00279 -0.04856 0.00157 -0.07815 5.55556E-006 -0.10775 C -0.00034 -0.11445 -0.0059 -0.13619 -0.00937 -0.1415 C -0.01041 -0.14312 -0.01267 -0.14289 -0.01423 -0.14359 C -0.0236 -0.1533 -0.02256 -0.15353 -0.0269 -0.16694 C -0.0276 -0.16925 -0.02916 -0.1711 -0.03003 -0.17318 C -0.03124 -0.17596 -0.03246 -0.17873 -0.03333 -0.18174 C -0.03628 -0.19168 -0.03715 -0.19931 -0.0427 -0.20717 C -0.04461 -0.21387 -0.04635 -0.22127 -0.04756 -0.22821 C -0.04878 -0.23515 -0.05069 -0.24948 -0.05069 -0.24948 C -0.04999 -0.25919 -0.04999 -0.29688 -0.03958 -0.30867 C -0.02534 -0.32486 -0.0019 -0.32671 0.01442 -0.33596 C 0.03178 -0.3459 0.04879 -0.35561 0.06667 -0.36347 C 0.07831 -0.37387 0.08074 -0.3889 0.08577 -0.40578 C 0.08785 -0.41295 0.08664 -0.4178 0.0889 -0.42474 C 0.09011 -0.42844 0.09237 -0.43168 0.09376 -0.43538 C 0.09654 -0.44278 0.09723 -0.4511 0.10001 -0.45873 C 0.10244 -0.47307 0.10851 -0.48925 0.11754 -0.49873 C 0.12292 -0.50451 0.13022 -0.50682 0.13508 -0.51353 C 0.13664 -0.51561 0.13785 -0.51838 0.13976 -0.52 C 0.1448 -0.52463 0.1573 -0.52624 0.1573 -0.52624 C 0.16459 -0.53318 0.17414 -0.53526 0.18265 -0.53896 C 0.18838 -0.5415 0.19428 -0.54289 0.20001 -0.54543 C 0.20886 -0.54937 0.21772 -0.55584 0.22709 -0.55792 C 0.23647 -0.56 0.24619 -0.56023 0.25556 -0.56231 C 0.30643 -0.56162 0.38299 -0.6148 0.40799 -0.55584 C 0.41442 -0.54081 0.40695 -0.54913 0.41598 -0.54104 C 0.42431 -0.48555 0.47657 -0.48 0.51112 -0.47769 C 0.54081 -0.47977 0.57049 -0.4807 0.60001 -0.48393 C 0.60435 -0.48439 0.62067 -0.49318 0.62397 -0.49457 C 0.64584 -0.50359 0.66789 -0.51584 0.69063 -0.52 C 0.6948 -0.52208 0.69897 -0.52463 0.70331 -0.52624 C 0.70904 -0.52833 0.72067 -0.53064 0.72067 -0.53064 C 0.73282 -0.52925 0.75799 -0.53526 0.76997 -0.52 C 0.77397 -0.50405 0.77674 -0.48994 0.77952 -0.47353 C 0.78004 -0.4185 0.78004 -0.3637 0.78108 -0.30867 C 0.78108 -0.30497 0.78282 -0.30174 0.78265 -0.29804 C 0.78126 -0.26613 0.78074 -0.23399 0.77622 -0.20278 C 0.77397 -0.18728 0.7389 -0.15468 0.72865 -0.14798 C 0.72345 -0.14081 0.71581 -0.13665 0.70956 -0.1311 C 0.70192 -0.12416 0.69567 -0.11515 0.68733 -0.10983 C 0.68438 -0.10474 0.68039 -0.10058 0.67779 -0.09503 C 0.67067 -0.07954 0.68213 -0.09711 0.6731 -0.08439 C 0.66285 -0.04347 0.66581 0.00162 0.68421 0.03607 C 0.69254 0.05156 0.69706 0.06705 0.70799 0.07838 C 0.71112 0.0867 0.71563 0.09341 0.7191 0.1015 C 0.72258 0.10959 0.72397 0.11792 0.72553 0.12693 C 0.72188 0.16115 0.72779 0.15792 0.70956 0.16277 C 0.69619 0.17179 0.67588 0.18173 0.66042 0.18196 C 0.54463 0.18335 0.42865 0.18335 0.31285 0.18404 C 0.28803 0.19699 0.26233 0.2067 0.23664 0.2178 C 0.11737 0.21526 0.16997 0.21988 0.1191 0.20925 C 0.11147 0.20254 0.10555 0.19561 0.09845 0.18821 C 0.09671 0.18636 0.08525 0.17688 0.08265 0.17341 C 0.07188 0.15907 0.08785 0.1748 0.07466 0.16277 C 0.07136 0.14959 0.06633 0.13641 0.06042 0.12485 C 0.05817 0.11537 0.05504 0.10358 0.05088 0.09526 C 0.04671 0.0867 0.0415 0.08185 0.03508 0.07607 C 0.03091 0.07237 0.029 0.06589 0.02553 0.06127 C 0.02292 0.0578 0.02067 0.05364 0.01754 0.05087 C 0.01598 0.04948 0.01424 0.04809 0.01285 0.04647 C 0.01008 0.04324 0.00747 0.03954 0.00487 0.03607 C 0.00383 0.03468 0.00174 0.03167 0.00174 0.03167 C -0.00086 0.02243 -0.00607 0.01711 -0.00937 0.00855 C -0.01006 0.00647 -0.01041 0.00416 -0.0111 0.00208 C -0.01475 -0.00763 -0.01423 -0.00046 -0.01423 -0.00833 E">
                                      <p:cBhvr>
                                        <p:cTn id="239" dur="5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Box 10"/>
          <p:cNvSpPr/>
          <p:nvPr/>
        </p:nvSpPr>
        <p:spPr>
          <a:xfrm>
            <a:off x="1928880" y="2858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№3, с. 3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TextBox 11"/>
          <p:cNvSpPr/>
          <p:nvPr/>
        </p:nvSpPr>
        <p:spPr>
          <a:xfrm>
            <a:off x="285840" y="8571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читай задачу. Прочитай условие задачи. Прочитай вопрос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Прямоугольник 13"/>
          <p:cNvSpPr/>
          <p:nvPr/>
        </p:nvSpPr>
        <p:spPr>
          <a:xfrm>
            <a:off x="285840" y="20606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Кати было 3 груши. Она съела 1 груш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Прямоугольник 14"/>
          <p:cNvSpPr/>
          <p:nvPr/>
        </p:nvSpPr>
        <p:spPr>
          <a:xfrm>
            <a:off x="357120" y="2428920"/>
            <a:ext cx="59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груш у неё осталос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TextBox 15"/>
          <p:cNvSpPr/>
          <p:nvPr/>
        </p:nvSpPr>
        <p:spPr>
          <a:xfrm>
            <a:off x="5357880" y="3000240"/>
            <a:ext cx="2928960" cy="520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Вопрос  зада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TextBox 16"/>
          <p:cNvSpPr/>
          <p:nvPr/>
        </p:nvSpPr>
        <p:spPr>
          <a:xfrm>
            <a:off x="428760" y="3000240"/>
            <a:ext cx="2928960" cy="9471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Условие зада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TextBox 17"/>
          <p:cNvSpPr/>
          <p:nvPr/>
        </p:nvSpPr>
        <p:spPr>
          <a:xfrm>
            <a:off x="2928960" y="16286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Georgia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Прямоугольник 12"/>
          <p:cNvSpPr/>
          <p:nvPr/>
        </p:nvSpPr>
        <p:spPr>
          <a:xfrm>
            <a:off x="862560" y="5214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– 1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Прямая соединительная линия 18"/>
          <p:cNvSpPr/>
          <p:nvPr/>
        </p:nvSpPr>
        <p:spPr>
          <a:xfrm>
            <a:off x="714240" y="4572000"/>
            <a:ext cx="307188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Прямая соединительная линия 19"/>
          <p:cNvSpPr/>
          <p:nvPr/>
        </p:nvSpPr>
        <p:spPr>
          <a:xfrm>
            <a:off x="2357280" y="442908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Прямоугольник 21"/>
          <p:cNvSpPr/>
          <p:nvPr/>
        </p:nvSpPr>
        <p:spPr>
          <a:xfrm>
            <a:off x="2788200" y="450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Правая круглая скобка 22"/>
          <p:cNvSpPr/>
          <p:nvPr/>
        </p:nvSpPr>
        <p:spPr>
          <a:xfrm rot="16200000">
            <a:off x="2088000" y="2769120"/>
            <a:ext cx="324000" cy="3071880"/>
          </a:xfrm>
          <a:custGeom>
            <a:avLst/>
            <a:gdLst>
              <a:gd name="textAreaLeft" fmla="*/ 0 w 324000"/>
              <a:gd name="textAreaRight" fmla="*/ 227160 w 324000"/>
              <a:gd name="textAreaTop" fmla="*/ 13320 h 3071880"/>
              <a:gd name="textAreaBottom" fmla="*/ 305856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"/>
                  <a:pt x="21600" y="190"/>
                </a:cubicBezTo>
                <a:lnTo>
                  <a:pt x="21600" y="21410"/>
                </a:lnTo>
                <a:cubicBezTo>
                  <a:pt x="21600" y="21505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Прямоугольник 23"/>
          <p:cNvSpPr/>
          <p:nvPr/>
        </p:nvSpPr>
        <p:spPr>
          <a:xfrm>
            <a:off x="1054800" y="4572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Прямоугольник 25"/>
          <p:cNvSpPr/>
          <p:nvPr/>
        </p:nvSpPr>
        <p:spPr>
          <a:xfrm>
            <a:off x="1578240" y="52149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2 (г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TextBox 26"/>
          <p:cNvSpPr/>
          <p:nvPr/>
        </p:nvSpPr>
        <p:spPr>
          <a:xfrm>
            <a:off x="785880" y="5643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: 2 груш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TextBox 28"/>
          <p:cNvSpPr/>
          <p:nvPr/>
        </p:nvSpPr>
        <p:spPr>
          <a:xfrm>
            <a:off x="1428840" y="36432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ло 3 г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TextBox 29"/>
          <p:cNvSpPr/>
          <p:nvPr/>
        </p:nvSpPr>
        <p:spPr>
          <a:xfrm>
            <a:off x="1071720" y="414324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ъ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TextBox 30"/>
          <p:cNvSpPr/>
          <p:nvPr/>
        </p:nvSpPr>
        <p:spPr>
          <a:xfrm>
            <a:off x="2357280" y="41432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талос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Прямоугольник 80"/>
          <p:cNvSpPr/>
          <p:nvPr/>
        </p:nvSpPr>
        <p:spPr>
          <a:xfrm>
            <a:off x="250920" y="621648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I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. Первичное закрепление с проговариванием во внешней реч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"/>
          <p:cNvSpPr/>
          <p:nvPr/>
        </p:nvSpPr>
        <p:spPr>
          <a:xfrm>
            <a:off x="6948360" y="6021360"/>
            <a:ext cx="503280" cy="5745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"/>
          <p:cNvSpPr/>
          <p:nvPr/>
        </p:nvSpPr>
        <p:spPr>
          <a:xfrm>
            <a:off x="7596360" y="6021360"/>
            <a:ext cx="576000" cy="576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,25,-27)"/>
                                      </p:to>
                                    </p:set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9,25,-27)"/>
                                      </p:to>
                                    </p:set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1,-66,14)"/>
                                      </p:to>
                                    </p:set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1,-66,14)"/>
                                      </p:to>
                                    </p:set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Box 10"/>
          <p:cNvSpPr/>
          <p:nvPr/>
        </p:nvSpPr>
        <p:spPr>
          <a:xfrm>
            <a:off x="1928880" y="2858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№4, с. 3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Прямоугольник 13"/>
          <p:cNvSpPr/>
          <p:nvPr/>
        </p:nvSpPr>
        <p:spPr>
          <a:xfrm>
            <a:off x="285840" y="1500120"/>
            <a:ext cx="93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тя нарисовал схему. Какую задачу он мог придума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TextBox 15"/>
          <p:cNvSpPr/>
          <p:nvPr/>
        </p:nvSpPr>
        <p:spPr>
          <a:xfrm>
            <a:off x="5286240" y="2000160"/>
            <a:ext cx="2928960" cy="520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Какой вопрос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TextBox 16"/>
          <p:cNvSpPr/>
          <p:nvPr/>
        </p:nvSpPr>
        <p:spPr>
          <a:xfrm>
            <a:off x="357120" y="2000160"/>
            <a:ext cx="4286160" cy="520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Какое у неё услови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TextBox 17"/>
          <p:cNvSpPr/>
          <p:nvPr/>
        </p:nvSpPr>
        <p:spPr>
          <a:xfrm>
            <a:off x="2928960" y="1000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Georgia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Прямоугольник 12"/>
          <p:cNvSpPr/>
          <p:nvPr/>
        </p:nvSpPr>
        <p:spPr>
          <a:xfrm>
            <a:off x="720000" y="5214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– 3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Прямая соединительная линия 18"/>
          <p:cNvSpPr/>
          <p:nvPr/>
        </p:nvSpPr>
        <p:spPr>
          <a:xfrm>
            <a:off x="714240" y="4357800"/>
            <a:ext cx="307188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Прямая соединительная линия 19"/>
          <p:cNvSpPr/>
          <p:nvPr/>
        </p:nvSpPr>
        <p:spPr>
          <a:xfrm>
            <a:off x="2357280" y="421488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Прямоугольник 21"/>
          <p:cNvSpPr/>
          <p:nvPr/>
        </p:nvSpPr>
        <p:spPr>
          <a:xfrm>
            <a:off x="2648160" y="457200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3 ш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Правая круглая скобка 22"/>
          <p:cNvSpPr/>
          <p:nvPr/>
        </p:nvSpPr>
        <p:spPr>
          <a:xfrm rot="16200000">
            <a:off x="2088000" y="2554920"/>
            <a:ext cx="324000" cy="3071880"/>
          </a:xfrm>
          <a:custGeom>
            <a:avLst/>
            <a:gdLst>
              <a:gd name="textAreaLeft" fmla="*/ 0 w 324000"/>
              <a:gd name="textAreaRight" fmla="*/ 227160 w 324000"/>
              <a:gd name="textAreaTop" fmla="*/ 13320 h 3071880"/>
              <a:gd name="textAreaBottom" fmla="*/ 305856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"/>
                  <a:pt x="21600" y="190"/>
                </a:cubicBezTo>
                <a:lnTo>
                  <a:pt x="21600" y="21410"/>
                </a:lnTo>
                <a:cubicBezTo>
                  <a:pt x="21600" y="21505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Прямоугольник 23"/>
          <p:cNvSpPr/>
          <p:nvPr/>
        </p:nvSpPr>
        <p:spPr>
          <a:xfrm>
            <a:off x="1100160" y="45720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Прямоугольник 25"/>
          <p:cNvSpPr/>
          <p:nvPr/>
        </p:nvSpPr>
        <p:spPr>
          <a:xfrm>
            <a:off x="1456560" y="521496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2 (ш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TextBox 26"/>
          <p:cNvSpPr/>
          <p:nvPr/>
        </p:nvSpPr>
        <p:spPr>
          <a:xfrm>
            <a:off x="642960" y="5824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: 2 ша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TextBox 28"/>
          <p:cNvSpPr/>
          <p:nvPr/>
        </p:nvSpPr>
        <p:spPr>
          <a:xfrm>
            <a:off x="1428840" y="33955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ло 5 ша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TextBox 29"/>
          <p:cNvSpPr/>
          <p:nvPr/>
        </p:nvSpPr>
        <p:spPr>
          <a:xfrm>
            <a:off x="78588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опну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TextBox 30"/>
          <p:cNvSpPr/>
          <p:nvPr/>
        </p:nvSpPr>
        <p:spPr>
          <a:xfrm>
            <a:off x="2357280" y="39290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талос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TextBox 24"/>
          <p:cNvSpPr/>
          <p:nvPr/>
        </p:nvSpPr>
        <p:spPr>
          <a:xfrm>
            <a:off x="428760" y="2714760"/>
            <a:ext cx="8072280" cy="520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Найди и запиши реш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Прямоугольник 80"/>
          <p:cNvSpPr/>
          <p:nvPr/>
        </p:nvSpPr>
        <p:spPr>
          <a:xfrm>
            <a:off x="539640" y="630864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II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. Самостоятельная работа с самопроверкой по эталон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"/>
          <p:cNvSpPr/>
          <p:nvPr/>
        </p:nvSpPr>
        <p:spPr>
          <a:xfrm>
            <a:off x="6659640" y="6093000"/>
            <a:ext cx="576360" cy="576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"/>
          <p:cNvSpPr/>
          <p:nvPr/>
        </p:nvSpPr>
        <p:spPr>
          <a:xfrm>
            <a:off x="7380360" y="6093000"/>
            <a:ext cx="576360" cy="576000"/>
          </a:xfrm>
          <a:prstGeom prst="ellipse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Прямоугольник 1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1339920" cy="1103040"/>
          </a:xfrm>
          <a:prstGeom prst="rect">
            <a:avLst/>
          </a:prstGeom>
          <a:ln w="0">
            <a:noFill/>
          </a:ln>
        </p:spPr>
      </p:pic>
      <p:pic>
        <p:nvPicPr>
          <p:cNvPr id="1138" name="Прямоугольник 2" descr=""/>
          <p:cNvPicPr/>
          <p:nvPr/>
        </p:nvPicPr>
        <p:blipFill>
          <a:blip r:embed="rId3"/>
          <a:stretch/>
        </p:blipFill>
        <p:spPr>
          <a:xfrm>
            <a:off x="3492360" y="1341360"/>
            <a:ext cx="3017880" cy="1103400"/>
          </a:xfrm>
          <a:prstGeom prst="rect">
            <a:avLst/>
          </a:prstGeom>
          <a:ln w="0">
            <a:noFill/>
          </a:ln>
        </p:spPr>
      </p:pic>
      <p:pic>
        <p:nvPicPr>
          <p:cNvPr id="1139" name="Прямоугольник 3" descr=""/>
          <p:cNvPicPr/>
          <p:nvPr/>
        </p:nvPicPr>
        <p:blipFill>
          <a:blip r:embed="rId4"/>
          <a:stretch/>
        </p:blipFill>
        <p:spPr>
          <a:xfrm>
            <a:off x="3614760" y="28288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1140" name="Прямоугольник 4" descr=""/>
          <p:cNvPicPr/>
          <p:nvPr/>
        </p:nvPicPr>
        <p:blipFill>
          <a:blip r:embed="rId5"/>
          <a:stretch/>
        </p:blipFill>
        <p:spPr>
          <a:xfrm>
            <a:off x="3743280" y="4400640"/>
            <a:ext cx="2968560" cy="1098360"/>
          </a:xfrm>
          <a:prstGeom prst="rect">
            <a:avLst/>
          </a:prstGeom>
          <a:ln w="0">
            <a:noFill/>
          </a:ln>
        </p:spPr>
      </p:pic>
      <p:cxnSp>
        <p:nvCxnSpPr>
          <p:cNvPr id="1141" name="Прямая со стрелкой 6"/>
          <p:cNvCxnSpPr/>
          <p:nvPr/>
        </p:nvCxnSpPr>
        <p:spPr>
          <a:xfrm flipV="1">
            <a:off x="2484000" y="1844280"/>
            <a:ext cx="1229400" cy="16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2" name="Прямая со стрелкой 7"/>
          <p:cNvCxnSpPr>
            <a:stCxn id="1137" idx="3"/>
          </p:cNvCxnSpPr>
          <p:nvPr/>
        </p:nvCxnSpPr>
        <p:spPr>
          <a:xfrm>
            <a:off x="2455560" y="3476160"/>
            <a:ext cx="13006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3" name="Прямая со стрелкой 12"/>
          <p:cNvCxnSpPr>
            <a:stCxn id="1137" idx="3"/>
          </p:cNvCxnSpPr>
          <p:nvPr/>
        </p:nvCxnSpPr>
        <p:spPr>
          <a:xfrm>
            <a:off x="2455920" y="3476160"/>
            <a:ext cx="1443600" cy="15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4" name=""/>
          <p:cNvSpPr/>
          <p:nvPr/>
        </p:nvSpPr>
        <p:spPr>
          <a:xfrm>
            <a:off x="539640" y="6308640"/>
            <a:ext cx="6769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VIII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Рефлексия учебной деятельности на урок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"/>
          <p:cNvSpPr/>
          <p:nvPr/>
        </p:nvSpPr>
        <p:spPr>
          <a:xfrm>
            <a:off x="1258920" y="476280"/>
            <a:ext cx="6842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alibri"/>
              </a:rPr>
              <a:t>Расскажите по схеме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Оцените свою деятельность на уроке, используя один из кружочков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"/>
          <p:cNvSpPr/>
          <p:nvPr/>
        </p:nvSpPr>
        <p:spPr>
          <a:xfrm>
            <a:off x="684360" y="2565360"/>
            <a:ext cx="2133360" cy="2057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"/>
          <p:cNvSpPr/>
          <p:nvPr/>
        </p:nvSpPr>
        <p:spPr>
          <a:xfrm>
            <a:off x="3564000" y="2565360"/>
            <a:ext cx="2133360" cy="1981080"/>
          </a:xfrm>
          <a:prstGeom prst="smileyFace">
            <a:avLst>
              <a:gd name="adj" fmla="val -4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"/>
          <p:cNvSpPr/>
          <p:nvPr/>
        </p:nvSpPr>
        <p:spPr>
          <a:xfrm>
            <a:off x="6443640" y="2492280"/>
            <a:ext cx="2133720" cy="198144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"/>
          <p:cNvSpPr/>
          <p:nvPr/>
        </p:nvSpPr>
        <p:spPr>
          <a:xfrm>
            <a:off x="6877080" y="5950080"/>
            <a:ext cx="576360" cy="576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"/>
          <p:cNvSpPr/>
          <p:nvPr/>
        </p:nvSpPr>
        <p:spPr>
          <a:xfrm>
            <a:off x="7596360" y="5950080"/>
            <a:ext cx="576000" cy="576000"/>
          </a:xfrm>
          <a:prstGeom prst="ellipse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"/>
          <p:cNvSpPr/>
          <p:nvPr/>
        </p:nvSpPr>
        <p:spPr>
          <a:xfrm>
            <a:off x="556920" y="5950080"/>
            <a:ext cx="5996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VIII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ефлексия учебной деятельности на урок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1680" y="1643040"/>
            <a:ext cx="8183520" cy="21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«Главное не знания, а умение ими пользоваться».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BB27-1DDB-42B6-B017-F280FC621705}" type="slidenum">
              <a:rPr b="0" lang="en-US" sz="1000" spc="-1" strike="noStrike">
                <a:solidFill>
                  <a:srgbClr val="a2a2a2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Прямоугольник 2"/>
          <p:cNvSpPr/>
          <p:nvPr/>
        </p:nvSpPr>
        <p:spPr>
          <a:xfrm>
            <a:off x="4214880" y="6143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мечал академик А.А. Леонтье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6" name="Picture 2" descr="D:\Картинки\clipart\Анимации\64.gif"/>
          <p:cNvPicPr/>
          <p:nvPr/>
        </p:nvPicPr>
        <p:blipFill>
          <a:blip r:embed="rId2"/>
          <a:stretch/>
        </p:blipFill>
        <p:spPr>
          <a:xfrm>
            <a:off x="3786120" y="4143240"/>
            <a:ext cx="1560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6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Rectangle 9"/>
          <p:cNvSpPr/>
          <p:nvPr/>
        </p:nvSpPr>
        <p:spPr>
          <a:xfrm>
            <a:off x="1785960" y="2133720"/>
            <a:ext cx="55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D2C-5803-4E6A-AA79-F48A1DD1F712}" type="slidenum">
              <a:rPr b="0" lang="en-US" sz="1000" spc="-1" strike="noStrike">
                <a:solidFill>
                  <a:srgbClr val="a2a2a2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0" name="Picture 6" descr="D:\Картинки\clipart\Анимации\i.jpg"/>
          <p:cNvPicPr/>
          <p:nvPr/>
        </p:nvPicPr>
        <p:blipFill>
          <a:blip r:embed="rId2"/>
          <a:stretch/>
        </p:blipFill>
        <p:spPr>
          <a:xfrm>
            <a:off x="3571920" y="4429080"/>
            <a:ext cx="21700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1817640" cy="2408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1619280" y="3860640"/>
            <a:ext cx="1111320" cy="1714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2627280" y="5013360"/>
            <a:ext cx="75420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900000" y="33336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Моя математика» 1 класс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611280" y="907920"/>
            <a:ext cx="82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«Задач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2133720"/>
            <a:ext cx="561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Цель урок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2637000"/>
            <a:ext cx="5905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формирова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едставление  о структуре задачи, умение различать условие задачи, вопрос; правильно оформлять решение задачи. Совершенствовать умение составлять схему к рисунку, составлять равенство, используя связь целого и час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560" y="620280"/>
            <a:ext cx="6158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       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Универсальные учебные действия,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формирующиеся на ур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ff3300"/>
                </a:solidFill>
                <a:latin typeface="Verdana"/>
              </a:rPr>
              <a:t>Личностные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способность к самооценке на основе критерия успешности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ff9933"/>
                </a:solidFill>
                <a:latin typeface="Verdana"/>
              </a:rPr>
              <a:t>Регулятивные 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умение определять и формулировать цель на уроке с помощью учителя; проговаривать последовательность действий на уроке; работать по  коллективно составленному плану; оценивать правильность выполнения действия на уровне адекватной ретроспективной оценки; планировать своё действие в соответствии с поставленной задачей; вносить необходимые коррективы в действие после его завершения на основе его оценки и учёта характера сделанных ошибок; высказывать своё предполо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12" descr="0685415"/>
          <p:cNvPicPr/>
          <p:nvPr/>
        </p:nvPicPr>
        <p:blipFill>
          <a:blip r:embed="rId2"/>
          <a:srcRect l="0" t="0" r="10308" b="0"/>
          <a:stretch/>
        </p:blipFill>
        <p:spPr>
          <a:xfrm>
            <a:off x="6588000" y="189000"/>
            <a:ext cx="2376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1844640"/>
            <a:ext cx="770400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Verdana"/>
              </a:rPr>
              <a:t>Коммуникативные 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мение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формлять свои мысли в устной форме;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лушать и понимать речь других; совместно договариваться о правилах поведения и общения в школ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Verdana"/>
              </a:rPr>
              <a:t>Познавательные 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умение ориентироваться в своей системе знаний: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тличать новое от уже известного с помощью учителя; добывать новые знания: находить ответы на вопросы, используя учебник, свой жизненный опыт и информацию, полученную на ур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12" descr="0685415"/>
          <p:cNvPicPr/>
          <p:nvPr/>
        </p:nvPicPr>
        <p:blipFill>
          <a:blip r:embed="rId2"/>
          <a:srcRect l="0" t="0" r="10308" b="0"/>
          <a:stretch/>
        </p:blipFill>
        <p:spPr>
          <a:xfrm>
            <a:off x="6877080" y="260280"/>
            <a:ext cx="20574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3789360"/>
            <a:ext cx="8351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«Друзья - ученье нас объединяет!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6156360" y="5589720"/>
            <a:ext cx="649080" cy="5760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734080"/>
            <a:ext cx="4967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. Мотивация к 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Картинка 47 из 12872"/>
          <p:cNvPicPr/>
          <p:nvPr/>
        </p:nvPicPr>
        <p:blipFill>
          <a:blip r:embed="rId2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76360" y="260280"/>
            <a:ext cx="60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Облако 188"/>
          <p:cNvSpPr/>
          <p:nvPr/>
        </p:nvSpPr>
        <p:spPr>
          <a:xfrm>
            <a:off x="500040" y="2286000"/>
            <a:ext cx="8001000" cy="1928880"/>
          </a:xfrm>
          <a:custGeom>
            <a:avLst/>
            <a:gdLst>
              <a:gd name="textAreaLeft" fmla="*/ 1102680 w 8001000"/>
              <a:gd name="textAreaRight" fmla="*/ 6329520 w 80010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11520">
            <a:solidFill>
              <a:srgbClr val="00b05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Группа 48"/>
          <p:cNvGrpSpPr/>
          <p:nvPr/>
        </p:nvGrpSpPr>
        <p:grpSpPr>
          <a:xfrm>
            <a:off x="4323600" y="2549160"/>
            <a:ext cx="1016280" cy="1094040"/>
            <a:chOff x="4323600" y="2549160"/>
            <a:chExt cx="1016280" cy="1094040"/>
          </a:xfrm>
        </p:grpSpPr>
        <p:sp>
          <p:nvSpPr>
            <p:cNvPr id="118" name="Полилиния 47"/>
            <p:cNvSpPr/>
            <p:nvPr/>
          </p:nvSpPr>
          <p:spPr>
            <a:xfrm>
              <a:off x="4700520" y="297936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9" name="Группа 46"/>
            <p:cNvGrpSpPr/>
            <p:nvPr/>
          </p:nvGrpSpPr>
          <p:grpSpPr>
            <a:xfrm>
              <a:off x="4323600" y="2549160"/>
              <a:ext cx="1016280" cy="861840"/>
              <a:chOff x="4323600" y="2549160"/>
              <a:chExt cx="1016280" cy="861840"/>
            </a:xfrm>
          </p:grpSpPr>
          <p:grpSp>
            <p:nvGrpSpPr>
              <p:cNvPr id="120" name="Группа 14"/>
              <p:cNvGrpSpPr/>
              <p:nvPr/>
            </p:nvGrpSpPr>
            <p:grpSpPr>
              <a:xfrm>
                <a:off x="4835880" y="2719800"/>
                <a:ext cx="345960" cy="317160"/>
                <a:chOff x="4835880" y="2719800"/>
                <a:chExt cx="345960" cy="317160"/>
              </a:xfrm>
            </p:grpSpPr>
            <p:sp>
              <p:nvSpPr>
                <p:cNvPr id="121" name="Полилиния 11"/>
                <p:cNvSpPr/>
                <p:nvPr/>
              </p:nvSpPr>
              <p:spPr>
                <a:xfrm>
                  <a:off x="4835880" y="27198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Полилиния 13"/>
                <p:cNvSpPr/>
                <p:nvPr/>
              </p:nvSpPr>
              <p:spPr>
                <a:xfrm>
                  <a:off x="4835880" y="279936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3" name="Группа 15"/>
              <p:cNvGrpSpPr/>
              <p:nvPr/>
            </p:nvGrpSpPr>
            <p:grpSpPr>
              <a:xfrm>
                <a:off x="4434480" y="2640960"/>
                <a:ext cx="468360" cy="331200"/>
                <a:chOff x="4434480" y="2640960"/>
                <a:chExt cx="468360" cy="331200"/>
              </a:xfrm>
            </p:grpSpPr>
            <p:sp>
              <p:nvSpPr>
                <p:cNvPr id="124" name="Полилиния 16"/>
                <p:cNvSpPr/>
                <p:nvPr/>
              </p:nvSpPr>
              <p:spPr>
                <a:xfrm rot="16842600">
                  <a:off x="4540680" y="259236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Полилиния 17"/>
                <p:cNvSpPr/>
                <p:nvPr/>
              </p:nvSpPr>
              <p:spPr>
                <a:xfrm rot="16842600">
                  <a:off x="4612680" y="273744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6" name="Группа 18"/>
              <p:cNvGrpSpPr/>
              <p:nvPr/>
            </p:nvGrpSpPr>
            <p:grpSpPr>
              <a:xfrm>
                <a:off x="4870800" y="2768400"/>
                <a:ext cx="469080" cy="468720"/>
                <a:chOff x="4870800" y="2768400"/>
                <a:chExt cx="469080" cy="468720"/>
              </a:xfrm>
            </p:grpSpPr>
            <p:sp>
              <p:nvSpPr>
                <p:cNvPr id="127" name="Полилиния 19"/>
                <p:cNvSpPr/>
                <p:nvPr/>
              </p:nvSpPr>
              <p:spPr>
                <a:xfrm rot="2695200">
                  <a:off x="4932000" y="28440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" name="Полилиния 20"/>
                <p:cNvSpPr/>
                <p:nvPr/>
              </p:nvSpPr>
              <p:spPr>
                <a:xfrm rot="2695200">
                  <a:off x="4942440" y="28620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9" name="Группа 24"/>
              <p:cNvGrpSpPr/>
              <p:nvPr/>
            </p:nvGrpSpPr>
            <p:grpSpPr>
              <a:xfrm>
                <a:off x="4789440" y="2976840"/>
                <a:ext cx="441720" cy="279000"/>
                <a:chOff x="4789440" y="2976840"/>
                <a:chExt cx="441720" cy="279000"/>
              </a:xfrm>
            </p:grpSpPr>
            <p:sp>
              <p:nvSpPr>
                <p:cNvPr id="130" name="Полилиния 25"/>
                <p:cNvSpPr/>
                <p:nvPr/>
              </p:nvSpPr>
              <p:spPr>
                <a:xfrm rot="5589000">
                  <a:off x="4881960" y="290196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Полилиния 26"/>
                <p:cNvSpPr/>
                <p:nvPr/>
              </p:nvSpPr>
              <p:spPr>
                <a:xfrm rot="5589000">
                  <a:off x="4919040" y="29250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2" name="Группа 27"/>
              <p:cNvGrpSpPr/>
              <p:nvPr/>
            </p:nvGrpSpPr>
            <p:grpSpPr>
              <a:xfrm>
                <a:off x="4620240" y="2941920"/>
                <a:ext cx="493920" cy="469080"/>
                <a:chOff x="4620240" y="2941920"/>
                <a:chExt cx="493920" cy="469080"/>
              </a:xfrm>
            </p:grpSpPr>
            <p:sp>
              <p:nvSpPr>
                <p:cNvPr id="133" name="Полилиния 28"/>
                <p:cNvSpPr/>
                <p:nvPr/>
              </p:nvSpPr>
              <p:spPr>
                <a:xfrm rot="7751400">
                  <a:off x="4739040" y="29620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Полилиния 29"/>
                <p:cNvSpPr/>
                <p:nvPr/>
              </p:nvSpPr>
              <p:spPr>
                <a:xfrm rot="7751400">
                  <a:off x="4815720" y="2983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5" name="Группа 33"/>
              <p:cNvGrpSpPr/>
              <p:nvPr/>
            </p:nvGrpSpPr>
            <p:grpSpPr>
              <a:xfrm>
                <a:off x="4323600" y="2705400"/>
                <a:ext cx="496440" cy="412560"/>
                <a:chOff x="4323600" y="2705400"/>
                <a:chExt cx="496440" cy="412560"/>
              </a:xfrm>
            </p:grpSpPr>
            <p:sp>
              <p:nvSpPr>
                <p:cNvPr id="136" name="Полилиния 34"/>
                <p:cNvSpPr/>
                <p:nvPr/>
              </p:nvSpPr>
              <p:spPr>
                <a:xfrm rot="14703600">
                  <a:off x="4443840" y="269712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Полилиния 35"/>
                <p:cNvSpPr/>
                <p:nvPr/>
              </p:nvSpPr>
              <p:spPr>
                <a:xfrm rot="14703600">
                  <a:off x="4549680" y="28227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8" name="Группа 36"/>
              <p:cNvGrpSpPr/>
              <p:nvPr/>
            </p:nvGrpSpPr>
            <p:grpSpPr>
              <a:xfrm>
                <a:off x="4376520" y="2815200"/>
                <a:ext cx="449640" cy="436320"/>
                <a:chOff x="4376520" y="2815200"/>
                <a:chExt cx="449640" cy="436320"/>
              </a:xfrm>
            </p:grpSpPr>
            <p:sp>
              <p:nvSpPr>
                <p:cNvPr id="139" name="Полилиния 37"/>
                <p:cNvSpPr/>
                <p:nvPr/>
              </p:nvSpPr>
              <p:spPr>
                <a:xfrm rot="12352200">
                  <a:off x="4428360" y="28746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Полилиния 38"/>
                <p:cNvSpPr/>
                <p:nvPr/>
              </p:nvSpPr>
              <p:spPr>
                <a:xfrm rot="12352200">
                  <a:off x="4587120" y="29538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1" name="Группа 39"/>
              <p:cNvGrpSpPr/>
              <p:nvPr/>
            </p:nvGrpSpPr>
            <p:grpSpPr>
              <a:xfrm>
                <a:off x="4500000" y="2973240"/>
                <a:ext cx="368280" cy="342000"/>
                <a:chOff x="4500000" y="2973240"/>
                <a:chExt cx="368280" cy="342000"/>
              </a:xfrm>
            </p:grpSpPr>
            <p:sp>
              <p:nvSpPr>
                <p:cNvPr id="142" name="Полилиния 40"/>
                <p:cNvSpPr/>
                <p:nvPr/>
              </p:nvSpPr>
              <p:spPr>
                <a:xfrm rot="10547400">
                  <a:off x="4510800" y="298548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Полилиния 41"/>
                <p:cNvSpPr/>
                <p:nvPr/>
              </p:nvSpPr>
              <p:spPr>
                <a:xfrm rot="10547400">
                  <a:off x="4668120" y="30222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4" name="Группа 42"/>
              <p:cNvGrpSpPr/>
              <p:nvPr/>
            </p:nvGrpSpPr>
            <p:grpSpPr>
              <a:xfrm>
                <a:off x="4626720" y="2549160"/>
                <a:ext cx="468360" cy="463320"/>
                <a:chOff x="4626720" y="2549160"/>
                <a:chExt cx="468360" cy="463320"/>
              </a:xfrm>
            </p:grpSpPr>
            <p:sp>
              <p:nvSpPr>
                <p:cNvPr id="145" name="Полилиния 43"/>
                <p:cNvSpPr/>
                <p:nvPr/>
              </p:nvSpPr>
              <p:spPr>
                <a:xfrm rot="19290000">
                  <a:off x="4687560" y="262224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Полилиния 44"/>
                <p:cNvSpPr/>
                <p:nvPr/>
              </p:nvSpPr>
              <p:spPr>
                <a:xfrm rot="19290000">
                  <a:off x="4716360" y="274716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Блок-схема: узел 45"/>
              <p:cNvSpPr/>
              <p:nvPr/>
            </p:nvSpPr>
            <p:spPr>
              <a:xfrm>
                <a:off x="4783680" y="290592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8" name="Группа 49"/>
          <p:cNvGrpSpPr/>
          <p:nvPr/>
        </p:nvGrpSpPr>
        <p:grpSpPr>
          <a:xfrm>
            <a:off x="3180600" y="1549080"/>
            <a:ext cx="1016280" cy="1094040"/>
            <a:chOff x="3180600" y="1549080"/>
            <a:chExt cx="1016280" cy="1094040"/>
          </a:xfrm>
        </p:grpSpPr>
        <p:sp>
          <p:nvSpPr>
            <p:cNvPr id="149" name="Полилиния 50"/>
            <p:cNvSpPr/>
            <p:nvPr/>
          </p:nvSpPr>
          <p:spPr>
            <a:xfrm>
              <a:off x="3557520" y="197928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Группа 46"/>
            <p:cNvGrpSpPr/>
            <p:nvPr/>
          </p:nvGrpSpPr>
          <p:grpSpPr>
            <a:xfrm>
              <a:off x="3180600" y="1549080"/>
              <a:ext cx="1016280" cy="861840"/>
              <a:chOff x="3180600" y="1549080"/>
              <a:chExt cx="1016280" cy="861840"/>
            </a:xfrm>
          </p:grpSpPr>
          <p:grpSp>
            <p:nvGrpSpPr>
              <p:cNvPr id="151" name="Группа 14"/>
              <p:cNvGrpSpPr/>
              <p:nvPr/>
            </p:nvGrpSpPr>
            <p:grpSpPr>
              <a:xfrm>
                <a:off x="3692880" y="1719720"/>
                <a:ext cx="345960" cy="317160"/>
                <a:chOff x="3692880" y="1719720"/>
                <a:chExt cx="345960" cy="317160"/>
              </a:xfrm>
            </p:grpSpPr>
            <p:sp>
              <p:nvSpPr>
                <p:cNvPr id="152" name="Полилиния 11"/>
                <p:cNvSpPr/>
                <p:nvPr/>
              </p:nvSpPr>
              <p:spPr>
                <a:xfrm>
                  <a:off x="3692880" y="1719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Полилиния 79"/>
                <p:cNvSpPr/>
                <p:nvPr/>
              </p:nvSpPr>
              <p:spPr>
                <a:xfrm>
                  <a:off x="3692880" y="1799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4" name="Группа 15"/>
              <p:cNvGrpSpPr/>
              <p:nvPr/>
            </p:nvGrpSpPr>
            <p:grpSpPr>
              <a:xfrm>
                <a:off x="3291480" y="1640880"/>
                <a:ext cx="468360" cy="331200"/>
                <a:chOff x="3291480" y="1640880"/>
                <a:chExt cx="468360" cy="331200"/>
              </a:xfrm>
            </p:grpSpPr>
            <p:sp>
              <p:nvSpPr>
                <p:cNvPr id="155" name="Полилиния 76"/>
                <p:cNvSpPr/>
                <p:nvPr/>
              </p:nvSpPr>
              <p:spPr>
                <a:xfrm rot="16842600">
                  <a:off x="3397680" y="15922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" name="Полилиния 77"/>
                <p:cNvSpPr/>
                <p:nvPr/>
              </p:nvSpPr>
              <p:spPr>
                <a:xfrm rot="16842600">
                  <a:off x="3469680" y="17373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7" name="Группа 18"/>
              <p:cNvGrpSpPr/>
              <p:nvPr/>
            </p:nvGrpSpPr>
            <p:grpSpPr>
              <a:xfrm>
                <a:off x="3727800" y="1768320"/>
                <a:ext cx="469080" cy="468720"/>
                <a:chOff x="3727800" y="1768320"/>
                <a:chExt cx="469080" cy="468720"/>
              </a:xfrm>
            </p:grpSpPr>
            <p:sp>
              <p:nvSpPr>
                <p:cNvPr id="158" name="Полилиния 74"/>
                <p:cNvSpPr/>
                <p:nvPr/>
              </p:nvSpPr>
              <p:spPr>
                <a:xfrm rot="2695200">
                  <a:off x="3789000" y="18439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" name="Полилиния 75"/>
                <p:cNvSpPr/>
                <p:nvPr/>
              </p:nvSpPr>
              <p:spPr>
                <a:xfrm rot="2695200">
                  <a:off x="3799440" y="1861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0" name="Группа 24"/>
              <p:cNvGrpSpPr/>
              <p:nvPr/>
            </p:nvGrpSpPr>
            <p:grpSpPr>
              <a:xfrm>
                <a:off x="3646440" y="1976760"/>
                <a:ext cx="441720" cy="279000"/>
                <a:chOff x="3646440" y="1976760"/>
                <a:chExt cx="441720" cy="279000"/>
              </a:xfrm>
            </p:grpSpPr>
            <p:sp>
              <p:nvSpPr>
                <p:cNvPr id="161" name="Полилиния 72"/>
                <p:cNvSpPr/>
                <p:nvPr/>
              </p:nvSpPr>
              <p:spPr>
                <a:xfrm rot="5589000">
                  <a:off x="3738960" y="19018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" name="Полилиния 73"/>
                <p:cNvSpPr/>
                <p:nvPr/>
              </p:nvSpPr>
              <p:spPr>
                <a:xfrm rot="5589000">
                  <a:off x="3776040" y="19249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3" name="Группа 27"/>
              <p:cNvGrpSpPr/>
              <p:nvPr/>
            </p:nvGrpSpPr>
            <p:grpSpPr>
              <a:xfrm>
                <a:off x="3477240" y="1941840"/>
                <a:ext cx="493920" cy="469080"/>
                <a:chOff x="3477240" y="1941840"/>
                <a:chExt cx="493920" cy="469080"/>
              </a:xfrm>
            </p:grpSpPr>
            <p:sp>
              <p:nvSpPr>
                <p:cNvPr id="164" name="Полилиния 70"/>
                <p:cNvSpPr/>
                <p:nvPr/>
              </p:nvSpPr>
              <p:spPr>
                <a:xfrm rot="7751400">
                  <a:off x="3596040" y="196200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" name="Полилиния 71"/>
                <p:cNvSpPr/>
                <p:nvPr/>
              </p:nvSpPr>
              <p:spPr>
                <a:xfrm rot="7751400">
                  <a:off x="3672720" y="1983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6" name="Группа 33"/>
              <p:cNvGrpSpPr/>
              <p:nvPr/>
            </p:nvGrpSpPr>
            <p:grpSpPr>
              <a:xfrm>
                <a:off x="3180600" y="1705320"/>
                <a:ext cx="496440" cy="412560"/>
                <a:chOff x="3180600" y="1705320"/>
                <a:chExt cx="496440" cy="412560"/>
              </a:xfrm>
            </p:grpSpPr>
            <p:sp>
              <p:nvSpPr>
                <p:cNvPr id="167" name="Полилиния 68"/>
                <p:cNvSpPr/>
                <p:nvPr/>
              </p:nvSpPr>
              <p:spPr>
                <a:xfrm rot="14703600">
                  <a:off x="3300840" y="169704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8" name="Полилиния 69"/>
                <p:cNvSpPr/>
                <p:nvPr/>
              </p:nvSpPr>
              <p:spPr>
                <a:xfrm rot="14703600">
                  <a:off x="3406680" y="1822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9" name="Группа 36"/>
              <p:cNvGrpSpPr/>
              <p:nvPr/>
            </p:nvGrpSpPr>
            <p:grpSpPr>
              <a:xfrm>
                <a:off x="3233520" y="1815120"/>
                <a:ext cx="449640" cy="436320"/>
                <a:chOff x="3233520" y="1815120"/>
                <a:chExt cx="449640" cy="436320"/>
              </a:xfrm>
            </p:grpSpPr>
            <p:sp>
              <p:nvSpPr>
                <p:cNvPr id="170" name="Полилиния 66"/>
                <p:cNvSpPr/>
                <p:nvPr/>
              </p:nvSpPr>
              <p:spPr>
                <a:xfrm rot="12352200">
                  <a:off x="3285360" y="18745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" name="Полилиния 67"/>
                <p:cNvSpPr/>
                <p:nvPr/>
              </p:nvSpPr>
              <p:spPr>
                <a:xfrm rot="12352200">
                  <a:off x="3444120" y="19537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2" name="Группа 39"/>
              <p:cNvGrpSpPr/>
              <p:nvPr/>
            </p:nvGrpSpPr>
            <p:grpSpPr>
              <a:xfrm>
                <a:off x="3357000" y="1973160"/>
                <a:ext cx="368280" cy="342000"/>
                <a:chOff x="3357000" y="1973160"/>
                <a:chExt cx="368280" cy="342000"/>
              </a:xfrm>
            </p:grpSpPr>
            <p:sp>
              <p:nvSpPr>
                <p:cNvPr id="173" name="Полилиния 64"/>
                <p:cNvSpPr/>
                <p:nvPr/>
              </p:nvSpPr>
              <p:spPr>
                <a:xfrm rot="10547400">
                  <a:off x="3367800" y="19854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" name="Полилиния 65"/>
                <p:cNvSpPr/>
                <p:nvPr/>
              </p:nvSpPr>
              <p:spPr>
                <a:xfrm rot="10547400">
                  <a:off x="3525120" y="2022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5" name="Группа 42"/>
              <p:cNvGrpSpPr/>
              <p:nvPr/>
            </p:nvGrpSpPr>
            <p:grpSpPr>
              <a:xfrm>
                <a:off x="3483720" y="1549080"/>
                <a:ext cx="468360" cy="463320"/>
                <a:chOff x="3483720" y="1549080"/>
                <a:chExt cx="468360" cy="463320"/>
              </a:xfrm>
            </p:grpSpPr>
            <p:sp>
              <p:nvSpPr>
                <p:cNvPr id="176" name="Полилиния 62"/>
                <p:cNvSpPr/>
                <p:nvPr/>
              </p:nvSpPr>
              <p:spPr>
                <a:xfrm rot="19290000">
                  <a:off x="3544560" y="16221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Полилиния 63"/>
                <p:cNvSpPr/>
                <p:nvPr/>
              </p:nvSpPr>
              <p:spPr>
                <a:xfrm rot="19290000">
                  <a:off x="3573360" y="17470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8" name="Блок-схема: узел 61"/>
              <p:cNvSpPr/>
              <p:nvPr/>
            </p:nvSpPr>
            <p:spPr>
              <a:xfrm>
                <a:off x="3640680" y="190584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79" name="Группа 80"/>
          <p:cNvGrpSpPr/>
          <p:nvPr/>
        </p:nvGrpSpPr>
        <p:grpSpPr>
          <a:xfrm>
            <a:off x="5466960" y="1763280"/>
            <a:ext cx="1015920" cy="1094400"/>
            <a:chOff x="5466960" y="1763280"/>
            <a:chExt cx="1015920" cy="1094400"/>
          </a:xfrm>
        </p:grpSpPr>
        <p:sp>
          <p:nvSpPr>
            <p:cNvPr id="180" name="Полилиния 81"/>
            <p:cNvSpPr/>
            <p:nvPr/>
          </p:nvSpPr>
          <p:spPr>
            <a:xfrm>
              <a:off x="5843520" y="219384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1" name="Группа 46"/>
            <p:cNvGrpSpPr/>
            <p:nvPr/>
          </p:nvGrpSpPr>
          <p:grpSpPr>
            <a:xfrm>
              <a:off x="5466960" y="1763280"/>
              <a:ext cx="1015920" cy="862200"/>
              <a:chOff x="5466960" y="1763280"/>
              <a:chExt cx="1015920" cy="862200"/>
            </a:xfrm>
          </p:grpSpPr>
          <p:grpSp>
            <p:nvGrpSpPr>
              <p:cNvPr id="182" name="Группа 14"/>
              <p:cNvGrpSpPr/>
              <p:nvPr/>
            </p:nvGrpSpPr>
            <p:grpSpPr>
              <a:xfrm>
                <a:off x="5978880" y="1934280"/>
                <a:ext cx="345960" cy="317160"/>
                <a:chOff x="5978880" y="1934280"/>
                <a:chExt cx="345960" cy="317160"/>
              </a:xfrm>
            </p:grpSpPr>
            <p:sp>
              <p:nvSpPr>
                <p:cNvPr id="183" name="Полилиния 11"/>
                <p:cNvSpPr/>
                <p:nvPr/>
              </p:nvSpPr>
              <p:spPr>
                <a:xfrm>
                  <a:off x="5978880" y="193428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Полилиния 110"/>
                <p:cNvSpPr/>
                <p:nvPr/>
              </p:nvSpPr>
              <p:spPr>
                <a:xfrm>
                  <a:off x="5978880" y="201384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5" name="Группа 15"/>
              <p:cNvGrpSpPr/>
              <p:nvPr/>
            </p:nvGrpSpPr>
            <p:grpSpPr>
              <a:xfrm>
                <a:off x="5577480" y="1855440"/>
                <a:ext cx="468720" cy="331560"/>
                <a:chOff x="5577480" y="1855440"/>
                <a:chExt cx="468720" cy="331560"/>
              </a:xfrm>
            </p:grpSpPr>
            <p:sp>
              <p:nvSpPr>
                <p:cNvPr id="186" name="Полилиния 107"/>
                <p:cNvSpPr/>
                <p:nvPr/>
              </p:nvSpPr>
              <p:spPr>
                <a:xfrm rot="16842600">
                  <a:off x="5683320" y="180684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7" name="Полилиния 108"/>
                <p:cNvSpPr/>
                <p:nvPr/>
              </p:nvSpPr>
              <p:spPr>
                <a:xfrm rot="16842600">
                  <a:off x="5755680" y="19522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8" name="Группа 18"/>
              <p:cNvGrpSpPr/>
              <p:nvPr/>
            </p:nvGrpSpPr>
            <p:grpSpPr>
              <a:xfrm>
                <a:off x="6013800" y="1982520"/>
                <a:ext cx="469080" cy="468720"/>
                <a:chOff x="6013800" y="1982520"/>
                <a:chExt cx="469080" cy="468720"/>
              </a:xfrm>
            </p:grpSpPr>
            <p:sp>
              <p:nvSpPr>
                <p:cNvPr id="189" name="Полилиния 105"/>
                <p:cNvSpPr/>
                <p:nvPr/>
              </p:nvSpPr>
              <p:spPr>
                <a:xfrm rot="2695200">
                  <a:off x="6075000" y="20581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" name="Полилиния 106"/>
                <p:cNvSpPr/>
                <p:nvPr/>
              </p:nvSpPr>
              <p:spPr>
                <a:xfrm rot="2695200">
                  <a:off x="6085440" y="2076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1" name="Группа 24"/>
              <p:cNvGrpSpPr/>
              <p:nvPr/>
            </p:nvGrpSpPr>
            <p:grpSpPr>
              <a:xfrm>
                <a:off x="5932440" y="2190960"/>
                <a:ext cx="441720" cy="279360"/>
                <a:chOff x="5932440" y="2190960"/>
                <a:chExt cx="441720" cy="279360"/>
              </a:xfrm>
            </p:grpSpPr>
            <p:sp>
              <p:nvSpPr>
                <p:cNvPr id="192" name="Полилиния 103"/>
                <p:cNvSpPr/>
                <p:nvPr/>
              </p:nvSpPr>
              <p:spPr>
                <a:xfrm rot="5589000">
                  <a:off x="6024960" y="211608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3" name="Полилиния 104"/>
                <p:cNvSpPr/>
                <p:nvPr/>
              </p:nvSpPr>
              <p:spPr>
                <a:xfrm rot="5589000">
                  <a:off x="6062040" y="21391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4" name="Группа 27"/>
              <p:cNvGrpSpPr/>
              <p:nvPr/>
            </p:nvGrpSpPr>
            <p:grpSpPr>
              <a:xfrm>
                <a:off x="5763600" y="2156040"/>
                <a:ext cx="493920" cy="469440"/>
                <a:chOff x="5763600" y="2156040"/>
                <a:chExt cx="493920" cy="469440"/>
              </a:xfrm>
            </p:grpSpPr>
            <p:sp>
              <p:nvSpPr>
                <p:cNvPr id="195" name="Полилиния 101"/>
                <p:cNvSpPr/>
                <p:nvPr/>
              </p:nvSpPr>
              <p:spPr>
                <a:xfrm rot="7751400">
                  <a:off x="5882040" y="217620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6" name="Полилиния 102"/>
                <p:cNvSpPr/>
                <p:nvPr/>
              </p:nvSpPr>
              <p:spPr>
                <a:xfrm rot="7751400">
                  <a:off x="5958720" y="21978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7" name="Группа 33"/>
              <p:cNvGrpSpPr/>
              <p:nvPr/>
            </p:nvGrpSpPr>
            <p:grpSpPr>
              <a:xfrm>
                <a:off x="5466960" y="1919880"/>
                <a:ext cx="496440" cy="412920"/>
                <a:chOff x="5466960" y="1919880"/>
                <a:chExt cx="496440" cy="412920"/>
              </a:xfrm>
            </p:grpSpPr>
            <p:sp>
              <p:nvSpPr>
                <p:cNvPr id="198" name="Полилиния 99"/>
                <p:cNvSpPr/>
                <p:nvPr/>
              </p:nvSpPr>
              <p:spPr>
                <a:xfrm rot="14703600">
                  <a:off x="5586840" y="191196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" name="Полилиния 100"/>
                <p:cNvSpPr/>
                <p:nvPr/>
              </p:nvSpPr>
              <p:spPr>
                <a:xfrm rot="14703600">
                  <a:off x="5693040" y="2037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0" name="Группа 36"/>
              <p:cNvGrpSpPr/>
              <p:nvPr/>
            </p:nvGrpSpPr>
            <p:grpSpPr>
              <a:xfrm>
                <a:off x="5519520" y="2029320"/>
                <a:ext cx="449640" cy="436320"/>
                <a:chOff x="5519520" y="2029320"/>
                <a:chExt cx="449640" cy="436320"/>
              </a:xfrm>
            </p:grpSpPr>
            <p:sp>
              <p:nvSpPr>
                <p:cNvPr id="201" name="Полилиния 97"/>
                <p:cNvSpPr/>
                <p:nvPr/>
              </p:nvSpPr>
              <p:spPr>
                <a:xfrm rot="12352200">
                  <a:off x="5571360" y="2088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2" name="Полилиния 98"/>
                <p:cNvSpPr/>
                <p:nvPr/>
              </p:nvSpPr>
              <p:spPr>
                <a:xfrm rot="12352200">
                  <a:off x="5730120" y="2167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3" name="Группа 39"/>
              <p:cNvGrpSpPr/>
              <p:nvPr/>
            </p:nvGrpSpPr>
            <p:grpSpPr>
              <a:xfrm>
                <a:off x="5643000" y="2187720"/>
                <a:ext cx="368280" cy="342000"/>
                <a:chOff x="5643000" y="2187720"/>
                <a:chExt cx="368280" cy="342000"/>
              </a:xfrm>
            </p:grpSpPr>
            <p:sp>
              <p:nvSpPr>
                <p:cNvPr id="204" name="Полилиния 95"/>
                <p:cNvSpPr/>
                <p:nvPr/>
              </p:nvSpPr>
              <p:spPr>
                <a:xfrm rot="10547400">
                  <a:off x="5653800" y="21999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" name="Полилиния 96"/>
                <p:cNvSpPr/>
                <p:nvPr/>
              </p:nvSpPr>
              <p:spPr>
                <a:xfrm rot="10547400">
                  <a:off x="5811120" y="22366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6" name="Группа 42"/>
              <p:cNvGrpSpPr/>
              <p:nvPr/>
            </p:nvGrpSpPr>
            <p:grpSpPr>
              <a:xfrm>
                <a:off x="5769720" y="1763280"/>
                <a:ext cx="468360" cy="463320"/>
                <a:chOff x="5769720" y="1763280"/>
                <a:chExt cx="468360" cy="463320"/>
              </a:xfrm>
            </p:grpSpPr>
            <p:sp>
              <p:nvSpPr>
                <p:cNvPr id="207" name="Полилиния 93"/>
                <p:cNvSpPr/>
                <p:nvPr/>
              </p:nvSpPr>
              <p:spPr>
                <a:xfrm rot="19290000">
                  <a:off x="5830560" y="18363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" name="Полилиния 94"/>
                <p:cNvSpPr/>
                <p:nvPr/>
              </p:nvSpPr>
              <p:spPr>
                <a:xfrm rot="19290000">
                  <a:off x="5859360" y="1961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9" name="Блок-схема: узел 92"/>
              <p:cNvSpPr/>
              <p:nvPr/>
            </p:nvSpPr>
            <p:spPr>
              <a:xfrm>
                <a:off x="5926680" y="212040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10" name="Группа 111"/>
          <p:cNvGrpSpPr/>
          <p:nvPr/>
        </p:nvGrpSpPr>
        <p:grpSpPr>
          <a:xfrm>
            <a:off x="6609600" y="2692080"/>
            <a:ext cx="1016280" cy="1094040"/>
            <a:chOff x="6609600" y="2692080"/>
            <a:chExt cx="1016280" cy="1094040"/>
          </a:xfrm>
        </p:grpSpPr>
        <p:sp>
          <p:nvSpPr>
            <p:cNvPr id="211" name="Полилиния 112"/>
            <p:cNvSpPr/>
            <p:nvPr/>
          </p:nvSpPr>
          <p:spPr>
            <a:xfrm>
              <a:off x="6986520" y="312228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2" name="Группа 46"/>
            <p:cNvGrpSpPr/>
            <p:nvPr/>
          </p:nvGrpSpPr>
          <p:grpSpPr>
            <a:xfrm>
              <a:off x="6609600" y="2692080"/>
              <a:ext cx="1016280" cy="861840"/>
              <a:chOff x="6609600" y="2692080"/>
              <a:chExt cx="1016280" cy="861840"/>
            </a:xfrm>
          </p:grpSpPr>
          <p:grpSp>
            <p:nvGrpSpPr>
              <p:cNvPr id="213" name="Группа 14"/>
              <p:cNvGrpSpPr/>
              <p:nvPr/>
            </p:nvGrpSpPr>
            <p:grpSpPr>
              <a:xfrm>
                <a:off x="7121880" y="2862720"/>
                <a:ext cx="345960" cy="317160"/>
                <a:chOff x="7121880" y="2862720"/>
                <a:chExt cx="345960" cy="317160"/>
              </a:xfrm>
            </p:grpSpPr>
            <p:sp>
              <p:nvSpPr>
                <p:cNvPr id="214" name="Полилиния 11"/>
                <p:cNvSpPr/>
                <p:nvPr/>
              </p:nvSpPr>
              <p:spPr>
                <a:xfrm>
                  <a:off x="7121880" y="2862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" name="Полилиния 141"/>
                <p:cNvSpPr/>
                <p:nvPr/>
              </p:nvSpPr>
              <p:spPr>
                <a:xfrm>
                  <a:off x="7121880" y="2942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6" name="Группа 15"/>
              <p:cNvGrpSpPr/>
              <p:nvPr/>
            </p:nvGrpSpPr>
            <p:grpSpPr>
              <a:xfrm>
                <a:off x="6720480" y="2783880"/>
                <a:ext cx="468360" cy="331200"/>
                <a:chOff x="6720480" y="2783880"/>
                <a:chExt cx="468360" cy="331200"/>
              </a:xfrm>
            </p:grpSpPr>
            <p:sp>
              <p:nvSpPr>
                <p:cNvPr id="217" name="Полилиния 138"/>
                <p:cNvSpPr/>
                <p:nvPr/>
              </p:nvSpPr>
              <p:spPr>
                <a:xfrm rot="16842600">
                  <a:off x="6826680" y="27352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8" name="Полилиния 139"/>
                <p:cNvSpPr/>
                <p:nvPr/>
              </p:nvSpPr>
              <p:spPr>
                <a:xfrm rot="16842600">
                  <a:off x="6898680" y="28803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9" name="Группа 18"/>
              <p:cNvGrpSpPr/>
              <p:nvPr/>
            </p:nvGrpSpPr>
            <p:grpSpPr>
              <a:xfrm>
                <a:off x="7156800" y="2911320"/>
                <a:ext cx="469080" cy="468720"/>
                <a:chOff x="7156800" y="2911320"/>
                <a:chExt cx="469080" cy="468720"/>
              </a:xfrm>
            </p:grpSpPr>
            <p:sp>
              <p:nvSpPr>
                <p:cNvPr id="220" name="Полилиния 136"/>
                <p:cNvSpPr/>
                <p:nvPr/>
              </p:nvSpPr>
              <p:spPr>
                <a:xfrm rot="2695200">
                  <a:off x="7218000" y="29869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Полилиния 137"/>
                <p:cNvSpPr/>
                <p:nvPr/>
              </p:nvSpPr>
              <p:spPr>
                <a:xfrm rot="2695200">
                  <a:off x="7228440" y="3004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Группа 24"/>
              <p:cNvGrpSpPr/>
              <p:nvPr/>
            </p:nvGrpSpPr>
            <p:grpSpPr>
              <a:xfrm>
                <a:off x="7075440" y="3119760"/>
                <a:ext cx="441720" cy="279000"/>
                <a:chOff x="7075440" y="3119760"/>
                <a:chExt cx="441720" cy="279000"/>
              </a:xfrm>
            </p:grpSpPr>
            <p:sp>
              <p:nvSpPr>
                <p:cNvPr id="223" name="Полилиния 134"/>
                <p:cNvSpPr/>
                <p:nvPr/>
              </p:nvSpPr>
              <p:spPr>
                <a:xfrm rot="5589000">
                  <a:off x="7167960" y="30448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4" name="Полилиния 135"/>
                <p:cNvSpPr/>
                <p:nvPr/>
              </p:nvSpPr>
              <p:spPr>
                <a:xfrm rot="5589000">
                  <a:off x="7205040" y="30679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Группа 27"/>
              <p:cNvGrpSpPr/>
              <p:nvPr/>
            </p:nvGrpSpPr>
            <p:grpSpPr>
              <a:xfrm>
                <a:off x="6906240" y="3084840"/>
                <a:ext cx="493920" cy="469080"/>
                <a:chOff x="6906240" y="3084840"/>
                <a:chExt cx="493920" cy="469080"/>
              </a:xfrm>
            </p:grpSpPr>
            <p:sp>
              <p:nvSpPr>
                <p:cNvPr id="226" name="Полилиния 132"/>
                <p:cNvSpPr/>
                <p:nvPr/>
              </p:nvSpPr>
              <p:spPr>
                <a:xfrm rot="7751400">
                  <a:off x="7025040" y="310500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7" name="Полилиния 133"/>
                <p:cNvSpPr/>
                <p:nvPr/>
              </p:nvSpPr>
              <p:spPr>
                <a:xfrm rot="7751400">
                  <a:off x="7101720" y="3126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8" name="Группа 33"/>
              <p:cNvGrpSpPr/>
              <p:nvPr/>
            </p:nvGrpSpPr>
            <p:grpSpPr>
              <a:xfrm>
                <a:off x="6609600" y="2848320"/>
                <a:ext cx="496440" cy="412560"/>
                <a:chOff x="6609600" y="2848320"/>
                <a:chExt cx="496440" cy="412560"/>
              </a:xfrm>
            </p:grpSpPr>
            <p:sp>
              <p:nvSpPr>
                <p:cNvPr id="229" name="Полилиния 130"/>
                <p:cNvSpPr/>
                <p:nvPr/>
              </p:nvSpPr>
              <p:spPr>
                <a:xfrm rot="14703600">
                  <a:off x="6729840" y="284004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0" name="Полилиния 131"/>
                <p:cNvSpPr/>
                <p:nvPr/>
              </p:nvSpPr>
              <p:spPr>
                <a:xfrm rot="14703600">
                  <a:off x="6835680" y="2965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31" name="Группа 36"/>
              <p:cNvGrpSpPr/>
              <p:nvPr/>
            </p:nvGrpSpPr>
            <p:grpSpPr>
              <a:xfrm>
                <a:off x="6662520" y="2958120"/>
                <a:ext cx="449640" cy="436320"/>
                <a:chOff x="6662520" y="2958120"/>
                <a:chExt cx="449640" cy="436320"/>
              </a:xfrm>
            </p:grpSpPr>
            <p:sp>
              <p:nvSpPr>
                <p:cNvPr id="232" name="Полилиния 128"/>
                <p:cNvSpPr/>
                <p:nvPr/>
              </p:nvSpPr>
              <p:spPr>
                <a:xfrm rot="12352200">
                  <a:off x="6714360" y="30175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3" name="Полилиния 129"/>
                <p:cNvSpPr/>
                <p:nvPr/>
              </p:nvSpPr>
              <p:spPr>
                <a:xfrm rot="12352200">
                  <a:off x="6873120" y="30967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34" name="Группа 39"/>
              <p:cNvGrpSpPr/>
              <p:nvPr/>
            </p:nvGrpSpPr>
            <p:grpSpPr>
              <a:xfrm>
                <a:off x="6786000" y="3116160"/>
                <a:ext cx="368280" cy="342000"/>
                <a:chOff x="6786000" y="3116160"/>
                <a:chExt cx="368280" cy="342000"/>
              </a:xfrm>
            </p:grpSpPr>
            <p:sp>
              <p:nvSpPr>
                <p:cNvPr id="235" name="Полилиния 126"/>
                <p:cNvSpPr/>
                <p:nvPr/>
              </p:nvSpPr>
              <p:spPr>
                <a:xfrm rot="10547400">
                  <a:off x="6796800" y="31284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6" name="Полилиния 127"/>
                <p:cNvSpPr/>
                <p:nvPr/>
              </p:nvSpPr>
              <p:spPr>
                <a:xfrm rot="10547400">
                  <a:off x="6954120" y="3165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37" name="Группа 42"/>
              <p:cNvGrpSpPr/>
              <p:nvPr/>
            </p:nvGrpSpPr>
            <p:grpSpPr>
              <a:xfrm>
                <a:off x="6912720" y="2692080"/>
                <a:ext cx="468360" cy="463320"/>
                <a:chOff x="6912720" y="2692080"/>
                <a:chExt cx="468360" cy="463320"/>
              </a:xfrm>
            </p:grpSpPr>
            <p:sp>
              <p:nvSpPr>
                <p:cNvPr id="238" name="Полилиния 124"/>
                <p:cNvSpPr/>
                <p:nvPr/>
              </p:nvSpPr>
              <p:spPr>
                <a:xfrm rot="19290000">
                  <a:off x="6973560" y="27651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9" name="Полилиния 125"/>
                <p:cNvSpPr/>
                <p:nvPr/>
              </p:nvSpPr>
              <p:spPr>
                <a:xfrm rot="19290000">
                  <a:off x="7002360" y="28900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40" name="Блок-схема: узел 123"/>
              <p:cNvSpPr/>
              <p:nvPr/>
            </p:nvSpPr>
            <p:spPr>
              <a:xfrm>
                <a:off x="7069680" y="304884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41" name="Группа 190"/>
          <p:cNvGrpSpPr/>
          <p:nvPr/>
        </p:nvGrpSpPr>
        <p:grpSpPr>
          <a:xfrm>
            <a:off x="804960" y="1756800"/>
            <a:ext cx="1928160" cy="1865880"/>
            <a:chOff x="804960" y="1756800"/>
            <a:chExt cx="1928160" cy="1865880"/>
          </a:xfrm>
        </p:grpSpPr>
        <p:sp>
          <p:nvSpPr>
            <p:cNvPr id="242" name="Полилиния 155"/>
            <p:cNvSpPr/>
            <p:nvPr/>
          </p:nvSpPr>
          <p:spPr>
            <a:xfrm>
              <a:off x="1522440" y="2507760"/>
              <a:ext cx="243000" cy="111492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3" name="Группа 46"/>
            <p:cNvGrpSpPr/>
            <p:nvPr/>
          </p:nvGrpSpPr>
          <p:grpSpPr>
            <a:xfrm>
              <a:off x="804960" y="1756800"/>
              <a:ext cx="1928160" cy="1510560"/>
              <a:chOff x="804960" y="1756800"/>
              <a:chExt cx="1928160" cy="1510560"/>
            </a:xfrm>
          </p:grpSpPr>
          <p:grpSp>
            <p:nvGrpSpPr>
              <p:cNvPr id="244" name="Группа 14"/>
              <p:cNvGrpSpPr/>
              <p:nvPr/>
            </p:nvGrpSpPr>
            <p:grpSpPr>
              <a:xfrm>
                <a:off x="1784880" y="2071800"/>
                <a:ext cx="671400" cy="532800"/>
                <a:chOff x="1784880" y="2071800"/>
                <a:chExt cx="671400" cy="532800"/>
              </a:xfrm>
            </p:grpSpPr>
            <p:sp>
              <p:nvSpPr>
                <p:cNvPr id="245" name="Полилиния 11"/>
                <p:cNvSpPr/>
                <p:nvPr/>
              </p:nvSpPr>
              <p:spPr>
                <a:xfrm>
                  <a:off x="1784880" y="207180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6" name="Полилиния 184"/>
                <p:cNvSpPr/>
                <p:nvPr/>
              </p:nvSpPr>
              <p:spPr>
                <a:xfrm>
                  <a:off x="1784880" y="220572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47" name="Группа 15"/>
              <p:cNvGrpSpPr/>
              <p:nvPr/>
            </p:nvGrpSpPr>
            <p:grpSpPr>
              <a:xfrm>
                <a:off x="1012320" y="1928880"/>
                <a:ext cx="896760" cy="577080"/>
                <a:chOff x="1012320" y="1928880"/>
                <a:chExt cx="896760" cy="577080"/>
              </a:xfrm>
            </p:grpSpPr>
            <p:sp>
              <p:nvSpPr>
                <p:cNvPr id="248" name="Полилиния 181"/>
                <p:cNvSpPr/>
                <p:nvPr/>
              </p:nvSpPr>
              <p:spPr>
                <a:xfrm rot="16842600">
                  <a:off x="1245240" y="18014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9" name="Полилиния 182"/>
                <p:cNvSpPr/>
                <p:nvPr/>
              </p:nvSpPr>
              <p:spPr>
                <a:xfrm rot="16842600">
                  <a:off x="1373040" y="206820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0" name="Группа 18"/>
              <p:cNvGrpSpPr/>
              <p:nvPr/>
            </p:nvGrpSpPr>
            <p:grpSpPr>
              <a:xfrm>
                <a:off x="1881360" y="2120760"/>
                <a:ext cx="851760" cy="851400"/>
                <a:chOff x="1881360" y="2120760"/>
                <a:chExt cx="851760" cy="851400"/>
              </a:xfrm>
            </p:grpSpPr>
            <p:sp>
              <p:nvSpPr>
                <p:cNvPr id="251" name="Полилиния 179"/>
                <p:cNvSpPr/>
                <p:nvPr/>
              </p:nvSpPr>
              <p:spPr>
                <a:xfrm rot="2695200">
                  <a:off x="1971360" y="227988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2" name="Полилиния 180"/>
                <p:cNvSpPr/>
                <p:nvPr/>
              </p:nvSpPr>
              <p:spPr>
                <a:xfrm rot="2695200">
                  <a:off x="1994760" y="229572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3" name="Группа 24"/>
              <p:cNvGrpSpPr/>
              <p:nvPr/>
            </p:nvGrpSpPr>
            <p:grpSpPr>
              <a:xfrm>
                <a:off x="1695600" y="2499840"/>
                <a:ext cx="853560" cy="475200"/>
                <a:chOff x="1695600" y="2499840"/>
                <a:chExt cx="853560" cy="475200"/>
              </a:xfrm>
            </p:grpSpPr>
            <p:sp>
              <p:nvSpPr>
                <p:cNvPr id="254" name="Полилиния 177"/>
                <p:cNvSpPr/>
                <p:nvPr/>
              </p:nvSpPr>
              <p:spPr>
                <a:xfrm rot="5589000">
                  <a:off x="1906920" y="23216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Полилиния 178"/>
                <p:cNvSpPr/>
                <p:nvPr/>
              </p:nvSpPr>
              <p:spPr>
                <a:xfrm rot="5589000">
                  <a:off x="1963080" y="238104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6" name="Группа 27"/>
              <p:cNvGrpSpPr/>
              <p:nvPr/>
            </p:nvGrpSpPr>
            <p:grpSpPr>
              <a:xfrm>
                <a:off x="1387440" y="2408760"/>
                <a:ext cx="916200" cy="858600"/>
                <a:chOff x="1387440" y="2408760"/>
                <a:chExt cx="916200" cy="858600"/>
              </a:xfrm>
            </p:grpSpPr>
            <p:sp>
              <p:nvSpPr>
                <p:cNvPr id="257" name="Полилиния 175"/>
                <p:cNvSpPr/>
                <p:nvPr/>
              </p:nvSpPr>
              <p:spPr>
                <a:xfrm rot="7751400">
                  <a:off x="1630440" y="24224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Полилиния 176"/>
                <p:cNvSpPr/>
                <p:nvPr/>
              </p:nvSpPr>
              <p:spPr>
                <a:xfrm rot="7751400">
                  <a:off x="1753560" y="247608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9" name="Группа 33"/>
              <p:cNvGrpSpPr/>
              <p:nvPr/>
            </p:nvGrpSpPr>
            <p:grpSpPr>
              <a:xfrm>
                <a:off x="804960" y="2023200"/>
                <a:ext cx="935280" cy="740520"/>
                <a:chOff x="804960" y="2023200"/>
                <a:chExt cx="935280" cy="740520"/>
              </a:xfrm>
            </p:grpSpPr>
            <p:sp>
              <p:nvSpPr>
                <p:cNvPr id="260" name="Полилиния 173"/>
                <p:cNvSpPr/>
                <p:nvPr/>
              </p:nvSpPr>
              <p:spPr>
                <a:xfrm rot="14703600">
                  <a:off x="1057320" y="197748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Полилиния 174"/>
                <p:cNvSpPr/>
                <p:nvPr/>
              </p:nvSpPr>
              <p:spPr>
                <a:xfrm rot="14703600">
                  <a:off x="1241280" y="220716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2" name="Группа 36"/>
              <p:cNvGrpSpPr/>
              <p:nvPr/>
            </p:nvGrpSpPr>
            <p:grpSpPr>
              <a:xfrm>
                <a:off x="911880" y="2212920"/>
                <a:ext cx="836640" cy="772200"/>
                <a:chOff x="911880" y="2212920"/>
                <a:chExt cx="836640" cy="772200"/>
              </a:xfrm>
            </p:grpSpPr>
            <p:sp>
              <p:nvSpPr>
                <p:cNvPr id="263" name="Полилиния 171"/>
                <p:cNvSpPr/>
                <p:nvPr/>
              </p:nvSpPr>
              <p:spPr>
                <a:xfrm rot="12352200">
                  <a:off x="994320" y="233244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Полилиния 172"/>
                <p:cNvSpPr/>
                <p:nvPr/>
              </p:nvSpPr>
              <p:spPr>
                <a:xfrm rot="12352200">
                  <a:off x="1300320" y="247464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Группа 39"/>
              <p:cNvGrpSpPr/>
              <p:nvPr/>
            </p:nvGrpSpPr>
            <p:grpSpPr>
              <a:xfrm>
                <a:off x="1136520" y="2494800"/>
                <a:ext cx="708840" cy="580680"/>
                <a:chOff x="1136520" y="2494800"/>
                <a:chExt cx="708840" cy="580680"/>
              </a:xfrm>
            </p:grpSpPr>
            <p:sp>
              <p:nvSpPr>
                <p:cNvPr id="266" name="Полилиния 169"/>
                <p:cNvSpPr/>
                <p:nvPr/>
              </p:nvSpPr>
              <p:spPr>
                <a:xfrm rot="10547400">
                  <a:off x="1155240" y="251856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Полилиния 170"/>
                <p:cNvSpPr/>
                <p:nvPr/>
              </p:nvSpPr>
              <p:spPr>
                <a:xfrm rot="10547400">
                  <a:off x="1460880" y="257940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8" name="Группа 42"/>
              <p:cNvGrpSpPr/>
              <p:nvPr/>
            </p:nvGrpSpPr>
            <p:grpSpPr>
              <a:xfrm>
                <a:off x="1404720" y="1756800"/>
                <a:ext cx="857160" cy="834840"/>
                <a:chOff x="1404720" y="1756800"/>
                <a:chExt cx="857160" cy="834840"/>
              </a:xfrm>
            </p:grpSpPr>
            <p:sp>
              <p:nvSpPr>
                <p:cNvPr id="269" name="Полилиния 167"/>
                <p:cNvSpPr/>
                <p:nvPr/>
              </p:nvSpPr>
              <p:spPr>
                <a:xfrm rot="19290000">
                  <a:off x="1497240" y="190764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Полилиния 168"/>
                <p:cNvSpPr/>
                <p:nvPr/>
              </p:nvSpPr>
              <p:spPr>
                <a:xfrm rot="19290000">
                  <a:off x="1550160" y="213084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71" name="Блок-схема: узел 166"/>
              <p:cNvSpPr/>
              <p:nvPr/>
            </p:nvSpPr>
            <p:spPr>
              <a:xfrm>
                <a:off x="1683360" y="2384280"/>
                <a:ext cx="278640" cy="17856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2" name="TextBox 31"/>
          <p:cNvSpPr/>
          <p:nvPr/>
        </p:nvSpPr>
        <p:spPr>
          <a:xfrm>
            <a:off x="214200" y="5805360"/>
            <a:ext cx="37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I.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ктуализация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186"/>
          <p:cNvSpPr/>
          <p:nvPr/>
        </p:nvSpPr>
        <p:spPr>
          <a:xfrm>
            <a:off x="357120" y="7142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Составьте четыре выра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Придумайте рассказ по каждому выражению с вопро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189"/>
          <p:cNvSpPr/>
          <p:nvPr/>
        </p:nvSpPr>
        <p:spPr>
          <a:xfrm>
            <a:off x="71424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4 =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5661000"/>
            <a:ext cx="647640" cy="57636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5661000"/>
            <a:ext cx="649080" cy="5745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Облако 188"/>
          <p:cNvSpPr/>
          <p:nvPr/>
        </p:nvSpPr>
        <p:spPr>
          <a:xfrm>
            <a:off x="500040" y="2286000"/>
            <a:ext cx="8001000" cy="1928880"/>
          </a:xfrm>
          <a:custGeom>
            <a:avLst/>
            <a:gdLst>
              <a:gd name="textAreaLeft" fmla="*/ 1102680 w 8001000"/>
              <a:gd name="textAreaRight" fmla="*/ 6329520 w 80010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11520">
            <a:solidFill>
              <a:srgbClr val="00b05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Группа 48"/>
          <p:cNvGrpSpPr/>
          <p:nvPr/>
        </p:nvGrpSpPr>
        <p:grpSpPr>
          <a:xfrm>
            <a:off x="4323600" y="2549160"/>
            <a:ext cx="1016280" cy="1094040"/>
            <a:chOff x="4323600" y="2549160"/>
            <a:chExt cx="1016280" cy="1094040"/>
          </a:xfrm>
        </p:grpSpPr>
        <p:sp>
          <p:nvSpPr>
            <p:cNvPr id="279" name="Полилиния 47"/>
            <p:cNvSpPr/>
            <p:nvPr/>
          </p:nvSpPr>
          <p:spPr>
            <a:xfrm>
              <a:off x="4700520" y="297936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0" name="Группа 46"/>
            <p:cNvGrpSpPr/>
            <p:nvPr/>
          </p:nvGrpSpPr>
          <p:grpSpPr>
            <a:xfrm>
              <a:off x="4323600" y="2549160"/>
              <a:ext cx="1016280" cy="861840"/>
              <a:chOff x="4323600" y="2549160"/>
              <a:chExt cx="1016280" cy="861840"/>
            </a:xfrm>
          </p:grpSpPr>
          <p:grpSp>
            <p:nvGrpSpPr>
              <p:cNvPr id="281" name="Группа 14"/>
              <p:cNvGrpSpPr/>
              <p:nvPr/>
            </p:nvGrpSpPr>
            <p:grpSpPr>
              <a:xfrm>
                <a:off x="4835880" y="2719800"/>
                <a:ext cx="345960" cy="317160"/>
                <a:chOff x="4835880" y="2719800"/>
                <a:chExt cx="345960" cy="317160"/>
              </a:xfrm>
            </p:grpSpPr>
            <p:sp>
              <p:nvSpPr>
                <p:cNvPr id="282" name="Полилиния 11"/>
                <p:cNvSpPr/>
                <p:nvPr/>
              </p:nvSpPr>
              <p:spPr>
                <a:xfrm>
                  <a:off x="4835880" y="27198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3" name="Полилиния 13"/>
                <p:cNvSpPr/>
                <p:nvPr/>
              </p:nvSpPr>
              <p:spPr>
                <a:xfrm>
                  <a:off x="4835880" y="279936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4" name="Группа 15"/>
              <p:cNvGrpSpPr/>
              <p:nvPr/>
            </p:nvGrpSpPr>
            <p:grpSpPr>
              <a:xfrm>
                <a:off x="4434480" y="2640960"/>
                <a:ext cx="468360" cy="331200"/>
                <a:chOff x="4434480" y="2640960"/>
                <a:chExt cx="468360" cy="331200"/>
              </a:xfrm>
            </p:grpSpPr>
            <p:sp>
              <p:nvSpPr>
                <p:cNvPr id="285" name="Полилиния 16"/>
                <p:cNvSpPr/>
                <p:nvPr/>
              </p:nvSpPr>
              <p:spPr>
                <a:xfrm rot="16842600">
                  <a:off x="4540680" y="259236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6" name="Полилиния 17"/>
                <p:cNvSpPr/>
                <p:nvPr/>
              </p:nvSpPr>
              <p:spPr>
                <a:xfrm rot="16842600">
                  <a:off x="4612680" y="273744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7" name="Группа 18"/>
              <p:cNvGrpSpPr/>
              <p:nvPr/>
            </p:nvGrpSpPr>
            <p:grpSpPr>
              <a:xfrm>
                <a:off x="4870800" y="2768400"/>
                <a:ext cx="469080" cy="468720"/>
                <a:chOff x="4870800" y="2768400"/>
                <a:chExt cx="469080" cy="468720"/>
              </a:xfrm>
            </p:grpSpPr>
            <p:sp>
              <p:nvSpPr>
                <p:cNvPr id="288" name="Полилиния 19"/>
                <p:cNvSpPr/>
                <p:nvPr/>
              </p:nvSpPr>
              <p:spPr>
                <a:xfrm rot="2695200">
                  <a:off x="4932000" y="28440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9" name="Полилиния 20"/>
                <p:cNvSpPr/>
                <p:nvPr/>
              </p:nvSpPr>
              <p:spPr>
                <a:xfrm rot="2695200">
                  <a:off x="4942440" y="28620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0" name="Группа 24"/>
              <p:cNvGrpSpPr/>
              <p:nvPr/>
            </p:nvGrpSpPr>
            <p:grpSpPr>
              <a:xfrm>
                <a:off x="4789440" y="2976840"/>
                <a:ext cx="441720" cy="279000"/>
                <a:chOff x="4789440" y="2976840"/>
                <a:chExt cx="441720" cy="279000"/>
              </a:xfrm>
            </p:grpSpPr>
            <p:sp>
              <p:nvSpPr>
                <p:cNvPr id="291" name="Полилиния 25"/>
                <p:cNvSpPr/>
                <p:nvPr/>
              </p:nvSpPr>
              <p:spPr>
                <a:xfrm rot="5589000">
                  <a:off x="4881960" y="290196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2" name="Полилиния 26"/>
                <p:cNvSpPr/>
                <p:nvPr/>
              </p:nvSpPr>
              <p:spPr>
                <a:xfrm rot="5589000">
                  <a:off x="4919040" y="29250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3" name="Группа 27"/>
              <p:cNvGrpSpPr/>
              <p:nvPr/>
            </p:nvGrpSpPr>
            <p:grpSpPr>
              <a:xfrm>
                <a:off x="4620240" y="2941920"/>
                <a:ext cx="493920" cy="469080"/>
                <a:chOff x="4620240" y="2941920"/>
                <a:chExt cx="493920" cy="469080"/>
              </a:xfrm>
            </p:grpSpPr>
            <p:sp>
              <p:nvSpPr>
                <p:cNvPr id="294" name="Полилиния 28"/>
                <p:cNvSpPr/>
                <p:nvPr/>
              </p:nvSpPr>
              <p:spPr>
                <a:xfrm rot="7751400">
                  <a:off x="4739040" y="29620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5" name="Полилиния 29"/>
                <p:cNvSpPr/>
                <p:nvPr/>
              </p:nvSpPr>
              <p:spPr>
                <a:xfrm rot="7751400">
                  <a:off x="4815720" y="2983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6" name="Группа 33"/>
              <p:cNvGrpSpPr/>
              <p:nvPr/>
            </p:nvGrpSpPr>
            <p:grpSpPr>
              <a:xfrm>
                <a:off x="4323600" y="2705400"/>
                <a:ext cx="496440" cy="412560"/>
                <a:chOff x="4323600" y="2705400"/>
                <a:chExt cx="496440" cy="412560"/>
              </a:xfrm>
            </p:grpSpPr>
            <p:sp>
              <p:nvSpPr>
                <p:cNvPr id="297" name="Полилиния 34"/>
                <p:cNvSpPr/>
                <p:nvPr/>
              </p:nvSpPr>
              <p:spPr>
                <a:xfrm rot="14703600">
                  <a:off x="4443840" y="269712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8" name="Полилиния 35"/>
                <p:cNvSpPr/>
                <p:nvPr/>
              </p:nvSpPr>
              <p:spPr>
                <a:xfrm rot="14703600">
                  <a:off x="4549680" y="28227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9" name="Группа 36"/>
              <p:cNvGrpSpPr/>
              <p:nvPr/>
            </p:nvGrpSpPr>
            <p:grpSpPr>
              <a:xfrm>
                <a:off x="4376520" y="2815200"/>
                <a:ext cx="449640" cy="436320"/>
                <a:chOff x="4376520" y="2815200"/>
                <a:chExt cx="449640" cy="436320"/>
              </a:xfrm>
            </p:grpSpPr>
            <p:sp>
              <p:nvSpPr>
                <p:cNvPr id="300" name="Полилиния 37"/>
                <p:cNvSpPr/>
                <p:nvPr/>
              </p:nvSpPr>
              <p:spPr>
                <a:xfrm rot="12352200">
                  <a:off x="4428360" y="28746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1" name="Полилиния 38"/>
                <p:cNvSpPr/>
                <p:nvPr/>
              </p:nvSpPr>
              <p:spPr>
                <a:xfrm rot="12352200">
                  <a:off x="4587120" y="29538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2" name="Группа 39"/>
              <p:cNvGrpSpPr/>
              <p:nvPr/>
            </p:nvGrpSpPr>
            <p:grpSpPr>
              <a:xfrm>
                <a:off x="4500000" y="2973240"/>
                <a:ext cx="368280" cy="342000"/>
                <a:chOff x="4500000" y="2973240"/>
                <a:chExt cx="368280" cy="342000"/>
              </a:xfrm>
            </p:grpSpPr>
            <p:sp>
              <p:nvSpPr>
                <p:cNvPr id="303" name="Полилиния 40"/>
                <p:cNvSpPr/>
                <p:nvPr/>
              </p:nvSpPr>
              <p:spPr>
                <a:xfrm rot="10547400">
                  <a:off x="4510800" y="298548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4" name="Полилиния 41"/>
                <p:cNvSpPr/>
                <p:nvPr/>
              </p:nvSpPr>
              <p:spPr>
                <a:xfrm rot="10547400">
                  <a:off x="4668120" y="30222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5" name="Группа 42"/>
              <p:cNvGrpSpPr/>
              <p:nvPr/>
            </p:nvGrpSpPr>
            <p:grpSpPr>
              <a:xfrm>
                <a:off x="4626720" y="2549160"/>
                <a:ext cx="468360" cy="463320"/>
                <a:chOff x="4626720" y="2549160"/>
                <a:chExt cx="468360" cy="463320"/>
              </a:xfrm>
            </p:grpSpPr>
            <p:sp>
              <p:nvSpPr>
                <p:cNvPr id="306" name="Полилиния 43"/>
                <p:cNvSpPr/>
                <p:nvPr/>
              </p:nvSpPr>
              <p:spPr>
                <a:xfrm rot="19290000">
                  <a:off x="4687560" y="262224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7" name="Полилиния 44"/>
                <p:cNvSpPr/>
                <p:nvPr/>
              </p:nvSpPr>
              <p:spPr>
                <a:xfrm rot="19290000">
                  <a:off x="4716360" y="274716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08" name="Блок-схема: узел 45"/>
              <p:cNvSpPr/>
              <p:nvPr/>
            </p:nvSpPr>
            <p:spPr>
              <a:xfrm>
                <a:off x="4783680" y="290592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09" name="Группа 49"/>
          <p:cNvGrpSpPr/>
          <p:nvPr/>
        </p:nvGrpSpPr>
        <p:grpSpPr>
          <a:xfrm>
            <a:off x="3180600" y="1549080"/>
            <a:ext cx="1016280" cy="1094040"/>
            <a:chOff x="3180600" y="1549080"/>
            <a:chExt cx="1016280" cy="1094040"/>
          </a:xfrm>
        </p:grpSpPr>
        <p:sp>
          <p:nvSpPr>
            <p:cNvPr id="310" name="Полилиния 50"/>
            <p:cNvSpPr/>
            <p:nvPr/>
          </p:nvSpPr>
          <p:spPr>
            <a:xfrm>
              <a:off x="3557520" y="197928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1" name="Группа 46"/>
            <p:cNvGrpSpPr/>
            <p:nvPr/>
          </p:nvGrpSpPr>
          <p:grpSpPr>
            <a:xfrm>
              <a:off x="3180600" y="1549080"/>
              <a:ext cx="1016280" cy="861840"/>
              <a:chOff x="3180600" y="1549080"/>
              <a:chExt cx="1016280" cy="861840"/>
            </a:xfrm>
          </p:grpSpPr>
          <p:grpSp>
            <p:nvGrpSpPr>
              <p:cNvPr id="312" name="Группа 14"/>
              <p:cNvGrpSpPr/>
              <p:nvPr/>
            </p:nvGrpSpPr>
            <p:grpSpPr>
              <a:xfrm>
                <a:off x="3692880" y="1719720"/>
                <a:ext cx="345960" cy="317160"/>
                <a:chOff x="3692880" y="1719720"/>
                <a:chExt cx="345960" cy="317160"/>
              </a:xfrm>
            </p:grpSpPr>
            <p:sp>
              <p:nvSpPr>
                <p:cNvPr id="313" name="Полилиния 11"/>
                <p:cNvSpPr/>
                <p:nvPr/>
              </p:nvSpPr>
              <p:spPr>
                <a:xfrm>
                  <a:off x="3692880" y="1719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4" name="Полилиния 79"/>
                <p:cNvSpPr/>
                <p:nvPr/>
              </p:nvSpPr>
              <p:spPr>
                <a:xfrm>
                  <a:off x="3692880" y="1799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5" name="Группа 15"/>
              <p:cNvGrpSpPr/>
              <p:nvPr/>
            </p:nvGrpSpPr>
            <p:grpSpPr>
              <a:xfrm>
                <a:off x="3291480" y="1640880"/>
                <a:ext cx="468360" cy="331200"/>
                <a:chOff x="3291480" y="1640880"/>
                <a:chExt cx="468360" cy="331200"/>
              </a:xfrm>
            </p:grpSpPr>
            <p:sp>
              <p:nvSpPr>
                <p:cNvPr id="316" name="Полилиния 76"/>
                <p:cNvSpPr/>
                <p:nvPr/>
              </p:nvSpPr>
              <p:spPr>
                <a:xfrm rot="16842600">
                  <a:off x="3397680" y="15922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7" name="Полилиния 77"/>
                <p:cNvSpPr/>
                <p:nvPr/>
              </p:nvSpPr>
              <p:spPr>
                <a:xfrm rot="16842600">
                  <a:off x="3469680" y="17373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8" name="Группа 18"/>
              <p:cNvGrpSpPr/>
              <p:nvPr/>
            </p:nvGrpSpPr>
            <p:grpSpPr>
              <a:xfrm>
                <a:off x="3727800" y="1768320"/>
                <a:ext cx="469080" cy="468720"/>
                <a:chOff x="3727800" y="1768320"/>
                <a:chExt cx="469080" cy="468720"/>
              </a:xfrm>
            </p:grpSpPr>
            <p:sp>
              <p:nvSpPr>
                <p:cNvPr id="319" name="Полилиния 74"/>
                <p:cNvSpPr/>
                <p:nvPr/>
              </p:nvSpPr>
              <p:spPr>
                <a:xfrm rot="2695200">
                  <a:off x="3789000" y="18439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Полилиния 75"/>
                <p:cNvSpPr/>
                <p:nvPr/>
              </p:nvSpPr>
              <p:spPr>
                <a:xfrm rot="2695200">
                  <a:off x="3799440" y="1861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1" name="Группа 24"/>
              <p:cNvGrpSpPr/>
              <p:nvPr/>
            </p:nvGrpSpPr>
            <p:grpSpPr>
              <a:xfrm>
                <a:off x="3646440" y="1976760"/>
                <a:ext cx="441720" cy="279000"/>
                <a:chOff x="3646440" y="1976760"/>
                <a:chExt cx="441720" cy="279000"/>
              </a:xfrm>
            </p:grpSpPr>
            <p:sp>
              <p:nvSpPr>
                <p:cNvPr id="322" name="Полилиния 72"/>
                <p:cNvSpPr/>
                <p:nvPr/>
              </p:nvSpPr>
              <p:spPr>
                <a:xfrm rot="5589000">
                  <a:off x="3738960" y="19018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3" name="Полилиния 73"/>
                <p:cNvSpPr/>
                <p:nvPr/>
              </p:nvSpPr>
              <p:spPr>
                <a:xfrm rot="5589000">
                  <a:off x="3776040" y="19249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4" name="Группа 27"/>
              <p:cNvGrpSpPr/>
              <p:nvPr/>
            </p:nvGrpSpPr>
            <p:grpSpPr>
              <a:xfrm>
                <a:off x="3477240" y="1941840"/>
                <a:ext cx="493920" cy="469080"/>
                <a:chOff x="3477240" y="1941840"/>
                <a:chExt cx="493920" cy="469080"/>
              </a:xfrm>
            </p:grpSpPr>
            <p:sp>
              <p:nvSpPr>
                <p:cNvPr id="325" name="Полилиния 70"/>
                <p:cNvSpPr/>
                <p:nvPr/>
              </p:nvSpPr>
              <p:spPr>
                <a:xfrm rot="7751400">
                  <a:off x="3596040" y="196200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6" name="Полилиния 71"/>
                <p:cNvSpPr/>
                <p:nvPr/>
              </p:nvSpPr>
              <p:spPr>
                <a:xfrm rot="7751400">
                  <a:off x="3672720" y="1983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7" name="Группа 33"/>
              <p:cNvGrpSpPr/>
              <p:nvPr/>
            </p:nvGrpSpPr>
            <p:grpSpPr>
              <a:xfrm>
                <a:off x="3180600" y="1705320"/>
                <a:ext cx="496440" cy="412560"/>
                <a:chOff x="3180600" y="1705320"/>
                <a:chExt cx="496440" cy="412560"/>
              </a:xfrm>
            </p:grpSpPr>
            <p:sp>
              <p:nvSpPr>
                <p:cNvPr id="328" name="Полилиния 68"/>
                <p:cNvSpPr/>
                <p:nvPr/>
              </p:nvSpPr>
              <p:spPr>
                <a:xfrm rot="14703600">
                  <a:off x="3300840" y="169704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9" name="Полилиния 69"/>
                <p:cNvSpPr/>
                <p:nvPr/>
              </p:nvSpPr>
              <p:spPr>
                <a:xfrm rot="14703600">
                  <a:off x="3406680" y="1822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0" name="Группа 36"/>
              <p:cNvGrpSpPr/>
              <p:nvPr/>
            </p:nvGrpSpPr>
            <p:grpSpPr>
              <a:xfrm>
                <a:off x="3233520" y="1815120"/>
                <a:ext cx="449640" cy="436320"/>
                <a:chOff x="3233520" y="1815120"/>
                <a:chExt cx="449640" cy="436320"/>
              </a:xfrm>
            </p:grpSpPr>
            <p:sp>
              <p:nvSpPr>
                <p:cNvPr id="331" name="Полилиния 66"/>
                <p:cNvSpPr/>
                <p:nvPr/>
              </p:nvSpPr>
              <p:spPr>
                <a:xfrm rot="12352200">
                  <a:off x="3285360" y="18745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2" name="Полилиния 67"/>
                <p:cNvSpPr/>
                <p:nvPr/>
              </p:nvSpPr>
              <p:spPr>
                <a:xfrm rot="12352200">
                  <a:off x="3444120" y="19537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3" name="Группа 39"/>
              <p:cNvGrpSpPr/>
              <p:nvPr/>
            </p:nvGrpSpPr>
            <p:grpSpPr>
              <a:xfrm>
                <a:off x="3357000" y="1973160"/>
                <a:ext cx="368280" cy="342000"/>
                <a:chOff x="3357000" y="1973160"/>
                <a:chExt cx="368280" cy="342000"/>
              </a:xfrm>
            </p:grpSpPr>
            <p:sp>
              <p:nvSpPr>
                <p:cNvPr id="334" name="Полилиния 64"/>
                <p:cNvSpPr/>
                <p:nvPr/>
              </p:nvSpPr>
              <p:spPr>
                <a:xfrm rot="10547400">
                  <a:off x="3367800" y="19854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5" name="Полилиния 65"/>
                <p:cNvSpPr/>
                <p:nvPr/>
              </p:nvSpPr>
              <p:spPr>
                <a:xfrm rot="10547400">
                  <a:off x="3525120" y="2022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6" name="Группа 42"/>
              <p:cNvGrpSpPr/>
              <p:nvPr/>
            </p:nvGrpSpPr>
            <p:grpSpPr>
              <a:xfrm>
                <a:off x="3483720" y="1549080"/>
                <a:ext cx="468360" cy="463320"/>
                <a:chOff x="3483720" y="1549080"/>
                <a:chExt cx="468360" cy="463320"/>
              </a:xfrm>
            </p:grpSpPr>
            <p:sp>
              <p:nvSpPr>
                <p:cNvPr id="337" name="Полилиния 62"/>
                <p:cNvSpPr/>
                <p:nvPr/>
              </p:nvSpPr>
              <p:spPr>
                <a:xfrm rot="19290000">
                  <a:off x="3544560" y="16221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8" name="Полилиния 63"/>
                <p:cNvSpPr/>
                <p:nvPr/>
              </p:nvSpPr>
              <p:spPr>
                <a:xfrm rot="19290000">
                  <a:off x="3573360" y="17470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39" name="Блок-схема: узел 61"/>
              <p:cNvSpPr/>
              <p:nvPr/>
            </p:nvSpPr>
            <p:spPr>
              <a:xfrm>
                <a:off x="3640680" y="190584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40" name="Группа 80"/>
          <p:cNvGrpSpPr/>
          <p:nvPr/>
        </p:nvGrpSpPr>
        <p:grpSpPr>
          <a:xfrm>
            <a:off x="5466960" y="1763280"/>
            <a:ext cx="1015920" cy="1094400"/>
            <a:chOff x="5466960" y="1763280"/>
            <a:chExt cx="1015920" cy="1094400"/>
          </a:xfrm>
        </p:grpSpPr>
        <p:sp>
          <p:nvSpPr>
            <p:cNvPr id="341" name="Полилиния 81"/>
            <p:cNvSpPr/>
            <p:nvPr/>
          </p:nvSpPr>
          <p:spPr>
            <a:xfrm>
              <a:off x="5843520" y="219384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2" name="Группа 46"/>
            <p:cNvGrpSpPr/>
            <p:nvPr/>
          </p:nvGrpSpPr>
          <p:grpSpPr>
            <a:xfrm>
              <a:off x="5466960" y="1763280"/>
              <a:ext cx="1015920" cy="862200"/>
              <a:chOff x="5466960" y="1763280"/>
              <a:chExt cx="1015920" cy="862200"/>
            </a:xfrm>
          </p:grpSpPr>
          <p:grpSp>
            <p:nvGrpSpPr>
              <p:cNvPr id="343" name="Группа 14"/>
              <p:cNvGrpSpPr/>
              <p:nvPr/>
            </p:nvGrpSpPr>
            <p:grpSpPr>
              <a:xfrm>
                <a:off x="5978880" y="1934280"/>
                <a:ext cx="345960" cy="317160"/>
                <a:chOff x="5978880" y="1934280"/>
                <a:chExt cx="345960" cy="317160"/>
              </a:xfrm>
            </p:grpSpPr>
            <p:sp>
              <p:nvSpPr>
                <p:cNvPr id="344" name="Полилиния 11"/>
                <p:cNvSpPr/>
                <p:nvPr/>
              </p:nvSpPr>
              <p:spPr>
                <a:xfrm>
                  <a:off x="5978880" y="193428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5" name="Полилиния 110"/>
                <p:cNvSpPr/>
                <p:nvPr/>
              </p:nvSpPr>
              <p:spPr>
                <a:xfrm>
                  <a:off x="5978880" y="201384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6" name="Группа 15"/>
              <p:cNvGrpSpPr/>
              <p:nvPr/>
            </p:nvGrpSpPr>
            <p:grpSpPr>
              <a:xfrm>
                <a:off x="5577480" y="1855440"/>
                <a:ext cx="468720" cy="331560"/>
                <a:chOff x="5577480" y="1855440"/>
                <a:chExt cx="468720" cy="331560"/>
              </a:xfrm>
            </p:grpSpPr>
            <p:sp>
              <p:nvSpPr>
                <p:cNvPr id="347" name="Полилиния 107"/>
                <p:cNvSpPr/>
                <p:nvPr/>
              </p:nvSpPr>
              <p:spPr>
                <a:xfrm rot="16842600">
                  <a:off x="5683320" y="180684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Полилиния 108"/>
                <p:cNvSpPr/>
                <p:nvPr/>
              </p:nvSpPr>
              <p:spPr>
                <a:xfrm rot="16842600">
                  <a:off x="5755680" y="19522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9" name="Группа 18"/>
              <p:cNvGrpSpPr/>
              <p:nvPr/>
            </p:nvGrpSpPr>
            <p:grpSpPr>
              <a:xfrm>
                <a:off x="6013800" y="1982520"/>
                <a:ext cx="469080" cy="468720"/>
                <a:chOff x="6013800" y="1982520"/>
                <a:chExt cx="469080" cy="468720"/>
              </a:xfrm>
            </p:grpSpPr>
            <p:sp>
              <p:nvSpPr>
                <p:cNvPr id="350" name="Полилиния 105"/>
                <p:cNvSpPr/>
                <p:nvPr/>
              </p:nvSpPr>
              <p:spPr>
                <a:xfrm rot="2695200">
                  <a:off x="6075000" y="20581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Полилиния 106"/>
                <p:cNvSpPr/>
                <p:nvPr/>
              </p:nvSpPr>
              <p:spPr>
                <a:xfrm rot="2695200">
                  <a:off x="6085440" y="2076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2" name="Группа 24"/>
              <p:cNvGrpSpPr/>
              <p:nvPr/>
            </p:nvGrpSpPr>
            <p:grpSpPr>
              <a:xfrm>
                <a:off x="5932440" y="2190960"/>
                <a:ext cx="441720" cy="279360"/>
                <a:chOff x="5932440" y="2190960"/>
                <a:chExt cx="441720" cy="279360"/>
              </a:xfrm>
            </p:grpSpPr>
            <p:sp>
              <p:nvSpPr>
                <p:cNvPr id="353" name="Полилиния 103"/>
                <p:cNvSpPr/>
                <p:nvPr/>
              </p:nvSpPr>
              <p:spPr>
                <a:xfrm rot="5589000">
                  <a:off x="6024960" y="211608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Полилиния 104"/>
                <p:cNvSpPr/>
                <p:nvPr/>
              </p:nvSpPr>
              <p:spPr>
                <a:xfrm rot="5589000">
                  <a:off x="6062040" y="21391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5" name="Группа 27"/>
              <p:cNvGrpSpPr/>
              <p:nvPr/>
            </p:nvGrpSpPr>
            <p:grpSpPr>
              <a:xfrm>
                <a:off x="5763600" y="2156040"/>
                <a:ext cx="493920" cy="469440"/>
                <a:chOff x="5763600" y="2156040"/>
                <a:chExt cx="493920" cy="469440"/>
              </a:xfrm>
            </p:grpSpPr>
            <p:sp>
              <p:nvSpPr>
                <p:cNvPr id="356" name="Полилиния 101"/>
                <p:cNvSpPr/>
                <p:nvPr/>
              </p:nvSpPr>
              <p:spPr>
                <a:xfrm rot="7751400">
                  <a:off x="5882040" y="217620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7" name="Полилиния 102"/>
                <p:cNvSpPr/>
                <p:nvPr/>
              </p:nvSpPr>
              <p:spPr>
                <a:xfrm rot="7751400">
                  <a:off x="5958720" y="21978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8" name="Группа 33"/>
              <p:cNvGrpSpPr/>
              <p:nvPr/>
            </p:nvGrpSpPr>
            <p:grpSpPr>
              <a:xfrm>
                <a:off x="5466960" y="1919880"/>
                <a:ext cx="496440" cy="412920"/>
                <a:chOff x="5466960" y="1919880"/>
                <a:chExt cx="496440" cy="412920"/>
              </a:xfrm>
            </p:grpSpPr>
            <p:sp>
              <p:nvSpPr>
                <p:cNvPr id="359" name="Полилиния 99"/>
                <p:cNvSpPr/>
                <p:nvPr/>
              </p:nvSpPr>
              <p:spPr>
                <a:xfrm rot="14703600">
                  <a:off x="5586840" y="191196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0" name="Полилиния 100"/>
                <p:cNvSpPr/>
                <p:nvPr/>
              </p:nvSpPr>
              <p:spPr>
                <a:xfrm rot="14703600">
                  <a:off x="5693040" y="2037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1" name="Группа 36"/>
              <p:cNvGrpSpPr/>
              <p:nvPr/>
            </p:nvGrpSpPr>
            <p:grpSpPr>
              <a:xfrm>
                <a:off x="5519520" y="2029320"/>
                <a:ext cx="449640" cy="436320"/>
                <a:chOff x="5519520" y="2029320"/>
                <a:chExt cx="449640" cy="436320"/>
              </a:xfrm>
            </p:grpSpPr>
            <p:sp>
              <p:nvSpPr>
                <p:cNvPr id="362" name="Полилиния 97"/>
                <p:cNvSpPr/>
                <p:nvPr/>
              </p:nvSpPr>
              <p:spPr>
                <a:xfrm rot="12352200">
                  <a:off x="5571360" y="2088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Полилиния 98"/>
                <p:cNvSpPr/>
                <p:nvPr/>
              </p:nvSpPr>
              <p:spPr>
                <a:xfrm rot="12352200">
                  <a:off x="5730120" y="2167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4" name="Группа 39"/>
              <p:cNvGrpSpPr/>
              <p:nvPr/>
            </p:nvGrpSpPr>
            <p:grpSpPr>
              <a:xfrm>
                <a:off x="5643000" y="2187720"/>
                <a:ext cx="368280" cy="342000"/>
                <a:chOff x="5643000" y="2187720"/>
                <a:chExt cx="368280" cy="342000"/>
              </a:xfrm>
            </p:grpSpPr>
            <p:sp>
              <p:nvSpPr>
                <p:cNvPr id="365" name="Полилиния 95"/>
                <p:cNvSpPr/>
                <p:nvPr/>
              </p:nvSpPr>
              <p:spPr>
                <a:xfrm rot="10547400">
                  <a:off x="5653800" y="21999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Полилиния 96"/>
                <p:cNvSpPr/>
                <p:nvPr/>
              </p:nvSpPr>
              <p:spPr>
                <a:xfrm rot="10547400">
                  <a:off x="5811120" y="22366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7" name="Группа 42"/>
              <p:cNvGrpSpPr/>
              <p:nvPr/>
            </p:nvGrpSpPr>
            <p:grpSpPr>
              <a:xfrm>
                <a:off x="5769720" y="1763280"/>
                <a:ext cx="468360" cy="463320"/>
                <a:chOff x="5769720" y="1763280"/>
                <a:chExt cx="468360" cy="463320"/>
              </a:xfrm>
            </p:grpSpPr>
            <p:sp>
              <p:nvSpPr>
                <p:cNvPr id="368" name="Полилиния 93"/>
                <p:cNvSpPr/>
                <p:nvPr/>
              </p:nvSpPr>
              <p:spPr>
                <a:xfrm rot="19290000">
                  <a:off x="5830560" y="18363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Полилиния 94"/>
                <p:cNvSpPr/>
                <p:nvPr/>
              </p:nvSpPr>
              <p:spPr>
                <a:xfrm rot="19290000">
                  <a:off x="5859360" y="1961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70" name="Блок-схема: узел 92"/>
              <p:cNvSpPr/>
              <p:nvPr/>
            </p:nvSpPr>
            <p:spPr>
              <a:xfrm>
                <a:off x="5926680" y="212040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71" name="Группа 111"/>
          <p:cNvGrpSpPr/>
          <p:nvPr/>
        </p:nvGrpSpPr>
        <p:grpSpPr>
          <a:xfrm>
            <a:off x="6609600" y="2692080"/>
            <a:ext cx="1016280" cy="1094040"/>
            <a:chOff x="6609600" y="2692080"/>
            <a:chExt cx="1016280" cy="1094040"/>
          </a:xfrm>
        </p:grpSpPr>
        <p:sp>
          <p:nvSpPr>
            <p:cNvPr id="372" name="Полилиния 112"/>
            <p:cNvSpPr/>
            <p:nvPr/>
          </p:nvSpPr>
          <p:spPr>
            <a:xfrm>
              <a:off x="6986520" y="312228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73" name="Группа 46"/>
            <p:cNvGrpSpPr/>
            <p:nvPr/>
          </p:nvGrpSpPr>
          <p:grpSpPr>
            <a:xfrm>
              <a:off x="6609600" y="2692080"/>
              <a:ext cx="1016280" cy="861840"/>
              <a:chOff x="6609600" y="2692080"/>
              <a:chExt cx="1016280" cy="861840"/>
            </a:xfrm>
          </p:grpSpPr>
          <p:grpSp>
            <p:nvGrpSpPr>
              <p:cNvPr id="374" name="Группа 14"/>
              <p:cNvGrpSpPr/>
              <p:nvPr/>
            </p:nvGrpSpPr>
            <p:grpSpPr>
              <a:xfrm>
                <a:off x="7121880" y="2862720"/>
                <a:ext cx="345960" cy="317160"/>
                <a:chOff x="7121880" y="2862720"/>
                <a:chExt cx="345960" cy="317160"/>
              </a:xfrm>
            </p:grpSpPr>
            <p:sp>
              <p:nvSpPr>
                <p:cNvPr id="375" name="Полилиния 11"/>
                <p:cNvSpPr/>
                <p:nvPr/>
              </p:nvSpPr>
              <p:spPr>
                <a:xfrm>
                  <a:off x="7121880" y="2862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6" name="Полилиния 141"/>
                <p:cNvSpPr/>
                <p:nvPr/>
              </p:nvSpPr>
              <p:spPr>
                <a:xfrm>
                  <a:off x="7121880" y="2942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7" name="Группа 15"/>
              <p:cNvGrpSpPr/>
              <p:nvPr/>
            </p:nvGrpSpPr>
            <p:grpSpPr>
              <a:xfrm>
                <a:off x="6720480" y="2783880"/>
                <a:ext cx="468360" cy="331200"/>
                <a:chOff x="6720480" y="2783880"/>
                <a:chExt cx="468360" cy="331200"/>
              </a:xfrm>
            </p:grpSpPr>
            <p:sp>
              <p:nvSpPr>
                <p:cNvPr id="378" name="Полилиния 138"/>
                <p:cNvSpPr/>
                <p:nvPr/>
              </p:nvSpPr>
              <p:spPr>
                <a:xfrm rot="16842600">
                  <a:off x="6826680" y="27352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9" name="Полилиния 139"/>
                <p:cNvSpPr/>
                <p:nvPr/>
              </p:nvSpPr>
              <p:spPr>
                <a:xfrm rot="16842600">
                  <a:off x="6898680" y="28803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0" name="Группа 18"/>
              <p:cNvGrpSpPr/>
              <p:nvPr/>
            </p:nvGrpSpPr>
            <p:grpSpPr>
              <a:xfrm>
                <a:off x="7156800" y="2911320"/>
                <a:ext cx="469080" cy="468720"/>
                <a:chOff x="7156800" y="2911320"/>
                <a:chExt cx="469080" cy="468720"/>
              </a:xfrm>
            </p:grpSpPr>
            <p:sp>
              <p:nvSpPr>
                <p:cNvPr id="381" name="Полилиния 136"/>
                <p:cNvSpPr/>
                <p:nvPr/>
              </p:nvSpPr>
              <p:spPr>
                <a:xfrm rot="2695200">
                  <a:off x="7218000" y="29869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2" name="Полилиния 137"/>
                <p:cNvSpPr/>
                <p:nvPr/>
              </p:nvSpPr>
              <p:spPr>
                <a:xfrm rot="2695200">
                  <a:off x="7228440" y="3004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3" name="Группа 24"/>
              <p:cNvGrpSpPr/>
              <p:nvPr/>
            </p:nvGrpSpPr>
            <p:grpSpPr>
              <a:xfrm>
                <a:off x="7075440" y="3119760"/>
                <a:ext cx="441720" cy="279000"/>
                <a:chOff x="7075440" y="3119760"/>
                <a:chExt cx="441720" cy="279000"/>
              </a:xfrm>
            </p:grpSpPr>
            <p:sp>
              <p:nvSpPr>
                <p:cNvPr id="384" name="Полилиния 134"/>
                <p:cNvSpPr/>
                <p:nvPr/>
              </p:nvSpPr>
              <p:spPr>
                <a:xfrm rot="5589000">
                  <a:off x="7167960" y="30448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5" name="Полилиния 135"/>
                <p:cNvSpPr/>
                <p:nvPr/>
              </p:nvSpPr>
              <p:spPr>
                <a:xfrm rot="5589000">
                  <a:off x="7205040" y="30679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6" name="Группа 27"/>
              <p:cNvGrpSpPr/>
              <p:nvPr/>
            </p:nvGrpSpPr>
            <p:grpSpPr>
              <a:xfrm>
                <a:off x="6906240" y="3084840"/>
                <a:ext cx="493920" cy="469080"/>
                <a:chOff x="6906240" y="3084840"/>
                <a:chExt cx="493920" cy="469080"/>
              </a:xfrm>
            </p:grpSpPr>
            <p:sp>
              <p:nvSpPr>
                <p:cNvPr id="387" name="Полилиния 132"/>
                <p:cNvSpPr/>
                <p:nvPr/>
              </p:nvSpPr>
              <p:spPr>
                <a:xfrm rot="7751400">
                  <a:off x="7025040" y="310500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8" name="Полилиния 133"/>
                <p:cNvSpPr/>
                <p:nvPr/>
              </p:nvSpPr>
              <p:spPr>
                <a:xfrm rot="7751400">
                  <a:off x="7101720" y="3126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9" name="Группа 33"/>
              <p:cNvGrpSpPr/>
              <p:nvPr/>
            </p:nvGrpSpPr>
            <p:grpSpPr>
              <a:xfrm>
                <a:off x="6609600" y="2848320"/>
                <a:ext cx="496440" cy="412560"/>
                <a:chOff x="6609600" y="2848320"/>
                <a:chExt cx="496440" cy="412560"/>
              </a:xfrm>
            </p:grpSpPr>
            <p:sp>
              <p:nvSpPr>
                <p:cNvPr id="390" name="Полилиния 130"/>
                <p:cNvSpPr/>
                <p:nvPr/>
              </p:nvSpPr>
              <p:spPr>
                <a:xfrm rot="14703600">
                  <a:off x="6729840" y="284004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1" name="Полилиния 131"/>
                <p:cNvSpPr/>
                <p:nvPr/>
              </p:nvSpPr>
              <p:spPr>
                <a:xfrm rot="14703600">
                  <a:off x="6835680" y="2965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92" name="Группа 36"/>
              <p:cNvGrpSpPr/>
              <p:nvPr/>
            </p:nvGrpSpPr>
            <p:grpSpPr>
              <a:xfrm>
                <a:off x="6662520" y="2958120"/>
                <a:ext cx="449640" cy="436320"/>
                <a:chOff x="6662520" y="2958120"/>
                <a:chExt cx="449640" cy="436320"/>
              </a:xfrm>
            </p:grpSpPr>
            <p:sp>
              <p:nvSpPr>
                <p:cNvPr id="393" name="Полилиния 128"/>
                <p:cNvSpPr/>
                <p:nvPr/>
              </p:nvSpPr>
              <p:spPr>
                <a:xfrm rot="12352200">
                  <a:off x="6714360" y="30175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4" name="Полилиния 129"/>
                <p:cNvSpPr/>
                <p:nvPr/>
              </p:nvSpPr>
              <p:spPr>
                <a:xfrm rot="12352200">
                  <a:off x="6873120" y="30967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95" name="Группа 39"/>
              <p:cNvGrpSpPr/>
              <p:nvPr/>
            </p:nvGrpSpPr>
            <p:grpSpPr>
              <a:xfrm>
                <a:off x="6786000" y="3116160"/>
                <a:ext cx="368280" cy="342000"/>
                <a:chOff x="6786000" y="3116160"/>
                <a:chExt cx="368280" cy="342000"/>
              </a:xfrm>
            </p:grpSpPr>
            <p:sp>
              <p:nvSpPr>
                <p:cNvPr id="396" name="Полилиния 126"/>
                <p:cNvSpPr/>
                <p:nvPr/>
              </p:nvSpPr>
              <p:spPr>
                <a:xfrm rot="10547400">
                  <a:off x="6796800" y="31284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7" name="Полилиния 127"/>
                <p:cNvSpPr/>
                <p:nvPr/>
              </p:nvSpPr>
              <p:spPr>
                <a:xfrm rot="10547400">
                  <a:off x="6954120" y="3165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98" name="Группа 42"/>
              <p:cNvGrpSpPr/>
              <p:nvPr/>
            </p:nvGrpSpPr>
            <p:grpSpPr>
              <a:xfrm>
                <a:off x="6912720" y="2692080"/>
                <a:ext cx="468360" cy="463320"/>
                <a:chOff x="6912720" y="2692080"/>
                <a:chExt cx="468360" cy="463320"/>
              </a:xfrm>
            </p:grpSpPr>
            <p:sp>
              <p:nvSpPr>
                <p:cNvPr id="399" name="Полилиния 124"/>
                <p:cNvSpPr/>
                <p:nvPr/>
              </p:nvSpPr>
              <p:spPr>
                <a:xfrm rot="19290000">
                  <a:off x="6973560" y="27651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0" name="Полилиния 125"/>
                <p:cNvSpPr/>
                <p:nvPr/>
              </p:nvSpPr>
              <p:spPr>
                <a:xfrm rot="19290000">
                  <a:off x="7002360" y="28900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01" name="Блок-схема: узел 123"/>
              <p:cNvSpPr/>
              <p:nvPr/>
            </p:nvSpPr>
            <p:spPr>
              <a:xfrm>
                <a:off x="7069680" y="304884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02" name="Группа 190"/>
          <p:cNvGrpSpPr/>
          <p:nvPr/>
        </p:nvGrpSpPr>
        <p:grpSpPr>
          <a:xfrm>
            <a:off x="804960" y="1756800"/>
            <a:ext cx="1928160" cy="1865880"/>
            <a:chOff x="804960" y="1756800"/>
            <a:chExt cx="1928160" cy="1865880"/>
          </a:xfrm>
        </p:grpSpPr>
        <p:sp>
          <p:nvSpPr>
            <p:cNvPr id="403" name="Полилиния 155"/>
            <p:cNvSpPr/>
            <p:nvPr/>
          </p:nvSpPr>
          <p:spPr>
            <a:xfrm>
              <a:off x="1522440" y="2507760"/>
              <a:ext cx="243000" cy="111492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04" name="Группа 46"/>
            <p:cNvGrpSpPr/>
            <p:nvPr/>
          </p:nvGrpSpPr>
          <p:grpSpPr>
            <a:xfrm>
              <a:off x="804960" y="1756800"/>
              <a:ext cx="1928160" cy="1510560"/>
              <a:chOff x="804960" y="1756800"/>
              <a:chExt cx="1928160" cy="1510560"/>
            </a:xfrm>
          </p:grpSpPr>
          <p:grpSp>
            <p:nvGrpSpPr>
              <p:cNvPr id="405" name="Группа 14"/>
              <p:cNvGrpSpPr/>
              <p:nvPr/>
            </p:nvGrpSpPr>
            <p:grpSpPr>
              <a:xfrm>
                <a:off x="1784880" y="2071800"/>
                <a:ext cx="671400" cy="532800"/>
                <a:chOff x="1784880" y="2071800"/>
                <a:chExt cx="671400" cy="532800"/>
              </a:xfrm>
            </p:grpSpPr>
            <p:sp>
              <p:nvSpPr>
                <p:cNvPr id="406" name="Полилиния 11"/>
                <p:cNvSpPr/>
                <p:nvPr/>
              </p:nvSpPr>
              <p:spPr>
                <a:xfrm>
                  <a:off x="1784880" y="207180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7" name="Полилиния 184"/>
                <p:cNvSpPr/>
                <p:nvPr/>
              </p:nvSpPr>
              <p:spPr>
                <a:xfrm>
                  <a:off x="1784880" y="220572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8" name="Группа 15"/>
              <p:cNvGrpSpPr/>
              <p:nvPr/>
            </p:nvGrpSpPr>
            <p:grpSpPr>
              <a:xfrm>
                <a:off x="1012320" y="1928880"/>
                <a:ext cx="896760" cy="577080"/>
                <a:chOff x="1012320" y="1928880"/>
                <a:chExt cx="896760" cy="577080"/>
              </a:xfrm>
            </p:grpSpPr>
            <p:sp>
              <p:nvSpPr>
                <p:cNvPr id="409" name="Полилиния 181"/>
                <p:cNvSpPr/>
                <p:nvPr/>
              </p:nvSpPr>
              <p:spPr>
                <a:xfrm rot="16842600">
                  <a:off x="1245240" y="18014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0" name="Полилиния 182"/>
                <p:cNvSpPr/>
                <p:nvPr/>
              </p:nvSpPr>
              <p:spPr>
                <a:xfrm rot="16842600">
                  <a:off x="1373040" y="206820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1" name="Группа 18"/>
              <p:cNvGrpSpPr/>
              <p:nvPr/>
            </p:nvGrpSpPr>
            <p:grpSpPr>
              <a:xfrm>
                <a:off x="1881360" y="2120760"/>
                <a:ext cx="851760" cy="851400"/>
                <a:chOff x="1881360" y="2120760"/>
                <a:chExt cx="851760" cy="851400"/>
              </a:xfrm>
            </p:grpSpPr>
            <p:sp>
              <p:nvSpPr>
                <p:cNvPr id="412" name="Полилиния 179"/>
                <p:cNvSpPr/>
                <p:nvPr/>
              </p:nvSpPr>
              <p:spPr>
                <a:xfrm rot="2695200">
                  <a:off x="1971360" y="227988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3" name="Полилиния 180"/>
                <p:cNvSpPr/>
                <p:nvPr/>
              </p:nvSpPr>
              <p:spPr>
                <a:xfrm rot="2695200">
                  <a:off x="1994760" y="229572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4" name="Группа 24"/>
              <p:cNvGrpSpPr/>
              <p:nvPr/>
            </p:nvGrpSpPr>
            <p:grpSpPr>
              <a:xfrm>
                <a:off x="1695600" y="2499840"/>
                <a:ext cx="853560" cy="475200"/>
                <a:chOff x="1695600" y="2499840"/>
                <a:chExt cx="853560" cy="475200"/>
              </a:xfrm>
            </p:grpSpPr>
            <p:sp>
              <p:nvSpPr>
                <p:cNvPr id="415" name="Полилиния 177"/>
                <p:cNvSpPr/>
                <p:nvPr/>
              </p:nvSpPr>
              <p:spPr>
                <a:xfrm rot="5589000">
                  <a:off x="1906920" y="23216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6" name="Полилиния 178"/>
                <p:cNvSpPr/>
                <p:nvPr/>
              </p:nvSpPr>
              <p:spPr>
                <a:xfrm rot="5589000">
                  <a:off x="1963080" y="238104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7" name="Группа 27"/>
              <p:cNvGrpSpPr/>
              <p:nvPr/>
            </p:nvGrpSpPr>
            <p:grpSpPr>
              <a:xfrm>
                <a:off x="1387440" y="2408760"/>
                <a:ext cx="916200" cy="858600"/>
                <a:chOff x="1387440" y="2408760"/>
                <a:chExt cx="916200" cy="858600"/>
              </a:xfrm>
            </p:grpSpPr>
            <p:sp>
              <p:nvSpPr>
                <p:cNvPr id="418" name="Полилиния 175"/>
                <p:cNvSpPr/>
                <p:nvPr/>
              </p:nvSpPr>
              <p:spPr>
                <a:xfrm rot="7751400">
                  <a:off x="1630440" y="24224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9" name="Полилиния 176"/>
                <p:cNvSpPr/>
                <p:nvPr/>
              </p:nvSpPr>
              <p:spPr>
                <a:xfrm rot="7751400">
                  <a:off x="1753560" y="247608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20" name="Группа 33"/>
              <p:cNvGrpSpPr/>
              <p:nvPr/>
            </p:nvGrpSpPr>
            <p:grpSpPr>
              <a:xfrm>
                <a:off x="804960" y="2023200"/>
                <a:ext cx="935280" cy="740520"/>
                <a:chOff x="804960" y="2023200"/>
                <a:chExt cx="935280" cy="740520"/>
              </a:xfrm>
            </p:grpSpPr>
            <p:sp>
              <p:nvSpPr>
                <p:cNvPr id="421" name="Полилиния 173"/>
                <p:cNvSpPr/>
                <p:nvPr/>
              </p:nvSpPr>
              <p:spPr>
                <a:xfrm rot="14703600">
                  <a:off x="1057320" y="197748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2" name="Полилиния 174"/>
                <p:cNvSpPr/>
                <p:nvPr/>
              </p:nvSpPr>
              <p:spPr>
                <a:xfrm rot="14703600">
                  <a:off x="1241280" y="220716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23" name="Группа 36"/>
              <p:cNvGrpSpPr/>
              <p:nvPr/>
            </p:nvGrpSpPr>
            <p:grpSpPr>
              <a:xfrm>
                <a:off x="911880" y="2212920"/>
                <a:ext cx="836640" cy="772200"/>
                <a:chOff x="911880" y="2212920"/>
                <a:chExt cx="836640" cy="772200"/>
              </a:xfrm>
            </p:grpSpPr>
            <p:sp>
              <p:nvSpPr>
                <p:cNvPr id="424" name="Полилиния 171"/>
                <p:cNvSpPr/>
                <p:nvPr/>
              </p:nvSpPr>
              <p:spPr>
                <a:xfrm rot="12352200">
                  <a:off x="994320" y="233244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5" name="Полилиния 172"/>
                <p:cNvSpPr/>
                <p:nvPr/>
              </p:nvSpPr>
              <p:spPr>
                <a:xfrm rot="12352200">
                  <a:off x="1300320" y="247464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26" name="Группа 39"/>
              <p:cNvGrpSpPr/>
              <p:nvPr/>
            </p:nvGrpSpPr>
            <p:grpSpPr>
              <a:xfrm>
                <a:off x="1136520" y="2494800"/>
                <a:ext cx="708840" cy="580680"/>
                <a:chOff x="1136520" y="2494800"/>
                <a:chExt cx="708840" cy="580680"/>
              </a:xfrm>
            </p:grpSpPr>
            <p:sp>
              <p:nvSpPr>
                <p:cNvPr id="427" name="Полилиния 169"/>
                <p:cNvSpPr/>
                <p:nvPr/>
              </p:nvSpPr>
              <p:spPr>
                <a:xfrm rot="10547400">
                  <a:off x="1155240" y="251856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Полилиния 170"/>
                <p:cNvSpPr/>
                <p:nvPr/>
              </p:nvSpPr>
              <p:spPr>
                <a:xfrm rot="10547400">
                  <a:off x="1460880" y="257940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29" name="Группа 42"/>
              <p:cNvGrpSpPr/>
              <p:nvPr/>
            </p:nvGrpSpPr>
            <p:grpSpPr>
              <a:xfrm>
                <a:off x="1404720" y="1756800"/>
                <a:ext cx="857160" cy="834840"/>
                <a:chOff x="1404720" y="1756800"/>
                <a:chExt cx="857160" cy="834840"/>
              </a:xfrm>
            </p:grpSpPr>
            <p:sp>
              <p:nvSpPr>
                <p:cNvPr id="430" name="Полилиния 167"/>
                <p:cNvSpPr/>
                <p:nvPr/>
              </p:nvSpPr>
              <p:spPr>
                <a:xfrm rot="19290000">
                  <a:off x="1497240" y="190764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1" name="Полилиния 168"/>
                <p:cNvSpPr/>
                <p:nvPr/>
              </p:nvSpPr>
              <p:spPr>
                <a:xfrm rot="19290000">
                  <a:off x="1550160" y="213084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2" name="Блок-схема: узел 166"/>
              <p:cNvSpPr/>
              <p:nvPr/>
            </p:nvSpPr>
            <p:spPr>
              <a:xfrm>
                <a:off x="1683360" y="2384280"/>
                <a:ext cx="278640" cy="17856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33" name="TextBox 186"/>
          <p:cNvSpPr/>
          <p:nvPr/>
        </p:nvSpPr>
        <p:spPr>
          <a:xfrm>
            <a:off x="357120" y="7142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Составьте четыре выра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Придумайте рассказ по каждому выражению с вопро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Box 189"/>
          <p:cNvSpPr/>
          <p:nvPr/>
        </p:nvSpPr>
        <p:spPr>
          <a:xfrm>
            <a:off x="71424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4 =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Box 162"/>
          <p:cNvSpPr/>
          <p:nvPr/>
        </p:nvSpPr>
        <p:spPr>
          <a:xfrm>
            <a:off x="2714760" y="214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Целое и ча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Box 163"/>
          <p:cNvSpPr/>
          <p:nvPr/>
        </p:nvSpPr>
        <p:spPr>
          <a:xfrm>
            <a:off x="714240" y="48578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1 =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"/>
          <p:cNvSpPr/>
          <p:nvPr/>
        </p:nvSpPr>
        <p:spPr>
          <a:xfrm>
            <a:off x="466920" y="5794200"/>
            <a:ext cx="284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I.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ктуализация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3492360" y="5734080"/>
            <a:ext cx="648000" cy="57636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4356000" y="5734080"/>
            <a:ext cx="647640" cy="5745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Облако 188"/>
          <p:cNvSpPr/>
          <p:nvPr/>
        </p:nvSpPr>
        <p:spPr>
          <a:xfrm>
            <a:off x="500040" y="2286000"/>
            <a:ext cx="8001000" cy="1928880"/>
          </a:xfrm>
          <a:custGeom>
            <a:avLst/>
            <a:gdLst>
              <a:gd name="textAreaLeft" fmla="*/ 1102680 w 8001000"/>
              <a:gd name="textAreaRight" fmla="*/ 6329520 w 80010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11520">
            <a:solidFill>
              <a:srgbClr val="00b05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1" name="Группа 48"/>
          <p:cNvGrpSpPr/>
          <p:nvPr/>
        </p:nvGrpSpPr>
        <p:grpSpPr>
          <a:xfrm>
            <a:off x="4323600" y="2549160"/>
            <a:ext cx="1016280" cy="1094040"/>
            <a:chOff x="4323600" y="2549160"/>
            <a:chExt cx="1016280" cy="1094040"/>
          </a:xfrm>
        </p:grpSpPr>
        <p:sp>
          <p:nvSpPr>
            <p:cNvPr id="442" name="Полилиния 47"/>
            <p:cNvSpPr/>
            <p:nvPr/>
          </p:nvSpPr>
          <p:spPr>
            <a:xfrm>
              <a:off x="4700520" y="297936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43" name="Группа 46"/>
            <p:cNvGrpSpPr/>
            <p:nvPr/>
          </p:nvGrpSpPr>
          <p:grpSpPr>
            <a:xfrm>
              <a:off x="4323600" y="2549160"/>
              <a:ext cx="1016280" cy="861840"/>
              <a:chOff x="4323600" y="2549160"/>
              <a:chExt cx="1016280" cy="861840"/>
            </a:xfrm>
          </p:grpSpPr>
          <p:grpSp>
            <p:nvGrpSpPr>
              <p:cNvPr id="444" name="Группа 14"/>
              <p:cNvGrpSpPr/>
              <p:nvPr/>
            </p:nvGrpSpPr>
            <p:grpSpPr>
              <a:xfrm>
                <a:off x="4835880" y="2719800"/>
                <a:ext cx="345960" cy="317160"/>
                <a:chOff x="4835880" y="2719800"/>
                <a:chExt cx="345960" cy="317160"/>
              </a:xfrm>
            </p:grpSpPr>
            <p:sp>
              <p:nvSpPr>
                <p:cNvPr id="445" name="Полилиния 11"/>
                <p:cNvSpPr/>
                <p:nvPr/>
              </p:nvSpPr>
              <p:spPr>
                <a:xfrm>
                  <a:off x="4835880" y="27198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6" name="Полилиния 13"/>
                <p:cNvSpPr/>
                <p:nvPr/>
              </p:nvSpPr>
              <p:spPr>
                <a:xfrm>
                  <a:off x="4835880" y="279936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7" name="Группа 15"/>
              <p:cNvGrpSpPr/>
              <p:nvPr/>
            </p:nvGrpSpPr>
            <p:grpSpPr>
              <a:xfrm>
                <a:off x="4434480" y="2640960"/>
                <a:ext cx="468360" cy="331200"/>
                <a:chOff x="4434480" y="2640960"/>
                <a:chExt cx="468360" cy="331200"/>
              </a:xfrm>
            </p:grpSpPr>
            <p:sp>
              <p:nvSpPr>
                <p:cNvPr id="448" name="Полилиния 16"/>
                <p:cNvSpPr/>
                <p:nvPr/>
              </p:nvSpPr>
              <p:spPr>
                <a:xfrm rot="16842600">
                  <a:off x="4540680" y="259236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9" name="Полилиния 17"/>
                <p:cNvSpPr/>
                <p:nvPr/>
              </p:nvSpPr>
              <p:spPr>
                <a:xfrm rot="16842600">
                  <a:off x="4612680" y="273744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0" name="Группа 18"/>
              <p:cNvGrpSpPr/>
              <p:nvPr/>
            </p:nvGrpSpPr>
            <p:grpSpPr>
              <a:xfrm>
                <a:off x="4870800" y="2768400"/>
                <a:ext cx="469080" cy="468720"/>
                <a:chOff x="4870800" y="2768400"/>
                <a:chExt cx="469080" cy="468720"/>
              </a:xfrm>
            </p:grpSpPr>
            <p:sp>
              <p:nvSpPr>
                <p:cNvPr id="451" name="Полилиния 19"/>
                <p:cNvSpPr/>
                <p:nvPr/>
              </p:nvSpPr>
              <p:spPr>
                <a:xfrm rot="2695200">
                  <a:off x="4932000" y="28440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Полилиния 20"/>
                <p:cNvSpPr/>
                <p:nvPr/>
              </p:nvSpPr>
              <p:spPr>
                <a:xfrm rot="2695200">
                  <a:off x="4942440" y="28620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3" name="Группа 24"/>
              <p:cNvGrpSpPr/>
              <p:nvPr/>
            </p:nvGrpSpPr>
            <p:grpSpPr>
              <a:xfrm>
                <a:off x="4789440" y="2976840"/>
                <a:ext cx="441720" cy="279000"/>
                <a:chOff x="4789440" y="2976840"/>
                <a:chExt cx="441720" cy="279000"/>
              </a:xfrm>
            </p:grpSpPr>
            <p:sp>
              <p:nvSpPr>
                <p:cNvPr id="454" name="Полилиния 25"/>
                <p:cNvSpPr/>
                <p:nvPr/>
              </p:nvSpPr>
              <p:spPr>
                <a:xfrm rot="5589000">
                  <a:off x="4881960" y="290196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Полилиния 26"/>
                <p:cNvSpPr/>
                <p:nvPr/>
              </p:nvSpPr>
              <p:spPr>
                <a:xfrm rot="5589000">
                  <a:off x="4919040" y="29250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6" name="Группа 27"/>
              <p:cNvGrpSpPr/>
              <p:nvPr/>
            </p:nvGrpSpPr>
            <p:grpSpPr>
              <a:xfrm>
                <a:off x="4620240" y="2941920"/>
                <a:ext cx="493920" cy="469080"/>
                <a:chOff x="4620240" y="2941920"/>
                <a:chExt cx="493920" cy="469080"/>
              </a:xfrm>
            </p:grpSpPr>
            <p:sp>
              <p:nvSpPr>
                <p:cNvPr id="457" name="Полилиния 28"/>
                <p:cNvSpPr/>
                <p:nvPr/>
              </p:nvSpPr>
              <p:spPr>
                <a:xfrm rot="7751400">
                  <a:off x="4739040" y="29620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8" name="Полилиния 29"/>
                <p:cNvSpPr/>
                <p:nvPr/>
              </p:nvSpPr>
              <p:spPr>
                <a:xfrm rot="7751400">
                  <a:off x="4815720" y="2983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9" name="Группа 33"/>
              <p:cNvGrpSpPr/>
              <p:nvPr/>
            </p:nvGrpSpPr>
            <p:grpSpPr>
              <a:xfrm>
                <a:off x="4323600" y="2705400"/>
                <a:ext cx="496440" cy="412560"/>
                <a:chOff x="4323600" y="2705400"/>
                <a:chExt cx="496440" cy="412560"/>
              </a:xfrm>
            </p:grpSpPr>
            <p:sp>
              <p:nvSpPr>
                <p:cNvPr id="460" name="Полилиния 34"/>
                <p:cNvSpPr/>
                <p:nvPr/>
              </p:nvSpPr>
              <p:spPr>
                <a:xfrm rot="14703600">
                  <a:off x="4443840" y="269712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1" name="Полилиния 35"/>
                <p:cNvSpPr/>
                <p:nvPr/>
              </p:nvSpPr>
              <p:spPr>
                <a:xfrm rot="14703600">
                  <a:off x="4549680" y="28227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62" name="Группа 36"/>
              <p:cNvGrpSpPr/>
              <p:nvPr/>
            </p:nvGrpSpPr>
            <p:grpSpPr>
              <a:xfrm>
                <a:off x="4376520" y="2815200"/>
                <a:ext cx="449640" cy="436320"/>
                <a:chOff x="4376520" y="2815200"/>
                <a:chExt cx="449640" cy="436320"/>
              </a:xfrm>
            </p:grpSpPr>
            <p:sp>
              <p:nvSpPr>
                <p:cNvPr id="463" name="Полилиния 37"/>
                <p:cNvSpPr/>
                <p:nvPr/>
              </p:nvSpPr>
              <p:spPr>
                <a:xfrm rot="12352200">
                  <a:off x="4428360" y="28746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4" name="Полилиния 38"/>
                <p:cNvSpPr/>
                <p:nvPr/>
              </p:nvSpPr>
              <p:spPr>
                <a:xfrm rot="12352200">
                  <a:off x="4587120" y="29538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65" name="Группа 39"/>
              <p:cNvGrpSpPr/>
              <p:nvPr/>
            </p:nvGrpSpPr>
            <p:grpSpPr>
              <a:xfrm>
                <a:off x="4500000" y="2973240"/>
                <a:ext cx="368280" cy="342000"/>
                <a:chOff x="4500000" y="2973240"/>
                <a:chExt cx="368280" cy="342000"/>
              </a:xfrm>
            </p:grpSpPr>
            <p:sp>
              <p:nvSpPr>
                <p:cNvPr id="466" name="Полилиния 40"/>
                <p:cNvSpPr/>
                <p:nvPr/>
              </p:nvSpPr>
              <p:spPr>
                <a:xfrm rot="10547400">
                  <a:off x="4510800" y="298548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Полилиния 41"/>
                <p:cNvSpPr/>
                <p:nvPr/>
              </p:nvSpPr>
              <p:spPr>
                <a:xfrm rot="10547400">
                  <a:off x="4668120" y="302220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68" name="Группа 42"/>
              <p:cNvGrpSpPr/>
              <p:nvPr/>
            </p:nvGrpSpPr>
            <p:grpSpPr>
              <a:xfrm>
                <a:off x="4626720" y="2549160"/>
                <a:ext cx="468360" cy="463320"/>
                <a:chOff x="4626720" y="2549160"/>
                <a:chExt cx="468360" cy="463320"/>
              </a:xfrm>
            </p:grpSpPr>
            <p:sp>
              <p:nvSpPr>
                <p:cNvPr id="469" name="Полилиния 43"/>
                <p:cNvSpPr/>
                <p:nvPr/>
              </p:nvSpPr>
              <p:spPr>
                <a:xfrm rot="19290000">
                  <a:off x="4687560" y="262224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0" name="Полилиния 44"/>
                <p:cNvSpPr/>
                <p:nvPr/>
              </p:nvSpPr>
              <p:spPr>
                <a:xfrm rot="19290000">
                  <a:off x="4716360" y="274716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71" name="Блок-схема: узел 45"/>
              <p:cNvSpPr/>
              <p:nvPr/>
            </p:nvSpPr>
            <p:spPr>
              <a:xfrm>
                <a:off x="4783680" y="290592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72" name="Группа 49"/>
          <p:cNvGrpSpPr/>
          <p:nvPr/>
        </p:nvGrpSpPr>
        <p:grpSpPr>
          <a:xfrm>
            <a:off x="3180600" y="1549080"/>
            <a:ext cx="1016280" cy="1094040"/>
            <a:chOff x="3180600" y="1549080"/>
            <a:chExt cx="1016280" cy="1094040"/>
          </a:xfrm>
        </p:grpSpPr>
        <p:sp>
          <p:nvSpPr>
            <p:cNvPr id="473" name="Полилиния 50"/>
            <p:cNvSpPr/>
            <p:nvPr/>
          </p:nvSpPr>
          <p:spPr>
            <a:xfrm>
              <a:off x="3557520" y="197928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4" name="Группа 46"/>
            <p:cNvGrpSpPr/>
            <p:nvPr/>
          </p:nvGrpSpPr>
          <p:grpSpPr>
            <a:xfrm>
              <a:off x="3180600" y="1549080"/>
              <a:ext cx="1016280" cy="861840"/>
              <a:chOff x="3180600" y="1549080"/>
              <a:chExt cx="1016280" cy="861840"/>
            </a:xfrm>
          </p:grpSpPr>
          <p:grpSp>
            <p:nvGrpSpPr>
              <p:cNvPr id="475" name="Группа 14"/>
              <p:cNvGrpSpPr/>
              <p:nvPr/>
            </p:nvGrpSpPr>
            <p:grpSpPr>
              <a:xfrm>
                <a:off x="3692880" y="1719720"/>
                <a:ext cx="345960" cy="317160"/>
                <a:chOff x="3692880" y="1719720"/>
                <a:chExt cx="345960" cy="317160"/>
              </a:xfrm>
            </p:grpSpPr>
            <p:sp>
              <p:nvSpPr>
                <p:cNvPr id="476" name="Полилиния 11"/>
                <p:cNvSpPr/>
                <p:nvPr/>
              </p:nvSpPr>
              <p:spPr>
                <a:xfrm>
                  <a:off x="3692880" y="1719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7" name="Полилиния 79"/>
                <p:cNvSpPr/>
                <p:nvPr/>
              </p:nvSpPr>
              <p:spPr>
                <a:xfrm>
                  <a:off x="3692880" y="1799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8" name="Группа 15"/>
              <p:cNvGrpSpPr/>
              <p:nvPr/>
            </p:nvGrpSpPr>
            <p:grpSpPr>
              <a:xfrm>
                <a:off x="3291480" y="1640880"/>
                <a:ext cx="468360" cy="331200"/>
                <a:chOff x="3291480" y="1640880"/>
                <a:chExt cx="468360" cy="331200"/>
              </a:xfrm>
            </p:grpSpPr>
            <p:sp>
              <p:nvSpPr>
                <p:cNvPr id="479" name="Полилиния 76"/>
                <p:cNvSpPr/>
                <p:nvPr/>
              </p:nvSpPr>
              <p:spPr>
                <a:xfrm rot="16842600">
                  <a:off x="3397680" y="15922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0" name="Полилиния 77"/>
                <p:cNvSpPr/>
                <p:nvPr/>
              </p:nvSpPr>
              <p:spPr>
                <a:xfrm rot="16842600">
                  <a:off x="3469680" y="17373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1" name="Группа 18"/>
              <p:cNvGrpSpPr/>
              <p:nvPr/>
            </p:nvGrpSpPr>
            <p:grpSpPr>
              <a:xfrm>
                <a:off x="3727800" y="1768320"/>
                <a:ext cx="469080" cy="468720"/>
                <a:chOff x="3727800" y="1768320"/>
                <a:chExt cx="469080" cy="468720"/>
              </a:xfrm>
            </p:grpSpPr>
            <p:sp>
              <p:nvSpPr>
                <p:cNvPr id="482" name="Полилиния 74"/>
                <p:cNvSpPr/>
                <p:nvPr/>
              </p:nvSpPr>
              <p:spPr>
                <a:xfrm rot="2695200">
                  <a:off x="3789000" y="18439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3" name="Полилиния 75"/>
                <p:cNvSpPr/>
                <p:nvPr/>
              </p:nvSpPr>
              <p:spPr>
                <a:xfrm rot="2695200">
                  <a:off x="3799440" y="1861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4" name="Группа 24"/>
              <p:cNvGrpSpPr/>
              <p:nvPr/>
            </p:nvGrpSpPr>
            <p:grpSpPr>
              <a:xfrm>
                <a:off x="3646440" y="1976760"/>
                <a:ext cx="441720" cy="279000"/>
                <a:chOff x="3646440" y="1976760"/>
                <a:chExt cx="441720" cy="279000"/>
              </a:xfrm>
            </p:grpSpPr>
            <p:sp>
              <p:nvSpPr>
                <p:cNvPr id="485" name="Полилиния 72"/>
                <p:cNvSpPr/>
                <p:nvPr/>
              </p:nvSpPr>
              <p:spPr>
                <a:xfrm rot="5589000">
                  <a:off x="3738960" y="19018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6" name="Полилиния 73"/>
                <p:cNvSpPr/>
                <p:nvPr/>
              </p:nvSpPr>
              <p:spPr>
                <a:xfrm rot="5589000">
                  <a:off x="3776040" y="19249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7" name="Группа 27"/>
              <p:cNvGrpSpPr/>
              <p:nvPr/>
            </p:nvGrpSpPr>
            <p:grpSpPr>
              <a:xfrm>
                <a:off x="3477240" y="1941840"/>
                <a:ext cx="493920" cy="469080"/>
                <a:chOff x="3477240" y="1941840"/>
                <a:chExt cx="493920" cy="469080"/>
              </a:xfrm>
            </p:grpSpPr>
            <p:sp>
              <p:nvSpPr>
                <p:cNvPr id="488" name="Полилиния 70"/>
                <p:cNvSpPr/>
                <p:nvPr/>
              </p:nvSpPr>
              <p:spPr>
                <a:xfrm rot="7751400">
                  <a:off x="3596040" y="196200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9" name="Полилиния 71"/>
                <p:cNvSpPr/>
                <p:nvPr/>
              </p:nvSpPr>
              <p:spPr>
                <a:xfrm rot="7751400">
                  <a:off x="3672720" y="1983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90" name="Группа 33"/>
              <p:cNvGrpSpPr/>
              <p:nvPr/>
            </p:nvGrpSpPr>
            <p:grpSpPr>
              <a:xfrm>
                <a:off x="3180600" y="1705320"/>
                <a:ext cx="496440" cy="412560"/>
                <a:chOff x="3180600" y="1705320"/>
                <a:chExt cx="496440" cy="412560"/>
              </a:xfrm>
            </p:grpSpPr>
            <p:sp>
              <p:nvSpPr>
                <p:cNvPr id="491" name="Полилиния 68"/>
                <p:cNvSpPr/>
                <p:nvPr/>
              </p:nvSpPr>
              <p:spPr>
                <a:xfrm rot="14703600">
                  <a:off x="3300840" y="169704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2" name="Полилиния 69"/>
                <p:cNvSpPr/>
                <p:nvPr/>
              </p:nvSpPr>
              <p:spPr>
                <a:xfrm rot="14703600">
                  <a:off x="3406680" y="1822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93" name="Группа 36"/>
              <p:cNvGrpSpPr/>
              <p:nvPr/>
            </p:nvGrpSpPr>
            <p:grpSpPr>
              <a:xfrm>
                <a:off x="3233520" y="1815120"/>
                <a:ext cx="449640" cy="436320"/>
                <a:chOff x="3233520" y="1815120"/>
                <a:chExt cx="449640" cy="436320"/>
              </a:xfrm>
            </p:grpSpPr>
            <p:sp>
              <p:nvSpPr>
                <p:cNvPr id="494" name="Полилиния 66"/>
                <p:cNvSpPr/>
                <p:nvPr/>
              </p:nvSpPr>
              <p:spPr>
                <a:xfrm rot="12352200">
                  <a:off x="3285360" y="18745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5" name="Полилиния 67"/>
                <p:cNvSpPr/>
                <p:nvPr/>
              </p:nvSpPr>
              <p:spPr>
                <a:xfrm rot="12352200">
                  <a:off x="3444120" y="19537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96" name="Группа 39"/>
              <p:cNvGrpSpPr/>
              <p:nvPr/>
            </p:nvGrpSpPr>
            <p:grpSpPr>
              <a:xfrm>
                <a:off x="3357000" y="1973160"/>
                <a:ext cx="368280" cy="342000"/>
                <a:chOff x="3357000" y="1973160"/>
                <a:chExt cx="368280" cy="342000"/>
              </a:xfrm>
            </p:grpSpPr>
            <p:sp>
              <p:nvSpPr>
                <p:cNvPr id="497" name="Полилиния 64"/>
                <p:cNvSpPr/>
                <p:nvPr/>
              </p:nvSpPr>
              <p:spPr>
                <a:xfrm rot="10547400">
                  <a:off x="3367800" y="19854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8" name="Полилиния 65"/>
                <p:cNvSpPr/>
                <p:nvPr/>
              </p:nvSpPr>
              <p:spPr>
                <a:xfrm rot="10547400">
                  <a:off x="3525120" y="2022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99" name="Группа 42"/>
              <p:cNvGrpSpPr/>
              <p:nvPr/>
            </p:nvGrpSpPr>
            <p:grpSpPr>
              <a:xfrm>
                <a:off x="3483720" y="1549080"/>
                <a:ext cx="468360" cy="463320"/>
                <a:chOff x="3483720" y="1549080"/>
                <a:chExt cx="468360" cy="463320"/>
              </a:xfrm>
            </p:grpSpPr>
            <p:sp>
              <p:nvSpPr>
                <p:cNvPr id="500" name="Полилиния 62"/>
                <p:cNvSpPr/>
                <p:nvPr/>
              </p:nvSpPr>
              <p:spPr>
                <a:xfrm rot="19290000">
                  <a:off x="3544560" y="16221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1" name="Полилиния 63"/>
                <p:cNvSpPr/>
                <p:nvPr/>
              </p:nvSpPr>
              <p:spPr>
                <a:xfrm rot="19290000">
                  <a:off x="3573360" y="17470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02" name="Блок-схема: узел 61"/>
              <p:cNvSpPr/>
              <p:nvPr/>
            </p:nvSpPr>
            <p:spPr>
              <a:xfrm>
                <a:off x="3640680" y="190584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03" name="Группа 80"/>
          <p:cNvGrpSpPr/>
          <p:nvPr/>
        </p:nvGrpSpPr>
        <p:grpSpPr>
          <a:xfrm>
            <a:off x="5466960" y="1763280"/>
            <a:ext cx="1015920" cy="1094400"/>
            <a:chOff x="5466960" y="1763280"/>
            <a:chExt cx="1015920" cy="1094400"/>
          </a:xfrm>
        </p:grpSpPr>
        <p:sp>
          <p:nvSpPr>
            <p:cNvPr id="504" name="Полилиния 81"/>
            <p:cNvSpPr/>
            <p:nvPr/>
          </p:nvSpPr>
          <p:spPr>
            <a:xfrm>
              <a:off x="5843520" y="219384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Группа 46"/>
            <p:cNvGrpSpPr/>
            <p:nvPr/>
          </p:nvGrpSpPr>
          <p:grpSpPr>
            <a:xfrm>
              <a:off x="5466960" y="1763280"/>
              <a:ext cx="1015920" cy="862200"/>
              <a:chOff x="5466960" y="1763280"/>
              <a:chExt cx="1015920" cy="862200"/>
            </a:xfrm>
          </p:grpSpPr>
          <p:grpSp>
            <p:nvGrpSpPr>
              <p:cNvPr id="506" name="Группа 14"/>
              <p:cNvGrpSpPr/>
              <p:nvPr/>
            </p:nvGrpSpPr>
            <p:grpSpPr>
              <a:xfrm>
                <a:off x="5978880" y="1934280"/>
                <a:ext cx="345960" cy="317160"/>
                <a:chOff x="5978880" y="1934280"/>
                <a:chExt cx="345960" cy="317160"/>
              </a:xfrm>
            </p:grpSpPr>
            <p:sp>
              <p:nvSpPr>
                <p:cNvPr id="507" name="Полилиния 11"/>
                <p:cNvSpPr/>
                <p:nvPr/>
              </p:nvSpPr>
              <p:spPr>
                <a:xfrm>
                  <a:off x="5978880" y="193428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8" name="Полилиния 110"/>
                <p:cNvSpPr/>
                <p:nvPr/>
              </p:nvSpPr>
              <p:spPr>
                <a:xfrm>
                  <a:off x="5978880" y="201384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9" name="Группа 15"/>
              <p:cNvGrpSpPr/>
              <p:nvPr/>
            </p:nvGrpSpPr>
            <p:grpSpPr>
              <a:xfrm>
                <a:off x="5577480" y="1855440"/>
                <a:ext cx="468720" cy="331560"/>
                <a:chOff x="5577480" y="1855440"/>
                <a:chExt cx="468720" cy="331560"/>
              </a:xfrm>
            </p:grpSpPr>
            <p:sp>
              <p:nvSpPr>
                <p:cNvPr id="510" name="Полилиния 107"/>
                <p:cNvSpPr/>
                <p:nvPr/>
              </p:nvSpPr>
              <p:spPr>
                <a:xfrm rot="16842600">
                  <a:off x="5683320" y="180684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1" name="Полилиния 108"/>
                <p:cNvSpPr/>
                <p:nvPr/>
              </p:nvSpPr>
              <p:spPr>
                <a:xfrm rot="16842600">
                  <a:off x="5755680" y="19522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2" name="Группа 18"/>
              <p:cNvGrpSpPr/>
              <p:nvPr/>
            </p:nvGrpSpPr>
            <p:grpSpPr>
              <a:xfrm>
                <a:off x="6013800" y="1982520"/>
                <a:ext cx="469080" cy="468720"/>
                <a:chOff x="6013800" y="1982520"/>
                <a:chExt cx="469080" cy="468720"/>
              </a:xfrm>
            </p:grpSpPr>
            <p:sp>
              <p:nvSpPr>
                <p:cNvPr id="513" name="Полилиния 105"/>
                <p:cNvSpPr/>
                <p:nvPr/>
              </p:nvSpPr>
              <p:spPr>
                <a:xfrm rot="2695200">
                  <a:off x="6075000" y="20581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4" name="Полилиния 106"/>
                <p:cNvSpPr/>
                <p:nvPr/>
              </p:nvSpPr>
              <p:spPr>
                <a:xfrm rot="2695200">
                  <a:off x="6085440" y="2076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5" name="Группа 24"/>
              <p:cNvGrpSpPr/>
              <p:nvPr/>
            </p:nvGrpSpPr>
            <p:grpSpPr>
              <a:xfrm>
                <a:off x="5932440" y="2190960"/>
                <a:ext cx="441720" cy="279360"/>
                <a:chOff x="5932440" y="2190960"/>
                <a:chExt cx="441720" cy="279360"/>
              </a:xfrm>
            </p:grpSpPr>
            <p:sp>
              <p:nvSpPr>
                <p:cNvPr id="516" name="Полилиния 103"/>
                <p:cNvSpPr/>
                <p:nvPr/>
              </p:nvSpPr>
              <p:spPr>
                <a:xfrm rot="5589000">
                  <a:off x="6024960" y="211608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7" name="Полилиния 104"/>
                <p:cNvSpPr/>
                <p:nvPr/>
              </p:nvSpPr>
              <p:spPr>
                <a:xfrm rot="5589000">
                  <a:off x="6062040" y="21391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8" name="Группа 27"/>
              <p:cNvGrpSpPr/>
              <p:nvPr/>
            </p:nvGrpSpPr>
            <p:grpSpPr>
              <a:xfrm>
                <a:off x="5763600" y="2156040"/>
                <a:ext cx="493920" cy="469440"/>
                <a:chOff x="5763600" y="2156040"/>
                <a:chExt cx="493920" cy="469440"/>
              </a:xfrm>
            </p:grpSpPr>
            <p:sp>
              <p:nvSpPr>
                <p:cNvPr id="519" name="Полилиния 101"/>
                <p:cNvSpPr/>
                <p:nvPr/>
              </p:nvSpPr>
              <p:spPr>
                <a:xfrm rot="7751400">
                  <a:off x="5882040" y="217620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0" name="Полилиния 102"/>
                <p:cNvSpPr/>
                <p:nvPr/>
              </p:nvSpPr>
              <p:spPr>
                <a:xfrm rot="7751400">
                  <a:off x="5958720" y="21978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21" name="Группа 33"/>
              <p:cNvGrpSpPr/>
              <p:nvPr/>
            </p:nvGrpSpPr>
            <p:grpSpPr>
              <a:xfrm>
                <a:off x="5466960" y="1919880"/>
                <a:ext cx="496440" cy="412920"/>
                <a:chOff x="5466960" y="1919880"/>
                <a:chExt cx="496440" cy="412920"/>
              </a:xfrm>
            </p:grpSpPr>
            <p:sp>
              <p:nvSpPr>
                <p:cNvPr id="522" name="Полилиния 99"/>
                <p:cNvSpPr/>
                <p:nvPr/>
              </p:nvSpPr>
              <p:spPr>
                <a:xfrm rot="14703600">
                  <a:off x="5586840" y="1911960"/>
                  <a:ext cx="25632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Полилиния 100"/>
                <p:cNvSpPr/>
                <p:nvPr/>
              </p:nvSpPr>
              <p:spPr>
                <a:xfrm rot="14703600">
                  <a:off x="5693040" y="2037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24" name="Группа 36"/>
              <p:cNvGrpSpPr/>
              <p:nvPr/>
            </p:nvGrpSpPr>
            <p:grpSpPr>
              <a:xfrm>
                <a:off x="5519520" y="2029320"/>
                <a:ext cx="449640" cy="436320"/>
                <a:chOff x="5519520" y="2029320"/>
                <a:chExt cx="449640" cy="436320"/>
              </a:xfrm>
            </p:grpSpPr>
            <p:sp>
              <p:nvSpPr>
                <p:cNvPr id="525" name="Полилиния 97"/>
                <p:cNvSpPr/>
                <p:nvPr/>
              </p:nvSpPr>
              <p:spPr>
                <a:xfrm rot="12352200">
                  <a:off x="5571360" y="2088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Полилиния 98"/>
                <p:cNvSpPr/>
                <p:nvPr/>
              </p:nvSpPr>
              <p:spPr>
                <a:xfrm rot="12352200">
                  <a:off x="5730120" y="2167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27" name="Группа 39"/>
              <p:cNvGrpSpPr/>
              <p:nvPr/>
            </p:nvGrpSpPr>
            <p:grpSpPr>
              <a:xfrm>
                <a:off x="5643000" y="2187720"/>
                <a:ext cx="368280" cy="342000"/>
                <a:chOff x="5643000" y="2187720"/>
                <a:chExt cx="368280" cy="342000"/>
              </a:xfrm>
            </p:grpSpPr>
            <p:sp>
              <p:nvSpPr>
                <p:cNvPr id="528" name="Полилиния 95"/>
                <p:cNvSpPr/>
                <p:nvPr/>
              </p:nvSpPr>
              <p:spPr>
                <a:xfrm rot="10547400">
                  <a:off x="5653800" y="21999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9" name="Полилиния 96"/>
                <p:cNvSpPr/>
                <p:nvPr/>
              </p:nvSpPr>
              <p:spPr>
                <a:xfrm rot="10547400">
                  <a:off x="5811120" y="22366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0" name="Группа 42"/>
              <p:cNvGrpSpPr/>
              <p:nvPr/>
            </p:nvGrpSpPr>
            <p:grpSpPr>
              <a:xfrm>
                <a:off x="5769720" y="1763280"/>
                <a:ext cx="468360" cy="463320"/>
                <a:chOff x="5769720" y="1763280"/>
                <a:chExt cx="468360" cy="463320"/>
              </a:xfrm>
            </p:grpSpPr>
            <p:sp>
              <p:nvSpPr>
                <p:cNvPr id="531" name="Полилиния 93"/>
                <p:cNvSpPr/>
                <p:nvPr/>
              </p:nvSpPr>
              <p:spPr>
                <a:xfrm rot="19290000">
                  <a:off x="5830560" y="18363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2" name="Полилиния 94"/>
                <p:cNvSpPr/>
                <p:nvPr/>
              </p:nvSpPr>
              <p:spPr>
                <a:xfrm rot="19290000">
                  <a:off x="5859360" y="1961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33" name="Блок-схема: узел 92"/>
              <p:cNvSpPr/>
              <p:nvPr/>
            </p:nvSpPr>
            <p:spPr>
              <a:xfrm>
                <a:off x="5926680" y="212040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34" name="Группа 111"/>
          <p:cNvGrpSpPr/>
          <p:nvPr/>
        </p:nvGrpSpPr>
        <p:grpSpPr>
          <a:xfrm>
            <a:off x="6609600" y="2692080"/>
            <a:ext cx="1016280" cy="1094040"/>
            <a:chOff x="6609600" y="2692080"/>
            <a:chExt cx="1016280" cy="1094040"/>
          </a:xfrm>
        </p:grpSpPr>
        <p:sp>
          <p:nvSpPr>
            <p:cNvPr id="535" name="Полилиния 112"/>
            <p:cNvSpPr/>
            <p:nvPr/>
          </p:nvSpPr>
          <p:spPr>
            <a:xfrm>
              <a:off x="6986520" y="3122280"/>
              <a:ext cx="125280" cy="66384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6" name="Группа 46"/>
            <p:cNvGrpSpPr/>
            <p:nvPr/>
          </p:nvGrpSpPr>
          <p:grpSpPr>
            <a:xfrm>
              <a:off x="6609600" y="2692080"/>
              <a:ext cx="1016280" cy="861840"/>
              <a:chOff x="6609600" y="2692080"/>
              <a:chExt cx="1016280" cy="861840"/>
            </a:xfrm>
          </p:grpSpPr>
          <p:grpSp>
            <p:nvGrpSpPr>
              <p:cNvPr id="537" name="Группа 14"/>
              <p:cNvGrpSpPr/>
              <p:nvPr/>
            </p:nvGrpSpPr>
            <p:grpSpPr>
              <a:xfrm>
                <a:off x="7121880" y="2862720"/>
                <a:ext cx="345960" cy="317160"/>
                <a:chOff x="7121880" y="2862720"/>
                <a:chExt cx="345960" cy="317160"/>
              </a:xfrm>
            </p:grpSpPr>
            <p:sp>
              <p:nvSpPr>
                <p:cNvPr id="538" name="Полилиния 11"/>
                <p:cNvSpPr/>
                <p:nvPr/>
              </p:nvSpPr>
              <p:spPr>
                <a:xfrm>
                  <a:off x="7121880" y="28627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Полилиния 141"/>
                <p:cNvSpPr/>
                <p:nvPr/>
              </p:nvSpPr>
              <p:spPr>
                <a:xfrm>
                  <a:off x="7121880" y="29422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40" name="Группа 15"/>
              <p:cNvGrpSpPr/>
              <p:nvPr/>
            </p:nvGrpSpPr>
            <p:grpSpPr>
              <a:xfrm>
                <a:off x="6720480" y="2783880"/>
                <a:ext cx="468360" cy="331200"/>
                <a:chOff x="6720480" y="2783880"/>
                <a:chExt cx="468360" cy="331200"/>
              </a:xfrm>
            </p:grpSpPr>
            <p:sp>
              <p:nvSpPr>
                <p:cNvPr id="541" name="Полилиния 138"/>
                <p:cNvSpPr/>
                <p:nvPr/>
              </p:nvSpPr>
              <p:spPr>
                <a:xfrm rot="16842600">
                  <a:off x="6826680" y="27352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Полилиния 139"/>
                <p:cNvSpPr/>
                <p:nvPr/>
              </p:nvSpPr>
              <p:spPr>
                <a:xfrm rot="16842600">
                  <a:off x="6898680" y="288036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43" name="Группа 18"/>
              <p:cNvGrpSpPr/>
              <p:nvPr/>
            </p:nvGrpSpPr>
            <p:grpSpPr>
              <a:xfrm>
                <a:off x="7156800" y="2911320"/>
                <a:ext cx="469080" cy="468720"/>
                <a:chOff x="7156800" y="2911320"/>
                <a:chExt cx="469080" cy="468720"/>
              </a:xfrm>
            </p:grpSpPr>
            <p:sp>
              <p:nvSpPr>
                <p:cNvPr id="544" name="Полилиния 136"/>
                <p:cNvSpPr/>
                <p:nvPr/>
              </p:nvSpPr>
              <p:spPr>
                <a:xfrm rot="2695200">
                  <a:off x="7218000" y="29869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5" name="Полилиния 137"/>
                <p:cNvSpPr/>
                <p:nvPr/>
              </p:nvSpPr>
              <p:spPr>
                <a:xfrm rot="2695200">
                  <a:off x="7228440" y="30049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46" name="Группа 24"/>
              <p:cNvGrpSpPr/>
              <p:nvPr/>
            </p:nvGrpSpPr>
            <p:grpSpPr>
              <a:xfrm>
                <a:off x="7075440" y="3119760"/>
                <a:ext cx="441720" cy="279000"/>
                <a:chOff x="7075440" y="3119760"/>
                <a:chExt cx="441720" cy="279000"/>
              </a:xfrm>
            </p:grpSpPr>
            <p:sp>
              <p:nvSpPr>
                <p:cNvPr id="547" name="Полилиния 134"/>
                <p:cNvSpPr/>
                <p:nvPr/>
              </p:nvSpPr>
              <p:spPr>
                <a:xfrm rot="5589000">
                  <a:off x="7167960" y="304488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8" name="Полилиния 135"/>
                <p:cNvSpPr/>
                <p:nvPr/>
              </p:nvSpPr>
              <p:spPr>
                <a:xfrm rot="5589000">
                  <a:off x="7205040" y="306792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49" name="Группа 27"/>
              <p:cNvGrpSpPr/>
              <p:nvPr/>
            </p:nvGrpSpPr>
            <p:grpSpPr>
              <a:xfrm>
                <a:off x="6906240" y="3084840"/>
                <a:ext cx="493920" cy="469080"/>
                <a:chOff x="6906240" y="3084840"/>
                <a:chExt cx="493920" cy="469080"/>
              </a:xfrm>
            </p:grpSpPr>
            <p:sp>
              <p:nvSpPr>
                <p:cNvPr id="550" name="Полилиния 132"/>
                <p:cNvSpPr/>
                <p:nvPr/>
              </p:nvSpPr>
              <p:spPr>
                <a:xfrm rot="7751400">
                  <a:off x="7025040" y="310500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1" name="Полилиния 133"/>
                <p:cNvSpPr/>
                <p:nvPr/>
              </p:nvSpPr>
              <p:spPr>
                <a:xfrm rot="7751400">
                  <a:off x="7101720" y="312660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52" name="Группа 33"/>
              <p:cNvGrpSpPr/>
              <p:nvPr/>
            </p:nvGrpSpPr>
            <p:grpSpPr>
              <a:xfrm>
                <a:off x="6609600" y="2848320"/>
                <a:ext cx="496440" cy="412560"/>
                <a:chOff x="6609600" y="2848320"/>
                <a:chExt cx="496440" cy="412560"/>
              </a:xfrm>
            </p:grpSpPr>
            <p:sp>
              <p:nvSpPr>
                <p:cNvPr id="553" name="Полилиния 130"/>
                <p:cNvSpPr/>
                <p:nvPr/>
              </p:nvSpPr>
              <p:spPr>
                <a:xfrm rot="14703600">
                  <a:off x="6729840" y="2840040"/>
                  <a:ext cx="255960" cy="4284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4" name="Полилиния 131"/>
                <p:cNvSpPr/>
                <p:nvPr/>
              </p:nvSpPr>
              <p:spPr>
                <a:xfrm rot="14703600">
                  <a:off x="6835680" y="2965680"/>
                  <a:ext cx="138600" cy="26280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55" name="Группа 36"/>
              <p:cNvGrpSpPr/>
              <p:nvPr/>
            </p:nvGrpSpPr>
            <p:grpSpPr>
              <a:xfrm>
                <a:off x="6662520" y="2958120"/>
                <a:ext cx="449640" cy="436320"/>
                <a:chOff x="6662520" y="2958120"/>
                <a:chExt cx="449640" cy="436320"/>
              </a:xfrm>
            </p:grpSpPr>
            <p:sp>
              <p:nvSpPr>
                <p:cNvPr id="556" name="Полилиния 128"/>
                <p:cNvSpPr/>
                <p:nvPr/>
              </p:nvSpPr>
              <p:spPr>
                <a:xfrm rot="12352200">
                  <a:off x="6714360" y="301752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Полилиния 129"/>
                <p:cNvSpPr/>
                <p:nvPr/>
              </p:nvSpPr>
              <p:spPr>
                <a:xfrm rot="12352200">
                  <a:off x="6873120" y="30967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58" name="Группа 39"/>
              <p:cNvGrpSpPr/>
              <p:nvPr/>
            </p:nvGrpSpPr>
            <p:grpSpPr>
              <a:xfrm>
                <a:off x="6786000" y="3116160"/>
                <a:ext cx="368280" cy="342000"/>
                <a:chOff x="6786000" y="3116160"/>
                <a:chExt cx="368280" cy="342000"/>
              </a:xfrm>
            </p:grpSpPr>
            <p:sp>
              <p:nvSpPr>
                <p:cNvPr id="559" name="Полилиния 126"/>
                <p:cNvSpPr/>
                <p:nvPr/>
              </p:nvSpPr>
              <p:spPr>
                <a:xfrm rot="10547400">
                  <a:off x="6796800" y="312840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Полилиния 127"/>
                <p:cNvSpPr/>
                <p:nvPr/>
              </p:nvSpPr>
              <p:spPr>
                <a:xfrm rot="10547400">
                  <a:off x="6954120" y="316512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1" name="Группа 42"/>
              <p:cNvGrpSpPr/>
              <p:nvPr/>
            </p:nvGrpSpPr>
            <p:grpSpPr>
              <a:xfrm>
                <a:off x="6912720" y="2692080"/>
                <a:ext cx="468360" cy="463320"/>
                <a:chOff x="6912720" y="2692080"/>
                <a:chExt cx="468360" cy="463320"/>
              </a:xfrm>
            </p:grpSpPr>
            <p:sp>
              <p:nvSpPr>
                <p:cNvPr id="562" name="Полилиния 124"/>
                <p:cNvSpPr/>
                <p:nvPr/>
              </p:nvSpPr>
              <p:spPr>
                <a:xfrm rot="19290000">
                  <a:off x="6973560" y="2765160"/>
                  <a:ext cx="345960" cy="31716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3" name="Полилиния 125"/>
                <p:cNvSpPr/>
                <p:nvPr/>
              </p:nvSpPr>
              <p:spPr>
                <a:xfrm rot="19290000">
                  <a:off x="7002360" y="2890080"/>
                  <a:ext cx="187200" cy="19476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4" name="Блок-схема: узел 123"/>
              <p:cNvSpPr/>
              <p:nvPr/>
            </p:nvSpPr>
            <p:spPr>
              <a:xfrm>
                <a:off x="7069680" y="3048840"/>
                <a:ext cx="143640" cy="10620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65" name="Группа 190"/>
          <p:cNvGrpSpPr/>
          <p:nvPr/>
        </p:nvGrpSpPr>
        <p:grpSpPr>
          <a:xfrm>
            <a:off x="804960" y="1756800"/>
            <a:ext cx="1928160" cy="1865880"/>
            <a:chOff x="804960" y="1756800"/>
            <a:chExt cx="1928160" cy="1865880"/>
          </a:xfrm>
        </p:grpSpPr>
        <p:sp>
          <p:nvSpPr>
            <p:cNvPr id="566" name="Полилиния 155"/>
            <p:cNvSpPr/>
            <p:nvPr/>
          </p:nvSpPr>
          <p:spPr>
            <a:xfrm>
              <a:off x="1522440" y="2507760"/>
              <a:ext cx="243000" cy="1114920"/>
            </a:xfrm>
            <a:custGeom>
              <a:avLst/>
              <a:gdLst/>
              <a:ahLst/>
              <a:rect l="l" t="t" r="r" b="b"/>
              <a:pathLst>
                <a:path w="186990" h="1338049">
                  <a:moveTo>
                    <a:pt x="69003" y="10694"/>
                  </a:moveTo>
                  <a:cubicBezTo>
                    <a:pt x="73919" y="25442"/>
                    <a:pt x="84068" y="39396"/>
                    <a:pt x="83751" y="54939"/>
                  </a:cubicBezTo>
                  <a:cubicBezTo>
                    <a:pt x="71239" y="668049"/>
                    <a:pt x="96647" y="521412"/>
                    <a:pt x="39506" y="807107"/>
                  </a:cubicBezTo>
                  <a:cubicBezTo>
                    <a:pt x="34590" y="905430"/>
                    <a:pt x="31531" y="1003863"/>
                    <a:pt x="24758" y="1102075"/>
                  </a:cubicBezTo>
                  <a:cubicBezTo>
                    <a:pt x="10925" y="1302646"/>
                    <a:pt x="0" y="1164748"/>
                    <a:pt x="24758" y="1338049"/>
                  </a:cubicBezTo>
                  <a:cubicBezTo>
                    <a:pt x="49339" y="1328217"/>
                    <a:pt x="76957" y="1323940"/>
                    <a:pt x="98500" y="1308552"/>
                  </a:cubicBezTo>
                  <a:cubicBezTo>
                    <a:pt x="112924" y="1298249"/>
                    <a:pt x="122391" y="1281123"/>
                    <a:pt x="127996" y="1264307"/>
                  </a:cubicBezTo>
                  <a:cubicBezTo>
                    <a:pt x="133114" y="1248952"/>
                    <a:pt x="156355" y="1080541"/>
                    <a:pt x="157493" y="1072578"/>
                  </a:cubicBezTo>
                  <a:cubicBezTo>
                    <a:pt x="147661" y="998836"/>
                    <a:pt x="140226" y="924734"/>
                    <a:pt x="127996" y="851352"/>
                  </a:cubicBezTo>
                  <a:cubicBezTo>
                    <a:pt x="125440" y="836017"/>
                    <a:pt x="110692" y="822442"/>
                    <a:pt x="113248" y="807107"/>
                  </a:cubicBezTo>
                  <a:cubicBezTo>
                    <a:pt x="116162" y="789623"/>
                    <a:pt x="132913" y="777610"/>
                    <a:pt x="142745" y="762862"/>
                  </a:cubicBezTo>
                  <a:cubicBezTo>
                    <a:pt x="147661" y="748114"/>
                    <a:pt x="154791" y="733927"/>
                    <a:pt x="157493" y="718617"/>
                  </a:cubicBezTo>
                  <a:cubicBezTo>
                    <a:pt x="169575" y="650150"/>
                    <a:pt x="186990" y="512139"/>
                    <a:pt x="186990" y="512139"/>
                  </a:cubicBezTo>
                  <a:cubicBezTo>
                    <a:pt x="177158" y="403984"/>
                    <a:pt x="170432" y="295502"/>
                    <a:pt x="157493" y="187675"/>
                  </a:cubicBezTo>
                  <a:cubicBezTo>
                    <a:pt x="134972" y="0"/>
                    <a:pt x="142745" y="348889"/>
                    <a:pt x="142745" y="69688"/>
                  </a:cubicBezTo>
                </a:path>
              </a:pathLst>
            </a:custGeom>
            <a:solidFill>
              <a:srgbClr val="92d050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7" name="Группа 46"/>
            <p:cNvGrpSpPr/>
            <p:nvPr/>
          </p:nvGrpSpPr>
          <p:grpSpPr>
            <a:xfrm>
              <a:off x="804960" y="1756800"/>
              <a:ext cx="1928160" cy="1510560"/>
              <a:chOff x="804960" y="1756800"/>
              <a:chExt cx="1928160" cy="1510560"/>
            </a:xfrm>
          </p:grpSpPr>
          <p:grpSp>
            <p:nvGrpSpPr>
              <p:cNvPr id="568" name="Группа 14"/>
              <p:cNvGrpSpPr/>
              <p:nvPr/>
            </p:nvGrpSpPr>
            <p:grpSpPr>
              <a:xfrm>
                <a:off x="1784880" y="2071800"/>
                <a:ext cx="671400" cy="532800"/>
                <a:chOff x="1784880" y="2071800"/>
                <a:chExt cx="671400" cy="532800"/>
              </a:xfrm>
            </p:grpSpPr>
            <p:sp>
              <p:nvSpPr>
                <p:cNvPr id="569" name="Полилиния 11"/>
                <p:cNvSpPr/>
                <p:nvPr/>
              </p:nvSpPr>
              <p:spPr>
                <a:xfrm>
                  <a:off x="1784880" y="207180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0" name="Полилиния 184"/>
                <p:cNvSpPr/>
                <p:nvPr/>
              </p:nvSpPr>
              <p:spPr>
                <a:xfrm>
                  <a:off x="1784880" y="220572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71" name="Группа 15"/>
              <p:cNvGrpSpPr/>
              <p:nvPr/>
            </p:nvGrpSpPr>
            <p:grpSpPr>
              <a:xfrm>
                <a:off x="1012320" y="1928880"/>
                <a:ext cx="896760" cy="577080"/>
                <a:chOff x="1012320" y="1928880"/>
                <a:chExt cx="896760" cy="577080"/>
              </a:xfrm>
            </p:grpSpPr>
            <p:sp>
              <p:nvSpPr>
                <p:cNvPr id="572" name="Полилиния 181"/>
                <p:cNvSpPr/>
                <p:nvPr/>
              </p:nvSpPr>
              <p:spPr>
                <a:xfrm rot="16842600">
                  <a:off x="1245240" y="18014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3" name="Полилиния 182"/>
                <p:cNvSpPr/>
                <p:nvPr/>
              </p:nvSpPr>
              <p:spPr>
                <a:xfrm rot="16842600">
                  <a:off x="1373040" y="206820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74" name="Группа 18"/>
              <p:cNvGrpSpPr/>
              <p:nvPr/>
            </p:nvGrpSpPr>
            <p:grpSpPr>
              <a:xfrm>
                <a:off x="1881360" y="2120760"/>
                <a:ext cx="851760" cy="851400"/>
                <a:chOff x="1881360" y="2120760"/>
                <a:chExt cx="851760" cy="851400"/>
              </a:xfrm>
            </p:grpSpPr>
            <p:sp>
              <p:nvSpPr>
                <p:cNvPr id="575" name="Полилиния 179"/>
                <p:cNvSpPr/>
                <p:nvPr/>
              </p:nvSpPr>
              <p:spPr>
                <a:xfrm rot="2695200">
                  <a:off x="1971360" y="227988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6" name="Полилиния 180"/>
                <p:cNvSpPr/>
                <p:nvPr/>
              </p:nvSpPr>
              <p:spPr>
                <a:xfrm rot="2695200">
                  <a:off x="1994760" y="229572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77" name="Группа 24"/>
              <p:cNvGrpSpPr/>
              <p:nvPr/>
            </p:nvGrpSpPr>
            <p:grpSpPr>
              <a:xfrm>
                <a:off x="1695600" y="2499840"/>
                <a:ext cx="853560" cy="475200"/>
                <a:chOff x="1695600" y="2499840"/>
                <a:chExt cx="853560" cy="475200"/>
              </a:xfrm>
            </p:grpSpPr>
            <p:sp>
              <p:nvSpPr>
                <p:cNvPr id="578" name="Полилиния 177"/>
                <p:cNvSpPr/>
                <p:nvPr/>
              </p:nvSpPr>
              <p:spPr>
                <a:xfrm rot="5589000">
                  <a:off x="1906920" y="23216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9" name="Полилиния 178"/>
                <p:cNvSpPr/>
                <p:nvPr/>
              </p:nvSpPr>
              <p:spPr>
                <a:xfrm rot="5589000">
                  <a:off x="1963080" y="238104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80" name="Группа 27"/>
              <p:cNvGrpSpPr/>
              <p:nvPr/>
            </p:nvGrpSpPr>
            <p:grpSpPr>
              <a:xfrm>
                <a:off x="1387440" y="2408760"/>
                <a:ext cx="916200" cy="858600"/>
                <a:chOff x="1387440" y="2408760"/>
                <a:chExt cx="916200" cy="858600"/>
              </a:xfrm>
            </p:grpSpPr>
            <p:sp>
              <p:nvSpPr>
                <p:cNvPr id="581" name="Полилиния 175"/>
                <p:cNvSpPr/>
                <p:nvPr/>
              </p:nvSpPr>
              <p:spPr>
                <a:xfrm rot="7751400">
                  <a:off x="1630440" y="242244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2" name="Полилиния 176"/>
                <p:cNvSpPr/>
                <p:nvPr/>
              </p:nvSpPr>
              <p:spPr>
                <a:xfrm rot="7751400">
                  <a:off x="1753560" y="247608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83" name="Группа 33"/>
              <p:cNvGrpSpPr/>
              <p:nvPr/>
            </p:nvGrpSpPr>
            <p:grpSpPr>
              <a:xfrm>
                <a:off x="804960" y="2023200"/>
                <a:ext cx="935280" cy="740520"/>
                <a:chOff x="804960" y="2023200"/>
                <a:chExt cx="935280" cy="740520"/>
              </a:xfrm>
            </p:grpSpPr>
            <p:sp>
              <p:nvSpPr>
                <p:cNvPr id="584" name="Полилиния 173"/>
                <p:cNvSpPr/>
                <p:nvPr/>
              </p:nvSpPr>
              <p:spPr>
                <a:xfrm rot="14703600">
                  <a:off x="1057320" y="1977480"/>
                  <a:ext cx="430200" cy="83124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5" name="Полилиния 174"/>
                <p:cNvSpPr/>
                <p:nvPr/>
              </p:nvSpPr>
              <p:spPr>
                <a:xfrm rot="14703600">
                  <a:off x="1241280" y="2207160"/>
                  <a:ext cx="232920" cy="51012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86" name="Группа 36"/>
              <p:cNvGrpSpPr/>
              <p:nvPr/>
            </p:nvGrpSpPr>
            <p:grpSpPr>
              <a:xfrm>
                <a:off x="911880" y="2212920"/>
                <a:ext cx="836640" cy="772200"/>
                <a:chOff x="911880" y="2212920"/>
                <a:chExt cx="836640" cy="772200"/>
              </a:xfrm>
            </p:grpSpPr>
            <p:sp>
              <p:nvSpPr>
                <p:cNvPr id="587" name="Полилиния 171"/>
                <p:cNvSpPr/>
                <p:nvPr/>
              </p:nvSpPr>
              <p:spPr>
                <a:xfrm rot="12352200">
                  <a:off x="994320" y="233244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8" name="Полилиния 172"/>
                <p:cNvSpPr/>
                <p:nvPr/>
              </p:nvSpPr>
              <p:spPr>
                <a:xfrm rot="12352200">
                  <a:off x="1300320" y="247464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89" name="Группа 39"/>
              <p:cNvGrpSpPr/>
              <p:nvPr/>
            </p:nvGrpSpPr>
            <p:grpSpPr>
              <a:xfrm>
                <a:off x="1136520" y="2494800"/>
                <a:ext cx="708840" cy="580680"/>
                <a:chOff x="1136520" y="2494800"/>
                <a:chExt cx="708840" cy="580680"/>
              </a:xfrm>
            </p:grpSpPr>
            <p:sp>
              <p:nvSpPr>
                <p:cNvPr id="590" name="Полилиния 169"/>
                <p:cNvSpPr/>
                <p:nvPr/>
              </p:nvSpPr>
              <p:spPr>
                <a:xfrm rot="10547400">
                  <a:off x="1155240" y="251856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1" name="Полилиния 170"/>
                <p:cNvSpPr/>
                <p:nvPr/>
              </p:nvSpPr>
              <p:spPr>
                <a:xfrm rot="10547400">
                  <a:off x="1460880" y="257940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2" name="Группа 42"/>
              <p:cNvGrpSpPr/>
              <p:nvPr/>
            </p:nvGrpSpPr>
            <p:grpSpPr>
              <a:xfrm>
                <a:off x="1404720" y="1756800"/>
                <a:ext cx="857160" cy="834840"/>
                <a:chOff x="1404720" y="1756800"/>
                <a:chExt cx="857160" cy="834840"/>
              </a:xfrm>
            </p:grpSpPr>
            <p:sp>
              <p:nvSpPr>
                <p:cNvPr id="593" name="Полилиния 167"/>
                <p:cNvSpPr/>
                <p:nvPr/>
              </p:nvSpPr>
              <p:spPr>
                <a:xfrm rot="19290000">
                  <a:off x="1497240" y="1907640"/>
                  <a:ext cx="671400" cy="532800"/>
                </a:xfrm>
                <a:custGeom>
                  <a:avLst/>
                  <a:gdLst/>
                  <a:ahLst/>
                  <a:rect l="l" t="t" r="r" b="b"/>
                  <a:pathLst>
                    <a:path w="516194" h="639097">
                      <a:moveTo>
                        <a:pt x="0" y="639097"/>
                      </a:moveTo>
                      <a:cubicBezTo>
                        <a:pt x="25169" y="462918"/>
                        <a:pt x="80" y="594574"/>
                        <a:pt x="29497" y="491613"/>
                      </a:cubicBezTo>
                      <a:cubicBezTo>
                        <a:pt x="74070" y="335609"/>
                        <a:pt x="3657" y="554384"/>
                        <a:pt x="73742" y="344129"/>
                      </a:cubicBezTo>
                      <a:cubicBezTo>
                        <a:pt x="78658" y="329381"/>
                        <a:pt x="79867" y="312819"/>
                        <a:pt x="88491" y="299884"/>
                      </a:cubicBezTo>
                      <a:lnTo>
                        <a:pt x="117988" y="255639"/>
                      </a:lnTo>
                      <a:cubicBezTo>
                        <a:pt x="155057" y="144429"/>
                        <a:pt x="105053" y="281509"/>
                        <a:pt x="162233" y="167148"/>
                      </a:cubicBezTo>
                      <a:cubicBezTo>
                        <a:pt x="169185" y="153243"/>
                        <a:pt x="168358" y="135838"/>
                        <a:pt x="176981" y="122903"/>
                      </a:cubicBezTo>
                      <a:cubicBezTo>
                        <a:pt x="188550" y="105549"/>
                        <a:pt x="204762" y="91463"/>
                        <a:pt x="221226" y="78658"/>
                      </a:cubicBezTo>
                      <a:cubicBezTo>
                        <a:pt x="297294" y="19495"/>
                        <a:pt x="287206" y="27169"/>
                        <a:pt x="353962" y="4916"/>
                      </a:cubicBezTo>
                      <a:cubicBezTo>
                        <a:pt x="486698" y="49162"/>
                        <a:pt x="417871" y="0"/>
                        <a:pt x="457200" y="78658"/>
                      </a:cubicBezTo>
                      <a:cubicBezTo>
                        <a:pt x="465127" y="94512"/>
                        <a:pt x="479498" y="106705"/>
                        <a:pt x="486697" y="122903"/>
                      </a:cubicBezTo>
                      <a:cubicBezTo>
                        <a:pt x="499325" y="151316"/>
                        <a:pt x="516194" y="211394"/>
                        <a:pt x="516194" y="211394"/>
                      </a:cubicBezTo>
                      <a:cubicBezTo>
                        <a:pt x="506362" y="226142"/>
                        <a:pt x="494624" y="239785"/>
                        <a:pt x="486697" y="255639"/>
                      </a:cubicBezTo>
                      <a:cubicBezTo>
                        <a:pt x="466825" y="295384"/>
                        <a:pt x="480024" y="311253"/>
                        <a:pt x="442452" y="344129"/>
                      </a:cubicBezTo>
                      <a:cubicBezTo>
                        <a:pt x="415773" y="367474"/>
                        <a:pt x="383459" y="383458"/>
                        <a:pt x="353962" y="403123"/>
                      </a:cubicBezTo>
                      <a:lnTo>
                        <a:pt x="309717" y="432619"/>
                      </a:lnTo>
                      <a:lnTo>
                        <a:pt x="265471" y="462116"/>
                      </a:lnTo>
                      <a:cubicBezTo>
                        <a:pt x="180941" y="588914"/>
                        <a:pt x="293496" y="439696"/>
                        <a:pt x="191729" y="521110"/>
                      </a:cubicBezTo>
                      <a:cubicBezTo>
                        <a:pt x="99138" y="595183"/>
                        <a:pt x="238724" y="546233"/>
                        <a:pt x="103239" y="580103"/>
                      </a:cubicBezTo>
                      <a:lnTo>
                        <a:pt x="0" y="639097"/>
                      </a:lnTo>
                      <a:close/>
                    </a:path>
                  </a:pathLst>
                </a:custGeom>
                <a:solidFill>
                  <a:srgbClr val="0070c0"/>
                </a:solidFill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4" name="Полилиния 168"/>
                <p:cNvSpPr/>
                <p:nvPr/>
              </p:nvSpPr>
              <p:spPr>
                <a:xfrm rot="19290000">
                  <a:off x="1550160" y="2130840"/>
                  <a:ext cx="363240" cy="326880"/>
                </a:xfrm>
                <a:custGeom>
                  <a:avLst/>
                  <a:gdLst/>
                  <a:ahLst/>
                  <a:rect l="l" t="t" r="r" b="b"/>
                  <a:pathLst>
                    <a:path w="224702" h="263312">
                      <a:moveTo>
                        <a:pt x="0" y="263312"/>
                      </a:moveTo>
                      <a:cubicBezTo>
                        <a:pt x="17392" y="254616"/>
                        <a:pt x="87023" y="222851"/>
                        <a:pt x="103239" y="204319"/>
                      </a:cubicBezTo>
                      <a:cubicBezTo>
                        <a:pt x="126584" y="177640"/>
                        <a:pt x="162233" y="115829"/>
                        <a:pt x="162233" y="115829"/>
                      </a:cubicBezTo>
                      <a:cubicBezTo>
                        <a:pt x="167149" y="101080"/>
                        <a:pt x="168358" y="84518"/>
                        <a:pt x="176981" y="71583"/>
                      </a:cubicBezTo>
                      <a:cubicBezTo>
                        <a:pt x="224702" y="0"/>
                        <a:pt x="221226" y="53819"/>
                        <a:pt x="221226" y="12590"/>
                      </a:cubicBezTo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95" name="Блок-схема: узел 166"/>
              <p:cNvSpPr/>
              <p:nvPr/>
            </p:nvSpPr>
            <p:spPr>
              <a:xfrm>
                <a:off x="1683360" y="2384280"/>
                <a:ext cx="278640" cy="178560"/>
              </a:xfrm>
              <a:prstGeom prst="flowChartConnector">
                <a:avLst/>
              </a:prstGeom>
              <a:solidFill>
                <a:srgbClr val="ffff00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6" name="TextBox 186"/>
          <p:cNvSpPr/>
          <p:nvPr/>
        </p:nvSpPr>
        <p:spPr>
          <a:xfrm>
            <a:off x="357120" y="7142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Составьте четыре выра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Придумайте рассказ по каждому выражению с вопро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Box 189"/>
          <p:cNvSpPr/>
          <p:nvPr/>
        </p:nvSpPr>
        <p:spPr>
          <a:xfrm>
            <a:off x="71424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4 =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TextBox 162"/>
          <p:cNvSpPr/>
          <p:nvPr/>
        </p:nvSpPr>
        <p:spPr>
          <a:xfrm>
            <a:off x="2714760" y="214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Целое и ча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TextBox 163"/>
          <p:cNvSpPr/>
          <p:nvPr/>
        </p:nvSpPr>
        <p:spPr>
          <a:xfrm>
            <a:off x="714240" y="48578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1 =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Box 164"/>
          <p:cNvSpPr/>
          <p:nvPr/>
        </p:nvSpPr>
        <p:spPr>
          <a:xfrm>
            <a:off x="2928960" y="4357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1 =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>
            <a:off x="538200" y="5794200"/>
            <a:ext cx="284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6a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I.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ктуализация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4427640" y="5734080"/>
            <a:ext cx="647640" cy="57636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5219640" y="5734080"/>
            <a:ext cx="649440" cy="5745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9:24:48Z</dcterms:created>
  <dc:creator>User</dc:creator>
  <dc:description/>
  <dc:language>en-US</dc:language>
  <cp:lastModifiedBy>User</cp:lastModifiedBy>
  <dcterms:modified xsi:type="dcterms:W3CDTF">2012-04-19T18:36:39Z</dcterms:modified>
  <cp:revision>11</cp:revision>
  <dc:subject/>
  <dc:title>  Формирование универсальных учебных действий на уроках математики в 1 классе средствами системы «Школа 2100»</dc:title>
</cp:coreProperties>
</file>