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9E9-08BE-435F-98AF-114DFBCF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852-F9FB-4692-9986-4D2B818F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384-CF04-49AF-B7A3-7C5EC652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E03-5E6C-456D-84AF-3B542132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270-561B-4DD3-960B-4E86A3B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F86-5268-47E8-AF15-58BDE41A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048-F503-4B75-B5C1-B155036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EB7-86D2-4F20-8E10-33D7161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704-C987-43EF-B72A-D262629F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DAE-56A5-44D0-AED2-E42082F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A26-4021-47DB-A4CB-9FC8B27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FAE-4ED8-4BB2-B30E-A097F6E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ff"/>
            </a:gs>
            <a:gs pos="50000">
              <a:srgbClr val="a6dff8"/>
            </a:gs>
            <a:gs pos="100000">
              <a:srgbClr val="c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2EE-3B70-4ECC-A102-3E234C95F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y_72aca1b9"/>
          <p:cNvPicPr/>
          <p:nvPr/>
        </p:nvPicPr>
        <p:blipFill>
          <a:blip r:embed="rId1"/>
          <a:srcRect l="11689" t="0" r="0" b="0"/>
          <a:stretch/>
        </p:blipFill>
        <p:spPr>
          <a:xfrm>
            <a:off x="3886200" y="1827360"/>
            <a:ext cx="5181480" cy="495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рока страна моя род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ых разных вузов в ней не счес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 Воронежский университет  старинны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ый лучший вуз, который е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259092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А» Сельскохозяйственная академ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Б» Строительный университ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В» Педагогический университ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3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Живая книг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, кото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тов дел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«читателя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воим личным опыт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ренне отвеч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их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121360" y="1143000"/>
            <a:ext cx="394632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52280" y="228600"/>
            <a:ext cx="8839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1680">
                  <a:solidFill>
                    <a:srgbClr val="cc3399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Живая библиотека</a:t>
            </a:r>
            <a:endParaRPr b="1" lang="en-US" sz="5400" spc="1" strike="noStrike">
              <a:ln w="31680">
                <a:solidFill>
                  <a:srgbClr val="cc3399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228600" y="1676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28600" y="160020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508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4508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17" descr="ANd9GcSVS_Ieg6dd0ZsnpKo4Gww0J1uGYIed9NY01LQ_9cO4i0qCrVLPdogfRKks"/>
          <p:cNvPicPr/>
          <p:nvPr/>
        </p:nvPicPr>
        <p:blipFill>
          <a:blip r:embed="rId1"/>
          <a:stretch/>
        </p:blipFill>
        <p:spPr>
          <a:xfrm>
            <a:off x="6324480" y="76320"/>
            <a:ext cx="2673360" cy="361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O-givoy-prirode"/>
          <p:cNvPicPr/>
          <p:nvPr/>
        </p:nvPicPr>
        <p:blipFill>
          <a:blip r:embed="rId2"/>
          <a:srcRect l="1999" t="1697" r="21561" b="9249"/>
          <a:stretch/>
        </p:blipFill>
        <p:spPr>
          <a:xfrm>
            <a:off x="76320" y="76320"/>
            <a:ext cx="2635200" cy="361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kamal-audio-big"/>
          <p:cNvPicPr/>
          <p:nvPr/>
        </p:nvPicPr>
        <p:blipFill>
          <a:blip r:embed="rId3"/>
          <a:stretch/>
        </p:blipFill>
        <p:spPr>
          <a:xfrm>
            <a:off x="1905120" y="312408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detskoe-zdorovje-tsaregradskaja-zhv"/>
          <p:cNvPicPr/>
          <p:nvPr/>
        </p:nvPicPr>
        <p:blipFill>
          <a:blip r:embed="rId4"/>
          <a:srcRect l="21661" t="7219" r="22025" b="7583"/>
          <a:stretch/>
        </p:blipFill>
        <p:spPr>
          <a:xfrm>
            <a:off x="4648320" y="3276720"/>
            <a:ext cx="2609640" cy="3581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2895480" y="609480"/>
            <a:ext cx="3276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1680">
                  <a:solidFill>
                    <a:srgbClr val="cc3399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Живая</a:t>
            </a:r>
            <a:endParaRPr b="1" lang="en-US" sz="5400" spc="1" strike="noStrike">
              <a:ln w="31680">
                <a:solidFill>
                  <a:srgbClr val="cc3399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1680">
                  <a:solidFill>
                    <a:srgbClr val="cc3399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книга</a:t>
            </a:r>
            <a:endParaRPr b="1" lang="en-US" sz="5400" spc="1" strike="noStrike">
              <a:ln w="31680">
                <a:solidFill>
                  <a:srgbClr val="cc3399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35.gif"/>
          <p:cNvPicPr/>
          <p:nvPr/>
        </p:nvPicPr>
        <p:blipFill>
          <a:blip r:embed="rId1"/>
          <a:stretch/>
        </p:blipFill>
        <p:spPr>
          <a:xfrm>
            <a:off x="331920" y="1486080"/>
            <a:ext cx="8583480" cy="407664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280" y="228600"/>
            <a:ext cx="8839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1680">
                  <a:solidFill>
                    <a:srgbClr val="cc3399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Отклики читателей</a:t>
            </a:r>
            <a:endParaRPr b="1" lang="en-US" sz="5400" spc="1" strike="noStrike">
              <a:ln w="31680">
                <a:solidFill>
                  <a:srgbClr val="cc3399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5" descr=""/>
          <p:cNvPicPr/>
          <p:nvPr/>
        </p:nvPicPr>
        <p:blipFill>
          <a:blip r:embed="rId1"/>
          <a:srcRect l="0" t="0" r="14889" b="214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3"/>
          <p:cNvGrpSpPr/>
          <p:nvPr/>
        </p:nvGrpSpPr>
        <p:grpSpPr>
          <a:xfrm>
            <a:off x="1905120" y="380880"/>
            <a:ext cx="228600" cy="381240"/>
            <a:chOff x="1905120" y="380880"/>
            <a:chExt cx="228600" cy="381240"/>
          </a:xfrm>
        </p:grpSpPr>
        <p:sp>
          <p:nvSpPr>
            <p:cNvPr id="58" name="AutoShape 4"/>
            <p:cNvSpPr/>
            <p:nvPr/>
          </p:nvSpPr>
          <p:spPr>
            <a:xfrm>
              <a:off x="1905120" y="380880"/>
              <a:ext cx="228600" cy="217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800"/>
                <a:gd name="textAreaBottom" fmla="*/ 189720 h 21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1905120" y="380880"/>
              <a:ext cx="0" cy="381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6477120" y="762120"/>
            <a:ext cx="228600" cy="380880"/>
            <a:chOff x="6477120" y="762120"/>
            <a:chExt cx="228600" cy="380880"/>
          </a:xfrm>
        </p:grpSpPr>
        <p:sp>
          <p:nvSpPr>
            <p:cNvPr id="61" name="AutoShape 7"/>
            <p:cNvSpPr/>
            <p:nvPr/>
          </p:nvSpPr>
          <p:spPr>
            <a:xfrm>
              <a:off x="6477120" y="7621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8"/>
            <p:cNvSpPr/>
            <p:nvPr/>
          </p:nvSpPr>
          <p:spPr>
            <a:xfrm>
              <a:off x="6477120" y="7621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391520" y="1676520"/>
            <a:ext cx="228600" cy="380880"/>
            <a:chOff x="7391520" y="1676520"/>
            <a:chExt cx="228600" cy="380880"/>
          </a:xfrm>
        </p:grpSpPr>
        <p:sp>
          <p:nvSpPr>
            <p:cNvPr id="64" name="AutoShape 10"/>
            <p:cNvSpPr/>
            <p:nvPr/>
          </p:nvSpPr>
          <p:spPr>
            <a:xfrm>
              <a:off x="7391520" y="16765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7391520" y="16765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7162920" y="3962520"/>
            <a:ext cx="228600" cy="380880"/>
            <a:chOff x="7162920" y="3962520"/>
            <a:chExt cx="228600" cy="380880"/>
          </a:xfrm>
        </p:grpSpPr>
        <p:sp>
          <p:nvSpPr>
            <p:cNvPr id="67" name="AutoShape 13"/>
            <p:cNvSpPr/>
            <p:nvPr/>
          </p:nvSpPr>
          <p:spPr>
            <a:xfrm>
              <a:off x="7162920" y="39625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>
              <a:off x="7162920" y="39625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5"/>
          <p:cNvGrpSpPr/>
          <p:nvPr/>
        </p:nvGrpSpPr>
        <p:grpSpPr>
          <a:xfrm>
            <a:off x="304920" y="990720"/>
            <a:ext cx="228600" cy="380880"/>
            <a:chOff x="304920" y="990720"/>
            <a:chExt cx="228600" cy="380880"/>
          </a:xfrm>
        </p:grpSpPr>
        <p:sp>
          <p:nvSpPr>
            <p:cNvPr id="70" name="AutoShape 16"/>
            <p:cNvSpPr/>
            <p:nvPr/>
          </p:nvSpPr>
          <p:spPr>
            <a:xfrm>
              <a:off x="304920" y="9907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>
              <a:off x="304920" y="9907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Вальс дружбы Солнцевой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372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s</cp:lastModifiedBy>
  <dcterms:modified xsi:type="dcterms:W3CDTF">2015-12-20T07:28:04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