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6EFE-71B3-49A3-80C9-12075C5D4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5237-C067-4FB0-8007-72051473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0158-4BBE-4DDF-8E97-E99D932E6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FDC9-1A54-47D8-ADD5-6E65CBE9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83BB-E617-4CE4-9662-67135A15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0E34-ACE0-475D-92B1-4E98DDFE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DC01-8410-45D4-862D-2928CC5D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EABB-7E8E-497B-B633-DAA32199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2235-490E-40D3-AE5C-5AE80D10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E6F2-F30E-41E2-A0EB-99260833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2F8F-F28A-4DA6-8A13-3328399D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2F6F-AD0E-4244-9F2A-B4C231D1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ff"/>
            </a:gs>
            <a:gs pos="50000">
              <a:srgbClr val="a6dff8"/>
            </a:gs>
            <a:gs pos="100000">
              <a:srgbClr val="c9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A32F-3120-4EBD-8987-F3B53988C2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Объект 5" descr=""/>
          <p:cNvPicPr/>
          <p:nvPr/>
        </p:nvPicPr>
        <p:blipFill>
          <a:blip r:embed="rId1"/>
          <a:srcRect l="0" t="0" r="14889" b="214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3"/>
          <p:cNvGrpSpPr/>
          <p:nvPr/>
        </p:nvGrpSpPr>
        <p:grpSpPr>
          <a:xfrm>
            <a:off x="1905120" y="380880"/>
            <a:ext cx="228600" cy="381240"/>
            <a:chOff x="1905120" y="380880"/>
            <a:chExt cx="228600" cy="381240"/>
          </a:xfrm>
        </p:grpSpPr>
        <p:sp>
          <p:nvSpPr>
            <p:cNvPr id="43" name="AutoShape 4"/>
            <p:cNvSpPr/>
            <p:nvPr/>
          </p:nvSpPr>
          <p:spPr>
            <a:xfrm>
              <a:off x="1905120" y="380880"/>
              <a:ext cx="228600" cy="2178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28080 h 217800"/>
                <a:gd name="textAreaBottom" fmla="*/ 189720 h 21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1905120" y="380880"/>
              <a:ext cx="0" cy="38124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Group 6"/>
          <p:cNvGrpSpPr/>
          <p:nvPr/>
        </p:nvGrpSpPr>
        <p:grpSpPr>
          <a:xfrm>
            <a:off x="6477120" y="762120"/>
            <a:ext cx="228600" cy="380880"/>
            <a:chOff x="6477120" y="762120"/>
            <a:chExt cx="228600" cy="380880"/>
          </a:xfrm>
        </p:grpSpPr>
        <p:sp>
          <p:nvSpPr>
            <p:cNvPr id="46" name="AutoShape 7"/>
            <p:cNvSpPr/>
            <p:nvPr/>
          </p:nvSpPr>
          <p:spPr>
            <a:xfrm>
              <a:off x="6477120" y="762120"/>
              <a:ext cx="228600" cy="2174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28080 h 217440"/>
                <a:gd name="textAreaBottom" fmla="*/ 189360 h 21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Line 8"/>
            <p:cNvSpPr/>
            <p:nvPr/>
          </p:nvSpPr>
          <p:spPr>
            <a:xfrm>
              <a:off x="6477120" y="762120"/>
              <a:ext cx="0" cy="380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Group 9"/>
          <p:cNvGrpSpPr/>
          <p:nvPr/>
        </p:nvGrpSpPr>
        <p:grpSpPr>
          <a:xfrm>
            <a:off x="7391520" y="1676520"/>
            <a:ext cx="228600" cy="380880"/>
            <a:chOff x="7391520" y="1676520"/>
            <a:chExt cx="228600" cy="380880"/>
          </a:xfrm>
        </p:grpSpPr>
        <p:sp>
          <p:nvSpPr>
            <p:cNvPr id="49" name="AutoShape 10"/>
            <p:cNvSpPr/>
            <p:nvPr/>
          </p:nvSpPr>
          <p:spPr>
            <a:xfrm>
              <a:off x="7391520" y="1676520"/>
              <a:ext cx="228600" cy="2174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28080 h 217440"/>
                <a:gd name="textAreaBottom" fmla="*/ 189360 h 21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Line 11"/>
            <p:cNvSpPr/>
            <p:nvPr/>
          </p:nvSpPr>
          <p:spPr>
            <a:xfrm>
              <a:off x="7391520" y="1676520"/>
              <a:ext cx="0" cy="380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Group 12"/>
          <p:cNvGrpSpPr/>
          <p:nvPr/>
        </p:nvGrpSpPr>
        <p:grpSpPr>
          <a:xfrm>
            <a:off x="7162920" y="3962520"/>
            <a:ext cx="228600" cy="380880"/>
            <a:chOff x="7162920" y="3962520"/>
            <a:chExt cx="228600" cy="380880"/>
          </a:xfrm>
        </p:grpSpPr>
        <p:sp>
          <p:nvSpPr>
            <p:cNvPr id="52" name="AutoShape 13"/>
            <p:cNvSpPr/>
            <p:nvPr/>
          </p:nvSpPr>
          <p:spPr>
            <a:xfrm>
              <a:off x="7162920" y="3962520"/>
              <a:ext cx="228600" cy="2174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28080 h 217440"/>
                <a:gd name="textAreaBottom" fmla="*/ 189360 h 21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4"/>
            <p:cNvSpPr/>
            <p:nvPr/>
          </p:nvSpPr>
          <p:spPr>
            <a:xfrm>
              <a:off x="7162920" y="3962520"/>
              <a:ext cx="0" cy="380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304920" y="990720"/>
            <a:ext cx="228600" cy="380880"/>
            <a:chOff x="304920" y="990720"/>
            <a:chExt cx="228600" cy="380880"/>
          </a:xfrm>
        </p:grpSpPr>
        <p:sp>
          <p:nvSpPr>
            <p:cNvPr id="55" name="AutoShape 16"/>
            <p:cNvSpPr/>
            <p:nvPr/>
          </p:nvSpPr>
          <p:spPr>
            <a:xfrm>
              <a:off x="304920" y="990720"/>
              <a:ext cx="228600" cy="2174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28080 h 217440"/>
                <a:gd name="textAreaBottom" fmla="*/ 189360 h 21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7"/>
            <p:cNvSpPr/>
            <p:nvPr/>
          </p:nvSpPr>
          <p:spPr>
            <a:xfrm>
              <a:off x="304920" y="990720"/>
              <a:ext cx="0" cy="380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360" y="456840"/>
            <a:ext cx="4267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Мой Воронеж, форпостом  России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 Допетровских далёких времён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Ты возник, чтобы  вражеской силе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Дальше путь был тобой преграждён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0000003077"/>
          <p:cNvPicPr/>
          <p:nvPr/>
        </p:nvPicPr>
        <p:blipFill>
          <a:blip r:embed="rId1"/>
          <a:stretch/>
        </p:blipFill>
        <p:spPr>
          <a:xfrm>
            <a:off x="4152960" y="152280"/>
            <a:ext cx="4914720" cy="65534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152280" y="3962520"/>
            <a:ext cx="39625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А» Памятник А.С. Пушкин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Б» Памятник Петру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В» Памятник Славы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pamyatnik_nikitinu_1024"/>
          <p:cNvPicPr/>
          <p:nvPr/>
        </p:nvPicPr>
        <p:blipFill>
          <a:blip r:embed="rId1"/>
          <a:stretch/>
        </p:blipFill>
        <p:spPr>
          <a:xfrm>
            <a:off x="4076640" y="152280"/>
            <a:ext cx="4915080" cy="65534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76320" y="457200"/>
            <a:ext cx="411480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Бывают светлые мгновенья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Мир ясный душу осенит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И наш поэт …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Сквозь годы с нами говорит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533520" y="4024440"/>
            <a:ext cx="39621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А» Сергей Есени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Б» Иван Никити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В» Алексей Кольц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01"/>
          <p:cNvPicPr/>
          <p:nvPr/>
        </p:nvPicPr>
        <p:blipFill>
          <a:blip r:embed="rId1"/>
          <a:srcRect l="7809" t="0" r="6273" b="0"/>
          <a:stretch/>
        </p:blipFill>
        <p:spPr>
          <a:xfrm>
            <a:off x="3124080" y="990720"/>
            <a:ext cx="5867640" cy="57164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1219320" y="1522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 всём мире ты известен, хор Воронежск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частушки  запоёшь – не угонишься!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04920" y="2500200"/>
            <a:ext cx="2971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А» М.Пятницк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Б» В.Высоцк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В» А.Кольц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ns</cp:lastModifiedBy>
  <dcterms:modified xsi:type="dcterms:W3CDTF">2015-12-20T07:25:44Z</dcterms:modified>
  <cp:revision>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