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136-0382-4AEE-95E8-9E531186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7D2-C923-456E-B17E-E37C9C7B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8FEA8-0FA0-4503-930B-361B841C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56AFD-B0F7-4A41-9A72-882FD7C2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4B047-6A0D-4ED7-8A5C-591E5FE2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1F71E-4659-4192-B7B5-C8267809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1FE24-DBBA-4DD8-A31D-FC06D15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6C4F4-E1CF-40C5-9A1A-A0814B7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76336-7FF9-4AD6-A8E1-CC120D82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3FEB6-C4BA-4C86-825C-2DDCB7B5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62499-60B0-418B-9841-E8D4C7AC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CE0-1949-4784-8C02-F12CF75A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763-21D4-47C3-8E69-EA729556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B2F4-23A8-43A5-8CA0-B33C7084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948E-CFE2-4CA0-837D-2BA4C0A1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0D73-ED91-4576-8447-6C6EDBFE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0C2F-A6F4-4113-B1C4-EF03A5F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B989-CD70-4BCA-A399-985BD831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ADA4-21C1-4580-961E-FE5ED51B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37F5-2226-4A95-980D-98CD592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6FA-0CF9-415C-A2DE-621D085D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7F2F-BC9B-4422-A172-D7EC38A0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12F4-8D02-4D82-8505-89C76D4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CE74-02B9-4CFA-8A94-9043E066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29A8-BA48-4FC5-832B-4A9DE2C8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25F4-9AC7-4352-A47B-C096ACED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E0BE8-06D9-4F9B-81C7-6CF9A9E3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EE40-40C8-410A-87D2-708E12A5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07F0-BE85-4E46-BF6E-5907C56C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8FB46-1947-4D50-9FF2-832CDC4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EBC2-DC58-47CF-ACF8-FC14F624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75E-0E32-4403-8394-4CD9CB15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04E2-0ED8-4E08-9DB4-126B4E54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68D8-BDE0-444B-B157-E650FF6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67EA-4BBD-41ED-A0C3-DF4642AE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5CF7-E4A7-4BE2-9E77-018D2A4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58EA-A2D1-46D3-8F7A-D0BF534A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CEC7-D91A-4F56-8614-2C42C282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0F19-5766-4DB7-987E-0D08EF99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A434A-845C-49C2-96B0-4963DE9C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C427-855B-4E15-8A88-BD32B28C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EAFB2-EDD2-42A5-BC49-0DABCA34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54D-6297-487A-8E8B-FD839A3F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42039-FF14-4275-988D-5DA71DFE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32BE-D321-4A15-B0A1-0110E61A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FA74-BB49-4294-A5AE-071FE038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86DD-3FF9-4265-ACED-174C9379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19BA-AA33-4C41-96B9-FE4F1D0B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E3CE1-87A9-4961-B6A9-10903F8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C97A-5E12-4F18-8C8C-9B2F28E0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04B9A-C703-4FDB-A04F-ED9FEFE4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6A308-9052-4D3C-80E0-98A68E84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42210-05D2-48FC-8052-09DC9525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5A1-A55B-4F7F-AB0A-546F4A17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4DB1-F07D-4F5B-B7F1-A49DD704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A048-F062-4747-8760-F026CB3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ED93-24A6-453B-A38E-772D4A10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9BD00-8F24-46A1-BFCE-8A0AFFDE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6323-890F-4F86-B008-15BAD040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EFB4-E330-4160-85FD-EEFD7466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31A3D-AD3B-4D80-B2CD-287EFD53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1C89-50D4-48F1-8CCC-16629D5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9D2E7-9470-41DA-AB36-8ACAE927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0B835-8513-42E3-B61F-217F300E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BA6-5B06-4289-929C-1B93186A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B8EB4-F1B3-4B4B-8ABD-11BD0504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62D5B-69DF-4AC3-9B99-64F6E34B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1A3A7-89BE-48BD-B18F-C4252017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EF66-7E05-4101-9DFC-2E656BE0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2DE41-3C74-4E98-9A1D-444B4233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163ED-4040-46F8-B640-11420647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FB0B-1760-4A8D-BC0E-52C31348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CB82-19A5-41A2-AA75-83C9C458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73285-4190-4786-AA4F-77F62007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5647B-74FB-420F-8E16-88F1B1DE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9AB-B0E2-4183-BAE4-75EAB5B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1AD1C-B0C0-4860-AA67-983E6C3D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B501F-BFA4-4252-A909-E45DFA66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51C3A-0951-4E89-8A55-E45D6E4B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636E2-2CA6-41BA-8F57-3CD37104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5343-01B6-40CF-A9E8-C9057BF9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B13DB-509D-4DF3-8B97-FF65E4D1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BE3E0-D20A-49D3-9579-BF80D8AA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4B030-8AA7-4709-BC80-E4C8C565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C05B-2D21-4E3C-AF8A-84901664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ABB12-80F7-4846-8ED3-0D6A3270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9F3-6A11-46CC-8939-0BC4F184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23908-CFB6-44DF-B31E-B4ADF3A7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755FA-F5C4-4430-8043-BA56F69E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3652D-FBD7-4F44-9C3F-CF8EA440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D2378-B2C8-49DE-9C53-3132005C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3699F-0364-4E4B-A479-254A79D4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F14EA-D1BA-4F9B-95DE-E6253185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5D320-F9B7-420F-B518-90E757B7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158F3-1510-4A08-8354-2446376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24D6B-39E7-4C48-A16D-9AB4FE41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F89B5-4299-44A4-A2B5-B2EB00BF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88B-926F-45A2-9060-E8858577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C53ED-2274-4986-BA5A-8A8B297A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C1394-37BC-441F-99A9-FB95ADCC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20306-F426-4F6D-AE39-D11188A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7FCD-329C-4E8A-9450-D3DF9AF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BD478-E412-4327-BA0D-0E439F7F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00001-0EA0-4DB9-848A-251B0716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30B1C-9550-45FB-9D6B-3EA9A938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C9509-A166-43EB-A030-50BD5ECB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CB788-CF88-4603-AD06-4604580B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55A23-A419-4144-B351-7070EF14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3A43-E72D-460E-97CF-74E4EE825B7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2D8D-11B1-4DD5-925D-6F6572A87C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37C5-AB64-4504-8FB6-A627FBFEFE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A398-6903-421B-8BAB-838A43610D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2A2E-1AA5-423C-AF47-C1551ABF8C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3CD9-B6B0-4C54-AF8B-7789A35FE74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3E40-F9BF-4584-9570-0C051720C9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EE96-8114-4171-8F4C-B55F98F739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DFE9-8871-4DD5-9D7B-32DC472FD9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82560" y="1487520"/>
            <a:ext cx="8467920" cy="4595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499920"/>
            <a:ext cx="84582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Анцупова Анжелика Юрье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воспитатель МБДОУ №2 «Вишенка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п. Ставрово Собинский райо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2084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071800" y="1857240"/>
            <a:ext cx="550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1494000"/>
            <a:ext cx="8699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2214720" y="1571760"/>
            <a:ext cx="47862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877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928880" y="1357200"/>
            <a:ext cx="5715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500200" y="1714680"/>
            <a:ext cx="442908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877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571840" y="1857240"/>
            <a:ext cx="4572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2428920" y="1571760"/>
            <a:ext cx="44290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877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rcRect l="0" t="0" r="0" b="21315"/>
          <a:stretch/>
        </p:blipFill>
        <p:spPr>
          <a:xfrm>
            <a:off x="1857240" y="1785960"/>
            <a:ext cx="5857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324000"/>
            <a:ext cx="8699400" cy="15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2214720" y="2000160"/>
            <a:ext cx="5214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2084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2643120" y="1785960"/>
            <a:ext cx="4000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4:45:43Z</dcterms:created>
  <dc:creator>TroubleMaker</dc:creator>
  <dc:description/>
  <dc:language>en-US</dc:language>
  <cp:lastModifiedBy>Darya</cp:lastModifiedBy>
  <dcterms:modified xsi:type="dcterms:W3CDTF">2015-10-22T15:03:27Z</dcterms:modified>
  <cp:revision>7</cp:revision>
  <dc:subject/>
  <dc:title>КУКЛЫ - ОБЕРЕГИ</dc:title>
</cp:coreProperties>
</file>