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83A-BB41-4D92-BA3D-82B406E0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939-BDAD-496E-BCEB-3FCBA10F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0E6-E74F-4081-9F4F-0ED619E1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273-1AB4-41B3-A251-75C9A015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9B0-95BB-4732-B1F1-7E800E65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CA1-D867-4B97-A78E-C8FF5DB1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9C8-E57A-4F42-8903-F4F7F5AC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51A-1A20-4B8A-9ADE-8DF20914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42E-29DD-4EB6-A7A7-733E72BC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8B8-D814-47B3-BBC2-934B32A4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F4A-F10B-4479-9731-790D8804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C8D-9F07-4A5B-8C6C-89E468D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BDBD-05D8-4655-9507-39256FB453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Tahoma"/>
              </a:rPr>
              <a:t>Родительское собрание </a:t>
            </a:r>
            <a:br>
              <a:rPr sz="4400"/>
            </a:br>
            <a:r>
              <a:rPr b="0" lang="ru-RU" sz="4400" spc="-1" strike="noStrike">
                <a:solidFill>
                  <a:srgbClr val="ff00ff"/>
                </a:solidFill>
                <a:latin typeface="Tahoma"/>
              </a:rPr>
              <a:t>в 8 классе на тему:</a:t>
            </a:r>
            <a:br>
              <a:rPr sz="4800"/>
            </a:br>
            <a:r>
              <a:rPr b="0" lang="ru-RU" sz="4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66"/>
                </a:solidFill>
                <a:latin typeface="Tahoma"/>
              </a:rPr>
              <a:t>«Развитие самосознания и адекватной самооценки подростка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360"/>
            <a:ext cx="6400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Третьякова Е.Ф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Способность к эмпатии (сочувствию, сопереживанию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Представь себе, что ты сын беженцев из Афганистана. Уже несколько лет вы живёте всей семьёй в Москве. Твои родители – образованные люди, но у них нет законного права работать в России и они плохо знают русский язык. Ты ходишь в школу для детей беженцев, но после её окончания ты не имеешь права поступить в институт, хотя очень хочешь стать врачом. Какие чувства ты испытываешь, когда думаешь о своём будущ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Умение видеть ситуацию с разных сторо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Суд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Умение видеть ситуацию с разных сторо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В суд обратился с заявлением о разводе мужчина, который узнал, что его жена не может иметь детей. Это – единственная причина, по которой он требует развода. Его жена не даёт согласия, мотивируя это тем, что она любит мужа и считает, что семья может быть счастливой и без детей. Какое решение суда будет правиль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ahoma"/>
              </a:rPr>
              <a:t>Умение видеть препятствия на пути к достижению целе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Image4"/>
          <p:cNvPicPr/>
          <p:nvPr/>
        </p:nvPicPr>
        <p:blipFill>
          <a:blip r:embed="rId1"/>
          <a:srcRect l="5381" t="0" r="9695" b="0"/>
          <a:stretch/>
        </p:blipFill>
        <p:spPr>
          <a:xfrm>
            <a:off x="324000" y="1197000"/>
            <a:ext cx="8424720" cy="566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99"/>
                </a:solidFill>
                <a:latin typeface="Tahoma"/>
              </a:rPr>
              <a:t>Самосознание</a:t>
            </a:r>
            <a:br>
              <a:rPr sz="8000"/>
            </a:br>
            <a:r>
              <a:rPr b="0" lang="ru-RU" sz="8000" spc="-1" strike="noStrike">
                <a:solidFill>
                  <a:srgbClr val="cc0099"/>
                </a:solidFill>
                <a:latin typeface="Tahoma"/>
              </a:rPr>
              <a:t>(образ себя)</a:t>
            </a:r>
            <a:br>
              <a:rPr sz="8000"/>
            </a:br>
            <a:br>
              <a:rPr sz="8000"/>
            </a:br>
            <a:r>
              <a:rPr b="0" lang="ru-RU" sz="6600" spc="-1" strike="noStrike">
                <a:solidFill>
                  <a:srgbClr val="ff0066"/>
                </a:solidFill>
                <a:latin typeface="Tahoma"/>
              </a:rPr>
              <a:t> знания о себе + оценка себя.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700360" y="3068640"/>
            <a:ext cx="4103640" cy="133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7" name="Organization Chart 9"/>
          <p:cNvGrpSpPr/>
          <p:nvPr/>
        </p:nvGrpSpPr>
        <p:grpSpPr>
          <a:xfrm>
            <a:off x="179280" y="260280"/>
            <a:ext cx="8713080" cy="6595560"/>
            <a:chOff x="179280" y="260280"/>
            <a:chExt cx="8713080" cy="659556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570640" y="1863000"/>
              <a:ext cx="1319760" cy="3389040"/>
            </a:xfrm>
            <a:prstGeom prst="bentConnector3">
              <a:avLst>
                <a:gd name="adj1" fmla="val 10122"/>
              </a:avLst>
            </a:prstGeom>
            <a:ln w="28440">
              <a:solidFill>
                <a:srgbClr val="ff0066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V="1" rot="16200000">
              <a:off x="4440960" y="2992680"/>
              <a:ext cx="1319760" cy="1129680"/>
            </a:xfrm>
            <a:prstGeom prst="bentConnector3">
              <a:avLst>
                <a:gd name="adj1" fmla="val 10122"/>
              </a:avLst>
            </a:prstGeom>
            <a:ln w="28440">
              <a:solidFill>
                <a:srgbClr val="ff0066"/>
              </a:solidFill>
              <a:miter/>
            </a:ln>
          </p:spPr>
        </p:cxnSp>
        <p:cxnSp>
          <p:nvCxnSpPr>
            <p:cNvPr id="53" name="_s1030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3312360" y="2993760"/>
              <a:ext cx="1319760" cy="1127880"/>
            </a:xfrm>
            <a:prstGeom prst="bentConnector3">
              <a:avLst>
                <a:gd name="adj1" fmla="val 10122"/>
              </a:avLst>
            </a:prstGeom>
            <a:ln w="28440">
              <a:solidFill>
                <a:srgbClr val="ff0066"/>
              </a:solidFill>
              <a:miter/>
            </a:ln>
          </p:spPr>
        </p:cxnSp>
        <p:cxnSp>
          <p:nvCxnSpPr>
            <p:cNvPr id="55" name="_s1031"/>
            <p:cNvCxnSpPr>
              <a:stCxn id="56" idx="0"/>
              <a:endCxn id="50" idx="2"/>
            </p:cNvCxnSpPr>
            <p:nvPr/>
          </p:nvCxnSpPr>
          <p:spPr>
            <a:xfrm flipH="1" flipV="1" rot="5400000">
              <a:off x="2181600" y="1863000"/>
              <a:ext cx="1319760" cy="3389400"/>
            </a:xfrm>
            <a:prstGeom prst="bentConnector3">
              <a:avLst>
                <a:gd name="adj1" fmla="val 10122"/>
              </a:avLst>
            </a:prstGeom>
            <a:ln w="28440">
              <a:solidFill>
                <a:srgbClr val="ff0066"/>
              </a:solidFill>
              <a:miter/>
            </a:ln>
          </p:spPr>
        </p:cxnSp>
        <p:sp>
          <p:nvSpPr>
            <p:cNvPr id="50" name="_s1032"/>
            <p:cNvSpPr/>
            <p:nvPr/>
          </p:nvSpPr>
          <p:spPr>
            <a:xfrm>
              <a:off x="3567960" y="260280"/>
              <a:ext cx="1936080" cy="2638080"/>
            </a:xfrm>
            <a:custGeom>
              <a:avLst/>
              <a:gdLst>
                <a:gd name="textAreaLeft" fmla="*/ 94320 w 1936080"/>
                <a:gd name="textAreaRight" fmla="*/ 1841760 w 1936080"/>
                <a:gd name="textAreaTop" fmla="*/ 94320 h 2638080"/>
                <a:gd name="textAreaBottom" fmla="*/ 2543760 h 2638080"/>
              </a:gdLst>
              <a:ahLst/>
              <a:rect l="textAreaLeft" t="textAreaTop" r="textAreaRight" b="textAreaBottom"/>
              <a:pathLst>
                <a:path w="21600" h="29430">
                  <a:moveTo>
                    <a:pt x="3600" y="0"/>
                  </a:moveTo>
                  <a:arcTo wR="3600" hR="3600" stAng="16200000" swAng="-5400000"/>
                  <a:lnTo>
                    <a:pt x="0" y="25830"/>
                  </a:lnTo>
                  <a:arcTo wR="3600" hR="3600" stAng="10800000" swAng="-5400000"/>
                  <a:lnTo>
                    <a:pt x="18000" y="29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Оценка себ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(самооценка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179280" y="4217760"/>
              <a:ext cx="1936080" cy="2638080"/>
            </a:xfrm>
            <a:custGeom>
              <a:avLst/>
              <a:gdLst>
                <a:gd name="textAreaLeft" fmla="*/ 94320 w 1936080"/>
                <a:gd name="textAreaRight" fmla="*/ 1841760 w 1936080"/>
                <a:gd name="textAreaTop" fmla="*/ 94320 h 2638080"/>
                <a:gd name="textAreaBottom" fmla="*/ 2543760 h 2638080"/>
              </a:gdLst>
              <a:ahLst/>
              <a:rect l="textAreaLeft" t="textAreaTop" r="textAreaRight" b="textAreaBottom"/>
              <a:pathLst>
                <a:path w="21600" h="29430">
                  <a:moveTo>
                    <a:pt x="3600" y="0"/>
                  </a:moveTo>
                  <a:arcTo wR="3600" hR="3600" stAng="16200000" swAng="-5400000"/>
                  <a:lnTo>
                    <a:pt x="0" y="25830"/>
                  </a:lnTo>
                  <a:arcTo wR="3600" hR="3600" stAng="10800000" swAng="-5400000"/>
                  <a:lnTo>
                    <a:pt x="18000" y="29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Заниженна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неуверенность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_s1034"/>
            <p:cNvSpPr/>
            <p:nvPr/>
          </p:nvSpPr>
          <p:spPr>
            <a:xfrm>
              <a:off x="2438280" y="4217760"/>
              <a:ext cx="1936080" cy="2638080"/>
            </a:xfrm>
            <a:custGeom>
              <a:avLst/>
              <a:gdLst>
                <a:gd name="textAreaLeft" fmla="*/ 94320 w 1936080"/>
                <a:gd name="textAreaRight" fmla="*/ 1841760 w 1936080"/>
                <a:gd name="textAreaTop" fmla="*/ 94320 h 2638080"/>
                <a:gd name="textAreaBottom" fmla="*/ 2543760 h 2638080"/>
              </a:gdLst>
              <a:ahLst/>
              <a:rect l="textAreaLeft" t="textAreaTop" r="textAreaRight" b="textAreaBottom"/>
              <a:pathLst>
                <a:path w="21600" h="29430">
                  <a:moveTo>
                    <a:pt x="3600" y="0"/>
                  </a:moveTo>
                  <a:arcTo wR="3600" hR="3600" stAng="16200000" swAng="-5400000"/>
                  <a:lnTo>
                    <a:pt x="0" y="25830"/>
                  </a:lnTo>
                  <a:arcTo wR="3600" hR="3600" stAng="10800000" swAng="-5400000"/>
                  <a:lnTo>
                    <a:pt x="18000" y="29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Адекватная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уверенность в себе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_s1035"/>
            <p:cNvSpPr/>
            <p:nvPr/>
          </p:nvSpPr>
          <p:spPr>
            <a:xfrm>
              <a:off x="4697280" y="4217760"/>
              <a:ext cx="1936080" cy="2638080"/>
            </a:xfrm>
            <a:custGeom>
              <a:avLst/>
              <a:gdLst>
                <a:gd name="textAreaLeft" fmla="*/ 94320 w 1936080"/>
                <a:gd name="textAreaRight" fmla="*/ 1841760 w 1936080"/>
                <a:gd name="textAreaTop" fmla="*/ 94320 h 2638080"/>
                <a:gd name="textAreaBottom" fmla="*/ 2543760 h 2638080"/>
              </a:gdLst>
              <a:ahLst/>
              <a:rect l="textAreaLeft" t="textAreaTop" r="textAreaRight" b="textAreaBottom"/>
              <a:pathLst>
                <a:path w="21600" h="29430">
                  <a:moveTo>
                    <a:pt x="3600" y="0"/>
                  </a:moveTo>
                  <a:arcTo wR="3600" hR="3600" stAng="16200000" swAng="-5400000"/>
                  <a:lnTo>
                    <a:pt x="0" y="25830"/>
                  </a:lnTo>
                  <a:arcTo wR="3600" hR="3600" stAng="10800000" swAng="-5400000"/>
                  <a:lnTo>
                    <a:pt x="18000" y="29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Завышенна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самоуверенность,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эгоизм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36"/>
            <p:cNvSpPr/>
            <p:nvPr/>
          </p:nvSpPr>
          <p:spPr>
            <a:xfrm>
              <a:off x="6956280" y="4217760"/>
              <a:ext cx="1936080" cy="2638080"/>
            </a:xfrm>
            <a:custGeom>
              <a:avLst/>
              <a:gdLst>
                <a:gd name="textAreaLeft" fmla="*/ 94320 w 1936080"/>
                <a:gd name="textAreaRight" fmla="*/ 1841760 w 1936080"/>
                <a:gd name="textAreaTop" fmla="*/ 94320 h 2638080"/>
                <a:gd name="textAreaBottom" fmla="*/ 2543760 h 2638080"/>
              </a:gdLst>
              <a:ahLst/>
              <a:rect l="textAreaLeft" t="textAreaTop" r="textAreaRight" b="textAreaBottom"/>
              <a:pathLst>
                <a:path w="21600" h="29430">
                  <a:moveTo>
                    <a:pt x="3600" y="0"/>
                  </a:moveTo>
                  <a:arcTo wR="3600" hR="3600" stAng="16200000" swAng="-5400000"/>
                  <a:lnTo>
                    <a:pt x="0" y="25830"/>
                  </a:lnTo>
                  <a:arcTo wR="3600" hR="3600" stAng="10800000" swAng="-5400000"/>
                  <a:lnTo>
                    <a:pt x="18000" y="29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Компенсаторно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завышенна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(человек компенсирует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недостаток,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ытается его скрыть.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296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80"/>
                </a:solidFill>
                <a:latin typeface="Times New Roman"/>
              </a:rPr>
              <a:t>Икар был заточён на острове Крит. Его отец сделал крылья из перьев, скреплённых воском, для того, чтобы юноша мог подняться в небо и улететь. Но Икар оказался слишком самоуверен и самолюбив. Он захотел долететь до солнца. Солнце растопило воск его крыльев. Икар упал в море и разбилс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Times New Roman"/>
              </a:rPr>
              <a:t>Мораль: излишняя самоуверенность приводит к бе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Tahoma"/>
              </a:rPr>
              <a:t>Пути преодоления завышенной самооценки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99"/>
                </a:solidFill>
                <a:uFillTx/>
                <a:latin typeface="Tahoma"/>
              </a:rPr>
              <a:t>Хорошее знание себя </a:t>
            </a:r>
            <a:br>
              <a:rPr sz="4000"/>
            </a:br>
            <a:r>
              <a:rPr b="0" lang="ru-RU" sz="4000" spc="-1" strike="noStrike" u="sng">
                <a:solidFill>
                  <a:srgbClr val="cc0099"/>
                </a:solidFill>
                <a:uFillTx/>
                <a:latin typeface="Tahoma"/>
              </a:rPr>
              <a:t>(своих достоинств и недостатков)</a:t>
            </a:r>
            <a:br>
              <a:rPr sz="4000"/>
            </a:br>
            <a:r>
              <a:rPr b="0" lang="ru-RU" sz="4000" spc="-1" strike="noStrike">
                <a:solidFill>
                  <a:srgbClr val="ff6699"/>
                </a:solidFill>
                <a:latin typeface="Tahoma"/>
              </a:rPr>
              <a:t>Игра «Две стороны личност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2048040"/>
          <a:ext cx="9144000" cy="480852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Положительные психологические свой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Отрицательные психологические свой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99"/>
                          </a:solidFill>
                          <a:latin typeface="Tahoma"/>
                        </a:rPr>
                        <a:t>Лидер, умеет принимать решения, решительный, сконцентрированный на целях, конкурентный, нацелен на победу, уверен в себе, честолюбивый, энергичны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99"/>
                          </a:solidFill>
                          <a:latin typeface="Tahoma"/>
                        </a:rPr>
                        <a:t>Эгоистичный, категоричный, не терпит возражений, прерывает других, хитрый, коварный, нетерпеливый, самонадеянный, ориентирован на статус и карьер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ВОЛШЕБНАЯ ЛАВ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2060640"/>
            <a:ext cx="49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cc0099"/>
                </a:solidFill>
                <a:latin typeface="Tahoma"/>
              </a:rPr>
              <a:t>В волшебной лавке продаются качества характера. Каждый из участников может приобрести те качества, которых ему не хватает, в обмен на положительные качества, которые имеет в избытке. Важно обосновать для чего ему нужно приобретаемое качество, и в каких ситуациях оно пригоди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Image3"/>
          <p:cNvPicPr/>
          <p:nvPr/>
        </p:nvPicPr>
        <p:blipFill>
          <a:blip r:embed="rId1"/>
          <a:srcRect l="0" t="19372" r="0" b="6806"/>
          <a:stretch/>
        </p:blipFill>
        <p:spPr>
          <a:xfrm>
            <a:off x="0" y="1197000"/>
            <a:ext cx="5076720" cy="54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ahoma"/>
              </a:rPr>
              <a:t>Осознание того, что все трудности преодолимы и даны нам для саморазвит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ahoma"/>
              </a:rPr>
              <a:t>Умение брать на себя ответственность за свои чувства, мысли, поступки, успехи и неудач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Упражнение «Я источник чувств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58920" y="836640"/>
          <a:ext cx="8785080" cy="5603760"/>
        </p:xfrm>
        <a:graphic>
          <a:graphicData uri="http://schemas.openxmlformats.org/drawingml/2006/table">
            <a:tbl>
              <a:tblPr/>
              <a:tblGrid>
                <a:gridCol w="4394160"/>
                <a:gridCol w="43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60066"/>
                          </a:solidFill>
                          <a:uFillTx/>
                          <a:latin typeface="Tahoma"/>
                        </a:rPr>
                        <a:t>Чужая ответств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60066"/>
                          </a:solidFill>
                          <a:uFillTx/>
                          <a:latin typeface="Tahoma"/>
                        </a:rPr>
                        <a:t>Моя ответств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c0099"/>
                          </a:solidFill>
                          <a:latin typeface="Tahoma"/>
                        </a:rPr>
                        <a:t>В том, что я получил двойку, виноват учитель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c0099"/>
                          </a:solidFill>
                          <a:latin typeface="Tahoma"/>
                        </a:rPr>
                        <a:t>Я сам виноват в полученной двойке, нужно было выучить заданный материал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c0099"/>
                          </a:solidFill>
                          <a:latin typeface="Tahoma"/>
                        </a:rPr>
                        <a:t>Меня раздражают мои однокласс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c0099"/>
                          </a:solidFill>
                          <a:latin typeface="Tahoma"/>
                        </a:rPr>
                        <a:t>Я раздражаюсь из-за того, что не могу найти общего языка со своими одноклассниками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8:43:25Z</dcterms:created>
  <dc:creator>User</dc:creator>
  <dc:description/>
  <dc:language>en-US</dc:language>
  <cp:lastModifiedBy>pre</cp:lastModifiedBy>
  <dcterms:modified xsi:type="dcterms:W3CDTF">2015-12-10T19:58:53Z</dcterms:modified>
  <cp:revision>29</cp:revision>
  <dc:subject/>
  <dc:title>Слайд 1</dc:title>
</cp:coreProperties>
</file>