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A45-E0ED-4D2B-B86D-16C752CB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10F-BEE4-4DDC-AEFA-DA55A092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4589-E886-4A44-AE69-BD1B0FFC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912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176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912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176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318-8982-4D67-9908-3896F468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73F1-B0FF-41D0-A305-8F6223C0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C999-FE4E-4935-A9C6-49851C9F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4BFF-33AE-4133-90E2-A5632FC3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F0C0-74DF-4C4C-9384-DB04F186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C1CA-BD70-4FC5-B0A2-C2509835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82640" y="188640"/>
            <a:ext cx="728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A94A-9485-46FE-8F3E-BF16C92F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81AD-6944-4FB2-B7EF-19BD1D3E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B64-5EE5-4AA0-9495-57750D77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F95B-C7FA-411B-96CD-CA2BCDD1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D125-A177-40EE-9D9F-372079AF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0394-8925-4C1E-AB0A-FD38D173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1291-49E9-4C33-B272-F34C254E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912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6176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912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6176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7558-F882-49BA-BE2D-43E3DD05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633-7AFA-4591-AE48-CE7AD111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8DE-64A9-4AD8-86ED-AA6AE304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463-CD57-4CD7-95D6-D0BE4202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82640" y="188640"/>
            <a:ext cx="728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EDE-C6B3-4BFF-99F5-A6005C41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9D3-211E-4A07-AFBD-670103D1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E8B-EA46-464D-8DC5-14E209B2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36E-C9DF-4AE3-B7A9-5635CD8E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0"/>
          <p:cNvSpPr/>
          <p:nvPr/>
        </p:nvSpPr>
        <p:spPr>
          <a:xfrm>
            <a:off x="324000" y="1484280"/>
            <a:ext cx="8640720" cy="4537080"/>
          </a:xfrm>
          <a:prstGeom prst="wedgeRectCallout">
            <a:avLst>
              <a:gd name="adj1" fmla="val -51398"/>
              <a:gd name="adj2" fmla="val 61546"/>
            </a:avLst>
          </a:prstGeom>
          <a:gradFill rotWithShape="0">
            <a:gsLst>
              <a:gs pos="0">
                <a:srgbClr val="c0c0c0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" name="Picture 7" descr="64208m"/>
          <p:cNvPicPr/>
          <p:nvPr/>
        </p:nvPicPr>
        <p:blipFill>
          <a:blip r:embed="rId2"/>
          <a:srcRect l="0" t="0" r="0" b="1845"/>
          <a:stretch/>
        </p:blipFill>
        <p:spPr>
          <a:xfrm>
            <a:off x="324000" y="190440"/>
            <a:ext cx="1223640" cy="115092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103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32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EF03-BDCA-4E66-81E6-04522E924A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64208m"/>
          <p:cNvPicPr/>
          <p:nvPr/>
        </p:nvPicPr>
        <p:blipFill>
          <a:blip r:embed="rId2"/>
          <a:stretch/>
        </p:blipFill>
        <p:spPr>
          <a:xfrm>
            <a:off x="324000" y="333360"/>
            <a:ext cx="2997000" cy="287820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A8CD-4F5E-4C3C-A3D6-6D7B69E1AC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8640" y="1285560"/>
            <a:ext cx="5343480" cy="1469880"/>
          </a:xfrm>
          <a:prstGeom prst="rect">
            <a:avLst/>
          </a:prstGeom>
          <a:solidFill>
            <a:srgbClr val="ffffff">
              <a:alpha val="80000"/>
            </a:srgbClr>
          </a:solidFill>
          <a:ln w="648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Monotype Corsiva"/>
                <a:ea typeface="Times New Roman"/>
              </a:rPr>
              <a:t>Суд над сигаретой 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743200" y="2928600"/>
            <a:ext cx="6400800" cy="32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атрализованн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льина Н. 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99680" y="1428480"/>
            <a:ext cx="8435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ть отрицательное отношение к курению</a:t>
            </a:r>
            <a:r>
              <a:rPr b="1" i="1" lang="ru-RU" sz="3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Задачи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3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нести информацию до детей о вреде курения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3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ть ведению ЗОЖ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Турции курение рассматривали как нарушение законов Корана: человека избивали и возили на осле по улицам Константиноп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s46.radikal.ru/i114/0901/d5/162678a9c033.jpg"/>
          <p:cNvPicPr/>
          <p:nvPr/>
        </p:nvPicPr>
        <p:blipFill>
          <a:blip r:embed="rId1"/>
          <a:stretch/>
        </p:blipFill>
        <p:spPr>
          <a:xfrm>
            <a:off x="2643120" y="3143160"/>
            <a:ext cx="478656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Персии запрещали курение под страхом лишения носа и губ, а торговцев табака сжигали на кост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upload.wikimedia.org/wikipedia/commons/thumb/4/46/Lucas_Cranach_-_Antichrist.png/180px-Lucas_Cranach_-_Antichrist.png"/>
          <p:cNvPicPr/>
          <p:nvPr/>
        </p:nvPicPr>
        <p:blipFill>
          <a:blip r:embed="rId1"/>
          <a:stretch/>
        </p:blipFill>
        <p:spPr>
          <a:xfrm>
            <a:off x="3143160" y="2643120"/>
            <a:ext cx="3025800" cy="74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России царь Михаил Фёдорович издал свод законов, в которых говорилось, что курильщиков табака следует наказывать шестьюдесятью палочными ударами по подошвам ног. А торговцам табака «пороть ноздри», резать носы и ссылать в дальние горо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ttp://schools.keldysh.ru/sch143/mon/Image3.jpg"/>
          <p:cNvPicPr/>
          <p:nvPr/>
        </p:nvPicPr>
        <p:blipFill>
          <a:blip r:embed="rId1"/>
          <a:stretch/>
        </p:blipFill>
        <p:spPr>
          <a:xfrm>
            <a:off x="4714920" y="3714840"/>
            <a:ext cx="23004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img1.liveinternet.ru/images/attach/c/0/47/959/47959035_1251219126_182.jpg"/>
          <p:cNvPicPr/>
          <p:nvPr/>
        </p:nvPicPr>
        <p:blipFill>
          <a:blip r:embed="rId1"/>
          <a:stretch/>
        </p:blipFill>
        <p:spPr>
          <a:xfrm>
            <a:off x="1643040" y="642960"/>
            <a:ext cx="3821040" cy="2394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i.piccy.kiev.ua/i/53/9b/da5c0255d322f3836b19a019c4f9.jpeg"/>
          <p:cNvPicPr/>
          <p:nvPr/>
        </p:nvPicPr>
        <p:blipFill>
          <a:blip r:embed="rId2"/>
          <a:stretch/>
        </p:blipFill>
        <p:spPr>
          <a:xfrm>
            <a:off x="6072120" y="1285920"/>
            <a:ext cx="2847960" cy="2370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6" name="Picture 2" descr="http://www.lookatme.ru/assets/article_image-image/00/0a/112123/article_image-image-article.jpg"/>
          <p:cNvPicPr/>
          <p:nvPr/>
        </p:nvPicPr>
        <p:blipFill>
          <a:blip r:embed="rId3"/>
          <a:stretch/>
        </p:blipFill>
        <p:spPr>
          <a:xfrm>
            <a:off x="214200" y="3357720"/>
            <a:ext cx="2500560" cy="6759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neky.ru/uploads/posts/2008-12/1228659697_neky.ru.jpg"/>
          <p:cNvPicPr/>
          <p:nvPr/>
        </p:nvPicPr>
        <p:blipFill>
          <a:blip r:embed="rId4"/>
          <a:stretch/>
        </p:blipFill>
        <p:spPr>
          <a:xfrm>
            <a:off x="3429000" y="3772080"/>
            <a:ext cx="38577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8% смертей от рака гортани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6 % смертей от рака лёгких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9" name="Picture 2" descr="http://neky.ru/uploads/posts/2008-12/1228244421_neky.ru.jpg"/>
          <p:cNvPicPr/>
          <p:nvPr/>
        </p:nvPicPr>
        <p:blipFill>
          <a:blip r:embed="rId1"/>
          <a:stretch/>
        </p:blipFill>
        <p:spPr>
          <a:xfrm>
            <a:off x="571680" y="1500120"/>
            <a:ext cx="3214440" cy="4442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0" name="Прямоугольник 4"/>
          <p:cNvSpPr/>
          <p:nvPr/>
        </p:nvSpPr>
        <p:spPr>
          <a:xfrm>
            <a:off x="4000680" y="15717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0 % умирают от сердечно-сосудистых заболе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5 % смертей от хронического бронх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novaya.com.ua/images/o-00008015-a-00001550.jpg"/>
          <p:cNvPicPr/>
          <p:nvPr/>
        </p:nvPicPr>
        <p:blipFill>
          <a:blip r:embed="rId2"/>
          <a:stretch/>
        </p:blipFill>
        <p:spPr>
          <a:xfrm>
            <a:off x="5643720" y="2857680"/>
            <a:ext cx="260028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2064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Monotype Corsiva"/>
              </a:rPr>
              <a:t>Курение  приводит    к  неизлечимым болезням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2064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Monotype Corsiva"/>
              </a:rPr>
              <a:t>Курение  разрушает  организм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2064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3300" spc="-1" strike="noStrike">
                <a:solidFill>
                  <a:srgbClr val="c00000"/>
                </a:solidFill>
                <a:latin typeface="Monotype Corsiva"/>
              </a:rPr>
              <a:t>Курение снижает физическую  активнос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2064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3300" spc="-1" strike="noStrike">
                <a:solidFill>
                  <a:srgbClr val="c00000"/>
                </a:solidFill>
                <a:latin typeface="Monotype Corsiva"/>
              </a:rPr>
              <a:t>Никотин   забирает  свободу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2064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Monotype Corsiva"/>
              </a:rPr>
              <a:t>Человек    становится  его  рабом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825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www.vokrugsveta.ru/img/cmn/2007/07/03/010.jpg"/>
          <p:cNvPicPr/>
          <p:nvPr/>
        </p:nvPicPr>
        <p:blipFill>
          <a:blip r:embed="rId1"/>
          <a:stretch/>
        </p:blipFill>
        <p:spPr>
          <a:xfrm>
            <a:off x="6000840" y="3571920"/>
            <a:ext cx="28573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5:36:20Z</dcterms:created>
  <dc:creator>Admin</dc:creator>
  <dc:description/>
  <dc:language>en-US</dc:language>
  <cp:lastModifiedBy>наталья ильина</cp:lastModifiedBy>
  <dcterms:modified xsi:type="dcterms:W3CDTF">2015-12-11T18:01:21Z</dcterms:modified>
  <cp:revision>10</cp:revision>
  <dc:subject/>
  <dc:title>Суд над сигаретой </dc:title>
</cp:coreProperties>
</file>