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4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38.gif" ContentType="image/gi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89D-CAC6-4C6F-96B0-09DB4700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72A-E643-4774-A137-CCB45A84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741-451A-471D-A653-D69E88E5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CBE-977E-4A3B-97F0-FBFDC408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3EA4-BCE3-477A-9464-1E28BE84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C704-0E05-458E-AA2E-F2B45BFE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74ED-C264-4C36-80B1-1CDC493F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6FAB-EE57-4648-A659-42DD6346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0765-B2F1-4AEA-89BF-DE2D4F02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EE78-A2CA-459A-A0D1-1312FEB0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C125-A531-4C9A-A473-4606D1CE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597-9972-411A-9552-F2CFB4EB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1011-1E61-4819-8F4E-2B275BC2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D8AB-C9B5-4339-825F-68FCFFD7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0A47-D63F-40E2-8434-74E8BB33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4463-8E03-400F-8BA0-AE2B404A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0327-CD33-423F-BD15-47BF5991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346C8-9206-4C7C-A7A8-96B850FB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5CE0-BFEE-480F-9C0C-3ED27553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3DDE-D9D6-4912-B6F7-C793D0F3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1AA15-5A6D-475C-B9E7-10E116F8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120A-F994-426E-9212-F7CDE6DE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9FC-A5F9-4A5A-90F1-E8E67067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4E8E-868F-4551-B9B1-749EF860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F795-CCFC-4391-91EF-BA7802DB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EBA8-8530-4A04-B659-DDA4FFA2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EF0C-B5BF-423A-8393-F7A8A7CB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30BF-4EF1-469F-90D2-16ED3ADF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AD1FA-D086-4018-A30D-ECC61CE0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91D4-1AA5-475B-87AA-B447DE79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E5951-4F2A-4C0B-9A79-D7938F19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1DA60-CCA8-48B4-B1C3-92A628B8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8E34-5524-4B55-AB91-5AB98070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642-D910-4014-9B91-46C7940C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0891-C5BA-489D-A65D-D851C174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F3FB-D02A-4DF5-A20C-0B133936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74CD-9D91-4D2F-B4B6-BCFD796B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887B1-ED0F-4BEC-BC47-FBF85543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36E7-0B28-4DF9-B09B-F79F4EF3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9806-DEFD-4A33-BD17-D93820E2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4F56-6681-4EBF-A193-A164E74C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B6249-55A7-4560-86A6-F23F115F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C47E3-C1CF-4A19-820D-47A5491E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F00-62EF-47BD-9CD5-B034541E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71B-62E1-46C4-ACAC-5F1D23E0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644-0C4D-4169-927E-513A03B1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9B2-3F78-44DE-9F46-1EDBCD1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FE2-25AA-4D97-890E-0EE23A6D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C1BD-4F0A-4676-882A-2DC26C60FB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CC21-450E-436D-AD46-BBBD07F6D6B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7808-554F-4B0D-8420-4F057AEEE25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3808-4817-4337-966D-C1E5E3B761C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" Target="slide2.xml"/><Relationship Id="rId4" Type="http://schemas.openxmlformats.org/officeDocument/2006/relationships/image" Target="../media/image15.png"/><Relationship Id="rId5" Type="http://schemas.openxmlformats.org/officeDocument/2006/relationships/slide" Target="slide22.xml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" Target="slide2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image" Target="../media/image15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444600" y="285840"/>
            <a:ext cx="9728280" cy="3414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999880" y="3786120"/>
            <a:ext cx="5715000" cy="2643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щина Наталья Владимиро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СОШ №1 пгт Серышево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ни Сергея Бондаре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D:\Анимашки\FUN\Cartoon Objects &amp; Zips\CAR.WMF"/>
          <p:cNvPicPr/>
          <p:nvPr/>
        </p:nvPicPr>
        <p:blipFill>
          <a:blip r:embed="rId2"/>
          <a:stretch/>
        </p:blipFill>
        <p:spPr>
          <a:xfrm>
            <a:off x="214200" y="3571920"/>
            <a:ext cx="400068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621400"/>
          </a:xfrm>
          <a:prstGeom prst="rect">
            <a:avLst/>
          </a:prstGeom>
          <a:ln w="0">
            <a:noFill/>
          </a:ln>
        </p:spPr>
      </p:pic>
      <p:grpSp>
        <p:nvGrpSpPr>
          <p:cNvPr id="232" name="Управляющая кнопка: домой 2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33" name="Управляющая кнопка: домой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Управляющая кнопка: назад 4">
            <a:hlinkClick r:id="rId4" action="ppaction://hlinksldjump"/>
          </p:cNvPr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621400"/>
          </a:xfrm>
          <a:prstGeom prst="rect">
            <a:avLst/>
          </a:prstGeom>
          <a:ln w="0">
            <a:noFill/>
          </a:ln>
        </p:spPr>
      </p:pic>
      <p:grpSp>
        <p:nvGrpSpPr>
          <p:cNvPr id="237" name="Управляющая кнопка: домой 2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38" name="Управляющая кнопка: домой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Управляющая кнопка: назад 4">
            <a:hlinkClick r:id="rId4" action="ppaction://hlinksldjump"/>
          </p:cNvPr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621400"/>
          </a:xfrm>
          <a:prstGeom prst="rect">
            <a:avLst/>
          </a:prstGeom>
          <a:ln w="0">
            <a:noFill/>
          </a:ln>
        </p:spPr>
      </p:pic>
      <p:grpSp>
        <p:nvGrpSpPr>
          <p:cNvPr id="242" name="Управляющая кнопка: домой 2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43" name="Управляющая кнопка: домой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Управляющая кнопка: назад 4">
            <a:hlinkClick r:id="rId4" action="ppaction://hlinksldjump"/>
          </p:cNvPr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621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179280" y="6265800"/>
            <a:ext cx="4572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14200" y="213840"/>
            <a:ext cx="8429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ржусь я только на ходу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встану упаду.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мотри, силач, какой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ходу одной ру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танавливать привык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ятитонный грузови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м по улице идет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работу всех везе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на курьих ножках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в резиновых сапожк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8" descr="D:\Анимашки\FUN\Cartoon Objects &amp; Zips\BICYCLE.WMF"/>
          <p:cNvPicPr/>
          <p:nvPr/>
        </p:nvPicPr>
        <p:blipFill>
          <a:blip r:embed="rId1"/>
          <a:stretch/>
        </p:blipFill>
        <p:spPr>
          <a:xfrm>
            <a:off x="5715000" y="214200"/>
            <a:ext cx="1785960" cy="1784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D:\Анимашки\FUN\Educational Cartoons\SBUSES.WMF"/>
          <p:cNvPicPr/>
          <p:nvPr/>
        </p:nvPicPr>
        <p:blipFill>
          <a:blip r:embed="rId2"/>
          <a:stretch/>
        </p:blipFill>
        <p:spPr>
          <a:xfrm>
            <a:off x="4714920" y="4714920"/>
            <a:ext cx="2765520" cy="1709640"/>
          </a:xfrm>
          <a:prstGeom prst="rect">
            <a:avLst/>
          </a:prstGeom>
          <a:ln w="0">
            <a:noFill/>
          </a:ln>
        </p:spPr>
      </p:pic>
      <p:grpSp>
        <p:nvGrpSpPr>
          <p:cNvPr id="251" name="Управляющая кнопка: домой 14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52" name="Управляющая кнопка: домой 1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Управляющая кнопка: назад 5">
            <a:hlinkClick r:id="rId5" action="ppaction://hlinksldjump"/>
          </p:cNvPr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6"/>
          <a:stretch/>
        </p:blipFill>
        <p:spPr>
          <a:xfrm>
            <a:off x="6796080" y="2565360"/>
            <a:ext cx="13129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621400"/>
          </a:xfrm>
          <a:prstGeom prst="rect">
            <a:avLst/>
          </a:prstGeom>
          <a:ln w="0">
            <a:noFill/>
          </a:ln>
        </p:spPr>
      </p:pic>
      <p:grpSp>
        <p:nvGrpSpPr>
          <p:cNvPr id="257" name="Управляющая кнопка: домой 2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58" name="Управляющая кнопка: домой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Управляющая кнопка: назад 4">
            <a:hlinkClick r:id="rId4" action="ppaction://hlinksldjump"/>
          </p:cNvPr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621400"/>
          </a:xfrm>
          <a:prstGeom prst="rect">
            <a:avLst/>
          </a:prstGeom>
          <a:ln w="0">
            <a:noFill/>
          </a:ln>
        </p:spPr>
      </p:pic>
      <p:grpSp>
        <p:nvGrpSpPr>
          <p:cNvPr id="262" name="Управляющая кнопка: домой 2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63" name="Управляющая кнопка: домой 2" descr=""/>
            <p:cNvPicPr/>
            <p:nvPr/>
          </p:nvPicPr>
          <p:blipFill>
            <a:blip r:embed="rId2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Управляющая кнопка: назад 4"/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846760"/>
          </a:xfrm>
          <a:prstGeom prst="rect">
            <a:avLst/>
          </a:prstGeom>
          <a:ln w="0">
            <a:noFill/>
          </a:ln>
        </p:spPr>
      </p:pic>
      <p:grpSp>
        <p:nvGrpSpPr>
          <p:cNvPr id="267" name="Управляющая кнопка: домой 2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68" name="Управляющая кнопка: домой 2" descr=""/>
            <p:cNvPicPr/>
            <p:nvPr/>
          </p:nvPicPr>
          <p:blipFill>
            <a:blip r:embed="rId2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Управляющая кнопка: назад 4"/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846760"/>
          </a:xfrm>
          <a:prstGeom prst="rect">
            <a:avLst/>
          </a:prstGeom>
          <a:ln w="0">
            <a:noFill/>
          </a:ln>
        </p:spPr>
      </p:pic>
      <p:grpSp>
        <p:nvGrpSpPr>
          <p:cNvPr id="272" name="Управляющая кнопка: домой 2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73" name="Управляющая кнопка: домой 2" descr=""/>
            <p:cNvPicPr/>
            <p:nvPr/>
          </p:nvPicPr>
          <p:blipFill>
            <a:blip r:embed="rId2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Управляющая кнопка: назад 4"/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846760"/>
          </a:xfrm>
          <a:prstGeom prst="rect">
            <a:avLst/>
          </a:prstGeom>
          <a:ln w="0">
            <a:noFill/>
          </a:ln>
        </p:spPr>
      </p:pic>
      <p:grpSp>
        <p:nvGrpSpPr>
          <p:cNvPr id="277" name="Управляющая кнопка: домой 2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78" name="Управляющая кнопка: домой 2" descr=""/>
            <p:cNvPicPr/>
            <p:nvPr/>
          </p:nvPicPr>
          <p:blipFill>
            <a:blip r:embed="rId2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Управляющая кнопка: назад 4"/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Таблица 3" descr=""/>
          <p:cNvPicPr/>
          <p:nvPr/>
        </p:nvPicPr>
        <p:blipFill>
          <a:blip r:embed="rId1"/>
          <a:stretch/>
        </p:blipFill>
        <p:spPr>
          <a:xfrm>
            <a:off x="1938240" y="841320"/>
            <a:ext cx="538344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13840" y="357120"/>
            <a:ext cx="8472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жно встретить знак та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дороге скоростной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де больших размеров я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ходить опасно прямо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м, где строится район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кола, дом иль стадио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 за знак? Вниз по ступеня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идет под земл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жет, он в метро спеши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жет быть,  сломался лифт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 за знак тут? Пешех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нем зачеркнутый иде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 же это означ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жет, их здесь обижаю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icture 13" descr="zn"/>
          <p:cNvPicPr/>
          <p:nvPr/>
        </p:nvPicPr>
        <p:blipFill>
          <a:blip r:embed="rId1"/>
          <a:stretch/>
        </p:blipFill>
        <p:spPr>
          <a:xfrm>
            <a:off x="4932360" y="322200"/>
            <a:ext cx="2000160" cy="1755720"/>
          </a:xfrm>
          <a:prstGeom prst="rect">
            <a:avLst/>
          </a:prstGeom>
          <a:ln w="0">
            <a:noFill/>
          </a:ln>
        </p:spPr>
      </p:pic>
      <p:grpSp>
        <p:nvGrpSpPr>
          <p:cNvPr id="284" name="Управляющая кнопка: домой 4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85" name="Управляющая кнопка: домой 4" descr=""/>
            <p:cNvPicPr/>
            <p:nvPr/>
          </p:nvPicPr>
          <p:blipFill>
            <a:blip r:embed="rId2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Управляющая кнопка: назад 5"/>
          <p:cNvSpPr/>
          <p:nvPr/>
        </p:nvSpPr>
        <p:spPr>
          <a:xfrm>
            <a:off x="214200" y="628668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3"/>
          <a:stretch/>
        </p:blipFill>
        <p:spPr>
          <a:xfrm>
            <a:off x="4608360" y="4738680"/>
            <a:ext cx="1735200" cy="1735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"/>
          <p:cNvPicPr/>
          <p:nvPr/>
        </p:nvPicPr>
        <p:blipFill>
          <a:blip r:embed="rId4"/>
          <a:stretch/>
        </p:blipFill>
        <p:spPr>
          <a:xfrm>
            <a:off x="6643800" y="2771640"/>
            <a:ext cx="17143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ЗДРАВЛЯЕМ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Picture 4" descr="4"/>
          <p:cNvPicPr/>
          <p:nvPr/>
        </p:nvPicPr>
        <p:blipFill>
          <a:blip r:embed="rId1"/>
          <a:stretch/>
        </p:blipFill>
        <p:spPr>
          <a:xfrm>
            <a:off x="3305160" y="1812960"/>
            <a:ext cx="29098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Таблица 3" descr=""/>
          <p:cNvPicPr/>
          <p:nvPr/>
        </p:nvPicPr>
        <p:blipFill>
          <a:blip r:embed="rId1"/>
          <a:stretch/>
        </p:blipFill>
        <p:spPr>
          <a:xfrm>
            <a:off x="1938240" y="841320"/>
            <a:ext cx="5426280" cy="5827680"/>
          </a:xfrm>
          <a:prstGeom prst="rect">
            <a:avLst/>
          </a:prstGeom>
          <a:ln w="0">
            <a:noFill/>
          </a:ln>
        </p:spPr>
      </p:pic>
      <p:grpSp>
        <p:nvGrpSpPr>
          <p:cNvPr id="200" name="Управляющая кнопка: домой 2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01" name="Управляющая кнопка: домой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Управляющая кнопка: назад 4">
            <a:hlinkClick r:id="rId4" action="ppaction://hlinksldjump"/>
          </p:cNvPr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Таблица 3" descr=""/>
          <p:cNvPicPr/>
          <p:nvPr/>
        </p:nvPicPr>
        <p:blipFill>
          <a:blip r:embed="rId1"/>
          <a:stretch/>
        </p:blipFill>
        <p:spPr>
          <a:xfrm>
            <a:off x="1938240" y="841320"/>
            <a:ext cx="5426280" cy="5827680"/>
          </a:xfrm>
          <a:prstGeom prst="rect">
            <a:avLst/>
          </a:prstGeom>
          <a:ln w="0">
            <a:noFill/>
          </a:ln>
        </p:spPr>
      </p:pic>
      <p:grpSp>
        <p:nvGrpSpPr>
          <p:cNvPr id="205" name="Управляющая кнопка: домой 2"/>
          <p:cNvGrpSpPr/>
          <p:nvPr/>
        </p:nvGrpSpPr>
        <p:grpSpPr>
          <a:xfrm>
            <a:off x="8362800" y="6188040"/>
            <a:ext cx="635040" cy="603360"/>
            <a:chOff x="8362800" y="6188040"/>
            <a:chExt cx="635040" cy="603360"/>
          </a:xfrm>
        </p:grpSpPr>
        <p:pic>
          <p:nvPicPr>
            <p:cNvPr id="206" name="Управляющая кнопка: домой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62800" y="6188040"/>
              <a:ext cx="6350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429760" y="6215040"/>
              <a:ext cx="5000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Управляющая кнопка: назад 4">
            <a:hlinkClick r:id="rId4" action="ppaction://hlinksldjump"/>
          </p:cNvPr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62140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домой 2">
            <a:hlinkClick r:id="rId2" action="ppaction://hlinksldjump"/>
          </p:cNvPr>
          <p:cNvSpPr/>
          <p:nvPr/>
        </p:nvSpPr>
        <p:spPr>
          <a:xfrm>
            <a:off x="8429760" y="614376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  <a:path fill="darken" w="21600" h="24677">
                <a:moveTo>
                  <a:pt x="10800" y="5375"/>
                </a:moveTo>
                <a:lnTo>
                  <a:pt x="13376" y="7987"/>
                </a:lnTo>
                <a:lnTo>
                  <a:pt x="13376" y="6246"/>
                </a:lnTo>
                <a:lnTo>
                  <a:pt x="15152" y="6246"/>
                </a:lnTo>
                <a:lnTo>
                  <a:pt x="15152" y="9762"/>
                </a:lnTo>
                <a:lnTo>
                  <a:pt x="17763" y="12338"/>
                </a:lnTo>
                <a:lnTo>
                  <a:pt x="16109" y="12338"/>
                </a:lnTo>
                <a:lnTo>
                  <a:pt x="16109" y="19528"/>
                </a:lnTo>
                <a:lnTo>
                  <a:pt x="5491" y="19528"/>
                </a:lnTo>
                <a:lnTo>
                  <a:pt x="5491" y="12338"/>
                </a:lnTo>
                <a:lnTo>
                  <a:pt x="3837" y="12338"/>
                </a:lnTo>
                <a:close/>
              </a:path>
              <a:path fill="darkenLess" w="21600" h="24677">
                <a:moveTo>
                  <a:pt x="13376" y="7987"/>
                </a:moveTo>
                <a:lnTo>
                  <a:pt x="13376" y="6246"/>
                </a:lnTo>
                <a:lnTo>
                  <a:pt x="15152" y="6246"/>
                </a:lnTo>
                <a:lnTo>
                  <a:pt x="15152" y="9762"/>
                </a:lnTo>
                <a:close/>
              </a:path>
              <a:path fill="darkenLess" w="21600" h="24677">
                <a:moveTo>
                  <a:pt x="9877" y="15837"/>
                </a:moveTo>
                <a:lnTo>
                  <a:pt x="11723" y="15837"/>
                </a:lnTo>
                <a:lnTo>
                  <a:pt x="11723" y="19528"/>
                </a:lnTo>
                <a:lnTo>
                  <a:pt x="16109" y="19528"/>
                </a:lnTo>
                <a:lnTo>
                  <a:pt x="16109" y="12338"/>
                </a:lnTo>
                <a:lnTo>
                  <a:pt x="5491" y="12338"/>
                </a:lnTo>
                <a:lnTo>
                  <a:pt x="5491" y="19528"/>
                </a:lnTo>
                <a:lnTo>
                  <a:pt x="9877" y="19528"/>
                </a:lnTo>
                <a:close/>
              </a:path>
            </a:pathLst>
          </a:cu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Управляющая кнопка: назад 4">
            <a:hlinkClick r:id="rId3" action="ppaction://hlinksldjump"/>
          </p:cNvPr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Таблица 3" descr=""/>
          <p:cNvPicPr/>
          <p:nvPr/>
        </p:nvPicPr>
        <p:blipFill>
          <a:blip r:embed="rId1"/>
          <a:stretch/>
        </p:blipFill>
        <p:spPr>
          <a:xfrm>
            <a:off x="1938240" y="841320"/>
            <a:ext cx="5426280" cy="5827680"/>
          </a:xfrm>
          <a:prstGeom prst="rect">
            <a:avLst/>
          </a:prstGeom>
          <a:ln w="0">
            <a:noFill/>
          </a:ln>
        </p:spPr>
      </p:pic>
      <p:grpSp>
        <p:nvGrpSpPr>
          <p:cNvPr id="213" name="Управляющая кнопка: домой 2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14" name="Управляющая кнопка: домой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Управляющая кнопка: назад 4">
            <a:hlinkClick r:id="rId4" action="ppaction://hlinksldjump"/>
          </p:cNvPr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13840" y="213840"/>
            <a:ext cx="8472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знак такой виси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п - машинам он велит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, идите смел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жкам черно- белы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– любому это ясно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олько безопасно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 хочу спросить про знак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рисован знак вот та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треугольники ребя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 всех ног бегут куда-т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 из школы мы домо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м, знак на мостовой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, внутри велосипед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другого н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6" descr="303"/>
          <p:cNvPicPr/>
          <p:nvPr/>
        </p:nvPicPr>
        <p:blipFill>
          <a:blip r:embed="rId1"/>
          <a:stretch/>
        </p:blipFill>
        <p:spPr>
          <a:xfrm>
            <a:off x="4572000" y="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2"/>
          <a:stretch/>
        </p:blipFill>
        <p:spPr>
          <a:xfrm>
            <a:off x="6715080" y="2214720"/>
            <a:ext cx="2086200" cy="1857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3"/>
          <p:cNvGraphicFramePr/>
          <p:nvPr/>
        </p:nvGraphicFramePr>
        <p:xfrm>
          <a:off x="4286160" y="4286160"/>
          <a:ext cx="1857600" cy="18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4286160"/>
                    <a:ext cx="185760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Управляющая кнопка: домой 9">
            <a:hlinkClick r:id="rId5" action="ppaction://hlinksldjump"/>
          </p:cNvPr>
          <p:cNvSpPr/>
          <p:nvPr/>
        </p:nvSpPr>
        <p:spPr>
          <a:xfrm>
            <a:off x="8358120" y="614376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4" y="10800"/>
                </a:lnTo>
                <a:close/>
              </a:path>
              <a:path fill="darkenLess" w="21614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4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Управляющая кнопка: назад 7">
            <a:hlinkClick r:id="rId6" action="ppaction://hlinksldjump"/>
          </p:cNvPr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Таблица 3" descr=""/>
          <p:cNvPicPr/>
          <p:nvPr/>
        </p:nvPicPr>
        <p:blipFill>
          <a:blip r:embed="rId1"/>
          <a:stretch/>
        </p:blipFill>
        <p:spPr>
          <a:xfrm>
            <a:off x="1938240" y="1047600"/>
            <a:ext cx="5426280" cy="5621400"/>
          </a:xfrm>
          <a:prstGeom prst="rect">
            <a:avLst/>
          </a:prstGeom>
          <a:ln w="0">
            <a:noFill/>
          </a:ln>
        </p:spPr>
      </p:pic>
      <p:grpSp>
        <p:nvGrpSpPr>
          <p:cNvPr id="227" name="Управляющая кнопка: домой 2"/>
          <p:cNvGrpSpPr/>
          <p:nvPr/>
        </p:nvGrpSpPr>
        <p:grpSpPr>
          <a:xfrm>
            <a:off x="8290080" y="6188040"/>
            <a:ext cx="634680" cy="633600"/>
            <a:chOff x="8290080" y="6188040"/>
            <a:chExt cx="634680" cy="633600"/>
          </a:xfrm>
        </p:grpSpPr>
        <p:pic>
          <p:nvPicPr>
            <p:cNvPr id="228" name="Управляющая кнопка: домой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290080" y="6188040"/>
              <a:ext cx="6346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358120" y="6215040"/>
              <a:ext cx="500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Управляющая кнопка: назад 4">
            <a:hlinkClick r:id="rId4" action="ppaction://hlinksldjump"/>
          </p:cNvPr>
          <p:cNvSpPr/>
          <p:nvPr/>
        </p:nvSpPr>
        <p:spPr>
          <a:xfrm>
            <a:off x="14292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10800"/>
                </a:moveTo>
                <a:lnTo>
                  <a:pt x="19971" y="3794"/>
                </a:lnTo>
                <a:lnTo>
                  <a:pt x="19971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4:36:49Z</dcterms:created>
  <dc:creator>Admin</dc:creator>
  <dc:description/>
  <dc:language>en-US</dc:language>
  <cp:lastModifiedBy>USER</cp:lastModifiedBy>
  <dcterms:modified xsi:type="dcterms:W3CDTF">2014-11-17T03:47:15Z</dcterms:modified>
  <cp:revision>30</cp:revision>
  <dc:subject/>
  <dc:title>Волшебный квадрат</dc:title>
</cp:coreProperties>
</file>