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A31-99BE-4349-BCCF-329B2E01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72E-180F-4085-B19C-D8EFEA1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F65-1921-4CA0-8F2C-230A75BE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D14-7C3D-4FA5-8656-A2FBC2E9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014-885D-4A62-9D3D-049B09F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135-E246-4814-95C1-6A5F956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C23-3D5A-473C-92DD-F76EA8A9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F28-C372-4E25-B685-69DC751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E6D-152E-4B51-ABF4-BA3C73E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54A-71EB-4BA4-95C9-7D99DFB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A9B-A8E7-41C7-90B0-A702AA0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2D8-7633-495F-9F91-87F761E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899D-E7FC-4686-95C7-EB5026AC7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chool157.ru/media/images/news/1____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42840"/>
            <a:ext cx="7441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.Я больше не буду ссорится с родителями из-з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Нельзя допускать в отношениях с родителя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.Родители никогда не должн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.Идеальными родителями я счита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857160"/>
            <a:ext cx="3614760" cy="542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 – это то, что мы делим на все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м понемножку: и слёзы и сме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лет и падение, радость, печал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жбу и ссоры, молчанья печ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мья- это то, что с тобою всег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мчатся секунды, недели, г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тены родные, отчий твой дом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дце навеки останется в нем!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Картинка 2 из 25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1143000"/>
            <a:ext cx="50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85880" y="57168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«К родителям относись так, как ты желал бы, чтобы твои дети относились к теб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«Ребёнок учится тому, что видит у себя в дому, родители пример том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ебастьян Бранд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ЬИМИ СТАРАНИЯМИ ЭТО ДОСТИГАЕТСЯ В ВАШИХ СЕМЬЯХ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СЕГДА ЛИ В ВАШЕМ ДОМЕ «ХОРОШАЯ ПОГОДА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МОЖЕТ ЛИ СЕМЬЯ БЫТЬ ИДЕАЛЬНОЙ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НАЕТЕ ЛИ ВЫ СЕМЬЮ, В КОТОРОЙ НИКОГДА НИ ПО КАКОМУ ПОВОДУ НЕ ВОЗНИКАЮТ КОНФЛИКТЫ МЕЖДУ РОДИТЕЛЯМИ И ДЕТЬМИ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ПОЧЕМУ ОНИ ВСЕ-ТАКИ ВОЗНИКАЮ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МОЖНО ЛИ РЕШИТЬ ВЕЧНУЮ ПРОБЛЕМУ «ОТЦОВ И ДЕТЕЙ»?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skoteka_avariya_-_modniy_tanec_aram_zam_zam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506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42832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читай отца и мать, и будет тебе бла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1640" y="5428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очитай, а не люб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8" descr="562.jpg"/>
          <p:cNvPicPr/>
          <p:nvPr/>
        </p:nvPicPr>
        <p:blipFill>
          <a:blip r:embed="rId1"/>
          <a:stretch/>
        </p:blipFill>
        <p:spPr>
          <a:xfrm>
            <a:off x="4643280" y="857160"/>
            <a:ext cx="3953160" cy="46436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9601[1].jpg"/>
          <p:cNvPicPr/>
          <p:nvPr/>
        </p:nvPicPr>
        <p:blipFill>
          <a:blip r:embed="rId2"/>
          <a:stretch/>
        </p:blipFill>
        <p:spPr>
          <a:xfrm>
            <a:off x="114480" y="1571760"/>
            <a:ext cx="4383000" cy="44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лиц опрос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Мои отношения с родителями станут лучше, если…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E:\классный час\Новая папка\взаимотношения детей и родителей\1____3[1].jpg"/>
          <p:cNvPicPr/>
          <p:nvPr/>
        </p:nvPicPr>
        <p:blipFill>
          <a:blip r:embed="rId1"/>
          <a:stretch/>
        </p:blipFill>
        <p:spPr>
          <a:xfrm>
            <a:off x="3000240" y="3143160"/>
            <a:ext cx="5659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5:13:18Z</dcterms:created>
  <dc:creator>home</dc:creator>
  <dc:description/>
  <dc:language>en-US</dc:language>
  <cp:lastModifiedBy>сми</cp:lastModifiedBy>
  <dcterms:modified xsi:type="dcterms:W3CDTF">2015-12-08T13:25:21Z</dcterms:modified>
  <cp:revision>30</cp:revision>
  <dc:subject/>
  <dc:title>Взаимоотношения с родителями</dc:title>
</cp:coreProperties>
</file>