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gif" ContentType="image/gif"/>
  <Override PartName="/ppt/media/image23.jpeg" ContentType="image/jpeg"/>
  <Override PartName="/ppt/media/image49.png" ContentType="image/png"/>
  <Override PartName="/ppt/media/image22.jpeg" ContentType="image/jpeg"/>
  <Override PartName="/ppt/media/image20.jpeg" ContentType="image/jpeg"/>
  <Override PartName="/ppt/media/image21.gif" ContentType="image/gif"/>
  <Override PartName="/ppt/media/image14.png" ContentType="image/png"/>
  <Override PartName="/ppt/media/image19.gif" ContentType="image/gif"/>
  <Override PartName="/ppt/media/image41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1.gif" ContentType="image/gif"/>
  <Override PartName="/ppt/media/image31.gif" ContentType="image/gif"/>
  <Override PartName="/ppt/media/image29.jpeg" ContentType="image/jpeg"/>
  <Override PartName="/ppt/media/image7.gif" ContentType="image/gif"/>
  <Override PartName="/ppt/media/image2.gif" ContentType="image/gif"/>
  <Override PartName="/ppt/media/image32.gif" ContentType="image/gif"/>
  <Override PartName="/ppt/media/image42.jpeg" ContentType="image/jpeg"/>
  <Override PartName="/ppt/media/image6.png" ContentType="image/png"/>
  <Override PartName="/ppt/media/image24.jpeg" ContentType="image/jpeg"/>
  <Override PartName="/ppt/media/image34.jpeg" ContentType="image/jpeg"/>
  <Override PartName="/ppt/media/image33.jpeg" ContentType="image/jpeg"/>
  <Override PartName="/ppt/media/image39.jpeg" ContentType="image/jpeg"/>
  <Override PartName="/ppt/media/image45.jpeg" ContentType="image/jpeg"/>
  <Override PartName="/ppt/media/image52.gif" ContentType="image/gif"/>
  <Override PartName="/ppt/media/image44.jpeg" ContentType="image/jpeg"/>
  <Override PartName="/ppt/media/image36.jpeg" ContentType="image/jpeg"/>
  <Override PartName="/ppt/media/image30.gif" ContentType="image/gif"/>
  <Override PartName="/ppt/media/image38.jpeg" ContentType="image/jpeg"/>
  <Override PartName="/ppt/media/image5.gif" ContentType="image/gif"/>
  <Override PartName="/ppt/media/image35.jpeg" ContentType="image/jpeg"/>
  <Override PartName="/ppt/media/image46.png" ContentType="image/png"/>
  <Override PartName="/ppt/media/image48.jpeg" ContentType="image/jpeg"/>
  <Override PartName="/ppt/media/image43.jpeg" ContentType="image/jpeg"/>
  <Override PartName="/ppt/media/image50.png" ContentType="image/png"/>
  <Override PartName="/ppt/media/image12.jpeg" ContentType="image/jpeg"/>
  <Override PartName="/ppt/media/image40.jpeg" ContentType="image/jpeg"/>
  <Override PartName="/ppt/media/image51.gif" ContentType="image/gif"/>
  <Override PartName="/ppt/media/image13.jpeg" ContentType="image/jpeg"/>
  <Override PartName="/ppt/media/image11.gif" ContentType="image/gif"/>
  <Override PartName="/ppt/media/image26.jpeg" ContentType="image/jpeg"/>
  <Override PartName="/ppt/media/image10.gif" ContentType="image/gif"/>
  <Override PartName="/ppt/media/image47.gif" ContentType="image/gif"/>
  <Override PartName="/ppt/media/image37.jpeg" ContentType="image/jpeg"/>
  <Override PartName="/ppt/media/image3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69D-6477-4BB5-967D-FC94323B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469-252F-417E-8668-B226E417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745-3238-4885-BC68-E5928B25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9C3-7949-4F06-9763-CB0D082B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C5E0-1F2D-4458-B9D6-8D7724A3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12E4-D771-43D6-815A-85311289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EFB1-566B-4F45-8F0C-8D5E1DC9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8D2A-2F6C-4235-8527-2D329CA5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F447-AA96-486F-A14F-439D99A3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453A-497E-4334-B55F-5A17CF0F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F39B-7A3F-4F5D-9636-AC2B5CA0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D2D-45B5-4ACA-907B-E8AF5440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C0A0-C3E3-4BB8-9897-C108B700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A56A-8B90-4A02-952E-39E08E49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B557-6B63-4B5F-BC15-537EBC69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FC9A-8A65-4D54-BDBB-23B966E2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7761-FA89-4BB7-8BEF-23651D07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286-FC91-4BEB-9727-BBBB879C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F1A8-026A-4707-AB68-FC5C622E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03E-E038-498D-B147-096F9E51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762-855E-45E5-90A1-BC1AA432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58F-8213-4989-BF31-21FCFB5B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D4A-75A8-4D16-B37E-0F4EBD32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881-D6FA-4A63-AD66-FD180082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67D3-5C6B-49C0-8150-F1CAC73BA2F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8E7E-18DA-40EF-9113-CC953AF40B2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6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freelancejob.ru/upload/610/47894876217469.jpg" TargetMode="External"/><Relationship Id="rId2" Type="http://schemas.openxmlformats.org/officeDocument/2006/relationships/hyperlink" Target="http://www.franstyle.ru/images/trueimg/pictures/6/FAEFB482AE01-6.jpg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762120" y="38052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Times New Roman"/>
              </a:rPr>
              <a:t>ГКОУ СО «ФИЛАТОВСКАЯ ШКОЛА – ИНТЕРНАТ»</a:t>
            </a:r>
            <a:endParaRPr b="0" lang="en-US" sz="33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Классный час по программе: «НРАВСТВЕННОСТЬ, МИЛОСЕРДИЕ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Тема: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 «Твори добро» 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ы рисуем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915840" y="2446200"/>
            <a:ext cx="3462480" cy="2536920"/>
          </a:xfrm>
          <a:prstGeom prst="rect">
            <a:avLst/>
          </a:prstGeom>
          <a:ln w="28440">
            <a:solidFill>
              <a:srgbClr val="fe1f08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4952880" y="2390760"/>
            <a:ext cx="3353040" cy="2436840"/>
          </a:xfrm>
          <a:prstGeom prst="rect">
            <a:avLst/>
          </a:prstGeom>
          <a:ln w="28440">
            <a:solidFill>
              <a:srgbClr val="fe1f08"/>
            </a:solidFill>
            <a:miter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7162920" y="609480"/>
            <a:ext cx="1085760" cy="10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ы рисуем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2987640" cy="2170080"/>
          </a:xfrm>
          <a:prstGeom prst="rect">
            <a:avLst/>
          </a:prstGeom>
          <a:ln w="28440">
            <a:solidFill>
              <a:srgbClr val="fe1f08"/>
            </a:solidFill>
            <a:miter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7696080" y="380880"/>
            <a:ext cx="762120" cy="15242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5029200" y="2514600"/>
            <a:ext cx="2911320" cy="2116080"/>
          </a:xfrm>
          <a:prstGeom prst="rect">
            <a:avLst/>
          </a:prstGeom>
          <a:ln w="28440">
            <a:solidFill>
              <a:srgbClr val="fe1f08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ы рисуем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597480" cy="2593800"/>
          </a:xfrm>
          <a:prstGeom prst="rect">
            <a:avLst/>
          </a:prstGeom>
          <a:ln w="28440">
            <a:solidFill>
              <a:srgbClr val="fe1f08"/>
            </a:solidFill>
            <a:miter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952880" y="2174760"/>
            <a:ext cx="3565800" cy="2590920"/>
          </a:xfrm>
          <a:prstGeom prst="rect">
            <a:avLst/>
          </a:prstGeom>
          <a:ln w="28440">
            <a:solidFill>
              <a:srgbClr val="fe1f08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7238880" y="380880"/>
            <a:ext cx="120348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ы рисуем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113000" cy="2987640"/>
          </a:xfrm>
          <a:prstGeom prst="rect">
            <a:avLst/>
          </a:prstGeom>
          <a:ln w="28440">
            <a:solidFill>
              <a:srgbClr val="fe1f08"/>
            </a:solidFill>
            <a:miter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4038480" cy="2935080"/>
          </a:xfrm>
          <a:prstGeom prst="rect">
            <a:avLst/>
          </a:prstGeom>
          <a:ln w="28440">
            <a:solidFill>
              <a:srgbClr val="fe1f08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7696080" y="380880"/>
            <a:ext cx="762120" cy="152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590920" y="104148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867040" y="2057400"/>
            <a:ext cx="2911320" cy="30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Times New Roman"/>
              </a:rPr>
              <a:t>Добрые дела красят человека.</a:t>
            </a:r>
            <a:endParaRPr b="0" lang="en-US" sz="6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Times New Roman"/>
              </a:rPr>
              <a:t>А какие вы знаете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Times New Roman"/>
              </a:rPr>
              <a:t>пословицы о доброте,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Times New Roman"/>
              </a:rPr>
              <a:t>о добре?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191120" y="1447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7391520" y="4572000"/>
            <a:ext cx="988920" cy="13716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31640" y="2286000"/>
            <a:ext cx="97164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2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en-US" sz="5800" spc="-1" strike="noStrike">
                <a:solidFill>
                  <a:srgbClr val="ffffff"/>
                </a:solidFill>
                <a:latin typeface="Arial Black"/>
              </a:rPr>
              <a:t>Фразеологизмы</a:t>
            </a:r>
            <a:endParaRPr b="0" lang="en-US" sz="5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В добрый путь!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В добрый час!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Добро пожаловать!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Добрый молодец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Дать добро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Получить добро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1057320" cy="13716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1287720" cy="14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«Сказка про слона, про костер и про белую уточку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Дональд Биссет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"Гора жизни"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7391520" y="533520"/>
            <a:ext cx="1203120" cy="12189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3156120" cy="4343400"/>
          </a:xfrm>
          <a:prstGeom prst="rect">
            <a:avLst/>
          </a:prstGeom>
          <a:ln w="28440">
            <a:solidFill>
              <a:srgbClr val="fe1f08"/>
            </a:solidFill>
            <a:miter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4730760" y="1752480"/>
            <a:ext cx="3156120" cy="4343400"/>
          </a:xfrm>
          <a:prstGeom prst="rect">
            <a:avLst/>
          </a:prstGeom>
          <a:ln w="28440">
            <a:solidFill>
              <a:srgbClr val="fe1f08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066680" y="2209680"/>
            <a:ext cx="6782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Д </a:t>
            </a:r>
            <a:r>
              <a:rPr b="1" lang="en-US" sz="8800" spc="-1" strike="noStrike">
                <a:solidFill>
                  <a:srgbClr val="ffe103"/>
                </a:solidFill>
                <a:latin typeface="Times New Roman"/>
              </a:rPr>
              <a:t>У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fe1f08"/>
                </a:solidFill>
                <a:latin typeface="Times New Roman"/>
              </a:rPr>
              <a:t>М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af273e"/>
                </a:solidFill>
                <a:latin typeface="Times New Roman"/>
              </a:rPr>
              <a:t>О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ff66cc"/>
                </a:solidFill>
                <a:latin typeface="Times New Roman"/>
              </a:rPr>
              <a:t>Б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0066cc"/>
                </a:solidFill>
                <a:latin typeface="Times New Roman"/>
              </a:rPr>
              <a:t>Л </a:t>
            </a:r>
            <a:r>
              <a:rPr b="1" lang="en-US" sz="8800" spc="-1" strike="noStrike">
                <a:solidFill>
                  <a:srgbClr val="ffff00"/>
                </a:solidFill>
                <a:latin typeface="Times New Roman"/>
              </a:rPr>
              <a:t>Р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ff8b17"/>
                </a:solidFill>
                <a:latin typeface="Times New Roman"/>
              </a:rPr>
              <a:t>К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ff3399"/>
                </a:solidFill>
                <a:latin typeface="Times New Roman"/>
              </a:rPr>
              <a:t>О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990099"/>
                </a:solidFill>
                <a:latin typeface="Times New Roman"/>
              </a:rPr>
              <a:t>С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ff6600"/>
                </a:solidFill>
                <a:latin typeface="Times New Roman"/>
              </a:rPr>
              <a:t>Т </a:t>
            </a:r>
            <a:r>
              <a:rPr b="1" lang="en-US" sz="88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8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"Гора жизни"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638680" y="457200"/>
            <a:ext cx="1203480" cy="12193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3826080" cy="2779560"/>
          </a:xfrm>
          <a:prstGeom prst="rect">
            <a:avLst/>
          </a:prstGeom>
          <a:ln w="28440">
            <a:solidFill>
              <a:srgbClr val="fe1f08"/>
            </a:solidFill>
            <a:miter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029200" y="2286000"/>
            <a:ext cx="3825720" cy="2779560"/>
          </a:xfrm>
          <a:prstGeom prst="rect">
            <a:avLst/>
          </a:prstGeom>
          <a:ln w="28440">
            <a:solidFill>
              <a:srgbClr val="fe1f08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657520" cy="33530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3657600" cy="32180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80880" y="3886200"/>
            <a:ext cx="3886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Микеланджело Буонарроти </a:t>
            </a:r>
            <a:br>
              <a:rPr sz="2400"/>
            </a:b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итальянский живописец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(1475 – 1564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57200" y="2519280"/>
            <a:ext cx="3429000" cy="27878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4724280" y="2427120"/>
            <a:ext cx="3733920" cy="29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"Цветик-семицветик"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153200" y="304920"/>
            <a:ext cx="1486080" cy="21333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3098880" cy="3429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4876920" y="2819520"/>
            <a:ext cx="3657600" cy="2776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762120" y="5486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В. Катаев (1897 – 1986)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 Black"/>
              </a:rPr>
              <a:t>"Сказание о милосердии".</a:t>
            </a:r>
            <a:br>
              <a:rPr sz="4700"/>
            </a:br>
            <a:br>
              <a:rPr sz="4700"/>
            </a:br>
            <a:endParaRPr b="0" lang="en-US" sz="47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2629080" cy="37339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5565600" y="1752480"/>
            <a:ext cx="2829240" cy="37339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066680" y="56386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Святая Елизавета раздает милостыню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62720" y="5638680"/>
            <a:ext cx="30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Святой Лаврентий раздает милостыню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619200" y="457200"/>
            <a:ext cx="8076960" cy="60580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828800" y="57150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Доброта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  <p:timing>
    <p:tnLst>
      <p:par>
        <p:cTn id="259" dur="indefinite" restart="never" nodeType="tmRoot">
          <p:childTnLst>
            <p:seq>
              <p:cTn id="260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341227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 Black"/>
              </a:rPr>
              <a:t>"Твори добро".</a:t>
            </a:r>
            <a:br>
              <a:rPr sz="4000"/>
            </a:br>
            <a:endParaRPr b="0" lang="en-US" sz="6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 flipH="1">
            <a:off x="5842080" y="2679840"/>
            <a:ext cx="1923840" cy="27176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38088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838080" y="1828800"/>
            <a:ext cx="2886120" cy="405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248684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3399"/>
                </a:solidFill>
                <a:latin typeface="Times New Roman"/>
              </a:rPr>
              <a:t>Делать людям хорошее –</a:t>
            </a:r>
            <a:endParaRPr b="0" lang="en-US" sz="43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3399"/>
                </a:solidFill>
                <a:latin typeface="Times New Roman"/>
              </a:rPr>
              <a:t>хорошеть самому. </a:t>
            </a:r>
            <a:endParaRPr b="0" lang="en-US" sz="43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3399"/>
                </a:solidFill>
                <a:latin typeface="Times New Roman"/>
              </a:rPr>
              <a:t>Красоту уносят годы, а</a:t>
            </a:r>
            <a:endParaRPr b="0" lang="en-US" sz="43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3399"/>
                </a:solidFill>
                <a:latin typeface="Times New Roman"/>
              </a:rPr>
              <a:t>доброту не унесут!</a:t>
            </a:r>
            <a:br>
              <a:rPr sz="4300"/>
            </a:br>
            <a:br>
              <a:rPr sz="4300"/>
            </a:br>
            <a:endParaRPr b="0" lang="en-US" sz="43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172200" y="4437000"/>
            <a:ext cx="2209680" cy="17002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934920" cy="167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3399"/>
                </a:solidFill>
                <a:latin typeface="Times New Roman"/>
              </a:rPr>
              <a:t>Понять и исполнить</a:t>
            </a:r>
            <a:endParaRPr b="0" lang="en-US" sz="43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3399"/>
                </a:solidFill>
                <a:latin typeface="Times New Roman"/>
              </a:rPr>
              <a:t>Желанье другого –</a:t>
            </a:r>
            <a:endParaRPr b="0" lang="en-US" sz="43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3399"/>
                </a:solidFill>
                <a:latin typeface="Times New Roman"/>
              </a:rPr>
              <a:t>Одно удовольствие –</a:t>
            </a:r>
            <a:endParaRPr b="0" lang="en-US" sz="43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3399"/>
                </a:solidFill>
                <a:latin typeface="Times New Roman"/>
              </a:rPr>
              <a:t>Честное слово!</a:t>
            </a:r>
            <a:endParaRPr b="0" lang="en-US" sz="43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7010280" y="4572000"/>
            <a:ext cx="1514520" cy="14860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38744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650880" y="5428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http://www.freelancejob.ru/upload/610/47894876217469.jpg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http://www.franstyle.ru/images/trueimg/pictures/6/FAEFB482AE01-6.jpg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http://www.tutmp3.net/download.php?id=74366&amp;trek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http://muzfunclub.narod.ru/koncertvl/koncertvl_shura_1.jpg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http://www.belygorod.ru/img2/MasteraMirovoyZhivopisi/Used/00Andgeliko_SvLorencoRazMil.jpg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http://izhclub.ru/images/stories/file/otech/Cvetik-Semicvetik/2.jpg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http://mega.km.ru/bes_2004/DATA%5CPREV1998%5Cpk_069.jpg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http://xmages.net/out.php/i358547_1.jpg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66cc"/>
                </a:solidFill>
                <a:latin typeface="Times New Roman"/>
              </a:rPr>
              <a:t>Доброта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931000" y="3870360"/>
            <a:ext cx="2514600" cy="24415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14360" y="507960"/>
            <a:ext cx="843264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Твори добро</a:t>
            </a:r>
            <a:endParaRPr b="0" lang="en-US" sz="8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336840" y="2793960"/>
            <a:ext cx="5181840" cy="373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                                 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«Вальс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279440" y="5751360"/>
            <a:ext cx="253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66680" y="5638680"/>
            <a:ext cx="266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Ф.Шопен – польский композитор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(1810 – 1849)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2673360" cy="2743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80880" y="60199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209866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fffff"/>
                </a:solidFill>
                <a:latin typeface="Times New Roman"/>
              </a:rPr>
              <a:t>Что такое доброта?</a:t>
            </a:r>
            <a:endParaRPr b="0" lang="en-US" sz="8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3399"/>
                </a:solidFill>
                <a:latin typeface="Times New Roman"/>
              </a:rPr>
              <a:t>Доброта – стремление</a:t>
            </a:r>
            <a:endParaRPr b="0" lang="en-US" sz="49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3399"/>
                </a:solidFill>
                <a:latin typeface="Times New Roman"/>
              </a:rPr>
              <a:t>человека дать счастье всем</a:t>
            </a:r>
            <a:endParaRPr b="0" lang="en-US" sz="49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3399"/>
                </a:solidFill>
                <a:latin typeface="Times New Roman"/>
              </a:rPr>
              <a:t>людям.</a:t>
            </a:r>
            <a:endParaRPr b="0" lang="en-US" sz="49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8305920" y="228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914400" cy="8888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1371600" y="4648320"/>
            <a:ext cx="5715000" cy="14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76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Добрый совет –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Добрые дела –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Добрые знакомые –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Добрый конь –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Добрая память –</a:t>
            </a:r>
            <a:r>
              <a:rPr b="0" lang="en-US" sz="3200" spc="-1" strike="noStrike">
                <a:solidFill>
                  <a:srgbClr val="ff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86480" y="1905120"/>
            <a:ext cx="4076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хороший, отличный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превосходный сове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полезные де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лучшие, близкие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дорогие знакомы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верный кон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светлая памят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ы рисуем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203480" cy="12193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152360" y="2133720"/>
            <a:ext cx="2571840" cy="3581280"/>
          </a:xfrm>
          <a:prstGeom prst="rect">
            <a:avLst/>
          </a:prstGeom>
          <a:ln w="28440">
            <a:solidFill>
              <a:srgbClr val="fe1f08"/>
            </a:solidFill>
            <a:miter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5105520" y="2057400"/>
            <a:ext cx="2770200" cy="3657600"/>
          </a:xfrm>
          <a:prstGeom prst="rect">
            <a:avLst/>
          </a:prstGeom>
          <a:ln w="28440">
            <a:solidFill>
              <a:srgbClr val="fe1f08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ы рисуем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7010280" y="380880"/>
            <a:ext cx="1284480" cy="13716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04920" y="2230560"/>
            <a:ext cx="3809880" cy="2595600"/>
          </a:xfrm>
          <a:prstGeom prst="rect">
            <a:avLst/>
          </a:prstGeom>
          <a:ln w="28440">
            <a:solidFill>
              <a:srgbClr val="fe1f08"/>
            </a:solidFill>
            <a:miter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5029200" y="2174760"/>
            <a:ext cx="3597120" cy="2614680"/>
          </a:xfrm>
          <a:prstGeom prst="rect">
            <a:avLst/>
          </a:prstGeom>
          <a:ln w="28440">
            <a:solidFill>
              <a:srgbClr val="fe1f08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@  ИЛЬИНА Н.Н.</a:t>
            </a:r>
          </a:p>
        </p:txBody>
      </p:sp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9-29T17:15:0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