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872-C5DC-4B64-B81D-E8D20D9C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61C-FCBE-4600-B1A6-F0870DD4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CDC85-0D79-4423-AF3E-21748552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A0F10-5CA8-456E-888E-57F573F3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7279-24F0-4978-AAE8-DF595CB5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B84B4-EE83-48D2-A151-835ACF9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5E88E-7536-446F-8CF4-9B5B1E42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7A8A6-46BA-4BCC-9ECA-E88DDED6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874D5-E765-4D35-98F1-3B59848B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E29D0-4923-4CE8-BA4C-25B5BACC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03C26-AD0C-4090-AC37-F76E249F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1D020-D45A-4E00-BD28-E96F7647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4E4-FB6F-4776-980F-2898281C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182FF-B2C1-40F9-B673-3D148FA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DDE6E-D8FC-4C15-8CBF-44FABD14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EC2AB-6F93-4E6F-A227-E293536E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0545-7FF4-401C-8BD4-E19A5BF7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FF117-CD0F-4B93-9B63-DABF930F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5B668-5764-44FC-8B1C-50AF521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36A33-4331-455B-9691-C799B5C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E229F-76E3-4B50-9154-E233D7B4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7E7FB-76CB-448A-922B-4A8635DE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15B32-7D7A-4947-BF98-12C0CFBD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6BD-7CB0-4C7D-89B9-9D4E6E3D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341A7-D0AA-425F-BE37-480DCE81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18B9-F9DB-4ED7-9D3B-5AECDCB9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DB9DD-F570-405B-897F-1E4349D1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A4A44-1623-4244-B870-59220BA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155EE-60C0-4610-A283-E1D709FB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F5AFD-A9C1-4610-9CAB-68266030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F7838-52D9-4E36-BECF-33FC8E9F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0A624-C423-476C-A47C-9DD857FC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A9912-E1D9-49A0-AF93-F7AAE9F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9CF43-53F8-44F1-B5F5-561E4D5D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DD2F-A778-4832-A9F0-CF5B0A2B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6B3DF-D5A3-455A-A7FF-475ED2B2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D0D7D-70DC-482B-9000-E32A61CA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CDEAC-BB52-49B1-9B10-137AEE2E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32601-39FD-44A4-8470-ED54097B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75911-BBDA-4E57-BD3D-64FB66EF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F33D1-234E-455C-B148-3DB6EEF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56E6D-3B7B-43E8-B6EA-4AE67B2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204DC-900F-4254-934C-734B7C35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9E2F3-0950-4EE9-9850-249471C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3B3B7-334C-4863-8EA6-94551E2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3583-C473-4357-AF04-48C7B221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60093-69F2-42E4-B35B-46416CC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74B86-A296-4728-B924-3EE9A09D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48CAB-47AF-4F5A-97EC-BB18D1D1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61882-5593-491B-8C59-5F2D62A2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7CB06-35FC-4A01-BFE0-96023157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78CE2-B360-4F82-9581-9DFDF10E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51272-C20E-4E33-BFF0-CC37DF6C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F07CE-A2BE-4FC7-978E-C06DAF9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8B773-C68D-4344-9179-BD803BB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81DD2-7A97-416A-85E5-5999FD57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D954-B293-43F5-8BDC-B472AADF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36537-43EE-41F0-A47E-24E98E0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877AC-BED9-4539-82BA-6B9FD51E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597D6-DE03-4F50-8D47-D80F16E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3F13F-6E53-45AD-B6EE-62EB7BD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04E85-819E-4455-AC58-2CDDF80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24CF6-2C54-44EB-863C-2D768A4D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7AFB1-F22C-45D0-9273-D0F1B413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86A14-47B5-4744-A4FD-26C12621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7896E-613F-4FA8-A754-1DC3972B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22778-4F65-4027-9DA2-0DE19D2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7717-164F-405B-B84C-E7D95B0E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C37BF-EDE7-48FE-AF57-CC0A7C34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7D913-E9EB-46C2-8A25-057274BE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01E5E-3046-4FD6-8664-B6E52EE4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2CD5F-E0FE-4315-B760-97DFE96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78B11-22DD-4A2F-BF9F-AFEADD9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A30C3-07E9-4DBF-92FB-E8F276B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C7964-670D-4D17-9E3F-2C933FD8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A4B17-5E19-488C-A9AF-953ADB0A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7EF3E-6153-4EF7-85B5-CFD06A61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3C28-C28A-46C2-9EE0-4B4E7F04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928A-08BB-4826-88EA-EF3F96E1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1019-C067-4606-B5C1-948AAE91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181-39EB-43C8-A139-472DC2B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D9AC-825E-4405-B0E0-4ED20BD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6560-34C5-4BE7-94F6-3D807FD8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6623-4F61-406C-917C-742DA744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759-AA51-4B0D-BD4E-8A269F02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9D24-9FD4-471D-ADCD-2B9197C6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1C83-DB74-40FB-9F8A-B9F35DF4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3CDA-B3D2-4B3C-BAB1-970558DD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077F-F1C7-43D4-BF73-C23557A2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23AF-5AB0-4842-B191-26B2295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886B-76B1-4D8B-A06A-8EA0DFB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1FC-2541-4CB7-9CEF-5B33F797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3E16-2782-4861-94B9-3D040F01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D195-8C89-4DCA-B81D-FE41CD0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6247-DB52-48BB-A040-84E8FDE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1EE9-419F-494A-A7B9-0A75DCE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E151-AFB9-445F-80E3-6BEC07F4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ED63-C588-4A9F-A307-FACDDF02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AEBC-B895-4609-BCAE-7715305C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36F0-513B-49B3-8F53-83AB81B6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D1B0-E6EE-4D57-A341-7295E2EA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AAF9-2EC0-4B90-A64E-73552C2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3BC-7FF9-4C40-AC3A-E6DD1ADF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A653-6FFC-4742-B71B-0D5F554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CF0E-1662-4290-8613-8ADAD203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8F181-D0F7-412F-BDC7-EDE519F1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D936-6D1C-4997-B138-E62A7B10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9490-3A22-43BA-8D35-253807C9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EA8D-80EF-49B8-A844-4F13A30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02C4-E2E1-4681-A86C-7EBEB574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D755-E9E6-46F0-937F-89C6E600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D63AC-EF64-4FAA-B9C5-CF9CCA4C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3CF2-A594-448D-AE95-C5ADDE44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D7C-9B0C-4400-BCE6-64FDFA21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F5AE-3BD4-4015-82CE-8BDDB7F3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10F4A-F2A7-41DA-A449-9B4AA947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70A3A-5FB3-4572-85E0-AE084FA7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0F0E-C71E-4537-AEA0-4F003CD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B1DD-6020-42CE-A93C-109FCD8B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C0A4-C6CE-4B08-83F6-C7948E09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168E-BD90-4088-8C1F-8F142D5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F49D-A456-4628-ADFF-82A2BBA2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2422-3DA0-49D6-9C7D-8548272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3474-FC98-4660-B4CC-EA50E63F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808-8463-4AFC-B137-6E35D928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716C-7BB5-41F9-B11B-8A057275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58D1-6485-49B8-816C-1929CC96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86CC-D629-4E95-9B4B-10B244A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0801-8D3B-432F-B872-1AB93A73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6F53-85EB-48AF-888F-AA0A3E8F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7BB57-C14E-493E-839E-3C93D1E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C5C32-9C1B-4264-9F79-4DE00E1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4BD97-F36E-41AA-A831-25D2E60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9F906-A93A-4025-94FE-43AC1BA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8FE3E-B6ED-4977-AD80-F3F3866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36E-3527-4ED7-8090-00F1243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C2667-3475-4115-BBC1-935BE576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B96CD-717E-4DA0-9E0C-E20252D2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C55D-192C-4829-8AE6-3951DD24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A43E-A305-4F90-8C4A-68DF67D3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93C7-EFC7-45CE-BA59-147634B1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276A-EE4E-4F50-B1E7-07175B5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535E4-3C53-4D69-9DA8-BB7AE42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67C7E-74B5-4DD6-BBD6-4E4693C9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E7791-D13D-421D-9A8F-71528C2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CBCFB-3E9A-4CE8-B636-5C53231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566-FE9F-4BF9-816F-E6E6D43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DC5B2-1318-4BA3-9978-ED2C2F9E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1FBCB-B28E-441D-81AF-8A86D410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C1F3-28BA-43E1-A7E3-4E415CB4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00032-4496-460D-83BB-928F1CA0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F6F38-775D-4DDF-B00C-1775BA95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B475-FF20-4CD7-9FD1-6F45C128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AA4E2-85C6-483A-A1A5-1DE720A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36915-DD49-4B09-8940-E26B11C5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9F810-74C0-4AE7-8FBA-1B2B433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68BC7-DF1D-42D4-B78F-9124BEFC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39C-F591-4C12-92E4-2C7559B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10C6-559A-4002-99F8-56908DE0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571B6-9DAB-450B-BBEE-7BE3681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6E669-3454-4FCF-96EC-2A7EB6E3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32CB2-B65F-4162-8565-71A52AB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6ADC-DA7D-4166-9CDE-E426E9DB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A0790-9000-4BCD-A69E-8059DA20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3C79C-34D5-4C1A-BF02-64519CA6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BC738-6E46-47FC-8FB4-73529715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C3709-59BE-4C4D-B951-5D1660A0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F7841-7E85-4A8A-8CA1-B373A9D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FFC7-CBF0-457D-9CAE-DDC2951D6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B18-C44B-4F3A-A936-270521283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7FEA-E865-4574-90B1-B8194E7B7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6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6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14A-9FC1-427A-97CF-6E8F63C8488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1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E9D-6025-4B73-B267-B6960749640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F59D-BF07-43C1-BAA1-93A8DEB26A6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DD35-2A3B-4145-AB64-4D445F2E97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0E14-8942-4273-A216-4EA6E94F4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F25-A221-42DF-A8B9-C22096949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DF8-BF57-4E1C-AC21-D217ACD9D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AE68-9246-4ACA-B02B-A534A5A9B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639-4675-4943-8F1C-662772561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824-4881-469B-B427-B87D5BDE5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8F78-BA31-4F49-86C9-1B968BE0F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КИ, ОПАЛЁННЫЕ ВОЙН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Алексей Александрович Сурков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(1899-198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181440" y="2060280"/>
            <a:ext cx="5545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лексей Александрович на финской и Великой Отечественной войнах был военным корреспондентом. Автор знаменитой песни «Земля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887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«Земля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907920"/>
            <a:ext cx="8624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Бьется в тесной печурке ого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а поленьях смола, как с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 поет мне в землянке гармо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о улыбку твою и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" descr="Письмо жене с текстом песни Земл"/>
          <p:cNvPicPr/>
          <p:nvPr/>
        </p:nvPicPr>
        <p:blipFill>
          <a:blip r:embed="rId1"/>
          <a:stretch/>
        </p:blipFill>
        <p:spPr>
          <a:xfrm>
            <a:off x="5429160" y="907920"/>
            <a:ext cx="3714840" cy="410544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5"/>
          <p:cNvSpPr/>
          <p:nvPr/>
        </p:nvSpPr>
        <p:spPr>
          <a:xfrm>
            <a:off x="0" y="2997360"/>
            <a:ext cx="52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о тебя мне шептали ку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 белоснежных полях под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Я хочу, чтобы слышала 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тоскует мой голос живой.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Century Schoolbook"/>
              </a:rPr>
              <a:t>Михаил Васильевич Исаковский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Century Schoolbook"/>
              </a:rPr>
              <a:t>(1900  - 1973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1773360"/>
            <a:ext cx="536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600" spc="-1" strike="noStrike">
                <a:solidFill>
                  <a:srgbClr val="000099"/>
                </a:solidFill>
                <a:latin typeface="Book Antiqua"/>
              </a:rPr>
              <a:t>Лирика Исаковского тех грозных лет –  настоящая  поэтическая  летопис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Book Antiqua"/>
              </a:rPr>
              <a:t>войны. Проникновенно поэт рисует суровые будни фронта  и  тыла,  героическ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Book Antiqua"/>
              </a:rPr>
              <a:t>дела  и  чувства  воинов  и  партизан,  рабочих  и  колхозников,  раскрыва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Book Antiqua"/>
              </a:rPr>
              <a:t>всенародный характер и исторический смысл борьбы с фашизм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Book Antiqua"/>
              </a:rPr>
              <a:t>«В лесу прифронтов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XGetDBPicServlet"/>
          <p:cNvPicPr/>
          <p:nvPr/>
        </p:nvPicPr>
        <p:blipFill>
          <a:blip r:embed="rId1"/>
          <a:stretch/>
        </p:blipFill>
        <p:spPr>
          <a:xfrm>
            <a:off x="5076720" y="981000"/>
            <a:ext cx="3743280" cy="24303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m_38914"/>
          <p:cNvPicPr/>
          <p:nvPr/>
        </p:nvPicPr>
        <p:blipFill>
          <a:blip r:embed="rId2"/>
          <a:stretch/>
        </p:blipFill>
        <p:spPr>
          <a:xfrm>
            <a:off x="5148360" y="3860640"/>
            <a:ext cx="3527280" cy="2664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бер"/>
          <p:cNvPicPr/>
          <p:nvPr/>
        </p:nvPicPr>
        <p:blipFill>
          <a:blip r:embed="rId3"/>
          <a:stretch/>
        </p:blipFill>
        <p:spPr>
          <a:xfrm>
            <a:off x="250920" y="907920"/>
            <a:ext cx="4824360" cy="55454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7"/>
          <p:cNvSpPr/>
          <p:nvPr/>
        </p:nvSpPr>
        <p:spPr>
          <a:xfrm>
            <a:off x="150840" y="3068640"/>
            <a:ext cx="475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«С берез неслышен, неве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Слетает желтый ли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Старинный вальс "Осенний сон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Играет гармони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Вздыхают, жалуясь, ба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И, словно в забыть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Сидят и слушают</a:t>
            </a:r>
            <a:r>
              <a:rPr b="1" i="1" lang="en-US" sz="24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 Rounded MT Bold"/>
              </a:rPr>
              <a:t>бойцы, Товарищи мо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 Агатов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600360" cy="4607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5290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лат Шалвович Окудж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2847960" cy="380988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3"/>
          <p:cNvSpPr/>
          <p:nvPr/>
        </p:nvSpPr>
        <p:spPr>
          <a:xfrm>
            <a:off x="3995640" y="16286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4"/>
          <p:cNvSpPr/>
          <p:nvPr/>
        </p:nvSpPr>
        <p:spPr>
          <a:xfrm>
            <a:off x="2484360" y="1197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24 -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5"/>
          <p:cNvSpPr/>
          <p:nvPr/>
        </p:nvSpPr>
        <p:spPr>
          <a:xfrm>
            <a:off x="3924360" y="1844640"/>
            <a:ext cx="496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ула́т Ша́лвович Окуджа́ва (9 мая 1924, Москва — 12 июня 1997, Париж) — советский и российский поэт, композитор, прозаик и сценарист. Автор около двухсот авторских и эстрадных песен, написанных на собственные стихи, один из наиболее ярких представителей жанра авторской песни в 1950-е—1980-е г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6"/>
          <p:cNvSpPr/>
          <p:nvPr/>
        </p:nvSpPr>
        <p:spPr>
          <a:xfrm>
            <a:off x="4356000" y="371628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Ах, война, что ж ты сделала, подл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стали тихими наши дво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наши мальчики головы подняли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повзрослели они до по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на пороге едва помаяч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и ушли, за солдатом - солдат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До свидания, мальчи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Мальчи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постарайтесь вернуться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"/>
          <p:cNvSpPr/>
          <p:nvPr/>
        </p:nvSpPr>
        <p:spPr>
          <a:xfrm>
            <a:off x="250920" y="1532160"/>
            <a:ext cx="745632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помним всех поимен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пом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нуж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мерт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до – жи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3"/>
          <p:cNvSpPr/>
          <p:nvPr/>
        </p:nvSpPr>
        <p:spPr>
          <a:xfrm>
            <a:off x="3143160" y="578628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Строки из поэмы «Реквием» (1962г.)  Р. Рождестве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5" descr="&#10;"/>
          <p:cNvPicPr/>
          <p:nvPr/>
        </p:nvPicPr>
        <p:blipFill>
          <a:blip r:embed="rId1"/>
          <a:stretch/>
        </p:blipFill>
        <p:spPr>
          <a:xfrm>
            <a:off x="5292720" y="17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3"/>
          <p:cNvSpPr/>
          <p:nvPr/>
        </p:nvSpPr>
        <p:spPr>
          <a:xfrm>
            <a:off x="324000" y="141300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00"/>
                </a:solidFill>
                <a:latin typeface="Arial"/>
              </a:rPr>
              <a:t>Великая Отечественная вой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зала огромное воздействие как на дальнейший ход истории, так и на развитие мировой и особенно рус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ликую народную беду сразу откликнулись и</a:t>
            </a:r>
            <a:r>
              <a:rPr b="1" lang="ru-RU" sz="2400" spc="-1" strike="noStrike">
                <a:solidFill>
                  <a:srgbClr val="580000"/>
                </a:solidFill>
                <a:latin typeface="Arial"/>
              </a:rPr>
              <a:t> поэты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почувствовали себя призванными поддерживать высокий патриотический подъем на фронте и в тылу, уверенность в победе, стойкость в преодолении всех выпавших на долю страны и народа испыт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эты писали о  тяготах войны , сражениях, трагедии отступления на начальном этапе, о победных походах, о женщинах и детях на фронте, о партизан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йна вызвала творческий подъем самых разных поэтов : и признанных лириков, и молодых фронтов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ногие военные стихи становились популярными пес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54007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силий Лебедев Кумач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3" name="Picture 1" descr="G:\для КЛАССНОГО часа 9 МАЯ\писатели ВОВ\Василий Лебедев Кумач-поэт.jpg"/>
          <p:cNvPicPr/>
          <p:nvPr/>
        </p:nvPicPr>
        <p:blipFill>
          <a:blip r:embed="rId1"/>
          <a:stretch/>
        </p:blipFill>
        <p:spPr>
          <a:xfrm>
            <a:off x="500040" y="1928880"/>
            <a:ext cx="2484360" cy="321480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4"/>
          <p:cNvSpPr/>
          <p:nvPr/>
        </p:nvSpPr>
        <p:spPr>
          <a:xfrm>
            <a:off x="1928880" y="714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вященная вой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5"/>
          <p:cNvSpPr/>
          <p:nvPr/>
        </p:nvSpPr>
        <p:spPr>
          <a:xfrm>
            <a:off x="6143760" y="21420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узыка: А.Александ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лова: В.Лебедев-Кум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4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Прямоугольник 6" descr=""/>
          <p:cNvPicPr/>
          <p:nvPr/>
        </p:nvPicPr>
        <p:blipFill>
          <a:blip r:embed="rId2"/>
          <a:stretch/>
        </p:blipFill>
        <p:spPr>
          <a:xfrm>
            <a:off x="3213000" y="2146320"/>
            <a:ext cx="56451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лександр Трифонович Твардовский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910 — 197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235080" y="1052640"/>
            <a:ext cx="2563560" cy="3600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" descr=""/>
          <p:cNvPicPr/>
          <p:nvPr/>
        </p:nvPicPr>
        <p:blipFill>
          <a:blip r:embed="rId3"/>
          <a:stretch/>
        </p:blipFill>
        <p:spPr>
          <a:xfrm>
            <a:off x="3348000" y="3975120"/>
            <a:ext cx="5969160" cy="2878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"/>
          <p:cNvPicPr/>
          <p:nvPr/>
        </p:nvPicPr>
        <p:blipFill>
          <a:blip r:embed="rId4"/>
          <a:stretch/>
        </p:blipFill>
        <p:spPr>
          <a:xfrm>
            <a:off x="3419640" y="1395360"/>
            <a:ext cx="55371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1"/>
          <p:cNvSpPr/>
          <p:nvPr/>
        </p:nvSpPr>
        <p:spPr>
          <a:xfrm>
            <a:off x="250920" y="0"/>
            <a:ext cx="4572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 СТР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43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записной потертой книж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строчки о бойце-парниш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был в сороковом год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ит в Финляндии на льд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ло как-то неуме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детски маленькое тел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нель ко льду мороз прижа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шапка отлете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лось, мальчик не лежа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се еще бегом бежа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лед за полу придержал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большой войны жесток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чего - ума не прилож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жалко той судьбы далек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удто мертвый, одиноки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удто это я леж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зший, маленький, убит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й войне незнамени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ытый, маленький, леж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4572000" y="932040"/>
            <a:ext cx="41101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Василий Тёрк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лучшее и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го написа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 войне на вой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. Сим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Дорожка фронтовая.mp3" descr=""/>
          <p:cNvPicPr/>
          <p:nvPr/>
        </p:nvPicPr>
        <p:blipFill>
          <a:blip r:embed="rId1"/>
          <a:stretch/>
        </p:blipFill>
        <p:spPr>
          <a:xfrm>
            <a:off x="7164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http://www.graduss.com/img/upload/138690135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83080" y="836640"/>
            <a:ext cx="35625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478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Константин Михайлович Симонов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(1915-1979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2532240" cy="327636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3"/>
          <p:cNvSpPr/>
          <p:nvPr/>
        </p:nvSpPr>
        <p:spPr>
          <a:xfrm>
            <a:off x="3429000" y="1785960"/>
            <a:ext cx="5429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ru-RU" sz="2800" spc="-1" strike="noStrike">
                <a:solidFill>
                  <a:srgbClr val="009900"/>
                </a:solidFill>
                <a:latin typeface="Calibri"/>
                <a:ea typeface="Arial"/>
              </a:rPr>
              <a:t>Его стихи миллионы людей знали наизусть, за его романами охотились толстые журналы. «Всю жизнь любил он рисовать войну», - говорил Симонов о самом себе. Все четыре года Великой Отечественной войны Константин Симонов провел на перед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42920" y="5326560"/>
            <a:ext cx="3357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Можно научиться воевать, но привыкнуть к войне невозможн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. Сим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Стихотворение Константина Симонова «Жди ме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Прямоугольник 2"/>
          <p:cNvSpPr/>
          <p:nvPr/>
        </p:nvSpPr>
        <p:spPr>
          <a:xfrm>
            <a:off x="3357720" y="1428840"/>
            <a:ext cx="5429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2200" spc="-1" strike="noStrike">
                <a:solidFill>
                  <a:srgbClr val="990033"/>
                </a:solidFill>
                <a:latin typeface="Calibri"/>
                <a:ea typeface="Arial"/>
              </a:rPr>
              <a:t>Стихотворение К.Симонова «Жди меня» внушало веру и, словно молитва, спасало многие души и вселяло в них надежду: </a:t>
            </a:r>
            <a:br>
              <a:rPr sz="2400"/>
            </a:b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Жди меня, и я вернусь,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Всем смертям назло.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Кто не ждал меня, тот пусть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Скажет: - Повезло.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Не понять, не ждавшим им,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Как среди огня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Ожиданием своим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Ты спасла меня.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Как я выжил, будем знать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Только мы с тобой,-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Просто ты умела ждать,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Calibri"/>
                <a:ea typeface="Arial"/>
              </a:rPr>
              <a:t>Как никто дру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324000" y="1547640"/>
            <a:ext cx="2808000" cy="390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6372360" y="3970440"/>
            <a:ext cx="2771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8:05:30Z</dcterms:created>
  <dc:creator>User</dc:creator>
  <dc:description/>
  <dc:language>en-US</dc:language>
  <cp:lastModifiedBy>Пользователь</cp:lastModifiedBy>
  <dcterms:modified xsi:type="dcterms:W3CDTF">2015-10-21T12:06:48Z</dcterms:modified>
  <cp:revision>34</cp:revision>
  <dc:subject/>
  <dc:title>Слайд 1</dc:title>
</cp:coreProperties>
</file>