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B24-1D26-4E9A-8914-DC757BA9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EFC-0ECB-48CA-AD25-001AA1E6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93F-826F-4EEB-B6EA-C332CDB8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FB4-AFA1-4C93-8639-C6DE80B1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9508-642A-42A4-85B1-7F93E960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B14D-5ECA-431A-A5C7-53408483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7FDD-0548-46B0-BC44-2EB0C64E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6F28-EF8F-4AAE-BF7C-283E41D8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9FB7-48B2-42CB-A145-F6EF7387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8BBF-A425-43DD-9457-76D9B0BB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F35B-22DA-4E79-8D05-901198B6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195-E415-4C4D-94D3-0F8C2043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7356-A2CD-458B-BE35-3FF0C543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2A02-7FDB-4AD6-9AF4-7038D194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DAF6-FB87-4B7B-B002-D10973C6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F057-FC4C-4834-802B-5B1FA254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38E5-3948-4ED3-93B6-48AF7FBE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A54-BFC5-479D-927A-BD9675B3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075-EDA7-48BD-8390-D27F219E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660-E1E6-44DC-9D16-9C5FC06A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216-886F-409A-BDBB-39D8D70C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9F4B-EDB0-436D-B5FB-3BABA8FC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D0E-4610-47BA-85C3-A5F44104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12E-CDD4-4667-9823-D21A2ACB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C86C-B053-4D95-A059-476F67A3D8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2988-B3D1-41BE-AB34-635BAC45E4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Arial"/>
              </a:rPr>
              <a:t>Местоимение, </a:t>
            </a:r>
            <a:br>
              <a:rPr sz="6000"/>
            </a:br>
            <a:r>
              <a:rPr b="1" lang="ru-RU" sz="6000" spc="-1" strike="noStrike">
                <a:solidFill>
                  <a:srgbClr val="00ff00"/>
                </a:solidFill>
                <a:latin typeface="Arial"/>
              </a:rPr>
              <a:t>я тебя знаю?</a:t>
            </a:r>
            <a:endParaRPr b="0" lang="en-US" sz="6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Урок русского языка, 6 класс, УМК «Школа Росси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Урок повторения  и обобщения материала по тем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Автор : Богданова Алёна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БОУ г.Омска  «Средняя общеобразовательная школа № 6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значению и грамматическим  особенностям местоимения бывают: личные (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я, ты, он, она, оно, они, мы,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, возвратное (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еб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вопросительны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кто? что? какой? каков? чей?),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относительны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кто, что, какой, каков, чей),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неопределенные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некто, кое-кто, что-либо),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отрицательные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никто, ничей, никакой),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притяжательны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мой, твой, наш),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указательны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этот, тот, такой, столько),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определительны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весь, сам, иной, другой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 Black"/>
              </a:rPr>
              <a:t>Критерии оценивания:</a:t>
            </a:r>
            <a:br>
              <a:rPr sz="4400"/>
            </a:b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676160" y="2133720"/>
            <a:ext cx="6476760" cy="3200400"/>
          </a:xfrm>
          <a:prstGeom prst="rect">
            <a:avLst/>
          </a:prstGeom>
          <a:solidFill>
            <a:srgbClr val="d9d9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 Black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 Black"/>
              </a:rPr>
              <a:t>      </a:t>
            </a: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без ошибок – </a:t>
            </a:r>
            <a:r>
              <a:rPr b="1" lang="ru-RU" sz="3600" spc="-1" strike="noStrike">
                <a:solidFill>
                  <a:srgbClr val="ff5050"/>
                </a:solidFill>
                <a:latin typeface="Arial Black"/>
              </a:rPr>
              <a:t>«5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      </a:t>
            </a: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1-2 ошибки – </a:t>
            </a:r>
            <a:r>
              <a:rPr b="1" lang="ru-RU" sz="3600" spc="-1" strike="noStrike">
                <a:solidFill>
                  <a:srgbClr val="ff5050"/>
                </a:solidFill>
                <a:latin typeface="Arial Black"/>
              </a:rPr>
              <a:t>«4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9900cc"/>
                </a:solidFill>
                <a:latin typeface="Arial Black"/>
              </a:rPr>
              <a:t>3 ошибки – </a:t>
            </a:r>
            <a:r>
              <a:rPr b="1" lang="ru-RU" sz="3600" spc="-1" strike="noStrike">
                <a:solidFill>
                  <a:srgbClr val="ff5050"/>
                </a:solidFill>
                <a:latin typeface="Arial Black"/>
              </a:rPr>
              <a:t>«3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Рубеж «Текст»</a:t>
            </a:r>
            <a:br>
              <a:rPr sz="4400"/>
            </a:br>
            <a:r>
              <a:rPr b="0" lang="ru-RU" sz="40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сна, как долгожданный гость, уже на пороге. Скоро она вступит в свои права. А сейчас еще морозно. Такая погода продержится недолго. Через несколько дней будет ярко улыбаться  весеннее солнышко, начнется настоящая весна. На лесных полянках, которые ещё  недавно покрывал пушистый снег, появится изумрудная  трав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5" descr="j0428113"/>
          <p:cNvPicPr/>
          <p:nvPr/>
        </p:nvPicPr>
        <p:blipFill>
          <a:blip r:embed="rId1"/>
          <a:stretch/>
        </p:blipFill>
        <p:spPr>
          <a:xfrm>
            <a:off x="0" y="0"/>
            <a:ext cx="1981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роверь себя!</a:t>
            </a:r>
            <a:endParaRPr b="0" lang="en-US" sz="4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сна, как долгожданный гость, на пороге. Скоро </a:t>
            </a:r>
            <a:r>
              <a:rPr b="1" lang="ru-RU" sz="3200" spc="-1" strike="noStrike" u="sng">
                <a:solidFill>
                  <a:srgbClr val="00ff00"/>
                </a:solidFill>
                <a:uFillTx/>
                <a:latin typeface="Arial"/>
              </a:rPr>
              <a:t>о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ступит в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вои</a:t>
            </a:r>
            <a:r>
              <a:rPr b="1" lang="ru-RU" sz="32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а. А сейчас еще морозно.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Така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огода продержится недолго. Через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нескольк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ней будет ярко улыбаться  весеннее солнышко. Начнется настоящая весна. На лесных полянках,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которы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ещё  недавно покрывал пушистый снег, зазеленеет изумрудная трав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 flipV="1" rot="10815600">
            <a:off x="-3600" y="5863320"/>
            <a:ext cx="9145800" cy="992160"/>
          </a:xfrm>
          <a:prstGeom prst="rect">
            <a:avLst/>
          </a:prstGeom>
          <a:solidFill>
            <a:srgbClr val="d9d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без ошибок –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«5»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; 1 ошибка  –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«4»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; 2 ошибки  –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«3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 flipH="1">
            <a:off x="7314840" y="19810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7543800" y="19810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 flipV="1">
            <a:off x="7696080" y="198108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7924680" y="198108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8077320" y="1981080"/>
            <a:ext cx="228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8305920" y="19810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2"/>
          <p:cNvSpPr/>
          <p:nvPr/>
        </p:nvSpPr>
        <p:spPr>
          <a:xfrm flipH="1">
            <a:off x="6933960" y="2438280"/>
            <a:ext cx="228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7162920" y="2438280"/>
            <a:ext cx="3045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4"/>
          <p:cNvSpPr/>
          <p:nvPr/>
        </p:nvSpPr>
        <p:spPr>
          <a:xfrm>
            <a:off x="7543800" y="2514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6"/>
          <p:cNvSpPr/>
          <p:nvPr/>
        </p:nvSpPr>
        <p:spPr>
          <a:xfrm flipV="1">
            <a:off x="7543800" y="2438280"/>
            <a:ext cx="228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7772400" y="2438280"/>
            <a:ext cx="228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8"/>
          <p:cNvSpPr/>
          <p:nvPr/>
        </p:nvSpPr>
        <p:spPr>
          <a:xfrm flipV="1">
            <a:off x="8001000" y="2438280"/>
            <a:ext cx="228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8229600" y="2438280"/>
            <a:ext cx="22860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838080" y="342900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1"/>
          <p:cNvSpPr/>
          <p:nvPr/>
        </p:nvSpPr>
        <p:spPr>
          <a:xfrm flipV="1">
            <a:off x="4572000" y="4647960"/>
            <a:ext cx="3808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4952880" y="4648320"/>
            <a:ext cx="38124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4"/>
          <p:cNvSpPr/>
          <p:nvPr/>
        </p:nvSpPr>
        <p:spPr>
          <a:xfrm flipV="1">
            <a:off x="5334120" y="4647960"/>
            <a:ext cx="3808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5"/>
          <p:cNvSpPr/>
          <p:nvPr/>
        </p:nvSpPr>
        <p:spPr>
          <a:xfrm>
            <a:off x="5715000" y="4648320"/>
            <a:ext cx="3808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6"/>
          <p:cNvSpPr/>
          <p:nvPr/>
        </p:nvSpPr>
        <p:spPr>
          <a:xfrm flipV="1">
            <a:off x="6095880" y="4647960"/>
            <a:ext cx="3049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27"/>
          <p:cNvSpPr/>
          <p:nvPr/>
        </p:nvSpPr>
        <p:spPr>
          <a:xfrm>
            <a:off x="6400800" y="46483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убеж «Морфологический»-1</a:t>
            </a: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запиши местоимения и определи их </a:t>
            </a:r>
            <a:r>
              <a:rPr b="0" lang="ru-RU" sz="3200" spc="-1" strike="noStrike">
                <a:solidFill>
                  <a:srgbClr val="ff9900"/>
                </a:solidFill>
                <a:latin typeface="Arial Black"/>
              </a:rPr>
              <a:t> разряд</a:t>
            </a:r>
            <a:endParaRPr b="0" lang="en-US" sz="32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838080" y="3276720"/>
          <a:ext cx="7162920" cy="3108240"/>
        </p:xfrm>
        <a:graphic>
          <a:graphicData uri="http://schemas.openxmlformats.org/drawingml/2006/table">
            <a:tbl>
              <a:tblPr/>
              <a:tblGrid>
                <a:gridCol w="3579840"/>
                <a:gridCol w="358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местоим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раз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3" name="Picture 9" descr="j0434411"/>
          <p:cNvPicPr/>
          <p:nvPr/>
        </p:nvPicPr>
        <p:blipFill>
          <a:blip r:embed="rId1"/>
          <a:stretch/>
        </p:blipFill>
        <p:spPr>
          <a:xfrm>
            <a:off x="6858000" y="5143680"/>
            <a:ext cx="20001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Проверь себя!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09480" y="1447920"/>
          <a:ext cx="8077320" cy="3216240"/>
        </p:xfrm>
        <a:graphic>
          <a:graphicData uri="http://schemas.openxmlformats.org/drawingml/2006/table">
            <a:tbl>
              <a:tblPr/>
              <a:tblGrid>
                <a:gridCol w="3843360"/>
                <a:gridCol w="4233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местоим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раз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о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тяж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аз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скольк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пределен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тор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ос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PlaceHolder 2"/>
          <p:cNvSpPr>
            <a:spLocks noGrp="1"/>
          </p:cNvSpPr>
          <p:nvPr>
            <p:ph/>
          </p:nvPr>
        </p:nvSpPr>
        <p:spPr>
          <a:xfrm rot="10800000">
            <a:off x="457200" y="6125400"/>
            <a:ext cx="8229600" cy="7452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t">
            <a:normAutofit/>
          </a:bodyPr>
          <a:p>
            <a:pPr lvl="2">
              <a:lnSpc>
                <a:spcPct val="80000"/>
              </a:lnSpc>
              <a:spcBef>
                <a:spcPts val="201"/>
              </a:spcBef>
              <a:buClr>
                <a:srgbClr val="99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без ошибок – «5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01"/>
          <p:cNvSpPr/>
          <p:nvPr/>
        </p:nvSpPr>
        <p:spPr>
          <a:xfrm flipV="1" rot="10815600">
            <a:off x="4951080" y="5179320"/>
            <a:ext cx="4189320" cy="1682640"/>
          </a:xfrm>
          <a:prstGeom prst="rect">
            <a:avLst/>
          </a:prstGeom>
          <a:solidFill>
            <a:srgbClr val="d9d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без ошибок –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«5»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1 ошибка  –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«4»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2 ошибки  –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«3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убеж «Морфологический»-2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помни порядок морфологического разбора местоимений, используя памят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и морфологический разбор местоимения </a:t>
            </a: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несколь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Проверь себя!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Через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несколько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дней будет ярко улыбаться  весеннее солнышк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Нескольк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имение, указывает на неопределенное коли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дет улыбаться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(когда?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через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нескольк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д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Н.ф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несколь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. Морфологические призна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А) Постоянные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пределенно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) Непостоянные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.п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. Синтаксическая рол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стоятель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 flipV="1" rot="10815600">
            <a:off x="5178240" y="4495680"/>
            <a:ext cx="3963960" cy="2360880"/>
          </a:xfrm>
          <a:prstGeom prst="rect">
            <a:avLst/>
          </a:prstGeom>
          <a:solidFill>
            <a:srgbClr val="d9d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без ошибок –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«5»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1 ошибка  –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«4»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2 ошибки  –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«3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убеж «Орфографический»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 Black"/>
              </a:rPr>
              <a:t>НЕ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под ударение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00ff00"/>
                </a:solidFill>
                <a:latin typeface="Arial Black"/>
              </a:rPr>
              <a:t>НИ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без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уда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Если появляется </a:t>
            </a: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предлог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, то </a:t>
            </a:r>
            <a:r>
              <a:rPr b="1" lang="ru-RU" sz="3200" spc="-1" strike="noStrike">
                <a:solidFill>
                  <a:srgbClr val="00ff00"/>
                </a:solidFill>
                <a:latin typeface="Arial Black"/>
              </a:rPr>
              <a:t>НЕ / НИ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пишется </a:t>
            </a: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разде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риставка </a:t>
            </a:r>
            <a:r>
              <a:rPr b="0" lang="ru-RU" sz="3200" spc="-1" strike="noStrike">
                <a:solidFill>
                  <a:srgbClr val="ff9900"/>
                </a:solidFill>
                <a:latin typeface="Arial Black"/>
              </a:rPr>
              <a:t>КОЕ-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и суффикс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 Black"/>
              </a:rPr>
              <a:t>–</a:t>
            </a:r>
            <a:r>
              <a:rPr b="0" lang="ru-RU" sz="3200" spc="-1" strike="noStrike">
                <a:solidFill>
                  <a:srgbClr val="ff9900"/>
                </a:solidFill>
                <a:latin typeface="Arial Black"/>
              </a:rPr>
              <a:t>ТО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ru-RU" sz="3200" spc="-1" strike="noStrike">
                <a:solidFill>
                  <a:srgbClr val="ff9900"/>
                </a:solidFill>
                <a:latin typeface="Arial Black"/>
              </a:rPr>
              <a:t>-ЛИБО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ru-RU" sz="3200" spc="-1" strike="noStrike">
                <a:solidFill>
                  <a:srgbClr val="ff9900"/>
                </a:solidFill>
                <a:latin typeface="Arial Black"/>
              </a:rPr>
              <a:t>-НИБУДЬ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пишутся через </a:t>
            </a:r>
            <a:r>
              <a:rPr b="0" lang="ru-RU" sz="3200" spc="-1" strike="noStrike">
                <a:solidFill>
                  <a:srgbClr val="ff9900"/>
                </a:solidFill>
                <a:latin typeface="Arial Black"/>
              </a:rPr>
              <a:t>дефи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Проверь себя!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Arial Black"/>
              </a:rPr>
              <a:t>Ключ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1.  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2.  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3.  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4.  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5.  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 flipV="1" rot="10815600">
            <a:off x="4571640" y="3807000"/>
            <a:ext cx="4572000" cy="3048120"/>
          </a:xfrm>
          <a:prstGeom prst="rect">
            <a:avLst/>
          </a:prstGeom>
          <a:solidFill>
            <a:srgbClr val="d9d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без ошибок – </a:t>
            </a: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«5»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1 ошибка  – </a:t>
            </a: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«4»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2 - 3  ошибки  – </a:t>
            </a: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«3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хема трассы лингвистического биатлона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ар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беж «Теоретический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беж «Текст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беж «Морфологический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беж «Орфографический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беж «Культура реч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ниш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7" descr="imagesCA4E926M"/>
          <p:cNvPicPr/>
          <p:nvPr/>
        </p:nvPicPr>
        <p:blipFill>
          <a:blip r:embed="rId1"/>
          <a:stretch/>
        </p:blipFill>
        <p:spPr>
          <a:xfrm>
            <a:off x="7086600" y="1600200"/>
            <a:ext cx="1819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Рубеж «Культура речи»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 Black"/>
              </a:rPr>
              <a:t>. </a:t>
            </a:r>
            <a:r>
              <a:rPr b="1" lang="ru-RU" sz="3100" spc="-1" strike="noStrike">
                <a:solidFill>
                  <a:srgbClr val="ffffff"/>
                </a:solidFill>
                <a:latin typeface="Arial Black"/>
              </a:rPr>
              <a:t>Дубровский застрелил медведя. Троекуров велел с него снять шкуру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 Black"/>
              </a:rPr>
              <a:t>2. Отец умер, когда ему было 9 лет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 Black"/>
              </a:rPr>
              <a:t>3. А.П.Чехов, он родился в Таганроге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 Black"/>
              </a:rPr>
              <a:t>4. Мальчик дал щенку тушеного мяса, и он за несколько секунд съел его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 Black"/>
              </a:rPr>
              <a:t>5. Из ихнего окна раздавались звуки знакомой мелодии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        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Проверь себя!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1. Дубровский застрелил медведя. Троекуров велел снять шкуру со зве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2. Отец умер, когда мальчику было 9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3. А.П.Чехов родился в Таганро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4. Мальчик дал щенку тушеного мяса, и тот за несколько секунд съел вс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 Black"/>
              </a:rPr>
              <a:t>5. Из их  окна раздавались звуки знакомой мелоди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images"/>
          <p:cNvPicPr/>
          <p:nvPr/>
        </p:nvPicPr>
        <p:blipFill>
          <a:blip r:embed="rId1"/>
          <a:stretch/>
        </p:blipFill>
        <p:spPr>
          <a:xfrm>
            <a:off x="0" y="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 Black"/>
              </a:rPr>
              <a:t>Местоимение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 Black"/>
              </a:rPr>
              <a:t>я тебя знаю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5" descr="imagesCANJPAX4"/>
          <p:cNvPicPr/>
          <p:nvPr/>
        </p:nvPicPr>
        <p:blipFill>
          <a:blip r:embed="rId1"/>
          <a:stretch/>
        </p:blipFill>
        <p:spPr>
          <a:xfrm>
            <a:off x="5867280" y="4495680"/>
            <a:ext cx="2971800" cy="2133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 Black"/>
              </a:rPr>
              <a:t>Финиш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9d9ff"/>
                </a:solidFill>
                <a:latin typeface="Arial"/>
              </a:rPr>
              <a:t>Список используемых источников</a:t>
            </a:r>
            <a:br>
              <a:rPr sz="4000"/>
            </a:b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 Русский язык: учеб. для 6 кл. общеобразоват. учреждений/М. Т. Баранов, Т. А. Ладыженская и др. – М.:Просвещение,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0099cc"/>
                </a:solidFill>
                <a:uFillTx/>
                <a:latin typeface="Arial"/>
                <a:hlinkClick r:id="rId1"/>
              </a:rPr>
              <a:t>http://festival.1september.ru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Старт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Black"/>
              </a:rPr>
              <a:t>Цели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вторить  теоретические сведения по теме «Местоимени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вершенствовать умения анализировать текст и писать орфографически грамот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ить степень своей  готовности  к выполнению контрольной работы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Рубеж «Теоретический»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Признаки тек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следова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Логи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Смысловая и грамматическая  связ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9" descr="j0434411"/>
          <p:cNvPicPr/>
          <p:nvPr/>
        </p:nvPicPr>
        <p:blipFill>
          <a:blip r:embed="rId1"/>
          <a:stretch/>
        </p:blipFill>
        <p:spPr>
          <a:xfrm>
            <a:off x="6400800" y="5105520"/>
            <a:ext cx="21337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Проверь себя!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стоимение – это часть речи, которая указывает на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предмет, признак и количество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, но не называет их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. Местоимения, как правило,  изменяются по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падежам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.Есть местоимения, которые, кроме того, изменяются по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родам и числа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. В предложении местоимение обычно бывает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подлежащим и дополнени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русском языке выделяют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9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рядов местоимени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еоргий</dc:creator>
  <dc:description/>
  <dc:language>en-US</dc:language>
  <cp:lastModifiedBy>Teacher PK mk2</cp:lastModifiedBy>
  <dcterms:modified xsi:type="dcterms:W3CDTF">2013-09-05T03:48:5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