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3.png" ContentType="image/png"/>
  <Override PartName="/ppt/media/image22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2DB-3CB7-447F-A483-D70E73BE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7BD-97D0-4A58-8B8A-1345060A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1B2-BC91-4292-B43B-03097534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244-3EDB-4127-ABFE-89C75C4F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4708-445C-4434-B23B-04CD4DE6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398E-9EF4-44D0-9B1F-507C6B0E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D1F9-033F-4826-A5D1-B61B196D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D5DE-FFF9-42DE-998F-02DDDDAA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F536-320F-4EE9-9E31-97E5D68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F2F0-1AFE-46A6-9713-EA70776E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9585-572F-49D9-9C39-2A00D9C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2E7-06E6-414D-8B3C-23F9BE5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F30C-5468-4365-8760-6BE0FE6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8A5F-7D3F-4C47-95AE-EF0F218E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4425-50FD-4621-BB47-2605173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B182-6D1E-43BC-93F8-67F87872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CC98-7CED-44CE-AAA4-18DBA581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16A16-6EBF-4804-AA63-75C48448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654ED-2933-43F1-B8A3-9E6A9C75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FD906-37DB-4EB4-8DA9-62FDC056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3D74D-840D-45C7-A7D1-0F857F54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5BF7B-5397-4A04-B0D8-C688EEF7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978-3CE5-4CD9-A58E-9821FB1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E5151-923D-4A5C-AACC-C45E0AFE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41606-09FF-4D96-86FE-334217D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A0161-D907-4701-9AE2-7AD48CD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66ED7-76EC-4B1B-83E1-76ABF497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C09BE-A1AA-4E3E-96D2-5F9FEC23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23D91-A9E1-40EE-9649-C780B964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8C30D-5F4D-4BEA-8C69-3FED4732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F4E1-44DE-4137-8144-68656458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DD31-0BB6-4282-9ABC-EB6AC9BD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9EB1-15ED-4BC9-B9A0-92D39142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643-D3C1-44F2-B423-589F699E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0502-5404-4B30-A3A2-EA628AB9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38F14-440C-4F97-96C8-A301EDD8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366A-06F6-4C92-B0DF-C9D67634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6F21-7596-4E50-B813-FDE5618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8DD6-2E0C-4729-ADDD-34E8B0A5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7A30F-3DD7-4ECD-A11A-588ED47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FCB1-F551-45A5-AEED-58176FC4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EAE3-4504-4967-BEEE-EC08BA58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44C0-4A42-4391-B343-05BDD133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B8B60-2BDA-42E0-A034-176F828A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034-D320-4C13-85D1-89417ECA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B11E7-C812-4FA4-8133-93FEC664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6D38C-ED02-4352-8C96-A5FFE7A2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3F8D8-5880-4CE2-950A-365AA695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F76AD-0084-4CF4-8544-6591AB4B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F09B9-6A93-4688-82E9-9AFAB0D9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8D380-3C79-4DB3-8210-7C7FA6B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B2AD5-12FE-4673-8DE4-F6B71A58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2A031-089B-40E4-AD25-79C899F1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AF8F6-96A2-4994-9B26-4F399009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D81E8-2043-4FB8-9A90-1A5578F0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C43-31B3-498E-9D80-10CA07D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07AEB-5AD0-4BEF-8FF4-0A251565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59DF3-DB2F-4F19-A49D-4961AD21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4495A-1484-4A6E-AB32-EBA1EC4B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125DE-FD8C-4660-A43D-2ECE9615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9E323-41AD-4151-8DF6-B0FBDDB2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22B48-35FA-48BE-8602-B8457A85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976B7-A57D-4545-99FC-E63EB454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018E4-02DA-432C-ACD1-4196C32C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43686-1459-4E80-8CE5-20C76CD0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32876-55B9-4073-9320-C5EF818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8C9-CAB4-40C6-A546-49B405D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44E2E-8401-4F7F-A754-EDAABF1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E281F-3A8C-4BEE-BD1D-B23DE9A8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A49DE-C3DA-4DF5-81C4-BC513004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12AC3-B839-41F0-9555-9FD32B0C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5183B-BB7B-45C0-9197-789246A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8595C-33FE-401F-A78E-5EE7B398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831F5-8128-42F4-BE98-865DEDD1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4AB79-D7D4-42CB-8867-899CE93A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B1F11-9421-434B-ACFE-7D6A186D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1B79F-0C8E-4A4A-970C-8A71209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4DB-F319-4149-B9ED-0D875BB5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ED182-C267-4045-ABA1-B14B9455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CF9E5-AF5F-40CF-9E0D-FC05F93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F55BC-0059-430D-96FE-7C245BCB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26DBE-C7D2-4146-B91A-84E7B867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D8E07-3DE8-45FA-AF97-15643A1A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14F-2A0B-4BA6-A802-FE8B992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C75C-B135-48D6-82E6-A13C695603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0C56-13EC-4D62-B217-CDF7EC08D7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E6F6-277F-4EFB-B334-5759E08398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A8CC-1341-44B4-AA03-771EF96354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33B9-F419-42BC-84FC-5EAB778ED5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1380-9E9A-47C1-AC1A-5EA0D0F565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D2B0-7B7A-4832-A223-E70232F2AE3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3" descr=""/>
          <p:cNvPicPr/>
          <p:nvPr/>
        </p:nvPicPr>
        <p:blipFill>
          <a:blip r:embed="rId1"/>
          <a:stretch/>
        </p:blipFill>
        <p:spPr>
          <a:xfrm>
            <a:off x="549360" y="1427040"/>
            <a:ext cx="8008920" cy="224964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4" descr=""/>
          <p:cNvPicPr/>
          <p:nvPr/>
        </p:nvPicPr>
        <p:blipFill>
          <a:blip r:embed="rId2"/>
          <a:stretch/>
        </p:blipFill>
        <p:spPr>
          <a:xfrm>
            <a:off x="1884240" y="4932360"/>
            <a:ext cx="52657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cs624824.vk.me/v624824949/47314/u9fgKi_K1yo.jpg"/>
          <p:cNvPicPr/>
          <p:nvPr/>
        </p:nvPicPr>
        <p:blipFill>
          <a:blip r:embed="rId1"/>
          <a:stretch/>
        </p:blipFill>
        <p:spPr>
          <a:xfrm>
            <a:off x="357120" y="285840"/>
            <a:ext cx="4857840" cy="485784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2" descr=""/>
          <p:cNvPicPr/>
          <p:nvPr/>
        </p:nvPicPr>
        <p:blipFill>
          <a:blip r:embed="rId2"/>
          <a:stretch/>
        </p:blipFill>
        <p:spPr>
          <a:xfrm>
            <a:off x="5084640" y="285840"/>
            <a:ext cx="40593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2000160"/>
            <a:ext cx="89060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Прямоугольник 1" descr=""/>
          <p:cNvPicPr/>
          <p:nvPr/>
        </p:nvPicPr>
        <p:blipFill>
          <a:blip r:embed="rId1"/>
          <a:stretch/>
        </p:blipFill>
        <p:spPr>
          <a:xfrm>
            <a:off x="1463760" y="1925640"/>
            <a:ext cx="61563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Прямоугольник 3" descr=""/>
          <p:cNvPicPr/>
          <p:nvPr/>
        </p:nvPicPr>
        <p:blipFill>
          <a:blip r:embed="rId1"/>
          <a:stretch/>
        </p:blipFill>
        <p:spPr>
          <a:xfrm>
            <a:off x="42840" y="426960"/>
            <a:ext cx="8918640" cy="16336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http://www.sdelat-otkritku.ru/muzs_alb/8715/29560/fon/fon_9a8a520149e727b201e778fc7e264c2e.jpg"/>
          <p:cNvPicPr/>
          <p:nvPr/>
        </p:nvPicPr>
        <p:blipFill>
          <a:blip r:embed="rId2"/>
          <a:stretch/>
        </p:blipFill>
        <p:spPr>
          <a:xfrm>
            <a:off x="1285920" y="2071800"/>
            <a:ext cx="6705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360360"/>
            <a:ext cx="8553240" cy="2058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ttp://www.stihi.ru/pics/2012/03/15/6579.jpg"/>
          <p:cNvPicPr/>
          <p:nvPr/>
        </p:nvPicPr>
        <p:blipFill>
          <a:blip r:embed="rId2"/>
          <a:stretch/>
        </p:blipFill>
        <p:spPr>
          <a:xfrm>
            <a:off x="357120" y="2214720"/>
            <a:ext cx="4556160" cy="3074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http://www.playcast.ru/uploads/2015/07/27/14480000.jpg"/>
          <p:cNvPicPr/>
          <p:nvPr/>
        </p:nvPicPr>
        <p:blipFill>
          <a:blip r:embed="rId3"/>
          <a:stretch/>
        </p:blipFill>
        <p:spPr>
          <a:xfrm>
            <a:off x="3714840" y="3286080"/>
            <a:ext cx="4833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Прямоугольник 3" descr=""/>
          <p:cNvPicPr/>
          <p:nvPr/>
        </p:nvPicPr>
        <p:blipFill>
          <a:blip r:embed="rId1"/>
          <a:stretch/>
        </p:blipFill>
        <p:spPr>
          <a:xfrm>
            <a:off x="225360" y="426960"/>
            <a:ext cx="8242200" cy="1206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http://cs322419.vk.me/v322419727/190a/qO_dU78ksW4.jpg"/>
          <p:cNvPicPr/>
          <p:nvPr/>
        </p:nvPicPr>
        <p:blipFill>
          <a:blip r:embed="rId2"/>
          <a:stretch/>
        </p:blipFill>
        <p:spPr>
          <a:xfrm>
            <a:off x="1500120" y="1785960"/>
            <a:ext cx="5802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рямоугольник 3" descr=""/>
          <p:cNvPicPr/>
          <p:nvPr/>
        </p:nvPicPr>
        <p:blipFill>
          <a:blip r:embed="rId1"/>
          <a:stretch/>
        </p:blipFill>
        <p:spPr>
          <a:xfrm>
            <a:off x="1243080" y="500040"/>
            <a:ext cx="6638760" cy="1206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ryazan.bezformata.ru/content/image135956478.jpg"/>
          <p:cNvPicPr/>
          <p:nvPr/>
        </p:nvPicPr>
        <p:blipFill>
          <a:blip r:embed="rId2"/>
          <a:stretch/>
        </p:blipFill>
        <p:spPr>
          <a:xfrm>
            <a:off x="428760" y="1571760"/>
            <a:ext cx="4786200" cy="3589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ttp://ikar62.ru/upload/images/67/67581299ae7a6b4f6be8ec7cb7f988d8.jpg"/>
          <p:cNvPicPr/>
          <p:nvPr/>
        </p:nvPicPr>
        <p:blipFill>
          <a:blip r:embed="rId3"/>
          <a:stretch/>
        </p:blipFill>
        <p:spPr>
          <a:xfrm>
            <a:off x="4143240" y="3643200"/>
            <a:ext cx="46101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285840"/>
            <a:ext cx="8072640" cy="2487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ttp://cs624824.vk.me/v624824949/47314/u9fgKi_K1yo.jpg"/>
          <p:cNvPicPr/>
          <p:nvPr/>
        </p:nvPicPr>
        <p:blipFill>
          <a:blip r:embed="rId2"/>
          <a:stretch/>
        </p:blipFill>
        <p:spPr>
          <a:xfrm>
            <a:off x="2428920" y="264312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1" descr=""/>
          <p:cNvPicPr/>
          <p:nvPr/>
        </p:nvPicPr>
        <p:blipFill>
          <a:blip r:embed="rId1"/>
          <a:stretch/>
        </p:blipFill>
        <p:spPr>
          <a:xfrm>
            <a:off x="401760" y="500040"/>
            <a:ext cx="8297640" cy="163368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2" descr=""/>
          <p:cNvPicPr/>
          <p:nvPr/>
        </p:nvPicPr>
        <p:blipFill>
          <a:blip r:embed="rId2"/>
          <a:stretch/>
        </p:blipFill>
        <p:spPr>
          <a:xfrm>
            <a:off x="1957320" y="2000160"/>
            <a:ext cx="5473800" cy="779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cs627330.vk.me/v627330949/2c702/ECv1Ib_qquI.jpg"/>
          <p:cNvPicPr/>
          <p:nvPr/>
        </p:nvPicPr>
        <p:blipFill>
          <a:blip r:embed="rId3"/>
          <a:stretch/>
        </p:blipFill>
        <p:spPr>
          <a:xfrm>
            <a:off x="571680" y="2500200"/>
            <a:ext cx="3047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http://cs627330.vk.me/v627330949/2c712/CmThOgx891Q.jpg"/>
          <p:cNvPicPr/>
          <p:nvPr/>
        </p:nvPicPr>
        <p:blipFill>
          <a:blip r:embed="rId1"/>
          <a:stretch/>
        </p:blipFill>
        <p:spPr>
          <a:xfrm>
            <a:off x="357120" y="428760"/>
            <a:ext cx="3256200" cy="607212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2" descr=""/>
          <p:cNvPicPr/>
          <p:nvPr/>
        </p:nvPicPr>
        <p:blipFill>
          <a:blip r:embed="rId2"/>
          <a:stretch/>
        </p:blipFill>
        <p:spPr>
          <a:xfrm>
            <a:off x="3670200" y="426960"/>
            <a:ext cx="50770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http://cs627330.vk.me/v627330949/2c708/Rg2_aE-vlxI.jpg"/>
          <p:cNvPicPr/>
          <p:nvPr/>
        </p:nvPicPr>
        <p:blipFill>
          <a:blip r:embed="rId1"/>
          <a:stretch/>
        </p:blipFill>
        <p:spPr>
          <a:xfrm>
            <a:off x="285840" y="500040"/>
            <a:ext cx="3867120" cy="585792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2" descr=""/>
          <p:cNvPicPr/>
          <p:nvPr/>
        </p:nvPicPr>
        <p:blipFill>
          <a:blip r:embed="rId2"/>
          <a:stretch/>
        </p:blipFill>
        <p:spPr>
          <a:xfrm>
            <a:off x="4029120" y="426960"/>
            <a:ext cx="49435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08:58:16Z</dcterms:created>
  <dc:creator>user</dc:creator>
  <dc:description/>
  <dc:language>en-US</dc:language>
  <cp:lastModifiedBy>1</cp:lastModifiedBy>
  <dcterms:modified xsi:type="dcterms:W3CDTF">2015-11-18T09:58:19Z</dcterms:modified>
  <cp:revision>7</cp:revision>
  <dc:subject/>
  <dc:title>Слайд 1</dc:title>
</cp:coreProperties>
</file>