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3328-8823-4B85-8E9C-C76AC34D93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5B36-A6BA-4394-B9C2-C6731CE9D2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3B00-C925-4767-B7FC-4F12E97D4E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12A2-6EE0-4A68-BB65-F7DEC0F9A5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1B45-F822-4FF1-BF77-BDB0C239E0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F31E-F089-4274-9426-C21F7BE386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DE45-7650-4B23-95E9-E7E7892282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51C1-6E1C-4BDE-800E-CECF849246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70B1-5F37-4A8D-B4DB-FB33F4C587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FBD9-4148-4039-8441-B49CF460DD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3C92-8B42-4E4D-9CAC-EB3E0925A1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CC41-B2A7-4D41-902F-8EB25DB654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A30D-F5D3-4EFB-9FCD-7D64B934E2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942F-259C-4D1F-ABD1-B661A9AA97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B1C9-C4DF-42DF-8D3F-DE897CF7BD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C484-8719-4BBD-9F9D-159B8A41DF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CD2A-B1E8-4D16-A5AC-9D72081366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86B9-BDF2-4352-885E-6ED6F4C15E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7A6A-8C4C-40AC-9A30-7B3BBB27D2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25A6-0B99-4F39-8EAB-606F45035A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EAF9-3CB4-4F21-986D-8B5A3762F7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F284-9CB9-49E7-A80A-C602339DF1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91F6-F20C-44C6-96C6-114A781460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9B00-7D5C-46B7-A990-F94EE48450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4BCB-7C4F-4CD7-A547-721533DFE6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607F-BBBB-4ADB-99B2-5D7D07262E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98E7-996D-49AF-954F-A701669688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B9F8-4C5F-49AE-88F4-57A5725076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7E6C-E43E-4333-A608-F6F467FBC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5801-BE2A-4B03-A754-C03025BE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CBB6-F027-4008-8DA8-6AA7770D0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07DA-BFC8-48E0-A624-EB67C6C6F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237F-8970-4A2F-A001-C95B47F9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645E-30CF-4A6E-BADA-AF411822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3574-87EB-4674-9B81-A325F652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FA50-6E1C-41E5-A19E-08A89EE8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54E2-5D12-4CBA-83B5-BE766606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9F80-C66B-4242-823C-A9BC7605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A370-7D64-421E-AF69-6F850701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EF83-52B6-49BE-A97D-3BA214EE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a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E123-4B50-4E49-97C8-7E92D4A284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25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65280" y="2666880"/>
            <a:ext cx="84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«Деепричаст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04920" y="1371600"/>
            <a:ext cx="847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05050"/>
                </a:solidFill>
                <a:latin typeface="Stencil"/>
              </a:rPr>
              <a:t>Учебный тренажёр и проверочный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05050"/>
                </a:solidFill>
                <a:latin typeface="Stencil"/>
              </a:rPr>
              <a:t>по тем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7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1" name="Line 8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9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0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1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AutoShape 12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1828800" y="5410080"/>
            <a:ext cx="57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 Резниченко Валентина Николаевна, 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КОУ «Дегтяренская О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89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ждой сосне не было ничего лишнего и, они, дополняя друг дружку, каждая по-своему сберегали лесную сем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ждой сосне не было ничего лишнего, и они, дополняя друг дружку, каждая по-своему сберегали лесную сем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ждой сосне не было ничего лишнего и они дополняя друг дружку, каждая по-своему сберегали лесную сем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каждой сосне не было ничего лишнего, и они дополняя друг дружку каждая по-своему сберегали лесную сем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0"/>
          <p:cNvSpPr/>
          <p:nvPr/>
        </p:nvSpPr>
        <p:spPr>
          <a:xfrm>
            <a:off x="685800" y="380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7. Укажите предложение, в котором правильно расставлены знаки препи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83" dur="indefinite" restart="never" nodeType="tmRoot">
          <p:childTnLst>
            <p:seq>
              <p:cTn id="584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633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3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208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травяной стерне раскрыв от жары клюв, переваливаясь, бесшумно ходила крупная самоуверенная вор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3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авяной стерне, раскрыв от жары клюв переваливаясь, бесшумно ходила крупная самоуверенная вор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4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авяной стерне, раскрыв от жары клюв, переваливаясь, бесшумно ходила крупная самоуверенная вор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5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травяной стерне раскрыв от жары клюв, переваливаясь бесшумно ходила крупная самоуверенная вор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8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20"/>
          <p:cNvSpPr/>
          <p:nvPr/>
        </p:nvSpPr>
        <p:spPr>
          <a:xfrm>
            <a:off x="838080" y="38088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8. Укажите предложение, в котором правильно расставлены знаки препи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80" dur="indefinite" restart="never" nodeType="tmRoot">
          <p:childTnLst>
            <p:seq>
              <p:cTn id="681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682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8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706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730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3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754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27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тем волк, радостно повизгивая, бегал по тропе, обнюхивая её и не переставая помахивать хвос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тем волк, радостно повизгивая бегал по тропе, обнюхивая её, и не переставая помахивать хвос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тем волк, радостно повизгивая, бегал по тропе обнюхивая её, и не переставая помахивать хвос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жду тем волк радостно повизгивая бегал по тропе обнюхивая её, и не переставая, помахивать хвос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6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8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20"/>
          <p:cNvSpPr/>
          <p:nvPr/>
        </p:nvSpPr>
        <p:spPr>
          <a:xfrm>
            <a:off x="914400" y="3049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9. Укажите предложение, в котором правильно расставлены знаки препи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77" dur="indefinite" restart="never" nodeType="tmRoot">
          <p:childTnLst>
            <p:seq>
              <p:cTn id="778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779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803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0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827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3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851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5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46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Rectangle 7"/>
          <p:cNvSpPr/>
          <p:nvPr/>
        </p:nvSpPr>
        <p:spPr>
          <a:xfrm>
            <a:off x="1066680" y="228600"/>
            <a:ext cx="764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9. Укажите предложение, в котором правильно расставлены знаки препи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ёл солдат преград не зная шёл солдат, друзей теряя, землю спасая, смерть презирая шёл вперёд солд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ёл солдат преград не зная, шёл солдат друзей теряя, землю спасая, смерть презирая шёл вперёд солд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ёл солдат, преград не зная  шёл солдат, друзей теряя землю спасая, смерть презирая, шёл вперёд солда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Шёл солдат, преград не зная, шёл солдат, друзей теряя, землю спасая, смерть презирая, шёл вперёд солд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8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9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74" dur="indefinite" restart="never" nodeType="tmRoot">
          <p:childTnLst>
            <p:seq>
              <p:cTn id="875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900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924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2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948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5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Как ты оцениваешь свою раб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на тренажё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5">
            <a:hlinkClick r:id="rId1" action="ppaction://hlinksldjump"/>
          </p:cNvPr>
          <p:cNvSpPr/>
          <p:nvPr/>
        </p:nvSpPr>
        <p:spPr>
          <a:xfrm>
            <a:off x="1295280" y="1882800"/>
            <a:ext cx="69343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ния отличные! Перехожу к тес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6">
            <a:hlinkClick r:id="rId2" action="ppaction://hlinksldjump"/>
          </p:cNvPr>
          <p:cNvSpPr/>
          <p:nvPr/>
        </p:nvSpPr>
        <p:spPr>
          <a:xfrm>
            <a:off x="1295280" y="3330720"/>
            <a:ext cx="701064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ыло много ошибок, необходимо поработать с прави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8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9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69" name="Line 10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1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2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3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4"/>
          <p:cNvGrpSpPr/>
          <p:nvPr/>
        </p:nvGrpSpPr>
        <p:grpSpPr>
          <a:xfrm>
            <a:off x="130320" y="76320"/>
            <a:ext cx="8937000" cy="6668640"/>
            <a:chOff x="130320" y="76320"/>
            <a:chExt cx="8937000" cy="6668640"/>
          </a:xfrm>
        </p:grpSpPr>
        <p:sp>
          <p:nvSpPr>
            <p:cNvPr id="274" name="Line 5"/>
            <p:cNvSpPr/>
            <p:nvPr/>
          </p:nvSpPr>
          <p:spPr>
            <a:xfrm>
              <a:off x="130320" y="76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6"/>
            <p:cNvSpPr/>
            <p:nvPr/>
          </p:nvSpPr>
          <p:spPr>
            <a:xfrm>
              <a:off x="130320" y="7632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7"/>
            <p:cNvSpPr/>
            <p:nvPr/>
          </p:nvSpPr>
          <p:spPr>
            <a:xfrm>
              <a:off x="130320" y="674496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8"/>
            <p:cNvSpPr/>
            <p:nvPr/>
          </p:nvSpPr>
          <p:spPr>
            <a:xfrm>
              <a:off x="9067320" y="7632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Rectangle 9"/>
          <p:cNvSpPr/>
          <p:nvPr/>
        </p:nvSpPr>
        <p:spPr>
          <a:xfrm>
            <a:off x="274680" y="16524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тес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"/>
          <p:cNvSpPr/>
          <p:nvPr/>
        </p:nvSpPr>
        <p:spPr>
          <a:xfrm>
            <a:off x="380880" y="914400"/>
            <a:ext cx="84582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ерочный тест состоит из 10 заданий. Каждое задание имеет 4 варианта ответа, один из которых - правиль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Прежде чем нажимать переключатель хорошо подумай, потому что, ответив, ты перейдёшь к следующему вопросу и не сможешь внести изменения в свой отв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Чтобы узнать свой результат, нажми на кнопку «Результат». Ты увидишь общее число верных ответов, отметку за тест и таблицу результатов по каждому вопрос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Ты можешь просмотреть свои ошибки, нажав на соответствующую кнопку. Переход от слайда к слайду в режиме просмотра ошибок важно производить по кнопкам в нижнем правом углу слайд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Если хочешь повторить тест, то обнули результат (кнопка «Сброс результатов») и нажми на кнопку «Повторить тест»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4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8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Rectangle 7"/>
          <p:cNvSpPr/>
          <p:nvPr/>
        </p:nvSpPr>
        <p:spPr>
          <a:xfrm>
            <a:off x="838080" y="457200"/>
            <a:ext cx="771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1. Признаки каких частей речи совмещает деепричаст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а и нареч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5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ительного и прилагательног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6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а и прилагательног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7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лагола и причас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2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23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24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71" dur="indefinite" restart="never" nodeType="tmRoot">
          <p:childTnLst>
            <p:seq>
              <p:cTn id="972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973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7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2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6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997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0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1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6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1021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2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2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0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4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1045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4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0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Rectangle 7"/>
          <p:cNvSpPr/>
          <p:nvPr/>
        </p:nvSpPr>
        <p:spPr>
          <a:xfrm>
            <a:off x="1447920" y="380880"/>
            <a:ext cx="710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2.Какая морфема отсутствует у деепричаст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99216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н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став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9"/>
          <p:cNvSpPr/>
          <p:nvPr/>
        </p:nvSpPr>
        <p:spPr>
          <a:xfrm>
            <a:off x="8458200" y="5342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68" dur="indefinite" restart="never" nodeType="tmRoot">
          <p:childTnLst>
            <p:seq>
              <p:cTn id="1069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1070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7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9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1094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9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3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7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1118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2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1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1142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4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20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Rectangle 7"/>
          <p:cNvSpPr/>
          <p:nvPr/>
        </p:nvSpPr>
        <p:spPr>
          <a:xfrm>
            <a:off x="1143000" y="457200"/>
            <a:ext cx="741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3.Укажите деепричастие совершенного ви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муряс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жаве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лижая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ребу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65" dur="indefinite" restart="never" nodeType="tmRoot">
          <p:childTnLst>
            <p:seq>
              <p:cTn id="1166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1167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17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8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6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1191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9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0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1215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1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8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1239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4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5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8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39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Rectangle 7"/>
          <p:cNvSpPr/>
          <p:nvPr/>
        </p:nvSpPr>
        <p:spPr>
          <a:xfrm>
            <a:off x="1143000" y="380880"/>
            <a:ext cx="741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4. Найдите деепричастие, в котором не пишется сли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)доумев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)дыш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)оглянувш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не)обращ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262" dur="indefinite" restart="never" nodeType="tmRoot">
          <p:childTnLst>
            <p:seq>
              <p:cTn id="1263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1264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26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3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1288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9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0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7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1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1312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1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1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5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1336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5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4"/>
          <p:cNvGrpSpPr/>
          <p:nvPr/>
        </p:nvGrpSpPr>
        <p:grpSpPr>
          <a:xfrm>
            <a:off x="76320" y="76320"/>
            <a:ext cx="8937000" cy="6668640"/>
            <a:chOff x="76320" y="76320"/>
            <a:chExt cx="8937000" cy="6668640"/>
          </a:xfrm>
        </p:grpSpPr>
        <p:sp>
          <p:nvSpPr>
            <p:cNvPr id="58" name="Line 5"/>
            <p:cNvSpPr/>
            <p:nvPr/>
          </p:nvSpPr>
          <p:spPr>
            <a:xfrm>
              <a:off x="76320" y="76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6"/>
            <p:cNvSpPr/>
            <p:nvPr/>
          </p:nvSpPr>
          <p:spPr>
            <a:xfrm>
              <a:off x="76320" y="7632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7"/>
            <p:cNvSpPr/>
            <p:nvPr/>
          </p:nvSpPr>
          <p:spPr>
            <a:xfrm>
              <a:off x="76320" y="674496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9013320" y="7632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9"/>
          <p:cNvSpPr/>
          <p:nvPr/>
        </p:nvSpPr>
        <p:spPr>
          <a:xfrm>
            <a:off x="228600" y="228600"/>
            <a:ext cx="861048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орогой друг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закончили изучение важной и интересной части речи деепричастие. Предлагаем проверить свои знания, выполнив тестиров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ться к нему тебе поможет данный образовательный ресурс. Его первый уровень представляет собой тренажёр, с помощью которого ты можешь вспомнить  правила из темы «Деепричастие» и усовершенствовать свои умения и навы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 – проверочный тест по теме «Деепричастие», за который ты получишь отмет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еемся, что эти занятия помогут тебе успешно подготовиться к ЕГЭ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елаем удачи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0">
            <a:hlinkClick r:id="rId1" action="ppaction://hlinksldjump"/>
          </p:cNvPr>
          <p:cNvSpPr/>
          <p:nvPr/>
        </p:nvSpPr>
        <p:spPr>
          <a:xfrm>
            <a:off x="1066680" y="6019920"/>
            <a:ext cx="350532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ренажё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">
            <a:hlinkClick r:id="rId2" action="ppaction://hlinksldjump"/>
          </p:cNvPr>
          <p:cNvSpPr/>
          <p:nvPr/>
        </p:nvSpPr>
        <p:spPr>
          <a:xfrm>
            <a:off x="5029200" y="6019920"/>
            <a:ext cx="335268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58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Rectangle 7"/>
          <p:cNvSpPr/>
          <p:nvPr/>
        </p:nvSpPr>
        <p:spPr>
          <a:xfrm>
            <a:off x="1066680" y="228600"/>
            <a:ext cx="764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5.Укажите верное продолжение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трогав вод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ередумал куп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расхотелось куп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ё температура была слишком низ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на показалась мне очень холод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359" dur="indefinite" restart="never" nodeType="tmRoot">
          <p:childTnLst>
            <p:seq>
              <p:cTn id="1360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1361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36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6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4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1385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8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4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8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1409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1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2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8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2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1433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3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2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77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Rectangle 7"/>
          <p:cNvSpPr/>
          <p:nvPr/>
        </p:nvSpPr>
        <p:spPr>
          <a:xfrm>
            <a:off x="914400" y="380880"/>
            <a:ext cx="77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6. Какое слово состоит из приставки, корня и двух суффикс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руж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п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лижающий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сказа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56" dur="indefinite" restart="never" nodeType="tmRoot">
          <p:childTnLst>
            <p:seq>
              <p:cTn id="1457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1458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46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7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1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1482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8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1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5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1506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1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5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9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1530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3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3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9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96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Rectangle 7"/>
          <p:cNvSpPr/>
          <p:nvPr/>
        </p:nvSpPr>
        <p:spPr>
          <a:xfrm>
            <a:off x="1066680" y="45720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7.Укажите словосочетание, в котором деепричастие – главное слов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икасаясь рук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ело посвистыва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рлыча и ворч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оворил улыбаяс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53" dur="indefinite" restart="never" nodeType="tmRoot">
          <p:childTnLst>
            <p:seq>
              <p:cTn id="1554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1555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55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4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8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1579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8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9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8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1603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0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9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2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6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1627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4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3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6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1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Rectangle 7"/>
          <p:cNvSpPr/>
          <p:nvPr/>
        </p:nvSpPr>
        <p:spPr>
          <a:xfrm>
            <a:off x="1143000" y="228600"/>
            <a:ext cx="756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8. Укажите ошибочное суж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едложении деепричастие является дополн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епричастие обозначает добавочное действ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ца НЕ с деепричастиями пишется разд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епричастие не изменя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650" dur="indefinite" restart="never" nodeType="tmRoot">
          <p:childTnLst>
            <p:seq>
              <p:cTn id="1651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1652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65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5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8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1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5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1676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8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5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9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1700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0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6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9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3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1724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2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3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34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Rectangle 7"/>
          <p:cNvSpPr/>
          <p:nvPr/>
        </p:nvSpPr>
        <p:spPr>
          <a:xfrm>
            <a:off x="1295280" y="380880"/>
            <a:ext cx="741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9. В каком слове верно выделена буква, обозначающая ударный гласный зву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Уя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жав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полОживш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9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2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747" dur="indefinite" restart="never" nodeType="tmRoot">
          <p:childTnLst>
            <p:seq>
              <p:cTn id="1748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749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75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6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5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2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1773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7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9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6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1797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0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1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3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6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0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1821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2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7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0" dur="5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53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Rectangle 7"/>
          <p:cNvSpPr/>
          <p:nvPr/>
        </p:nvSpPr>
        <p:spPr>
          <a:xfrm>
            <a:off x="914400" y="228600"/>
            <a:ext cx="779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10.Найдите предложение без речевой ошибки в употреблении деепричастного обор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8"/>
          <p:cNvSpPr/>
          <p:nvPr/>
        </p:nvSpPr>
        <p:spPr>
          <a:xfrm>
            <a:off x="99216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ируя сочинения, учитель указал на ошиб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тливо махая хвостом, мы встретили Рыжика у кали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в уроки, у меня заболели гл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кончив покосы, началась уборка урож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19"/>
          <p:cNvSpPr/>
          <p:nvPr/>
        </p:nvSpPr>
        <p:spPr>
          <a:xfrm>
            <a:off x="8458200" y="5342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844" dur="indefinite" restart="never" nodeType="tmRoot">
          <p:childTnLst>
            <p:seq>
              <p:cTn id="1845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1846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85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2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5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9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1870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7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6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9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3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1894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9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0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3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7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1918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2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3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4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7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4"/>
          <p:cNvGrpSpPr/>
          <p:nvPr/>
        </p:nvGrpSpPr>
        <p:grpSpPr>
          <a:xfrm>
            <a:off x="79200" y="100080"/>
            <a:ext cx="8937360" cy="6668640"/>
            <a:chOff x="79200" y="100080"/>
            <a:chExt cx="8937360" cy="6668640"/>
          </a:xfrm>
        </p:grpSpPr>
        <p:sp>
          <p:nvSpPr>
            <p:cNvPr id="472" name="Line 5"/>
            <p:cNvSpPr/>
            <p:nvPr/>
          </p:nvSpPr>
          <p:spPr>
            <a:xfrm>
              <a:off x="79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6"/>
            <p:cNvSpPr/>
            <p:nvPr/>
          </p:nvSpPr>
          <p:spPr>
            <a:xfrm>
              <a:off x="79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7"/>
            <p:cNvSpPr/>
            <p:nvPr/>
          </p:nvSpPr>
          <p:spPr>
            <a:xfrm>
              <a:off x="79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8"/>
            <p:cNvSpPr/>
            <p:nvPr/>
          </p:nvSpPr>
          <p:spPr>
            <a:xfrm>
              <a:off x="9016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Rectangle 9"/>
          <p:cNvSpPr/>
          <p:nvPr/>
        </p:nvSpPr>
        <p:spPr>
          <a:xfrm>
            <a:off x="36036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Подведём ит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1"/>
          <p:cNvSpPr/>
          <p:nvPr/>
        </p:nvSpPr>
        <p:spPr>
          <a:xfrm>
            <a:off x="533520" y="914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Верных отв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3"/>
          <p:cNvSpPr/>
          <p:nvPr/>
        </p:nvSpPr>
        <p:spPr>
          <a:xfrm>
            <a:off x="6400800" y="914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Отм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100">
            <a:hlinkClick r:id="rId1" action="ppaction://hlinksldjump"/>
          </p:cNvPr>
          <p:cNvSpPr/>
          <p:nvPr/>
        </p:nvSpPr>
        <p:spPr>
          <a:xfrm>
            <a:off x="3276720" y="5181480"/>
            <a:ext cx="259056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Просмотр оши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83"/>
          <p:cNvSpPr/>
          <p:nvPr/>
        </p:nvSpPr>
        <p:spPr>
          <a:xfrm>
            <a:off x="7140600" y="3886200"/>
            <a:ext cx="860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84"/>
          <p:cNvSpPr/>
          <p:nvPr/>
        </p:nvSpPr>
        <p:spPr>
          <a:xfrm>
            <a:off x="650700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85"/>
          <p:cNvSpPr/>
          <p:nvPr/>
        </p:nvSpPr>
        <p:spPr>
          <a:xfrm>
            <a:off x="587520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86"/>
          <p:cNvSpPr/>
          <p:nvPr/>
        </p:nvSpPr>
        <p:spPr>
          <a:xfrm>
            <a:off x="524196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87"/>
          <p:cNvSpPr/>
          <p:nvPr/>
        </p:nvSpPr>
        <p:spPr>
          <a:xfrm>
            <a:off x="46101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88"/>
          <p:cNvSpPr/>
          <p:nvPr/>
        </p:nvSpPr>
        <p:spPr>
          <a:xfrm>
            <a:off x="39783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89"/>
          <p:cNvSpPr/>
          <p:nvPr/>
        </p:nvSpPr>
        <p:spPr>
          <a:xfrm>
            <a:off x="334476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90"/>
          <p:cNvSpPr/>
          <p:nvPr/>
        </p:nvSpPr>
        <p:spPr>
          <a:xfrm>
            <a:off x="27129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91"/>
          <p:cNvSpPr/>
          <p:nvPr/>
        </p:nvSpPr>
        <p:spPr>
          <a:xfrm>
            <a:off x="207972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92"/>
          <p:cNvSpPr/>
          <p:nvPr/>
        </p:nvSpPr>
        <p:spPr>
          <a:xfrm>
            <a:off x="144792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93">
            <a:hlinkClick r:id="rId2" action="ppaction://hlinksldjump"/>
          </p:cNvPr>
          <p:cNvSpPr/>
          <p:nvPr/>
        </p:nvSpPr>
        <p:spPr>
          <a:xfrm>
            <a:off x="7140600" y="3276720"/>
            <a:ext cx="86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94">
            <a:hlinkClick r:id="rId3" action="ppaction://hlinksldjump"/>
          </p:cNvPr>
          <p:cNvSpPr/>
          <p:nvPr/>
        </p:nvSpPr>
        <p:spPr>
          <a:xfrm>
            <a:off x="650700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95"/>
          <p:cNvSpPr/>
          <p:nvPr/>
        </p:nvSpPr>
        <p:spPr>
          <a:xfrm>
            <a:off x="587520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96"/>
          <p:cNvSpPr/>
          <p:nvPr/>
        </p:nvSpPr>
        <p:spPr>
          <a:xfrm>
            <a:off x="524196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97"/>
          <p:cNvSpPr/>
          <p:nvPr/>
        </p:nvSpPr>
        <p:spPr>
          <a:xfrm>
            <a:off x="46101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98"/>
          <p:cNvSpPr/>
          <p:nvPr/>
        </p:nvSpPr>
        <p:spPr>
          <a:xfrm>
            <a:off x="39783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99"/>
          <p:cNvSpPr/>
          <p:nvPr/>
        </p:nvSpPr>
        <p:spPr>
          <a:xfrm>
            <a:off x="334476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200"/>
          <p:cNvSpPr/>
          <p:nvPr/>
        </p:nvSpPr>
        <p:spPr>
          <a:xfrm>
            <a:off x="27129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01"/>
          <p:cNvSpPr/>
          <p:nvPr/>
        </p:nvSpPr>
        <p:spPr>
          <a:xfrm>
            <a:off x="207972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02"/>
          <p:cNvSpPr/>
          <p:nvPr/>
        </p:nvSpPr>
        <p:spPr>
          <a:xfrm>
            <a:off x="144792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03"/>
          <p:cNvSpPr/>
          <p:nvPr/>
        </p:nvSpPr>
        <p:spPr>
          <a:xfrm>
            <a:off x="1447920" y="32767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04"/>
          <p:cNvSpPr/>
          <p:nvPr/>
        </p:nvSpPr>
        <p:spPr>
          <a:xfrm>
            <a:off x="1447920" y="38862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05"/>
          <p:cNvSpPr/>
          <p:nvPr/>
        </p:nvSpPr>
        <p:spPr>
          <a:xfrm>
            <a:off x="1447920" y="48769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206"/>
          <p:cNvSpPr/>
          <p:nvPr/>
        </p:nvSpPr>
        <p:spPr>
          <a:xfrm>
            <a:off x="144792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207"/>
          <p:cNvSpPr/>
          <p:nvPr/>
        </p:nvSpPr>
        <p:spPr>
          <a:xfrm>
            <a:off x="207972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208"/>
          <p:cNvSpPr/>
          <p:nvPr/>
        </p:nvSpPr>
        <p:spPr>
          <a:xfrm>
            <a:off x="2712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209"/>
          <p:cNvSpPr/>
          <p:nvPr/>
        </p:nvSpPr>
        <p:spPr>
          <a:xfrm>
            <a:off x="33447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210"/>
          <p:cNvSpPr/>
          <p:nvPr/>
        </p:nvSpPr>
        <p:spPr>
          <a:xfrm>
            <a:off x="39783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211"/>
          <p:cNvSpPr/>
          <p:nvPr/>
        </p:nvSpPr>
        <p:spPr>
          <a:xfrm>
            <a:off x="46101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12"/>
          <p:cNvSpPr/>
          <p:nvPr/>
        </p:nvSpPr>
        <p:spPr>
          <a:xfrm>
            <a:off x="5241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13"/>
          <p:cNvSpPr/>
          <p:nvPr/>
        </p:nvSpPr>
        <p:spPr>
          <a:xfrm>
            <a:off x="58752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214"/>
          <p:cNvSpPr/>
          <p:nvPr/>
        </p:nvSpPr>
        <p:spPr>
          <a:xfrm>
            <a:off x="65070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15"/>
          <p:cNvSpPr/>
          <p:nvPr/>
        </p:nvSpPr>
        <p:spPr>
          <a:xfrm>
            <a:off x="71406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216"/>
          <p:cNvSpPr/>
          <p:nvPr/>
        </p:nvSpPr>
        <p:spPr>
          <a:xfrm>
            <a:off x="800100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1447920" y="2666880"/>
          <a:ext cx="6561000" cy="517680"/>
        </p:xfrm>
        <a:graphic>
          <a:graphicData uri="http://schemas.openxmlformats.org/drawingml/2006/table">
            <a:tbl>
              <a:tblPr/>
              <a:tblGrid>
                <a:gridCol w="650880"/>
                <a:gridCol w="609480"/>
                <a:gridCol w="635040"/>
                <a:gridCol w="663480"/>
                <a:gridCol w="609480"/>
                <a:gridCol w="635040"/>
                <a:gridCol w="636840"/>
                <a:gridCol w="622080"/>
                <a:gridCol w="636840"/>
                <a:gridCol w="861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16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Rectangle 9"/>
          <p:cNvSpPr/>
          <p:nvPr/>
        </p:nvSpPr>
        <p:spPr>
          <a:xfrm>
            <a:off x="25092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Повторим прав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0"/>
          <p:cNvSpPr/>
          <p:nvPr/>
        </p:nvSpPr>
        <p:spPr>
          <a:xfrm>
            <a:off x="609480" y="5943600"/>
            <a:ext cx="358164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ренажё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3"/>
          <p:cNvSpPr/>
          <p:nvPr/>
        </p:nvSpPr>
        <p:spPr>
          <a:xfrm>
            <a:off x="6019920" y="5943600"/>
            <a:ext cx="281916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9"/>
          <p:cNvSpPr/>
          <p:nvPr/>
        </p:nvSpPr>
        <p:spPr>
          <a:xfrm>
            <a:off x="685800" y="838080"/>
            <a:ext cx="792468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еепричастие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самостоятельная часть речи, которая обозначает добавочное действие предмета при основном, выраженном глаголом. Деепричастие отвечает на вопро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что делая? что сдела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апример:  ответив (что сделав?), открывая (что делая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10"/>
          <p:cNvSpPr/>
          <p:nvPr/>
        </p:nvSpPr>
        <p:spPr>
          <a:xfrm>
            <a:off x="762120" y="32767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Деепричастный оборо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это деепричастие с зависимыми сло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Ответив на письмо.  Открывая кни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11"/>
          <p:cNvSpPr/>
          <p:nvPr/>
        </p:nvSpPr>
        <p:spPr>
          <a:xfrm>
            <a:off x="838080" y="441972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епричастия и деепричастные обороты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всегд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а письме выделяются запят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6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9"/>
          <p:cNvSpPr/>
          <p:nvPr/>
        </p:nvSpPr>
        <p:spPr>
          <a:xfrm>
            <a:off x="25092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учебным тренажё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228600" y="121932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задание имеет 4 варианта ответа. Ты должен выбрать один прави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Если ты выбрал правильный ответ, появится     «плю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Если ты выбрал неверный ответ, появится «мину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Переход к следующему заданию осуществляется по кнопке вни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5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304920" y="52578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Желаем удач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75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9"/>
          <p:cNvSpPr/>
          <p:nvPr/>
        </p:nvSpPr>
        <p:spPr>
          <a:xfrm>
            <a:off x="990720" y="228600"/>
            <a:ext cx="771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1. Укажите предложение, в котором правильно расставлены знаки препи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Я сидел на маленьком островке в своём тесном шалаше, и затаив дыхание, слушал и наблюд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7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идел на маленьком островке в своём тесном шалаше  и затаив дыхание, слушал, и наблюд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8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идел на маленьком островке в своём тесном шалаше и, затаив дыхание, слушал и наблюд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9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Я сидел на маленьком островке, в своём тесном шалаше, и затаив дыхание, слушал и наблюд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23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8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29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3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94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9"/>
          <p:cNvSpPr/>
          <p:nvPr/>
        </p:nvSpPr>
        <p:spPr>
          <a:xfrm>
            <a:off x="762120" y="228600"/>
            <a:ext cx="794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2. Укажите предложение, в котором правильно расставлены знаки препи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мечая меня, лебеди плавали, купались, переговаривались, и я мог близко наблюдать этих чудесных пт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мечая меня лебеди плавали, купались, переговаривались и я мог близко наблюдать этих чудесных пт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мечая меня, лебеди плавали, купались, переговаривались и я мог близко наблюдать этих чудесных пт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 замечая меня лебеди плавали, купались, переговаривались, и я мог близко наблюдать этих чудесных пти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2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4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5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13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ectangle 9"/>
          <p:cNvSpPr/>
          <p:nvPr/>
        </p:nvSpPr>
        <p:spPr>
          <a:xfrm>
            <a:off x="914400" y="228600"/>
            <a:ext cx="779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3. Укажите предложение, в котором правильно расставлены знаки препи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хо  ступая, босыми ногами, и стараясь ничего не задеть по пути, направился я к две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хо ступая босыми ногами и стараясь ничего не задеть по пути, направился я к две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хо ступая босыми ногами, и стараясь ничего не задеть по пути, направился я к две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ихо ступая босыми ногами, и, стараясь ничего не задеть по пути, направился я к две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2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3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4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5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32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9"/>
          <p:cNvSpPr/>
          <p:nvPr/>
        </p:nvSpPr>
        <p:spPr>
          <a:xfrm>
            <a:off x="1143000" y="228600"/>
            <a:ext cx="75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4. Укажите предложение, в котором правильно расставлены знаки препи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равшись к болоту, и спрятавшись в густых кустах,  я наблюдал в бинокль за журав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равшись к болоту и, спрятавшись в густых кустах, я наблюдал в бинокль за журав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равшись к болоту, и, спрятавшись в густых кустах, я наблюдал  в бинокль за журав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бравшись к болоту и спрятавшись в густых кустах,  я наблюдал в бинокль за журав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2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4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5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4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151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7"/>
          <p:cNvSpPr/>
          <p:nvPr/>
        </p:nvSpPr>
        <p:spPr>
          <a:xfrm>
            <a:off x="914400" y="228600"/>
            <a:ext cx="779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5. Укажите предложение, в котором правильно расставлены знаки препи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чувствовав себя необыкновенно счастливым я улыбал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шагая к новым друзь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3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увствовав себя необыкновенно счастливым, я улыбался  шагая к новым друзь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4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увствовав себя необыкновенно счастливым, я улыбался, шагая к новым друзь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5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чувствовав себя, необыкновенно счастливым я улыбался, шагая к новым друзь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8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44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70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7"/>
          <p:cNvSpPr/>
          <p:nvPr/>
        </p:nvSpPr>
        <p:spPr>
          <a:xfrm>
            <a:off x="990720" y="228600"/>
            <a:ext cx="771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6. Укажите предложение, в котором правильно расставлены знаки препинания</a:t>
            </a:r>
            <a:r>
              <a:rPr b="1" lang="ru-RU" sz="2000" spc="-1" strike="noStrike">
                <a:solidFill>
                  <a:srgbClr val="50505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визгнув, шлёпнулась о сухую глину шальная пуля, и отскочила рикошетом в сторону, оставив облачко красноватой пы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визгнув, шлёпнулась о сухую глину шальная пуля и отскочила рикошетом в сторону,  оставив облачко красноватой пы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визгнув, шлёпнулась о сухую глину шальная пуля и, отскочила рикошетом в сторону, оставив облачко красноватой пы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звизгнув шлёпнулась о сухую глину шальная пуля, и отскочила рикошетом в сторону оставив облако красноватой пы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86" dur="indefinite" restart="never" nodeType="tmRoot">
          <p:childTnLst>
            <p:seq>
              <p:cTn id="487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4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4:17:51Z</dcterms:created>
  <dc:creator>Toshiba</dc:creator>
  <dc:description/>
  <dc:language>en-US</dc:language>
  <cp:lastModifiedBy>xpsp3</cp:lastModifiedBy>
  <dcterms:modified xsi:type="dcterms:W3CDTF">2015-11-29T17:37:21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