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195-7052-4AA9-BB3B-3F235B77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486-ECB1-462C-8770-D8F656AB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5D3-C3D9-4083-85D0-FB3E8223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D32-F4C3-4E1F-AD26-21F707B6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BF1-8C2D-49EB-9EAE-4C428B23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935-0703-4C29-BF15-614A1313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639-15F8-4DDF-82B6-5966A4BD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8B0-385D-4DC1-A93B-8BB6D1D3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B58-29AB-428C-8DD7-FFFD95B3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E8F-C63F-4905-826E-7662004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D2D-D27C-4BCD-827C-3D4CF200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CBD-BC4E-4464-B8A4-9F06C7EC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2DFF-B0E6-456B-B123-1DCEFDF3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Урок русского языка. 3 класс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кола 21ве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19"/>
                </a:solidFill>
                <a:latin typeface="Times New Roman"/>
              </a:rPr>
              <a:t>МКОУ «КНОШ №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19"/>
                </a:solidFill>
                <a:latin typeface="Times New Roman"/>
              </a:rPr>
              <a:t>Учитель начальных классов Бородина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G:\аттестация\9c9c8410aa57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116000" y="260280"/>
            <a:ext cx="7067520" cy="6121440"/>
          </a:xfrm>
          <a:prstGeom prst="rect">
            <a:avLst/>
          </a:prstGeom>
          <a:solidFill>
            <a:srgbClr val="a8eff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орожно ветер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калитки вы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учал в окош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ежал по кры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играл не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тками черёму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журил за чт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робьёв зна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справил бо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ые крыл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етел  куда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ерегонки с пыль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Михаил Исаковск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Ветер  вышел, постучал, пробежал, поиграл, пожурил и расправил, полетел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79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Ветер  вышел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остучал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пробежал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поиграл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пожурил и расправил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олетел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268280"/>
            <a:ext cx="266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133720"/>
            <a:ext cx="4103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276640"/>
            <a:ext cx="4103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1197000"/>
            <a:ext cx="27370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1341360"/>
            <a:ext cx="27370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997360"/>
            <a:ext cx="3887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3141720"/>
            <a:ext cx="3887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3068640"/>
            <a:ext cx="33134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3640" y="3213000"/>
            <a:ext cx="33134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05360"/>
            <a:ext cx="36007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4149720"/>
            <a:ext cx="36007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4869000"/>
            <a:ext cx="4319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013360"/>
            <a:ext cx="4319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734080"/>
            <a:ext cx="36003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877000"/>
            <a:ext cx="36003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-5300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-171720"/>
            <a:ext cx="8964720" cy="68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Медвежата находят вкусные (корешок, шишка, ягода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Страус  (сильный и выносливый) птиц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2960" y="-5300280"/>
            <a:ext cx="84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Медвежата находят вкусные  корешки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шишки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ягод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траус  сильная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выносливая пт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вариа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Журавли    кричат  тревожно.  Журавли  кричат  тосклив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 вариан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ень  раздевает  лес.  Осень  студит  в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-5300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вариа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Журавли    кричат  тревожно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склив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 вариан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ень  раздевает  лес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студит  в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440" y="-5222520"/>
            <a:ext cx="95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88640"/>
            <a:ext cx="83534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Допиши предложения, добавив однородные ч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вариа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люблю собак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 вариант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т цветок можно увидеть в поле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Составь предложение по сх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======    ------------,    --------------   ,    ------------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казуемо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длежащее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лежаще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одлежащ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071800" y="1357200"/>
            <a:ext cx="1214280" cy="225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ая соединительная линия 5"/>
          <p:cNvSpPr/>
          <p:nvPr/>
        </p:nvSpPr>
        <p:spPr>
          <a:xfrm>
            <a:off x="357120" y="1500120"/>
            <a:ext cx="16430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571920" y="1357200"/>
            <a:ext cx="1285920" cy="2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5572080" y="1357200"/>
            <a:ext cx="1285920" cy="2383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ая соединительная линия 8"/>
          <p:cNvSpPr/>
          <p:nvPr/>
        </p:nvSpPr>
        <p:spPr>
          <a:xfrm>
            <a:off x="7000920" y="1428840"/>
            <a:ext cx="14288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9"/>
          <p:cNvSpPr/>
          <p:nvPr/>
        </p:nvSpPr>
        <p:spPr>
          <a:xfrm flipV="1">
            <a:off x="428760" y="928440"/>
            <a:ext cx="1440" cy="571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2"/>
          <p:cNvSpPr/>
          <p:nvPr/>
        </p:nvSpPr>
        <p:spPr>
          <a:xfrm flipH="1" flipV="1">
            <a:off x="8643240" y="135720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929120" y="0"/>
            <a:ext cx="1500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6"/>
          <p:cNvSpPr/>
          <p:nvPr/>
        </p:nvSpPr>
        <p:spPr>
          <a:xfrm>
            <a:off x="571680" y="4143240"/>
            <a:ext cx="16430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7"/>
          <p:cNvSpPr/>
          <p:nvPr/>
        </p:nvSpPr>
        <p:spPr>
          <a:xfrm flipV="1">
            <a:off x="642960" y="3571560"/>
            <a:ext cx="1440" cy="571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2286000" y="4071960"/>
            <a:ext cx="1214280" cy="2253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9"/>
          <p:cNvSpPr/>
          <p:nvPr/>
        </p:nvSpPr>
        <p:spPr>
          <a:xfrm>
            <a:off x="3643200" y="4000680"/>
            <a:ext cx="14288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0"/>
          <p:cNvSpPr/>
          <p:nvPr/>
        </p:nvSpPr>
        <p:spPr>
          <a:xfrm>
            <a:off x="3643200" y="4357800"/>
            <a:ext cx="14288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5143680" y="2714760"/>
            <a:ext cx="1500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2"/>
          <p:cNvSpPr/>
          <p:nvPr/>
        </p:nvSpPr>
        <p:spPr>
          <a:xfrm>
            <a:off x="5786280" y="4000680"/>
            <a:ext cx="14288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3"/>
          <p:cNvSpPr/>
          <p:nvPr/>
        </p:nvSpPr>
        <p:spPr>
          <a:xfrm>
            <a:off x="5857920" y="4357800"/>
            <a:ext cx="14288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4"/>
          <p:cNvSpPr/>
          <p:nvPr/>
        </p:nvSpPr>
        <p:spPr>
          <a:xfrm flipH="1" flipV="1">
            <a:off x="7428960" y="421416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5"/>
          <p:cNvSpPr/>
          <p:nvPr/>
        </p:nvSpPr>
        <p:spPr>
          <a:xfrm>
            <a:off x="6929280" y="1071720"/>
            <a:ext cx="14288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дберите синоним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524664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Доктор - вра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Рёв -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Зов -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Ураган -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76280"/>
            <a:ext cx="8207280" cy="61927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197000"/>
            <a:ext cx="7704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54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н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5493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484280"/>
            <a:ext cx="38178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Признаки  однородных членов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1197000"/>
            <a:ext cx="381636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дить в тексте  однородные члены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ильно расставлять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ть их синтаксическ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ставлять схемы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68360" y="1197000"/>
            <a:ext cx="1582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2720" y="1197000"/>
            <a:ext cx="142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хорошую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Users\Root\Desktop\картинки о школе\8marta-4.gif"/>
          <p:cNvPicPr/>
          <p:nvPr/>
        </p:nvPicPr>
        <p:blipFill>
          <a:blip r:embed="rId1"/>
          <a:stretch/>
        </p:blipFill>
        <p:spPr>
          <a:xfrm>
            <a:off x="2786040" y="2928960"/>
            <a:ext cx="4052880" cy="2936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дберите синоним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Доктор - вра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Рёв - пла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Зов - кл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Ураган -смер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пословицы можно объединить между собой по какому- то признак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расна птица опереньем, а человек – умень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усский человек добро помни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Человека ценят не по словам, а по дел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1840" y="188640"/>
            <a:ext cx="828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0000"/>
                </a:solidFill>
                <a:uFillTx/>
                <a:latin typeface="Arial"/>
              </a:rPr>
              <a:t>Тема </a:t>
            </a: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Однородные члены предлож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04640"/>
            <a:ext cx="8207280" cy="6193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135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197000"/>
            <a:ext cx="7704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549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надо 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549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надо ум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381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cript MT Bold"/>
              </a:rPr>
              <a:t>1. Признаки  однородных членов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1197000"/>
            <a:ext cx="3816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Script MT Bold"/>
              </a:rPr>
              <a:t>Находить </a:t>
            </a: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в тексте  однородные члены пред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Правильно </a:t>
            </a:r>
            <a:r>
              <a:rPr b="1" lang="en-US" sz="3000" spc="-1" strike="noStrike">
                <a:solidFill>
                  <a:srgbClr val="ff0000"/>
                </a:solidFill>
                <a:latin typeface="Script MT Bold"/>
              </a:rPr>
              <a:t>расставлять знаки</a:t>
            </a: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 препин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Script MT Bold"/>
              </a:rPr>
              <a:t>Употреблять</a:t>
            </a: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 в своей реч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68360" y="1197000"/>
            <a:ext cx="1582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32720" y="1197000"/>
            <a:ext cx="142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2521080" cy="324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3"/>
          <p:cNvSpPr/>
          <p:nvPr/>
        </p:nvSpPr>
        <p:spPr>
          <a:xfrm>
            <a:off x="0" y="1484280"/>
            <a:ext cx="9144000" cy="53751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79280" y="189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1) Назвать признаки однородных членов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042920" y="3023280"/>
            <a:ext cx="62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чают  на один и тот же вопр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350360" y="4536000"/>
            <a:ext cx="55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вляются одним членом предлож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623520" y="3572280"/>
            <a:ext cx="78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носятся к одному и тому же члену 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492560" y="403128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износятся с  интонацией пере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1424520" y="5112360"/>
            <a:ext cx="69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ычно выражены одной и той же частью реч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Ветер срывал листья и кружил и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Ветер срывал листья, кружил и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0:42:35Z</dcterms:created>
  <dc:creator>макс</dc:creator>
  <dc:description/>
  <dc:language>en-US</dc:language>
  <cp:lastModifiedBy>User</cp:lastModifiedBy>
  <dcterms:modified xsi:type="dcterms:W3CDTF">2015-11-29T11:02:37Z</dcterms:modified>
  <cp:revision>99</cp:revision>
  <dc:subject/>
  <dc:title>Тема : Знаки препинания в предложениях с однородными членами</dc:title>
</cp:coreProperties>
</file>