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2DF-1310-4BCB-BBF1-6849BDC6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B7E0-0024-4ADB-B716-C830999F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DAE0-F808-474E-B421-7E7FDC1A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C380-CFF4-4E0B-8C1F-1EDCF4EC6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D1B3-B56B-49C5-8F8D-8F57D68C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23EC-A675-40B9-A1CC-568664B0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DD00-67DE-4722-9118-646F2B71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7F58-45AD-4D4F-98B9-8A322C51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C9ED-99F5-4A01-ABB7-2F3693DD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F621-5578-4A10-9A49-90E6B22E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7BA0-CE3E-479C-916D-BECCCFB2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0B7B-9630-4189-B146-48BA45E9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0B6D-5992-42E6-A431-56936033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704C-4F8B-4906-A3FF-6BA47865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63DB-A9C3-4ABD-9ED4-CF891F95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2816-D97F-42AE-A438-D1AC6912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A063-DA2A-45AA-AD52-5AAD40E7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3EB2D-D2A8-4318-A774-65E74355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7069F-447D-4540-BFA9-59135530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3854A9-8FE5-45EF-9D7D-7F55A431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97D941-5ACC-4639-B60B-1F291570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4D70F2-11F6-46CD-AC72-5ABE111C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E057-CFDA-4885-9255-0620F939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AF20E-0A63-4398-979C-D2FF8B00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01F011-F4AE-4DD7-B04C-78909453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BE7B8A-9B59-4DDF-8162-6656DB4D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38179-9916-45F3-BAEE-41EE1B1F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EA074-DB2C-451C-9D29-89F2B29D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E8F034-D389-413C-BAE1-0263B7D7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B049AE-95AB-43DF-91F4-D71EBABBE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F8AE8-0A17-4814-8A81-0881AC6A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BF8B4-AAB2-4B07-B4F8-96339BCE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76C02-9CDD-4CD1-BD10-4EB13736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C40-A4DD-435B-AE16-D40DD56F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B0AE-7260-4E94-994D-B6E29A944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A472-BDA7-44A0-98D2-C3ECCD29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304FA-7E3F-48FE-89F0-D108B29A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70AAE-667F-44E1-8186-FD320A92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073AA-ED6D-4FA7-BC91-470BB1E4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5FA4B-457F-4ADA-9782-66A851F4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3436-5893-40CE-B3EB-08119FC2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5007A-B075-497F-A59D-39FE2E50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609F-DAC8-4FE1-87FC-F6C23D1A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8F9C8E-0A51-4689-B9C1-BAA0C0F3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FF0F-D2C8-4E52-B9E8-44465997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BE10E9-32FF-4C74-B187-B42ACA9C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7AB9B-3E21-4D8C-91C3-34167C3B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BF9ADC-E55B-4AC7-B0A4-3B0B8371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A634A8-EBAB-45BB-A59C-78CEF6CA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039785-59F5-48C8-BB19-148616DA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9B47A-7312-48B6-8554-87F03C80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83FE9-1269-4188-A6C9-84F33522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1E32F9-EBB6-401F-A2E6-2E5C3D71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150E6-A797-4FCC-BC8A-D2E0DD6D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83839-2199-4E32-B471-C69F03BE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270A-7DD8-4EA8-A50E-527ED732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55D6F-FF9A-4C6B-8731-0DAE7528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4D471-D2E2-4735-A682-AAC754C2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042C16-2448-465E-88F9-96957F7A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BDD99A-3A36-48E7-9582-9B877F8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36958D-B0D2-4081-A0C7-CBA61B97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7EF1D2-2D6B-4A8F-8B76-943C842A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A6ADC3-ACED-459C-B22E-79D6C3A5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7F672-6B71-4854-9250-AA62F5D9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48775-7DAC-48A7-9010-7E30DF06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C8FB57-61D8-42C6-9B93-69633E82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5D77-9880-4783-BD8C-334E6799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232111-8CAB-4DFE-A5B7-78CD9E7A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5E6820-E378-40B4-B672-7617E7D5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D2091-9917-479D-986A-99283F0B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CA73A3-AA5F-4109-AB83-87057F17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33E51B-A176-455E-A3D7-8B6C75ED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75AC3E-95CF-469A-BB03-BCBD7C51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F704B-7972-495B-9A17-6BF54F07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14FBE0-7AD0-45E3-97DD-B3FB1CB9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48EDAD-1D70-4195-842E-74B0BC94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DBE45-E6E2-4760-A350-CCFF32FB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14F-AA65-4091-AE2E-5DB7EE8A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8BE5B-EC22-425B-89E1-47F13DE4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3165F-9813-41B1-B412-49F55D7E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929A79-2FA7-4A74-9864-A3FA196C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1838E1-2159-4177-83CC-64AF863AD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5D2D1-2921-4623-A77E-69B33B8D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90F4-8545-4B2F-9A23-2FA1E22B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1EAB-1801-47F9-A4DB-1054D05092C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1705-A561-462C-BEA1-05A6B3D9545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5A84-E0E5-4D54-B143-275B64DBDA4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9C98-9D94-4DDC-A1CF-47553AF818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E337-D2E5-4048-AA7D-342F72613C6A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C911-108E-4BA3-869C-3313D05B726C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8E773-0BE3-490B-BF1F-290248CF316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БЫКОВСКАЯ СВЕТЛАНА НИКОЛАЕВН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МАОУ Селятинской СОШ №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3" name="Рисунок 3" descr="image (1).jpg"/>
          <p:cNvPicPr/>
          <p:nvPr/>
        </p:nvPicPr>
        <p:blipFill>
          <a:blip r:embed="rId1"/>
          <a:stretch/>
        </p:blipFill>
        <p:spPr>
          <a:xfrm>
            <a:off x="428760" y="214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354" name="Рисунок 4" descr="на линейке.jpg"/>
          <p:cNvPicPr/>
          <p:nvPr/>
        </p:nvPicPr>
        <p:blipFill>
          <a:blip r:embed="rId2"/>
          <a:stretch/>
        </p:blipFill>
        <p:spPr>
          <a:xfrm>
            <a:off x="5715000" y="571680"/>
            <a:ext cx="25718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5804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4 ЭТАП. ПРОВЕРКА УСВОЕНИЯ ИЗУЧЕННОГО МАТЕРИАЛА.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TextBox 3"/>
          <p:cNvSpPr/>
          <p:nvPr/>
        </p:nvSpPr>
        <p:spPr>
          <a:xfrm>
            <a:off x="-54360" y="1143000"/>
            <a:ext cx="73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Тема: «Сложение и вычитание круглых сотен и десят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214200" y="1625760"/>
          <a:ext cx="8643960" cy="4303440"/>
        </p:xfrm>
        <a:graphic>
          <a:graphicData uri="http://schemas.openxmlformats.org/drawingml/2006/table">
            <a:tbl>
              <a:tblPr/>
              <a:tblGrid>
                <a:gridCol w="2651400"/>
                <a:gridCol w="2651040"/>
                <a:gridCol w="3341520"/>
              </a:tblGrid>
              <a:tr h="174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Вычи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300+200   500+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700-400    900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600+100   800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Вычисли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200+300-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800+200-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700-400+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Century Schoolbook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Вспомни порядок действий и реши пример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(200+300)-(500-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(1000-400)+(700-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(600+300)-(100+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2. Реши задачу: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На первой полке стояло 200 книг, на второй – 100 книг. Сколько всего книг стояло на двух полках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2. Реши задачу: 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В цехе работают 300 человек. Из них 200 мужчин, а остальные женщины. Сколько женщин работает в этом цехе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Century Schoolbook"/>
                        </a:rPr>
                        <a:t>2. За смену токарь изготовил 300 деталей, а его ученик на 100 деталей меньше. Сколько всего деталей они вместе изготовили за смену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5 ЭТАП. ИЗУЧЕНИЕ НОВОГО МАТЕРИАЛА.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Работа по образцу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Понимание основных положений темы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Творческие задания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152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   </a:t>
            </a: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1ГРУППА. ВСТАВИТЬ ПРОПУЩЕННЫЕ БУКВЫ. ВЫБЕРИ ИЗ ПРЕДЛОЖЕННЫХ СЛОВ ПРОВЕРОЧНЫЕ СЛОВА. ЗАПИШИ.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14200" y="228600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В…лна, в..сна, д..мишко,  л..сной. с..сновый, в..дичка. 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      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285800" y="2071800"/>
            <a:ext cx="4302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Волнистый, волноваться,  волны, вёсла, домище, весенний, домовой, дом, лесок, лес, сосны, вода,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сосенки, водный.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13840" y="499680"/>
            <a:ext cx="89298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    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2 ГРУППА. ВСТАВЬ ПРОПУЩЕННЫЕ БУКВЫ, ИСПОЛЬЗУЯ АЛГОРИТМ. ЗАПИШИ ПРОВЕРОЧНЫЕ СЛОВА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14200" y="1600200"/>
            <a:ext cx="52149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Алгоритм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. Прочитай слово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. Поставь ударение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. Выдели корень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. Измени слово или подбери однокоренные, найди  проверочные слова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5. Напиши слово, вставь букв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6. Обозначь орфограмму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5286240" y="1142640"/>
            <a:ext cx="3571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б-гун -            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х-дить-           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сл-ды-            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-да -              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б-да  -             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в-лна  -         </a:t>
            </a:r>
            <a:r>
              <a:rPr b="0" lang="ru-RU" sz="800" spc="-1" strike="noStrike">
                <a:solidFill>
                  <a:srgbClr val="000000"/>
                </a:solidFill>
                <a:latin typeface="Century Schoolbook"/>
              </a:rPr>
              <a:t>        </a:t>
            </a:r>
            <a:endParaRPr b="0" lang="en-US" sz="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   </a:t>
            </a:r>
            <a:r>
              <a:rPr b="0" lang="ru-RU" sz="3200" spc="-1" strike="noStrike">
                <a:solidFill>
                  <a:srgbClr val="575f6d"/>
                </a:solidFill>
                <a:latin typeface="Century Schoolbook"/>
              </a:rPr>
              <a:t>3 ГРУППА. ВСТАВЬ ПРОПУЩЕННЫЕ БУКВЫ, ПОДБЕРИ И ЗАПИШИ ПРОВЕРОЧНЫЕ СЛОВА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прол-тать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д-ждливый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в-сенний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гр-зовой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тр-винка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стр-ла-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4009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1 ГРУППА. СОЕДИНИ ТЕКСТ ЗАДАЧИ С НУЖНЫМ ВЫРАЖЕНИЕМ.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4257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У Вити 2 диска с мультфильмами, а у Кати на 3 диска больше, чем у Вити. Сколько дисков у Кати?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929120" y="164304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   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2+3        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   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3-2          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   </a:t>
            </a:r>
            <a:r>
              <a:rPr b="0" lang="ru-RU" sz="4800" spc="-1" strike="noStrike">
                <a:solidFill>
                  <a:srgbClr val="000000"/>
                </a:solidFill>
                <a:latin typeface="Century Schoolbook"/>
              </a:rPr>
              <a:t>3+2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58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2 ГРУППА. СОСТАВЬ ВЫРАЖЕНИЕ К ЗАДАЧЕ.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Ширина ленты 9 см. Это на 7см больше, чем ширина тесьмы. Какова ширина тесьмы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3 ГРУППА. СОСТАВЬ ВЫРАЖЕНИЕ. ПРИДУМАЙ СВОЮ ЗАДАЧУ К ВЫРАЖЕНИЮ.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6840" y="2071800"/>
            <a:ext cx="746748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В среду Митя выучил 2 стихотворения, а в четверг – на 3 больше. Сколько стихотворений Митя выучил в четверг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3840" y="571320"/>
            <a:ext cx="8929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ДАНЫ СЛОВА: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Century Schoolbook"/>
              </a:rPr>
              <a:t>ЛЕСА, КРУГ, ГРОЗА, СТОЛБ, ТРАВА, ПЯТНО, ГОД, ПЛУГ, ДУБ, СТРЕЛА.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28400" y="1500120"/>
            <a:ext cx="81867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1 группа. Распредели слова по двум группам. В одну выпиши слова с безударной гласной, в другую- слова с проверяемыми согласными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28760" y="3857760"/>
            <a:ext cx="828648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2 группа. Распредели слова с разными орфограммами на 2 группы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3" name="Содержимое 5"/>
          <p:cNvSpPr/>
          <p:nvPr/>
        </p:nvSpPr>
        <p:spPr>
          <a:xfrm>
            <a:off x="500040" y="5214960"/>
            <a:ext cx="81439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Schoolbook"/>
              </a:rPr>
              <a:t>3 группа. Распредели слова на две групп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5f6d"/>
                </a:solidFill>
                <a:latin typeface="Century Schoolbook"/>
              </a:rPr>
              <a:t>ПЕРЕМЕСТИТЕЛЬНОЕ СВОЙСТВО УМНОЖЕНИЯ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х2           2х3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+3=6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2+2+2=6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Чем они похожи?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Чем отличаются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акой вывод можно сделать?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МОЙ ПЕРВЫЙ УЧИТЕЛЬ - </a:t>
            </a:r>
            <a:br>
              <a:rPr sz="4000"/>
            </a:b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ГОРБАЧЕВА НИНА СЕМЕНОВНА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3" descr="Безимени-3.jpg"/>
          <p:cNvPicPr/>
          <p:nvPr/>
        </p:nvPicPr>
        <p:blipFill>
          <a:blip r:embed="rId1"/>
          <a:stretch/>
        </p:blipFill>
        <p:spPr>
          <a:xfrm>
            <a:off x="4572000" y="1500120"/>
            <a:ext cx="3201840" cy="487368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2261597_72dfb9ed.jpg"/>
          <p:cNvPicPr/>
          <p:nvPr/>
        </p:nvPicPr>
        <p:blipFill>
          <a:blip r:embed="rId2"/>
          <a:stretch/>
        </p:blipFill>
        <p:spPr>
          <a:xfrm>
            <a:off x="357120" y="1500120"/>
            <a:ext cx="2830680" cy="342900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5" descr="ab-13-56.jpg"/>
          <p:cNvPicPr/>
          <p:nvPr/>
        </p:nvPicPr>
        <p:blipFill>
          <a:blip r:embed="rId3"/>
          <a:stretch/>
        </p:blipFill>
        <p:spPr>
          <a:xfrm>
            <a:off x="2143080" y="3214800"/>
            <a:ext cx="25527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-360" y="1428480"/>
            <a:ext cx="47149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исключение "уравниловк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возможности помогать слабому, уделять внимание сильному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повышение уровня Я – концепци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повышение уровня мотивации учения в сильных группах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) выступает как средство развития самостоятельности учащих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00720" y="1357200"/>
            <a:ext cx="46432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1)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ишение слабых возможности тянуться за более сильными, получать от них помощь, соревноваться с ними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несовершенство диагностики приводит порой к тому, что в разряд слабых переводятся "неординарные дети"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Подготовка к требует больших временных затрат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9120" y="69120"/>
            <a:ext cx="4218840" cy="12898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Положительные аспекты дифференцированного подхода в обучении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494960" y="66240"/>
            <a:ext cx="4582440" cy="12247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Отрицательные аспекты дифференцированного подхода в обучении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ТЕХНОЛОГИЯ ГРУППОВОЙ РАБОТ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1" name="Содержимое 8" descr="CAM02215.jpg"/>
          <p:cNvPicPr/>
          <p:nvPr/>
        </p:nvPicPr>
        <p:blipFill>
          <a:blip r:embed="rId1"/>
          <a:stretch/>
        </p:blipFill>
        <p:spPr>
          <a:xfrm>
            <a:off x="4357800" y="1071720"/>
            <a:ext cx="3963960" cy="297324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9" descr="CAM02216.jpg"/>
          <p:cNvPicPr/>
          <p:nvPr/>
        </p:nvPicPr>
        <p:blipFill>
          <a:blip r:embed="rId2"/>
          <a:stretch/>
        </p:blipFill>
        <p:spPr>
          <a:xfrm>
            <a:off x="0" y="3089160"/>
            <a:ext cx="471492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6840" y="1600200"/>
            <a:ext cx="81867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Активизация познав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2.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Развитие навыков самостоятельной учебно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 деятельност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3. Развитие умений успешного общения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4. Совершенствование межличност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entury Schoolbook"/>
                <a:ea typeface="Arial"/>
              </a:rPr>
              <a:t>отношений в класс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ЗАДАЧИ ГРУППОВОЙ РАБОТ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15" name="Рисунок 4" descr="for_ch1.jpg"/>
          <p:cNvPicPr/>
          <p:nvPr/>
        </p:nvPicPr>
        <p:blipFill>
          <a:blip r:embed="rId1"/>
          <a:stretch/>
        </p:blipFill>
        <p:spPr>
          <a:xfrm>
            <a:off x="6315120" y="0"/>
            <a:ext cx="28288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entury Schoolbook"/>
              </a:rPr>
              <a:t>ПРАВИЛА ОРГАНИЗАЦИИ ГРУППОВОЙ РАБОТ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Говори  спокойно и ясно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Говори  только по делу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говори   по очеред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реагируй  жестами и знаками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возражая или соглашаясь, смотри  на говорящего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убедись, что в разговоре участвует каждый;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Schoolbook"/>
              </a:rPr>
              <a:t>обращайся  к другу по имени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400960" cy="1417680"/>
          </a:xfrm>
          <a:prstGeom prst="rect">
            <a:avLst/>
          </a:prstGeom>
          <a:noFill/>
          <a:ln w="9360">
            <a:solidFill>
              <a:srgbClr val="e75c01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75f6d"/>
                </a:solidFill>
                <a:latin typeface="Century Schoolbook"/>
              </a:rPr>
              <a:t>СПОСОБЫ РАЗДЕЛЕНИЯ КЛАССА НА ГРУППЫ: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653040" y="2071800"/>
            <a:ext cx="3183120" cy="1434600"/>
          </a:xfrm>
          <a:prstGeom prst="rect">
            <a:avLst/>
          </a:prstGeom>
          <a:noFill/>
          <a:ln w="93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желани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5214960" y="1285920"/>
            <a:ext cx="3714840" cy="2104920"/>
          </a:xfrm>
          <a:prstGeom prst="rect">
            <a:avLst/>
          </a:prstGeom>
          <a:noFill/>
          <a:ln w="93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ным образ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5"/>
          <p:cNvSpPr/>
          <p:nvPr/>
        </p:nvSpPr>
        <p:spPr>
          <a:xfrm>
            <a:off x="214200" y="3500280"/>
            <a:ext cx="3929040" cy="2775240"/>
          </a:xfrm>
          <a:prstGeom prst="rect">
            <a:avLst/>
          </a:prstGeom>
          <a:noFill/>
          <a:ln w="93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пределенному призн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7"/>
          <p:cNvSpPr/>
          <p:nvPr/>
        </p:nvSpPr>
        <p:spPr>
          <a:xfrm>
            <a:off x="5000760" y="3286080"/>
            <a:ext cx="4143240" cy="2104920"/>
          </a:xfrm>
          <a:prstGeom prst="rect">
            <a:avLst/>
          </a:prstGeom>
          <a:noFill/>
          <a:ln w="93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бору «лиде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8"/>
          <p:cNvSpPr/>
          <p:nvPr/>
        </p:nvSpPr>
        <p:spPr>
          <a:xfrm>
            <a:off x="4286160" y="5133960"/>
            <a:ext cx="4143600" cy="1434600"/>
          </a:xfrm>
          <a:prstGeom prst="rect">
            <a:avLst/>
          </a:prstGeom>
          <a:noFill/>
          <a:ln w="93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бору педаго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Прямая со стрелкой 10"/>
          <p:cNvCxnSpPr/>
          <p:nvPr/>
        </p:nvCxnSpPr>
        <p:spPr>
          <a:xfrm flipH="1">
            <a:off x="1928520" y="1499760"/>
            <a:ext cx="429120" cy="500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5" name="Соединительная линия уступом 12"/>
          <p:cNvCxnSpPr/>
          <p:nvPr/>
        </p:nvCxnSpPr>
        <p:spPr>
          <a:xfrm flipH="1" rot="16200000">
            <a:off x="3749400" y="1964160"/>
            <a:ext cx="1857960" cy="786600"/>
          </a:xfrm>
          <a:prstGeom prst="bentConnector3">
            <a:avLst>
              <a:gd name="adj1" fmla="val 50000"/>
            </a:avLst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6" name="Прямая со стрелкой 14"/>
          <p:cNvCxnSpPr/>
          <p:nvPr/>
        </p:nvCxnSpPr>
        <p:spPr>
          <a:xfrm>
            <a:off x="4785120" y="1499760"/>
            <a:ext cx="429480" cy="857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7" name="Прямая со стрелкой 16"/>
          <p:cNvCxnSpPr/>
          <p:nvPr/>
        </p:nvCxnSpPr>
        <p:spPr>
          <a:xfrm flipH="1">
            <a:off x="4000320" y="1500120"/>
            <a:ext cx="72000" cy="2000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28" name="Прямая со стрелкой 18"/>
          <p:cNvCxnSpPr/>
          <p:nvPr/>
        </p:nvCxnSpPr>
        <p:spPr>
          <a:xfrm flipH="1">
            <a:off x="4498200" y="1428840"/>
            <a:ext cx="2520" cy="36453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0" y="1643040"/>
            <a:ext cx="4286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вышается учебная и познавательная мотив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нижается уровень тревожности учащихс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 группе выше обучаемость, эффективность усвоения и актуализации знан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лучшается психологический климат в класс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643280" y="1643040"/>
            <a:ext cx="4500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рупповой работе надо сначала научить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рганизация групповой работы требует от учителя особых умений, усил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екоторые ученики могут пользоваться результатами труда более сильных одноклассник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Для некоторых детей разделение на группы – процесс болезненны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79920" y="79920"/>
            <a:ext cx="4340880" cy="14832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Положительные аспекты групповой работы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655520" y="83160"/>
            <a:ext cx="4404960" cy="1547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anchor="ctr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Schoolbook"/>
              </a:rPr>
              <a:t>Отрицательные аспекты групповой работы: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ИСПОЛЬЗОВАНИЕ ИГРОВЫХ ТЕХНОЛОГИ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4" name="Содержимое 8" descr="i.jpg"/>
          <p:cNvPicPr/>
          <p:nvPr/>
        </p:nvPicPr>
        <p:blipFill>
          <a:blip r:embed="rId1"/>
          <a:stretch/>
        </p:blipFill>
        <p:spPr>
          <a:xfrm>
            <a:off x="857160" y="1571760"/>
            <a:ext cx="685800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ИГРОВАЯ ДЕЯТЕЛЬНОСТЬ ИСПОЛЬЗУЕТСЯ: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6840" y="1600200"/>
            <a:ext cx="8258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 качестве самостоятельной технологии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ак элемент  более обширной технологии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в качестве урока (занятия) или его части;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как технология внеклассной работы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Рисунок 2" descr="m3a13b1b6.jpg"/>
          <p:cNvPicPr/>
          <p:nvPr/>
        </p:nvPicPr>
        <p:blipFill>
          <a:blip r:embed="rId1"/>
          <a:stretch/>
        </p:blipFill>
        <p:spPr>
          <a:xfrm>
            <a:off x="285840" y="0"/>
            <a:ext cx="5757840" cy="37767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0" y="2071440"/>
            <a:ext cx="9144000" cy="32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07360" indent="-20736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 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«Нет ни одного ребенка неспособного, бездарного. Важно, чтобы этот ум, эта талантливость стали основой успехов в учении, чтобы ни один ученик не учился ниже своих возможностей»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07360" indent="-207360" algn="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.А. Сухомлинск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Содержимое 3" descr="17.jpg"/>
          <p:cNvPicPr/>
          <p:nvPr/>
        </p:nvPicPr>
        <p:blipFill>
          <a:blip r:embed="rId1"/>
          <a:stretch/>
        </p:blipFill>
        <p:spPr>
          <a:xfrm>
            <a:off x="214200" y="1857240"/>
            <a:ext cx="6357960" cy="47689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57120" y="642960"/>
            <a:ext cx="878688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entury Schoolbook"/>
              </a:rPr>
              <a:t>ЧТОБЫ БЫТЬ ХОРОШИМ ПРЕПОДАВАТЕЛЕМ, НУЖНО ЛЮБИТЬ ТО, ЧТО ПРЕПОДАЕШЬ, И ЛЮБИТЬ ТЕХ, КОМУ ПРЕПОДАЕШЬ. - </a:t>
            </a:r>
            <a:r>
              <a:rPr b="1" i="1" lang="ru-RU" sz="4000" spc="-1" strike="noStrike">
                <a:solidFill>
                  <a:srgbClr val="ff0000"/>
                </a:solidFill>
                <a:latin typeface="Century Schoolbook"/>
              </a:rPr>
              <a:t>ВАСИЛИЙ КЛЮЧЕВСКИЙ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1" name="Прямоугольник 4" descr=""/>
          <p:cNvPicPr/>
          <p:nvPr/>
        </p:nvPicPr>
        <p:blipFill>
          <a:blip r:embed="rId2"/>
          <a:stretch/>
        </p:blipFill>
        <p:spPr>
          <a:xfrm>
            <a:off x="281160" y="5516640"/>
            <a:ext cx="8442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Рисунок 3" descr="0_14bf48_9160faf0_orig.jpg"/>
          <p:cNvPicPr/>
          <p:nvPr/>
        </p:nvPicPr>
        <p:blipFill>
          <a:blip r:embed="rId1"/>
          <a:stretch/>
        </p:blipFill>
        <p:spPr>
          <a:xfrm>
            <a:off x="0" y="3232080"/>
            <a:ext cx="5000760" cy="36259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1428480" y="285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Целью школы всегда должно быть воспитание гармоничной личности, а не специалист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Альберт Эйнштейн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9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ДИФФЕРЕНЦИРОВАННЫЙ ПОДХОД В ОБУЧЕНИИ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5" name="Содержимое 3" descr="145250_1380793894_1.jpg"/>
          <p:cNvPicPr/>
          <p:nvPr/>
        </p:nvPicPr>
        <p:blipFill>
          <a:blip r:embed="rId1"/>
          <a:stretch/>
        </p:blipFill>
        <p:spPr>
          <a:xfrm>
            <a:off x="2214720" y="1600200"/>
            <a:ext cx="39528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ТРИ УСЛОВНЫЕ ГРУППЫ ДЕТЕЙ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cxnSp>
        <p:nvCxnSpPr>
          <p:cNvPr id="367" name="Прямая со стрелкой 4"/>
          <p:cNvCxnSpPr/>
          <p:nvPr/>
        </p:nvCxnSpPr>
        <p:spPr>
          <a:xfrm>
            <a:off x="4929120" y="642600"/>
            <a:ext cx="3215520" cy="5720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8" name="Прямая со стрелкой 6"/>
          <p:cNvCxnSpPr>
            <a:stCxn id="366" idx="2"/>
          </p:cNvCxnSpPr>
          <p:nvPr/>
        </p:nvCxnSpPr>
        <p:spPr>
          <a:xfrm flipH="1">
            <a:off x="4071240" y="1417320"/>
            <a:ext cx="119880" cy="36550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9" name="Прямая со стрелкой 8"/>
          <p:cNvCxnSpPr/>
          <p:nvPr/>
        </p:nvCxnSpPr>
        <p:spPr>
          <a:xfrm flipH="1">
            <a:off x="1713960" y="1427760"/>
            <a:ext cx="1500840" cy="50076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370" name="TextBox 9"/>
          <p:cNvSpPr/>
          <p:nvPr/>
        </p:nvSpPr>
        <p:spPr>
          <a:xfrm>
            <a:off x="0" y="2000160"/>
            <a:ext cx="3714840" cy="2837160"/>
          </a:xfrm>
          <a:prstGeom prst="rect">
            <a:avLst/>
          </a:prstGeom>
          <a:noFill/>
          <a:ln w="93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ти, требующие постоянной дополнительной помо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0"/>
          <p:cNvSpPr/>
          <p:nvPr/>
        </p:nvSpPr>
        <p:spPr>
          <a:xfrm>
            <a:off x="2214720" y="5103720"/>
            <a:ext cx="4500360" cy="1739880"/>
          </a:xfrm>
          <a:prstGeom prst="rect">
            <a:avLst/>
          </a:prstGeom>
          <a:noFill/>
          <a:ln w="93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ти, способные справиться самостоятель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11"/>
          <p:cNvSpPr/>
          <p:nvPr/>
        </p:nvSpPr>
        <p:spPr>
          <a:xfrm>
            <a:off x="4357800" y="1285920"/>
            <a:ext cx="4786200" cy="3717720"/>
          </a:xfrm>
          <a:prstGeom prst="rect">
            <a:avLst/>
          </a:prstGeom>
          <a:noFill/>
          <a:ln w="9360">
            <a:solidFill>
              <a:srgbClr val="e75c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дети, способные справляться с материалом за короткий срок с высоким качеством и оказывать помощь другим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13840" y="428760"/>
            <a:ext cx="854388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1 ЭТАП. ДИФФЕРЕНЦИРОВАННАЯ ДОМАШНЯЯ РАБОТА.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4" name="Содержимое 3" descr="wpid-yumoristicheskie-rasskazy-o-deniske-v_i_1.jpg"/>
          <p:cNvPicPr/>
          <p:nvPr/>
        </p:nvPicPr>
        <p:blipFill>
          <a:blip r:embed="rId1"/>
          <a:stretch/>
        </p:blipFill>
        <p:spPr>
          <a:xfrm>
            <a:off x="785880" y="1785960"/>
            <a:ext cx="69134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2 ЭТАП. УЧЕТ ЗНАНИЙ УЧАЩИХСЯ НА УРОКЕ.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Содержимое 6" descr="1408044036_1376549874_bezimeni-1.jpg"/>
          <p:cNvPicPr/>
          <p:nvPr/>
        </p:nvPicPr>
        <p:blipFill>
          <a:blip r:embed="rId1"/>
          <a:stretch/>
        </p:blipFill>
        <p:spPr>
          <a:xfrm>
            <a:off x="357120" y="2571840"/>
            <a:ext cx="3657600" cy="3751200"/>
          </a:xfrm>
          <a:prstGeom prst="rect">
            <a:avLst/>
          </a:prstGeom>
          <a:ln w="0">
            <a:noFill/>
          </a:ln>
        </p:spPr>
      </p:pic>
      <p:pic>
        <p:nvPicPr>
          <p:cNvPr id="377" name="Содержимое 7" descr="10100.jpg"/>
          <p:cNvPicPr/>
          <p:nvPr/>
        </p:nvPicPr>
        <p:blipFill>
          <a:blip r:embed="rId2"/>
          <a:stretch/>
        </p:blipFill>
        <p:spPr>
          <a:xfrm>
            <a:off x="4270320" y="2104920"/>
            <a:ext cx="451656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208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5f6d"/>
                </a:solidFill>
                <a:latin typeface="Century Schoolbook"/>
              </a:rPr>
              <a:t>3 ЭТАП. ОРГАНИЗАЦИЯ БАЗОВОГО ПОВТОРЕНИЯ.</a:t>
            </a:r>
            <a:br>
              <a:rPr sz="4400"/>
            </a:b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Содержимое 6" descr="img25.jpg"/>
          <p:cNvPicPr/>
          <p:nvPr/>
        </p:nvPicPr>
        <p:blipFill>
          <a:blip r:embed="rId1"/>
          <a:stretch/>
        </p:blipFill>
        <p:spPr>
          <a:xfrm>
            <a:off x="785880" y="1714680"/>
            <a:ext cx="6503760" cy="48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5T15:11:13Z</dcterms:created>
  <dc:creator>Lenovo</dc:creator>
  <dc:description/>
  <dc:language>en-US</dc:language>
  <cp:lastModifiedBy>Lenovo</cp:lastModifiedBy>
  <dcterms:modified xsi:type="dcterms:W3CDTF">2015-11-16T15:34:47Z</dcterms:modified>
  <cp:revision>44</cp:revision>
  <dc:subject/>
  <dc:title>Быковская Светлана Николаевна</dc:title>
</cp:coreProperties>
</file>