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2.gif" ContentType="image/gif"/>
  <Override PartName="/ppt/media/image10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4.png" ContentType="image/png"/>
  <Override PartName="/ppt/media/image23.wmf" ContentType="image/x-wmf"/>
  <Override PartName="/ppt/media/image22.wmf" ContentType="image/x-wmf"/>
  <Override PartName="/ppt/media/image21.jpeg" ContentType="image/jpeg"/>
  <Override PartName="/ppt/media/image20.jpeg" ContentType="image/jpeg"/>
  <Override PartName="/ppt/media/image1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7.png" ContentType="image/png"/>
  <Override PartName="/ppt/media/image1.png" ContentType="image/png"/>
  <Override PartName="/ppt/media/image19.gif" ContentType="image/gif"/>
  <Override PartName="/ppt/media/image2.jpeg" ContentType="image/jpe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861B-2A30-44A6-AFCE-6ECD5255B8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2» («плохо»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очень низкий уровень выполнения требований : наличие более 6 ошибок или 10 недочётов по текущему материалу; нарушение логики, не полные, односложные  ответы, неумение доказывать правильность ответа, неполнота, нет логической последовательности обсуждаемого вопроса, отсутствие аргументации либо ошибочность её основных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A72D-25C3-46B9-8F06-CA882008D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39E-BEC1-4086-9248-95F6F71B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46A3-D696-4AAB-866A-9E1CE748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67DC7-5023-4323-864A-7EB7F77F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976D4-72EC-4BD1-8087-64ED1719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3BD0E-000C-477E-89B8-750824E9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79DA3-AAA2-4291-9470-8C23EA0D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B8685-D27F-41A5-B0F6-03037C5F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E03EC-951F-4957-8D48-986FAE2C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A455C-80D4-4F96-A056-42D5579C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A9EA6-D40F-44E3-9F5F-ABA80F0A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8EC71-D80F-444B-9A42-DB636D81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B714B-BD25-4432-B017-25EEDA22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150-1295-4F4F-9B21-1D8D2194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D22B3-390D-4A5A-BEA4-2A79D101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29968-87CC-42DA-B07C-3AD4F468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441E7-5C61-4A47-9E04-7C46A549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328AF-4BE0-4682-AE58-993664AC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7456A-13B1-44EA-B533-3E524C32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5B692-BCB7-4F76-8BFD-AA3715CD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79E11-86E0-4A50-8552-B92CC4A9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9663D-2404-45CA-9A46-84870A2D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E1A56-FABB-45BA-8D49-8A8D5722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1F240-40F9-4B1F-8BD0-E2713767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C77-F202-4E00-A89D-8D19D2F2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BC46A-313A-4D0C-A841-605979AB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4E439-B399-4F9C-B688-C2B94F2A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D1536-2580-4508-9754-EB4069FE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FDD46-0E51-40D1-954B-23686C3C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0F454-4225-4C63-AB02-16325B01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92B5A-89F2-4F95-8E52-5AF000A2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3751F-FA3F-4656-8318-1551E133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70D95-2AC9-4590-98F8-8CC71C70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8E822-FD63-4EB5-90D3-CF41F44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9FD4B-017C-4FCD-AC7E-FF921C5A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E443-3FE4-472B-94B3-5D70ADF6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0720E-A7C9-418F-A5FF-0C797DC6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E88A6-55D7-4401-BAB4-95ED2193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84272-C9B5-4FF7-BFB0-A881CC3B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4F833-CB5D-48CF-BBCF-F1C936B5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C0C40-6C5A-43CA-9AAF-CB6277C5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7D169-54B8-4CCB-BE71-D920749B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DDD51-3129-4603-9CA0-A9337BC0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AE45A-90E5-4329-8FC9-363B759E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C0C9D-8CAA-4791-8633-54C7975D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F7DA2-BA95-4C02-BA8C-BED54EA1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F57D-5C51-4F69-BBF2-306D6427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35225-5005-4A48-B1D6-716CDCEC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C0FF5-C64B-4383-A9D2-DEBA6C6B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595CF-CA22-454E-9F26-FFCE84F3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F0703-A65F-4CCE-940D-3C9FDC81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51873-AB07-4560-8CDC-4DAB54B5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1C7B9-0751-416C-8D84-72504E84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AA85D-9597-43B7-A680-2371D352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A336F-E2A6-4594-A4E7-929B2442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EB895-D39F-47DC-A15D-F3B81B4D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5605F-EAC6-4FE3-AE99-D0E04144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F878-AA1B-4196-B15A-20A0BD71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234C1-9219-4AB4-9426-2AFB8F20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8F92A-6DE1-4ED4-8400-40FAF9A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33FAA-DB29-444C-9840-00A22CEF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80E16-6371-48B2-BC5E-DCB6F0C5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9E019-1EB1-4F3A-AF70-F609B28A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A757E-9798-40E5-9BF6-257E2E36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CDCD0-A009-408D-9729-F5EBA950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A9C5E-7A6F-4C0A-BDB1-411C804F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07658-9BDC-4382-B5C4-B23020BC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E604F-E0F2-48C1-B170-AD16BC7F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6A20-4541-43AC-B343-FC9E6167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9D8BE-6C27-49CD-951F-7CEA6AF2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9A832-3FE5-4ABE-B0A2-66FDB31F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7A569-C363-4ADA-8CC7-2B743131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76B12D-C198-4E1E-8A14-6E4D6DB5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CEA69-4BAD-4325-BBA8-AE8D728C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AA0DE-E470-4165-8815-943F79D0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4D50E-01A4-4497-B007-8CFFE380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B96B6-3883-4C62-8EE1-C90AAD94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CEB5C-B072-43D5-B182-F03E32FD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FE670-2EFF-4C46-B93E-7B989159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37FA-1341-4FC0-8A4B-F4C43357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5D3F3-0162-460A-A724-CF5205C4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61D1D8-E335-4689-8A31-2747986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F1E31-9A51-4ACE-AE30-70063DA6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FC609-BF96-4CDC-AB3D-41EC0DBA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BBC3F-12E8-4D61-8202-3AE1295C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E16A7-9F33-4132-B3AF-003D6DC7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1AE527-EB9E-4218-AC33-3C03D8B8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ED5E3-2499-4FA2-B6D3-79B57711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6286E-6EE3-4776-A8F2-0B78F489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E2310-1EE2-475D-B11A-C9DFC772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F5DD-A8A5-4579-AA52-A11B6C5C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0BBA5-5E6A-48AE-BB83-EB27B7A7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0F08-1675-4C4C-9D50-615FCA9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588-C120-4E62-86CE-C5C65F0D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DEF6-6E96-440A-B9C9-D028DC84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0C38-A31B-48D8-8B7D-538B275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72B8-EBE7-4104-99F0-2B772311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37CF-1B9E-41A6-84EE-E8F96AAB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44F5-2BC9-4054-AA70-02F5A20E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F414-438B-4ADA-946F-63D67E2D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3C682-CD9D-45B1-8282-8D2B8CDF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2A34-41B5-4B76-BD7D-55A5F7DA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F8E9-4034-4AD1-902D-C087C293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D7F5-6A87-4B1F-8821-C11228F4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46F-E320-4620-84EB-24B22994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70A6-8895-4455-A0F4-080C530F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C9D7-19FD-4A97-9AFB-878A0BC3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6B32-782A-44B3-B4BF-FC486D35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9287-7F90-4B8F-89A4-6BD8F642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D1D61-6F4E-45F8-880E-29E11F40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6F74-B5E9-407E-BDB1-57B0F418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5219-D8C7-492C-941F-64D724BD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04133-C38B-4F9B-A6E0-68BE0A24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77E96-BB3F-468B-8864-507835AD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D406-3A19-405A-9391-2DF4F0AC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798-C215-491C-A1AB-D9F50BCE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3A57F-7B00-4C89-9357-3D238354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D0019-4B33-4CD2-999D-0E51ADA0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9A75B-1246-48FA-BC74-1DBE7C70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ED48B-986F-421C-BD30-E2210E7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F8BB-FCC2-4523-9F86-ABF6E5A1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D39E0-03B2-4349-87B2-5E360780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6B64E-E5FC-4679-A260-1CE20308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4848-EDDF-4EE5-B708-C971FD16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9F679-B92E-486B-A57B-7611F5B6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A8161-936F-4470-9536-9F49E65A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062-50B8-456A-972D-AAB00D84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FADA8-CB43-4010-BA71-995311BF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A1D08-2071-462A-B621-44BC9557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D9EB6-DC79-4207-AA31-5E9B3369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B1729-F8E5-48C4-8248-5A344007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0D28-37BE-4708-9322-49D16423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54721-EBDA-4550-83BE-B2788EF7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23281-B2E3-498D-A025-7278B912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E059E-F1B8-47F5-890C-D31807D6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8FAF6-D8B7-473C-BF8D-738E1AF9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A1470-026C-4BD4-B0D0-8429BFC7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9EA-3912-40D4-A92D-5F426D9A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6AE98-BCF3-4335-A269-B944CA69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8868A-6FF6-4FC8-9255-1448D14D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E321A-5842-4963-ABFF-1DAAFD15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D3E0D-625D-46DC-B4A3-4A1E33CB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3ABEF-75D5-4B0D-8E58-F81B29F6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FB995-7452-40E5-93BC-D374E060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E63F6-BA12-4B38-999D-F958613B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82F0-8567-4423-AEE3-1F4882D4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20FBC-AABC-4FF9-9C64-E6AE1296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BE510-F0D3-4B6E-93A9-BE91A71D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064-732D-4921-8906-5F0A30E0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D223E-D772-40DD-AAB6-6463A829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ABD91-A85F-4915-93DB-F52E58D4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289DB-89EE-4A9B-B121-AA859F60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F8AB5-3E61-4A52-8DCF-75D998F3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E80B5-0C95-4766-AB1C-0C9CBD25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94853-9416-413C-AC5C-086EA9A2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D7DB0-7D90-404F-985F-AB8E1CA3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C8D30-A52F-4923-849E-3290E915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7186B-EC76-43BA-A938-B384229A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B0227-0A0B-4062-BF80-5098976F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1CA-A54D-4BE9-8E11-34CAD0CE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6D83C-9D72-426D-91FE-7380C602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C9007-60C8-4971-AADE-F8EAF8F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884CC-9407-45F5-99B3-EBBD0427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D814A-0A6D-4381-A8C4-E31BC532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34DB-12EC-4789-8754-F2269F31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4C30-380D-48AA-B5CE-41E5DA49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60E4B-9A76-41C0-AB40-304D62E8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DF25B-A32F-4691-80BF-51557B70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45EE5-9A1C-46CD-ACEB-54967665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FA62F-7645-421D-84BF-F3E35AB8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ECB-F443-4A85-90B4-71880CF8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D14B2-81C8-43AC-8A7E-ABACE8E3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984E8-B611-4F83-914A-ACD90E74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F6FA9-C314-4E3D-A74D-FB75FA84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FEB8E-6F78-43DE-9067-752FDEA5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24F52-42BA-49EA-9CD2-C88FCA21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095EB-8AFB-4ABF-AEB9-4AE876D7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2A655-1387-47DC-9F01-3CC11DAB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4517F-CD6B-4C84-A0F1-1825AA16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47C88-57AF-4BA6-A961-5C6F55AB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580B8-F227-457A-AA50-B31E7E8C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646B-65B3-4F68-B378-39EB6E521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2EAD-A882-4C38-933F-6BE0E807721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5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CDA5-7910-4AF6-A17B-9A69AF50A50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9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CA8A-DDD9-49B7-9D90-C201F969FB9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54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ABA9-0FB2-4637-BE5F-786D5CD7CD9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C135-E19B-49CF-863D-EB1D4F6C26F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933C-5B48-4B79-AD0D-3694321BBAE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0431-9F43-455A-BB69-96EC5C24814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F79F-2208-487D-B489-3E5E0993428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79F2-DFB5-4215-AB15-03C42404C5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15E2-8AF4-45EC-AA2E-CA87D19A04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2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234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ABDE-2738-42E1-8DF5-7A51EF10E2C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81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5E36-70A8-4907-8633-812292F6190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8684-31AA-427F-92DE-7EB063C95F7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34A3-DDDA-4A10-A709-628A75EA42F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isdoms.ru/avt/b213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«Б»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Первые уроки школьной отметки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Копия (5) AG00315_"/>
          <p:cNvPicPr/>
          <p:nvPr/>
        </p:nvPicPr>
        <p:blipFill>
          <a:blip r:embed="rId1"/>
          <a:stretch/>
        </p:blipFill>
        <p:spPr>
          <a:xfrm>
            <a:off x="6629400" y="4057560"/>
            <a:ext cx="2195640" cy="22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4" descr="J0076204"/>
          <p:cNvPicPr/>
          <p:nvPr/>
        </p:nvPicPr>
        <p:blipFill>
          <a:blip r:embed="rId1"/>
          <a:stretch/>
        </p:blipFill>
        <p:spPr>
          <a:xfrm>
            <a:off x="2971800" y="3886200"/>
            <a:ext cx="5616720" cy="22096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723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9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730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738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752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757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Прямоугольник 46"/>
          <p:cNvSpPr/>
          <p:nvPr/>
        </p:nvSpPr>
        <p:spPr>
          <a:xfrm>
            <a:off x="228600" y="2209680"/>
            <a:ext cx="2971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е ждите зова ребенка о помощи, научите выполнять самостоятельно, но с последующей проверк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рямоугольник 47"/>
          <p:cNvSpPr/>
          <p:nvPr/>
        </p:nvSpPr>
        <p:spPr>
          <a:xfrm>
            <a:off x="3429000" y="2438280"/>
            <a:ext cx="251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могите ему только, то,  что он не может выполнить, но не выполняйте за не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язательно доверяйте ребенку, но не ленитесь проверить его работу. Это на его бла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.                 Не Следует ни торопиться, но и ни затяг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5" descr="р19"/>
          <p:cNvPicPr/>
          <p:nvPr/>
        </p:nvPicPr>
        <p:blipFill>
          <a:blip r:embed="rId1"/>
          <a:stretch/>
        </p:blipFill>
        <p:spPr>
          <a:xfrm>
            <a:off x="6948360" y="4267080"/>
            <a:ext cx="2195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ИТОГИ 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ЧЕТВЕРТИ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НА «5» - 2 человека.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НА « 5 и 4» - 15 человек.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С «3» - 8 человек.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облемы низких отметок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434960" y="1066680"/>
            <a:ext cx="7499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- разговоры на уроках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- быстрота выполнения заданий (торопятся)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- нежелание вдуматься в задание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- лень подумать (ждут когда за них выполнят другие)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-не понимают для чего им нужны хорошие отметки в жизни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31720" y="151920"/>
            <a:ext cx="7407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64305"/>
                </a:solidFill>
                <a:latin typeface="Corbel"/>
              </a:rPr>
              <a:t>Родительское собрание</a:t>
            </a:r>
            <a:br>
              <a:rPr sz="4800"/>
            </a:b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70c0"/>
                </a:solidFill>
                <a:uFillTx/>
                <a:latin typeface="Corbel"/>
              </a:rPr>
              <a:t>Повестка дня: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.Оценка. Отметка.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ритерии оценки .Как к ней относиться?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.Итоги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етверти.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.Разное.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88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1"/>
          <p:cNvSpPr/>
          <p:nvPr/>
        </p:nvSpPr>
        <p:spPr>
          <a:xfrm>
            <a:off x="838080" y="123444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Arial"/>
                <a:ea typeface="Times New Roman"/>
              </a:rPr>
              <a:t>Мы учимся, увы, для школы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6600"/>
                </a:solidFill>
                <a:latin typeface="Arial"/>
                <a:ea typeface="Times New Roman"/>
              </a:rPr>
              <a:t>а не для жиз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ae0404"/>
                </a:solidFill>
                <a:uFillTx/>
                <a:latin typeface="Arial"/>
                <a:ea typeface="Times New Roman"/>
                <a:hlinkClick r:id="rId1"/>
              </a:rPr>
              <a:t>Сен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91" name="Picture 3" descr="j0305589[1]"/>
          <p:cNvPicPr/>
          <p:nvPr/>
        </p:nvPicPr>
        <p:blipFill>
          <a:blip r:embed="rId1"/>
          <a:stretch/>
        </p:blipFill>
        <p:spPr>
          <a:xfrm>
            <a:off x="6556320" y="4549680"/>
            <a:ext cx="1647720" cy="13939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Rectangle 2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7429680" cy="642960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4"/>
          <p:cNvSpPr/>
          <p:nvPr/>
        </p:nvSpPr>
        <p:spPr>
          <a:xfrm>
            <a:off x="2500200" y="5857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5436a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4" descr="Карандаш"/>
          <p:cNvPicPr/>
          <p:nvPr/>
        </p:nvPicPr>
        <p:blipFill>
          <a:blip r:embed="rId2"/>
          <a:stretch/>
        </p:blipFill>
        <p:spPr>
          <a:xfrm>
            <a:off x="7929720" y="3929040"/>
            <a:ext cx="1684080" cy="24606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Глобус"/>
          <p:cNvPicPr/>
          <p:nvPr/>
        </p:nvPicPr>
        <p:blipFill>
          <a:blip r:embed="rId3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Corbel"/>
              </a:rPr>
              <a:t>Характеристика цифровой оценки (отметки)  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» («отлично»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сокий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выполнения требований : отсутствие ошибок как по текущему, так и по предыдущему учебному материалу; полные, развёрнутые ответы, умение обосновать и доказать правильность своего ответа, не более одного недочёта; логичность и полнота излож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8" name="Picture 7" descr="D:\Мои документы2\15fd987f0057.gif"/>
          <p:cNvPicPr/>
          <p:nvPr/>
        </p:nvPicPr>
        <p:blipFill>
          <a:blip r:embed="rId1"/>
          <a:stretch/>
        </p:blipFill>
        <p:spPr>
          <a:xfrm>
            <a:off x="214200" y="642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7" descr="D:\Мои документы2\15fd987f0057.gif"/>
          <p:cNvPicPr/>
          <p:nvPr/>
        </p:nvPicPr>
        <p:blipFill>
          <a:blip r:embed="rId2"/>
          <a:stretch/>
        </p:blipFill>
        <p:spPr>
          <a:xfrm>
            <a:off x="7215120" y="54291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Corbel"/>
              </a:rPr>
              <a:t>Характеристика цифровой оценки (отметки)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4» («хорошо»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выполнения требований : использование дополнительного материала, полнота и логичность раскрытия вопроса; самостоятельность суждений, отражение своего отношения к предмету обсуждения; незначительные нарушения логики изложения материала; использование нерациональных приёмов решения учебной задачи; отдельные неточности в изложении материал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2" name="Picture 7" descr="D:\Мои документы2\15fd987f0057.gif"/>
          <p:cNvPicPr/>
          <p:nvPr/>
        </p:nvPicPr>
        <p:blipFill>
          <a:blip r:embed="rId1"/>
          <a:stretch/>
        </p:blipFill>
        <p:spPr>
          <a:xfrm>
            <a:off x="0" y="428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7" descr="D:\Мои документы2\15fd987f0057.gif"/>
          <p:cNvPicPr/>
          <p:nvPr/>
        </p:nvPicPr>
        <p:blipFill>
          <a:blip r:embed="rId2"/>
          <a:stretch/>
        </p:blipFill>
        <p:spPr>
          <a:xfrm>
            <a:off x="7500960" y="5500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Corbel"/>
              </a:rPr>
              <a:t>Характеристика цифровой оценки (отметки)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«3» («удовлетворительно»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статочный минимальный уровень выполнения требований, предъявляемых к конкретной работе; отдельные нарушения логики изложения материала; неполнота раскрытия вопрос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6" name="Picture 7" descr="D:\Мои документы2\15fd987f0057.gif"/>
          <p:cNvPicPr/>
          <p:nvPr/>
        </p:nvPicPr>
        <p:blipFill>
          <a:blip r:embed="rId1"/>
          <a:stretch/>
        </p:blipFill>
        <p:spPr>
          <a:xfrm>
            <a:off x="0" y="714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" descr="D:\Мои документы2\15fd987f0057.gif"/>
          <p:cNvPicPr/>
          <p:nvPr/>
        </p:nvPicPr>
        <p:blipFill>
          <a:blip r:embed="rId2"/>
          <a:stretch/>
        </p:blipFill>
        <p:spPr>
          <a:xfrm>
            <a:off x="7572240" y="54291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Corbel"/>
              </a:rPr>
              <a:t>Характеристика цифровой оценки (отметки)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orbel"/>
              </a:rPr>
              <a:t>«2» («плохо») 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–очень низкий уровень выполнения требований : наличие более 6 ошибок или 10 недочётов по текущему материалу; нарушение логики, не полные, односложные  ответы, неумение доказывать правильность ответа, неполнота, нет логической последовательности обсуждаемого вопроса, отсутствие аргументации либо ошибочность её основных положений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0" name="Picture 7" descr="D:\Мои документы2\15fd987f0057.gif"/>
          <p:cNvPicPr/>
          <p:nvPr/>
        </p:nvPicPr>
        <p:blipFill>
          <a:blip r:embed="rId1"/>
          <a:stretch/>
        </p:blipFill>
        <p:spPr>
          <a:xfrm>
            <a:off x="0" y="5000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7" descr="D:\Мои документы2\15fd987f0057.gif"/>
          <p:cNvPicPr/>
          <p:nvPr/>
        </p:nvPicPr>
        <p:blipFill>
          <a:blip r:embed="rId2"/>
          <a:stretch/>
        </p:blipFill>
        <p:spPr>
          <a:xfrm>
            <a:off x="771516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,</a:t>
            </a:r>
            <a:r>
              <a:rPr b="1" lang="en-US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пробуйте ему помо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4" descr="j0282745"/>
          <p:cNvPicPr/>
          <p:nvPr/>
        </p:nvPicPr>
        <p:blipFill>
          <a:blip r:embed="rId1"/>
          <a:stretch/>
        </p:blipFill>
        <p:spPr>
          <a:xfrm>
            <a:off x="4191120" y="4038480"/>
            <a:ext cx="19047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inb4</cp:lastModifiedBy>
  <dcterms:modified xsi:type="dcterms:W3CDTF">2013-11-13T12:41:16Z</dcterms:modified>
  <cp:revision>95</cp:revision>
  <dc:subject/>
  <dc:title>PowerPoint Template</dc:title>
</cp:coreProperties>
</file>