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4784-EF92-4A36-857D-47DE56CA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6839-FBD2-45BC-B463-4331BE20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77E7-EF21-4A8C-921B-2F3DB888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1636-9948-4498-986A-3DF340ED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0987-16FE-43F3-83DE-2CD0B33E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2161-F7C7-4B66-A720-3B600BAF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B008-61B6-479C-97C4-399FDE93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BBFE-4605-4B31-BF69-207C1220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BCC7-CA91-4B89-965D-856016C7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3C88-E9E4-4229-91C9-F152A58F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A3C3-7C89-400B-90A5-FAB01088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5B87-2A1D-4771-82DE-6CC988A0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4E67-BDFB-4457-A1A7-E44FDD9651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54000" y="0"/>
            <a:ext cx="919800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488400">
            <a:off x="971280" y="692280"/>
            <a:ext cx="7524720" cy="33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андартные программы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С Window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H="1" flipV="1">
            <a:off x="3708000" y="2997000"/>
            <a:ext cx="73080" cy="215640"/>
          </a:xfrm>
          <a:prstGeom prst="line">
            <a:avLst/>
          </a:prstGeom>
          <a:ln w="57240">
            <a:solidFill>
              <a:srgbClr val="bbe0e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54000" y="0"/>
            <a:ext cx="9198000" cy="6899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 rot="488400">
            <a:off x="971280" y="692280"/>
            <a:ext cx="7524720" cy="33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андартные программы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С Window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2000">
    <p:comb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1677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54000" y="0"/>
            <a:ext cx="9198000" cy="6899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 rot="488400">
            <a:off x="971280" y="692280"/>
            <a:ext cx="7524720" cy="33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андартные программы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С Window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54000" y="0"/>
            <a:ext cx="9198000" cy="6899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488400">
            <a:off x="971280" y="692280"/>
            <a:ext cx="7524720" cy="33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андартные программы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С Window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740720" y="5661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8352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16000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803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8032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57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54000" y="0"/>
            <a:ext cx="9198000" cy="6899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иболее популярные стандартные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63880"/>
            <a:ext cx="82296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окн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P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лькуля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18000">
    <p:comb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75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окн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194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кстовые данные являются наиболее распространенным видом данных при работе с компьютер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ля создания и изменения текстовых данных применяют текстовые редакторы и текстовые процессоры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меет стандартный текстовый редактор Блокно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здание текстовых документов выполняют вводом символов с помощью клавиатуры. Редактирование текстовых документов выполняют правкой готового текста с помощью специальных клавиш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 окончании работы с документом он должен быть сохранен в виде фай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се приложения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спользуют одни и те же приемы для сохранения файлов. Освоив эти приемы на примере редактора Блокнот, можно пользоваться ими при работе с другими приложен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140360" y="1341360"/>
            <a:ext cx="5003640" cy="487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459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3000">
    <p:comb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2872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54000" y="0"/>
            <a:ext cx="9198000" cy="6899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лькуля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грамма Калькулятор, позволяет выполнять на компьютере несложные арифметические и математические расчеты и немедленно использовать полученные результаты в других приложения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а позволяет изучать работу с различными системами счисления, отличными от общепринятой десятичной, а также правила логической арифме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867280" y="4149720"/>
            <a:ext cx="2476800" cy="2476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643280" y="1413000"/>
            <a:ext cx="4321440" cy="2854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1000">
    <p:comb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7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54000" y="0"/>
            <a:ext cx="9198000" cy="6899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кстовый процессор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P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атирование текста выполняют специальные программы, которые называют текстовыми процессо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 систем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лагается текстовый процессор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dPad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ладающий многими (хотя и не всеми возможными) функциями оформления абзацев и заголов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067280" y="2205000"/>
            <a:ext cx="4897440" cy="3681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6000">
    <p:comb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5835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54000" y="0"/>
            <a:ext cx="9198000" cy="68994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афический редактор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392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ля работы с графическими данными в состав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ходит стандартный графический редактор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i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фический редактор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int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зволяет создавать или обрабатывать растровые изображения, состоящие из мельчайших точек (пиксело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дактор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int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держит инструменты для свободного рисования, инструменты создания линий (прямых и кривых), инструменты для создания и заполнения простейших геометрических фигур. Он также имеет средства для выбора и настройки цвета, для выделения графических объектов и выполнения над ними операций копирования, перемещения и уда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исунки, подготовленные в редакторе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int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жно сохранить на жестком диске в виде файлов и для внедрения или связывания с другими документами, подготовленными в иных приложениях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356000" y="1916280"/>
            <a:ext cx="4680000" cy="3649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47000">
    <p:comb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6538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17236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7000">
    <p:comb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6614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 flipV="1">
            <a:off x="6156000" y="1197000"/>
            <a:ext cx="73080" cy="216000"/>
          </a:xfrm>
          <a:prstGeom prst="line">
            <a:avLst/>
          </a:prstGeom>
          <a:ln w="57240">
            <a:solidFill>
              <a:srgbClr val="bbe0e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11000">
    <p:comb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0484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56 -0.01573 C -0.05868 -0.03469 -0.11163 -0.05366 -0.15486 -0.00786 C -0.19809 0.03794 -0.24688 0.2156 -0.26545 0.25862 E">
                                      <p:cBhvr>
                                        <p:cTn id="58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05:27:47Z</dcterms:created>
  <dc:creator>Подхалюзин Григорий Викторович</dc:creator>
  <dc:description/>
  <dc:language>en-US</dc:language>
  <cp:lastModifiedBy>Подхалюзин Григорий Викторович</cp:lastModifiedBy>
  <dcterms:modified xsi:type="dcterms:W3CDTF">2006-10-25T16:31:32Z</dcterms:modified>
  <cp:revision>32</cp:revision>
  <dc:subject/>
  <dc:title>Слайд 1</dc:title>
</cp:coreProperties>
</file>