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6.png" ContentType="image/png"/>
  <Override PartName="/ppt/media/image15.gif" ContentType="image/gif"/>
  <Override PartName="/ppt/media/image2.wmf" ContentType="image/x-wmf"/>
  <Override PartName="/ppt/media/image3.png" ContentType="image/png"/>
  <Override PartName="/ppt/media/image4.png" ContentType="image/png"/>
  <Override PartName="/ppt/media/image9.png" ContentType="image/png"/>
  <Override PartName="/ppt/media/image13.png" ContentType="image/png"/>
  <Override PartName="/ppt/media/image10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4E4-7B79-46A2-A7C4-F8778730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3EB-C908-4728-9356-A6054E5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0A9-6B5D-4E57-B336-586096B6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60E-1229-4BA4-8DCC-CBBEEC53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1258-6F34-4205-A2C2-C4183536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46102-4DDF-4DE4-9BB4-C858CBED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772A2-D27B-474A-B473-73536EE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5FA9E-67EE-46C8-A5ED-FA36F594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08961-5A61-47C0-A28B-80FC66BC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CF023-23BF-4C2B-8CC3-34214D1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B8721-8E64-4045-9E3A-76C226A2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C0F-870A-4940-9A25-346BEF5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D88B0-8BBC-4D8B-B734-B62ABA9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5A379-9F18-4AE3-B553-4B0DDBC0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AAA4-FC5B-4E36-8B46-384AEB69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9F008-43A5-4C36-BFA4-6F188E8B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5DC2B-DFED-4814-9E87-8D3598A9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79A-70D5-413A-8978-7134A43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F6E-39B8-4F96-8522-B4FB093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CBE-34F6-45B7-B03A-C33B198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B0C-DAC6-463A-AC90-BF216837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BFD-18E6-4899-8DEA-7C83586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1F8-C54F-4E89-B3A3-5BFDA3F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AB8-1F69-4811-8569-1F63BF7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AB8-53BA-4B18-862F-EC67360064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D3E-0A09-4ACA-88FE-F02CBCBF10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image" Target="../media/image3.png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0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0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image" Target="../media/image3.png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0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5.xml"/><Relationship Id="rId10" Type="http://schemas.openxmlformats.org/officeDocument/2006/relationships/image" Target="../media/image3.png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0.xml"/><Relationship Id="rId6" Type="http://schemas.openxmlformats.org/officeDocument/2006/relationships/slide" Target="slide16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image" Target="../media/image3.png"/><Relationship Id="rId12" Type="http://schemas.openxmlformats.org/officeDocument/2006/relationships/image" Target="../media/image5.gif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885080" y="476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172360" y="1844640"/>
            <a:ext cx="682560" cy="1611360"/>
            <a:chOff x="8172360" y="1844640"/>
            <a:chExt cx="682560" cy="1611360"/>
          </a:xfrm>
        </p:grpSpPr>
        <p:sp>
          <p:nvSpPr>
            <p:cNvPr id="84" name=""/>
            <p:cNvSpPr/>
            <p:nvPr/>
          </p:nvSpPr>
          <p:spPr>
            <a:xfrm>
              <a:off x="81723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599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12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3149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461440" y="2276640"/>
            <a:ext cx="682560" cy="1610640"/>
            <a:chOff x="8461440" y="2276640"/>
            <a:chExt cx="682560" cy="1610640"/>
          </a:xfrm>
        </p:grpSpPr>
        <p:sp>
          <p:nvSpPr>
            <p:cNvPr id="89" name=""/>
            <p:cNvSpPr/>
            <p:nvPr/>
          </p:nvSpPr>
          <p:spPr>
            <a:xfrm>
              <a:off x="8461440" y="22766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49000" y="28321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820360" y="28918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604000" y="3035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1640" y="1197000"/>
            <a:ext cx="682560" cy="1611360"/>
            <a:chOff x="431640" y="1197000"/>
            <a:chExt cx="682560" cy="1611360"/>
          </a:xfrm>
        </p:grpSpPr>
        <p:sp>
          <p:nvSpPr>
            <p:cNvPr id="94" name=""/>
            <p:cNvSpPr/>
            <p:nvPr/>
          </p:nvSpPr>
          <p:spPr>
            <a:xfrm>
              <a:off x="431640" y="1197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9200" y="1752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0560" y="1812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74200" y="1955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934920" y="1236600"/>
            <a:ext cx="682560" cy="1611360"/>
            <a:chOff x="934920" y="1236600"/>
            <a:chExt cx="682560" cy="1611360"/>
          </a:xfrm>
        </p:grpSpPr>
        <p:sp>
          <p:nvSpPr>
            <p:cNvPr id="99" name=""/>
            <p:cNvSpPr/>
            <p:nvPr/>
          </p:nvSpPr>
          <p:spPr>
            <a:xfrm>
              <a:off x="934920" y="12366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2480" y="17924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293840" y="18525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077480" y="19954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47640" y="1413000"/>
            <a:ext cx="682560" cy="1611360"/>
            <a:chOff x="647640" y="1413000"/>
            <a:chExt cx="682560" cy="1611360"/>
          </a:xfrm>
        </p:grpSpPr>
        <p:sp>
          <p:nvSpPr>
            <p:cNvPr id="104" name=""/>
            <p:cNvSpPr/>
            <p:nvPr/>
          </p:nvSpPr>
          <p:spPr>
            <a:xfrm>
              <a:off x="647640" y="14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5200" y="19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06560" y="20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0200" y="21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31640" y="1812960"/>
            <a:ext cx="682560" cy="1611360"/>
            <a:chOff x="431640" y="1812960"/>
            <a:chExt cx="682560" cy="1611360"/>
          </a:xfrm>
        </p:grpSpPr>
        <p:sp>
          <p:nvSpPr>
            <p:cNvPr id="109" name=""/>
            <p:cNvSpPr/>
            <p:nvPr/>
          </p:nvSpPr>
          <p:spPr>
            <a:xfrm>
              <a:off x="431640" y="181296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200" y="236880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90560" y="242892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74200" y="257184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0" y="2604960"/>
            <a:ext cx="682560" cy="1611360"/>
            <a:chOff x="0" y="2604960"/>
            <a:chExt cx="682560" cy="1611360"/>
          </a:xfrm>
        </p:grpSpPr>
        <p:sp>
          <p:nvSpPr>
            <p:cNvPr id="114" name=""/>
            <p:cNvSpPr/>
            <p:nvPr/>
          </p:nvSpPr>
          <p:spPr>
            <a:xfrm>
              <a:off x="0" y="260496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560" y="316080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8920" y="322092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42560" y="336384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1835280" y="1628640"/>
            <a:ext cx="59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 ПРИЗНАК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>
            <a:hlinkClick r:id="rId2" action="ppaction://hlinksldjump"/>
          </p:cNvPr>
          <p:cNvSpPr/>
          <p:nvPr/>
        </p:nvSpPr>
        <p:spPr>
          <a:xfrm>
            <a:off x="3636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>
            <a:hlinkClick r:id="rId3" action="ppaction://hlinksldjump"/>
          </p:cNvPr>
          <p:cNvSpPr/>
          <p:nvPr/>
        </p:nvSpPr>
        <p:spPr>
          <a:xfrm>
            <a:off x="111600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>
            <a:hlinkClick r:id="rId4" action="ppaction://hlinksldjump"/>
          </p:cNvPr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09308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>
            <a:hlinkClick r:id="rId5" action="ppaction://hlinksldjump"/>
          </p:cNvPr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>
            <a:hlinkClick r:id="rId6" action="ppaction://hlinksldjump"/>
          </p:cNvPr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512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514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"/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>
            <a:hlinkClick r:id="rId7" action="ppaction://hlinksldjump"/>
          </p:cNvPr>
          <p:cNvSpPr/>
          <p:nvPr/>
        </p:nvSpPr>
        <p:spPr>
          <a:xfrm>
            <a:off x="5921280" y="3809880"/>
            <a:ext cx="2151000" cy="1725840"/>
          </a:xfrm>
          <a:custGeom>
            <a:avLst/>
            <a:gdLst/>
            <a:ahLst/>
            <a:rect l="l" t="t" r="r" b="b"/>
            <a:pathLst>
              <a:path w="1355" h="1087">
                <a:moveTo>
                  <a:pt x="1355" y="966"/>
                </a:moveTo>
                <a:cubicBezTo>
                  <a:pt x="1304" y="1017"/>
                  <a:pt x="1283" y="1031"/>
                  <a:pt x="1220" y="1056"/>
                </a:cubicBezTo>
                <a:cubicBezTo>
                  <a:pt x="1211" y="1065"/>
                  <a:pt x="1206" y="1082"/>
                  <a:pt x="1193" y="1083"/>
                </a:cubicBezTo>
                <a:cubicBezTo>
                  <a:pt x="1141" y="1087"/>
                  <a:pt x="1049" y="1053"/>
                  <a:pt x="995" y="1038"/>
                </a:cubicBezTo>
                <a:cubicBezTo>
                  <a:pt x="1009" y="995"/>
                  <a:pt x="1017" y="973"/>
                  <a:pt x="968" y="957"/>
                </a:cubicBezTo>
                <a:cubicBezTo>
                  <a:pt x="943" y="871"/>
                  <a:pt x="959" y="699"/>
                  <a:pt x="887" y="651"/>
                </a:cubicBezTo>
                <a:cubicBezTo>
                  <a:pt x="876" y="595"/>
                  <a:pt x="865" y="586"/>
                  <a:pt x="815" y="561"/>
                </a:cubicBezTo>
                <a:cubicBezTo>
                  <a:pt x="783" y="497"/>
                  <a:pt x="773" y="464"/>
                  <a:pt x="698" y="444"/>
                </a:cubicBezTo>
                <a:cubicBezTo>
                  <a:pt x="672" y="437"/>
                  <a:pt x="644" y="438"/>
                  <a:pt x="617" y="435"/>
                </a:cubicBezTo>
                <a:cubicBezTo>
                  <a:pt x="608" y="423"/>
                  <a:pt x="601" y="409"/>
                  <a:pt x="590" y="399"/>
                </a:cubicBezTo>
                <a:cubicBezTo>
                  <a:pt x="580" y="390"/>
                  <a:pt x="556" y="394"/>
                  <a:pt x="554" y="381"/>
                </a:cubicBezTo>
                <a:cubicBezTo>
                  <a:pt x="534" y="262"/>
                  <a:pt x="543" y="263"/>
                  <a:pt x="590" y="201"/>
                </a:cubicBezTo>
                <a:cubicBezTo>
                  <a:pt x="608" y="148"/>
                  <a:pt x="611" y="92"/>
                  <a:pt x="626" y="39"/>
                </a:cubicBezTo>
                <a:cubicBezTo>
                  <a:pt x="629" y="30"/>
                  <a:pt x="629" y="19"/>
                  <a:pt x="635" y="12"/>
                </a:cubicBezTo>
                <a:cubicBezTo>
                  <a:pt x="645" y="0"/>
                  <a:pt x="0" y="471"/>
                  <a:pt x="0" y="471"/>
                </a:cubicBezTo>
              </a:path>
            </a:pathLst>
          </a:custGeom>
          <a:noFill/>
          <a:ln w="3492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>
            <a:hlinkClick r:id="rId8" action="ppaction://hlinksldjump"/>
          </p:cNvPr>
          <p:cNvSpPr/>
          <p:nvPr/>
        </p:nvSpPr>
        <p:spPr>
          <a:xfrm>
            <a:off x="5724360" y="4437000"/>
            <a:ext cx="142920" cy="144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532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537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542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547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552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558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563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0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77" dur="50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78" dur="50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>
            <a:hlinkClick r:id="rId2" action="ppaction://hlinksldjump"/>
          </p:cNvPr>
          <p:cNvSpPr/>
          <p:nvPr/>
        </p:nvSpPr>
        <p:spPr>
          <a:xfrm>
            <a:off x="3636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>
            <a:hlinkClick r:id="rId3" action="ppaction://hlinksldjump"/>
          </p:cNvPr>
          <p:cNvSpPr/>
          <p:nvPr/>
        </p:nvSpPr>
        <p:spPr>
          <a:xfrm>
            <a:off x="111600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>
            <a:hlinkClick r:id="rId4" action="ppaction://hlinksldjump"/>
          </p:cNvPr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9308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>
            <a:hlinkClick r:id="rId5" action="ppaction://hlinksldjump"/>
          </p:cNvPr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>
            <a:hlinkClick r:id="rId6" action="ppaction://hlinksldjump"/>
          </p:cNvPr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>
            <a:hlinkClick r:id="rId7" action="ppaction://hlinksldjump"/>
          </p:cNvPr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>
            <a:hlinkClick r:id="rId8" action="ppaction://hlinksldjump"/>
          </p:cNvPr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>
            <a:hlinkClick r:id="rId9" action="ppaction://hlinksldjump"/>
          </p:cNvPr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>
            <a:hlinkClick r:id="rId10" action="ppaction://hlinksldjump"/>
          </p:cNvPr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>
            <a:hlinkClick r:id="rId11" action="ppaction://hlinksldjump"/>
          </p:cNvPr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>
            <a:hlinkClick r:id="rId12" action="ppaction://hlinksldjump"/>
          </p:cNvPr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>
            <a:hlinkClick r:id="rId13" action="ppaction://hlinksldjump"/>
          </p:cNvPr>
          <p:cNvSpPr/>
          <p:nvPr/>
        </p:nvSpPr>
        <p:spPr>
          <a:xfrm rot="19429200">
            <a:off x="5077080" y="1628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608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610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"/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>
            <a:hlinkClick r:id="rId14" action="ppaction://hlinksldjump"/>
          </p:cNvPr>
          <p:cNvSpPr/>
          <p:nvPr/>
        </p:nvSpPr>
        <p:spPr>
          <a:xfrm>
            <a:off x="6084720" y="213372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99280" y="2235240"/>
            <a:ext cx="1654200" cy="3170160"/>
          </a:xfrm>
          <a:custGeom>
            <a:avLst/>
            <a:gdLst/>
            <a:ahLst/>
            <a:rect l="l" t="t" r="r" b="b"/>
            <a:pathLst>
              <a:path w="1042" h="1997">
                <a:moveTo>
                  <a:pt x="1042" y="1947"/>
                </a:moveTo>
                <a:cubicBezTo>
                  <a:pt x="1027" y="1962"/>
                  <a:pt x="1018" y="1990"/>
                  <a:pt x="997" y="1993"/>
                </a:cubicBezTo>
                <a:cubicBezTo>
                  <a:pt x="968" y="1997"/>
                  <a:pt x="943" y="1970"/>
                  <a:pt x="914" y="1966"/>
                </a:cubicBezTo>
                <a:cubicBezTo>
                  <a:pt x="899" y="1964"/>
                  <a:pt x="884" y="1972"/>
                  <a:pt x="869" y="1975"/>
                </a:cubicBezTo>
                <a:cubicBezTo>
                  <a:pt x="813" y="1961"/>
                  <a:pt x="767" y="1928"/>
                  <a:pt x="713" y="1911"/>
                </a:cubicBezTo>
                <a:cubicBezTo>
                  <a:pt x="645" y="1866"/>
                  <a:pt x="658" y="1780"/>
                  <a:pt x="603" y="1728"/>
                </a:cubicBezTo>
                <a:cubicBezTo>
                  <a:pt x="593" y="1703"/>
                  <a:pt x="576" y="1680"/>
                  <a:pt x="567" y="1655"/>
                </a:cubicBezTo>
                <a:cubicBezTo>
                  <a:pt x="542" y="1587"/>
                  <a:pt x="578" y="1627"/>
                  <a:pt x="539" y="1591"/>
                </a:cubicBezTo>
                <a:cubicBezTo>
                  <a:pt x="534" y="1569"/>
                  <a:pt x="521" y="1549"/>
                  <a:pt x="521" y="1527"/>
                </a:cubicBezTo>
                <a:cubicBezTo>
                  <a:pt x="521" y="1481"/>
                  <a:pt x="549" y="1432"/>
                  <a:pt x="585" y="1408"/>
                </a:cubicBezTo>
                <a:cubicBezTo>
                  <a:pt x="599" y="1337"/>
                  <a:pt x="619" y="1325"/>
                  <a:pt x="658" y="1271"/>
                </a:cubicBezTo>
                <a:cubicBezTo>
                  <a:pt x="666" y="1260"/>
                  <a:pt x="667" y="1244"/>
                  <a:pt x="677" y="1234"/>
                </a:cubicBezTo>
                <a:cubicBezTo>
                  <a:pt x="694" y="1217"/>
                  <a:pt x="720" y="1211"/>
                  <a:pt x="741" y="1198"/>
                </a:cubicBezTo>
                <a:cubicBezTo>
                  <a:pt x="759" y="1174"/>
                  <a:pt x="785" y="1154"/>
                  <a:pt x="795" y="1125"/>
                </a:cubicBezTo>
                <a:cubicBezTo>
                  <a:pt x="798" y="1116"/>
                  <a:pt x="799" y="1105"/>
                  <a:pt x="805" y="1097"/>
                </a:cubicBezTo>
                <a:cubicBezTo>
                  <a:pt x="812" y="1086"/>
                  <a:pt x="824" y="1080"/>
                  <a:pt x="832" y="1070"/>
                </a:cubicBezTo>
                <a:cubicBezTo>
                  <a:pt x="842" y="1058"/>
                  <a:pt x="851" y="1046"/>
                  <a:pt x="859" y="1033"/>
                </a:cubicBezTo>
                <a:cubicBezTo>
                  <a:pt x="882" y="997"/>
                  <a:pt x="873" y="974"/>
                  <a:pt x="914" y="960"/>
                </a:cubicBezTo>
                <a:cubicBezTo>
                  <a:pt x="936" y="917"/>
                  <a:pt x="951" y="873"/>
                  <a:pt x="978" y="832"/>
                </a:cubicBezTo>
                <a:cubicBezTo>
                  <a:pt x="999" y="746"/>
                  <a:pt x="1001" y="667"/>
                  <a:pt x="1006" y="576"/>
                </a:cubicBezTo>
                <a:cubicBezTo>
                  <a:pt x="1003" y="549"/>
                  <a:pt x="1003" y="521"/>
                  <a:pt x="997" y="494"/>
                </a:cubicBezTo>
                <a:cubicBezTo>
                  <a:pt x="988" y="456"/>
                  <a:pt x="973" y="457"/>
                  <a:pt x="951" y="430"/>
                </a:cubicBezTo>
                <a:cubicBezTo>
                  <a:pt x="929" y="403"/>
                  <a:pt x="920" y="372"/>
                  <a:pt x="896" y="347"/>
                </a:cubicBezTo>
                <a:cubicBezTo>
                  <a:pt x="887" y="310"/>
                  <a:pt x="878" y="283"/>
                  <a:pt x="850" y="256"/>
                </a:cubicBezTo>
                <a:cubicBezTo>
                  <a:pt x="824" y="151"/>
                  <a:pt x="864" y="275"/>
                  <a:pt x="814" y="201"/>
                </a:cubicBezTo>
                <a:cubicBezTo>
                  <a:pt x="807" y="191"/>
                  <a:pt x="810" y="176"/>
                  <a:pt x="805" y="165"/>
                </a:cubicBezTo>
                <a:cubicBezTo>
                  <a:pt x="788" y="126"/>
                  <a:pt x="755" y="122"/>
                  <a:pt x="722" y="101"/>
                </a:cubicBezTo>
                <a:cubicBezTo>
                  <a:pt x="709" y="93"/>
                  <a:pt x="697" y="84"/>
                  <a:pt x="686" y="73"/>
                </a:cubicBezTo>
                <a:cubicBezTo>
                  <a:pt x="678" y="65"/>
                  <a:pt x="676" y="52"/>
                  <a:pt x="667" y="46"/>
                </a:cubicBezTo>
                <a:cubicBezTo>
                  <a:pt x="633" y="24"/>
                  <a:pt x="512" y="15"/>
                  <a:pt x="466" y="0"/>
                </a:cubicBezTo>
                <a:cubicBezTo>
                  <a:pt x="452" y="2"/>
                  <a:pt x="377" y="11"/>
                  <a:pt x="357" y="18"/>
                </a:cubicBezTo>
                <a:cubicBezTo>
                  <a:pt x="323" y="29"/>
                  <a:pt x="321" y="39"/>
                  <a:pt x="293" y="55"/>
                </a:cubicBezTo>
                <a:cubicBezTo>
                  <a:pt x="252" y="78"/>
                  <a:pt x="220" y="83"/>
                  <a:pt x="174" y="91"/>
                </a:cubicBezTo>
                <a:cubicBezTo>
                  <a:pt x="107" y="115"/>
                  <a:pt x="108" y="68"/>
                  <a:pt x="64" y="46"/>
                </a:cubicBezTo>
                <a:cubicBezTo>
                  <a:pt x="50" y="39"/>
                  <a:pt x="33" y="41"/>
                  <a:pt x="18" y="37"/>
                </a:cubicBezTo>
                <a:cubicBezTo>
                  <a:pt x="11" y="35"/>
                  <a:pt x="6" y="30"/>
                  <a:pt x="0" y="27"/>
                </a:cubicBezTo>
              </a:path>
            </a:pathLst>
          </a:custGeom>
          <a:noFill/>
          <a:ln w="3168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628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633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638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643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648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15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654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659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6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500" autoRev="1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98" dur="500" autoRev="1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99" dur="500" autoRev="1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"/>
                            </p:stCondLst>
                            <p:childTnLst>
                              <p:par>
                                <p:cTn id="80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>
            <a:hlinkClick r:id="rId2" action="ppaction://hlinksldjump"/>
          </p:cNvPr>
          <p:cNvSpPr/>
          <p:nvPr/>
        </p:nvSpPr>
        <p:spPr>
          <a:xfrm>
            <a:off x="3636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11600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>
            <a:hlinkClick r:id="rId3" action="ppaction://hlinksldjump"/>
          </p:cNvPr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09308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>
            <a:hlinkClick r:id="rId4" action="ppaction://hlinksldjump"/>
          </p:cNvPr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>
            <a:hlinkClick r:id="rId5" action="ppaction://hlinksldjump"/>
          </p:cNvPr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>
            <a:hlinkClick r:id="rId6" action="ppaction://hlinksldjump"/>
          </p:cNvPr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>
            <a:hlinkClick r:id="rId7" action="ppaction://hlinksldjump"/>
          </p:cNvPr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>
            <a:hlinkClick r:id="rId8" action="ppaction://hlinksldjump"/>
          </p:cNvPr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>
            <a:hlinkClick r:id="rId9" action="ppaction://hlinksldjump"/>
          </p:cNvPr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>
            <a:hlinkClick r:id="rId10" action="ppaction://hlinksldjump"/>
          </p:cNvPr>
          <p:cNvSpPr/>
          <p:nvPr/>
        </p:nvSpPr>
        <p:spPr>
          <a:xfrm>
            <a:off x="2700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706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708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>
            <a:hlinkClick r:id="rId11" action="ppaction://hlinksldjump"/>
          </p:cNvPr>
          <p:cNvSpPr/>
          <p:nvPr/>
        </p:nvSpPr>
        <p:spPr>
          <a:xfrm>
            <a:off x="3780000" y="2205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35600" y="2214720"/>
            <a:ext cx="3846240" cy="3187440"/>
          </a:xfrm>
          <a:custGeom>
            <a:avLst/>
            <a:gdLst/>
            <a:ahLst/>
            <a:rect l="l" t="t" r="r" b="b"/>
            <a:pathLst>
              <a:path w="2423" h="2008">
                <a:moveTo>
                  <a:pt x="2423" y="1970"/>
                </a:moveTo>
                <a:cubicBezTo>
                  <a:pt x="2408" y="1973"/>
                  <a:pt x="2391" y="1971"/>
                  <a:pt x="2377" y="1979"/>
                </a:cubicBezTo>
                <a:cubicBezTo>
                  <a:pt x="2368" y="1984"/>
                  <a:pt x="2370" y="2005"/>
                  <a:pt x="2359" y="2006"/>
                </a:cubicBezTo>
                <a:cubicBezTo>
                  <a:pt x="2340" y="2008"/>
                  <a:pt x="2322" y="1994"/>
                  <a:pt x="2304" y="1988"/>
                </a:cubicBezTo>
                <a:cubicBezTo>
                  <a:pt x="2250" y="1969"/>
                  <a:pt x="2199" y="1940"/>
                  <a:pt x="2148" y="1915"/>
                </a:cubicBezTo>
                <a:cubicBezTo>
                  <a:pt x="2123" y="1836"/>
                  <a:pt x="2058" y="1755"/>
                  <a:pt x="1984" y="1714"/>
                </a:cubicBezTo>
                <a:cubicBezTo>
                  <a:pt x="1896" y="1665"/>
                  <a:pt x="1621" y="1678"/>
                  <a:pt x="1591" y="1677"/>
                </a:cubicBezTo>
                <a:cubicBezTo>
                  <a:pt x="1460" y="1656"/>
                  <a:pt x="1329" y="1653"/>
                  <a:pt x="1197" y="1640"/>
                </a:cubicBezTo>
                <a:cubicBezTo>
                  <a:pt x="1164" y="1629"/>
                  <a:pt x="1135" y="1615"/>
                  <a:pt x="1106" y="1595"/>
                </a:cubicBezTo>
                <a:cubicBezTo>
                  <a:pt x="1065" y="1531"/>
                  <a:pt x="1118" y="1599"/>
                  <a:pt x="1051" y="1558"/>
                </a:cubicBezTo>
                <a:cubicBezTo>
                  <a:pt x="1018" y="1537"/>
                  <a:pt x="995" y="1493"/>
                  <a:pt x="960" y="1467"/>
                </a:cubicBezTo>
                <a:cubicBezTo>
                  <a:pt x="957" y="1458"/>
                  <a:pt x="956" y="1447"/>
                  <a:pt x="951" y="1439"/>
                </a:cubicBezTo>
                <a:cubicBezTo>
                  <a:pt x="944" y="1428"/>
                  <a:pt x="929" y="1424"/>
                  <a:pt x="923" y="1412"/>
                </a:cubicBezTo>
                <a:cubicBezTo>
                  <a:pt x="916" y="1398"/>
                  <a:pt x="919" y="1381"/>
                  <a:pt x="914" y="1366"/>
                </a:cubicBezTo>
                <a:cubicBezTo>
                  <a:pt x="910" y="1353"/>
                  <a:pt x="902" y="1342"/>
                  <a:pt x="896" y="1330"/>
                </a:cubicBezTo>
                <a:cubicBezTo>
                  <a:pt x="885" y="1271"/>
                  <a:pt x="870" y="1228"/>
                  <a:pt x="823" y="1192"/>
                </a:cubicBezTo>
                <a:cubicBezTo>
                  <a:pt x="811" y="1138"/>
                  <a:pt x="808" y="1126"/>
                  <a:pt x="759" y="1101"/>
                </a:cubicBezTo>
                <a:cubicBezTo>
                  <a:pt x="757" y="1096"/>
                  <a:pt x="734" y="1020"/>
                  <a:pt x="722" y="1010"/>
                </a:cubicBezTo>
                <a:cubicBezTo>
                  <a:pt x="702" y="993"/>
                  <a:pt x="640" y="973"/>
                  <a:pt x="612" y="955"/>
                </a:cubicBezTo>
                <a:cubicBezTo>
                  <a:pt x="592" y="914"/>
                  <a:pt x="582" y="905"/>
                  <a:pt x="539" y="891"/>
                </a:cubicBezTo>
                <a:cubicBezTo>
                  <a:pt x="530" y="879"/>
                  <a:pt x="524" y="864"/>
                  <a:pt x="512" y="854"/>
                </a:cubicBezTo>
                <a:cubicBezTo>
                  <a:pt x="454" y="805"/>
                  <a:pt x="513" y="904"/>
                  <a:pt x="466" y="808"/>
                </a:cubicBezTo>
                <a:cubicBezTo>
                  <a:pt x="463" y="793"/>
                  <a:pt x="463" y="777"/>
                  <a:pt x="457" y="763"/>
                </a:cubicBezTo>
                <a:cubicBezTo>
                  <a:pt x="448" y="743"/>
                  <a:pt x="420" y="708"/>
                  <a:pt x="420" y="708"/>
                </a:cubicBezTo>
                <a:cubicBezTo>
                  <a:pt x="398" y="616"/>
                  <a:pt x="430" y="729"/>
                  <a:pt x="384" y="635"/>
                </a:cubicBezTo>
                <a:cubicBezTo>
                  <a:pt x="345" y="556"/>
                  <a:pt x="419" y="641"/>
                  <a:pt x="338" y="562"/>
                </a:cubicBezTo>
                <a:cubicBezTo>
                  <a:pt x="328" y="498"/>
                  <a:pt x="319" y="451"/>
                  <a:pt x="283" y="397"/>
                </a:cubicBezTo>
                <a:cubicBezTo>
                  <a:pt x="265" y="323"/>
                  <a:pt x="267" y="258"/>
                  <a:pt x="219" y="196"/>
                </a:cubicBezTo>
                <a:cubicBezTo>
                  <a:pt x="217" y="187"/>
                  <a:pt x="200" y="91"/>
                  <a:pt x="192" y="86"/>
                </a:cubicBezTo>
                <a:cubicBezTo>
                  <a:pt x="170" y="72"/>
                  <a:pt x="143" y="68"/>
                  <a:pt x="119" y="59"/>
                </a:cubicBezTo>
                <a:cubicBezTo>
                  <a:pt x="41" y="0"/>
                  <a:pt x="128" y="50"/>
                  <a:pt x="27" y="50"/>
                </a:cubicBezTo>
                <a:cubicBezTo>
                  <a:pt x="16" y="50"/>
                  <a:pt x="0" y="31"/>
                  <a:pt x="0" y="31"/>
                </a:cubicBezTo>
              </a:path>
            </a:pathLst>
          </a:custGeom>
          <a:noFill/>
          <a:ln w="3492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727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732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737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742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747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753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758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3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500" autoRev="1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820" dur="500" autoRev="1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21" dur="500" autoRev="1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3492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>
            <a:hlinkClick r:id="rId4" action="ppaction://hlinksldjump"/>
          </p:cNvPr>
          <p:cNvSpPr/>
          <p:nvPr/>
        </p:nvSpPr>
        <p:spPr>
          <a:xfrm>
            <a:off x="82692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3528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203640" y="609300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>
            <a:hlinkClick r:id="rId5" action="ppaction://hlinksldjump"/>
          </p:cNvPr>
          <p:cNvSpPr/>
          <p:nvPr/>
        </p:nvSpPr>
        <p:spPr>
          <a:xfrm>
            <a:off x="5364000" y="6093000"/>
            <a:ext cx="1440000" cy="43164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18" h="21600">
                <a:moveTo>
                  <a:pt x="0" y="0"/>
                </a:moveTo>
                <a:lnTo>
                  <a:pt x="72018" y="0"/>
                </a:lnTo>
                <a:lnTo>
                  <a:pt x="72018" y="21600"/>
                </a:lnTo>
                <a:lnTo>
                  <a:pt x="0" y="21600"/>
                </a:lnTo>
                <a:close/>
              </a:path>
              <a:path fill="lightenLess" w="72018" h="21600">
                <a:moveTo>
                  <a:pt x="0" y="0"/>
                </a:moveTo>
                <a:lnTo>
                  <a:pt x="72018" y="0"/>
                </a:lnTo>
                <a:lnTo>
                  <a:pt x="70618" y="1400"/>
                </a:lnTo>
                <a:lnTo>
                  <a:pt x="1400" y="1400"/>
                </a:lnTo>
                <a:close/>
              </a:path>
              <a:path fill="darken" w="72018" h="21600">
                <a:moveTo>
                  <a:pt x="72018" y="0"/>
                </a:moveTo>
                <a:lnTo>
                  <a:pt x="72018" y="21600"/>
                </a:lnTo>
                <a:lnTo>
                  <a:pt x="70618" y="20200"/>
                </a:lnTo>
                <a:lnTo>
                  <a:pt x="70618" y="1400"/>
                </a:lnTo>
                <a:close/>
              </a:path>
              <a:path fill="darkenLess" w="72018" h="21600">
                <a:moveTo>
                  <a:pt x="7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18" y="20200"/>
                </a:lnTo>
                <a:close/>
              </a:path>
              <a:path fill="lighten" w="7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04000" y="6093000"/>
            <a:ext cx="1440000" cy="43164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18" h="21600">
                <a:moveTo>
                  <a:pt x="0" y="0"/>
                </a:moveTo>
                <a:lnTo>
                  <a:pt x="72018" y="0"/>
                </a:lnTo>
                <a:lnTo>
                  <a:pt x="72018" y="21600"/>
                </a:lnTo>
                <a:lnTo>
                  <a:pt x="0" y="21600"/>
                </a:lnTo>
                <a:close/>
              </a:path>
              <a:path fill="lightenLess" w="72018" h="21600">
                <a:moveTo>
                  <a:pt x="0" y="0"/>
                </a:moveTo>
                <a:lnTo>
                  <a:pt x="72018" y="0"/>
                </a:lnTo>
                <a:lnTo>
                  <a:pt x="70618" y="1400"/>
                </a:lnTo>
                <a:lnTo>
                  <a:pt x="1400" y="1400"/>
                </a:lnTo>
                <a:close/>
              </a:path>
              <a:path fill="darken" w="72018" h="21600">
                <a:moveTo>
                  <a:pt x="72018" y="0"/>
                </a:moveTo>
                <a:lnTo>
                  <a:pt x="72018" y="21600"/>
                </a:lnTo>
                <a:lnTo>
                  <a:pt x="70618" y="20200"/>
                </a:lnTo>
                <a:lnTo>
                  <a:pt x="70618" y="1400"/>
                </a:lnTo>
                <a:close/>
              </a:path>
              <a:path fill="darkenLess" w="72018" h="21600">
                <a:moveTo>
                  <a:pt x="7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18" y="20200"/>
                </a:lnTo>
                <a:close/>
              </a:path>
              <a:path fill="lighten" w="7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>
            <a:hlinkClick r:id="rId6" action="ppaction://hlinksldjump"/>
          </p:cNvPr>
          <p:cNvSpPr/>
          <p:nvPr/>
        </p:nvSpPr>
        <p:spPr>
          <a:xfrm>
            <a:off x="3348000" y="3860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>
            <a:hlinkClick r:id="rId7" action="ppaction://hlinksldjump"/>
          </p:cNvPr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11280" y="335772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804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806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414036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194000" y="3962520"/>
            <a:ext cx="3702240" cy="1407960"/>
          </a:xfrm>
          <a:custGeom>
            <a:avLst/>
            <a:gdLst/>
            <a:ahLst/>
            <a:rect l="l" t="t" r="r" b="b"/>
            <a:pathLst>
              <a:path w="2332" h="887">
                <a:moveTo>
                  <a:pt x="2332" y="887"/>
                </a:moveTo>
                <a:cubicBezTo>
                  <a:pt x="2270" y="875"/>
                  <a:pt x="2218" y="843"/>
                  <a:pt x="2158" y="823"/>
                </a:cubicBezTo>
                <a:cubicBezTo>
                  <a:pt x="2120" y="798"/>
                  <a:pt x="2093" y="786"/>
                  <a:pt x="2048" y="777"/>
                </a:cubicBezTo>
                <a:cubicBezTo>
                  <a:pt x="2045" y="768"/>
                  <a:pt x="2048" y="753"/>
                  <a:pt x="2039" y="750"/>
                </a:cubicBezTo>
                <a:cubicBezTo>
                  <a:pt x="1974" y="730"/>
                  <a:pt x="1838" y="713"/>
                  <a:pt x="1838" y="713"/>
                </a:cubicBezTo>
                <a:cubicBezTo>
                  <a:pt x="1723" y="657"/>
                  <a:pt x="1570" y="691"/>
                  <a:pt x="1454" y="695"/>
                </a:cubicBezTo>
                <a:cubicBezTo>
                  <a:pt x="1429" y="703"/>
                  <a:pt x="1407" y="725"/>
                  <a:pt x="1381" y="722"/>
                </a:cubicBezTo>
                <a:cubicBezTo>
                  <a:pt x="1363" y="720"/>
                  <a:pt x="1352" y="701"/>
                  <a:pt x="1335" y="695"/>
                </a:cubicBezTo>
                <a:cubicBezTo>
                  <a:pt x="1320" y="689"/>
                  <a:pt x="1304" y="689"/>
                  <a:pt x="1289" y="686"/>
                </a:cubicBezTo>
                <a:cubicBezTo>
                  <a:pt x="1249" y="624"/>
                  <a:pt x="1253" y="587"/>
                  <a:pt x="1171" y="567"/>
                </a:cubicBezTo>
                <a:cubicBezTo>
                  <a:pt x="1138" y="535"/>
                  <a:pt x="1099" y="542"/>
                  <a:pt x="1061" y="521"/>
                </a:cubicBezTo>
                <a:cubicBezTo>
                  <a:pt x="1010" y="493"/>
                  <a:pt x="978" y="466"/>
                  <a:pt x="924" y="448"/>
                </a:cubicBezTo>
                <a:cubicBezTo>
                  <a:pt x="918" y="436"/>
                  <a:pt x="917" y="418"/>
                  <a:pt x="905" y="411"/>
                </a:cubicBezTo>
                <a:cubicBezTo>
                  <a:pt x="886" y="401"/>
                  <a:pt x="862" y="406"/>
                  <a:pt x="841" y="402"/>
                </a:cubicBezTo>
                <a:cubicBezTo>
                  <a:pt x="811" y="396"/>
                  <a:pt x="788" y="375"/>
                  <a:pt x="759" y="366"/>
                </a:cubicBezTo>
                <a:cubicBezTo>
                  <a:pt x="715" y="320"/>
                  <a:pt x="670" y="284"/>
                  <a:pt x="613" y="256"/>
                </a:cubicBezTo>
                <a:cubicBezTo>
                  <a:pt x="610" y="247"/>
                  <a:pt x="613" y="232"/>
                  <a:pt x="604" y="229"/>
                </a:cubicBezTo>
                <a:cubicBezTo>
                  <a:pt x="563" y="215"/>
                  <a:pt x="476" y="210"/>
                  <a:pt x="476" y="210"/>
                </a:cubicBezTo>
                <a:cubicBezTo>
                  <a:pt x="450" y="176"/>
                  <a:pt x="418" y="154"/>
                  <a:pt x="393" y="119"/>
                </a:cubicBezTo>
                <a:cubicBezTo>
                  <a:pt x="378" y="71"/>
                  <a:pt x="356" y="75"/>
                  <a:pt x="311" y="64"/>
                </a:cubicBezTo>
                <a:cubicBezTo>
                  <a:pt x="247" y="27"/>
                  <a:pt x="201" y="12"/>
                  <a:pt x="128" y="0"/>
                </a:cubicBezTo>
                <a:cubicBezTo>
                  <a:pt x="85" y="3"/>
                  <a:pt x="0" y="9"/>
                  <a:pt x="0" y="9"/>
                </a:cubicBezTo>
              </a:path>
            </a:pathLst>
          </a:custGeom>
          <a:noFill/>
          <a:ln w="3492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823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828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833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838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843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849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854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9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840" dur="50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41" dur="500" autoRev="1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>
            <a:hlinkClick r:id="rId2" action="ppaction://hlinksldjump"/>
          </p:cNvPr>
          <p:cNvSpPr/>
          <p:nvPr/>
        </p:nvSpPr>
        <p:spPr>
          <a:xfrm>
            <a:off x="3492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>
            <a:hlinkClick r:id="rId3" action="ppaction://hlinksldjump"/>
          </p:cNvPr>
          <p:cNvSpPr/>
          <p:nvPr/>
        </p:nvSpPr>
        <p:spPr>
          <a:xfrm>
            <a:off x="111600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>
            <a:hlinkClick r:id="rId4" action="ppaction://hlinksldjump"/>
          </p:cNvPr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>
            <a:hlinkClick r:id="rId5" action="ppaction://hlinksldjump"/>
          </p:cNvPr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>
            <a:hlinkClick r:id="rId6" action="ppaction://hlinksldjump"/>
          </p:cNvPr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9308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>
            <a:hlinkClick r:id="rId7" action="ppaction://hlinksldjump"/>
          </p:cNvPr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>
            <a:hlinkClick r:id="rId8" action="ppaction://hlinksldjump"/>
          </p:cNvPr>
          <p:cNvSpPr/>
          <p:nvPr/>
        </p:nvSpPr>
        <p:spPr>
          <a:xfrm>
            <a:off x="2484360" y="335772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901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903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5" name=""/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208320" y="3276720"/>
            <a:ext cx="4673520" cy="2143080"/>
          </a:xfrm>
          <a:custGeom>
            <a:avLst/>
            <a:gdLst/>
            <a:ahLst/>
            <a:rect l="l" t="t" r="r" b="b"/>
            <a:pathLst>
              <a:path w="2944" h="1350">
                <a:moveTo>
                  <a:pt x="2944" y="1328"/>
                </a:moveTo>
                <a:cubicBezTo>
                  <a:pt x="2929" y="1331"/>
                  <a:pt x="2913" y="1334"/>
                  <a:pt x="2898" y="1337"/>
                </a:cubicBezTo>
                <a:cubicBezTo>
                  <a:pt x="2886" y="1340"/>
                  <a:pt x="2873" y="1350"/>
                  <a:pt x="2861" y="1346"/>
                </a:cubicBezTo>
                <a:cubicBezTo>
                  <a:pt x="2845" y="1340"/>
                  <a:pt x="2838" y="1321"/>
                  <a:pt x="2825" y="1310"/>
                </a:cubicBezTo>
                <a:cubicBezTo>
                  <a:pt x="2784" y="1275"/>
                  <a:pt x="2808" y="1309"/>
                  <a:pt x="2770" y="1264"/>
                </a:cubicBezTo>
                <a:cubicBezTo>
                  <a:pt x="2736" y="1223"/>
                  <a:pt x="2733" y="1172"/>
                  <a:pt x="2678" y="1154"/>
                </a:cubicBezTo>
                <a:cubicBezTo>
                  <a:pt x="2669" y="1142"/>
                  <a:pt x="2664" y="1126"/>
                  <a:pt x="2651" y="1118"/>
                </a:cubicBezTo>
                <a:cubicBezTo>
                  <a:pt x="2625" y="1102"/>
                  <a:pt x="2480" y="1091"/>
                  <a:pt x="2468" y="1090"/>
                </a:cubicBezTo>
                <a:cubicBezTo>
                  <a:pt x="2366" y="1056"/>
                  <a:pt x="2254" y="1035"/>
                  <a:pt x="2148" y="1026"/>
                </a:cubicBezTo>
                <a:cubicBezTo>
                  <a:pt x="2141" y="1024"/>
                  <a:pt x="2093" y="1013"/>
                  <a:pt x="2084" y="1008"/>
                </a:cubicBezTo>
                <a:cubicBezTo>
                  <a:pt x="2029" y="977"/>
                  <a:pt x="2069" y="984"/>
                  <a:pt x="2011" y="962"/>
                </a:cubicBezTo>
                <a:cubicBezTo>
                  <a:pt x="1998" y="957"/>
                  <a:pt x="1939" y="946"/>
                  <a:pt x="1929" y="944"/>
                </a:cubicBezTo>
                <a:cubicBezTo>
                  <a:pt x="1892" y="926"/>
                  <a:pt x="1868" y="908"/>
                  <a:pt x="1828" y="898"/>
                </a:cubicBezTo>
                <a:cubicBezTo>
                  <a:pt x="1799" y="878"/>
                  <a:pt x="1766" y="873"/>
                  <a:pt x="1737" y="853"/>
                </a:cubicBezTo>
                <a:cubicBezTo>
                  <a:pt x="1730" y="848"/>
                  <a:pt x="1726" y="839"/>
                  <a:pt x="1718" y="834"/>
                </a:cubicBezTo>
                <a:cubicBezTo>
                  <a:pt x="1698" y="822"/>
                  <a:pt x="1675" y="817"/>
                  <a:pt x="1654" y="807"/>
                </a:cubicBezTo>
                <a:cubicBezTo>
                  <a:pt x="1583" y="736"/>
                  <a:pt x="1619" y="753"/>
                  <a:pt x="1563" y="734"/>
                </a:cubicBezTo>
                <a:cubicBezTo>
                  <a:pt x="1535" y="648"/>
                  <a:pt x="1511" y="665"/>
                  <a:pt x="1462" y="606"/>
                </a:cubicBezTo>
                <a:cubicBezTo>
                  <a:pt x="1432" y="570"/>
                  <a:pt x="1419" y="554"/>
                  <a:pt x="1371" y="542"/>
                </a:cubicBezTo>
                <a:cubicBezTo>
                  <a:pt x="1330" y="499"/>
                  <a:pt x="1379" y="544"/>
                  <a:pt x="1325" y="514"/>
                </a:cubicBezTo>
                <a:cubicBezTo>
                  <a:pt x="1312" y="507"/>
                  <a:pt x="1302" y="494"/>
                  <a:pt x="1289" y="487"/>
                </a:cubicBezTo>
                <a:cubicBezTo>
                  <a:pt x="1239" y="459"/>
                  <a:pt x="1179" y="445"/>
                  <a:pt x="1124" y="432"/>
                </a:cubicBezTo>
                <a:cubicBezTo>
                  <a:pt x="1086" y="406"/>
                  <a:pt x="1043" y="393"/>
                  <a:pt x="1005" y="368"/>
                </a:cubicBezTo>
                <a:cubicBezTo>
                  <a:pt x="1002" y="359"/>
                  <a:pt x="1004" y="346"/>
                  <a:pt x="996" y="341"/>
                </a:cubicBezTo>
                <a:cubicBezTo>
                  <a:pt x="983" y="332"/>
                  <a:pt x="965" y="337"/>
                  <a:pt x="950" y="331"/>
                </a:cubicBezTo>
                <a:cubicBezTo>
                  <a:pt x="940" y="327"/>
                  <a:pt x="933" y="316"/>
                  <a:pt x="923" y="313"/>
                </a:cubicBezTo>
                <a:cubicBezTo>
                  <a:pt x="902" y="307"/>
                  <a:pt x="880" y="307"/>
                  <a:pt x="859" y="304"/>
                </a:cubicBezTo>
                <a:cubicBezTo>
                  <a:pt x="804" y="249"/>
                  <a:pt x="834" y="263"/>
                  <a:pt x="777" y="249"/>
                </a:cubicBezTo>
                <a:cubicBezTo>
                  <a:pt x="705" y="180"/>
                  <a:pt x="800" y="262"/>
                  <a:pt x="704" y="213"/>
                </a:cubicBezTo>
                <a:cubicBezTo>
                  <a:pt x="692" y="207"/>
                  <a:pt x="687" y="193"/>
                  <a:pt x="676" y="185"/>
                </a:cubicBezTo>
                <a:cubicBezTo>
                  <a:pt x="610" y="136"/>
                  <a:pt x="529" y="82"/>
                  <a:pt x="448" y="66"/>
                </a:cubicBezTo>
                <a:cubicBezTo>
                  <a:pt x="345" y="0"/>
                  <a:pt x="185" y="39"/>
                  <a:pt x="54" y="11"/>
                </a:cubicBezTo>
                <a:cubicBezTo>
                  <a:pt x="12" y="23"/>
                  <a:pt x="29" y="15"/>
                  <a:pt x="0" y="30"/>
                </a:cubicBezTo>
              </a:path>
            </a:pathLst>
          </a:custGeom>
          <a:noFill/>
          <a:ln w="3492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920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925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930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935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940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946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951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Щелкните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0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autoRev="1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859" dur="500" autoRev="1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60" dur="500" autoRev="1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>
            <a:hlinkClick r:id="rId2" action="ppaction://hlinksldjump"/>
          </p:cNvPr>
          <p:cNvSpPr/>
          <p:nvPr/>
        </p:nvSpPr>
        <p:spPr>
          <a:xfrm>
            <a:off x="3636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>
            <a:hlinkClick r:id="rId3" action="ppaction://hlinksldjump"/>
          </p:cNvPr>
          <p:cNvSpPr/>
          <p:nvPr/>
        </p:nvSpPr>
        <p:spPr>
          <a:xfrm>
            <a:off x="1114560" y="6093000"/>
            <a:ext cx="1009440" cy="431640"/>
          </a:xfrm>
          <a:custGeom>
            <a:avLst/>
            <a:gdLst>
              <a:gd name="textAreaLeft" fmla="*/ 27720 w 1009440"/>
              <a:gd name="textAreaRight" fmla="*/ 981720 w 1009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90" h="21600">
                <a:moveTo>
                  <a:pt x="0" y="0"/>
                </a:moveTo>
                <a:lnTo>
                  <a:pt x="50490" y="0"/>
                </a:lnTo>
                <a:lnTo>
                  <a:pt x="50490" y="21600"/>
                </a:lnTo>
                <a:lnTo>
                  <a:pt x="0" y="21600"/>
                </a:lnTo>
                <a:close/>
              </a:path>
              <a:path fill="lightenLess" w="50490" h="21600">
                <a:moveTo>
                  <a:pt x="0" y="0"/>
                </a:moveTo>
                <a:lnTo>
                  <a:pt x="50490" y="0"/>
                </a:lnTo>
                <a:lnTo>
                  <a:pt x="49090" y="1400"/>
                </a:lnTo>
                <a:lnTo>
                  <a:pt x="1400" y="1400"/>
                </a:lnTo>
                <a:close/>
              </a:path>
              <a:path fill="darken" w="50490" h="21600">
                <a:moveTo>
                  <a:pt x="50490" y="0"/>
                </a:moveTo>
                <a:lnTo>
                  <a:pt x="50490" y="21600"/>
                </a:lnTo>
                <a:lnTo>
                  <a:pt x="49090" y="20200"/>
                </a:lnTo>
                <a:lnTo>
                  <a:pt x="49090" y="1400"/>
                </a:lnTo>
                <a:close/>
              </a:path>
              <a:path fill="darkenLess" w="50490" h="21600">
                <a:moveTo>
                  <a:pt x="50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90" y="20200"/>
                </a:lnTo>
                <a:close/>
              </a:path>
              <a:path fill="lighten" w="50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>
            <a:hlinkClick r:id="rId4" action="ppaction://hlinksldjump"/>
          </p:cNvPr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>
            <a:hlinkClick r:id="rId5" action="ppaction://hlinksldjump"/>
          </p:cNvPr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>
            <a:hlinkClick r:id="rId6" action="ppaction://hlinksldjump"/>
          </p:cNvPr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09308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>
            <a:hlinkClick r:id="rId7" action="ppaction://hlinksldjump"/>
          </p:cNvPr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>
            <a:hlinkClick r:id="rId8" action="ppaction://hlinksldjump"/>
          </p:cNvPr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>
            <a:hlinkClick r:id="rId9" action="ppaction://hlinksldjump"/>
          </p:cNvPr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>
            <a:hlinkClick r:id="rId10" action="ppaction://hlinksldjump"/>
          </p:cNvPr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>
            <a:hlinkClick r:id="rId11" action="ppaction://hlinksldjump"/>
          </p:cNvPr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>
            <a:hlinkClick r:id="rId12" action="ppaction://hlinksldjump"/>
          </p:cNvPr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998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1000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2" name=""/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>
            <a:hlinkClick r:id="rId13" action="ppaction://hlinksldjump"/>
          </p:cNvPr>
          <p:cNvSpPr/>
          <p:nvPr/>
        </p:nvSpPr>
        <p:spPr>
          <a:xfrm>
            <a:off x="2124000" y="472428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95440" y="4782960"/>
            <a:ext cx="5486400" cy="716040"/>
          </a:xfrm>
          <a:custGeom>
            <a:avLst/>
            <a:gdLst/>
            <a:ahLst/>
            <a:rect l="l" t="t" r="r" b="b"/>
            <a:pathLst>
              <a:path w="3456" h="451">
                <a:moveTo>
                  <a:pt x="3456" y="342"/>
                </a:moveTo>
                <a:cubicBezTo>
                  <a:pt x="3411" y="387"/>
                  <a:pt x="3393" y="379"/>
                  <a:pt x="3328" y="370"/>
                </a:cubicBezTo>
                <a:cubicBezTo>
                  <a:pt x="3267" y="312"/>
                  <a:pt x="3356" y="392"/>
                  <a:pt x="3282" y="342"/>
                </a:cubicBezTo>
                <a:cubicBezTo>
                  <a:pt x="3217" y="298"/>
                  <a:pt x="3288" y="326"/>
                  <a:pt x="3227" y="306"/>
                </a:cubicBezTo>
                <a:cubicBezTo>
                  <a:pt x="3211" y="258"/>
                  <a:pt x="3231" y="291"/>
                  <a:pt x="3181" y="269"/>
                </a:cubicBezTo>
                <a:cubicBezTo>
                  <a:pt x="3165" y="262"/>
                  <a:pt x="3151" y="251"/>
                  <a:pt x="3136" y="242"/>
                </a:cubicBezTo>
                <a:cubicBezTo>
                  <a:pt x="3127" y="230"/>
                  <a:pt x="3120" y="215"/>
                  <a:pt x="3108" y="205"/>
                </a:cubicBezTo>
                <a:cubicBezTo>
                  <a:pt x="3101" y="199"/>
                  <a:pt x="3088" y="202"/>
                  <a:pt x="3081" y="196"/>
                </a:cubicBezTo>
                <a:cubicBezTo>
                  <a:pt x="3018" y="147"/>
                  <a:pt x="3134" y="179"/>
                  <a:pt x="2998" y="160"/>
                </a:cubicBezTo>
                <a:cubicBezTo>
                  <a:pt x="2927" y="104"/>
                  <a:pt x="2840" y="104"/>
                  <a:pt x="2752" y="96"/>
                </a:cubicBezTo>
                <a:cubicBezTo>
                  <a:pt x="2640" y="76"/>
                  <a:pt x="2523" y="105"/>
                  <a:pt x="2413" y="132"/>
                </a:cubicBezTo>
                <a:cubicBezTo>
                  <a:pt x="2375" y="158"/>
                  <a:pt x="2330" y="167"/>
                  <a:pt x="2285" y="178"/>
                </a:cubicBezTo>
                <a:cubicBezTo>
                  <a:pt x="2215" y="231"/>
                  <a:pt x="2142" y="248"/>
                  <a:pt x="2057" y="260"/>
                </a:cubicBezTo>
                <a:cubicBezTo>
                  <a:pt x="1912" y="370"/>
                  <a:pt x="1392" y="315"/>
                  <a:pt x="1371" y="315"/>
                </a:cubicBezTo>
                <a:cubicBezTo>
                  <a:pt x="1329" y="323"/>
                  <a:pt x="1324" y="320"/>
                  <a:pt x="1289" y="342"/>
                </a:cubicBezTo>
                <a:cubicBezTo>
                  <a:pt x="1284" y="345"/>
                  <a:pt x="1200" y="406"/>
                  <a:pt x="1197" y="406"/>
                </a:cubicBezTo>
                <a:cubicBezTo>
                  <a:pt x="1054" y="415"/>
                  <a:pt x="911" y="413"/>
                  <a:pt x="768" y="416"/>
                </a:cubicBezTo>
                <a:cubicBezTo>
                  <a:pt x="626" y="439"/>
                  <a:pt x="751" y="451"/>
                  <a:pt x="530" y="425"/>
                </a:cubicBezTo>
                <a:cubicBezTo>
                  <a:pt x="489" y="404"/>
                  <a:pt x="456" y="397"/>
                  <a:pt x="411" y="388"/>
                </a:cubicBezTo>
                <a:cubicBezTo>
                  <a:pt x="399" y="382"/>
                  <a:pt x="384" y="380"/>
                  <a:pt x="374" y="370"/>
                </a:cubicBezTo>
                <a:cubicBezTo>
                  <a:pt x="367" y="363"/>
                  <a:pt x="373" y="348"/>
                  <a:pt x="365" y="342"/>
                </a:cubicBezTo>
                <a:cubicBezTo>
                  <a:pt x="352" y="333"/>
                  <a:pt x="335" y="336"/>
                  <a:pt x="320" y="333"/>
                </a:cubicBezTo>
                <a:cubicBezTo>
                  <a:pt x="286" y="284"/>
                  <a:pt x="285" y="319"/>
                  <a:pt x="256" y="260"/>
                </a:cubicBezTo>
                <a:cubicBezTo>
                  <a:pt x="230" y="124"/>
                  <a:pt x="256" y="199"/>
                  <a:pt x="210" y="114"/>
                </a:cubicBezTo>
                <a:cubicBezTo>
                  <a:pt x="203" y="102"/>
                  <a:pt x="203" y="86"/>
                  <a:pt x="192" y="77"/>
                </a:cubicBezTo>
                <a:cubicBezTo>
                  <a:pt x="182" y="69"/>
                  <a:pt x="167" y="71"/>
                  <a:pt x="155" y="68"/>
                </a:cubicBezTo>
                <a:cubicBezTo>
                  <a:pt x="146" y="62"/>
                  <a:pt x="138" y="54"/>
                  <a:pt x="128" y="50"/>
                </a:cubicBezTo>
                <a:cubicBezTo>
                  <a:pt x="116" y="45"/>
                  <a:pt x="102" y="47"/>
                  <a:pt x="91" y="41"/>
                </a:cubicBezTo>
                <a:cubicBezTo>
                  <a:pt x="85" y="38"/>
                  <a:pt x="62" y="6"/>
                  <a:pt x="54" y="4"/>
                </a:cubicBezTo>
                <a:cubicBezTo>
                  <a:pt x="37" y="0"/>
                  <a:pt x="18" y="4"/>
                  <a:pt x="0" y="4"/>
                </a:cubicBezTo>
              </a:path>
            </a:pathLst>
          </a:custGeom>
          <a:noFill/>
          <a:ln w="3492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1018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1023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1028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1033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1038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1044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1049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15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autoRev="1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880" dur="500" autoRev="1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81" dur="500" autoRev="1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>
            <a:hlinkClick r:id="rId2" action="ppaction://hlinksldjump"/>
          </p:cNvPr>
          <p:cNvSpPr/>
          <p:nvPr/>
        </p:nvSpPr>
        <p:spPr>
          <a:xfrm>
            <a:off x="3492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>
            <a:hlinkClick r:id="rId3" action="ppaction://hlinksldjump"/>
          </p:cNvPr>
          <p:cNvSpPr/>
          <p:nvPr/>
        </p:nvSpPr>
        <p:spPr>
          <a:xfrm>
            <a:off x="111600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>
            <a:hlinkClick r:id="rId4" action="ppaction://hlinksldjump"/>
          </p:cNvPr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>
            <a:hlinkClick r:id="rId5" action="ppaction://hlinksldjump"/>
          </p:cNvPr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>
            <a:hlinkClick r:id="rId6" action="ppaction://hlinksldjump"/>
          </p:cNvPr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09308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>
            <a:hlinkClick r:id="rId7" action="ppaction://hlinksldjump"/>
          </p:cNvPr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692360" y="2852640"/>
            <a:ext cx="576000" cy="576360"/>
          </a:xfrm>
          <a:prstGeom prst="donut">
            <a:avLst>
              <a:gd name="adj" fmla="val 994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79640" y="2925720"/>
            <a:ext cx="217440" cy="216000"/>
            <a:chOff x="1979640" y="2925720"/>
            <a:chExt cx="217440" cy="216000"/>
          </a:xfrm>
        </p:grpSpPr>
        <p:sp>
          <p:nvSpPr>
            <p:cNvPr id="1097" name=""/>
            <p:cNvSpPr/>
            <p:nvPr/>
          </p:nvSpPr>
          <p:spPr>
            <a:xfrm>
              <a:off x="1979640" y="3141720"/>
              <a:ext cx="217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979640" y="2925720"/>
              <a:ext cx="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9" name="">
            <a:hlinkClick r:id="rId8" action="ppaction://hlinksldjump"/>
          </p:cNvPr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379600" y="2903400"/>
            <a:ext cx="5457960" cy="2524320"/>
          </a:xfrm>
          <a:custGeom>
            <a:avLst/>
            <a:gdLst/>
            <a:ahLst/>
            <a:rect l="l" t="t" r="r" b="b"/>
            <a:pathLst>
              <a:path w="3438" h="1590">
                <a:moveTo>
                  <a:pt x="3438" y="1581"/>
                </a:moveTo>
                <a:cubicBezTo>
                  <a:pt x="3426" y="1578"/>
                  <a:pt x="3414" y="1570"/>
                  <a:pt x="3402" y="1572"/>
                </a:cubicBezTo>
                <a:cubicBezTo>
                  <a:pt x="3393" y="1573"/>
                  <a:pt x="3392" y="1590"/>
                  <a:pt x="3383" y="1590"/>
                </a:cubicBezTo>
                <a:cubicBezTo>
                  <a:pt x="3372" y="1590"/>
                  <a:pt x="3366" y="1576"/>
                  <a:pt x="3356" y="1572"/>
                </a:cubicBezTo>
                <a:cubicBezTo>
                  <a:pt x="3313" y="1554"/>
                  <a:pt x="3264" y="1543"/>
                  <a:pt x="3219" y="1536"/>
                </a:cubicBezTo>
                <a:cubicBezTo>
                  <a:pt x="3155" y="1513"/>
                  <a:pt x="3220" y="1545"/>
                  <a:pt x="3182" y="1499"/>
                </a:cubicBezTo>
                <a:cubicBezTo>
                  <a:pt x="3172" y="1487"/>
                  <a:pt x="3157" y="1482"/>
                  <a:pt x="3146" y="1472"/>
                </a:cubicBezTo>
                <a:cubicBezTo>
                  <a:pt x="3105" y="1436"/>
                  <a:pt x="3095" y="1417"/>
                  <a:pt x="3045" y="1398"/>
                </a:cubicBezTo>
                <a:cubicBezTo>
                  <a:pt x="2941" y="1297"/>
                  <a:pt x="2779" y="1305"/>
                  <a:pt x="2643" y="1289"/>
                </a:cubicBezTo>
                <a:cubicBezTo>
                  <a:pt x="2536" y="1254"/>
                  <a:pt x="2426" y="1249"/>
                  <a:pt x="2314" y="1243"/>
                </a:cubicBezTo>
                <a:cubicBezTo>
                  <a:pt x="2255" y="1233"/>
                  <a:pt x="2226" y="1207"/>
                  <a:pt x="2167" y="1197"/>
                </a:cubicBezTo>
                <a:cubicBezTo>
                  <a:pt x="2061" y="1162"/>
                  <a:pt x="1999" y="1071"/>
                  <a:pt x="1902" y="1024"/>
                </a:cubicBezTo>
                <a:cubicBezTo>
                  <a:pt x="1880" y="979"/>
                  <a:pt x="1846" y="940"/>
                  <a:pt x="1811" y="905"/>
                </a:cubicBezTo>
                <a:cubicBezTo>
                  <a:pt x="1805" y="890"/>
                  <a:pt x="1803" y="872"/>
                  <a:pt x="1792" y="859"/>
                </a:cubicBezTo>
                <a:cubicBezTo>
                  <a:pt x="1786" y="852"/>
                  <a:pt x="1771" y="857"/>
                  <a:pt x="1765" y="850"/>
                </a:cubicBezTo>
                <a:cubicBezTo>
                  <a:pt x="1757" y="840"/>
                  <a:pt x="1761" y="825"/>
                  <a:pt x="1756" y="813"/>
                </a:cubicBezTo>
                <a:cubicBezTo>
                  <a:pt x="1752" y="803"/>
                  <a:pt x="1745" y="794"/>
                  <a:pt x="1738" y="786"/>
                </a:cubicBezTo>
                <a:cubicBezTo>
                  <a:pt x="1705" y="746"/>
                  <a:pt x="1658" y="729"/>
                  <a:pt x="1610" y="713"/>
                </a:cubicBezTo>
                <a:cubicBezTo>
                  <a:pt x="1517" y="650"/>
                  <a:pt x="1653" y="738"/>
                  <a:pt x="1546" y="685"/>
                </a:cubicBezTo>
                <a:cubicBezTo>
                  <a:pt x="1516" y="670"/>
                  <a:pt x="1497" y="642"/>
                  <a:pt x="1463" y="630"/>
                </a:cubicBezTo>
                <a:cubicBezTo>
                  <a:pt x="1451" y="618"/>
                  <a:pt x="1441" y="604"/>
                  <a:pt x="1427" y="594"/>
                </a:cubicBezTo>
                <a:cubicBezTo>
                  <a:pt x="1419" y="588"/>
                  <a:pt x="1407" y="591"/>
                  <a:pt x="1399" y="585"/>
                </a:cubicBezTo>
                <a:cubicBezTo>
                  <a:pt x="1307" y="514"/>
                  <a:pt x="1385" y="538"/>
                  <a:pt x="1299" y="521"/>
                </a:cubicBezTo>
                <a:cubicBezTo>
                  <a:pt x="1282" y="509"/>
                  <a:pt x="1260" y="506"/>
                  <a:pt x="1244" y="493"/>
                </a:cubicBezTo>
                <a:cubicBezTo>
                  <a:pt x="1232" y="483"/>
                  <a:pt x="1227" y="468"/>
                  <a:pt x="1216" y="457"/>
                </a:cubicBezTo>
                <a:cubicBezTo>
                  <a:pt x="1188" y="429"/>
                  <a:pt x="1154" y="397"/>
                  <a:pt x="1116" y="384"/>
                </a:cubicBezTo>
                <a:cubicBezTo>
                  <a:pt x="1045" y="313"/>
                  <a:pt x="1050" y="312"/>
                  <a:pt x="960" y="283"/>
                </a:cubicBezTo>
                <a:cubicBezTo>
                  <a:pt x="943" y="233"/>
                  <a:pt x="911" y="244"/>
                  <a:pt x="869" y="219"/>
                </a:cubicBezTo>
                <a:cubicBezTo>
                  <a:pt x="790" y="172"/>
                  <a:pt x="843" y="189"/>
                  <a:pt x="778" y="173"/>
                </a:cubicBezTo>
                <a:cubicBezTo>
                  <a:pt x="715" y="132"/>
                  <a:pt x="660" y="100"/>
                  <a:pt x="586" y="82"/>
                </a:cubicBezTo>
                <a:cubicBezTo>
                  <a:pt x="531" y="0"/>
                  <a:pt x="571" y="44"/>
                  <a:pt x="366" y="36"/>
                </a:cubicBezTo>
                <a:cubicBezTo>
                  <a:pt x="311" y="34"/>
                  <a:pt x="257" y="57"/>
                  <a:pt x="202" y="64"/>
                </a:cubicBezTo>
                <a:cubicBezTo>
                  <a:pt x="136" y="72"/>
                  <a:pt x="67" y="82"/>
                  <a:pt x="0" y="82"/>
                </a:cubicBezTo>
              </a:path>
            </a:pathLst>
          </a:custGeom>
          <a:noFill/>
          <a:ln w="3492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1114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1119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1124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1129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1134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1140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1145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27672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0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>
            <a:hlinkClick r:id="rId2" action="ppaction://hlinksldjump"/>
          </p:cNvPr>
          <p:cNvSpPr/>
          <p:nvPr/>
        </p:nvSpPr>
        <p:spPr>
          <a:xfrm>
            <a:off x="3492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>
            <a:hlinkClick r:id="rId3" action="ppaction://hlinksldjump"/>
          </p:cNvPr>
          <p:cNvSpPr/>
          <p:nvPr/>
        </p:nvSpPr>
        <p:spPr>
          <a:xfrm>
            <a:off x="1116000" y="6093000"/>
            <a:ext cx="1009800" cy="431640"/>
          </a:xfrm>
          <a:custGeom>
            <a:avLst/>
            <a:gdLst>
              <a:gd name="textAreaLeft" fmla="*/ 27720 w 1009800"/>
              <a:gd name="textAreaRight" fmla="*/ 982080 w 1009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>
            <a:hlinkClick r:id="rId4" action="ppaction://hlinksldjump"/>
          </p:cNvPr>
          <p:cNvSpPr/>
          <p:nvPr/>
        </p:nvSpPr>
        <p:spPr>
          <a:xfrm>
            <a:off x="212400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>
            <a:hlinkClick r:id="rId5" action="ppaction://hlinksldjump"/>
          </p:cNvPr>
          <p:cNvSpPr/>
          <p:nvPr/>
        </p:nvSpPr>
        <p:spPr>
          <a:xfrm>
            <a:off x="349236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>
            <a:hlinkClick r:id="rId6" action="ppaction://hlinksldjump"/>
          </p:cNvPr>
          <p:cNvSpPr/>
          <p:nvPr/>
        </p:nvSpPr>
        <p:spPr>
          <a:xfrm>
            <a:off x="565164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>
            <a:hlinkClick r:id="rId7" action="ppaction://hlinksldjump"/>
          </p:cNvPr>
          <p:cNvSpPr/>
          <p:nvPr/>
        </p:nvSpPr>
        <p:spPr>
          <a:xfrm>
            <a:off x="702000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152800" y="765000"/>
            <a:ext cx="305568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rot="19429200">
            <a:off x="5021640" y="1550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>
            <a:hlinkClick r:id="rId8" action="ppaction://hlinksldjump"/>
          </p:cNvPr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1193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1195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7" name="">
            <a:hlinkClick r:id="rId9" action="ppaction://hlinksldjump"/>
          </p:cNvPr>
          <p:cNvSpPr/>
          <p:nvPr/>
        </p:nvSpPr>
        <p:spPr>
          <a:xfrm>
            <a:off x="4427640" y="6093000"/>
            <a:ext cx="1225440" cy="431640"/>
          </a:xfrm>
          <a:custGeom>
            <a:avLst/>
            <a:gdLst>
              <a:gd name="textAreaLeft" fmla="*/ 27720 w 1225440"/>
              <a:gd name="textAreaRight" fmla="*/ 1197720 w 122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90" h="21600">
                <a:moveTo>
                  <a:pt x="0" y="0"/>
                </a:moveTo>
                <a:lnTo>
                  <a:pt x="61290" y="0"/>
                </a:lnTo>
                <a:lnTo>
                  <a:pt x="61290" y="21600"/>
                </a:lnTo>
                <a:lnTo>
                  <a:pt x="0" y="21600"/>
                </a:lnTo>
                <a:close/>
              </a:path>
              <a:path fill="lightenLess" w="61290" h="21600">
                <a:moveTo>
                  <a:pt x="0" y="0"/>
                </a:moveTo>
                <a:lnTo>
                  <a:pt x="61290" y="0"/>
                </a:lnTo>
                <a:lnTo>
                  <a:pt x="59890" y="1400"/>
                </a:lnTo>
                <a:lnTo>
                  <a:pt x="1400" y="1400"/>
                </a:lnTo>
                <a:close/>
              </a:path>
              <a:path fill="darken" w="61290" h="21600">
                <a:moveTo>
                  <a:pt x="61290" y="0"/>
                </a:moveTo>
                <a:lnTo>
                  <a:pt x="61290" y="21600"/>
                </a:lnTo>
                <a:lnTo>
                  <a:pt x="59890" y="20200"/>
                </a:lnTo>
                <a:lnTo>
                  <a:pt x="59890" y="1400"/>
                </a:lnTo>
                <a:close/>
              </a:path>
              <a:path fill="darkenLess" w="61290" h="21600">
                <a:moveTo>
                  <a:pt x="6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90" y="20200"/>
                </a:lnTo>
                <a:close/>
              </a:path>
              <a:path fill="lighten" w="6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НА ПРИЗНА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667640" y="4581360"/>
            <a:ext cx="115236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451640" y="4005360"/>
            <a:ext cx="1511280" cy="574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604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38836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956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740720" y="4797360"/>
            <a:ext cx="144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172360" y="4724280"/>
            <a:ext cx="14472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24400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924360" y="4797360"/>
            <a:ext cx="4000320" cy="576360"/>
          </a:xfrm>
          <a:custGeom>
            <a:avLst/>
            <a:gdLst/>
            <a:ahLst/>
            <a:rect l="l" t="t" r="r" b="b"/>
            <a:pathLst>
              <a:path w="2660" h="297">
                <a:moveTo>
                  <a:pt x="2660" y="277"/>
                </a:moveTo>
                <a:cubicBezTo>
                  <a:pt x="2639" y="283"/>
                  <a:pt x="2618" y="297"/>
                  <a:pt x="2596" y="295"/>
                </a:cubicBezTo>
                <a:cubicBezTo>
                  <a:pt x="2559" y="292"/>
                  <a:pt x="2451" y="240"/>
                  <a:pt x="2413" y="222"/>
                </a:cubicBezTo>
                <a:cubicBezTo>
                  <a:pt x="2354" y="161"/>
                  <a:pt x="2421" y="221"/>
                  <a:pt x="2349" y="185"/>
                </a:cubicBezTo>
                <a:cubicBezTo>
                  <a:pt x="2236" y="129"/>
                  <a:pt x="2388" y="184"/>
                  <a:pt x="2276" y="139"/>
                </a:cubicBezTo>
                <a:cubicBezTo>
                  <a:pt x="2185" y="102"/>
                  <a:pt x="2255" y="135"/>
                  <a:pt x="2185" y="112"/>
                </a:cubicBezTo>
                <a:cubicBezTo>
                  <a:pt x="2047" y="66"/>
                  <a:pt x="2221" y="120"/>
                  <a:pt x="2102" y="75"/>
                </a:cubicBezTo>
                <a:cubicBezTo>
                  <a:pt x="1992" y="33"/>
                  <a:pt x="1801" y="9"/>
                  <a:pt x="1691" y="2"/>
                </a:cubicBezTo>
                <a:cubicBezTo>
                  <a:pt x="1557" y="9"/>
                  <a:pt x="1443" y="26"/>
                  <a:pt x="1316" y="57"/>
                </a:cubicBezTo>
                <a:cubicBezTo>
                  <a:pt x="1144" y="51"/>
                  <a:pt x="966" y="54"/>
                  <a:pt x="795" y="30"/>
                </a:cubicBezTo>
                <a:cubicBezTo>
                  <a:pt x="257" y="39"/>
                  <a:pt x="408" y="0"/>
                  <a:pt x="173" y="57"/>
                </a:cubicBezTo>
                <a:cubicBezTo>
                  <a:pt x="131" y="51"/>
                  <a:pt x="85" y="47"/>
                  <a:pt x="45" y="30"/>
                </a:cubicBezTo>
                <a:cubicBezTo>
                  <a:pt x="33" y="25"/>
                  <a:pt x="23" y="11"/>
                  <a:pt x="9" y="11"/>
                </a:cubicBezTo>
                <a:cubicBezTo>
                  <a:pt x="0" y="11"/>
                  <a:pt x="27" y="30"/>
                  <a:pt x="27" y="30"/>
                </a:cubicBezTo>
              </a:path>
            </a:pathLst>
          </a:custGeom>
          <a:noFill/>
          <a:ln w="3492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611280" y="1805040"/>
            <a:ext cx="682560" cy="1611360"/>
            <a:chOff x="611280" y="1805040"/>
            <a:chExt cx="682560" cy="1611360"/>
          </a:xfrm>
        </p:grpSpPr>
        <p:sp>
          <p:nvSpPr>
            <p:cNvPr id="1212" name=""/>
            <p:cNvSpPr/>
            <p:nvPr/>
          </p:nvSpPr>
          <p:spPr>
            <a:xfrm>
              <a:off x="611280" y="18050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8840" y="23608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970200" y="24210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753840" y="25639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1114560" y="1844640"/>
            <a:ext cx="682560" cy="1611360"/>
            <a:chOff x="1114560" y="1844640"/>
            <a:chExt cx="682560" cy="1611360"/>
          </a:xfrm>
        </p:grpSpPr>
        <p:sp>
          <p:nvSpPr>
            <p:cNvPr id="1217" name=""/>
            <p:cNvSpPr/>
            <p:nvPr/>
          </p:nvSpPr>
          <p:spPr>
            <a:xfrm>
              <a:off x="11145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021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14734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12571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826920" y="2021040"/>
            <a:ext cx="682560" cy="1610640"/>
            <a:chOff x="826920" y="2021040"/>
            <a:chExt cx="682560" cy="1610640"/>
          </a:xfrm>
        </p:grpSpPr>
        <p:sp>
          <p:nvSpPr>
            <p:cNvPr id="1222" name=""/>
            <p:cNvSpPr/>
            <p:nvPr/>
          </p:nvSpPr>
          <p:spPr>
            <a:xfrm>
              <a:off x="826920" y="20210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14480" y="25765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1185840" y="26362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969480" y="27795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611280" y="2421000"/>
            <a:ext cx="682560" cy="1611360"/>
            <a:chOff x="611280" y="2421000"/>
            <a:chExt cx="682560" cy="1611360"/>
          </a:xfrm>
        </p:grpSpPr>
        <p:sp>
          <p:nvSpPr>
            <p:cNvPr id="1227" name=""/>
            <p:cNvSpPr/>
            <p:nvPr/>
          </p:nvSpPr>
          <p:spPr>
            <a:xfrm>
              <a:off x="611280" y="2421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840" y="2976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970200" y="3036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753840" y="3179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79280" y="3213000"/>
            <a:ext cx="682560" cy="1611360"/>
            <a:chOff x="179280" y="3213000"/>
            <a:chExt cx="682560" cy="1611360"/>
          </a:xfrm>
        </p:grpSpPr>
        <p:sp>
          <p:nvSpPr>
            <p:cNvPr id="1232" name=""/>
            <p:cNvSpPr/>
            <p:nvPr/>
          </p:nvSpPr>
          <p:spPr>
            <a:xfrm>
              <a:off x="179280" y="321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6840" y="376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38200" y="382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21840" y="397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7885080" y="692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8172360" y="2060640"/>
            <a:ext cx="682560" cy="1611360"/>
            <a:chOff x="8172360" y="2060640"/>
            <a:chExt cx="682560" cy="1611360"/>
          </a:xfrm>
        </p:grpSpPr>
        <p:sp>
          <p:nvSpPr>
            <p:cNvPr id="1238" name=""/>
            <p:cNvSpPr/>
            <p:nvPr/>
          </p:nvSpPr>
          <p:spPr>
            <a:xfrm>
              <a:off x="8172360" y="2060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59920" y="2616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8531280" y="2676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314920" y="2819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8461440" y="2492280"/>
            <a:ext cx="682560" cy="1611360"/>
            <a:chOff x="8461440" y="2492280"/>
            <a:chExt cx="682560" cy="1611360"/>
          </a:xfrm>
        </p:grpSpPr>
        <p:sp>
          <p:nvSpPr>
            <p:cNvPr id="1243" name=""/>
            <p:cNvSpPr/>
            <p:nvPr/>
          </p:nvSpPr>
          <p:spPr>
            <a:xfrm>
              <a:off x="8461440" y="249228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649000" y="304812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8820360" y="310824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8604000" y="3251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Щелкните мышью в выбр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78000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348000" y="494172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11"/>
          <a:stretch/>
        </p:blipFill>
        <p:spPr>
          <a:xfrm>
            <a:off x="3059280" y="4508640"/>
            <a:ext cx="7030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autoRev="1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913" dur="500" autoRev="1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914" dur="500" autoRev="1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87640" y="2637000"/>
            <a:ext cx="2530440" cy="213336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395280" y="609300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476360" y="6093000"/>
            <a:ext cx="1368360" cy="43164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436" h="21600">
                <a:moveTo>
                  <a:pt x="0" y="0"/>
                </a:moveTo>
                <a:lnTo>
                  <a:pt x="68436" y="0"/>
                </a:lnTo>
                <a:lnTo>
                  <a:pt x="68436" y="21600"/>
                </a:lnTo>
                <a:lnTo>
                  <a:pt x="0" y="21600"/>
                </a:lnTo>
                <a:close/>
              </a:path>
              <a:path fill="lightenLess" w="68436" h="21600">
                <a:moveTo>
                  <a:pt x="0" y="0"/>
                </a:moveTo>
                <a:lnTo>
                  <a:pt x="68436" y="0"/>
                </a:lnTo>
                <a:lnTo>
                  <a:pt x="67036" y="1400"/>
                </a:lnTo>
                <a:lnTo>
                  <a:pt x="1400" y="1400"/>
                </a:lnTo>
                <a:close/>
              </a:path>
              <a:path fill="darken" w="68436" h="21600">
                <a:moveTo>
                  <a:pt x="68436" y="0"/>
                </a:moveTo>
                <a:lnTo>
                  <a:pt x="68436" y="21600"/>
                </a:lnTo>
                <a:lnTo>
                  <a:pt x="67036" y="20200"/>
                </a:lnTo>
                <a:lnTo>
                  <a:pt x="67036" y="1400"/>
                </a:lnTo>
                <a:close/>
              </a:path>
              <a:path fill="darkenLess" w="68436" h="21600">
                <a:moveTo>
                  <a:pt x="6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36" y="20200"/>
                </a:lnTo>
                <a:close/>
              </a:path>
              <a:path fill="lighten" w="6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2843280" y="609300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К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3780000" y="6093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ЗМ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7308720" y="6093000"/>
            <a:ext cx="1440000" cy="43164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18" h="21600">
                <a:moveTo>
                  <a:pt x="0" y="0"/>
                </a:moveTo>
                <a:lnTo>
                  <a:pt x="72018" y="0"/>
                </a:lnTo>
                <a:lnTo>
                  <a:pt x="72018" y="21600"/>
                </a:lnTo>
                <a:lnTo>
                  <a:pt x="0" y="21600"/>
                </a:lnTo>
                <a:close/>
              </a:path>
              <a:path fill="lightenLess" w="72018" h="21600">
                <a:moveTo>
                  <a:pt x="0" y="0"/>
                </a:moveTo>
                <a:lnTo>
                  <a:pt x="72018" y="0"/>
                </a:lnTo>
                <a:lnTo>
                  <a:pt x="70618" y="1400"/>
                </a:lnTo>
                <a:lnTo>
                  <a:pt x="1400" y="1400"/>
                </a:lnTo>
                <a:close/>
              </a:path>
              <a:path fill="darken" w="72018" h="21600">
                <a:moveTo>
                  <a:pt x="72018" y="0"/>
                </a:moveTo>
                <a:lnTo>
                  <a:pt x="72018" y="21600"/>
                </a:lnTo>
                <a:lnTo>
                  <a:pt x="70618" y="20200"/>
                </a:lnTo>
                <a:lnTo>
                  <a:pt x="70618" y="1400"/>
                </a:lnTo>
                <a:close/>
              </a:path>
              <a:path fill="darkenLess" w="72018" h="21600">
                <a:moveTo>
                  <a:pt x="7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18" y="20200"/>
                </a:lnTo>
                <a:close/>
              </a:path>
              <a:path fill="lighten" w="7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2514600" cy="1611360"/>
          </a:xfrm>
          <a:custGeom>
            <a:avLst/>
            <a:gdLst/>
            <a:ahLst/>
            <a:rect l="l" t="t" r="r" b="b"/>
            <a:pathLst>
              <a:path w="1584" h="1015">
                <a:moveTo>
                  <a:pt x="28" y="238"/>
                </a:moveTo>
                <a:cubicBezTo>
                  <a:pt x="37" y="223"/>
                  <a:pt x="51" y="209"/>
                  <a:pt x="55" y="192"/>
                </a:cubicBezTo>
                <a:cubicBezTo>
                  <a:pt x="57" y="183"/>
                  <a:pt x="42" y="173"/>
                  <a:pt x="46" y="165"/>
                </a:cubicBezTo>
                <a:cubicBezTo>
                  <a:pt x="54" y="149"/>
                  <a:pt x="126" y="63"/>
                  <a:pt x="146" y="56"/>
                </a:cubicBezTo>
                <a:cubicBezTo>
                  <a:pt x="166" y="0"/>
                  <a:pt x="187" y="53"/>
                  <a:pt x="247" y="46"/>
                </a:cubicBezTo>
                <a:cubicBezTo>
                  <a:pt x="256" y="43"/>
                  <a:pt x="267" y="42"/>
                  <a:pt x="275" y="37"/>
                </a:cubicBezTo>
                <a:cubicBezTo>
                  <a:pt x="282" y="32"/>
                  <a:pt x="284" y="18"/>
                  <a:pt x="293" y="18"/>
                </a:cubicBezTo>
                <a:cubicBezTo>
                  <a:pt x="312" y="18"/>
                  <a:pt x="381" y="46"/>
                  <a:pt x="403" y="55"/>
                </a:cubicBezTo>
                <a:cubicBezTo>
                  <a:pt x="518" y="45"/>
                  <a:pt x="566" y="38"/>
                  <a:pt x="686" y="46"/>
                </a:cubicBezTo>
                <a:cubicBezTo>
                  <a:pt x="722" y="58"/>
                  <a:pt x="758" y="66"/>
                  <a:pt x="796" y="73"/>
                </a:cubicBezTo>
                <a:cubicBezTo>
                  <a:pt x="825" y="103"/>
                  <a:pt x="849" y="118"/>
                  <a:pt x="887" y="137"/>
                </a:cubicBezTo>
                <a:cubicBezTo>
                  <a:pt x="899" y="173"/>
                  <a:pt x="905" y="189"/>
                  <a:pt x="942" y="201"/>
                </a:cubicBezTo>
                <a:cubicBezTo>
                  <a:pt x="976" y="237"/>
                  <a:pt x="968" y="263"/>
                  <a:pt x="1024" y="284"/>
                </a:cubicBezTo>
                <a:cubicBezTo>
                  <a:pt x="1033" y="296"/>
                  <a:pt x="1039" y="312"/>
                  <a:pt x="1052" y="320"/>
                </a:cubicBezTo>
                <a:cubicBezTo>
                  <a:pt x="1065" y="328"/>
                  <a:pt x="1082" y="326"/>
                  <a:pt x="1097" y="329"/>
                </a:cubicBezTo>
                <a:cubicBezTo>
                  <a:pt x="1143" y="339"/>
                  <a:pt x="1188" y="349"/>
                  <a:pt x="1235" y="357"/>
                </a:cubicBezTo>
                <a:cubicBezTo>
                  <a:pt x="1274" y="370"/>
                  <a:pt x="1302" y="386"/>
                  <a:pt x="1335" y="412"/>
                </a:cubicBezTo>
                <a:cubicBezTo>
                  <a:pt x="1341" y="441"/>
                  <a:pt x="1362" y="518"/>
                  <a:pt x="1381" y="540"/>
                </a:cubicBezTo>
                <a:cubicBezTo>
                  <a:pt x="1390" y="550"/>
                  <a:pt x="1406" y="551"/>
                  <a:pt x="1417" y="558"/>
                </a:cubicBezTo>
                <a:cubicBezTo>
                  <a:pt x="1451" y="580"/>
                  <a:pt x="1485" y="597"/>
                  <a:pt x="1518" y="622"/>
                </a:cubicBezTo>
                <a:cubicBezTo>
                  <a:pt x="1531" y="672"/>
                  <a:pt x="1553" y="716"/>
                  <a:pt x="1582" y="759"/>
                </a:cubicBezTo>
                <a:cubicBezTo>
                  <a:pt x="1506" y="796"/>
                  <a:pt x="1584" y="768"/>
                  <a:pt x="1509" y="768"/>
                </a:cubicBezTo>
                <a:cubicBezTo>
                  <a:pt x="1482" y="768"/>
                  <a:pt x="1454" y="774"/>
                  <a:pt x="1427" y="777"/>
                </a:cubicBezTo>
                <a:cubicBezTo>
                  <a:pt x="1322" y="803"/>
                  <a:pt x="1268" y="753"/>
                  <a:pt x="1189" y="832"/>
                </a:cubicBezTo>
                <a:cubicBezTo>
                  <a:pt x="1207" y="905"/>
                  <a:pt x="1157" y="868"/>
                  <a:pt x="1116" y="896"/>
                </a:cubicBezTo>
                <a:cubicBezTo>
                  <a:pt x="1096" y="909"/>
                  <a:pt x="1081" y="929"/>
                  <a:pt x="1061" y="942"/>
                </a:cubicBezTo>
                <a:cubicBezTo>
                  <a:pt x="1047" y="951"/>
                  <a:pt x="1029" y="952"/>
                  <a:pt x="1015" y="960"/>
                </a:cubicBezTo>
                <a:cubicBezTo>
                  <a:pt x="1002" y="967"/>
                  <a:pt x="993" y="981"/>
                  <a:pt x="979" y="988"/>
                </a:cubicBezTo>
                <a:cubicBezTo>
                  <a:pt x="940" y="1008"/>
                  <a:pt x="902" y="1009"/>
                  <a:pt x="860" y="1015"/>
                </a:cubicBezTo>
                <a:cubicBezTo>
                  <a:pt x="708" y="992"/>
                  <a:pt x="551" y="979"/>
                  <a:pt x="403" y="942"/>
                </a:cubicBezTo>
                <a:cubicBezTo>
                  <a:pt x="351" y="909"/>
                  <a:pt x="307" y="886"/>
                  <a:pt x="247" y="869"/>
                </a:cubicBezTo>
                <a:cubicBezTo>
                  <a:pt x="207" y="841"/>
                  <a:pt x="198" y="831"/>
                  <a:pt x="147" y="814"/>
                </a:cubicBezTo>
                <a:cubicBezTo>
                  <a:pt x="109" y="764"/>
                  <a:pt x="120" y="751"/>
                  <a:pt x="73" y="704"/>
                </a:cubicBezTo>
                <a:cubicBezTo>
                  <a:pt x="59" y="649"/>
                  <a:pt x="42" y="607"/>
                  <a:pt x="0" y="567"/>
                </a:cubicBezTo>
                <a:cubicBezTo>
                  <a:pt x="6" y="509"/>
                  <a:pt x="14" y="458"/>
                  <a:pt x="28" y="402"/>
                </a:cubicBezTo>
                <a:cubicBezTo>
                  <a:pt x="17" y="281"/>
                  <a:pt x="14" y="335"/>
                  <a:pt x="28" y="238"/>
                </a:cubicBezTo>
                <a:close/>
              </a:path>
            </a:pathLst>
          </a:custGeom>
          <a:solidFill>
            <a:srgbClr val="00ffff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4797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ьные источн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26496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3280" y="469260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4581360"/>
            <a:ext cx="264960" cy="18288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5300640"/>
            <a:ext cx="265320" cy="182520"/>
          </a:xfrm>
          <a:custGeom>
            <a:avLst/>
            <a:gdLst/>
            <a:ahLst/>
            <a:rect l="l" t="t" r="r" b="b"/>
            <a:pathLst>
              <a:path w="167" h="115">
                <a:moveTo>
                  <a:pt x="38" y="23"/>
                </a:moveTo>
                <a:cubicBezTo>
                  <a:pt x="89" y="33"/>
                  <a:pt x="125" y="1"/>
                  <a:pt x="167" y="32"/>
                </a:cubicBezTo>
                <a:cubicBezTo>
                  <a:pt x="164" y="44"/>
                  <a:pt x="166" y="59"/>
                  <a:pt x="158" y="69"/>
                </a:cubicBezTo>
                <a:cubicBezTo>
                  <a:pt x="152" y="77"/>
                  <a:pt x="139" y="74"/>
                  <a:pt x="130" y="78"/>
                </a:cubicBezTo>
                <a:cubicBezTo>
                  <a:pt x="92" y="94"/>
                  <a:pt x="100" y="90"/>
                  <a:pt x="75" y="115"/>
                </a:cubicBezTo>
                <a:cubicBezTo>
                  <a:pt x="54" y="109"/>
                  <a:pt x="29" y="109"/>
                  <a:pt x="11" y="96"/>
                </a:cubicBezTo>
                <a:cubicBezTo>
                  <a:pt x="1" y="89"/>
                  <a:pt x="0" y="72"/>
                  <a:pt x="2" y="60"/>
                </a:cubicBezTo>
                <a:cubicBezTo>
                  <a:pt x="8" y="19"/>
                  <a:pt x="27" y="22"/>
                  <a:pt x="57" y="5"/>
                </a:cubicBezTo>
                <a:cubicBezTo>
                  <a:pt x="67" y="0"/>
                  <a:pt x="79" y="34"/>
                  <a:pt x="75" y="23"/>
                </a:cubicBezTo>
                <a:cubicBezTo>
                  <a:pt x="71" y="11"/>
                  <a:pt x="50" y="26"/>
                  <a:pt x="38" y="2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765000"/>
            <a:ext cx="3056040" cy="2075040"/>
          </a:xfrm>
          <a:custGeom>
            <a:avLst/>
            <a:gdLst/>
            <a:ahLst/>
            <a:rect l="l" t="t" r="r" b="b"/>
            <a:pathLst>
              <a:path w="1925" h="1307">
                <a:moveTo>
                  <a:pt x="229" y="905"/>
                </a:moveTo>
                <a:cubicBezTo>
                  <a:pt x="285" y="897"/>
                  <a:pt x="323" y="889"/>
                  <a:pt x="375" y="868"/>
                </a:cubicBezTo>
                <a:cubicBezTo>
                  <a:pt x="404" y="887"/>
                  <a:pt x="428" y="913"/>
                  <a:pt x="457" y="932"/>
                </a:cubicBezTo>
                <a:cubicBezTo>
                  <a:pt x="480" y="947"/>
                  <a:pt x="530" y="969"/>
                  <a:pt x="530" y="969"/>
                </a:cubicBezTo>
                <a:cubicBezTo>
                  <a:pt x="571" y="1050"/>
                  <a:pt x="541" y="1033"/>
                  <a:pt x="594" y="1051"/>
                </a:cubicBezTo>
                <a:cubicBezTo>
                  <a:pt x="606" y="1088"/>
                  <a:pt x="621" y="1103"/>
                  <a:pt x="658" y="1115"/>
                </a:cubicBezTo>
                <a:cubicBezTo>
                  <a:pt x="684" y="1140"/>
                  <a:pt x="698" y="1153"/>
                  <a:pt x="731" y="1170"/>
                </a:cubicBezTo>
                <a:cubicBezTo>
                  <a:pt x="744" y="1206"/>
                  <a:pt x="759" y="1213"/>
                  <a:pt x="795" y="1225"/>
                </a:cubicBezTo>
                <a:cubicBezTo>
                  <a:pt x="842" y="1269"/>
                  <a:pt x="899" y="1273"/>
                  <a:pt x="960" y="1280"/>
                </a:cubicBezTo>
                <a:cubicBezTo>
                  <a:pt x="1010" y="1297"/>
                  <a:pt x="1052" y="1301"/>
                  <a:pt x="1106" y="1307"/>
                </a:cubicBezTo>
                <a:cubicBezTo>
                  <a:pt x="1190" y="1302"/>
                  <a:pt x="1273" y="1307"/>
                  <a:pt x="1353" y="1280"/>
                </a:cubicBezTo>
                <a:cubicBezTo>
                  <a:pt x="1393" y="1228"/>
                  <a:pt x="1403" y="1240"/>
                  <a:pt x="1463" y="1225"/>
                </a:cubicBezTo>
                <a:cubicBezTo>
                  <a:pt x="1501" y="1186"/>
                  <a:pt x="1535" y="1170"/>
                  <a:pt x="1582" y="1143"/>
                </a:cubicBezTo>
                <a:cubicBezTo>
                  <a:pt x="1608" y="1062"/>
                  <a:pt x="1675" y="1004"/>
                  <a:pt x="1719" y="932"/>
                </a:cubicBezTo>
                <a:cubicBezTo>
                  <a:pt x="1745" y="801"/>
                  <a:pt x="1708" y="966"/>
                  <a:pt x="1746" y="850"/>
                </a:cubicBezTo>
                <a:cubicBezTo>
                  <a:pt x="1751" y="835"/>
                  <a:pt x="1747" y="818"/>
                  <a:pt x="1755" y="804"/>
                </a:cubicBezTo>
                <a:cubicBezTo>
                  <a:pt x="1761" y="794"/>
                  <a:pt x="1774" y="792"/>
                  <a:pt x="1783" y="786"/>
                </a:cubicBezTo>
                <a:cubicBezTo>
                  <a:pt x="1803" y="745"/>
                  <a:pt x="1795" y="727"/>
                  <a:pt x="1838" y="713"/>
                </a:cubicBezTo>
                <a:cubicBezTo>
                  <a:pt x="1853" y="653"/>
                  <a:pt x="1874" y="597"/>
                  <a:pt x="1911" y="548"/>
                </a:cubicBezTo>
                <a:cubicBezTo>
                  <a:pt x="1914" y="533"/>
                  <a:pt x="1920" y="518"/>
                  <a:pt x="1920" y="503"/>
                </a:cubicBezTo>
                <a:cubicBezTo>
                  <a:pt x="1920" y="442"/>
                  <a:pt x="1925" y="379"/>
                  <a:pt x="1911" y="320"/>
                </a:cubicBezTo>
                <a:cubicBezTo>
                  <a:pt x="1897" y="261"/>
                  <a:pt x="1789" y="245"/>
                  <a:pt x="1746" y="237"/>
                </a:cubicBezTo>
                <a:cubicBezTo>
                  <a:pt x="1664" y="258"/>
                  <a:pt x="1583" y="273"/>
                  <a:pt x="1499" y="283"/>
                </a:cubicBezTo>
                <a:cubicBezTo>
                  <a:pt x="1475" y="280"/>
                  <a:pt x="1449" y="282"/>
                  <a:pt x="1426" y="274"/>
                </a:cubicBezTo>
                <a:cubicBezTo>
                  <a:pt x="1403" y="266"/>
                  <a:pt x="1385" y="245"/>
                  <a:pt x="1362" y="237"/>
                </a:cubicBezTo>
                <a:cubicBezTo>
                  <a:pt x="1355" y="210"/>
                  <a:pt x="1339" y="139"/>
                  <a:pt x="1307" y="128"/>
                </a:cubicBezTo>
                <a:cubicBezTo>
                  <a:pt x="1275" y="117"/>
                  <a:pt x="1240" y="122"/>
                  <a:pt x="1207" y="119"/>
                </a:cubicBezTo>
                <a:cubicBezTo>
                  <a:pt x="1119" y="88"/>
                  <a:pt x="1239" y="137"/>
                  <a:pt x="1161" y="82"/>
                </a:cubicBezTo>
                <a:cubicBezTo>
                  <a:pt x="1143" y="69"/>
                  <a:pt x="1101" y="61"/>
                  <a:pt x="1079" y="55"/>
                </a:cubicBezTo>
                <a:cubicBezTo>
                  <a:pt x="998" y="0"/>
                  <a:pt x="960" y="51"/>
                  <a:pt x="896" y="82"/>
                </a:cubicBezTo>
                <a:cubicBezTo>
                  <a:pt x="830" y="148"/>
                  <a:pt x="893" y="99"/>
                  <a:pt x="805" y="128"/>
                </a:cubicBezTo>
                <a:cubicBezTo>
                  <a:pt x="782" y="136"/>
                  <a:pt x="755" y="168"/>
                  <a:pt x="741" y="183"/>
                </a:cubicBezTo>
                <a:cubicBezTo>
                  <a:pt x="733" y="210"/>
                  <a:pt x="716" y="199"/>
                  <a:pt x="701" y="222"/>
                </a:cubicBezTo>
                <a:cubicBezTo>
                  <a:pt x="696" y="230"/>
                  <a:pt x="704" y="270"/>
                  <a:pt x="695" y="274"/>
                </a:cubicBezTo>
                <a:cubicBezTo>
                  <a:pt x="682" y="279"/>
                  <a:pt x="671" y="287"/>
                  <a:pt x="658" y="292"/>
                </a:cubicBezTo>
                <a:cubicBezTo>
                  <a:pt x="566" y="331"/>
                  <a:pt x="488" y="332"/>
                  <a:pt x="384" y="338"/>
                </a:cubicBezTo>
                <a:cubicBezTo>
                  <a:pt x="329" y="346"/>
                  <a:pt x="273" y="351"/>
                  <a:pt x="219" y="365"/>
                </a:cubicBezTo>
                <a:cubicBezTo>
                  <a:pt x="185" y="374"/>
                  <a:pt x="34" y="414"/>
                  <a:pt x="34" y="414"/>
                </a:cubicBezTo>
                <a:cubicBezTo>
                  <a:pt x="12" y="448"/>
                  <a:pt x="66" y="446"/>
                  <a:pt x="37" y="475"/>
                </a:cubicBezTo>
                <a:cubicBezTo>
                  <a:pt x="34" y="493"/>
                  <a:pt x="27" y="511"/>
                  <a:pt x="27" y="530"/>
                </a:cubicBezTo>
                <a:cubicBezTo>
                  <a:pt x="27" y="552"/>
                  <a:pt x="0" y="594"/>
                  <a:pt x="6" y="615"/>
                </a:cubicBezTo>
                <a:cubicBezTo>
                  <a:pt x="19" y="660"/>
                  <a:pt x="76" y="699"/>
                  <a:pt x="110" y="731"/>
                </a:cubicBezTo>
                <a:cubicBezTo>
                  <a:pt x="128" y="776"/>
                  <a:pt x="140" y="808"/>
                  <a:pt x="165" y="850"/>
                </a:cubicBezTo>
                <a:cubicBezTo>
                  <a:pt x="169" y="868"/>
                  <a:pt x="169" y="918"/>
                  <a:pt x="201" y="923"/>
                </a:cubicBezTo>
                <a:cubicBezTo>
                  <a:pt x="212" y="925"/>
                  <a:pt x="220" y="911"/>
                  <a:pt x="229" y="905"/>
                </a:cubicBezTo>
                <a:close/>
              </a:path>
            </a:pathLst>
          </a:custGeom>
          <a:solidFill>
            <a:srgbClr val="ff99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628640"/>
            <a:ext cx="289080" cy="28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981000"/>
            <a:ext cx="216000" cy="287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700280"/>
            <a:ext cx="36036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1268280"/>
            <a:ext cx="432000" cy="432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134136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Плоскогорье идеальных ф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907920"/>
            <a:ext cx="3376440" cy="2876760"/>
          </a:xfrm>
          <a:custGeom>
            <a:avLst/>
            <a:gdLst/>
            <a:ahLst/>
            <a:rect l="l" t="t" r="r" b="b"/>
            <a:pathLst>
              <a:path w="2127" h="1812">
                <a:moveTo>
                  <a:pt x="454" y="165"/>
                </a:moveTo>
                <a:cubicBezTo>
                  <a:pt x="478" y="171"/>
                  <a:pt x="504" y="173"/>
                  <a:pt x="527" y="183"/>
                </a:cubicBezTo>
                <a:cubicBezTo>
                  <a:pt x="630" y="229"/>
                  <a:pt x="510" y="379"/>
                  <a:pt x="481" y="439"/>
                </a:cubicBezTo>
                <a:cubicBezTo>
                  <a:pt x="471" y="522"/>
                  <a:pt x="452" y="594"/>
                  <a:pt x="435" y="677"/>
                </a:cubicBezTo>
                <a:cubicBezTo>
                  <a:pt x="434" y="681"/>
                  <a:pt x="421" y="751"/>
                  <a:pt x="417" y="759"/>
                </a:cubicBezTo>
                <a:cubicBezTo>
                  <a:pt x="398" y="798"/>
                  <a:pt x="393" y="787"/>
                  <a:pt x="371" y="814"/>
                </a:cubicBezTo>
                <a:cubicBezTo>
                  <a:pt x="345" y="846"/>
                  <a:pt x="349" y="874"/>
                  <a:pt x="307" y="887"/>
                </a:cubicBezTo>
                <a:cubicBezTo>
                  <a:pt x="284" y="945"/>
                  <a:pt x="280" y="955"/>
                  <a:pt x="225" y="987"/>
                </a:cubicBezTo>
                <a:cubicBezTo>
                  <a:pt x="213" y="1050"/>
                  <a:pt x="203" y="1087"/>
                  <a:pt x="152" y="1125"/>
                </a:cubicBezTo>
                <a:cubicBezTo>
                  <a:pt x="140" y="1184"/>
                  <a:pt x="123" y="1187"/>
                  <a:pt x="88" y="1234"/>
                </a:cubicBezTo>
                <a:cubicBezTo>
                  <a:pt x="73" y="1297"/>
                  <a:pt x="68" y="1355"/>
                  <a:pt x="33" y="1408"/>
                </a:cubicBezTo>
                <a:cubicBezTo>
                  <a:pt x="38" y="1486"/>
                  <a:pt x="0" y="1706"/>
                  <a:pt x="125" y="1746"/>
                </a:cubicBezTo>
                <a:cubicBezTo>
                  <a:pt x="210" y="1812"/>
                  <a:pt x="389" y="1795"/>
                  <a:pt x="490" y="1801"/>
                </a:cubicBezTo>
                <a:cubicBezTo>
                  <a:pt x="511" y="1798"/>
                  <a:pt x="533" y="1794"/>
                  <a:pt x="554" y="1792"/>
                </a:cubicBezTo>
                <a:cubicBezTo>
                  <a:pt x="615" y="1788"/>
                  <a:pt x="676" y="1790"/>
                  <a:pt x="737" y="1783"/>
                </a:cubicBezTo>
                <a:cubicBezTo>
                  <a:pt x="781" y="1778"/>
                  <a:pt x="830" y="1728"/>
                  <a:pt x="874" y="1710"/>
                </a:cubicBezTo>
                <a:cubicBezTo>
                  <a:pt x="902" y="1674"/>
                  <a:pt x="914" y="1660"/>
                  <a:pt x="957" y="1646"/>
                </a:cubicBezTo>
                <a:cubicBezTo>
                  <a:pt x="971" y="1603"/>
                  <a:pt x="985" y="1591"/>
                  <a:pt x="1021" y="1563"/>
                </a:cubicBezTo>
                <a:cubicBezTo>
                  <a:pt x="1053" y="1498"/>
                  <a:pt x="1039" y="1481"/>
                  <a:pt x="1094" y="1426"/>
                </a:cubicBezTo>
                <a:cubicBezTo>
                  <a:pt x="1100" y="1411"/>
                  <a:pt x="1103" y="1394"/>
                  <a:pt x="1112" y="1381"/>
                </a:cubicBezTo>
                <a:cubicBezTo>
                  <a:pt x="1129" y="1356"/>
                  <a:pt x="1216" y="1267"/>
                  <a:pt x="1240" y="1253"/>
                </a:cubicBezTo>
                <a:cubicBezTo>
                  <a:pt x="1263" y="1240"/>
                  <a:pt x="1290" y="1237"/>
                  <a:pt x="1313" y="1225"/>
                </a:cubicBezTo>
                <a:cubicBezTo>
                  <a:pt x="1343" y="1186"/>
                  <a:pt x="1361" y="1173"/>
                  <a:pt x="1405" y="1152"/>
                </a:cubicBezTo>
                <a:cubicBezTo>
                  <a:pt x="1436" y="1060"/>
                  <a:pt x="1383" y="1204"/>
                  <a:pt x="1441" y="1097"/>
                </a:cubicBezTo>
                <a:cubicBezTo>
                  <a:pt x="1468" y="1046"/>
                  <a:pt x="1465" y="970"/>
                  <a:pt x="1523" y="951"/>
                </a:cubicBezTo>
                <a:cubicBezTo>
                  <a:pt x="1535" y="934"/>
                  <a:pt x="1536" y="911"/>
                  <a:pt x="1551" y="896"/>
                </a:cubicBezTo>
                <a:cubicBezTo>
                  <a:pt x="1599" y="848"/>
                  <a:pt x="1773" y="845"/>
                  <a:pt x="1807" y="841"/>
                </a:cubicBezTo>
                <a:cubicBezTo>
                  <a:pt x="1820" y="801"/>
                  <a:pt x="1898" y="776"/>
                  <a:pt x="1927" y="745"/>
                </a:cubicBezTo>
                <a:cubicBezTo>
                  <a:pt x="1930" y="730"/>
                  <a:pt x="1874" y="691"/>
                  <a:pt x="1880" y="677"/>
                </a:cubicBezTo>
                <a:cubicBezTo>
                  <a:pt x="1890" y="651"/>
                  <a:pt x="1917" y="603"/>
                  <a:pt x="1917" y="603"/>
                </a:cubicBezTo>
                <a:cubicBezTo>
                  <a:pt x="1934" y="569"/>
                  <a:pt x="1983" y="503"/>
                  <a:pt x="2000" y="470"/>
                </a:cubicBezTo>
                <a:cubicBezTo>
                  <a:pt x="2021" y="437"/>
                  <a:pt x="2040" y="413"/>
                  <a:pt x="2046" y="406"/>
                </a:cubicBezTo>
                <a:cubicBezTo>
                  <a:pt x="2052" y="397"/>
                  <a:pt x="2029" y="433"/>
                  <a:pt x="2037" y="425"/>
                </a:cubicBezTo>
                <a:cubicBezTo>
                  <a:pt x="2048" y="414"/>
                  <a:pt x="2026" y="378"/>
                  <a:pt x="2035" y="366"/>
                </a:cubicBezTo>
                <a:cubicBezTo>
                  <a:pt x="2038" y="354"/>
                  <a:pt x="2087" y="327"/>
                  <a:pt x="2092" y="315"/>
                </a:cubicBezTo>
                <a:cubicBezTo>
                  <a:pt x="2099" y="299"/>
                  <a:pt x="2108" y="278"/>
                  <a:pt x="2110" y="260"/>
                </a:cubicBezTo>
                <a:cubicBezTo>
                  <a:pt x="2112" y="248"/>
                  <a:pt x="2127" y="264"/>
                  <a:pt x="2110" y="251"/>
                </a:cubicBezTo>
                <a:cubicBezTo>
                  <a:pt x="2109" y="250"/>
                  <a:pt x="2118" y="262"/>
                  <a:pt x="2101" y="251"/>
                </a:cubicBezTo>
                <a:cubicBezTo>
                  <a:pt x="2084" y="240"/>
                  <a:pt x="2036" y="205"/>
                  <a:pt x="2008" y="183"/>
                </a:cubicBezTo>
                <a:cubicBezTo>
                  <a:pt x="1995" y="117"/>
                  <a:pt x="1996" y="134"/>
                  <a:pt x="1935" y="119"/>
                </a:cubicBezTo>
                <a:cubicBezTo>
                  <a:pt x="1923" y="107"/>
                  <a:pt x="1914" y="88"/>
                  <a:pt x="1898" y="82"/>
                </a:cubicBezTo>
                <a:cubicBezTo>
                  <a:pt x="1886" y="78"/>
                  <a:pt x="1874" y="91"/>
                  <a:pt x="1862" y="91"/>
                </a:cubicBezTo>
                <a:cubicBezTo>
                  <a:pt x="1779" y="88"/>
                  <a:pt x="1726" y="47"/>
                  <a:pt x="1644" y="41"/>
                </a:cubicBezTo>
                <a:cubicBezTo>
                  <a:pt x="1629" y="35"/>
                  <a:pt x="1585" y="59"/>
                  <a:pt x="1569" y="55"/>
                </a:cubicBezTo>
                <a:cubicBezTo>
                  <a:pt x="1548" y="50"/>
                  <a:pt x="1525" y="53"/>
                  <a:pt x="1505" y="46"/>
                </a:cubicBezTo>
                <a:cubicBezTo>
                  <a:pt x="1497" y="43"/>
                  <a:pt x="1495" y="31"/>
                  <a:pt x="1487" y="27"/>
                </a:cubicBezTo>
                <a:cubicBezTo>
                  <a:pt x="1456" y="11"/>
                  <a:pt x="1420" y="9"/>
                  <a:pt x="1386" y="0"/>
                </a:cubicBezTo>
                <a:cubicBezTo>
                  <a:pt x="1165" y="33"/>
                  <a:pt x="954" y="31"/>
                  <a:pt x="728" y="37"/>
                </a:cubicBezTo>
                <a:cubicBezTo>
                  <a:pt x="632" y="56"/>
                  <a:pt x="542" y="75"/>
                  <a:pt x="445" y="82"/>
                </a:cubicBezTo>
                <a:cubicBezTo>
                  <a:pt x="424" y="88"/>
                  <a:pt x="400" y="90"/>
                  <a:pt x="381" y="101"/>
                </a:cubicBezTo>
                <a:cubicBezTo>
                  <a:pt x="368" y="109"/>
                  <a:pt x="365" y="127"/>
                  <a:pt x="353" y="137"/>
                </a:cubicBezTo>
                <a:cubicBezTo>
                  <a:pt x="343" y="146"/>
                  <a:pt x="329" y="149"/>
                  <a:pt x="317" y="155"/>
                </a:cubicBezTo>
                <a:cubicBezTo>
                  <a:pt x="353" y="168"/>
                  <a:pt x="389" y="176"/>
                  <a:pt x="426" y="183"/>
                </a:cubicBezTo>
                <a:cubicBezTo>
                  <a:pt x="488" y="213"/>
                  <a:pt x="449" y="201"/>
                  <a:pt x="545" y="201"/>
                </a:cubicBezTo>
              </a:path>
            </a:pathLst>
          </a:custGeom>
          <a:solidFill>
            <a:srgbClr val="0080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2852640"/>
            <a:ext cx="360360" cy="432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7" action="ppaction://hlinksldjump"/>
          </p:cNvPr>
          <p:cNvSpPr/>
          <p:nvPr/>
        </p:nvSpPr>
        <p:spPr>
          <a:xfrm>
            <a:off x="5364000" y="2133720"/>
            <a:ext cx="360360" cy="43164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1700280"/>
            <a:ext cx="360360" cy="431640"/>
          </a:xfrm>
          <a:prstGeom prst="su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8" action="ppaction://hlinksldjump"/>
          </p:cNvPr>
          <p:cNvSpPr/>
          <p:nvPr/>
        </p:nvSpPr>
        <p:spPr>
          <a:xfrm>
            <a:off x="6012000" y="1557360"/>
            <a:ext cx="360360" cy="431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2492280"/>
            <a:ext cx="360360" cy="432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1484280"/>
            <a:ext cx="360360" cy="43200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924280"/>
            <a:ext cx="360360" cy="43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9429200">
            <a:off x="5004000" y="1557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Цветная пол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133720"/>
            <a:ext cx="3976560" cy="342252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195200">
            <a:off x="5220000" y="342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езразмерная д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773360"/>
            <a:ext cx="2422440" cy="3001680"/>
          </a:xfrm>
          <a:custGeom>
            <a:avLst/>
            <a:gdLst/>
            <a:ahLst/>
            <a:rect l="l" t="t" r="r" b="b"/>
            <a:pathLst>
              <a:path w="1526" h="1891">
                <a:moveTo>
                  <a:pt x="695" y="0"/>
                </a:moveTo>
                <a:cubicBezTo>
                  <a:pt x="658" y="12"/>
                  <a:pt x="643" y="23"/>
                  <a:pt x="621" y="55"/>
                </a:cubicBezTo>
                <a:cubicBezTo>
                  <a:pt x="609" y="91"/>
                  <a:pt x="584" y="94"/>
                  <a:pt x="567" y="128"/>
                </a:cubicBezTo>
                <a:cubicBezTo>
                  <a:pt x="518" y="227"/>
                  <a:pt x="585" y="113"/>
                  <a:pt x="530" y="256"/>
                </a:cubicBezTo>
                <a:cubicBezTo>
                  <a:pt x="511" y="305"/>
                  <a:pt x="453" y="328"/>
                  <a:pt x="429" y="375"/>
                </a:cubicBezTo>
                <a:cubicBezTo>
                  <a:pt x="407" y="419"/>
                  <a:pt x="410" y="449"/>
                  <a:pt x="375" y="484"/>
                </a:cubicBezTo>
                <a:cubicBezTo>
                  <a:pt x="364" y="555"/>
                  <a:pt x="362" y="598"/>
                  <a:pt x="311" y="649"/>
                </a:cubicBezTo>
                <a:cubicBezTo>
                  <a:pt x="309" y="678"/>
                  <a:pt x="313" y="832"/>
                  <a:pt x="274" y="878"/>
                </a:cubicBezTo>
                <a:cubicBezTo>
                  <a:pt x="265" y="888"/>
                  <a:pt x="249" y="890"/>
                  <a:pt x="237" y="896"/>
                </a:cubicBezTo>
                <a:cubicBezTo>
                  <a:pt x="202" y="948"/>
                  <a:pt x="231" y="943"/>
                  <a:pt x="164" y="969"/>
                </a:cubicBezTo>
                <a:cubicBezTo>
                  <a:pt x="139" y="1006"/>
                  <a:pt x="152" y="1019"/>
                  <a:pt x="109" y="1033"/>
                </a:cubicBezTo>
                <a:cubicBezTo>
                  <a:pt x="56" y="1168"/>
                  <a:pt x="126" y="1008"/>
                  <a:pt x="64" y="1106"/>
                </a:cubicBezTo>
                <a:cubicBezTo>
                  <a:pt x="55" y="1120"/>
                  <a:pt x="53" y="1137"/>
                  <a:pt x="45" y="1152"/>
                </a:cubicBezTo>
                <a:cubicBezTo>
                  <a:pt x="40" y="1162"/>
                  <a:pt x="33" y="1170"/>
                  <a:pt x="27" y="1179"/>
                </a:cubicBezTo>
                <a:cubicBezTo>
                  <a:pt x="16" y="1224"/>
                  <a:pt x="25" y="1254"/>
                  <a:pt x="36" y="1298"/>
                </a:cubicBezTo>
                <a:cubicBezTo>
                  <a:pt x="30" y="1362"/>
                  <a:pt x="35" y="1418"/>
                  <a:pt x="0" y="1472"/>
                </a:cubicBezTo>
                <a:cubicBezTo>
                  <a:pt x="9" y="1487"/>
                  <a:pt x="12" y="1509"/>
                  <a:pt x="27" y="1518"/>
                </a:cubicBezTo>
                <a:cubicBezTo>
                  <a:pt x="38" y="1524"/>
                  <a:pt x="51" y="1508"/>
                  <a:pt x="64" y="1508"/>
                </a:cubicBezTo>
                <a:cubicBezTo>
                  <a:pt x="113" y="1508"/>
                  <a:pt x="171" y="1531"/>
                  <a:pt x="220" y="1534"/>
                </a:cubicBezTo>
                <a:cubicBezTo>
                  <a:pt x="267" y="1520"/>
                  <a:pt x="384" y="1546"/>
                  <a:pt x="431" y="1534"/>
                </a:cubicBezTo>
                <a:cubicBezTo>
                  <a:pt x="515" y="1562"/>
                  <a:pt x="509" y="1554"/>
                  <a:pt x="595" y="1571"/>
                </a:cubicBezTo>
                <a:cubicBezTo>
                  <a:pt x="610" y="1586"/>
                  <a:pt x="634" y="1539"/>
                  <a:pt x="649" y="1554"/>
                </a:cubicBezTo>
                <a:cubicBezTo>
                  <a:pt x="661" y="1566"/>
                  <a:pt x="732" y="1681"/>
                  <a:pt x="732" y="1681"/>
                </a:cubicBezTo>
                <a:cubicBezTo>
                  <a:pt x="750" y="1746"/>
                  <a:pt x="680" y="1604"/>
                  <a:pt x="722" y="1646"/>
                </a:cubicBezTo>
                <a:cubicBezTo>
                  <a:pt x="733" y="1657"/>
                  <a:pt x="738" y="1672"/>
                  <a:pt x="749" y="1682"/>
                </a:cubicBezTo>
                <a:cubicBezTo>
                  <a:pt x="783" y="1710"/>
                  <a:pt x="829" y="1819"/>
                  <a:pt x="870" y="1827"/>
                </a:cubicBezTo>
                <a:cubicBezTo>
                  <a:pt x="927" y="1870"/>
                  <a:pt x="1080" y="1860"/>
                  <a:pt x="1144" y="1891"/>
                </a:cubicBezTo>
                <a:cubicBezTo>
                  <a:pt x="1226" y="1877"/>
                  <a:pt x="1171" y="1759"/>
                  <a:pt x="1216" y="1700"/>
                </a:cubicBezTo>
                <a:cubicBezTo>
                  <a:pt x="1239" y="1631"/>
                  <a:pt x="1238" y="1561"/>
                  <a:pt x="1252" y="1490"/>
                </a:cubicBezTo>
                <a:cubicBezTo>
                  <a:pt x="1243" y="1411"/>
                  <a:pt x="1243" y="1311"/>
                  <a:pt x="1197" y="1243"/>
                </a:cubicBezTo>
                <a:cubicBezTo>
                  <a:pt x="1194" y="1210"/>
                  <a:pt x="1188" y="1176"/>
                  <a:pt x="1188" y="1143"/>
                </a:cubicBezTo>
                <a:cubicBezTo>
                  <a:pt x="1188" y="1118"/>
                  <a:pt x="1191" y="1094"/>
                  <a:pt x="1197" y="1070"/>
                </a:cubicBezTo>
                <a:cubicBezTo>
                  <a:pt x="1234" y="911"/>
                  <a:pt x="1335" y="949"/>
                  <a:pt x="1490" y="942"/>
                </a:cubicBezTo>
                <a:cubicBezTo>
                  <a:pt x="1526" y="850"/>
                  <a:pt x="1490" y="761"/>
                  <a:pt x="1472" y="667"/>
                </a:cubicBezTo>
                <a:cubicBezTo>
                  <a:pt x="1462" y="615"/>
                  <a:pt x="1456" y="549"/>
                  <a:pt x="1399" y="530"/>
                </a:cubicBezTo>
                <a:cubicBezTo>
                  <a:pt x="1341" y="447"/>
                  <a:pt x="1444" y="579"/>
                  <a:pt x="1316" y="494"/>
                </a:cubicBezTo>
                <a:cubicBezTo>
                  <a:pt x="1265" y="460"/>
                  <a:pt x="1279" y="388"/>
                  <a:pt x="1234" y="356"/>
                </a:cubicBezTo>
                <a:cubicBezTo>
                  <a:pt x="1221" y="346"/>
                  <a:pt x="1203" y="344"/>
                  <a:pt x="1188" y="338"/>
                </a:cubicBezTo>
                <a:cubicBezTo>
                  <a:pt x="1170" y="285"/>
                  <a:pt x="1138" y="260"/>
                  <a:pt x="1088" y="247"/>
                </a:cubicBezTo>
                <a:cubicBezTo>
                  <a:pt x="1058" y="155"/>
                  <a:pt x="935" y="223"/>
                  <a:pt x="877" y="265"/>
                </a:cubicBezTo>
                <a:cubicBezTo>
                  <a:pt x="831" y="228"/>
                  <a:pt x="807" y="206"/>
                  <a:pt x="777" y="155"/>
                </a:cubicBezTo>
                <a:cubicBezTo>
                  <a:pt x="770" y="128"/>
                  <a:pt x="770" y="99"/>
                  <a:pt x="759" y="73"/>
                </a:cubicBezTo>
                <a:cubicBezTo>
                  <a:pt x="744" y="40"/>
                  <a:pt x="695" y="38"/>
                  <a:pt x="695" y="0"/>
                </a:cubicBezTo>
                <a:close/>
              </a:path>
            </a:pathLst>
          </a:custGeom>
          <a:solidFill>
            <a:srgbClr val="ffcc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349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ременной    перев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40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393372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213000"/>
            <a:ext cx="144360" cy="14472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342900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а вк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429264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4724280"/>
            <a:ext cx="14436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692360" y="2852640"/>
            <a:ext cx="576000" cy="576000"/>
            <a:chOff x="1692360" y="2852640"/>
            <a:chExt cx="576000" cy="576000"/>
          </a:xfrm>
        </p:grpSpPr>
        <p:sp>
          <p:nvSpPr>
            <p:cNvPr id="158" name=""/>
            <p:cNvSpPr/>
            <p:nvPr/>
          </p:nvSpPr>
          <p:spPr>
            <a:xfrm>
              <a:off x="1692360" y="2852640"/>
              <a:ext cx="576000" cy="576000"/>
            </a:xfrm>
            <a:prstGeom prst="donut">
              <a:avLst>
                <a:gd name="adj" fmla="val 9944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79280" y="2925360"/>
              <a:ext cx="217440" cy="216000"/>
              <a:chOff x="1979280" y="2925360"/>
              <a:chExt cx="217440" cy="2160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79280" y="3141360"/>
                <a:ext cx="217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979280" y="2925360"/>
                <a:ext cx="0" cy="21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6084720" y="6093000"/>
            <a:ext cx="1225800" cy="431640"/>
          </a:xfrm>
          <a:custGeom>
            <a:avLst/>
            <a:gdLst>
              <a:gd name="textAreaLeft" fmla="*/ 27720 w 1225800"/>
              <a:gd name="textAreaRight" fmla="*/ 1198080 w 1225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308" h="21600">
                <a:moveTo>
                  <a:pt x="0" y="0"/>
                </a:moveTo>
                <a:lnTo>
                  <a:pt x="61308" y="0"/>
                </a:lnTo>
                <a:lnTo>
                  <a:pt x="61308" y="21600"/>
                </a:lnTo>
                <a:lnTo>
                  <a:pt x="0" y="21600"/>
                </a:lnTo>
                <a:close/>
              </a:path>
              <a:path fill="lightenLess" w="61308" h="21600">
                <a:moveTo>
                  <a:pt x="0" y="0"/>
                </a:moveTo>
                <a:lnTo>
                  <a:pt x="61308" y="0"/>
                </a:lnTo>
                <a:lnTo>
                  <a:pt x="59908" y="1400"/>
                </a:lnTo>
                <a:lnTo>
                  <a:pt x="1400" y="1400"/>
                </a:lnTo>
                <a:close/>
              </a:path>
              <a:path fill="darken" w="61308" h="21600">
                <a:moveTo>
                  <a:pt x="61308" y="0"/>
                </a:moveTo>
                <a:lnTo>
                  <a:pt x="61308" y="21600"/>
                </a:lnTo>
                <a:lnTo>
                  <a:pt x="59908" y="20200"/>
                </a:lnTo>
                <a:lnTo>
                  <a:pt x="59908" y="1400"/>
                </a:lnTo>
                <a:close/>
              </a:path>
              <a:path fill="darkenLess" w="61308" h="21600">
                <a:moveTo>
                  <a:pt x="61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908" y="20200"/>
                </a:lnTo>
                <a:close/>
              </a:path>
              <a:path fill="lighten" w="61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2421000"/>
            <a:ext cx="142920" cy="1152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0360" y="2924280"/>
            <a:ext cx="144360" cy="647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522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10" action="ppaction://hlinksldjump"/>
          </p:cNvPr>
          <p:cNvSpPr/>
          <p:nvPr/>
        </p:nvSpPr>
        <p:spPr>
          <a:xfrm>
            <a:off x="5219640" y="609300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00000" y="725400"/>
            <a:ext cx="682560" cy="1611360"/>
            <a:chOff x="900000" y="725400"/>
            <a:chExt cx="682560" cy="1611360"/>
          </a:xfrm>
        </p:grpSpPr>
        <p:sp>
          <p:nvSpPr>
            <p:cNvPr id="168" name=""/>
            <p:cNvSpPr/>
            <p:nvPr/>
          </p:nvSpPr>
          <p:spPr>
            <a:xfrm>
              <a:off x="900000" y="7254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87560" y="12812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258920" y="13413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42560" y="14842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03280" y="765000"/>
            <a:ext cx="682560" cy="1611360"/>
            <a:chOff x="1403280" y="765000"/>
            <a:chExt cx="682560" cy="1611360"/>
          </a:xfrm>
        </p:grpSpPr>
        <p:sp>
          <p:nvSpPr>
            <p:cNvPr id="173" name=""/>
            <p:cNvSpPr/>
            <p:nvPr/>
          </p:nvSpPr>
          <p:spPr>
            <a:xfrm>
              <a:off x="1403280" y="765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90840" y="1320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762200" y="1380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545840" y="1523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116000" y="941400"/>
            <a:ext cx="682560" cy="1611360"/>
            <a:chOff x="1116000" y="941400"/>
            <a:chExt cx="682560" cy="1611360"/>
          </a:xfrm>
        </p:grpSpPr>
        <p:sp>
          <p:nvSpPr>
            <p:cNvPr id="178" name=""/>
            <p:cNvSpPr/>
            <p:nvPr/>
          </p:nvSpPr>
          <p:spPr>
            <a:xfrm>
              <a:off x="1116000" y="9414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560" y="14972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474920" y="15573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258560" y="17002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00000" y="1341360"/>
            <a:ext cx="682560" cy="1611360"/>
            <a:chOff x="900000" y="1341360"/>
            <a:chExt cx="682560" cy="1611360"/>
          </a:xfrm>
        </p:grpSpPr>
        <p:sp>
          <p:nvSpPr>
            <p:cNvPr id="183" name=""/>
            <p:cNvSpPr/>
            <p:nvPr/>
          </p:nvSpPr>
          <p:spPr>
            <a:xfrm>
              <a:off x="900000" y="134136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7560" y="189720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258920" y="195732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042560" y="210024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68360" y="2133720"/>
            <a:ext cx="682560" cy="1611360"/>
            <a:chOff x="468360" y="2133720"/>
            <a:chExt cx="682560" cy="1611360"/>
          </a:xfrm>
        </p:grpSpPr>
        <p:sp>
          <p:nvSpPr>
            <p:cNvPr id="188" name=""/>
            <p:cNvSpPr/>
            <p:nvPr/>
          </p:nvSpPr>
          <p:spPr>
            <a:xfrm>
              <a:off x="468360" y="213372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920" y="268956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27280" y="274968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10920" y="289260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1640" y="4437000"/>
            <a:ext cx="3132000" cy="720720"/>
          </a:xfrm>
          <a:custGeom>
            <a:avLst/>
            <a:gdLst/>
            <a:ahLst/>
            <a:rect l="l" t="t" r="r" b="b"/>
            <a:pathLst>
              <a:path w="11280" h="1357">
                <a:moveTo>
                  <a:pt x="15" y="1087"/>
                </a:moveTo>
                <a:cubicBezTo>
                  <a:pt x="110" y="1082"/>
                  <a:pt x="206" y="1083"/>
                  <a:pt x="300" y="1072"/>
                </a:cubicBezTo>
                <a:cubicBezTo>
                  <a:pt x="388" y="1061"/>
                  <a:pt x="498" y="1000"/>
                  <a:pt x="570" y="952"/>
                </a:cubicBezTo>
                <a:cubicBezTo>
                  <a:pt x="619" y="879"/>
                  <a:pt x="666" y="884"/>
                  <a:pt x="735" y="832"/>
                </a:cubicBezTo>
                <a:cubicBezTo>
                  <a:pt x="752" y="819"/>
                  <a:pt x="763" y="799"/>
                  <a:pt x="780" y="787"/>
                </a:cubicBezTo>
                <a:cubicBezTo>
                  <a:pt x="830" y="752"/>
                  <a:pt x="893" y="729"/>
                  <a:pt x="945" y="697"/>
                </a:cubicBezTo>
                <a:cubicBezTo>
                  <a:pt x="966" y="684"/>
                  <a:pt x="986" y="668"/>
                  <a:pt x="1005" y="652"/>
                </a:cubicBezTo>
                <a:cubicBezTo>
                  <a:pt x="1021" y="638"/>
                  <a:pt x="1032" y="619"/>
                  <a:pt x="1050" y="607"/>
                </a:cubicBezTo>
                <a:cubicBezTo>
                  <a:pt x="1063" y="598"/>
                  <a:pt x="1081" y="599"/>
                  <a:pt x="1095" y="592"/>
                </a:cubicBezTo>
                <a:cubicBezTo>
                  <a:pt x="1175" y="552"/>
                  <a:pt x="1176" y="548"/>
                  <a:pt x="1275" y="532"/>
                </a:cubicBezTo>
                <a:cubicBezTo>
                  <a:pt x="1430" y="537"/>
                  <a:pt x="1586" y="526"/>
                  <a:pt x="1740" y="547"/>
                </a:cubicBezTo>
                <a:cubicBezTo>
                  <a:pt x="1776" y="552"/>
                  <a:pt x="1800" y="587"/>
                  <a:pt x="1830" y="607"/>
                </a:cubicBezTo>
                <a:cubicBezTo>
                  <a:pt x="1895" y="651"/>
                  <a:pt x="1978" y="667"/>
                  <a:pt x="2055" y="682"/>
                </a:cubicBezTo>
                <a:cubicBezTo>
                  <a:pt x="2306" y="672"/>
                  <a:pt x="2443" y="678"/>
                  <a:pt x="2655" y="607"/>
                </a:cubicBezTo>
                <a:cubicBezTo>
                  <a:pt x="2705" y="612"/>
                  <a:pt x="2756" y="611"/>
                  <a:pt x="2805" y="622"/>
                </a:cubicBezTo>
                <a:cubicBezTo>
                  <a:pt x="2827" y="627"/>
                  <a:pt x="2843" y="647"/>
                  <a:pt x="2865" y="652"/>
                </a:cubicBezTo>
                <a:cubicBezTo>
                  <a:pt x="2904" y="662"/>
                  <a:pt x="2945" y="662"/>
                  <a:pt x="2985" y="667"/>
                </a:cubicBezTo>
                <a:cubicBezTo>
                  <a:pt x="3160" y="659"/>
                  <a:pt x="3295" y="674"/>
                  <a:pt x="3450" y="622"/>
                </a:cubicBezTo>
                <a:cubicBezTo>
                  <a:pt x="3515" y="627"/>
                  <a:pt x="3581" y="626"/>
                  <a:pt x="3645" y="637"/>
                </a:cubicBezTo>
                <a:cubicBezTo>
                  <a:pt x="3667" y="641"/>
                  <a:pt x="3684" y="659"/>
                  <a:pt x="3705" y="667"/>
                </a:cubicBezTo>
                <a:cubicBezTo>
                  <a:pt x="3734" y="679"/>
                  <a:pt x="3765" y="687"/>
                  <a:pt x="3795" y="697"/>
                </a:cubicBezTo>
                <a:cubicBezTo>
                  <a:pt x="3825" y="707"/>
                  <a:pt x="3855" y="717"/>
                  <a:pt x="3885" y="727"/>
                </a:cubicBezTo>
                <a:cubicBezTo>
                  <a:pt x="3900" y="732"/>
                  <a:pt x="3930" y="742"/>
                  <a:pt x="3930" y="742"/>
                </a:cubicBezTo>
                <a:cubicBezTo>
                  <a:pt x="4030" y="737"/>
                  <a:pt x="4131" y="739"/>
                  <a:pt x="4230" y="727"/>
                </a:cubicBezTo>
                <a:cubicBezTo>
                  <a:pt x="4307" y="717"/>
                  <a:pt x="4412" y="611"/>
                  <a:pt x="4500" y="607"/>
                </a:cubicBezTo>
                <a:cubicBezTo>
                  <a:pt x="4700" y="598"/>
                  <a:pt x="4900" y="597"/>
                  <a:pt x="5100" y="592"/>
                </a:cubicBezTo>
                <a:cubicBezTo>
                  <a:pt x="5140" y="587"/>
                  <a:pt x="5181" y="587"/>
                  <a:pt x="5220" y="577"/>
                </a:cubicBezTo>
                <a:cubicBezTo>
                  <a:pt x="5257" y="568"/>
                  <a:pt x="5288" y="542"/>
                  <a:pt x="5325" y="532"/>
                </a:cubicBezTo>
                <a:cubicBezTo>
                  <a:pt x="5425" y="505"/>
                  <a:pt x="5526" y="485"/>
                  <a:pt x="5625" y="457"/>
                </a:cubicBezTo>
                <a:cubicBezTo>
                  <a:pt x="5674" y="443"/>
                  <a:pt x="5725" y="420"/>
                  <a:pt x="5775" y="412"/>
                </a:cubicBezTo>
                <a:cubicBezTo>
                  <a:pt x="5929" y="388"/>
                  <a:pt x="6091" y="387"/>
                  <a:pt x="6240" y="337"/>
                </a:cubicBezTo>
                <a:cubicBezTo>
                  <a:pt x="6282" y="274"/>
                  <a:pt x="6343" y="244"/>
                  <a:pt x="6405" y="202"/>
                </a:cubicBezTo>
                <a:cubicBezTo>
                  <a:pt x="6420" y="192"/>
                  <a:pt x="6434" y="180"/>
                  <a:pt x="6450" y="172"/>
                </a:cubicBezTo>
                <a:cubicBezTo>
                  <a:pt x="6470" y="162"/>
                  <a:pt x="6491" y="154"/>
                  <a:pt x="6510" y="142"/>
                </a:cubicBezTo>
                <a:cubicBezTo>
                  <a:pt x="6531" y="129"/>
                  <a:pt x="6548" y="108"/>
                  <a:pt x="6570" y="97"/>
                </a:cubicBezTo>
                <a:cubicBezTo>
                  <a:pt x="6661" y="51"/>
                  <a:pt x="6774" y="39"/>
                  <a:pt x="6870" y="7"/>
                </a:cubicBezTo>
                <a:cubicBezTo>
                  <a:pt x="7141" y="15"/>
                  <a:pt x="7412" y="7"/>
                  <a:pt x="7680" y="52"/>
                </a:cubicBezTo>
                <a:cubicBezTo>
                  <a:pt x="7899" y="161"/>
                  <a:pt x="7563" y="0"/>
                  <a:pt x="7815" y="97"/>
                </a:cubicBezTo>
                <a:cubicBezTo>
                  <a:pt x="7898" y="129"/>
                  <a:pt x="7968" y="180"/>
                  <a:pt x="8055" y="202"/>
                </a:cubicBezTo>
                <a:cubicBezTo>
                  <a:pt x="8082" y="209"/>
                  <a:pt x="8260" y="229"/>
                  <a:pt x="8280" y="232"/>
                </a:cubicBezTo>
                <a:cubicBezTo>
                  <a:pt x="8496" y="268"/>
                  <a:pt x="8486" y="265"/>
                  <a:pt x="8805" y="277"/>
                </a:cubicBezTo>
                <a:cubicBezTo>
                  <a:pt x="8840" y="282"/>
                  <a:pt x="8876" y="282"/>
                  <a:pt x="8910" y="292"/>
                </a:cubicBezTo>
                <a:cubicBezTo>
                  <a:pt x="8959" y="307"/>
                  <a:pt x="9063" y="391"/>
                  <a:pt x="9105" y="412"/>
                </a:cubicBezTo>
                <a:cubicBezTo>
                  <a:pt x="9222" y="470"/>
                  <a:pt x="9305" y="536"/>
                  <a:pt x="9435" y="562"/>
                </a:cubicBezTo>
                <a:cubicBezTo>
                  <a:pt x="9525" y="630"/>
                  <a:pt x="9549" y="604"/>
                  <a:pt x="9645" y="652"/>
                </a:cubicBezTo>
                <a:cubicBezTo>
                  <a:pt x="9722" y="690"/>
                  <a:pt x="9794" y="734"/>
                  <a:pt x="9870" y="772"/>
                </a:cubicBezTo>
                <a:cubicBezTo>
                  <a:pt x="9884" y="779"/>
                  <a:pt x="9901" y="780"/>
                  <a:pt x="9915" y="787"/>
                </a:cubicBezTo>
                <a:cubicBezTo>
                  <a:pt x="9956" y="806"/>
                  <a:pt x="9997" y="824"/>
                  <a:pt x="10035" y="847"/>
                </a:cubicBezTo>
                <a:cubicBezTo>
                  <a:pt x="10113" y="894"/>
                  <a:pt x="10195" y="927"/>
                  <a:pt x="10275" y="967"/>
                </a:cubicBezTo>
                <a:cubicBezTo>
                  <a:pt x="10370" y="1015"/>
                  <a:pt x="10376" y="1050"/>
                  <a:pt x="10485" y="1072"/>
                </a:cubicBezTo>
                <a:cubicBezTo>
                  <a:pt x="10617" y="1138"/>
                  <a:pt x="10770" y="1211"/>
                  <a:pt x="10920" y="1222"/>
                </a:cubicBezTo>
                <a:cubicBezTo>
                  <a:pt x="11040" y="1231"/>
                  <a:pt x="11160" y="1232"/>
                  <a:pt x="11280" y="1237"/>
                </a:cubicBezTo>
                <a:cubicBezTo>
                  <a:pt x="11265" y="1242"/>
                  <a:pt x="11249" y="1245"/>
                  <a:pt x="11235" y="1252"/>
                </a:cubicBezTo>
                <a:cubicBezTo>
                  <a:pt x="11219" y="1260"/>
                  <a:pt x="11207" y="1276"/>
                  <a:pt x="11190" y="1282"/>
                </a:cubicBezTo>
                <a:cubicBezTo>
                  <a:pt x="11007" y="1351"/>
                  <a:pt x="10800" y="1306"/>
                  <a:pt x="10605" y="1312"/>
                </a:cubicBezTo>
                <a:cubicBezTo>
                  <a:pt x="10478" y="1322"/>
                  <a:pt x="10369" y="1336"/>
                  <a:pt x="10245" y="1357"/>
                </a:cubicBezTo>
                <a:cubicBezTo>
                  <a:pt x="7270" y="1352"/>
                  <a:pt x="4295" y="1352"/>
                  <a:pt x="1320" y="1342"/>
                </a:cubicBezTo>
                <a:cubicBezTo>
                  <a:pt x="937" y="1341"/>
                  <a:pt x="455" y="1176"/>
                  <a:pt x="60" y="1132"/>
                </a:cubicBezTo>
                <a:cubicBezTo>
                  <a:pt x="45" y="1127"/>
                  <a:pt x="26" y="1128"/>
                  <a:pt x="15" y="1117"/>
                </a:cubicBezTo>
                <a:cubicBezTo>
                  <a:pt x="4" y="1106"/>
                  <a:pt x="0" y="1088"/>
                  <a:pt x="0" y="1072"/>
                </a:cubicBezTo>
                <a:cubicBezTo>
                  <a:pt x="0" y="1065"/>
                  <a:pt x="10" y="1082"/>
                  <a:pt x="15" y="1087"/>
                </a:cubicBez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451640" y="4005360"/>
            <a:ext cx="1511280" cy="1224000"/>
            <a:chOff x="7451640" y="4005360"/>
            <a:chExt cx="1511280" cy="1224000"/>
          </a:xfrm>
        </p:grpSpPr>
        <p:sp>
          <p:nvSpPr>
            <p:cNvPr id="194" name=""/>
            <p:cNvSpPr/>
            <p:nvPr/>
          </p:nvSpPr>
          <p:spPr>
            <a:xfrm>
              <a:off x="7667640" y="4581360"/>
              <a:ext cx="1152360" cy="648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4005360"/>
              <a:ext cx="1511280" cy="57456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04360" y="4797360"/>
              <a:ext cx="144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8360" y="4797360"/>
              <a:ext cx="144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56720" y="4797360"/>
              <a:ext cx="144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72360" y="4724280"/>
              <a:ext cx="144720" cy="505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40720" y="4797360"/>
              <a:ext cx="144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885080" y="476280"/>
            <a:ext cx="865080" cy="934920"/>
          </a:xfrm>
          <a:prstGeom prst="sun">
            <a:avLst>
              <a:gd name="adj" fmla="val 25000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172360" y="1844640"/>
            <a:ext cx="682560" cy="1611360"/>
            <a:chOff x="8172360" y="1844640"/>
            <a:chExt cx="682560" cy="1611360"/>
          </a:xfrm>
        </p:grpSpPr>
        <p:sp>
          <p:nvSpPr>
            <p:cNvPr id="203" name=""/>
            <p:cNvSpPr/>
            <p:nvPr/>
          </p:nvSpPr>
          <p:spPr>
            <a:xfrm>
              <a:off x="8172360" y="184464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59920" y="240048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531280" y="246060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314920" y="260352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461440" y="2276640"/>
            <a:ext cx="682560" cy="1610640"/>
            <a:chOff x="8461440" y="2276640"/>
            <a:chExt cx="682560" cy="1610640"/>
          </a:xfrm>
        </p:grpSpPr>
        <p:sp>
          <p:nvSpPr>
            <p:cNvPr id="208" name=""/>
            <p:cNvSpPr/>
            <p:nvPr/>
          </p:nvSpPr>
          <p:spPr>
            <a:xfrm>
              <a:off x="8461440" y="2276640"/>
              <a:ext cx="682560" cy="1047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49000" y="2832120"/>
              <a:ext cx="363240" cy="10551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820360" y="2891880"/>
              <a:ext cx="144360" cy="28692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604000" y="303516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55640" y="5661000"/>
            <a:ext cx="75596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ЩЕЛКНУВ НА ОДНУ ИЗ КНОПОК, ВЫБЕРИТЕ МАРШР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2987640" y="4508640"/>
            <a:ext cx="703440" cy="1101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419640" y="486900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танция Весов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56000" y="18900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 ПРИЗНАКОВ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547640" y="260280"/>
            <a:ext cx="648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НАЯ ПОЛЯ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/>
          <p:nvPr/>
        </p:nvSpPr>
        <p:spPr>
          <a:xfrm>
            <a:off x="7451640" y="4724280"/>
            <a:ext cx="1295640" cy="655920"/>
          </a:xfrm>
          <a:custGeom>
            <a:avLst/>
            <a:gdLst/>
            <a:ahLst/>
            <a:rect l="l" t="t" r="r" b="b"/>
            <a:pathLst>
              <a:path w="1474" h="503">
                <a:moveTo>
                  <a:pt x="303" y="451"/>
                </a:moveTo>
                <a:cubicBezTo>
                  <a:pt x="591" y="454"/>
                  <a:pt x="879" y="461"/>
                  <a:pt x="1167" y="461"/>
                </a:cubicBezTo>
                <a:cubicBezTo>
                  <a:pt x="1250" y="461"/>
                  <a:pt x="1336" y="475"/>
                  <a:pt x="1416" y="451"/>
                </a:cubicBezTo>
                <a:cubicBezTo>
                  <a:pt x="1471" y="435"/>
                  <a:pt x="1374" y="359"/>
                  <a:pt x="1474" y="336"/>
                </a:cubicBezTo>
                <a:cubicBezTo>
                  <a:pt x="1465" y="293"/>
                  <a:pt x="1460" y="260"/>
                  <a:pt x="1416" y="240"/>
                </a:cubicBezTo>
                <a:cubicBezTo>
                  <a:pt x="1398" y="232"/>
                  <a:pt x="1359" y="221"/>
                  <a:pt x="1359" y="221"/>
                </a:cubicBezTo>
                <a:cubicBezTo>
                  <a:pt x="1320" y="246"/>
                  <a:pt x="1309" y="282"/>
                  <a:pt x="1263" y="297"/>
                </a:cubicBezTo>
                <a:cubicBezTo>
                  <a:pt x="1207" y="241"/>
                  <a:pt x="1234" y="236"/>
                  <a:pt x="1186" y="269"/>
                </a:cubicBezTo>
                <a:cubicBezTo>
                  <a:pt x="1180" y="278"/>
                  <a:pt x="1178" y="295"/>
                  <a:pt x="1167" y="297"/>
                </a:cubicBezTo>
                <a:cubicBezTo>
                  <a:pt x="1156" y="299"/>
                  <a:pt x="1145" y="287"/>
                  <a:pt x="1138" y="278"/>
                </a:cubicBezTo>
                <a:cubicBezTo>
                  <a:pt x="1132" y="270"/>
                  <a:pt x="1133" y="258"/>
                  <a:pt x="1128" y="249"/>
                </a:cubicBezTo>
                <a:cubicBezTo>
                  <a:pt x="1112" y="218"/>
                  <a:pt x="1089" y="201"/>
                  <a:pt x="1061" y="182"/>
                </a:cubicBezTo>
                <a:cubicBezTo>
                  <a:pt x="1051" y="192"/>
                  <a:pt x="1039" y="200"/>
                  <a:pt x="1032" y="211"/>
                </a:cubicBezTo>
                <a:cubicBezTo>
                  <a:pt x="1008" y="248"/>
                  <a:pt x="1048" y="252"/>
                  <a:pt x="984" y="221"/>
                </a:cubicBezTo>
                <a:cubicBezTo>
                  <a:pt x="968" y="150"/>
                  <a:pt x="920" y="40"/>
                  <a:pt x="859" y="0"/>
                </a:cubicBezTo>
                <a:cubicBezTo>
                  <a:pt x="780" y="26"/>
                  <a:pt x="798" y="32"/>
                  <a:pt x="744" y="86"/>
                </a:cubicBezTo>
                <a:cubicBezTo>
                  <a:pt x="733" y="135"/>
                  <a:pt x="722" y="180"/>
                  <a:pt x="715" y="230"/>
                </a:cubicBezTo>
                <a:cubicBezTo>
                  <a:pt x="631" y="167"/>
                  <a:pt x="669" y="183"/>
                  <a:pt x="610" y="163"/>
                </a:cubicBezTo>
                <a:cubicBezTo>
                  <a:pt x="604" y="176"/>
                  <a:pt x="596" y="188"/>
                  <a:pt x="591" y="201"/>
                </a:cubicBezTo>
                <a:cubicBezTo>
                  <a:pt x="586" y="216"/>
                  <a:pt x="594" y="239"/>
                  <a:pt x="581" y="249"/>
                </a:cubicBezTo>
                <a:cubicBezTo>
                  <a:pt x="572" y="256"/>
                  <a:pt x="563" y="234"/>
                  <a:pt x="552" y="230"/>
                </a:cubicBezTo>
                <a:cubicBezTo>
                  <a:pt x="540" y="225"/>
                  <a:pt x="527" y="224"/>
                  <a:pt x="514" y="221"/>
                </a:cubicBezTo>
                <a:cubicBezTo>
                  <a:pt x="498" y="224"/>
                  <a:pt x="480" y="221"/>
                  <a:pt x="466" y="230"/>
                </a:cubicBezTo>
                <a:cubicBezTo>
                  <a:pt x="457" y="236"/>
                  <a:pt x="462" y="251"/>
                  <a:pt x="456" y="259"/>
                </a:cubicBezTo>
                <a:cubicBezTo>
                  <a:pt x="449" y="268"/>
                  <a:pt x="437" y="272"/>
                  <a:pt x="427" y="278"/>
                </a:cubicBezTo>
                <a:cubicBezTo>
                  <a:pt x="362" y="257"/>
                  <a:pt x="342" y="261"/>
                  <a:pt x="264" y="269"/>
                </a:cubicBezTo>
                <a:cubicBezTo>
                  <a:pt x="258" y="282"/>
                  <a:pt x="250" y="294"/>
                  <a:pt x="245" y="307"/>
                </a:cubicBezTo>
                <a:cubicBezTo>
                  <a:pt x="240" y="319"/>
                  <a:pt x="245" y="337"/>
                  <a:pt x="235" y="345"/>
                </a:cubicBezTo>
                <a:cubicBezTo>
                  <a:pt x="227" y="351"/>
                  <a:pt x="216" y="339"/>
                  <a:pt x="207" y="336"/>
                </a:cubicBezTo>
                <a:cubicBezTo>
                  <a:pt x="178" y="339"/>
                  <a:pt x="148" y="338"/>
                  <a:pt x="120" y="345"/>
                </a:cubicBezTo>
                <a:cubicBezTo>
                  <a:pt x="90" y="353"/>
                  <a:pt x="73" y="392"/>
                  <a:pt x="53" y="413"/>
                </a:cubicBezTo>
                <a:cubicBezTo>
                  <a:pt x="50" y="422"/>
                  <a:pt x="50" y="434"/>
                  <a:pt x="43" y="441"/>
                </a:cubicBezTo>
                <a:cubicBezTo>
                  <a:pt x="36" y="448"/>
                  <a:pt x="19" y="442"/>
                  <a:pt x="15" y="451"/>
                </a:cubicBezTo>
                <a:cubicBezTo>
                  <a:pt x="0" y="481"/>
                  <a:pt x="41" y="485"/>
                  <a:pt x="53" y="489"/>
                </a:cubicBezTo>
                <a:cubicBezTo>
                  <a:pt x="265" y="475"/>
                  <a:pt x="130" y="503"/>
                  <a:pt x="235" y="432"/>
                </a:cubicBezTo>
                <a:cubicBezTo>
                  <a:pt x="248" y="435"/>
                  <a:pt x="261" y="437"/>
                  <a:pt x="274" y="441"/>
                </a:cubicBezTo>
                <a:cubicBezTo>
                  <a:pt x="284" y="444"/>
                  <a:pt x="303" y="451"/>
                  <a:pt x="303" y="451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8200" y="765000"/>
            <a:ext cx="1257120" cy="1257480"/>
          </a:xfrm>
          <a:custGeom>
            <a:avLst/>
            <a:gdLst>
              <a:gd name="textAreaLeft" fmla="*/ 426600 w 1257120"/>
              <a:gd name="textAreaRight" fmla="*/ 830520 w 1257120"/>
              <a:gd name="textAreaTop" fmla="*/ 426600 h 1257480"/>
              <a:gd name="textAreaBottom" fmla="*/ 83088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017720" cy="14907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50920" y="4581360"/>
            <a:ext cx="287280" cy="776520"/>
            <a:chOff x="250920" y="4581360"/>
            <a:chExt cx="287280" cy="776520"/>
          </a:xfrm>
        </p:grpSpPr>
        <p:sp>
          <p:nvSpPr>
            <p:cNvPr id="221" name=""/>
            <p:cNvSpPr/>
            <p:nvPr/>
          </p:nvSpPr>
          <p:spPr>
            <a:xfrm>
              <a:off x="250920" y="4770360"/>
              <a:ext cx="171360" cy="587520"/>
            </a:xfrm>
            <a:custGeom>
              <a:avLst/>
              <a:gdLst/>
              <a:ahLst/>
              <a:rect l="l" t="t" r="r" b="b"/>
              <a:pathLst>
                <a:path w="185" h="507">
                  <a:moveTo>
                    <a:pt x="119" y="397"/>
                  </a:moveTo>
                  <a:cubicBezTo>
                    <a:pt x="154" y="345"/>
                    <a:pt x="185" y="301"/>
                    <a:pt x="147" y="241"/>
                  </a:cubicBezTo>
                  <a:cubicBezTo>
                    <a:pt x="139" y="228"/>
                    <a:pt x="131" y="215"/>
                    <a:pt x="119" y="205"/>
                  </a:cubicBezTo>
                  <a:cubicBezTo>
                    <a:pt x="109" y="196"/>
                    <a:pt x="73" y="176"/>
                    <a:pt x="83" y="186"/>
                  </a:cubicBezTo>
                  <a:cubicBezTo>
                    <a:pt x="95" y="198"/>
                    <a:pt x="113" y="205"/>
                    <a:pt x="128" y="214"/>
                  </a:cubicBezTo>
                  <a:cubicBezTo>
                    <a:pt x="141" y="288"/>
                    <a:pt x="141" y="288"/>
                    <a:pt x="83" y="333"/>
                  </a:cubicBezTo>
                  <a:cubicBezTo>
                    <a:pt x="48" y="507"/>
                    <a:pt x="90" y="316"/>
                    <a:pt x="64" y="13"/>
                  </a:cubicBezTo>
                  <a:cubicBezTo>
                    <a:pt x="63" y="0"/>
                    <a:pt x="53" y="38"/>
                    <a:pt x="46" y="49"/>
                  </a:cubicBezTo>
                  <a:cubicBezTo>
                    <a:pt x="38" y="62"/>
                    <a:pt x="28" y="74"/>
                    <a:pt x="19" y="86"/>
                  </a:cubicBezTo>
                  <a:cubicBezTo>
                    <a:pt x="7" y="146"/>
                    <a:pt x="10" y="195"/>
                    <a:pt x="37" y="250"/>
                  </a:cubicBezTo>
                  <a:cubicBezTo>
                    <a:pt x="49" y="312"/>
                    <a:pt x="36" y="354"/>
                    <a:pt x="0" y="406"/>
                  </a:cubicBezTo>
                  <a:cubicBezTo>
                    <a:pt x="44" y="490"/>
                    <a:pt x="127" y="463"/>
                    <a:pt x="165" y="388"/>
                  </a:cubicBezTo>
                  <a:cubicBezTo>
                    <a:pt x="156" y="367"/>
                    <a:pt x="138" y="324"/>
                    <a:pt x="138" y="324"/>
                  </a:cubicBezTo>
                  <a:lnTo>
                    <a:pt x="119" y="397"/>
                  </a:ln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200" y="4581360"/>
              <a:ext cx="252000" cy="367200"/>
            </a:xfrm>
            <a:prstGeom prst="irregularSeal1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28320" y="4843080"/>
              <a:ext cx="41400" cy="3686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24000" y="4941720"/>
            <a:ext cx="237960" cy="349560"/>
          </a:xfrm>
          <a:custGeom>
            <a:avLst/>
            <a:gdLst/>
            <a:ahLst/>
            <a:rect l="l" t="t" r="r" b="b"/>
            <a:pathLst>
              <a:path w="150" h="220">
                <a:moveTo>
                  <a:pt x="0" y="220"/>
                </a:moveTo>
                <a:cubicBezTo>
                  <a:pt x="10" y="168"/>
                  <a:pt x="14" y="166"/>
                  <a:pt x="55" y="137"/>
                </a:cubicBezTo>
                <a:cubicBezTo>
                  <a:pt x="64" y="45"/>
                  <a:pt x="51" y="33"/>
                  <a:pt x="128" y="0"/>
                </a:cubicBezTo>
                <a:cubicBezTo>
                  <a:pt x="134" y="6"/>
                  <a:pt x="150" y="11"/>
                  <a:pt x="147" y="19"/>
                </a:cubicBezTo>
                <a:cubicBezTo>
                  <a:pt x="141" y="33"/>
                  <a:pt x="120" y="34"/>
                  <a:pt x="110" y="46"/>
                </a:cubicBezTo>
                <a:cubicBezTo>
                  <a:pt x="72" y="90"/>
                  <a:pt x="104" y="143"/>
                  <a:pt x="37" y="165"/>
                </a:cubicBezTo>
                <a:cubicBezTo>
                  <a:pt x="28" y="174"/>
                  <a:pt x="16" y="181"/>
                  <a:pt x="9" y="192"/>
                </a:cubicBezTo>
                <a:cubicBezTo>
                  <a:pt x="4" y="200"/>
                  <a:pt x="0" y="220"/>
                  <a:pt x="0" y="22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78920" y="5300640"/>
            <a:ext cx="576000" cy="991800"/>
            <a:chOff x="178920" y="5300640"/>
            <a:chExt cx="576000" cy="991800"/>
          </a:xfrm>
        </p:grpSpPr>
        <p:sp>
          <p:nvSpPr>
            <p:cNvPr id="226" name=""/>
            <p:cNvSpPr/>
            <p:nvPr/>
          </p:nvSpPr>
          <p:spPr>
            <a:xfrm>
              <a:off x="395280" y="5803920"/>
              <a:ext cx="237960" cy="34920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78920" y="5300640"/>
              <a:ext cx="576000" cy="991800"/>
              <a:chOff x="178920" y="5300640"/>
              <a:chExt cx="576000" cy="9918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50560" y="5300640"/>
                <a:ext cx="504360" cy="991800"/>
                <a:chOff x="250560" y="5300640"/>
                <a:chExt cx="504360" cy="9918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50560" y="5541840"/>
                  <a:ext cx="300960" cy="750600"/>
                </a:xfrm>
                <a:custGeom>
                  <a:avLst/>
                  <a:gdLst/>
                  <a:ahLst/>
                  <a:rect l="l" t="t" r="r" b="b"/>
                  <a:pathLst>
                    <a:path w="185" h="507">
                      <a:moveTo>
                        <a:pt x="119" y="397"/>
                      </a:moveTo>
                      <a:cubicBezTo>
                        <a:pt x="154" y="345"/>
                        <a:pt x="185" y="301"/>
                        <a:pt x="147" y="241"/>
                      </a:cubicBezTo>
                      <a:cubicBezTo>
                        <a:pt x="139" y="228"/>
                        <a:pt x="131" y="215"/>
                        <a:pt x="119" y="205"/>
                      </a:cubicBezTo>
                      <a:cubicBezTo>
                        <a:pt x="109" y="196"/>
                        <a:pt x="73" y="176"/>
                        <a:pt x="83" y="186"/>
                      </a:cubicBezTo>
                      <a:cubicBezTo>
                        <a:pt x="95" y="198"/>
                        <a:pt x="113" y="205"/>
                        <a:pt x="128" y="214"/>
                      </a:cubicBezTo>
                      <a:cubicBezTo>
                        <a:pt x="141" y="288"/>
                        <a:pt x="141" y="288"/>
                        <a:pt x="83" y="333"/>
                      </a:cubicBezTo>
                      <a:cubicBezTo>
                        <a:pt x="48" y="507"/>
                        <a:pt x="90" y="316"/>
                        <a:pt x="64" y="13"/>
                      </a:cubicBezTo>
                      <a:cubicBezTo>
                        <a:pt x="63" y="0"/>
                        <a:pt x="53" y="38"/>
                        <a:pt x="46" y="49"/>
                      </a:cubicBezTo>
                      <a:cubicBezTo>
                        <a:pt x="38" y="62"/>
                        <a:pt x="28" y="74"/>
                        <a:pt x="19" y="86"/>
                      </a:cubicBezTo>
                      <a:cubicBezTo>
                        <a:pt x="7" y="146"/>
                        <a:pt x="10" y="195"/>
                        <a:pt x="37" y="250"/>
                      </a:cubicBezTo>
                      <a:cubicBezTo>
                        <a:pt x="49" y="312"/>
                        <a:pt x="36" y="354"/>
                        <a:pt x="0" y="406"/>
                      </a:cubicBezTo>
                      <a:cubicBezTo>
                        <a:pt x="44" y="490"/>
                        <a:pt x="127" y="463"/>
                        <a:pt x="165" y="388"/>
                      </a:cubicBezTo>
                      <a:cubicBezTo>
                        <a:pt x="156" y="367"/>
                        <a:pt x="138" y="324"/>
                        <a:pt x="138" y="324"/>
                      </a:cubicBezTo>
                      <a:lnTo>
                        <a:pt x="119" y="39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ff33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2480" y="5300640"/>
                  <a:ext cx="442440" cy="469440"/>
                </a:xfrm>
                <a:prstGeom prst="irregularSeal1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387000" y="5635080"/>
                  <a:ext cx="73080" cy="470880"/>
                </a:xfrm>
                <a:prstGeom prst="line">
                  <a:avLst/>
                </a:prstGeom>
                <a:ln w="507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>
                <a:off x="178560" y="5803560"/>
                <a:ext cx="215640" cy="421920"/>
              </a:xfrm>
              <a:custGeom>
                <a:avLst/>
                <a:gdLst/>
                <a:ahLst/>
                <a:rect l="l" t="t" r="r" b="b"/>
                <a:pathLst>
                  <a:path w="150" h="220">
                    <a:moveTo>
                      <a:pt x="0" y="220"/>
                    </a:moveTo>
                    <a:cubicBezTo>
                      <a:pt x="10" y="168"/>
                      <a:pt x="14" y="166"/>
                      <a:pt x="55" y="137"/>
                    </a:cubicBezTo>
                    <a:cubicBezTo>
                      <a:pt x="64" y="45"/>
                      <a:pt x="51" y="33"/>
                      <a:pt x="128" y="0"/>
                    </a:cubicBezTo>
                    <a:cubicBezTo>
                      <a:pt x="134" y="6"/>
                      <a:pt x="150" y="11"/>
                      <a:pt x="147" y="19"/>
                    </a:cubicBezTo>
                    <a:cubicBezTo>
                      <a:pt x="141" y="33"/>
                      <a:pt x="120" y="34"/>
                      <a:pt x="110" y="46"/>
                    </a:cubicBezTo>
                    <a:cubicBezTo>
                      <a:pt x="72" y="90"/>
                      <a:pt x="104" y="143"/>
                      <a:pt x="37" y="165"/>
                    </a:cubicBezTo>
                    <a:cubicBezTo>
                      <a:pt x="28" y="174"/>
                      <a:pt x="16" y="181"/>
                      <a:pt x="9" y="192"/>
                    </a:cubicBezTo>
                    <a:cubicBezTo>
                      <a:pt x="4" y="200"/>
                      <a:pt x="0" y="220"/>
                      <a:pt x="0" y="220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535320" y="4653000"/>
            <a:ext cx="578880" cy="920520"/>
            <a:chOff x="535320" y="4653000"/>
            <a:chExt cx="578880" cy="920520"/>
          </a:xfrm>
        </p:grpSpPr>
        <p:grpSp>
          <p:nvGrpSpPr>
            <p:cNvPr id="234" name=""/>
            <p:cNvGrpSpPr/>
            <p:nvPr/>
          </p:nvGrpSpPr>
          <p:grpSpPr>
            <a:xfrm>
              <a:off x="682920" y="4653000"/>
              <a:ext cx="431280" cy="920520"/>
              <a:chOff x="682920" y="4653000"/>
              <a:chExt cx="431280" cy="920520"/>
            </a:xfrm>
          </p:grpSpPr>
          <p:sp>
            <p:nvSpPr>
              <p:cNvPr id="235" name=""/>
              <p:cNvSpPr/>
              <p:nvPr/>
            </p:nvSpPr>
            <p:spPr>
              <a:xfrm>
                <a:off x="682920" y="4876920"/>
                <a:ext cx="257400" cy="69660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5840" y="4653000"/>
                <a:ext cx="378360" cy="43560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99560" y="4963320"/>
                <a:ext cx="62280" cy="43704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56000" y="5156280"/>
              <a:ext cx="237960" cy="34920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566200">
              <a:off x="502560" y="5048640"/>
              <a:ext cx="438120" cy="22068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096400" y="4869000"/>
            <a:ext cx="578880" cy="920160"/>
            <a:chOff x="8096400" y="4869000"/>
            <a:chExt cx="578880" cy="920160"/>
          </a:xfrm>
        </p:grpSpPr>
        <p:grpSp>
          <p:nvGrpSpPr>
            <p:cNvPr id="241" name=""/>
            <p:cNvGrpSpPr/>
            <p:nvPr/>
          </p:nvGrpSpPr>
          <p:grpSpPr>
            <a:xfrm>
              <a:off x="8244000" y="4869000"/>
              <a:ext cx="431280" cy="920160"/>
              <a:chOff x="8244000" y="4869000"/>
              <a:chExt cx="431280" cy="92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8244000" y="5092920"/>
                <a:ext cx="257400" cy="69624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96920" y="4869000"/>
                <a:ext cx="378360" cy="43560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360640" y="5179320"/>
                <a:ext cx="62280" cy="43704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rot="17566200">
              <a:off x="8063640" y="5337720"/>
              <a:ext cx="438120" cy="22068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8528400" y="5013360"/>
            <a:ext cx="578880" cy="920160"/>
            <a:chOff x="8528400" y="5013360"/>
            <a:chExt cx="578880" cy="920160"/>
          </a:xfrm>
        </p:grpSpPr>
        <p:grpSp>
          <p:nvGrpSpPr>
            <p:cNvPr id="247" name=""/>
            <p:cNvGrpSpPr/>
            <p:nvPr/>
          </p:nvGrpSpPr>
          <p:grpSpPr>
            <a:xfrm>
              <a:off x="8676000" y="5013360"/>
              <a:ext cx="431280" cy="920160"/>
              <a:chOff x="8676000" y="5013360"/>
              <a:chExt cx="431280" cy="920160"/>
            </a:xfrm>
          </p:grpSpPr>
          <p:sp>
            <p:nvSpPr>
              <p:cNvPr id="248" name=""/>
              <p:cNvSpPr/>
              <p:nvPr/>
            </p:nvSpPr>
            <p:spPr>
              <a:xfrm>
                <a:off x="8676000" y="5237280"/>
                <a:ext cx="257400" cy="69624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728920" y="5013360"/>
                <a:ext cx="378360" cy="43560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8792640" y="5323680"/>
                <a:ext cx="62280" cy="43704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rot="17566200">
              <a:off x="8495640" y="5482080"/>
              <a:ext cx="438120" cy="22068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3357720"/>
            <a:ext cx="9107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005360"/>
            <a:ext cx="311040" cy="360000"/>
            <a:chOff x="1332000" y="4005360"/>
            <a:chExt cx="311040" cy="36000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005360"/>
              <a:ext cx="287280" cy="360000"/>
              <a:chOff x="1332000" y="4005360"/>
              <a:chExt cx="287280" cy="360000"/>
            </a:xfrm>
          </p:grpSpPr>
          <p:sp>
            <p:nvSpPr>
              <p:cNvPr id="255" name=""/>
              <p:cNvSpPr/>
              <p:nvPr/>
            </p:nvSpPr>
            <p:spPr>
              <a:xfrm>
                <a:off x="1332000" y="4092840"/>
                <a:ext cx="171360" cy="27252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7280" y="4005360"/>
                <a:ext cx="252000" cy="17064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409400" y="4126680"/>
                <a:ext cx="41400" cy="17100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405080" y="4160520"/>
              <a:ext cx="237960" cy="16200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8604360" y="4292640"/>
            <a:ext cx="311040" cy="560520"/>
            <a:chOff x="8604360" y="4292640"/>
            <a:chExt cx="311040" cy="560520"/>
          </a:xfrm>
        </p:grpSpPr>
        <p:grpSp>
          <p:nvGrpSpPr>
            <p:cNvPr id="260" name=""/>
            <p:cNvGrpSpPr/>
            <p:nvPr/>
          </p:nvGrpSpPr>
          <p:grpSpPr>
            <a:xfrm>
              <a:off x="8604360" y="4292640"/>
              <a:ext cx="287280" cy="560520"/>
              <a:chOff x="8604360" y="4292640"/>
              <a:chExt cx="287280" cy="560520"/>
            </a:xfrm>
          </p:grpSpPr>
          <p:sp>
            <p:nvSpPr>
              <p:cNvPr id="261" name=""/>
              <p:cNvSpPr/>
              <p:nvPr/>
            </p:nvSpPr>
            <p:spPr>
              <a:xfrm>
                <a:off x="8604360" y="4429080"/>
                <a:ext cx="171360" cy="42408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639640" y="4292640"/>
                <a:ext cx="252000" cy="26532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8681760" y="4481640"/>
                <a:ext cx="41400" cy="26604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8677440" y="4534200"/>
              <a:ext cx="237960" cy="25236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295280" y="2781360"/>
            <a:ext cx="7848720" cy="718920"/>
          </a:xfrm>
          <a:custGeom>
            <a:avLst/>
            <a:gdLst/>
            <a:ahLst/>
            <a:rect l="l" t="t" r="r" b="b"/>
            <a:pathLst>
              <a:path w="11280" h="1357">
                <a:moveTo>
                  <a:pt x="15" y="1087"/>
                </a:moveTo>
                <a:cubicBezTo>
                  <a:pt x="110" y="1082"/>
                  <a:pt x="206" y="1083"/>
                  <a:pt x="300" y="1072"/>
                </a:cubicBezTo>
                <a:cubicBezTo>
                  <a:pt x="388" y="1061"/>
                  <a:pt x="498" y="1000"/>
                  <a:pt x="570" y="952"/>
                </a:cubicBezTo>
                <a:cubicBezTo>
                  <a:pt x="619" y="879"/>
                  <a:pt x="666" y="884"/>
                  <a:pt x="735" y="832"/>
                </a:cubicBezTo>
                <a:cubicBezTo>
                  <a:pt x="752" y="819"/>
                  <a:pt x="763" y="799"/>
                  <a:pt x="780" y="787"/>
                </a:cubicBezTo>
                <a:cubicBezTo>
                  <a:pt x="830" y="752"/>
                  <a:pt x="893" y="729"/>
                  <a:pt x="945" y="697"/>
                </a:cubicBezTo>
                <a:cubicBezTo>
                  <a:pt x="966" y="684"/>
                  <a:pt x="986" y="668"/>
                  <a:pt x="1005" y="652"/>
                </a:cubicBezTo>
                <a:cubicBezTo>
                  <a:pt x="1021" y="638"/>
                  <a:pt x="1032" y="619"/>
                  <a:pt x="1050" y="607"/>
                </a:cubicBezTo>
                <a:cubicBezTo>
                  <a:pt x="1063" y="598"/>
                  <a:pt x="1081" y="599"/>
                  <a:pt x="1095" y="592"/>
                </a:cubicBezTo>
                <a:cubicBezTo>
                  <a:pt x="1175" y="552"/>
                  <a:pt x="1176" y="548"/>
                  <a:pt x="1275" y="532"/>
                </a:cubicBezTo>
                <a:cubicBezTo>
                  <a:pt x="1430" y="537"/>
                  <a:pt x="1586" y="526"/>
                  <a:pt x="1740" y="547"/>
                </a:cubicBezTo>
                <a:cubicBezTo>
                  <a:pt x="1776" y="552"/>
                  <a:pt x="1800" y="587"/>
                  <a:pt x="1830" y="607"/>
                </a:cubicBezTo>
                <a:cubicBezTo>
                  <a:pt x="1895" y="651"/>
                  <a:pt x="1978" y="667"/>
                  <a:pt x="2055" y="682"/>
                </a:cubicBezTo>
                <a:cubicBezTo>
                  <a:pt x="2306" y="672"/>
                  <a:pt x="2443" y="678"/>
                  <a:pt x="2655" y="607"/>
                </a:cubicBezTo>
                <a:cubicBezTo>
                  <a:pt x="2705" y="612"/>
                  <a:pt x="2756" y="611"/>
                  <a:pt x="2805" y="622"/>
                </a:cubicBezTo>
                <a:cubicBezTo>
                  <a:pt x="2827" y="627"/>
                  <a:pt x="2843" y="647"/>
                  <a:pt x="2865" y="652"/>
                </a:cubicBezTo>
                <a:cubicBezTo>
                  <a:pt x="2904" y="662"/>
                  <a:pt x="2945" y="662"/>
                  <a:pt x="2985" y="667"/>
                </a:cubicBezTo>
                <a:cubicBezTo>
                  <a:pt x="3160" y="659"/>
                  <a:pt x="3295" y="674"/>
                  <a:pt x="3450" y="622"/>
                </a:cubicBezTo>
                <a:cubicBezTo>
                  <a:pt x="3515" y="627"/>
                  <a:pt x="3581" y="626"/>
                  <a:pt x="3645" y="637"/>
                </a:cubicBezTo>
                <a:cubicBezTo>
                  <a:pt x="3667" y="641"/>
                  <a:pt x="3684" y="659"/>
                  <a:pt x="3705" y="667"/>
                </a:cubicBezTo>
                <a:cubicBezTo>
                  <a:pt x="3734" y="679"/>
                  <a:pt x="3765" y="687"/>
                  <a:pt x="3795" y="697"/>
                </a:cubicBezTo>
                <a:cubicBezTo>
                  <a:pt x="3825" y="707"/>
                  <a:pt x="3855" y="717"/>
                  <a:pt x="3885" y="727"/>
                </a:cubicBezTo>
                <a:cubicBezTo>
                  <a:pt x="3900" y="732"/>
                  <a:pt x="3930" y="742"/>
                  <a:pt x="3930" y="742"/>
                </a:cubicBezTo>
                <a:cubicBezTo>
                  <a:pt x="4030" y="737"/>
                  <a:pt x="4131" y="739"/>
                  <a:pt x="4230" y="727"/>
                </a:cubicBezTo>
                <a:cubicBezTo>
                  <a:pt x="4307" y="717"/>
                  <a:pt x="4412" y="611"/>
                  <a:pt x="4500" y="607"/>
                </a:cubicBezTo>
                <a:cubicBezTo>
                  <a:pt x="4700" y="598"/>
                  <a:pt x="4900" y="597"/>
                  <a:pt x="5100" y="592"/>
                </a:cubicBezTo>
                <a:cubicBezTo>
                  <a:pt x="5140" y="587"/>
                  <a:pt x="5181" y="587"/>
                  <a:pt x="5220" y="577"/>
                </a:cubicBezTo>
                <a:cubicBezTo>
                  <a:pt x="5257" y="568"/>
                  <a:pt x="5288" y="542"/>
                  <a:pt x="5325" y="532"/>
                </a:cubicBezTo>
                <a:cubicBezTo>
                  <a:pt x="5425" y="505"/>
                  <a:pt x="5526" y="485"/>
                  <a:pt x="5625" y="457"/>
                </a:cubicBezTo>
                <a:cubicBezTo>
                  <a:pt x="5674" y="443"/>
                  <a:pt x="5725" y="420"/>
                  <a:pt x="5775" y="412"/>
                </a:cubicBezTo>
                <a:cubicBezTo>
                  <a:pt x="5929" y="388"/>
                  <a:pt x="6091" y="387"/>
                  <a:pt x="6240" y="337"/>
                </a:cubicBezTo>
                <a:cubicBezTo>
                  <a:pt x="6282" y="274"/>
                  <a:pt x="6343" y="244"/>
                  <a:pt x="6405" y="202"/>
                </a:cubicBezTo>
                <a:cubicBezTo>
                  <a:pt x="6420" y="192"/>
                  <a:pt x="6434" y="180"/>
                  <a:pt x="6450" y="172"/>
                </a:cubicBezTo>
                <a:cubicBezTo>
                  <a:pt x="6470" y="162"/>
                  <a:pt x="6491" y="154"/>
                  <a:pt x="6510" y="142"/>
                </a:cubicBezTo>
                <a:cubicBezTo>
                  <a:pt x="6531" y="129"/>
                  <a:pt x="6548" y="108"/>
                  <a:pt x="6570" y="97"/>
                </a:cubicBezTo>
                <a:cubicBezTo>
                  <a:pt x="6661" y="51"/>
                  <a:pt x="6774" y="39"/>
                  <a:pt x="6870" y="7"/>
                </a:cubicBezTo>
                <a:cubicBezTo>
                  <a:pt x="7141" y="15"/>
                  <a:pt x="7412" y="7"/>
                  <a:pt x="7680" y="52"/>
                </a:cubicBezTo>
                <a:cubicBezTo>
                  <a:pt x="7899" y="161"/>
                  <a:pt x="7563" y="0"/>
                  <a:pt x="7815" y="97"/>
                </a:cubicBezTo>
                <a:cubicBezTo>
                  <a:pt x="7898" y="129"/>
                  <a:pt x="7968" y="180"/>
                  <a:pt x="8055" y="202"/>
                </a:cubicBezTo>
                <a:cubicBezTo>
                  <a:pt x="8082" y="209"/>
                  <a:pt x="8260" y="229"/>
                  <a:pt x="8280" y="232"/>
                </a:cubicBezTo>
                <a:cubicBezTo>
                  <a:pt x="8496" y="268"/>
                  <a:pt x="8486" y="265"/>
                  <a:pt x="8805" y="277"/>
                </a:cubicBezTo>
                <a:cubicBezTo>
                  <a:pt x="8840" y="282"/>
                  <a:pt x="8876" y="282"/>
                  <a:pt x="8910" y="292"/>
                </a:cubicBezTo>
                <a:cubicBezTo>
                  <a:pt x="8959" y="307"/>
                  <a:pt x="9063" y="391"/>
                  <a:pt x="9105" y="412"/>
                </a:cubicBezTo>
                <a:cubicBezTo>
                  <a:pt x="9222" y="470"/>
                  <a:pt x="9305" y="536"/>
                  <a:pt x="9435" y="562"/>
                </a:cubicBezTo>
                <a:cubicBezTo>
                  <a:pt x="9525" y="630"/>
                  <a:pt x="9549" y="604"/>
                  <a:pt x="9645" y="652"/>
                </a:cubicBezTo>
                <a:cubicBezTo>
                  <a:pt x="9722" y="690"/>
                  <a:pt x="9794" y="734"/>
                  <a:pt x="9870" y="772"/>
                </a:cubicBezTo>
                <a:cubicBezTo>
                  <a:pt x="9884" y="779"/>
                  <a:pt x="9901" y="780"/>
                  <a:pt x="9915" y="787"/>
                </a:cubicBezTo>
                <a:cubicBezTo>
                  <a:pt x="9956" y="806"/>
                  <a:pt x="9997" y="824"/>
                  <a:pt x="10035" y="847"/>
                </a:cubicBezTo>
                <a:cubicBezTo>
                  <a:pt x="10113" y="894"/>
                  <a:pt x="10195" y="927"/>
                  <a:pt x="10275" y="967"/>
                </a:cubicBezTo>
                <a:cubicBezTo>
                  <a:pt x="10370" y="1015"/>
                  <a:pt x="10376" y="1050"/>
                  <a:pt x="10485" y="1072"/>
                </a:cubicBezTo>
                <a:cubicBezTo>
                  <a:pt x="10617" y="1138"/>
                  <a:pt x="10770" y="1211"/>
                  <a:pt x="10920" y="1222"/>
                </a:cubicBezTo>
                <a:cubicBezTo>
                  <a:pt x="11040" y="1231"/>
                  <a:pt x="11160" y="1232"/>
                  <a:pt x="11280" y="1237"/>
                </a:cubicBezTo>
                <a:cubicBezTo>
                  <a:pt x="11265" y="1242"/>
                  <a:pt x="11249" y="1245"/>
                  <a:pt x="11235" y="1252"/>
                </a:cubicBezTo>
                <a:cubicBezTo>
                  <a:pt x="11219" y="1260"/>
                  <a:pt x="11207" y="1276"/>
                  <a:pt x="11190" y="1282"/>
                </a:cubicBezTo>
                <a:cubicBezTo>
                  <a:pt x="11007" y="1351"/>
                  <a:pt x="10800" y="1306"/>
                  <a:pt x="10605" y="1312"/>
                </a:cubicBezTo>
                <a:cubicBezTo>
                  <a:pt x="10478" y="1322"/>
                  <a:pt x="10369" y="1336"/>
                  <a:pt x="10245" y="1357"/>
                </a:cubicBezTo>
                <a:cubicBezTo>
                  <a:pt x="7270" y="1352"/>
                  <a:pt x="4295" y="1352"/>
                  <a:pt x="1320" y="1342"/>
                </a:cubicBezTo>
                <a:cubicBezTo>
                  <a:pt x="937" y="1341"/>
                  <a:pt x="455" y="1176"/>
                  <a:pt x="60" y="1132"/>
                </a:cubicBezTo>
                <a:cubicBezTo>
                  <a:pt x="45" y="1127"/>
                  <a:pt x="26" y="1128"/>
                  <a:pt x="15" y="1117"/>
                </a:cubicBezTo>
                <a:cubicBezTo>
                  <a:pt x="4" y="1106"/>
                  <a:pt x="0" y="1088"/>
                  <a:pt x="0" y="1072"/>
                </a:cubicBezTo>
                <a:cubicBezTo>
                  <a:pt x="0" y="1065"/>
                  <a:pt x="10" y="1082"/>
                  <a:pt x="15" y="1087"/>
                </a:cubicBez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14480" y="3483000"/>
            <a:ext cx="5067360" cy="3432240"/>
          </a:xfrm>
          <a:custGeom>
            <a:avLst/>
            <a:gdLst/>
            <a:ahLst/>
            <a:rect l="l" t="t" r="r" b="b"/>
            <a:pathLst>
              <a:path w="3192" h="2162">
                <a:moveTo>
                  <a:pt x="123" y="2080"/>
                </a:moveTo>
                <a:cubicBezTo>
                  <a:pt x="167" y="2036"/>
                  <a:pt x="451" y="2012"/>
                  <a:pt x="494" y="1968"/>
                </a:cubicBezTo>
                <a:cubicBezTo>
                  <a:pt x="504" y="1930"/>
                  <a:pt x="506" y="1883"/>
                  <a:pt x="522" y="1847"/>
                </a:cubicBezTo>
                <a:cubicBezTo>
                  <a:pt x="535" y="1818"/>
                  <a:pt x="554" y="1792"/>
                  <a:pt x="569" y="1764"/>
                </a:cubicBezTo>
                <a:cubicBezTo>
                  <a:pt x="579" y="1688"/>
                  <a:pt x="638" y="1671"/>
                  <a:pt x="699" y="1624"/>
                </a:cubicBezTo>
                <a:cubicBezTo>
                  <a:pt x="710" y="1568"/>
                  <a:pt x="722" y="1612"/>
                  <a:pt x="773" y="1587"/>
                </a:cubicBezTo>
                <a:cubicBezTo>
                  <a:pt x="786" y="1568"/>
                  <a:pt x="908" y="1547"/>
                  <a:pt x="922" y="1513"/>
                </a:cubicBezTo>
                <a:cubicBezTo>
                  <a:pt x="958" y="1491"/>
                  <a:pt x="967" y="1477"/>
                  <a:pt x="987" y="1457"/>
                </a:cubicBezTo>
                <a:cubicBezTo>
                  <a:pt x="996" y="1448"/>
                  <a:pt x="1036" y="1403"/>
                  <a:pt x="1043" y="1392"/>
                </a:cubicBezTo>
                <a:cubicBezTo>
                  <a:pt x="1048" y="1384"/>
                  <a:pt x="1044" y="1388"/>
                  <a:pt x="1052" y="1383"/>
                </a:cubicBezTo>
                <a:cubicBezTo>
                  <a:pt x="1065" y="1374"/>
                  <a:pt x="1065" y="1367"/>
                  <a:pt x="1080" y="1364"/>
                </a:cubicBezTo>
                <a:cubicBezTo>
                  <a:pt x="1137" y="1351"/>
                  <a:pt x="1113" y="1317"/>
                  <a:pt x="1171" y="1308"/>
                </a:cubicBezTo>
                <a:cubicBezTo>
                  <a:pt x="1181" y="1295"/>
                  <a:pt x="1157" y="1319"/>
                  <a:pt x="1191" y="1308"/>
                </a:cubicBezTo>
                <a:cubicBezTo>
                  <a:pt x="1225" y="1297"/>
                  <a:pt x="1341" y="1260"/>
                  <a:pt x="1377" y="1243"/>
                </a:cubicBezTo>
                <a:cubicBezTo>
                  <a:pt x="1386" y="1231"/>
                  <a:pt x="1392" y="1214"/>
                  <a:pt x="1405" y="1206"/>
                </a:cubicBezTo>
                <a:cubicBezTo>
                  <a:pt x="1420" y="1197"/>
                  <a:pt x="1515" y="1182"/>
                  <a:pt x="1535" y="1178"/>
                </a:cubicBezTo>
                <a:cubicBezTo>
                  <a:pt x="1547" y="1172"/>
                  <a:pt x="1562" y="1170"/>
                  <a:pt x="1572" y="1160"/>
                </a:cubicBezTo>
                <a:cubicBezTo>
                  <a:pt x="1579" y="1153"/>
                  <a:pt x="1573" y="1137"/>
                  <a:pt x="1581" y="1132"/>
                </a:cubicBezTo>
                <a:cubicBezTo>
                  <a:pt x="1594" y="1123"/>
                  <a:pt x="1612" y="1126"/>
                  <a:pt x="1628" y="1123"/>
                </a:cubicBezTo>
                <a:cubicBezTo>
                  <a:pt x="1733" y="1018"/>
                  <a:pt x="1562" y="1182"/>
                  <a:pt x="1702" y="1076"/>
                </a:cubicBezTo>
                <a:cubicBezTo>
                  <a:pt x="1714" y="1067"/>
                  <a:pt x="1718" y="1049"/>
                  <a:pt x="1730" y="1039"/>
                </a:cubicBezTo>
                <a:cubicBezTo>
                  <a:pt x="1741" y="1030"/>
                  <a:pt x="1756" y="1028"/>
                  <a:pt x="1767" y="1020"/>
                </a:cubicBezTo>
                <a:cubicBezTo>
                  <a:pt x="1778" y="1013"/>
                  <a:pt x="1784" y="1000"/>
                  <a:pt x="1795" y="993"/>
                </a:cubicBezTo>
                <a:cubicBezTo>
                  <a:pt x="1851" y="959"/>
                  <a:pt x="1917" y="956"/>
                  <a:pt x="1972" y="918"/>
                </a:cubicBezTo>
                <a:cubicBezTo>
                  <a:pt x="2015" y="855"/>
                  <a:pt x="1988" y="870"/>
                  <a:pt x="2037" y="853"/>
                </a:cubicBezTo>
                <a:cubicBezTo>
                  <a:pt x="2046" y="824"/>
                  <a:pt x="2069" y="791"/>
                  <a:pt x="2092" y="770"/>
                </a:cubicBezTo>
                <a:cubicBezTo>
                  <a:pt x="2115" y="749"/>
                  <a:pt x="2167" y="714"/>
                  <a:pt x="2167" y="714"/>
                </a:cubicBezTo>
                <a:cubicBezTo>
                  <a:pt x="2171" y="693"/>
                  <a:pt x="2189" y="630"/>
                  <a:pt x="2204" y="612"/>
                </a:cubicBezTo>
                <a:cubicBezTo>
                  <a:pt x="2222" y="590"/>
                  <a:pt x="2249" y="576"/>
                  <a:pt x="2269" y="556"/>
                </a:cubicBezTo>
                <a:cubicBezTo>
                  <a:pt x="2289" y="493"/>
                  <a:pt x="2261" y="556"/>
                  <a:pt x="2306" y="519"/>
                </a:cubicBezTo>
                <a:cubicBezTo>
                  <a:pt x="2318" y="509"/>
                  <a:pt x="2322" y="492"/>
                  <a:pt x="2334" y="482"/>
                </a:cubicBezTo>
                <a:cubicBezTo>
                  <a:pt x="2347" y="470"/>
                  <a:pt x="2366" y="466"/>
                  <a:pt x="2380" y="454"/>
                </a:cubicBezTo>
                <a:cubicBezTo>
                  <a:pt x="2442" y="402"/>
                  <a:pt x="2440" y="384"/>
                  <a:pt x="2510" y="361"/>
                </a:cubicBezTo>
                <a:cubicBezTo>
                  <a:pt x="2528" y="310"/>
                  <a:pt x="2571" y="314"/>
                  <a:pt x="2613" y="287"/>
                </a:cubicBezTo>
                <a:cubicBezTo>
                  <a:pt x="2630" y="235"/>
                  <a:pt x="2675" y="210"/>
                  <a:pt x="2724" y="194"/>
                </a:cubicBezTo>
                <a:cubicBezTo>
                  <a:pt x="2756" y="162"/>
                  <a:pt x="2797" y="141"/>
                  <a:pt x="2836" y="119"/>
                </a:cubicBezTo>
                <a:cubicBezTo>
                  <a:pt x="2864" y="103"/>
                  <a:pt x="2900" y="107"/>
                  <a:pt x="2928" y="91"/>
                </a:cubicBezTo>
                <a:cubicBezTo>
                  <a:pt x="2976" y="64"/>
                  <a:pt x="3142" y="24"/>
                  <a:pt x="3192" y="0"/>
                </a:cubicBezTo>
                <a:cubicBezTo>
                  <a:pt x="3185" y="19"/>
                  <a:pt x="3033" y="79"/>
                  <a:pt x="3021" y="91"/>
                </a:cubicBezTo>
                <a:cubicBezTo>
                  <a:pt x="3014" y="98"/>
                  <a:pt x="3003" y="98"/>
                  <a:pt x="2994" y="101"/>
                </a:cubicBezTo>
                <a:cubicBezTo>
                  <a:pt x="2985" y="110"/>
                  <a:pt x="2974" y="118"/>
                  <a:pt x="2966" y="129"/>
                </a:cubicBezTo>
                <a:cubicBezTo>
                  <a:pt x="2961" y="137"/>
                  <a:pt x="2963" y="150"/>
                  <a:pt x="2956" y="156"/>
                </a:cubicBezTo>
                <a:cubicBezTo>
                  <a:pt x="2933" y="175"/>
                  <a:pt x="2865" y="197"/>
                  <a:pt x="2836" y="203"/>
                </a:cubicBezTo>
                <a:cubicBezTo>
                  <a:pt x="2833" y="212"/>
                  <a:pt x="2833" y="224"/>
                  <a:pt x="2826" y="231"/>
                </a:cubicBezTo>
                <a:cubicBezTo>
                  <a:pt x="2812" y="245"/>
                  <a:pt x="2711" y="315"/>
                  <a:pt x="2687" y="324"/>
                </a:cubicBezTo>
                <a:cubicBezTo>
                  <a:pt x="2678" y="336"/>
                  <a:pt x="2671" y="352"/>
                  <a:pt x="2659" y="361"/>
                </a:cubicBezTo>
                <a:cubicBezTo>
                  <a:pt x="2646" y="371"/>
                  <a:pt x="2625" y="368"/>
                  <a:pt x="2613" y="379"/>
                </a:cubicBezTo>
                <a:cubicBezTo>
                  <a:pt x="2512" y="469"/>
                  <a:pt x="2609" y="429"/>
                  <a:pt x="2538" y="454"/>
                </a:cubicBezTo>
                <a:cubicBezTo>
                  <a:pt x="2516" y="488"/>
                  <a:pt x="2508" y="515"/>
                  <a:pt x="2473" y="537"/>
                </a:cubicBezTo>
                <a:cubicBezTo>
                  <a:pt x="2467" y="546"/>
                  <a:pt x="2460" y="555"/>
                  <a:pt x="2455" y="565"/>
                </a:cubicBezTo>
                <a:cubicBezTo>
                  <a:pt x="2451" y="574"/>
                  <a:pt x="2451" y="585"/>
                  <a:pt x="2445" y="593"/>
                </a:cubicBezTo>
                <a:cubicBezTo>
                  <a:pt x="2435" y="605"/>
                  <a:pt x="2408" y="621"/>
                  <a:pt x="2408" y="621"/>
                </a:cubicBezTo>
                <a:cubicBezTo>
                  <a:pt x="2399" y="630"/>
                  <a:pt x="2387" y="638"/>
                  <a:pt x="2380" y="649"/>
                </a:cubicBezTo>
                <a:cubicBezTo>
                  <a:pt x="2352" y="692"/>
                  <a:pt x="2396" y="669"/>
                  <a:pt x="2343" y="686"/>
                </a:cubicBezTo>
                <a:cubicBezTo>
                  <a:pt x="2334" y="724"/>
                  <a:pt x="2326" y="768"/>
                  <a:pt x="2297" y="797"/>
                </a:cubicBezTo>
                <a:cubicBezTo>
                  <a:pt x="2265" y="829"/>
                  <a:pt x="2269" y="819"/>
                  <a:pt x="2250" y="863"/>
                </a:cubicBezTo>
                <a:cubicBezTo>
                  <a:pt x="2232" y="905"/>
                  <a:pt x="2254" y="921"/>
                  <a:pt x="2204" y="937"/>
                </a:cubicBezTo>
                <a:cubicBezTo>
                  <a:pt x="2179" y="986"/>
                  <a:pt x="2166" y="1042"/>
                  <a:pt x="2130" y="1085"/>
                </a:cubicBezTo>
                <a:cubicBezTo>
                  <a:pt x="2123" y="1094"/>
                  <a:pt x="2110" y="1096"/>
                  <a:pt x="2102" y="1104"/>
                </a:cubicBezTo>
                <a:cubicBezTo>
                  <a:pt x="2091" y="1115"/>
                  <a:pt x="2085" y="1130"/>
                  <a:pt x="2074" y="1141"/>
                </a:cubicBezTo>
                <a:cubicBezTo>
                  <a:pt x="2063" y="1152"/>
                  <a:pt x="2048" y="1158"/>
                  <a:pt x="2037" y="1169"/>
                </a:cubicBezTo>
                <a:cubicBezTo>
                  <a:pt x="1984" y="1222"/>
                  <a:pt x="2040" y="1199"/>
                  <a:pt x="1962" y="1216"/>
                </a:cubicBezTo>
                <a:cubicBezTo>
                  <a:pt x="1855" y="1323"/>
                  <a:pt x="1975" y="1215"/>
                  <a:pt x="1869" y="1281"/>
                </a:cubicBezTo>
                <a:cubicBezTo>
                  <a:pt x="1858" y="1288"/>
                  <a:pt x="1853" y="1301"/>
                  <a:pt x="1842" y="1308"/>
                </a:cubicBezTo>
                <a:cubicBezTo>
                  <a:pt x="1804" y="1332"/>
                  <a:pt x="1754" y="1347"/>
                  <a:pt x="1711" y="1355"/>
                </a:cubicBezTo>
                <a:cubicBezTo>
                  <a:pt x="1684" y="1368"/>
                  <a:pt x="1654" y="1376"/>
                  <a:pt x="1628" y="1392"/>
                </a:cubicBezTo>
                <a:cubicBezTo>
                  <a:pt x="1617" y="1399"/>
                  <a:pt x="1612" y="1414"/>
                  <a:pt x="1600" y="1420"/>
                </a:cubicBezTo>
                <a:cubicBezTo>
                  <a:pt x="1580" y="1430"/>
                  <a:pt x="1556" y="1431"/>
                  <a:pt x="1535" y="1439"/>
                </a:cubicBezTo>
                <a:cubicBezTo>
                  <a:pt x="1474" y="1461"/>
                  <a:pt x="1418" y="1489"/>
                  <a:pt x="1358" y="1513"/>
                </a:cubicBezTo>
                <a:cubicBezTo>
                  <a:pt x="1331" y="1550"/>
                  <a:pt x="1318" y="1564"/>
                  <a:pt x="1275" y="1578"/>
                </a:cubicBezTo>
                <a:cubicBezTo>
                  <a:pt x="1200" y="1677"/>
                  <a:pt x="1297" y="1556"/>
                  <a:pt x="1210" y="1643"/>
                </a:cubicBezTo>
                <a:cubicBezTo>
                  <a:pt x="1182" y="1671"/>
                  <a:pt x="1164" y="1707"/>
                  <a:pt x="1135" y="1736"/>
                </a:cubicBezTo>
                <a:cubicBezTo>
                  <a:pt x="1117" y="1826"/>
                  <a:pt x="1102" y="1916"/>
                  <a:pt x="1080" y="2005"/>
                </a:cubicBezTo>
                <a:cubicBezTo>
                  <a:pt x="1076" y="2023"/>
                  <a:pt x="1053" y="2086"/>
                  <a:pt x="1043" y="2098"/>
                </a:cubicBezTo>
                <a:cubicBezTo>
                  <a:pt x="1033" y="2110"/>
                  <a:pt x="1018" y="2117"/>
                  <a:pt x="1005" y="2126"/>
                </a:cubicBezTo>
                <a:cubicBezTo>
                  <a:pt x="964" y="2129"/>
                  <a:pt x="952" y="2126"/>
                  <a:pt x="870" y="2131"/>
                </a:cubicBezTo>
                <a:cubicBezTo>
                  <a:pt x="788" y="2136"/>
                  <a:pt x="637" y="2162"/>
                  <a:pt x="513" y="2154"/>
                </a:cubicBezTo>
                <a:cubicBezTo>
                  <a:pt x="490" y="2152"/>
                  <a:pt x="0" y="2142"/>
                  <a:pt x="123" y="2080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cc00"/>
              </a:gs>
              <a:gs pos="100000">
                <a:srgbClr val="ff9966"/>
              </a:gs>
            </a:gsLst>
            <a:lin ang="108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276720" y="4869000"/>
            <a:ext cx="311040" cy="360000"/>
            <a:chOff x="3276720" y="4869000"/>
            <a:chExt cx="311040" cy="360000"/>
          </a:xfrm>
        </p:grpSpPr>
        <p:grpSp>
          <p:nvGrpSpPr>
            <p:cNvPr id="268" name=""/>
            <p:cNvGrpSpPr/>
            <p:nvPr/>
          </p:nvGrpSpPr>
          <p:grpSpPr>
            <a:xfrm>
              <a:off x="3276720" y="4869000"/>
              <a:ext cx="287280" cy="360000"/>
              <a:chOff x="3276720" y="4869000"/>
              <a:chExt cx="287280" cy="360000"/>
            </a:xfrm>
          </p:grpSpPr>
          <p:sp>
            <p:nvSpPr>
              <p:cNvPr id="269" name=""/>
              <p:cNvSpPr/>
              <p:nvPr/>
            </p:nvSpPr>
            <p:spPr>
              <a:xfrm>
                <a:off x="3276720" y="4956480"/>
                <a:ext cx="171360" cy="27252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12000" y="4869000"/>
                <a:ext cx="252000" cy="17064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4120" y="4990320"/>
                <a:ext cx="41400" cy="17100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349800" y="5024160"/>
              <a:ext cx="237960" cy="16200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708360" y="4653000"/>
            <a:ext cx="286920" cy="288720"/>
            <a:chOff x="3708360" y="4653000"/>
            <a:chExt cx="286920" cy="288720"/>
          </a:xfrm>
        </p:grpSpPr>
        <p:grpSp>
          <p:nvGrpSpPr>
            <p:cNvPr id="274" name=""/>
            <p:cNvGrpSpPr/>
            <p:nvPr/>
          </p:nvGrpSpPr>
          <p:grpSpPr>
            <a:xfrm>
              <a:off x="3708360" y="4653000"/>
              <a:ext cx="264960" cy="288720"/>
              <a:chOff x="3708360" y="4653000"/>
              <a:chExt cx="264960" cy="288720"/>
            </a:xfrm>
          </p:grpSpPr>
          <p:sp>
            <p:nvSpPr>
              <p:cNvPr id="275" name=""/>
              <p:cNvSpPr/>
              <p:nvPr/>
            </p:nvSpPr>
            <p:spPr>
              <a:xfrm>
                <a:off x="3708360" y="4723200"/>
                <a:ext cx="158400" cy="218520"/>
              </a:xfrm>
              <a:custGeom>
                <a:avLst/>
                <a:gdLst/>
                <a:ahLst/>
                <a:rect l="l" t="t" r="r" b="b"/>
                <a:pathLst>
                  <a:path w="185" h="507">
                    <a:moveTo>
                      <a:pt x="119" y="397"/>
                    </a:moveTo>
                    <a:cubicBezTo>
                      <a:pt x="154" y="345"/>
                      <a:pt x="185" y="301"/>
                      <a:pt x="147" y="241"/>
                    </a:cubicBezTo>
                    <a:cubicBezTo>
                      <a:pt x="139" y="228"/>
                      <a:pt x="131" y="215"/>
                      <a:pt x="119" y="205"/>
                    </a:cubicBezTo>
                    <a:cubicBezTo>
                      <a:pt x="109" y="196"/>
                      <a:pt x="73" y="176"/>
                      <a:pt x="83" y="186"/>
                    </a:cubicBezTo>
                    <a:cubicBezTo>
                      <a:pt x="95" y="198"/>
                      <a:pt x="113" y="205"/>
                      <a:pt x="128" y="214"/>
                    </a:cubicBezTo>
                    <a:cubicBezTo>
                      <a:pt x="141" y="288"/>
                      <a:pt x="141" y="288"/>
                      <a:pt x="83" y="333"/>
                    </a:cubicBezTo>
                    <a:cubicBezTo>
                      <a:pt x="48" y="507"/>
                      <a:pt x="90" y="316"/>
                      <a:pt x="64" y="13"/>
                    </a:cubicBezTo>
                    <a:cubicBezTo>
                      <a:pt x="63" y="0"/>
                      <a:pt x="53" y="38"/>
                      <a:pt x="46" y="49"/>
                    </a:cubicBezTo>
                    <a:cubicBezTo>
                      <a:pt x="38" y="62"/>
                      <a:pt x="28" y="74"/>
                      <a:pt x="19" y="86"/>
                    </a:cubicBezTo>
                    <a:cubicBezTo>
                      <a:pt x="7" y="146"/>
                      <a:pt x="10" y="195"/>
                      <a:pt x="37" y="250"/>
                    </a:cubicBezTo>
                    <a:cubicBezTo>
                      <a:pt x="49" y="312"/>
                      <a:pt x="36" y="354"/>
                      <a:pt x="0" y="406"/>
                    </a:cubicBezTo>
                    <a:cubicBezTo>
                      <a:pt x="44" y="490"/>
                      <a:pt x="127" y="463"/>
                      <a:pt x="165" y="388"/>
                    </a:cubicBezTo>
                    <a:cubicBezTo>
                      <a:pt x="156" y="367"/>
                      <a:pt x="138" y="324"/>
                      <a:pt x="138" y="324"/>
                    </a:cubicBezTo>
                    <a:lnTo>
                      <a:pt x="119" y="3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40760" y="4653000"/>
                <a:ext cx="232560" cy="136440"/>
              </a:xfrm>
              <a:prstGeom prst="irregularSeal1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3780360" y="4750200"/>
                <a:ext cx="38160" cy="13716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775680" y="4777200"/>
              <a:ext cx="219600" cy="129960"/>
            </a:xfrm>
            <a:custGeom>
              <a:avLst/>
              <a:gdLst/>
              <a:ahLst/>
              <a:rect l="l" t="t" r="r" b="b"/>
              <a:pathLst>
                <a:path w="150" h="220">
                  <a:moveTo>
                    <a:pt x="0" y="220"/>
                  </a:moveTo>
                  <a:cubicBezTo>
                    <a:pt x="10" y="168"/>
                    <a:pt x="14" y="166"/>
                    <a:pt x="55" y="137"/>
                  </a:cubicBezTo>
                  <a:cubicBezTo>
                    <a:pt x="64" y="45"/>
                    <a:pt x="51" y="33"/>
                    <a:pt x="128" y="0"/>
                  </a:cubicBezTo>
                  <a:cubicBezTo>
                    <a:pt x="134" y="6"/>
                    <a:pt x="150" y="11"/>
                    <a:pt x="147" y="19"/>
                  </a:cubicBezTo>
                  <a:cubicBezTo>
                    <a:pt x="141" y="33"/>
                    <a:pt x="120" y="34"/>
                    <a:pt x="110" y="46"/>
                  </a:cubicBezTo>
                  <a:cubicBezTo>
                    <a:pt x="72" y="90"/>
                    <a:pt x="104" y="143"/>
                    <a:pt x="37" y="165"/>
                  </a:cubicBezTo>
                  <a:cubicBezTo>
                    <a:pt x="28" y="174"/>
                    <a:pt x="16" y="181"/>
                    <a:pt x="9" y="192"/>
                  </a:cubicBezTo>
                  <a:cubicBezTo>
                    <a:pt x="4" y="200"/>
                    <a:pt x="0" y="220"/>
                    <a:pt x="0" y="2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95640" y="5229360"/>
            <a:ext cx="289080" cy="569880"/>
            <a:chOff x="3995640" y="5229360"/>
            <a:chExt cx="289080" cy="569880"/>
          </a:xfrm>
        </p:grpSpPr>
        <p:sp>
          <p:nvSpPr>
            <p:cNvPr id="280" name=""/>
            <p:cNvSpPr/>
            <p:nvPr/>
          </p:nvSpPr>
          <p:spPr>
            <a:xfrm>
              <a:off x="4140360" y="5300640"/>
              <a:ext cx="133200" cy="498600"/>
            </a:xfrm>
            <a:custGeom>
              <a:avLst/>
              <a:gdLst/>
              <a:ahLst/>
              <a:rect l="l" t="t" r="r" b="b"/>
              <a:pathLst>
                <a:path w="79" h="442">
                  <a:moveTo>
                    <a:pt x="5" y="0"/>
                  </a:moveTo>
                  <a:cubicBezTo>
                    <a:pt x="8" y="22"/>
                    <a:pt x="8" y="44"/>
                    <a:pt x="14" y="65"/>
                  </a:cubicBezTo>
                  <a:cubicBezTo>
                    <a:pt x="18" y="78"/>
                    <a:pt x="33" y="88"/>
                    <a:pt x="33" y="102"/>
                  </a:cubicBezTo>
                  <a:cubicBezTo>
                    <a:pt x="33" y="156"/>
                    <a:pt x="15" y="280"/>
                    <a:pt x="5" y="353"/>
                  </a:cubicBezTo>
                  <a:cubicBezTo>
                    <a:pt x="8" y="372"/>
                    <a:pt x="0" y="397"/>
                    <a:pt x="14" y="409"/>
                  </a:cubicBezTo>
                  <a:cubicBezTo>
                    <a:pt x="54" y="442"/>
                    <a:pt x="73" y="375"/>
                    <a:pt x="79" y="362"/>
                  </a:cubicBezTo>
                  <a:cubicBezTo>
                    <a:pt x="77" y="342"/>
                    <a:pt x="65" y="167"/>
                    <a:pt x="61" y="139"/>
                  </a:cubicBezTo>
                  <a:cubicBezTo>
                    <a:pt x="56" y="103"/>
                    <a:pt x="5" y="83"/>
                    <a:pt x="5" y="47"/>
                  </a:cubicBezTo>
                  <a:cubicBezTo>
                    <a:pt x="5" y="31"/>
                    <a:pt x="5" y="16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995640" y="5229360"/>
              <a:ext cx="289080" cy="516960"/>
              <a:chOff x="3995640" y="5229360"/>
              <a:chExt cx="289080" cy="516960"/>
            </a:xfrm>
          </p:grpSpPr>
          <p:sp>
            <p:nvSpPr>
              <p:cNvPr id="282" name=""/>
              <p:cNvSpPr/>
              <p:nvPr/>
            </p:nvSpPr>
            <p:spPr>
              <a:xfrm>
                <a:off x="3995640" y="5229360"/>
                <a:ext cx="287280" cy="215640"/>
              </a:xfrm>
              <a:prstGeom prst="irregularSeal2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11640" y="5300640"/>
                <a:ext cx="73080" cy="445680"/>
              </a:xfrm>
              <a:custGeom>
                <a:avLst/>
                <a:gdLst/>
                <a:ahLst/>
                <a:rect l="l" t="t" r="r" b="b"/>
                <a:pathLst>
                  <a:path w="128" h="325">
                    <a:moveTo>
                      <a:pt x="18" y="4"/>
                    </a:moveTo>
                    <a:cubicBezTo>
                      <a:pt x="37" y="7"/>
                      <a:pt x="62" y="0"/>
                      <a:pt x="74" y="14"/>
                    </a:cubicBezTo>
                    <a:cubicBezTo>
                      <a:pt x="88" y="31"/>
                      <a:pt x="77" y="58"/>
                      <a:pt x="83" y="79"/>
                    </a:cubicBezTo>
                    <a:cubicBezTo>
                      <a:pt x="87" y="92"/>
                      <a:pt x="96" y="104"/>
                      <a:pt x="102" y="116"/>
                    </a:cubicBezTo>
                    <a:cubicBezTo>
                      <a:pt x="116" y="189"/>
                      <a:pt x="128" y="220"/>
                      <a:pt x="83" y="311"/>
                    </a:cubicBezTo>
                    <a:cubicBezTo>
                      <a:pt x="76" y="325"/>
                      <a:pt x="63" y="287"/>
                      <a:pt x="55" y="274"/>
                    </a:cubicBezTo>
                    <a:cubicBezTo>
                      <a:pt x="35" y="242"/>
                      <a:pt x="16" y="206"/>
                      <a:pt x="0" y="172"/>
                    </a:cubicBezTo>
                    <a:cubicBezTo>
                      <a:pt x="7" y="161"/>
                      <a:pt x="37" y="117"/>
                      <a:pt x="37" y="106"/>
                    </a:cubicBezTo>
                    <a:cubicBezTo>
                      <a:pt x="37" y="71"/>
                      <a:pt x="18" y="39"/>
                      <a:pt x="18" y="4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4788000" y="4653000"/>
            <a:ext cx="217080" cy="425160"/>
            <a:chOff x="4788000" y="4653000"/>
            <a:chExt cx="217080" cy="425160"/>
          </a:xfrm>
        </p:grpSpPr>
        <p:sp>
          <p:nvSpPr>
            <p:cNvPr id="285" name=""/>
            <p:cNvSpPr/>
            <p:nvPr/>
          </p:nvSpPr>
          <p:spPr>
            <a:xfrm>
              <a:off x="4896720" y="4705920"/>
              <a:ext cx="100080" cy="372240"/>
            </a:xfrm>
            <a:custGeom>
              <a:avLst/>
              <a:gdLst/>
              <a:ahLst/>
              <a:rect l="l" t="t" r="r" b="b"/>
              <a:pathLst>
                <a:path w="79" h="442">
                  <a:moveTo>
                    <a:pt x="5" y="0"/>
                  </a:moveTo>
                  <a:cubicBezTo>
                    <a:pt x="8" y="22"/>
                    <a:pt x="8" y="44"/>
                    <a:pt x="14" y="65"/>
                  </a:cubicBezTo>
                  <a:cubicBezTo>
                    <a:pt x="18" y="78"/>
                    <a:pt x="33" y="88"/>
                    <a:pt x="33" y="102"/>
                  </a:cubicBezTo>
                  <a:cubicBezTo>
                    <a:pt x="33" y="156"/>
                    <a:pt x="15" y="280"/>
                    <a:pt x="5" y="353"/>
                  </a:cubicBezTo>
                  <a:cubicBezTo>
                    <a:pt x="8" y="372"/>
                    <a:pt x="0" y="397"/>
                    <a:pt x="14" y="409"/>
                  </a:cubicBezTo>
                  <a:cubicBezTo>
                    <a:pt x="54" y="442"/>
                    <a:pt x="73" y="375"/>
                    <a:pt x="79" y="362"/>
                  </a:cubicBezTo>
                  <a:cubicBezTo>
                    <a:pt x="77" y="342"/>
                    <a:pt x="65" y="167"/>
                    <a:pt x="61" y="139"/>
                  </a:cubicBezTo>
                  <a:cubicBezTo>
                    <a:pt x="56" y="103"/>
                    <a:pt x="5" y="83"/>
                    <a:pt x="5" y="47"/>
                  </a:cubicBezTo>
                  <a:cubicBezTo>
                    <a:pt x="5" y="31"/>
                    <a:pt x="5" y="16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788000" y="4653000"/>
              <a:ext cx="217080" cy="385920"/>
              <a:chOff x="4788000" y="4653000"/>
              <a:chExt cx="217080" cy="385920"/>
            </a:xfrm>
          </p:grpSpPr>
          <p:sp>
            <p:nvSpPr>
              <p:cNvPr id="287" name=""/>
              <p:cNvSpPr/>
              <p:nvPr/>
            </p:nvSpPr>
            <p:spPr>
              <a:xfrm>
                <a:off x="4788000" y="4653000"/>
                <a:ext cx="216000" cy="160920"/>
              </a:xfrm>
              <a:prstGeom prst="irregularSeal2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50360" y="4706280"/>
                <a:ext cx="54720" cy="332640"/>
              </a:xfrm>
              <a:custGeom>
                <a:avLst/>
                <a:gdLst/>
                <a:ahLst/>
                <a:rect l="l" t="t" r="r" b="b"/>
                <a:pathLst>
                  <a:path w="128" h="325">
                    <a:moveTo>
                      <a:pt x="18" y="4"/>
                    </a:moveTo>
                    <a:cubicBezTo>
                      <a:pt x="37" y="7"/>
                      <a:pt x="62" y="0"/>
                      <a:pt x="74" y="14"/>
                    </a:cubicBezTo>
                    <a:cubicBezTo>
                      <a:pt x="88" y="31"/>
                      <a:pt x="77" y="58"/>
                      <a:pt x="83" y="79"/>
                    </a:cubicBezTo>
                    <a:cubicBezTo>
                      <a:pt x="87" y="92"/>
                      <a:pt x="96" y="104"/>
                      <a:pt x="102" y="116"/>
                    </a:cubicBezTo>
                    <a:cubicBezTo>
                      <a:pt x="116" y="189"/>
                      <a:pt x="128" y="220"/>
                      <a:pt x="83" y="311"/>
                    </a:cubicBezTo>
                    <a:cubicBezTo>
                      <a:pt x="76" y="325"/>
                      <a:pt x="63" y="287"/>
                      <a:pt x="55" y="274"/>
                    </a:cubicBezTo>
                    <a:cubicBezTo>
                      <a:pt x="35" y="242"/>
                      <a:pt x="16" y="206"/>
                      <a:pt x="0" y="172"/>
                    </a:cubicBezTo>
                    <a:cubicBezTo>
                      <a:pt x="7" y="161"/>
                      <a:pt x="37" y="117"/>
                      <a:pt x="37" y="106"/>
                    </a:cubicBezTo>
                    <a:cubicBezTo>
                      <a:pt x="37" y="71"/>
                      <a:pt x="18" y="39"/>
                      <a:pt x="18" y="4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6804000" y="3716280"/>
            <a:ext cx="144360" cy="14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3716280"/>
            <a:ext cx="144360" cy="144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93080" y="3500280"/>
            <a:ext cx="144360" cy="144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51640" y="3645000"/>
            <a:ext cx="144720" cy="14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1640" y="3645000"/>
            <a:ext cx="144360" cy="14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3645000"/>
            <a:ext cx="144360" cy="144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3500280"/>
            <a:ext cx="144360" cy="144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40360" y="3500280"/>
            <a:ext cx="144360" cy="1447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6138720"/>
            <a:ext cx="151272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71640" y="5877000"/>
            <a:ext cx="151308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А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5805360"/>
            <a:ext cx="151272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О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77080" y="6138720"/>
            <a:ext cx="151272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3640" y="6453360"/>
            <a:ext cx="3168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Проверьте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765000"/>
            <a:ext cx="61930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СООТНЕСИТЕ ПРИЛАГАТЕЛЬНОЕ С ВОПРО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095720" y="2421000"/>
            <a:ext cx="2095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211640" y="2276640"/>
            <a:ext cx="248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АНЖЕВ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334040" y="2205000"/>
            <a:ext cx="1685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ЁЛТ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4720" y="2349360"/>
            <a:ext cx="1965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УБ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00720" y="2349360"/>
            <a:ext cx="2009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ЛЁ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43280" y="2205000"/>
            <a:ext cx="142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Я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211640" y="2349360"/>
            <a:ext cx="1879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ОВО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67280" y="2349360"/>
            <a:ext cx="259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САТ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51280" y="2349360"/>
            <a:ext cx="2797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ОЛЕТОВО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19240" y="1989000"/>
            <a:ext cx="2170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2779560"/>
            <a:ext cx="2081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ЛЁ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514600" y="1844640"/>
            <a:ext cx="174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ЁЛТ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554200" y="2563920"/>
            <a:ext cx="1476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Я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143240" y="3716280"/>
            <a:ext cx="289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ОЛЕТОВО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119480" y="2997360"/>
            <a:ext cx="257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АНЖЕВ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427640" y="1484280"/>
            <a:ext cx="194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ОВО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77080" y="2637000"/>
            <a:ext cx="203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УБ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459480" y="1773360"/>
            <a:ext cx="2684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ОСАТ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6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4" dur="50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8" dur="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2" dur="50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6" dur="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0" dur="50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86" dur="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87" dur="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51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4000" y="1700280"/>
            <a:ext cx="561636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ставьте подходящие по смыслу имена прилагательные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етит (какое?)__________________сол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ет (какой?)_____________________вете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онко поет (какой?)_____________жаворо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нялся (какой?)___________________ве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двинулась (какая?)_________________ту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2133720"/>
            <a:ext cx="252108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Слова для справ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си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гроз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яр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Весел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 Unicode MS"/>
              </a:rPr>
              <a:t>тёп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4360" y="6165720"/>
            <a:ext cx="3600360" cy="368280"/>
          </a:xfrm>
          <a:prstGeom prst="rect">
            <a:avLst/>
          </a:prstGeom>
          <a:solidFill>
            <a:srgbClr val="ccffff"/>
          </a:solidFill>
          <a:ln w="158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роверьте себ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72360" y="0"/>
            <a:ext cx="2530440" cy="2133720"/>
          </a:xfrm>
          <a:custGeom>
            <a:avLst/>
            <a:gdLst/>
            <a:ahLst/>
            <a:rect l="l" t="t" r="r" b="b"/>
            <a:pathLst>
              <a:path w="1594" h="1344">
                <a:moveTo>
                  <a:pt x="40" y="1100"/>
                </a:moveTo>
                <a:cubicBezTo>
                  <a:pt x="109" y="1108"/>
                  <a:pt x="173" y="1126"/>
                  <a:pt x="241" y="1136"/>
                </a:cubicBezTo>
                <a:cubicBezTo>
                  <a:pt x="291" y="1214"/>
                  <a:pt x="210" y="1096"/>
                  <a:pt x="314" y="1200"/>
                </a:cubicBezTo>
                <a:cubicBezTo>
                  <a:pt x="320" y="1206"/>
                  <a:pt x="325" y="1215"/>
                  <a:pt x="333" y="1219"/>
                </a:cubicBezTo>
                <a:cubicBezTo>
                  <a:pt x="347" y="1225"/>
                  <a:pt x="363" y="1225"/>
                  <a:pt x="378" y="1228"/>
                </a:cubicBezTo>
                <a:cubicBezTo>
                  <a:pt x="452" y="1276"/>
                  <a:pt x="639" y="1261"/>
                  <a:pt x="707" y="1264"/>
                </a:cubicBezTo>
                <a:cubicBezTo>
                  <a:pt x="753" y="1273"/>
                  <a:pt x="802" y="1274"/>
                  <a:pt x="845" y="1292"/>
                </a:cubicBezTo>
                <a:cubicBezTo>
                  <a:pt x="893" y="1312"/>
                  <a:pt x="849" y="1313"/>
                  <a:pt x="909" y="1319"/>
                </a:cubicBezTo>
                <a:cubicBezTo>
                  <a:pt x="958" y="1324"/>
                  <a:pt x="1006" y="1325"/>
                  <a:pt x="1055" y="1328"/>
                </a:cubicBezTo>
                <a:cubicBezTo>
                  <a:pt x="1118" y="1344"/>
                  <a:pt x="1178" y="1329"/>
                  <a:pt x="1238" y="1310"/>
                </a:cubicBezTo>
                <a:cubicBezTo>
                  <a:pt x="1281" y="1295"/>
                  <a:pt x="1334" y="1279"/>
                  <a:pt x="1355" y="1265"/>
                </a:cubicBezTo>
                <a:cubicBezTo>
                  <a:pt x="1376" y="1251"/>
                  <a:pt x="1360" y="1239"/>
                  <a:pt x="1366" y="1228"/>
                </a:cubicBezTo>
                <a:cubicBezTo>
                  <a:pt x="1375" y="1219"/>
                  <a:pt x="1389" y="1212"/>
                  <a:pt x="1393" y="1200"/>
                </a:cubicBezTo>
                <a:cubicBezTo>
                  <a:pt x="1396" y="1188"/>
                  <a:pt x="1384" y="1176"/>
                  <a:pt x="1384" y="1164"/>
                </a:cubicBezTo>
                <a:cubicBezTo>
                  <a:pt x="1384" y="1130"/>
                  <a:pt x="1449" y="1106"/>
                  <a:pt x="1455" y="1073"/>
                </a:cubicBezTo>
                <a:cubicBezTo>
                  <a:pt x="1462" y="1034"/>
                  <a:pt x="1416" y="1011"/>
                  <a:pt x="1439" y="981"/>
                </a:cubicBezTo>
                <a:cubicBezTo>
                  <a:pt x="1442" y="972"/>
                  <a:pt x="1443" y="961"/>
                  <a:pt x="1448" y="953"/>
                </a:cubicBezTo>
                <a:cubicBezTo>
                  <a:pt x="1455" y="942"/>
                  <a:pt x="1469" y="937"/>
                  <a:pt x="1475" y="926"/>
                </a:cubicBezTo>
                <a:cubicBezTo>
                  <a:pt x="1542" y="793"/>
                  <a:pt x="1424" y="962"/>
                  <a:pt x="1512" y="844"/>
                </a:cubicBezTo>
                <a:cubicBezTo>
                  <a:pt x="1506" y="801"/>
                  <a:pt x="1594" y="673"/>
                  <a:pt x="1521" y="643"/>
                </a:cubicBezTo>
                <a:cubicBezTo>
                  <a:pt x="1448" y="613"/>
                  <a:pt x="1175" y="663"/>
                  <a:pt x="1073" y="661"/>
                </a:cubicBezTo>
                <a:cubicBezTo>
                  <a:pt x="1018" y="652"/>
                  <a:pt x="962" y="651"/>
                  <a:pt x="909" y="633"/>
                </a:cubicBezTo>
                <a:cubicBezTo>
                  <a:pt x="872" y="621"/>
                  <a:pt x="852" y="521"/>
                  <a:pt x="845" y="496"/>
                </a:cubicBezTo>
                <a:cubicBezTo>
                  <a:pt x="849" y="368"/>
                  <a:pt x="851" y="182"/>
                  <a:pt x="991" y="112"/>
                </a:cubicBezTo>
                <a:cubicBezTo>
                  <a:pt x="1007" y="65"/>
                  <a:pt x="944" y="93"/>
                  <a:pt x="973" y="57"/>
                </a:cubicBezTo>
                <a:cubicBezTo>
                  <a:pt x="980" y="49"/>
                  <a:pt x="1002" y="29"/>
                  <a:pt x="991" y="30"/>
                </a:cubicBezTo>
                <a:cubicBezTo>
                  <a:pt x="947" y="34"/>
                  <a:pt x="988" y="0"/>
                  <a:pt x="945" y="12"/>
                </a:cubicBezTo>
                <a:cubicBezTo>
                  <a:pt x="891" y="28"/>
                  <a:pt x="753" y="92"/>
                  <a:pt x="698" y="103"/>
                </a:cubicBezTo>
                <a:cubicBezTo>
                  <a:pt x="605" y="96"/>
                  <a:pt x="524" y="77"/>
                  <a:pt x="433" y="67"/>
                </a:cubicBezTo>
                <a:cubicBezTo>
                  <a:pt x="386" y="42"/>
                  <a:pt x="348" y="35"/>
                  <a:pt x="296" y="48"/>
                </a:cubicBezTo>
                <a:cubicBezTo>
                  <a:pt x="290" y="57"/>
                  <a:pt x="280" y="65"/>
                  <a:pt x="278" y="76"/>
                </a:cubicBezTo>
                <a:cubicBezTo>
                  <a:pt x="274" y="104"/>
                  <a:pt x="303" y="153"/>
                  <a:pt x="314" y="176"/>
                </a:cubicBezTo>
                <a:cubicBezTo>
                  <a:pt x="317" y="191"/>
                  <a:pt x="317" y="208"/>
                  <a:pt x="323" y="222"/>
                </a:cubicBezTo>
                <a:cubicBezTo>
                  <a:pt x="343" y="267"/>
                  <a:pt x="361" y="204"/>
                  <a:pt x="323" y="277"/>
                </a:cubicBezTo>
                <a:cubicBezTo>
                  <a:pt x="303" y="378"/>
                  <a:pt x="205" y="324"/>
                  <a:pt x="104" y="341"/>
                </a:cubicBezTo>
                <a:cubicBezTo>
                  <a:pt x="58" y="359"/>
                  <a:pt x="105" y="388"/>
                  <a:pt x="58" y="405"/>
                </a:cubicBezTo>
                <a:cubicBezTo>
                  <a:pt x="55" y="407"/>
                  <a:pt x="14" y="494"/>
                  <a:pt x="13" y="505"/>
                </a:cubicBezTo>
                <a:cubicBezTo>
                  <a:pt x="0" y="627"/>
                  <a:pt x="22" y="632"/>
                  <a:pt x="49" y="716"/>
                </a:cubicBezTo>
                <a:cubicBezTo>
                  <a:pt x="46" y="844"/>
                  <a:pt x="40" y="972"/>
                  <a:pt x="40" y="1100"/>
                </a:cubicBezTo>
                <a:close/>
              </a:path>
            </a:pathLst>
          </a:custGeom>
          <a:solidFill>
            <a:srgbClr val="3366ff">
              <a:alpha val="70000"/>
            </a:srgbClr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836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88000" y="1052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к 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938520" cy="562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124000" y="333360"/>
            <a:ext cx="36561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К КАЧЕСТВ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44879 -0.13658 E">
                                      <p:cBhvr>
                                        <p:cTn id="314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44879 -0.21018 E">
                                      <p:cBhvr>
                                        <p:cTn id="318" dur="2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1065 L -0.38246 -0.07755 E">
                                      <p:cBhvr>
                                        <p:cTn id="32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40955 0.17824 E">
                                      <p:cBhvr>
                                        <p:cTn id="326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6 0.00324 L -0.34357 0.17107 E">
                                      <p:cBhvr>
                                        <p:cTn id="33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338" dur="50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339" dur="500" autoRev="1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71640" y="1268280"/>
            <a:ext cx="8281800" cy="5653080"/>
          </a:xfrm>
          <a:custGeom>
            <a:avLst/>
            <a:gdLst/>
            <a:ahLst/>
            <a:rect l="l" t="t" r="r" b="b"/>
            <a:pathLst>
              <a:path w="5217" h="3561">
                <a:moveTo>
                  <a:pt x="9" y="3493"/>
                </a:moveTo>
                <a:cubicBezTo>
                  <a:pt x="120" y="3383"/>
                  <a:pt x="53" y="3414"/>
                  <a:pt x="211" y="3401"/>
                </a:cubicBezTo>
                <a:cubicBezTo>
                  <a:pt x="256" y="3383"/>
                  <a:pt x="292" y="3365"/>
                  <a:pt x="339" y="3356"/>
                </a:cubicBezTo>
                <a:cubicBezTo>
                  <a:pt x="348" y="3350"/>
                  <a:pt x="358" y="3345"/>
                  <a:pt x="366" y="3337"/>
                </a:cubicBezTo>
                <a:cubicBezTo>
                  <a:pt x="377" y="3326"/>
                  <a:pt x="382" y="3311"/>
                  <a:pt x="393" y="3301"/>
                </a:cubicBezTo>
                <a:cubicBezTo>
                  <a:pt x="411" y="3286"/>
                  <a:pt x="445" y="3279"/>
                  <a:pt x="467" y="3273"/>
                </a:cubicBezTo>
                <a:cubicBezTo>
                  <a:pt x="531" y="3209"/>
                  <a:pt x="605" y="3177"/>
                  <a:pt x="686" y="3136"/>
                </a:cubicBezTo>
                <a:cubicBezTo>
                  <a:pt x="750" y="3103"/>
                  <a:pt x="797" y="3050"/>
                  <a:pt x="869" y="3036"/>
                </a:cubicBezTo>
                <a:cubicBezTo>
                  <a:pt x="1013" y="2915"/>
                  <a:pt x="860" y="3030"/>
                  <a:pt x="960" y="2981"/>
                </a:cubicBezTo>
                <a:cubicBezTo>
                  <a:pt x="978" y="2972"/>
                  <a:pt x="990" y="2955"/>
                  <a:pt x="1006" y="2944"/>
                </a:cubicBezTo>
                <a:cubicBezTo>
                  <a:pt x="1050" y="2858"/>
                  <a:pt x="1042" y="2868"/>
                  <a:pt x="1107" y="2807"/>
                </a:cubicBezTo>
                <a:cubicBezTo>
                  <a:pt x="1134" y="2753"/>
                  <a:pt x="1143" y="2777"/>
                  <a:pt x="1180" y="2734"/>
                </a:cubicBezTo>
                <a:cubicBezTo>
                  <a:pt x="1208" y="2701"/>
                  <a:pt x="1226" y="2676"/>
                  <a:pt x="1262" y="2652"/>
                </a:cubicBezTo>
                <a:cubicBezTo>
                  <a:pt x="1268" y="2643"/>
                  <a:pt x="1273" y="2633"/>
                  <a:pt x="1280" y="2624"/>
                </a:cubicBezTo>
                <a:cubicBezTo>
                  <a:pt x="1285" y="2617"/>
                  <a:pt x="1294" y="2613"/>
                  <a:pt x="1299" y="2606"/>
                </a:cubicBezTo>
                <a:cubicBezTo>
                  <a:pt x="1307" y="2595"/>
                  <a:pt x="1307" y="2579"/>
                  <a:pt x="1317" y="2569"/>
                </a:cubicBezTo>
                <a:cubicBezTo>
                  <a:pt x="1326" y="2559"/>
                  <a:pt x="1342" y="2559"/>
                  <a:pt x="1353" y="2551"/>
                </a:cubicBezTo>
                <a:cubicBezTo>
                  <a:pt x="1364" y="2544"/>
                  <a:pt x="1372" y="2533"/>
                  <a:pt x="1381" y="2524"/>
                </a:cubicBezTo>
                <a:cubicBezTo>
                  <a:pt x="1407" y="2471"/>
                  <a:pt x="1433" y="2437"/>
                  <a:pt x="1481" y="2405"/>
                </a:cubicBezTo>
                <a:cubicBezTo>
                  <a:pt x="1522" y="2345"/>
                  <a:pt x="1473" y="2403"/>
                  <a:pt x="1536" y="2368"/>
                </a:cubicBezTo>
                <a:cubicBezTo>
                  <a:pt x="1576" y="2345"/>
                  <a:pt x="1569" y="2311"/>
                  <a:pt x="1619" y="2295"/>
                </a:cubicBezTo>
                <a:cubicBezTo>
                  <a:pt x="1640" y="2264"/>
                  <a:pt x="1647" y="2252"/>
                  <a:pt x="1683" y="2240"/>
                </a:cubicBezTo>
                <a:cubicBezTo>
                  <a:pt x="1697" y="2221"/>
                  <a:pt x="1715" y="2205"/>
                  <a:pt x="1728" y="2185"/>
                </a:cubicBezTo>
                <a:cubicBezTo>
                  <a:pt x="1736" y="2174"/>
                  <a:pt x="1737" y="2158"/>
                  <a:pt x="1747" y="2149"/>
                </a:cubicBezTo>
                <a:cubicBezTo>
                  <a:pt x="1754" y="2142"/>
                  <a:pt x="1765" y="2143"/>
                  <a:pt x="1774" y="2140"/>
                </a:cubicBezTo>
                <a:cubicBezTo>
                  <a:pt x="1792" y="2102"/>
                  <a:pt x="1804" y="2081"/>
                  <a:pt x="1838" y="2057"/>
                </a:cubicBezTo>
                <a:cubicBezTo>
                  <a:pt x="1862" y="2009"/>
                  <a:pt x="1890" y="1992"/>
                  <a:pt x="1929" y="1957"/>
                </a:cubicBezTo>
                <a:cubicBezTo>
                  <a:pt x="2002" y="1891"/>
                  <a:pt x="2003" y="1883"/>
                  <a:pt x="2103" y="1865"/>
                </a:cubicBezTo>
                <a:cubicBezTo>
                  <a:pt x="2155" y="1868"/>
                  <a:pt x="2207" y="1868"/>
                  <a:pt x="2259" y="1875"/>
                </a:cubicBezTo>
                <a:cubicBezTo>
                  <a:pt x="2309" y="1882"/>
                  <a:pt x="2343" y="1903"/>
                  <a:pt x="2405" y="1911"/>
                </a:cubicBezTo>
                <a:cubicBezTo>
                  <a:pt x="2439" y="1920"/>
                  <a:pt x="2469" y="1947"/>
                  <a:pt x="2505" y="1948"/>
                </a:cubicBezTo>
                <a:cubicBezTo>
                  <a:pt x="2648" y="1952"/>
                  <a:pt x="2840" y="1930"/>
                  <a:pt x="2981" y="1875"/>
                </a:cubicBezTo>
                <a:cubicBezTo>
                  <a:pt x="3000" y="1868"/>
                  <a:pt x="3017" y="1855"/>
                  <a:pt x="3036" y="1847"/>
                </a:cubicBezTo>
                <a:cubicBezTo>
                  <a:pt x="3045" y="1843"/>
                  <a:pt x="3054" y="1841"/>
                  <a:pt x="3063" y="1838"/>
                </a:cubicBezTo>
                <a:cubicBezTo>
                  <a:pt x="3066" y="1829"/>
                  <a:pt x="3065" y="1818"/>
                  <a:pt x="3072" y="1811"/>
                </a:cubicBezTo>
                <a:cubicBezTo>
                  <a:pt x="3083" y="1800"/>
                  <a:pt x="3146" y="1780"/>
                  <a:pt x="3164" y="1774"/>
                </a:cubicBezTo>
                <a:cubicBezTo>
                  <a:pt x="3194" y="1684"/>
                  <a:pt x="3141" y="1823"/>
                  <a:pt x="3209" y="1728"/>
                </a:cubicBezTo>
                <a:cubicBezTo>
                  <a:pt x="3277" y="1633"/>
                  <a:pt x="3166" y="1720"/>
                  <a:pt x="3246" y="1664"/>
                </a:cubicBezTo>
                <a:cubicBezTo>
                  <a:pt x="3249" y="1649"/>
                  <a:pt x="3247" y="1632"/>
                  <a:pt x="3255" y="1619"/>
                </a:cubicBezTo>
                <a:cubicBezTo>
                  <a:pt x="3261" y="1609"/>
                  <a:pt x="3275" y="1608"/>
                  <a:pt x="3283" y="1600"/>
                </a:cubicBezTo>
                <a:cubicBezTo>
                  <a:pt x="3291" y="1592"/>
                  <a:pt x="3296" y="1583"/>
                  <a:pt x="3301" y="1573"/>
                </a:cubicBezTo>
                <a:cubicBezTo>
                  <a:pt x="3331" y="1513"/>
                  <a:pt x="3324" y="1486"/>
                  <a:pt x="3374" y="1436"/>
                </a:cubicBezTo>
                <a:cubicBezTo>
                  <a:pt x="3416" y="1329"/>
                  <a:pt x="3364" y="1426"/>
                  <a:pt x="3420" y="1381"/>
                </a:cubicBezTo>
                <a:cubicBezTo>
                  <a:pt x="3429" y="1374"/>
                  <a:pt x="3430" y="1360"/>
                  <a:pt x="3438" y="1353"/>
                </a:cubicBezTo>
                <a:cubicBezTo>
                  <a:pt x="3487" y="1311"/>
                  <a:pt x="3552" y="1314"/>
                  <a:pt x="3612" y="1308"/>
                </a:cubicBezTo>
                <a:cubicBezTo>
                  <a:pt x="3699" y="1314"/>
                  <a:pt x="3752" y="1320"/>
                  <a:pt x="3831" y="1335"/>
                </a:cubicBezTo>
                <a:cubicBezTo>
                  <a:pt x="3959" y="1331"/>
                  <a:pt x="4135" y="1341"/>
                  <a:pt x="4270" y="1308"/>
                </a:cubicBezTo>
                <a:cubicBezTo>
                  <a:pt x="4282" y="1296"/>
                  <a:pt x="4294" y="1282"/>
                  <a:pt x="4307" y="1271"/>
                </a:cubicBezTo>
                <a:cubicBezTo>
                  <a:pt x="4318" y="1261"/>
                  <a:pt x="4335" y="1257"/>
                  <a:pt x="4343" y="1244"/>
                </a:cubicBezTo>
                <a:cubicBezTo>
                  <a:pt x="4351" y="1231"/>
                  <a:pt x="4429" y="1226"/>
                  <a:pt x="4435" y="1212"/>
                </a:cubicBezTo>
                <a:cubicBezTo>
                  <a:pt x="4443" y="1194"/>
                  <a:pt x="4506" y="1120"/>
                  <a:pt x="4517" y="1103"/>
                </a:cubicBezTo>
                <a:cubicBezTo>
                  <a:pt x="4520" y="1009"/>
                  <a:pt x="4522" y="950"/>
                  <a:pt x="4526" y="856"/>
                </a:cubicBezTo>
                <a:cubicBezTo>
                  <a:pt x="4533" y="709"/>
                  <a:pt x="4450" y="477"/>
                  <a:pt x="4599" y="403"/>
                </a:cubicBezTo>
                <a:cubicBezTo>
                  <a:pt x="4612" y="363"/>
                  <a:pt x="4638" y="344"/>
                  <a:pt x="4672" y="320"/>
                </a:cubicBezTo>
                <a:cubicBezTo>
                  <a:pt x="4756" y="261"/>
                  <a:pt x="4719" y="285"/>
                  <a:pt x="4855" y="275"/>
                </a:cubicBezTo>
                <a:cubicBezTo>
                  <a:pt x="4899" y="217"/>
                  <a:pt x="4968" y="206"/>
                  <a:pt x="5020" y="156"/>
                </a:cubicBezTo>
                <a:cubicBezTo>
                  <a:pt x="5040" y="93"/>
                  <a:pt x="5011" y="166"/>
                  <a:pt x="5065" y="101"/>
                </a:cubicBezTo>
                <a:cubicBezTo>
                  <a:pt x="5071" y="93"/>
                  <a:pt x="5071" y="82"/>
                  <a:pt x="5075" y="73"/>
                </a:cubicBezTo>
                <a:cubicBezTo>
                  <a:pt x="5092" y="34"/>
                  <a:pt x="5094" y="36"/>
                  <a:pt x="5120" y="0"/>
                </a:cubicBezTo>
                <a:cubicBezTo>
                  <a:pt x="5132" y="6"/>
                  <a:pt x="5157" y="19"/>
                  <a:pt x="5157" y="19"/>
                </a:cubicBezTo>
                <a:cubicBezTo>
                  <a:pt x="5163" y="28"/>
                  <a:pt x="5167" y="38"/>
                  <a:pt x="5175" y="46"/>
                </a:cubicBezTo>
                <a:cubicBezTo>
                  <a:pt x="5205" y="75"/>
                  <a:pt x="5216" y="51"/>
                  <a:pt x="5184" y="83"/>
                </a:cubicBezTo>
                <a:cubicBezTo>
                  <a:pt x="5177" y="216"/>
                  <a:pt x="5181" y="234"/>
                  <a:pt x="5157" y="329"/>
                </a:cubicBezTo>
                <a:cubicBezTo>
                  <a:pt x="5157" y="365"/>
                  <a:pt x="5108" y="1068"/>
                  <a:pt x="5166" y="1308"/>
                </a:cubicBezTo>
                <a:cubicBezTo>
                  <a:pt x="5185" y="1480"/>
                  <a:pt x="5172" y="1663"/>
                  <a:pt x="5212" y="1829"/>
                </a:cubicBezTo>
                <a:cubicBezTo>
                  <a:pt x="5209" y="2304"/>
                  <a:pt x="5217" y="2780"/>
                  <a:pt x="5203" y="3255"/>
                </a:cubicBezTo>
                <a:cubicBezTo>
                  <a:pt x="5202" y="3302"/>
                  <a:pt x="5166" y="3392"/>
                  <a:pt x="5166" y="3392"/>
                </a:cubicBezTo>
                <a:cubicBezTo>
                  <a:pt x="5164" y="3418"/>
                  <a:pt x="5160" y="3532"/>
                  <a:pt x="5139" y="3548"/>
                </a:cubicBezTo>
                <a:cubicBezTo>
                  <a:pt x="5122" y="3561"/>
                  <a:pt x="5096" y="3554"/>
                  <a:pt x="5075" y="3557"/>
                </a:cubicBezTo>
                <a:cubicBezTo>
                  <a:pt x="4648" y="3554"/>
                  <a:pt x="4222" y="3553"/>
                  <a:pt x="3795" y="3548"/>
                </a:cubicBezTo>
                <a:cubicBezTo>
                  <a:pt x="2558" y="3534"/>
                  <a:pt x="3002" y="3448"/>
                  <a:pt x="2524" y="3548"/>
                </a:cubicBezTo>
                <a:cubicBezTo>
                  <a:pt x="2287" y="3519"/>
                  <a:pt x="2049" y="3511"/>
                  <a:pt x="1811" y="3493"/>
                </a:cubicBezTo>
                <a:cubicBezTo>
                  <a:pt x="1744" y="3506"/>
                  <a:pt x="1609" y="3529"/>
                  <a:pt x="1609" y="3529"/>
                </a:cubicBezTo>
                <a:cubicBezTo>
                  <a:pt x="1282" y="3509"/>
                  <a:pt x="958" y="3492"/>
                  <a:pt x="631" y="3484"/>
                </a:cubicBezTo>
                <a:cubicBezTo>
                  <a:pt x="248" y="3492"/>
                  <a:pt x="259" y="3472"/>
                  <a:pt x="0" y="3557"/>
                </a:cubicBezTo>
                <a:cubicBezTo>
                  <a:pt x="8" y="3532"/>
                  <a:pt x="61" y="3469"/>
                  <a:pt x="9" y="3493"/>
                </a:cubicBez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68360" y="981000"/>
            <a:ext cx="4969080" cy="398880"/>
          </a:xfrm>
          <a:prstGeom prst="rect">
            <a:avLst/>
          </a:prstGeom>
          <a:solidFill>
            <a:srgbClr val="0000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НАЙДИТЕ ЛИШНЕ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 rot="18583800">
            <a:off x="1208880" y="5423760"/>
            <a:ext cx="874800" cy="1060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637080" y="5151600"/>
            <a:ext cx="1584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АД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81800" y="5157720"/>
            <a:ext cx="1584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ИС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4508640"/>
            <a:ext cx="1584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ЕРД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51640" y="4508640"/>
            <a:ext cx="1584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16360" y="3941640"/>
            <a:ext cx="1871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ЛО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32360" y="3941640"/>
            <a:ext cx="1871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ИС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3933720"/>
            <a:ext cx="2016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РУСТ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95640" y="6165720"/>
            <a:ext cx="1224000" cy="582840"/>
          </a:xfrm>
          <a:custGeom>
            <a:avLst/>
            <a:gdLst/>
            <a:ahLst/>
            <a:rect l="l" t="t" r="r" b="b"/>
            <a:pathLst>
              <a:path w="816" h="411">
                <a:moveTo>
                  <a:pt x="168" y="368"/>
                </a:moveTo>
                <a:cubicBezTo>
                  <a:pt x="327" y="371"/>
                  <a:pt x="487" y="377"/>
                  <a:pt x="646" y="377"/>
                </a:cubicBezTo>
                <a:cubicBezTo>
                  <a:pt x="692" y="377"/>
                  <a:pt x="740" y="388"/>
                  <a:pt x="784" y="368"/>
                </a:cubicBezTo>
                <a:cubicBezTo>
                  <a:pt x="814" y="355"/>
                  <a:pt x="761" y="293"/>
                  <a:pt x="816" y="274"/>
                </a:cubicBezTo>
                <a:cubicBezTo>
                  <a:pt x="811" y="239"/>
                  <a:pt x="808" y="211"/>
                  <a:pt x="784" y="195"/>
                </a:cubicBezTo>
                <a:cubicBezTo>
                  <a:pt x="774" y="188"/>
                  <a:pt x="752" y="179"/>
                  <a:pt x="752" y="179"/>
                </a:cubicBezTo>
                <a:cubicBezTo>
                  <a:pt x="731" y="200"/>
                  <a:pt x="725" y="230"/>
                  <a:pt x="699" y="242"/>
                </a:cubicBezTo>
                <a:cubicBezTo>
                  <a:pt x="668" y="196"/>
                  <a:pt x="683" y="192"/>
                  <a:pt x="657" y="219"/>
                </a:cubicBezTo>
                <a:cubicBezTo>
                  <a:pt x="653" y="226"/>
                  <a:pt x="652" y="240"/>
                  <a:pt x="646" y="242"/>
                </a:cubicBezTo>
                <a:cubicBezTo>
                  <a:pt x="640" y="244"/>
                  <a:pt x="634" y="234"/>
                  <a:pt x="630" y="226"/>
                </a:cubicBezTo>
                <a:cubicBezTo>
                  <a:pt x="627" y="220"/>
                  <a:pt x="627" y="210"/>
                  <a:pt x="624" y="202"/>
                </a:cubicBezTo>
                <a:cubicBezTo>
                  <a:pt x="616" y="177"/>
                  <a:pt x="603" y="163"/>
                  <a:pt x="587" y="147"/>
                </a:cubicBezTo>
                <a:cubicBezTo>
                  <a:pt x="582" y="156"/>
                  <a:pt x="575" y="162"/>
                  <a:pt x="571" y="171"/>
                </a:cubicBezTo>
                <a:cubicBezTo>
                  <a:pt x="558" y="202"/>
                  <a:pt x="580" y="205"/>
                  <a:pt x="545" y="179"/>
                </a:cubicBezTo>
                <a:cubicBezTo>
                  <a:pt x="541" y="175"/>
                  <a:pt x="491" y="167"/>
                  <a:pt x="491" y="137"/>
                </a:cubicBezTo>
                <a:cubicBezTo>
                  <a:pt x="491" y="107"/>
                  <a:pt x="559" y="11"/>
                  <a:pt x="546" y="0"/>
                </a:cubicBezTo>
                <a:cubicBezTo>
                  <a:pt x="502" y="21"/>
                  <a:pt x="442" y="24"/>
                  <a:pt x="412" y="69"/>
                </a:cubicBezTo>
                <a:cubicBezTo>
                  <a:pt x="406" y="109"/>
                  <a:pt x="400" y="146"/>
                  <a:pt x="396" y="187"/>
                </a:cubicBezTo>
                <a:cubicBezTo>
                  <a:pt x="349" y="135"/>
                  <a:pt x="370" y="148"/>
                  <a:pt x="338" y="132"/>
                </a:cubicBezTo>
                <a:cubicBezTo>
                  <a:pt x="334" y="143"/>
                  <a:pt x="330" y="152"/>
                  <a:pt x="327" y="163"/>
                </a:cubicBezTo>
                <a:cubicBezTo>
                  <a:pt x="324" y="175"/>
                  <a:pt x="329" y="194"/>
                  <a:pt x="322" y="202"/>
                </a:cubicBezTo>
                <a:cubicBezTo>
                  <a:pt x="317" y="208"/>
                  <a:pt x="312" y="190"/>
                  <a:pt x="306" y="187"/>
                </a:cubicBezTo>
                <a:cubicBezTo>
                  <a:pt x="299" y="183"/>
                  <a:pt x="292" y="182"/>
                  <a:pt x="285" y="179"/>
                </a:cubicBezTo>
                <a:cubicBezTo>
                  <a:pt x="276" y="182"/>
                  <a:pt x="266" y="179"/>
                  <a:pt x="258" y="187"/>
                </a:cubicBezTo>
                <a:cubicBezTo>
                  <a:pt x="253" y="192"/>
                  <a:pt x="256" y="204"/>
                  <a:pt x="252" y="211"/>
                </a:cubicBezTo>
                <a:cubicBezTo>
                  <a:pt x="249" y="218"/>
                  <a:pt x="242" y="221"/>
                  <a:pt x="236" y="226"/>
                </a:cubicBezTo>
                <a:cubicBezTo>
                  <a:pt x="200" y="209"/>
                  <a:pt x="189" y="212"/>
                  <a:pt x="146" y="219"/>
                </a:cubicBezTo>
                <a:cubicBezTo>
                  <a:pt x="143" y="230"/>
                  <a:pt x="138" y="239"/>
                  <a:pt x="136" y="250"/>
                </a:cubicBezTo>
                <a:cubicBezTo>
                  <a:pt x="133" y="260"/>
                  <a:pt x="136" y="275"/>
                  <a:pt x="130" y="281"/>
                </a:cubicBezTo>
                <a:cubicBezTo>
                  <a:pt x="126" y="286"/>
                  <a:pt x="120" y="276"/>
                  <a:pt x="115" y="274"/>
                </a:cubicBezTo>
                <a:cubicBezTo>
                  <a:pt x="99" y="276"/>
                  <a:pt x="82" y="276"/>
                  <a:pt x="66" y="281"/>
                </a:cubicBezTo>
                <a:cubicBezTo>
                  <a:pt x="50" y="288"/>
                  <a:pt x="40" y="320"/>
                  <a:pt x="29" y="337"/>
                </a:cubicBezTo>
                <a:cubicBezTo>
                  <a:pt x="28" y="344"/>
                  <a:pt x="28" y="354"/>
                  <a:pt x="24" y="360"/>
                </a:cubicBezTo>
                <a:cubicBezTo>
                  <a:pt x="20" y="366"/>
                  <a:pt x="11" y="361"/>
                  <a:pt x="8" y="368"/>
                </a:cubicBezTo>
                <a:cubicBezTo>
                  <a:pt x="0" y="393"/>
                  <a:pt x="23" y="396"/>
                  <a:pt x="29" y="400"/>
                </a:cubicBezTo>
                <a:cubicBezTo>
                  <a:pt x="147" y="388"/>
                  <a:pt x="72" y="411"/>
                  <a:pt x="130" y="353"/>
                </a:cubicBezTo>
                <a:cubicBezTo>
                  <a:pt x="137" y="355"/>
                  <a:pt x="144" y="357"/>
                  <a:pt x="152" y="360"/>
                </a:cubicBezTo>
                <a:cubicBezTo>
                  <a:pt x="157" y="363"/>
                  <a:pt x="168" y="368"/>
                  <a:pt x="168" y="368"/>
                </a:cubicBez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5640" y="5699160"/>
            <a:ext cx="863640" cy="466560"/>
          </a:xfrm>
          <a:custGeom>
            <a:avLst/>
            <a:gdLst/>
            <a:ahLst/>
            <a:rect l="l" t="t" r="r" b="b"/>
            <a:pathLst>
              <a:path w="816" h="387">
                <a:moveTo>
                  <a:pt x="168" y="344"/>
                </a:moveTo>
                <a:cubicBezTo>
                  <a:pt x="327" y="347"/>
                  <a:pt x="487" y="353"/>
                  <a:pt x="646" y="353"/>
                </a:cubicBezTo>
                <a:cubicBezTo>
                  <a:pt x="692" y="353"/>
                  <a:pt x="740" y="364"/>
                  <a:pt x="784" y="344"/>
                </a:cubicBezTo>
                <a:cubicBezTo>
                  <a:pt x="814" y="331"/>
                  <a:pt x="761" y="269"/>
                  <a:pt x="816" y="250"/>
                </a:cubicBezTo>
                <a:cubicBezTo>
                  <a:pt x="811" y="215"/>
                  <a:pt x="808" y="187"/>
                  <a:pt x="784" y="171"/>
                </a:cubicBezTo>
                <a:cubicBezTo>
                  <a:pt x="774" y="164"/>
                  <a:pt x="752" y="155"/>
                  <a:pt x="752" y="155"/>
                </a:cubicBezTo>
                <a:cubicBezTo>
                  <a:pt x="731" y="176"/>
                  <a:pt x="725" y="206"/>
                  <a:pt x="699" y="218"/>
                </a:cubicBezTo>
                <a:cubicBezTo>
                  <a:pt x="668" y="172"/>
                  <a:pt x="683" y="168"/>
                  <a:pt x="657" y="195"/>
                </a:cubicBezTo>
                <a:cubicBezTo>
                  <a:pt x="653" y="202"/>
                  <a:pt x="652" y="216"/>
                  <a:pt x="646" y="218"/>
                </a:cubicBezTo>
                <a:cubicBezTo>
                  <a:pt x="640" y="220"/>
                  <a:pt x="634" y="210"/>
                  <a:pt x="630" y="202"/>
                </a:cubicBezTo>
                <a:cubicBezTo>
                  <a:pt x="627" y="196"/>
                  <a:pt x="627" y="186"/>
                  <a:pt x="624" y="178"/>
                </a:cubicBezTo>
                <a:cubicBezTo>
                  <a:pt x="616" y="153"/>
                  <a:pt x="603" y="139"/>
                  <a:pt x="587" y="123"/>
                </a:cubicBezTo>
                <a:cubicBezTo>
                  <a:pt x="582" y="132"/>
                  <a:pt x="575" y="138"/>
                  <a:pt x="571" y="147"/>
                </a:cubicBezTo>
                <a:cubicBezTo>
                  <a:pt x="558" y="178"/>
                  <a:pt x="580" y="181"/>
                  <a:pt x="545" y="155"/>
                </a:cubicBezTo>
                <a:cubicBezTo>
                  <a:pt x="541" y="151"/>
                  <a:pt x="491" y="143"/>
                  <a:pt x="491" y="113"/>
                </a:cubicBezTo>
                <a:cubicBezTo>
                  <a:pt x="468" y="89"/>
                  <a:pt x="422" y="23"/>
                  <a:pt x="409" y="12"/>
                </a:cubicBezTo>
                <a:cubicBezTo>
                  <a:pt x="365" y="33"/>
                  <a:pt x="442" y="0"/>
                  <a:pt x="412" y="45"/>
                </a:cubicBezTo>
                <a:cubicBezTo>
                  <a:pt x="406" y="85"/>
                  <a:pt x="400" y="122"/>
                  <a:pt x="396" y="163"/>
                </a:cubicBezTo>
                <a:cubicBezTo>
                  <a:pt x="349" y="111"/>
                  <a:pt x="370" y="124"/>
                  <a:pt x="338" y="108"/>
                </a:cubicBezTo>
                <a:cubicBezTo>
                  <a:pt x="334" y="119"/>
                  <a:pt x="330" y="128"/>
                  <a:pt x="327" y="139"/>
                </a:cubicBezTo>
                <a:cubicBezTo>
                  <a:pt x="324" y="151"/>
                  <a:pt x="329" y="170"/>
                  <a:pt x="322" y="178"/>
                </a:cubicBezTo>
                <a:cubicBezTo>
                  <a:pt x="317" y="184"/>
                  <a:pt x="312" y="166"/>
                  <a:pt x="306" y="163"/>
                </a:cubicBezTo>
                <a:cubicBezTo>
                  <a:pt x="299" y="159"/>
                  <a:pt x="292" y="158"/>
                  <a:pt x="285" y="155"/>
                </a:cubicBezTo>
                <a:cubicBezTo>
                  <a:pt x="276" y="158"/>
                  <a:pt x="266" y="155"/>
                  <a:pt x="258" y="163"/>
                </a:cubicBezTo>
                <a:cubicBezTo>
                  <a:pt x="253" y="168"/>
                  <a:pt x="256" y="180"/>
                  <a:pt x="252" y="187"/>
                </a:cubicBezTo>
                <a:cubicBezTo>
                  <a:pt x="249" y="194"/>
                  <a:pt x="242" y="197"/>
                  <a:pt x="236" y="202"/>
                </a:cubicBezTo>
                <a:cubicBezTo>
                  <a:pt x="200" y="185"/>
                  <a:pt x="189" y="188"/>
                  <a:pt x="146" y="195"/>
                </a:cubicBezTo>
                <a:cubicBezTo>
                  <a:pt x="143" y="206"/>
                  <a:pt x="138" y="215"/>
                  <a:pt x="136" y="226"/>
                </a:cubicBezTo>
                <a:cubicBezTo>
                  <a:pt x="133" y="236"/>
                  <a:pt x="136" y="251"/>
                  <a:pt x="130" y="257"/>
                </a:cubicBezTo>
                <a:cubicBezTo>
                  <a:pt x="126" y="262"/>
                  <a:pt x="120" y="252"/>
                  <a:pt x="115" y="250"/>
                </a:cubicBezTo>
                <a:cubicBezTo>
                  <a:pt x="99" y="252"/>
                  <a:pt x="82" y="252"/>
                  <a:pt x="66" y="257"/>
                </a:cubicBezTo>
                <a:cubicBezTo>
                  <a:pt x="50" y="264"/>
                  <a:pt x="40" y="296"/>
                  <a:pt x="29" y="313"/>
                </a:cubicBezTo>
                <a:cubicBezTo>
                  <a:pt x="28" y="320"/>
                  <a:pt x="28" y="330"/>
                  <a:pt x="24" y="336"/>
                </a:cubicBezTo>
                <a:cubicBezTo>
                  <a:pt x="20" y="342"/>
                  <a:pt x="11" y="337"/>
                  <a:pt x="8" y="344"/>
                </a:cubicBezTo>
                <a:cubicBezTo>
                  <a:pt x="0" y="369"/>
                  <a:pt x="23" y="372"/>
                  <a:pt x="29" y="376"/>
                </a:cubicBezTo>
                <a:cubicBezTo>
                  <a:pt x="147" y="364"/>
                  <a:pt x="72" y="387"/>
                  <a:pt x="130" y="329"/>
                </a:cubicBezTo>
                <a:cubicBezTo>
                  <a:pt x="137" y="331"/>
                  <a:pt x="144" y="333"/>
                  <a:pt x="152" y="336"/>
                </a:cubicBezTo>
                <a:cubicBezTo>
                  <a:pt x="157" y="339"/>
                  <a:pt x="168" y="344"/>
                  <a:pt x="168" y="344"/>
                </a:cubicBez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6000" y="3357720"/>
            <a:ext cx="647640" cy="431640"/>
          </a:xfrm>
          <a:custGeom>
            <a:avLst/>
            <a:gdLst/>
            <a:ahLst/>
            <a:rect l="l" t="t" r="r" b="b"/>
            <a:pathLst>
              <a:path w="816" h="387">
                <a:moveTo>
                  <a:pt x="168" y="344"/>
                </a:moveTo>
                <a:cubicBezTo>
                  <a:pt x="327" y="347"/>
                  <a:pt x="487" y="353"/>
                  <a:pt x="646" y="353"/>
                </a:cubicBezTo>
                <a:cubicBezTo>
                  <a:pt x="692" y="353"/>
                  <a:pt x="740" y="364"/>
                  <a:pt x="784" y="344"/>
                </a:cubicBezTo>
                <a:cubicBezTo>
                  <a:pt x="814" y="331"/>
                  <a:pt x="761" y="269"/>
                  <a:pt x="816" y="250"/>
                </a:cubicBezTo>
                <a:cubicBezTo>
                  <a:pt x="811" y="215"/>
                  <a:pt x="808" y="187"/>
                  <a:pt x="784" y="171"/>
                </a:cubicBezTo>
                <a:cubicBezTo>
                  <a:pt x="774" y="164"/>
                  <a:pt x="752" y="155"/>
                  <a:pt x="752" y="155"/>
                </a:cubicBezTo>
                <a:cubicBezTo>
                  <a:pt x="731" y="176"/>
                  <a:pt x="725" y="206"/>
                  <a:pt x="699" y="218"/>
                </a:cubicBezTo>
                <a:cubicBezTo>
                  <a:pt x="668" y="172"/>
                  <a:pt x="683" y="168"/>
                  <a:pt x="657" y="195"/>
                </a:cubicBezTo>
                <a:cubicBezTo>
                  <a:pt x="653" y="202"/>
                  <a:pt x="652" y="216"/>
                  <a:pt x="646" y="218"/>
                </a:cubicBezTo>
                <a:cubicBezTo>
                  <a:pt x="640" y="220"/>
                  <a:pt x="634" y="210"/>
                  <a:pt x="630" y="202"/>
                </a:cubicBezTo>
                <a:cubicBezTo>
                  <a:pt x="627" y="196"/>
                  <a:pt x="627" y="186"/>
                  <a:pt x="624" y="178"/>
                </a:cubicBezTo>
                <a:cubicBezTo>
                  <a:pt x="616" y="153"/>
                  <a:pt x="603" y="139"/>
                  <a:pt x="587" y="123"/>
                </a:cubicBezTo>
                <a:cubicBezTo>
                  <a:pt x="582" y="132"/>
                  <a:pt x="575" y="138"/>
                  <a:pt x="571" y="147"/>
                </a:cubicBezTo>
                <a:cubicBezTo>
                  <a:pt x="558" y="178"/>
                  <a:pt x="580" y="181"/>
                  <a:pt x="545" y="155"/>
                </a:cubicBezTo>
                <a:cubicBezTo>
                  <a:pt x="541" y="151"/>
                  <a:pt x="491" y="143"/>
                  <a:pt x="491" y="113"/>
                </a:cubicBezTo>
                <a:cubicBezTo>
                  <a:pt x="468" y="89"/>
                  <a:pt x="422" y="23"/>
                  <a:pt x="409" y="12"/>
                </a:cubicBezTo>
                <a:cubicBezTo>
                  <a:pt x="365" y="33"/>
                  <a:pt x="442" y="0"/>
                  <a:pt x="412" y="45"/>
                </a:cubicBezTo>
                <a:cubicBezTo>
                  <a:pt x="406" y="85"/>
                  <a:pt x="400" y="122"/>
                  <a:pt x="396" y="163"/>
                </a:cubicBezTo>
                <a:cubicBezTo>
                  <a:pt x="349" y="111"/>
                  <a:pt x="370" y="124"/>
                  <a:pt x="338" y="108"/>
                </a:cubicBezTo>
                <a:cubicBezTo>
                  <a:pt x="334" y="119"/>
                  <a:pt x="330" y="128"/>
                  <a:pt x="327" y="139"/>
                </a:cubicBezTo>
                <a:cubicBezTo>
                  <a:pt x="324" y="151"/>
                  <a:pt x="329" y="170"/>
                  <a:pt x="322" y="178"/>
                </a:cubicBezTo>
                <a:cubicBezTo>
                  <a:pt x="317" y="184"/>
                  <a:pt x="312" y="166"/>
                  <a:pt x="306" y="163"/>
                </a:cubicBezTo>
                <a:cubicBezTo>
                  <a:pt x="299" y="159"/>
                  <a:pt x="292" y="158"/>
                  <a:pt x="285" y="155"/>
                </a:cubicBezTo>
                <a:cubicBezTo>
                  <a:pt x="276" y="158"/>
                  <a:pt x="266" y="155"/>
                  <a:pt x="258" y="163"/>
                </a:cubicBezTo>
                <a:cubicBezTo>
                  <a:pt x="253" y="168"/>
                  <a:pt x="256" y="180"/>
                  <a:pt x="252" y="187"/>
                </a:cubicBezTo>
                <a:cubicBezTo>
                  <a:pt x="249" y="194"/>
                  <a:pt x="242" y="197"/>
                  <a:pt x="236" y="202"/>
                </a:cubicBezTo>
                <a:cubicBezTo>
                  <a:pt x="200" y="185"/>
                  <a:pt x="189" y="188"/>
                  <a:pt x="146" y="195"/>
                </a:cubicBezTo>
                <a:cubicBezTo>
                  <a:pt x="143" y="206"/>
                  <a:pt x="138" y="215"/>
                  <a:pt x="136" y="226"/>
                </a:cubicBezTo>
                <a:cubicBezTo>
                  <a:pt x="133" y="236"/>
                  <a:pt x="136" y="251"/>
                  <a:pt x="130" y="257"/>
                </a:cubicBezTo>
                <a:cubicBezTo>
                  <a:pt x="126" y="262"/>
                  <a:pt x="120" y="252"/>
                  <a:pt x="115" y="250"/>
                </a:cubicBezTo>
                <a:cubicBezTo>
                  <a:pt x="99" y="252"/>
                  <a:pt x="82" y="252"/>
                  <a:pt x="66" y="257"/>
                </a:cubicBezTo>
                <a:cubicBezTo>
                  <a:pt x="50" y="264"/>
                  <a:pt x="40" y="296"/>
                  <a:pt x="29" y="313"/>
                </a:cubicBezTo>
                <a:cubicBezTo>
                  <a:pt x="28" y="320"/>
                  <a:pt x="28" y="330"/>
                  <a:pt x="24" y="336"/>
                </a:cubicBezTo>
                <a:cubicBezTo>
                  <a:pt x="20" y="342"/>
                  <a:pt x="11" y="337"/>
                  <a:pt x="8" y="344"/>
                </a:cubicBezTo>
                <a:cubicBezTo>
                  <a:pt x="0" y="369"/>
                  <a:pt x="23" y="372"/>
                  <a:pt x="29" y="376"/>
                </a:cubicBezTo>
                <a:cubicBezTo>
                  <a:pt x="147" y="364"/>
                  <a:pt x="72" y="387"/>
                  <a:pt x="130" y="329"/>
                </a:cubicBezTo>
                <a:cubicBezTo>
                  <a:pt x="137" y="331"/>
                  <a:pt x="144" y="333"/>
                  <a:pt x="152" y="336"/>
                </a:cubicBezTo>
                <a:cubicBezTo>
                  <a:pt x="157" y="339"/>
                  <a:pt x="168" y="344"/>
                  <a:pt x="168" y="344"/>
                </a:cubicBez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15280" y="1131840"/>
            <a:ext cx="901800" cy="943200"/>
          </a:xfrm>
          <a:custGeom>
            <a:avLst/>
            <a:gdLst/>
            <a:ahLst/>
            <a:rect l="l" t="t" r="r" b="b"/>
            <a:pathLst>
              <a:path w="568" h="594">
                <a:moveTo>
                  <a:pt x="186" y="523"/>
                </a:moveTo>
                <a:cubicBezTo>
                  <a:pt x="209" y="525"/>
                  <a:pt x="258" y="573"/>
                  <a:pt x="312" y="576"/>
                </a:cubicBezTo>
                <a:cubicBezTo>
                  <a:pt x="366" y="579"/>
                  <a:pt x="480" y="563"/>
                  <a:pt x="513" y="540"/>
                </a:cubicBezTo>
                <a:cubicBezTo>
                  <a:pt x="546" y="517"/>
                  <a:pt x="505" y="462"/>
                  <a:pt x="513" y="439"/>
                </a:cubicBezTo>
                <a:cubicBezTo>
                  <a:pt x="512" y="412"/>
                  <a:pt x="552" y="419"/>
                  <a:pt x="559" y="402"/>
                </a:cubicBezTo>
                <a:cubicBezTo>
                  <a:pt x="566" y="385"/>
                  <a:pt x="554" y="392"/>
                  <a:pt x="554" y="340"/>
                </a:cubicBezTo>
                <a:cubicBezTo>
                  <a:pt x="559" y="299"/>
                  <a:pt x="567" y="136"/>
                  <a:pt x="559" y="92"/>
                </a:cubicBezTo>
                <a:cubicBezTo>
                  <a:pt x="551" y="48"/>
                  <a:pt x="504" y="69"/>
                  <a:pt x="504" y="73"/>
                </a:cubicBezTo>
                <a:cubicBezTo>
                  <a:pt x="494" y="41"/>
                  <a:pt x="563" y="99"/>
                  <a:pt x="559" y="119"/>
                </a:cubicBezTo>
                <a:cubicBezTo>
                  <a:pt x="568" y="137"/>
                  <a:pt x="561" y="203"/>
                  <a:pt x="559" y="183"/>
                </a:cubicBezTo>
                <a:cubicBezTo>
                  <a:pt x="550" y="181"/>
                  <a:pt x="549" y="0"/>
                  <a:pt x="549" y="0"/>
                </a:cubicBezTo>
                <a:cubicBezTo>
                  <a:pt x="532" y="7"/>
                  <a:pt x="437" y="149"/>
                  <a:pt x="421" y="192"/>
                </a:cubicBezTo>
                <a:cubicBezTo>
                  <a:pt x="405" y="235"/>
                  <a:pt x="452" y="249"/>
                  <a:pt x="451" y="259"/>
                </a:cubicBezTo>
                <a:cubicBezTo>
                  <a:pt x="412" y="229"/>
                  <a:pt x="419" y="221"/>
                  <a:pt x="416" y="252"/>
                </a:cubicBezTo>
                <a:cubicBezTo>
                  <a:pt x="416" y="259"/>
                  <a:pt x="422" y="271"/>
                  <a:pt x="419" y="275"/>
                </a:cubicBezTo>
                <a:cubicBezTo>
                  <a:pt x="416" y="278"/>
                  <a:pt x="408" y="271"/>
                  <a:pt x="403" y="266"/>
                </a:cubicBezTo>
                <a:cubicBezTo>
                  <a:pt x="398" y="261"/>
                  <a:pt x="394" y="253"/>
                  <a:pt x="389" y="247"/>
                </a:cubicBezTo>
                <a:cubicBezTo>
                  <a:pt x="374" y="228"/>
                  <a:pt x="360" y="220"/>
                  <a:pt x="343" y="212"/>
                </a:cubicBezTo>
                <a:cubicBezTo>
                  <a:pt x="344" y="220"/>
                  <a:pt x="342" y="228"/>
                  <a:pt x="344" y="236"/>
                </a:cubicBezTo>
                <a:cubicBezTo>
                  <a:pt x="349" y="267"/>
                  <a:pt x="364" y="263"/>
                  <a:pt x="332" y="251"/>
                </a:cubicBezTo>
                <a:cubicBezTo>
                  <a:pt x="328" y="248"/>
                  <a:pt x="294" y="257"/>
                  <a:pt x="282" y="231"/>
                </a:cubicBezTo>
                <a:cubicBezTo>
                  <a:pt x="282" y="244"/>
                  <a:pt x="330" y="322"/>
                  <a:pt x="330" y="329"/>
                </a:cubicBezTo>
                <a:cubicBezTo>
                  <a:pt x="312" y="360"/>
                  <a:pt x="312" y="238"/>
                  <a:pt x="284" y="274"/>
                </a:cubicBezTo>
                <a:cubicBezTo>
                  <a:pt x="297" y="310"/>
                  <a:pt x="232" y="266"/>
                  <a:pt x="246" y="302"/>
                </a:cubicBezTo>
                <a:cubicBezTo>
                  <a:pt x="196" y="271"/>
                  <a:pt x="215" y="276"/>
                  <a:pt x="188" y="272"/>
                </a:cubicBezTo>
                <a:cubicBezTo>
                  <a:pt x="191" y="283"/>
                  <a:pt x="192" y="291"/>
                  <a:pt x="195" y="302"/>
                </a:cubicBezTo>
                <a:cubicBezTo>
                  <a:pt x="198" y="313"/>
                  <a:pt x="209" y="327"/>
                  <a:pt x="209" y="336"/>
                </a:cubicBezTo>
                <a:cubicBezTo>
                  <a:pt x="207" y="343"/>
                  <a:pt x="197" y="329"/>
                  <a:pt x="193" y="329"/>
                </a:cubicBezTo>
                <a:cubicBezTo>
                  <a:pt x="186" y="327"/>
                  <a:pt x="182" y="328"/>
                  <a:pt x="177" y="328"/>
                </a:cubicBezTo>
                <a:cubicBezTo>
                  <a:pt x="173" y="333"/>
                  <a:pt x="165" y="334"/>
                  <a:pt x="164" y="343"/>
                </a:cubicBezTo>
                <a:cubicBezTo>
                  <a:pt x="163" y="348"/>
                  <a:pt x="170" y="358"/>
                  <a:pt x="170" y="364"/>
                </a:cubicBezTo>
                <a:cubicBezTo>
                  <a:pt x="172" y="372"/>
                  <a:pt x="121" y="359"/>
                  <a:pt x="120" y="366"/>
                </a:cubicBezTo>
                <a:cubicBezTo>
                  <a:pt x="91" y="361"/>
                  <a:pt x="133" y="384"/>
                  <a:pt x="110" y="403"/>
                </a:cubicBezTo>
                <a:cubicBezTo>
                  <a:pt x="113" y="413"/>
                  <a:pt x="33" y="420"/>
                  <a:pt x="37" y="430"/>
                </a:cubicBezTo>
                <a:cubicBezTo>
                  <a:pt x="39" y="440"/>
                  <a:pt x="2" y="423"/>
                  <a:pt x="1" y="430"/>
                </a:cubicBezTo>
                <a:cubicBezTo>
                  <a:pt x="0" y="435"/>
                  <a:pt x="60" y="439"/>
                  <a:pt x="56" y="439"/>
                </a:cubicBezTo>
                <a:cubicBezTo>
                  <a:pt x="47" y="445"/>
                  <a:pt x="96" y="470"/>
                  <a:pt x="89" y="479"/>
                </a:cubicBezTo>
                <a:cubicBezTo>
                  <a:pt x="82" y="490"/>
                  <a:pt x="90" y="520"/>
                  <a:pt x="90" y="538"/>
                </a:cubicBezTo>
                <a:cubicBezTo>
                  <a:pt x="93" y="543"/>
                  <a:pt x="97" y="552"/>
                  <a:pt x="97" y="559"/>
                </a:cubicBezTo>
                <a:cubicBezTo>
                  <a:pt x="97" y="565"/>
                  <a:pt x="89" y="564"/>
                  <a:pt x="90" y="570"/>
                </a:cubicBezTo>
                <a:cubicBezTo>
                  <a:pt x="96" y="594"/>
                  <a:pt x="111" y="590"/>
                  <a:pt x="117" y="592"/>
                </a:cubicBezTo>
                <a:cubicBezTo>
                  <a:pt x="182" y="546"/>
                  <a:pt x="147" y="588"/>
                  <a:pt x="158" y="521"/>
                </a:cubicBezTo>
                <a:cubicBezTo>
                  <a:pt x="162" y="521"/>
                  <a:pt x="167" y="521"/>
                  <a:pt x="173" y="521"/>
                </a:cubicBezTo>
                <a:cubicBezTo>
                  <a:pt x="178" y="521"/>
                  <a:pt x="186" y="523"/>
                  <a:pt x="186" y="523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97920" y="2263680"/>
            <a:ext cx="887400" cy="1047960"/>
          </a:xfrm>
          <a:custGeom>
            <a:avLst/>
            <a:gdLst/>
            <a:ahLst/>
            <a:rect l="l" t="t" r="r" b="b"/>
            <a:pathLst>
              <a:path w="559" h="660">
                <a:moveTo>
                  <a:pt x="514" y="128"/>
                </a:moveTo>
                <a:cubicBezTo>
                  <a:pt x="491" y="223"/>
                  <a:pt x="487" y="288"/>
                  <a:pt x="386" y="329"/>
                </a:cubicBezTo>
                <a:cubicBezTo>
                  <a:pt x="296" y="399"/>
                  <a:pt x="204" y="444"/>
                  <a:pt x="102" y="494"/>
                </a:cubicBezTo>
                <a:cubicBezTo>
                  <a:pt x="90" y="529"/>
                  <a:pt x="70" y="547"/>
                  <a:pt x="47" y="576"/>
                </a:cubicBezTo>
                <a:cubicBezTo>
                  <a:pt x="44" y="588"/>
                  <a:pt x="44" y="602"/>
                  <a:pt x="38" y="613"/>
                </a:cubicBezTo>
                <a:cubicBezTo>
                  <a:pt x="31" y="626"/>
                  <a:pt x="0" y="639"/>
                  <a:pt x="11" y="649"/>
                </a:cubicBezTo>
                <a:cubicBezTo>
                  <a:pt x="23" y="660"/>
                  <a:pt x="42" y="638"/>
                  <a:pt x="57" y="631"/>
                </a:cubicBezTo>
                <a:cubicBezTo>
                  <a:pt x="185" y="571"/>
                  <a:pt x="108" y="598"/>
                  <a:pt x="175" y="576"/>
                </a:cubicBezTo>
                <a:cubicBezTo>
                  <a:pt x="196" y="520"/>
                  <a:pt x="167" y="576"/>
                  <a:pt x="230" y="531"/>
                </a:cubicBezTo>
                <a:cubicBezTo>
                  <a:pt x="239" y="524"/>
                  <a:pt x="243" y="512"/>
                  <a:pt x="249" y="503"/>
                </a:cubicBezTo>
                <a:cubicBezTo>
                  <a:pt x="268" y="447"/>
                  <a:pt x="326" y="464"/>
                  <a:pt x="367" y="430"/>
                </a:cubicBezTo>
                <a:cubicBezTo>
                  <a:pt x="394" y="408"/>
                  <a:pt x="441" y="357"/>
                  <a:pt x="441" y="357"/>
                </a:cubicBezTo>
                <a:cubicBezTo>
                  <a:pt x="465" y="282"/>
                  <a:pt x="426" y="381"/>
                  <a:pt x="486" y="311"/>
                </a:cubicBezTo>
                <a:cubicBezTo>
                  <a:pt x="497" y="298"/>
                  <a:pt x="499" y="280"/>
                  <a:pt x="505" y="265"/>
                </a:cubicBezTo>
                <a:cubicBezTo>
                  <a:pt x="512" y="201"/>
                  <a:pt x="512" y="141"/>
                  <a:pt x="541" y="83"/>
                </a:cubicBezTo>
                <a:cubicBezTo>
                  <a:pt x="544" y="68"/>
                  <a:pt x="547" y="52"/>
                  <a:pt x="550" y="37"/>
                </a:cubicBezTo>
                <a:cubicBezTo>
                  <a:pt x="553" y="25"/>
                  <a:pt x="559" y="0"/>
                  <a:pt x="559" y="0"/>
                </a:cubicBezTo>
                <a:lnTo>
                  <a:pt x="514" y="128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300720" y="4437000"/>
            <a:ext cx="682560" cy="1611360"/>
            <a:chOff x="6300720" y="4437000"/>
            <a:chExt cx="682560" cy="1611360"/>
          </a:xfrm>
        </p:grpSpPr>
        <p:sp>
          <p:nvSpPr>
            <p:cNvPr id="348" name=""/>
            <p:cNvSpPr/>
            <p:nvPr/>
          </p:nvSpPr>
          <p:spPr>
            <a:xfrm>
              <a:off x="6300720" y="4437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8280" y="4992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659640" y="5052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443280" y="5195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508720" y="5157720"/>
            <a:ext cx="1584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4508640"/>
            <a:ext cx="15843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Р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8200" y="765000"/>
            <a:ext cx="1257120" cy="1257480"/>
          </a:xfrm>
          <a:custGeom>
            <a:avLst/>
            <a:gdLst>
              <a:gd name="textAreaLeft" fmla="*/ 426600 w 1257120"/>
              <a:gd name="textAreaRight" fmla="*/ 830520 w 1257120"/>
              <a:gd name="textAreaTop" fmla="*/ 426600 h 1257480"/>
              <a:gd name="textAreaBottom" fmla="*/ 83088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68360" y="260280"/>
            <a:ext cx="4464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А ВКУСОВ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87 -0.02335 C 0.08629 -0.02797 0.08247 -0.03167 0.08872 -0.04231 C 0.09028 -0.04971 0.09323 -0.07977 0.0974 -0.08393 C 0.10001 -0.08647 0.1033 -0.08693 0.10608 -0.08832 C 0.11632 -0.09965 0.11146 -0.09641 0.12049 -0.10011 C 0.12518 -0.10497 0.13334 -0.1156 0.13924 -0.11861 C 0.14775 -0.12832 0.13959 -0.11699 0.14653 -0.13479 C 0.14757 -0.13757 0.14948 -0.13942 0.1507 -0.14196 C 0.15573 -0.15214 0.15816 -0.163 0.16372 -0.17202 C 0.16424 -0.17526 0.16407 -0.17896 0.16528 -0.18127 C 0.16667 -0.18381 0.16997 -0.18289 0.17101 -0.18589 C 0.17257 -0.19075 0.17188 -0.19676 0.1724 -0.20208 C 0.17344 -0.21271 0.17622 -0.22011 0.1783 -0.23006 C 0.17448 -0.25526 0.1823 -0.26242 0.1941 -0.26959 C 0.19671 -0.28 0.19948 -0.28462 0.20417 -0.29271 C 0.2073 -0.29826 0.21424 -0.3089 0.21424 -0.30867 C 0.21685 -0.32439 0.22327 -0.33503 0.23021 -0.34589 C 0.23716 -0.35676 0.22848 -0.35075 0.23751 -0.35537 C 0.25296 -0.37618 0.23837 -0.36092 0.26042 -0.36925 C 0.26407 -0.3704 0.26719 -0.37433 0.27066 -0.37618 C 0.27344 -0.37734 0.27639 -0.37757 0.27935 -0.37826 C 0.29584 -0.37618 0.31407 -0.37364 0.32987 -0.36439 C 0.33212 -0.35306 0.33542 -0.35306 0.34271 -0.35075 C 0.34497 -0.33965 0.34775 -0.34034 0.35435 -0.33688 C 0.36077 -0.32647 0.35452 -0.33456 0.37014 -0.3274 C 0.39653 -0.31537 0.36372 -0.32948 0.38178 -0.31815 C 0.38907 -0.31375 0.39705 -0.31352 0.40487 -0.31121 C 0.41876 -0.31375 0.4224 -0.31352 0.41494 -0.31352 E">
                                      <p:cBhvr>
                                        <p:cTn id="38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494 -0.31352 C 0.42257 -0.3156 0.42396 -0.3156 0.42639 -0.32508 C 0.42726 -0.33688 0.42761 -0.35584 0.43212 -0.3667 C 0.43299 -0.36855 0.44046 -0.37156 0.44237 -0.37248 C 0.44827 -0.38266 0.45573 -0.39144 0.46441 -0.39722 C 0.47119 -0.40624 0.46459 -0.39584 0.47014 -0.41803 C 0.47205 -0.42566 0.4783 -0.43098 0.48316 -0.43514 C 0.49063 -0.45826 0.49879 -0.46034 0.51546 -0.46543 C 0.52414 -0.483 0.53507 -0.47352 0.55191 -0.47121 C 0.55382 -0.46936 0.55573 -0.46705 0.55782 -0.46543 C 0.55955 -0.46404 0.56233 -0.46404 0.56355 -0.46173 C 0.57778 -0.43722 0.55591 -0.46058 0.5724 -0.44462 C 0.57466 -0.43491 0.57813 -0.43815 0.58525 -0.43329 C 0.59358 -0.41942 0.59306 -0.41942 0.60591 -0.41225 C 0.6073 -0.4141 0.60816 -0.4185 0.61025 -0.41803 C 0.61268 -0.4178 0.61285 -0.41248 0.61459 -0.4104 C 0.61667 -0.40786 0.61928 -0.40647 0.62205 -0.40485 C 0.62344 -0.4037 0.61615 -0.40763 0.61771 -0.40855 C 0.6198 -0.40994 0.6224 -0.4074 0.62483 -0.4067 C 0.6349 -0.4141 0.63212 -0.40855 0.63212 -0.42381 E">
                                      <p:cBhvr>
                                        <p:cTn id="405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40" dur="50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50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44" dur="50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45" dur="50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2240" y="3305160"/>
            <a:ext cx="5943600" cy="3614760"/>
          </a:xfrm>
          <a:custGeom>
            <a:avLst/>
            <a:gdLst/>
            <a:ahLst/>
            <a:rect l="l" t="t" r="r" b="b"/>
            <a:pathLst>
              <a:path w="3744" h="2277">
                <a:moveTo>
                  <a:pt x="0" y="2257"/>
                </a:moveTo>
                <a:cubicBezTo>
                  <a:pt x="6" y="2248"/>
                  <a:pt x="11" y="2238"/>
                  <a:pt x="18" y="2229"/>
                </a:cubicBezTo>
                <a:cubicBezTo>
                  <a:pt x="26" y="2219"/>
                  <a:pt x="39" y="2212"/>
                  <a:pt x="46" y="2201"/>
                </a:cubicBezTo>
                <a:cubicBezTo>
                  <a:pt x="79" y="2153"/>
                  <a:pt x="39" y="2100"/>
                  <a:pt x="102" y="2080"/>
                </a:cubicBezTo>
                <a:cubicBezTo>
                  <a:pt x="128" y="2063"/>
                  <a:pt x="149" y="2039"/>
                  <a:pt x="176" y="2024"/>
                </a:cubicBezTo>
                <a:cubicBezTo>
                  <a:pt x="208" y="2007"/>
                  <a:pt x="292" y="1970"/>
                  <a:pt x="334" y="1959"/>
                </a:cubicBezTo>
                <a:cubicBezTo>
                  <a:pt x="366" y="1912"/>
                  <a:pt x="411" y="1925"/>
                  <a:pt x="464" y="1904"/>
                </a:cubicBezTo>
                <a:cubicBezTo>
                  <a:pt x="526" y="1879"/>
                  <a:pt x="567" y="1843"/>
                  <a:pt x="632" y="1829"/>
                </a:cubicBezTo>
                <a:cubicBezTo>
                  <a:pt x="657" y="1777"/>
                  <a:pt x="714" y="1745"/>
                  <a:pt x="762" y="1708"/>
                </a:cubicBezTo>
                <a:cubicBezTo>
                  <a:pt x="806" y="1634"/>
                  <a:pt x="828" y="1688"/>
                  <a:pt x="901" y="1653"/>
                </a:cubicBezTo>
                <a:cubicBezTo>
                  <a:pt x="913" y="1659"/>
                  <a:pt x="868" y="1645"/>
                  <a:pt x="882" y="1643"/>
                </a:cubicBezTo>
                <a:cubicBezTo>
                  <a:pt x="992" y="1626"/>
                  <a:pt x="936" y="1611"/>
                  <a:pt x="1003" y="1578"/>
                </a:cubicBezTo>
                <a:cubicBezTo>
                  <a:pt x="1027" y="1566"/>
                  <a:pt x="1052" y="1560"/>
                  <a:pt x="1077" y="1551"/>
                </a:cubicBezTo>
                <a:cubicBezTo>
                  <a:pt x="1130" y="1512"/>
                  <a:pt x="1172" y="1471"/>
                  <a:pt x="1235" y="1448"/>
                </a:cubicBezTo>
                <a:cubicBezTo>
                  <a:pt x="1274" y="1371"/>
                  <a:pt x="1225" y="1443"/>
                  <a:pt x="1300" y="1402"/>
                </a:cubicBezTo>
                <a:cubicBezTo>
                  <a:pt x="1316" y="1394"/>
                  <a:pt x="1323" y="1374"/>
                  <a:pt x="1338" y="1365"/>
                </a:cubicBezTo>
                <a:cubicBezTo>
                  <a:pt x="1358" y="1352"/>
                  <a:pt x="1381" y="1346"/>
                  <a:pt x="1403" y="1337"/>
                </a:cubicBezTo>
                <a:cubicBezTo>
                  <a:pt x="1457" y="1281"/>
                  <a:pt x="1529" y="1241"/>
                  <a:pt x="1598" y="1207"/>
                </a:cubicBezTo>
                <a:cubicBezTo>
                  <a:pt x="1633" y="1153"/>
                  <a:pt x="1697" y="1145"/>
                  <a:pt x="1756" y="1132"/>
                </a:cubicBezTo>
                <a:cubicBezTo>
                  <a:pt x="1812" y="1087"/>
                  <a:pt x="1832" y="1078"/>
                  <a:pt x="1904" y="1067"/>
                </a:cubicBezTo>
                <a:cubicBezTo>
                  <a:pt x="1957" y="1028"/>
                  <a:pt x="1994" y="973"/>
                  <a:pt x="2053" y="937"/>
                </a:cubicBezTo>
                <a:cubicBezTo>
                  <a:pt x="2099" y="909"/>
                  <a:pt x="2075" y="880"/>
                  <a:pt x="2127" y="863"/>
                </a:cubicBezTo>
                <a:cubicBezTo>
                  <a:pt x="2138" y="840"/>
                  <a:pt x="2119" y="844"/>
                  <a:pt x="2155" y="826"/>
                </a:cubicBezTo>
                <a:cubicBezTo>
                  <a:pt x="2191" y="808"/>
                  <a:pt x="2282" y="794"/>
                  <a:pt x="2341" y="752"/>
                </a:cubicBezTo>
                <a:cubicBezTo>
                  <a:pt x="2381" y="698"/>
                  <a:pt x="2451" y="614"/>
                  <a:pt x="2508" y="575"/>
                </a:cubicBezTo>
                <a:cubicBezTo>
                  <a:pt x="2539" y="541"/>
                  <a:pt x="2545" y="558"/>
                  <a:pt x="2564" y="547"/>
                </a:cubicBezTo>
                <a:cubicBezTo>
                  <a:pt x="2583" y="536"/>
                  <a:pt x="2603" y="518"/>
                  <a:pt x="2620" y="510"/>
                </a:cubicBezTo>
                <a:cubicBezTo>
                  <a:pt x="2639" y="485"/>
                  <a:pt x="2650" y="527"/>
                  <a:pt x="2666" y="501"/>
                </a:cubicBezTo>
                <a:cubicBezTo>
                  <a:pt x="2676" y="484"/>
                  <a:pt x="2610" y="552"/>
                  <a:pt x="2629" y="547"/>
                </a:cubicBezTo>
                <a:cubicBezTo>
                  <a:pt x="2655" y="545"/>
                  <a:pt x="2572" y="551"/>
                  <a:pt x="2601" y="529"/>
                </a:cubicBezTo>
                <a:cubicBezTo>
                  <a:pt x="2630" y="507"/>
                  <a:pt x="2763" y="446"/>
                  <a:pt x="2805" y="417"/>
                </a:cubicBezTo>
                <a:cubicBezTo>
                  <a:pt x="2847" y="388"/>
                  <a:pt x="2823" y="377"/>
                  <a:pt x="2852" y="352"/>
                </a:cubicBezTo>
                <a:cubicBezTo>
                  <a:pt x="2858" y="321"/>
                  <a:pt x="2970" y="297"/>
                  <a:pt x="2982" y="268"/>
                </a:cubicBezTo>
                <a:cubicBezTo>
                  <a:pt x="3038" y="250"/>
                  <a:pt x="3016" y="235"/>
                  <a:pt x="3038" y="231"/>
                </a:cubicBezTo>
                <a:cubicBezTo>
                  <a:pt x="3095" y="174"/>
                  <a:pt x="3187" y="203"/>
                  <a:pt x="3205" y="138"/>
                </a:cubicBezTo>
                <a:cubicBezTo>
                  <a:pt x="3382" y="101"/>
                  <a:pt x="3462" y="64"/>
                  <a:pt x="3577" y="45"/>
                </a:cubicBezTo>
                <a:cubicBezTo>
                  <a:pt x="3596" y="39"/>
                  <a:pt x="3668" y="18"/>
                  <a:pt x="3688" y="18"/>
                </a:cubicBezTo>
                <a:cubicBezTo>
                  <a:pt x="3744" y="18"/>
                  <a:pt x="3672" y="0"/>
                  <a:pt x="3725" y="18"/>
                </a:cubicBezTo>
                <a:cubicBezTo>
                  <a:pt x="3737" y="22"/>
                  <a:pt x="3708" y="38"/>
                  <a:pt x="3697" y="45"/>
                </a:cubicBezTo>
                <a:cubicBezTo>
                  <a:pt x="3663" y="69"/>
                  <a:pt x="3654" y="64"/>
                  <a:pt x="3614" y="73"/>
                </a:cubicBezTo>
                <a:cubicBezTo>
                  <a:pt x="3559" y="86"/>
                  <a:pt x="3508" y="116"/>
                  <a:pt x="3456" y="138"/>
                </a:cubicBezTo>
                <a:cubicBezTo>
                  <a:pt x="3420" y="191"/>
                  <a:pt x="3339" y="214"/>
                  <a:pt x="3279" y="231"/>
                </a:cubicBezTo>
                <a:cubicBezTo>
                  <a:pt x="3187" y="294"/>
                  <a:pt x="3336" y="196"/>
                  <a:pt x="3205" y="268"/>
                </a:cubicBezTo>
                <a:cubicBezTo>
                  <a:pt x="3114" y="318"/>
                  <a:pt x="3212" y="280"/>
                  <a:pt x="3140" y="306"/>
                </a:cubicBezTo>
                <a:cubicBezTo>
                  <a:pt x="3108" y="337"/>
                  <a:pt x="3077" y="356"/>
                  <a:pt x="3038" y="380"/>
                </a:cubicBezTo>
                <a:cubicBezTo>
                  <a:pt x="3035" y="389"/>
                  <a:pt x="3036" y="402"/>
                  <a:pt x="3028" y="408"/>
                </a:cubicBezTo>
                <a:cubicBezTo>
                  <a:pt x="3015" y="418"/>
                  <a:pt x="2997" y="419"/>
                  <a:pt x="2982" y="426"/>
                </a:cubicBezTo>
                <a:cubicBezTo>
                  <a:pt x="2951" y="441"/>
                  <a:pt x="2920" y="457"/>
                  <a:pt x="2889" y="473"/>
                </a:cubicBezTo>
                <a:cubicBezTo>
                  <a:pt x="2873" y="481"/>
                  <a:pt x="2866" y="499"/>
                  <a:pt x="2852" y="510"/>
                </a:cubicBezTo>
                <a:cubicBezTo>
                  <a:pt x="2790" y="557"/>
                  <a:pt x="2839" y="503"/>
                  <a:pt x="2787" y="547"/>
                </a:cubicBezTo>
                <a:cubicBezTo>
                  <a:pt x="2701" y="620"/>
                  <a:pt x="2791" y="556"/>
                  <a:pt x="2722" y="603"/>
                </a:cubicBezTo>
                <a:cubicBezTo>
                  <a:pt x="2696" y="642"/>
                  <a:pt x="2655" y="682"/>
                  <a:pt x="2610" y="696"/>
                </a:cubicBezTo>
                <a:cubicBezTo>
                  <a:pt x="2607" y="718"/>
                  <a:pt x="2610" y="741"/>
                  <a:pt x="2601" y="761"/>
                </a:cubicBezTo>
                <a:cubicBezTo>
                  <a:pt x="2596" y="771"/>
                  <a:pt x="2579" y="770"/>
                  <a:pt x="2573" y="779"/>
                </a:cubicBezTo>
                <a:cubicBezTo>
                  <a:pt x="2566" y="790"/>
                  <a:pt x="2570" y="805"/>
                  <a:pt x="2564" y="817"/>
                </a:cubicBezTo>
                <a:cubicBezTo>
                  <a:pt x="2535" y="875"/>
                  <a:pt x="2542" y="867"/>
                  <a:pt x="2499" y="882"/>
                </a:cubicBezTo>
                <a:cubicBezTo>
                  <a:pt x="2466" y="945"/>
                  <a:pt x="2479" y="942"/>
                  <a:pt x="2406" y="965"/>
                </a:cubicBezTo>
                <a:cubicBezTo>
                  <a:pt x="2360" y="997"/>
                  <a:pt x="2371" y="1016"/>
                  <a:pt x="2313" y="1030"/>
                </a:cubicBezTo>
                <a:cubicBezTo>
                  <a:pt x="2278" y="1054"/>
                  <a:pt x="2267" y="1086"/>
                  <a:pt x="2239" y="1114"/>
                </a:cubicBezTo>
                <a:cubicBezTo>
                  <a:pt x="2222" y="1131"/>
                  <a:pt x="2200" y="1143"/>
                  <a:pt x="2183" y="1160"/>
                </a:cubicBezTo>
                <a:cubicBezTo>
                  <a:pt x="2170" y="1202"/>
                  <a:pt x="2137" y="1212"/>
                  <a:pt x="2109" y="1244"/>
                </a:cubicBezTo>
                <a:cubicBezTo>
                  <a:pt x="2039" y="1325"/>
                  <a:pt x="1994" y="1432"/>
                  <a:pt x="1886" y="1467"/>
                </a:cubicBezTo>
                <a:cubicBezTo>
                  <a:pt x="1869" y="1514"/>
                  <a:pt x="1845" y="1526"/>
                  <a:pt x="1802" y="1551"/>
                </a:cubicBezTo>
                <a:cubicBezTo>
                  <a:pt x="1787" y="1595"/>
                  <a:pt x="1759" y="1586"/>
                  <a:pt x="1718" y="1606"/>
                </a:cubicBezTo>
                <a:cubicBezTo>
                  <a:pt x="1691" y="1653"/>
                  <a:pt x="1683" y="1664"/>
                  <a:pt x="1635" y="1681"/>
                </a:cubicBezTo>
                <a:cubicBezTo>
                  <a:pt x="1632" y="1690"/>
                  <a:pt x="1632" y="1701"/>
                  <a:pt x="1626" y="1708"/>
                </a:cubicBezTo>
                <a:cubicBezTo>
                  <a:pt x="1609" y="1729"/>
                  <a:pt x="1581" y="1737"/>
                  <a:pt x="1561" y="1755"/>
                </a:cubicBezTo>
                <a:cubicBezTo>
                  <a:pt x="1507" y="1802"/>
                  <a:pt x="1545" y="1785"/>
                  <a:pt x="1496" y="1801"/>
                </a:cubicBezTo>
                <a:cubicBezTo>
                  <a:pt x="1481" y="1843"/>
                  <a:pt x="1443" y="1850"/>
                  <a:pt x="1412" y="1885"/>
                </a:cubicBezTo>
                <a:cubicBezTo>
                  <a:pt x="1391" y="1909"/>
                  <a:pt x="1382" y="1931"/>
                  <a:pt x="1356" y="1950"/>
                </a:cubicBezTo>
                <a:cubicBezTo>
                  <a:pt x="1282" y="2004"/>
                  <a:pt x="1196" y="2038"/>
                  <a:pt x="1115" y="2080"/>
                </a:cubicBezTo>
                <a:cubicBezTo>
                  <a:pt x="1054" y="2112"/>
                  <a:pt x="995" y="2153"/>
                  <a:pt x="938" y="2192"/>
                </a:cubicBezTo>
                <a:cubicBezTo>
                  <a:pt x="924" y="2213"/>
                  <a:pt x="918" y="2229"/>
                  <a:pt x="892" y="2238"/>
                </a:cubicBezTo>
                <a:cubicBezTo>
                  <a:pt x="865" y="2247"/>
                  <a:pt x="808" y="2257"/>
                  <a:pt x="808" y="2257"/>
                </a:cubicBezTo>
                <a:cubicBezTo>
                  <a:pt x="698" y="2244"/>
                  <a:pt x="594" y="2230"/>
                  <a:pt x="483" y="2219"/>
                </a:cubicBezTo>
                <a:cubicBezTo>
                  <a:pt x="431" y="2206"/>
                  <a:pt x="410" y="2277"/>
                  <a:pt x="371" y="2238"/>
                </a:cubicBezTo>
                <a:cubicBezTo>
                  <a:pt x="321" y="2238"/>
                  <a:pt x="241" y="2232"/>
                  <a:pt x="195" y="2229"/>
                </a:cubicBezTo>
                <a:cubicBezTo>
                  <a:pt x="149" y="2226"/>
                  <a:pt x="125" y="2214"/>
                  <a:pt x="93" y="2219"/>
                </a:cubicBezTo>
                <a:cubicBezTo>
                  <a:pt x="15" y="2235"/>
                  <a:pt x="34" y="2221"/>
                  <a:pt x="0" y="2257"/>
                </a:cubicBez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f9900"/>
              </a:gs>
              <a:gs pos="100000">
                <a:srgbClr val="cc6600"/>
              </a:gs>
            </a:gsLst>
            <a:lin ang="108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13000"/>
            <a:ext cx="853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0920" y="333360"/>
            <a:ext cx="1257120" cy="1257480"/>
          </a:xfrm>
          <a:custGeom>
            <a:avLst/>
            <a:gdLst>
              <a:gd name="textAreaLeft" fmla="*/ 426600 w 1257120"/>
              <a:gd name="textAreaRight" fmla="*/ 830520 w 1257120"/>
              <a:gd name="textAreaTop" fmla="*/ 426600 h 1257480"/>
              <a:gd name="textAreaBottom" fmla="*/ 83088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1125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. Игра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АОБОРО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1628640"/>
            <a:ext cx="2592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аленький –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изкий –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роткий –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зкий –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олстый –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ерхний – 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32720" y="260280"/>
            <a:ext cx="2195280" cy="1513080"/>
          </a:xfrm>
          <a:custGeom>
            <a:avLst/>
            <a:gdLst/>
            <a:ahLst/>
            <a:rect l="l" t="t" r="r" b="b"/>
            <a:pathLst>
              <a:path w="2505" h="2156">
                <a:moveTo>
                  <a:pt x="1673" y="17"/>
                </a:moveTo>
                <a:cubicBezTo>
                  <a:pt x="1664" y="26"/>
                  <a:pt x="1653" y="33"/>
                  <a:pt x="1646" y="44"/>
                </a:cubicBezTo>
                <a:cubicBezTo>
                  <a:pt x="1641" y="52"/>
                  <a:pt x="1645" y="67"/>
                  <a:pt x="1637" y="72"/>
                </a:cubicBezTo>
                <a:cubicBezTo>
                  <a:pt x="1614" y="88"/>
                  <a:pt x="1582" y="84"/>
                  <a:pt x="1555" y="90"/>
                </a:cubicBezTo>
                <a:cubicBezTo>
                  <a:pt x="1505" y="101"/>
                  <a:pt x="1457" y="115"/>
                  <a:pt x="1408" y="127"/>
                </a:cubicBezTo>
                <a:cubicBezTo>
                  <a:pt x="1327" y="208"/>
                  <a:pt x="1447" y="99"/>
                  <a:pt x="1335" y="163"/>
                </a:cubicBezTo>
                <a:cubicBezTo>
                  <a:pt x="1318" y="173"/>
                  <a:pt x="1308" y="218"/>
                  <a:pt x="1289" y="236"/>
                </a:cubicBezTo>
                <a:cubicBezTo>
                  <a:pt x="1280" y="273"/>
                  <a:pt x="1272" y="346"/>
                  <a:pt x="1244" y="374"/>
                </a:cubicBezTo>
                <a:cubicBezTo>
                  <a:pt x="1237" y="381"/>
                  <a:pt x="1225" y="380"/>
                  <a:pt x="1216" y="383"/>
                </a:cubicBezTo>
                <a:cubicBezTo>
                  <a:pt x="1207" y="392"/>
                  <a:pt x="1200" y="403"/>
                  <a:pt x="1189" y="410"/>
                </a:cubicBezTo>
                <a:cubicBezTo>
                  <a:pt x="1181" y="415"/>
                  <a:pt x="1168" y="412"/>
                  <a:pt x="1161" y="419"/>
                </a:cubicBezTo>
                <a:cubicBezTo>
                  <a:pt x="1154" y="426"/>
                  <a:pt x="1158" y="439"/>
                  <a:pt x="1152" y="447"/>
                </a:cubicBezTo>
                <a:cubicBezTo>
                  <a:pt x="1130" y="474"/>
                  <a:pt x="1103" y="496"/>
                  <a:pt x="1079" y="520"/>
                </a:cubicBezTo>
                <a:cubicBezTo>
                  <a:pt x="1071" y="528"/>
                  <a:pt x="1070" y="542"/>
                  <a:pt x="1061" y="547"/>
                </a:cubicBezTo>
                <a:cubicBezTo>
                  <a:pt x="1047" y="555"/>
                  <a:pt x="1030" y="553"/>
                  <a:pt x="1015" y="556"/>
                </a:cubicBezTo>
                <a:cubicBezTo>
                  <a:pt x="990" y="582"/>
                  <a:pt x="967" y="600"/>
                  <a:pt x="933" y="611"/>
                </a:cubicBezTo>
                <a:cubicBezTo>
                  <a:pt x="899" y="634"/>
                  <a:pt x="894" y="659"/>
                  <a:pt x="869" y="694"/>
                </a:cubicBezTo>
                <a:cubicBezTo>
                  <a:pt x="861" y="719"/>
                  <a:pt x="831" y="805"/>
                  <a:pt x="814" y="822"/>
                </a:cubicBezTo>
                <a:cubicBezTo>
                  <a:pt x="799" y="837"/>
                  <a:pt x="761" y="844"/>
                  <a:pt x="741" y="849"/>
                </a:cubicBezTo>
                <a:cubicBezTo>
                  <a:pt x="715" y="927"/>
                  <a:pt x="756" y="823"/>
                  <a:pt x="704" y="895"/>
                </a:cubicBezTo>
                <a:cubicBezTo>
                  <a:pt x="695" y="908"/>
                  <a:pt x="697" y="928"/>
                  <a:pt x="686" y="940"/>
                </a:cubicBezTo>
                <a:cubicBezTo>
                  <a:pt x="641" y="989"/>
                  <a:pt x="630" y="989"/>
                  <a:pt x="585" y="1004"/>
                </a:cubicBezTo>
                <a:cubicBezTo>
                  <a:pt x="579" y="1013"/>
                  <a:pt x="575" y="1024"/>
                  <a:pt x="567" y="1032"/>
                </a:cubicBezTo>
                <a:cubicBezTo>
                  <a:pt x="559" y="1040"/>
                  <a:pt x="547" y="1041"/>
                  <a:pt x="540" y="1050"/>
                </a:cubicBezTo>
                <a:cubicBezTo>
                  <a:pt x="534" y="1058"/>
                  <a:pt x="536" y="1070"/>
                  <a:pt x="531" y="1078"/>
                </a:cubicBezTo>
                <a:cubicBezTo>
                  <a:pt x="521" y="1095"/>
                  <a:pt x="505" y="1107"/>
                  <a:pt x="494" y="1123"/>
                </a:cubicBezTo>
                <a:cubicBezTo>
                  <a:pt x="486" y="1230"/>
                  <a:pt x="506" y="1359"/>
                  <a:pt x="448" y="1452"/>
                </a:cubicBezTo>
                <a:cubicBezTo>
                  <a:pt x="428" y="1536"/>
                  <a:pt x="398" y="1583"/>
                  <a:pt x="320" y="1608"/>
                </a:cubicBezTo>
                <a:cubicBezTo>
                  <a:pt x="272" y="1672"/>
                  <a:pt x="245" y="1666"/>
                  <a:pt x="174" y="1690"/>
                </a:cubicBezTo>
                <a:cubicBezTo>
                  <a:pt x="162" y="1699"/>
                  <a:pt x="150" y="1709"/>
                  <a:pt x="137" y="1718"/>
                </a:cubicBezTo>
                <a:cubicBezTo>
                  <a:pt x="119" y="1730"/>
                  <a:pt x="83" y="1754"/>
                  <a:pt x="83" y="1754"/>
                </a:cubicBezTo>
                <a:cubicBezTo>
                  <a:pt x="42" y="1835"/>
                  <a:pt x="72" y="1818"/>
                  <a:pt x="19" y="1836"/>
                </a:cubicBezTo>
                <a:cubicBezTo>
                  <a:pt x="13" y="1848"/>
                  <a:pt x="0" y="1859"/>
                  <a:pt x="0" y="1873"/>
                </a:cubicBezTo>
                <a:cubicBezTo>
                  <a:pt x="0" y="1934"/>
                  <a:pt x="5" y="1996"/>
                  <a:pt x="19" y="2056"/>
                </a:cubicBezTo>
                <a:cubicBezTo>
                  <a:pt x="21" y="2067"/>
                  <a:pt x="37" y="2069"/>
                  <a:pt x="46" y="2074"/>
                </a:cubicBezTo>
                <a:cubicBezTo>
                  <a:pt x="121" y="2115"/>
                  <a:pt x="200" y="2140"/>
                  <a:pt x="284" y="2156"/>
                </a:cubicBezTo>
                <a:cubicBezTo>
                  <a:pt x="302" y="2155"/>
                  <a:pt x="422" y="2153"/>
                  <a:pt x="467" y="2138"/>
                </a:cubicBezTo>
                <a:cubicBezTo>
                  <a:pt x="575" y="2102"/>
                  <a:pt x="692" y="2069"/>
                  <a:pt x="805" y="2047"/>
                </a:cubicBezTo>
                <a:cubicBezTo>
                  <a:pt x="817" y="1997"/>
                  <a:pt x="823" y="1942"/>
                  <a:pt x="851" y="1900"/>
                </a:cubicBezTo>
                <a:cubicBezTo>
                  <a:pt x="871" y="1821"/>
                  <a:pt x="841" y="1903"/>
                  <a:pt x="896" y="1846"/>
                </a:cubicBezTo>
                <a:cubicBezTo>
                  <a:pt x="944" y="1797"/>
                  <a:pt x="860" y="1832"/>
                  <a:pt x="933" y="1809"/>
                </a:cubicBezTo>
                <a:cubicBezTo>
                  <a:pt x="970" y="1772"/>
                  <a:pt x="967" y="1751"/>
                  <a:pt x="1015" y="1727"/>
                </a:cubicBezTo>
                <a:cubicBezTo>
                  <a:pt x="1040" y="1700"/>
                  <a:pt x="1052" y="1675"/>
                  <a:pt x="1088" y="1663"/>
                </a:cubicBezTo>
                <a:cubicBezTo>
                  <a:pt x="1097" y="1654"/>
                  <a:pt x="1105" y="1642"/>
                  <a:pt x="1116" y="1635"/>
                </a:cubicBezTo>
                <a:cubicBezTo>
                  <a:pt x="1124" y="1630"/>
                  <a:pt x="1136" y="1632"/>
                  <a:pt x="1143" y="1626"/>
                </a:cubicBezTo>
                <a:cubicBezTo>
                  <a:pt x="1151" y="1619"/>
                  <a:pt x="1153" y="1606"/>
                  <a:pt x="1161" y="1599"/>
                </a:cubicBezTo>
                <a:cubicBezTo>
                  <a:pt x="1187" y="1577"/>
                  <a:pt x="1229" y="1561"/>
                  <a:pt x="1262" y="1553"/>
                </a:cubicBezTo>
                <a:cubicBezTo>
                  <a:pt x="1324" y="1517"/>
                  <a:pt x="1392" y="1483"/>
                  <a:pt x="1463" y="1471"/>
                </a:cubicBezTo>
                <a:cubicBezTo>
                  <a:pt x="1513" y="1451"/>
                  <a:pt x="1567" y="1424"/>
                  <a:pt x="1619" y="1407"/>
                </a:cubicBezTo>
                <a:cubicBezTo>
                  <a:pt x="1653" y="1371"/>
                  <a:pt x="1663" y="1372"/>
                  <a:pt x="1692" y="1324"/>
                </a:cubicBezTo>
                <a:cubicBezTo>
                  <a:pt x="1707" y="1232"/>
                  <a:pt x="1653" y="1109"/>
                  <a:pt x="1719" y="1032"/>
                </a:cubicBezTo>
                <a:cubicBezTo>
                  <a:pt x="1727" y="1022"/>
                  <a:pt x="1769" y="995"/>
                  <a:pt x="1783" y="986"/>
                </a:cubicBezTo>
                <a:cubicBezTo>
                  <a:pt x="1792" y="958"/>
                  <a:pt x="1845" y="933"/>
                  <a:pt x="1875" y="931"/>
                </a:cubicBezTo>
                <a:cubicBezTo>
                  <a:pt x="1981" y="923"/>
                  <a:pt x="2088" y="925"/>
                  <a:pt x="2195" y="922"/>
                </a:cubicBezTo>
                <a:cubicBezTo>
                  <a:pt x="2384" y="883"/>
                  <a:pt x="2314" y="908"/>
                  <a:pt x="2414" y="867"/>
                </a:cubicBezTo>
                <a:cubicBezTo>
                  <a:pt x="2449" y="808"/>
                  <a:pt x="2481" y="764"/>
                  <a:pt x="2505" y="703"/>
                </a:cubicBezTo>
                <a:cubicBezTo>
                  <a:pt x="2498" y="645"/>
                  <a:pt x="2503" y="564"/>
                  <a:pt x="2451" y="529"/>
                </a:cubicBezTo>
                <a:cubicBezTo>
                  <a:pt x="2429" y="447"/>
                  <a:pt x="2399" y="455"/>
                  <a:pt x="2332" y="419"/>
                </a:cubicBezTo>
                <a:cubicBezTo>
                  <a:pt x="2323" y="404"/>
                  <a:pt x="2317" y="386"/>
                  <a:pt x="2304" y="374"/>
                </a:cubicBezTo>
                <a:cubicBezTo>
                  <a:pt x="2295" y="366"/>
                  <a:pt x="2279" y="369"/>
                  <a:pt x="2268" y="364"/>
                </a:cubicBezTo>
                <a:cubicBezTo>
                  <a:pt x="2227" y="346"/>
                  <a:pt x="2250" y="346"/>
                  <a:pt x="2213" y="319"/>
                </a:cubicBezTo>
                <a:cubicBezTo>
                  <a:pt x="2192" y="304"/>
                  <a:pt x="2173" y="299"/>
                  <a:pt x="2149" y="291"/>
                </a:cubicBezTo>
                <a:cubicBezTo>
                  <a:pt x="2093" y="219"/>
                  <a:pt x="2155" y="282"/>
                  <a:pt x="2076" y="246"/>
                </a:cubicBezTo>
                <a:cubicBezTo>
                  <a:pt x="2018" y="219"/>
                  <a:pt x="1982" y="174"/>
                  <a:pt x="1920" y="154"/>
                </a:cubicBezTo>
                <a:cubicBezTo>
                  <a:pt x="1911" y="142"/>
                  <a:pt x="1905" y="128"/>
                  <a:pt x="1893" y="118"/>
                </a:cubicBezTo>
                <a:cubicBezTo>
                  <a:pt x="1885" y="112"/>
                  <a:pt x="1873" y="114"/>
                  <a:pt x="1865" y="108"/>
                </a:cubicBezTo>
                <a:cubicBezTo>
                  <a:pt x="1792" y="49"/>
                  <a:pt x="1927" y="112"/>
                  <a:pt x="1801" y="63"/>
                </a:cubicBezTo>
                <a:cubicBezTo>
                  <a:pt x="1781" y="0"/>
                  <a:pt x="1728" y="8"/>
                  <a:pt x="1673" y="17"/>
                </a:cubicBezTo>
                <a:close/>
              </a:path>
            </a:pathLst>
          </a:custGeom>
          <a:solidFill>
            <a:srgbClr val="00ff00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591320" y="547560"/>
            <a:ext cx="954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878600" y="1050840"/>
            <a:ext cx="96840" cy="37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6000" y="162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больш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24000" y="29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широ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68360" y="2060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со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6836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он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249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дли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95640" y="5950080"/>
            <a:ext cx="403200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3. Спишите пословицы. Подчеркните прилаг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56000" y="5157720"/>
            <a:ext cx="38163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). РЕЧЬ ХОРОША КОРОТКАЯ, А ВЕРЕВКА ДЛИ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68360" y="4653000"/>
            <a:ext cx="682560" cy="1611360"/>
            <a:chOff x="468360" y="4653000"/>
            <a:chExt cx="682560" cy="1611360"/>
          </a:xfrm>
        </p:grpSpPr>
        <p:sp>
          <p:nvSpPr>
            <p:cNvPr id="373" name=""/>
            <p:cNvSpPr/>
            <p:nvPr/>
          </p:nvSpPr>
          <p:spPr>
            <a:xfrm>
              <a:off x="468360" y="4653000"/>
              <a:ext cx="682560" cy="104796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920" y="5208840"/>
              <a:ext cx="363240" cy="105552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27280" y="5268960"/>
              <a:ext cx="144360" cy="2872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10920" y="5411880"/>
              <a:ext cx="144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187280" y="4365720"/>
            <a:ext cx="648000" cy="1250640"/>
            <a:chOff x="1187280" y="4365720"/>
            <a:chExt cx="648000" cy="1250640"/>
          </a:xfrm>
        </p:grpSpPr>
        <p:sp>
          <p:nvSpPr>
            <p:cNvPr id="378" name=""/>
            <p:cNvSpPr/>
            <p:nvPr/>
          </p:nvSpPr>
          <p:spPr>
            <a:xfrm>
              <a:off x="1187280" y="4365720"/>
              <a:ext cx="648000" cy="8136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65120" y="4797000"/>
              <a:ext cx="344520" cy="81936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527840" y="4843440"/>
              <a:ext cx="136800" cy="22284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322640" y="4954680"/>
              <a:ext cx="13680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27280" y="3933720"/>
            <a:ext cx="504720" cy="890280"/>
            <a:chOff x="2627280" y="3933720"/>
            <a:chExt cx="504720" cy="890280"/>
          </a:xfrm>
        </p:grpSpPr>
        <p:sp>
          <p:nvSpPr>
            <p:cNvPr id="383" name=""/>
            <p:cNvSpPr/>
            <p:nvPr/>
          </p:nvSpPr>
          <p:spPr>
            <a:xfrm>
              <a:off x="2627280" y="3933720"/>
              <a:ext cx="504720" cy="57924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65880" y="4240800"/>
              <a:ext cx="268560" cy="58320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892600" y="4273560"/>
              <a:ext cx="106560" cy="15876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732760" y="4353120"/>
              <a:ext cx="1065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140360" y="3284640"/>
            <a:ext cx="358560" cy="647280"/>
            <a:chOff x="4140360" y="3284640"/>
            <a:chExt cx="358560" cy="647280"/>
          </a:xfrm>
        </p:grpSpPr>
        <p:sp>
          <p:nvSpPr>
            <p:cNvPr id="388" name=""/>
            <p:cNvSpPr/>
            <p:nvPr/>
          </p:nvSpPr>
          <p:spPr>
            <a:xfrm>
              <a:off x="4140360" y="3284640"/>
              <a:ext cx="358560" cy="4212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38640" y="3507840"/>
              <a:ext cx="190800" cy="42408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328640" y="3531960"/>
              <a:ext cx="75600" cy="11520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215240" y="3589560"/>
              <a:ext cx="7560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48360" y="2997360"/>
            <a:ext cx="215640" cy="431280"/>
            <a:chOff x="5148360" y="2997360"/>
            <a:chExt cx="215640" cy="431280"/>
          </a:xfrm>
        </p:grpSpPr>
        <p:sp>
          <p:nvSpPr>
            <p:cNvPr id="393" name=""/>
            <p:cNvSpPr/>
            <p:nvPr/>
          </p:nvSpPr>
          <p:spPr>
            <a:xfrm>
              <a:off x="5148360" y="2997360"/>
              <a:ext cx="215640" cy="280800"/>
            </a:xfrm>
            <a:custGeom>
              <a:avLst/>
              <a:gdLst/>
              <a:ahLst/>
              <a:rect l="l" t="t" r="r" b="b"/>
              <a:pathLst>
                <a:path w="823" h="1216">
                  <a:moveTo>
                    <a:pt x="448" y="0"/>
                  </a:moveTo>
                  <a:cubicBezTo>
                    <a:pt x="397" y="39"/>
                    <a:pt x="376" y="100"/>
                    <a:pt x="320" y="137"/>
                  </a:cubicBezTo>
                  <a:cubicBezTo>
                    <a:pt x="296" y="173"/>
                    <a:pt x="306" y="187"/>
                    <a:pt x="265" y="201"/>
                  </a:cubicBezTo>
                  <a:cubicBezTo>
                    <a:pt x="220" y="267"/>
                    <a:pt x="238" y="236"/>
                    <a:pt x="210" y="293"/>
                  </a:cubicBezTo>
                  <a:cubicBezTo>
                    <a:pt x="197" y="415"/>
                    <a:pt x="223" y="556"/>
                    <a:pt x="146" y="658"/>
                  </a:cubicBezTo>
                  <a:cubicBezTo>
                    <a:pt x="134" y="695"/>
                    <a:pt x="129" y="734"/>
                    <a:pt x="109" y="768"/>
                  </a:cubicBezTo>
                  <a:cubicBezTo>
                    <a:pt x="96" y="791"/>
                    <a:pt x="76" y="809"/>
                    <a:pt x="64" y="832"/>
                  </a:cubicBezTo>
                  <a:cubicBezTo>
                    <a:pt x="58" y="844"/>
                    <a:pt x="51" y="857"/>
                    <a:pt x="45" y="869"/>
                  </a:cubicBezTo>
                  <a:cubicBezTo>
                    <a:pt x="37" y="929"/>
                    <a:pt x="14" y="975"/>
                    <a:pt x="0" y="1033"/>
                  </a:cubicBezTo>
                  <a:cubicBezTo>
                    <a:pt x="6" y="1064"/>
                    <a:pt x="4" y="1097"/>
                    <a:pt x="18" y="1125"/>
                  </a:cubicBezTo>
                  <a:cubicBezTo>
                    <a:pt x="33" y="1154"/>
                    <a:pt x="77" y="1158"/>
                    <a:pt x="109" y="1161"/>
                  </a:cubicBezTo>
                  <a:cubicBezTo>
                    <a:pt x="234" y="1173"/>
                    <a:pt x="359" y="1171"/>
                    <a:pt x="484" y="1180"/>
                  </a:cubicBezTo>
                  <a:cubicBezTo>
                    <a:pt x="585" y="1176"/>
                    <a:pt x="702" y="1216"/>
                    <a:pt x="786" y="1161"/>
                  </a:cubicBezTo>
                  <a:cubicBezTo>
                    <a:pt x="802" y="1150"/>
                    <a:pt x="809" y="1129"/>
                    <a:pt x="823" y="1116"/>
                  </a:cubicBezTo>
                  <a:cubicBezTo>
                    <a:pt x="812" y="1095"/>
                    <a:pt x="809" y="1070"/>
                    <a:pt x="795" y="1052"/>
                  </a:cubicBezTo>
                  <a:cubicBezTo>
                    <a:pt x="779" y="1032"/>
                    <a:pt x="740" y="997"/>
                    <a:pt x="740" y="997"/>
                  </a:cubicBezTo>
                  <a:cubicBezTo>
                    <a:pt x="719" y="909"/>
                    <a:pt x="720" y="821"/>
                    <a:pt x="704" y="732"/>
                  </a:cubicBezTo>
                  <a:cubicBezTo>
                    <a:pt x="694" y="677"/>
                    <a:pt x="669" y="619"/>
                    <a:pt x="649" y="567"/>
                  </a:cubicBezTo>
                  <a:cubicBezTo>
                    <a:pt x="646" y="533"/>
                    <a:pt x="647" y="499"/>
                    <a:pt x="640" y="466"/>
                  </a:cubicBezTo>
                  <a:cubicBezTo>
                    <a:pt x="622" y="378"/>
                    <a:pt x="609" y="487"/>
                    <a:pt x="631" y="384"/>
                  </a:cubicBezTo>
                  <a:cubicBezTo>
                    <a:pt x="565" y="320"/>
                    <a:pt x="616" y="222"/>
                    <a:pt x="567" y="146"/>
                  </a:cubicBezTo>
                  <a:cubicBezTo>
                    <a:pt x="564" y="131"/>
                    <a:pt x="566" y="114"/>
                    <a:pt x="557" y="101"/>
                  </a:cubicBezTo>
                  <a:cubicBezTo>
                    <a:pt x="552" y="93"/>
                    <a:pt x="536" y="99"/>
                    <a:pt x="530" y="92"/>
                  </a:cubicBezTo>
                  <a:cubicBezTo>
                    <a:pt x="520" y="79"/>
                    <a:pt x="520" y="60"/>
                    <a:pt x="512" y="46"/>
                  </a:cubicBezTo>
                  <a:cubicBezTo>
                    <a:pt x="503" y="30"/>
                    <a:pt x="455" y="4"/>
                    <a:pt x="448" y="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07400" y="3146040"/>
              <a:ext cx="114840" cy="282600"/>
            </a:xfrm>
            <a:custGeom>
              <a:avLst/>
              <a:gdLst/>
              <a:ahLst/>
              <a:rect l="l" t="t" r="r" b="b"/>
              <a:pathLst>
                <a:path w="229" h="665">
                  <a:moveTo>
                    <a:pt x="65" y="98"/>
                  </a:moveTo>
                  <a:cubicBezTo>
                    <a:pt x="62" y="153"/>
                    <a:pt x="64" y="209"/>
                    <a:pt x="56" y="263"/>
                  </a:cubicBezTo>
                  <a:cubicBezTo>
                    <a:pt x="55" y="272"/>
                    <a:pt x="39" y="272"/>
                    <a:pt x="37" y="281"/>
                  </a:cubicBezTo>
                  <a:cubicBezTo>
                    <a:pt x="29" y="323"/>
                    <a:pt x="33" y="366"/>
                    <a:pt x="28" y="409"/>
                  </a:cubicBezTo>
                  <a:cubicBezTo>
                    <a:pt x="27" y="422"/>
                    <a:pt x="22" y="434"/>
                    <a:pt x="19" y="446"/>
                  </a:cubicBezTo>
                  <a:cubicBezTo>
                    <a:pt x="16" y="476"/>
                    <a:pt x="0" y="572"/>
                    <a:pt x="19" y="610"/>
                  </a:cubicBezTo>
                  <a:cubicBezTo>
                    <a:pt x="35" y="641"/>
                    <a:pt x="101" y="651"/>
                    <a:pt x="129" y="665"/>
                  </a:cubicBezTo>
                  <a:cubicBezTo>
                    <a:pt x="229" y="623"/>
                    <a:pt x="184" y="661"/>
                    <a:pt x="165" y="583"/>
                  </a:cubicBezTo>
                  <a:cubicBezTo>
                    <a:pt x="162" y="516"/>
                    <a:pt x="164" y="449"/>
                    <a:pt x="156" y="382"/>
                  </a:cubicBezTo>
                  <a:cubicBezTo>
                    <a:pt x="155" y="371"/>
                    <a:pt x="142" y="364"/>
                    <a:pt x="138" y="354"/>
                  </a:cubicBezTo>
                  <a:cubicBezTo>
                    <a:pt x="123" y="319"/>
                    <a:pt x="117" y="272"/>
                    <a:pt x="110" y="235"/>
                  </a:cubicBezTo>
                  <a:cubicBezTo>
                    <a:pt x="98" y="172"/>
                    <a:pt x="103" y="111"/>
                    <a:pt x="74" y="52"/>
                  </a:cubicBezTo>
                  <a:cubicBezTo>
                    <a:pt x="71" y="37"/>
                    <a:pt x="76" y="18"/>
                    <a:pt x="65" y="7"/>
                  </a:cubicBezTo>
                  <a:cubicBezTo>
                    <a:pt x="58" y="0"/>
                    <a:pt x="56" y="25"/>
                    <a:pt x="56" y="34"/>
                  </a:cubicBezTo>
                  <a:cubicBezTo>
                    <a:pt x="56" y="56"/>
                    <a:pt x="62" y="77"/>
                    <a:pt x="65" y="9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261760" y="3161880"/>
              <a:ext cx="45360" cy="76680"/>
            </a:xfrm>
            <a:prstGeom prst="line">
              <a:avLst/>
            </a:prstGeom>
            <a:ln w="92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193360" y="3200760"/>
              <a:ext cx="453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324000" y="5157720"/>
            <a:ext cx="38876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). МАЛЕНЬКОЕ ДЕЛО ЛУЧШЕ БОЛЬШОГО БЕЗДЕ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58920" y="4581360"/>
            <a:ext cx="2592360" cy="368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ВЕРЬ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11280" y="3932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иж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835280" y="260280"/>
            <a:ext cx="46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РАЗМЕРНАЯ ДОЛИНА</a:t>
            </a:r>
            <a:endParaRPr b="0" lang="en-US" sz="28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autoRev="1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55" dur="500" autoRev="1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56" dur="500" autoRev="1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500"/>
                            </p:stCondLst>
                            <p:childTnLst>
                              <p:par>
                                <p:cTn id="56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69" dur="50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70" dur="50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372360" y="333360"/>
            <a:ext cx="2452680" cy="1655640"/>
          </a:xfrm>
          <a:custGeom>
            <a:avLst/>
            <a:gdLst/>
            <a:ahLst/>
            <a:rect l="l" t="t" r="r" b="b"/>
            <a:pathLst>
              <a:path w="1545" h="1043">
                <a:moveTo>
                  <a:pt x="273" y="383"/>
                </a:moveTo>
                <a:cubicBezTo>
                  <a:pt x="295" y="389"/>
                  <a:pt x="281" y="504"/>
                  <a:pt x="300" y="519"/>
                </a:cubicBezTo>
                <a:cubicBezTo>
                  <a:pt x="332" y="545"/>
                  <a:pt x="325" y="497"/>
                  <a:pt x="374" y="514"/>
                </a:cubicBezTo>
                <a:cubicBezTo>
                  <a:pt x="398" y="562"/>
                  <a:pt x="458" y="622"/>
                  <a:pt x="458" y="622"/>
                </a:cubicBezTo>
                <a:cubicBezTo>
                  <a:pt x="451" y="668"/>
                  <a:pt x="368" y="673"/>
                  <a:pt x="318" y="681"/>
                </a:cubicBezTo>
                <a:cubicBezTo>
                  <a:pt x="268" y="689"/>
                  <a:pt x="194" y="666"/>
                  <a:pt x="160" y="672"/>
                </a:cubicBezTo>
                <a:cubicBezTo>
                  <a:pt x="127" y="677"/>
                  <a:pt x="138" y="693"/>
                  <a:pt x="114" y="710"/>
                </a:cubicBezTo>
                <a:cubicBezTo>
                  <a:pt x="96" y="735"/>
                  <a:pt x="24" y="756"/>
                  <a:pt x="12" y="777"/>
                </a:cubicBezTo>
                <a:cubicBezTo>
                  <a:pt x="0" y="798"/>
                  <a:pt x="37" y="818"/>
                  <a:pt x="40" y="834"/>
                </a:cubicBezTo>
                <a:cubicBezTo>
                  <a:pt x="95" y="920"/>
                  <a:pt x="21" y="863"/>
                  <a:pt x="31" y="871"/>
                </a:cubicBezTo>
                <a:cubicBezTo>
                  <a:pt x="58" y="894"/>
                  <a:pt x="100" y="882"/>
                  <a:pt x="133" y="890"/>
                </a:cubicBezTo>
                <a:cubicBezTo>
                  <a:pt x="180" y="937"/>
                  <a:pt x="214" y="931"/>
                  <a:pt x="282" y="938"/>
                </a:cubicBezTo>
                <a:cubicBezTo>
                  <a:pt x="319" y="961"/>
                  <a:pt x="355" y="977"/>
                  <a:pt x="393" y="996"/>
                </a:cubicBezTo>
                <a:cubicBezTo>
                  <a:pt x="425" y="1011"/>
                  <a:pt x="487" y="1043"/>
                  <a:pt x="487" y="1043"/>
                </a:cubicBezTo>
                <a:cubicBezTo>
                  <a:pt x="657" y="1037"/>
                  <a:pt x="828" y="1036"/>
                  <a:pt x="997" y="1024"/>
                </a:cubicBezTo>
                <a:cubicBezTo>
                  <a:pt x="1048" y="1021"/>
                  <a:pt x="1103" y="984"/>
                  <a:pt x="1155" y="976"/>
                </a:cubicBezTo>
                <a:cubicBezTo>
                  <a:pt x="1158" y="960"/>
                  <a:pt x="1155" y="943"/>
                  <a:pt x="1164" y="929"/>
                </a:cubicBezTo>
                <a:cubicBezTo>
                  <a:pt x="1170" y="921"/>
                  <a:pt x="1188" y="928"/>
                  <a:pt x="1193" y="919"/>
                </a:cubicBezTo>
                <a:cubicBezTo>
                  <a:pt x="1203" y="899"/>
                  <a:pt x="1196" y="874"/>
                  <a:pt x="1202" y="852"/>
                </a:cubicBezTo>
                <a:cubicBezTo>
                  <a:pt x="1205" y="841"/>
                  <a:pt x="1214" y="833"/>
                  <a:pt x="1220" y="823"/>
                </a:cubicBezTo>
                <a:cubicBezTo>
                  <a:pt x="1206" y="764"/>
                  <a:pt x="1219" y="710"/>
                  <a:pt x="1229" y="651"/>
                </a:cubicBezTo>
                <a:cubicBezTo>
                  <a:pt x="1249" y="528"/>
                  <a:pt x="1242" y="393"/>
                  <a:pt x="1388" y="364"/>
                </a:cubicBezTo>
                <a:cubicBezTo>
                  <a:pt x="1394" y="352"/>
                  <a:pt x="1396" y="336"/>
                  <a:pt x="1406" y="326"/>
                </a:cubicBezTo>
                <a:cubicBezTo>
                  <a:pt x="1419" y="315"/>
                  <a:pt x="1438" y="316"/>
                  <a:pt x="1453" y="307"/>
                </a:cubicBezTo>
                <a:cubicBezTo>
                  <a:pt x="1545" y="247"/>
                  <a:pt x="1390" y="297"/>
                  <a:pt x="1388" y="297"/>
                </a:cubicBezTo>
                <a:cubicBezTo>
                  <a:pt x="1369" y="300"/>
                  <a:pt x="1441" y="267"/>
                  <a:pt x="1423" y="270"/>
                </a:cubicBezTo>
                <a:cubicBezTo>
                  <a:pt x="1348" y="263"/>
                  <a:pt x="1248" y="259"/>
                  <a:pt x="1173" y="251"/>
                </a:cubicBezTo>
                <a:cubicBezTo>
                  <a:pt x="1089" y="164"/>
                  <a:pt x="1002" y="218"/>
                  <a:pt x="942" y="211"/>
                </a:cubicBezTo>
                <a:cubicBezTo>
                  <a:pt x="877" y="204"/>
                  <a:pt x="812" y="205"/>
                  <a:pt x="747" y="202"/>
                </a:cubicBezTo>
                <a:cubicBezTo>
                  <a:pt x="668" y="148"/>
                  <a:pt x="641" y="124"/>
                  <a:pt x="523" y="117"/>
                </a:cubicBezTo>
                <a:cubicBezTo>
                  <a:pt x="498" y="81"/>
                  <a:pt x="514" y="103"/>
                  <a:pt x="477" y="77"/>
                </a:cubicBezTo>
                <a:cubicBezTo>
                  <a:pt x="461" y="24"/>
                  <a:pt x="434" y="30"/>
                  <a:pt x="384" y="20"/>
                </a:cubicBezTo>
                <a:cubicBezTo>
                  <a:pt x="369" y="14"/>
                  <a:pt x="355" y="0"/>
                  <a:pt x="338" y="1"/>
                </a:cubicBezTo>
                <a:cubicBezTo>
                  <a:pt x="273" y="7"/>
                  <a:pt x="287" y="45"/>
                  <a:pt x="254" y="77"/>
                </a:cubicBezTo>
                <a:cubicBezTo>
                  <a:pt x="285" y="156"/>
                  <a:pt x="300" y="195"/>
                  <a:pt x="245" y="269"/>
                </a:cubicBezTo>
                <a:cubicBezTo>
                  <a:pt x="234" y="314"/>
                  <a:pt x="247" y="300"/>
                  <a:pt x="217" y="316"/>
                </a:cubicBezTo>
                <a:lnTo>
                  <a:pt x="273" y="383"/>
                </a:lnTo>
                <a:close/>
              </a:path>
            </a:pathLst>
          </a:custGeom>
          <a:solidFill>
            <a:srgbClr val="ffff99"/>
          </a:solidFill>
          <a:ln cap="rnd" w="349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1393560" cy="2183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4000" y="2421000"/>
            <a:ext cx="2160360" cy="302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1773360"/>
            <a:ext cx="1871640" cy="13683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3789360"/>
            <a:ext cx="503280" cy="14400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6920" y="4365720"/>
            <a:ext cx="0" cy="215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9986000">
            <a:off x="1850760" y="3497400"/>
            <a:ext cx="698400" cy="771480"/>
          </a:xfrm>
          <a:prstGeom prst="parallelogram">
            <a:avLst>
              <a:gd name="adj" fmla="val 5865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4000" y="350028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403280" y="3141360"/>
            <a:ext cx="3673440" cy="3716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627280" y="3141720"/>
            <a:ext cx="2449440" cy="3716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35280" y="6381720"/>
            <a:ext cx="1081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40000" y="595008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55166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59280" y="5229360"/>
            <a:ext cx="64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724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45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4508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51280" y="43657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40360" y="4076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84720" y="3933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56000" y="38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27640" y="3789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720" y="37162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3645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3280" y="357336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258920" y="3212640"/>
            <a:ext cx="3744720" cy="364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71280" y="3141720"/>
            <a:ext cx="2305080" cy="3716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00360" y="342900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1257480" cy="1257480"/>
          </a:xfrm>
          <a:custGeom>
            <a:avLst/>
            <a:gdLst>
              <a:gd name="textAreaLeft" fmla="*/ 426600 w 1257480"/>
              <a:gd name="textAreaRight" fmla="*/ 830880 w 1257480"/>
              <a:gd name="textAreaTop" fmla="*/ 426600 h 1257480"/>
              <a:gd name="textAreaBottom" fmla="*/ 83088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84360" y="2708280"/>
            <a:ext cx="6659640" cy="825480"/>
          </a:xfrm>
          <a:prstGeom prst="rect">
            <a:avLst/>
          </a:prstGeom>
          <a:solidFill>
            <a:srgbClr val="0000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 арене цирка атлет поднимал тяжелые ги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71640" y="3860640"/>
            <a:ext cx="5977080" cy="825480"/>
          </a:xfrm>
          <a:prstGeom prst="rect">
            <a:avLst/>
          </a:prstGeom>
          <a:solidFill>
            <a:srgbClr val="0000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егкая бабочка порхала с цветка                       на цвет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95640" y="5157720"/>
            <a:ext cx="6121440" cy="1191240"/>
          </a:xfrm>
          <a:prstGeom prst="rect">
            <a:avLst/>
          </a:prstGeom>
          <a:solidFill>
            <a:srgbClr val="0000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Прочитайте. Запомните. Запишите. Подчеркните прилагательные  Проверь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124000" y="260280"/>
            <a:ext cx="389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ВЕСОВА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580" dur="50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581" dur="50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11" dur="50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12" dur="50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219640" y="544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верь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87280" y="1341360"/>
            <a:ext cx="45356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. Измените по образ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за из хрусталя –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хрустальная в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м из кирпича –  …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ренье из яблок – …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пор из железа – …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уфли из кожи – …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443640" y="404640"/>
            <a:ext cx="2514600" cy="1611360"/>
            <a:chOff x="6443640" y="404640"/>
            <a:chExt cx="2514600" cy="1611360"/>
          </a:xfrm>
        </p:grpSpPr>
        <p:sp>
          <p:nvSpPr>
            <p:cNvPr id="441" name=""/>
            <p:cNvSpPr/>
            <p:nvPr/>
          </p:nvSpPr>
          <p:spPr>
            <a:xfrm>
              <a:off x="6443640" y="404640"/>
              <a:ext cx="2514600" cy="1611360"/>
            </a:xfrm>
            <a:custGeom>
              <a:avLst/>
              <a:gdLst/>
              <a:ahLst/>
              <a:rect l="l" t="t" r="r" b="b"/>
              <a:pathLst>
                <a:path w="1584" h="1015">
                  <a:moveTo>
                    <a:pt x="28" y="238"/>
                  </a:moveTo>
                  <a:cubicBezTo>
                    <a:pt x="37" y="223"/>
                    <a:pt x="51" y="209"/>
                    <a:pt x="55" y="192"/>
                  </a:cubicBezTo>
                  <a:cubicBezTo>
                    <a:pt x="57" y="183"/>
                    <a:pt x="42" y="173"/>
                    <a:pt x="46" y="165"/>
                  </a:cubicBezTo>
                  <a:cubicBezTo>
                    <a:pt x="54" y="149"/>
                    <a:pt x="126" y="63"/>
                    <a:pt x="146" y="56"/>
                  </a:cubicBezTo>
                  <a:cubicBezTo>
                    <a:pt x="166" y="0"/>
                    <a:pt x="187" y="53"/>
                    <a:pt x="247" y="46"/>
                  </a:cubicBezTo>
                  <a:cubicBezTo>
                    <a:pt x="256" y="43"/>
                    <a:pt x="267" y="42"/>
                    <a:pt x="275" y="37"/>
                  </a:cubicBezTo>
                  <a:cubicBezTo>
                    <a:pt x="282" y="32"/>
                    <a:pt x="284" y="18"/>
                    <a:pt x="293" y="18"/>
                  </a:cubicBezTo>
                  <a:cubicBezTo>
                    <a:pt x="312" y="18"/>
                    <a:pt x="381" y="46"/>
                    <a:pt x="403" y="55"/>
                  </a:cubicBezTo>
                  <a:cubicBezTo>
                    <a:pt x="518" y="45"/>
                    <a:pt x="566" y="38"/>
                    <a:pt x="686" y="46"/>
                  </a:cubicBezTo>
                  <a:cubicBezTo>
                    <a:pt x="722" y="58"/>
                    <a:pt x="758" y="66"/>
                    <a:pt x="796" y="73"/>
                  </a:cubicBezTo>
                  <a:cubicBezTo>
                    <a:pt x="825" y="103"/>
                    <a:pt x="849" y="118"/>
                    <a:pt x="887" y="137"/>
                  </a:cubicBezTo>
                  <a:cubicBezTo>
                    <a:pt x="899" y="173"/>
                    <a:pt x="905" y="189"/>
                    <a:pt x="942" y="201"/>
                  </a:cubicBezTo>
                  <a:cubicBezTo>
                    <a:pt x="976" y="237"/>
                    <a:pt x="968" y="263"/>
                    <a:pt x="1024" y="284"/>
                  </a:cubicBezTo>
                  <a:cubicBezTo>
                    <a:pt x="1033" y="296"/>
                    <a:pt x="1039" y="312"/>
                    <a:pt x="1052" y="320"/>
                  </a:cubicBezTo>
                  <a:cubicBezTo>
                    <a:pt x="1065" y="328"/>
                    <a:pt x="1082" y="326"/>
                    <a:pt x="1097" y="329"/>
                  </a:cubicBezTo>
                  <a:cubicBezTo>
                    <a:pt x="1143" y="339"/>
                    <a:pt x="1188" y="349"/>
                    <a:pt x="1235" y="357"/>
                  </a:cubicBezTo>
                  <a:cubicBezTo>
                    <a:pt x="1274" y="370"/>
                    <a:pt x="1302" y="386"/>
                    <a:pt x="1335" y="412"/>
                  </a:cubicBezTo>
                  <a:cubicBezTo>
                    <a:pt x="1341" y="441"/>
                    <a:pt x="1362" y="518"/>
                    <a:pt x="1381" y="540"/>
                  </a:cubicBezTo>
                  <a:cubicBezTo>
                    <a:pt x="1390" y="550"/>
                    <a:pt x="1406" y="551"/>
                    <a:pt x="1417" y="558"/>
                  </a:cubicBezTo>
                  <a:cubicBezTo>
                    <a:pt x="1451" y="580"/>
                    <a:pt x="1485" y="597"/>
                    <a:pt x="1518" y="622"/>
                  </a:cubicBezTo>
                  <a:cubicBezTo>
                    <a:pt x="1531" y="672"/>
                    <a:pt x="1553" y="716"/>
                    <a:pt x="1582" y="759"/>
                  </a:cubicBezTo>
                  <a:cubicBezTo>
                    <a:pt x="1506" y="796"/>
                    <a:pt x="1584" y="768"/>
                    <a:pt x="1509" y="768"/>
                  </a:cubicBezTo>
                  <a:cubicBezTo>
                    <a:pt x="1482" y="768"/>
                    <a:pt x="1454" y="774"/>
                    <a:pt x="1427" y="777"/>
                  </a:cubicBezTo>
                  <a:cubicBezTo>
                    <a:pt x="1322" y="803"/>
                    <a:pt x="1268" y="753"/>
                    <a:pt x="1189" y="832"/>
                  </a:cubicBezTo>
                  <a:cubicBezTo>
                    <a:pt x="1207" y="905"/>
                    <a:pt x="1157" y="868"/>
                    <a:pt x="1116" y="896"/>
                  </a:cubicBezTo>
                  <a:cubicBezTo>
                    <a:pt x="1096" y="909"/>
                    <a:pt x="1081" y="929"/>
                    <a:pt x="1061" y="942"/>
                  </a:cubicBezTo>
                  <a:cubicBezTo>
                    <a:pt x="1047" y="951"/>
                    <a:pt x="1029" y="952"/>
                    <a:pt x="1015" y="960"/>
                  </a:cubicBezTo>
                  <a:cubicBezTo>
                    <a:pt x="1002" y="967"/>
                    <a:pt x="993" y="981"/>
                    <a:pt x="979" y="988"/>
                  </a:cubicBezTo>
                  <a:cubicBezTo>
                    <a:pt x="940" y="1008"/>
                    <a:pt x="902" y="1009"/>
                    <a:pt x="860" y="1015"/>
                  </a:cubicBezTo>
                  <a:cubicBezTo>
                    <a:pt x="708" y="992"/>
                    <a:pt x="551" y="979"/>
                    <a:pt x="403" y="942"/>
                  </a:cubicBezTo>
                  <a:cubicBezTo>
                    <a:pt x="351" y="909"/>
                    <a:pt x="307" y="886"/>
                    <a:pt x="247" y="869"/>
                  </a:cubicBezTo>
                  <a:cubicBezTo>
                    <a:pt x="207" y="841"/>
                    <a:pt x="198" y="831"/>
                    <a:pt x="147" y="814"/>
                  </a:cubicBezTo>
                  <a:cubicBezTo>
                    <a:pt x="109" y="764"/>
                    <a:pt x="120" y="751"/>
                    <a:pt x="73" y="704"/>
                  </a:cubicBezTo>
                  <a:cubicBezTo>
                    <a:pt x="59" y="649"/>
                    <a:pt x="42" y="607"/>
                    <a:pt x="0" y="567"/>
                  </a:cubicBezTo>
                  <a:cubicBezTo>
                    <a:pt x="6" y="509"/>
                    <a:pt x="14" y="458"/>
                    <a:pt x="28" y="402"/>
                  </a:cubicBezTo>
                  <a:cubicBezTo>
                    <a:pt x="17" y="281"/>
                    <a:pt x="14" y="335"/>
                    <a:pt x="28" y="238"/>
                  </a:cubicBezTo>
                  <a:close/>
                </a:path>
              </a:pathLst>
            </a:custGeom>
            <a:solidFill>
              <a:srgbClr val="00ffff"/>
            </a:solidFill>
            <a:ln cap="rnd" w="3492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32360" y="763560"/>
              <a:ext cx="265320" cy="18252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38" y="23"/>
                  </a:moveTo>
                  <a:cubicBezTo>
                    <a:pt x="89" y="33"/>
                    <a:pt x="125" y="1"/>
                    <a:pt x="167" y="32"/>
                  </a:cubicBezTo>
                  <a:cubicBezTo>
                    <a:pt x="164" y="44"/>
                    <a:pt x="166" y="59"/>
                    <a:pt x="158" y="69"/>
                  </a:cubicBezTo>
                  <a:cubicBezTo>
                    <a:pt x="152" y="77"/>
                    <a:pt x="139" y="74"/>
                    <a:pt x="130" y="78"/>
                  </a:cubicBezTo>
                  <a:cubicBezTo>
                    <a:pt x="92" y="94"/>
                    <a:pt x="100" y="90"/>
                    <a:pt x="75" y="115"/>
                  </a:cubicBezTo>
                  <a:cubicBezTo>
                    <a:pt x="54" y="109"/>
                    <a:pt x="29" y="109"/>
                    <a:pt x="11" y="96"/>
                  </a:cubicBezTo>
                  <a:cubicBezTo>
                    <a:pt x="1" y="89"/>
                    <a:pt x="0" y="72"/>
                    <a:pt x="2" y="60"/>
                  </a:cubicBezTo>
                  <a:cubicBezTo>
                    <a:pt x="8" y="19"/>
                    <a:pt x="27" y="22"/>
                    <a:pt x="57" y="5"/>
                  </a:cubicBezTo>
                  <a:cubicBezTo>
                    <a:pt x="67" y="0"/>
                    <a:pt x="79" y="34"/>
                    <a:pt x="75" y="23"/>
                  </a:cubicBezTo>
                  <a:cubicBezTo>
                    <a:pt x="71" y="11"/>
                    <a:pt x="50" y="26"/>
                    <a:pt x="38" y="23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20000" y="947520"/>
              <a:ext cx="264960" cy="18288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38" y="23"/>
                  </a:moveTo>
                  <a:cubicBezTo>
                    <a:pt x="89" y="33"/>
                    <a:pt x="125" y="1"/>
                    <a:pt x="167" y="32"/>
                  </a:cubicBezTo>
                  <a:cubicBezTo>
                    <a:pt x="164" y="44"/>
                    <a:pt x="166" y="59"/>
                    <a:pt x="158" y="69"/>
                  </a:cubicBezTo>
                  <a:cubicBezTo>
                    <a:pt x="152" y="77"/>
                    <a:pt x="139" y="74"/>
                    <a:pt x="130" y="78"/>
                  </a:cubicBezTo>
                  <a:cubicBezTo>
                    <a:pt x="92" y="94"/>
                    <a:pt x="100" y="90"/>
                    <a:pt x="75" y="115"/>
                  </a:cubicBezTo>
                  <a:cubicBezTo>
                    <a:pt x="54" y="109"/>
                    <a:pt x="29" y="109"/>
                    <a:pt x="11" y="96"/>
                  </a:cubicBezTo>
                  <a:cubicBezTo>
                    <a:pt x="1" y="89"/>
                    <a:pt x="0" y="72"/>
                    <a:pt x="2" y="60"/>
                  </a:cubicBezTo>
                  <a:cubicBezTo>
                    <a:pt x="8" y="19"/>
                    <a:pt x="27" y="22"/>
                    <a:pt x="57" y="5"/>
                  </a:cubicBezTo>
                  <a:cubicBezTo>
                    <a:pt x="67" y="0"/>
                    <a:pt x="79" y="34"/>
                    <a:pt x="75" y="23"/>
                  </a:cubicBezTo>
                  <a:cubicBezTo>
                    <a:pt x="71" y="11"/>
                    <a:pt x="50" y="26"/>
                    <a:pt x="38" y="23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8720" y="836640"/>
              <a:ext cx="265320" cy="18252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38" y="23"/>
                  </a:moveTo>
                  <a:cubicBezTo>
                    <a:pt x="89" y="33"/>
                    <a:pt x="125" y="1"/>
                    <a:pt x="167" y="32"/>
                  </a:cubicBezTo>
                  <a:cubicBezTo>
                    <a:pt x="164" y="44"/>
                    <a:pt x="166" y="59"/>
                    <a:pt x="158" y="69"/>
                  </a:cubicBezTo>
                  <a:cubicBezTo>
                    <a:pt x="152" y="77"/>
                    <a:pt x="139" y="74"/>
                    <a:pt x="130" y="78"/>
                  </a:cubicBezTo>
                  <a:cubicBezTo>
                    <a:pt x="92" y="94"/>
                    <a:pt x="100" y="90"/>
                    <a:pt x="75" y="115"/>
                  </a:cubicBezTo>
                  <a:cubicBezTo>
                    <a:pt x="54" y="109"/>
                    <a:pt x="29" y="109"/>
                    <a:pt x="11" y="96"/>
                  </a:cubicBezTo>
                  <a:cubicBezTo>
                    <a:pt x="1" y="89"/>
                    <a:pt x="0" y="72"/>
                    <a:pt x="2" y="60"/>
                  </a:cubicBezTo>
                  <a:cubicBezTo>
                    <a:pt x="8" y="19"/>
                    <a:pt x="27" y="22"/>
                    <a:pt x="57" y="5"/>
                  </a:cubicBezTo>
                  <a:cubicBezTo>
                    <a:pt x="67" y="0"/>
                    <a:pt x="79" y="34"/>
                    <a:pt x="75" y="23"/>
                  </a:cubicBezTo>
                  <a:cubicBezTo>
                    <a:pt x="71" y="11"/>
                    <a:pt x="50" y="26"/>
                    <a:pt x="38" y="23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24720" y="1555560"/>
              <a:ext cx="264960" cy="18252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38" y="23"/>
                  </a:moveTo>
                  <a:cubicBezTo>
                    <a:pt x="89" y="33"/>
                    <a:pt x="125" y="1"/>
                    <a:pt x="167" y="32"/>
                  </a:cubicBezTo>
                  <a:cubicBezTo>
                    <a:pt x="164" y="44"/>
                    <a:pt x="166" y="59"/>
                    <a:pt x="158" y="69"/>
                  </a:cubicBezTo>
                  <a:cubicBezTo>
                    <a:pt x="152" y="77"/>
                    <a:pt x="139" y="74"/>
                    <a:pt x="130" y="78"/>
                  </a:cubicBezTo>
                  <a:cubicBezTo>
                    <a:pt x="92" y="94"/>
                    <a:pt x="100" y="90"/>
                    <a:pt x="75" y="115"/>
                  </a:cubicBezTo>
                  <a:cubicBezTo>
                    <a:pt x="54" y="109"/>
                    <a:pt x="29" y="109"/>
                    <a:pt x="11" y="96"/>
                  </a:cubicBezTo>
                  <a:cubicBezTo>
                    <a:pt x="1" y="89"/>
                    <a:pt x="0" y="72"/>
                    <a:pt x="2" y="60"/>
                  </a:cubicBezTo>
                  <a:cubicBezTo>
                    <a:pt x="8" y="19"/>
                    <a:pt x="27" y="22"/>
                    <a:pt x="57" y="5"/>
                  </a:cubicBezTo>
                  <a:cubicBezTo>
                    <a:pt x="67" y="0"/>
                    <a:pt x="79" y="34"/>
                    <a:pt x="75" y="23"/>
                  </a:cubicBezTo>
                  <a:cubicBezTo>
                    <a:pt x="71" y="11"/>
                    <a:pt x="50" y="26"/>
                    <a:pt x="38" y="23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27672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ирпичный 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6400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яблочное вар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19640" y="299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железный топ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364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ожаные туф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>
            <a:hlinkClick r:id="rId2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7813800" y="0"/>
            <a:ext cx="1330200" cy="19447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971640" y="189000"/>
            <a:ext cx="626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ЬНЫЕ ИСТОЧНИКИ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79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80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484360" y="260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РЕМЕННОЙ ПЕРЕВ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2133720"/>
            <a:ext cx="525636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СТАВЬТЕ ПРИЛАГАТЕЛЬНЫЕ В ПРЕДЛ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2997360"/>
            <a:ext cx="8353440" cy="160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 РОСА  –   ________  СЛЕЗА:    ЕЮ  ________   Л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МЫВАЕТСЯ,   С ________   НОЧКОЙ   ПРОЩ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745164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4" h="21600">
                <a:moveTo>
                  <a:pt x="28212" y="3837"/>
                </a:moveTo>
                <a:lnTo>
                  <a:pt x="30788" y="6448"/>
                </a:ln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lnTo>
                  <a:pt x="35175" y="10800"/>
                </a:lnTo>
                <a:lnTo>
                  <a:pt x="33521" y="10800"/>
                </a:lnTo>
                <a:lnTo>
                  <a:pt x="33521" y="17989"/>
                </a:lnTo>
                <a:lnTo>
                  <a:pt x="22903" y="17989"/>
                </a:lnTo>
                <a:lnTo>
                  <a:pt x="22903" y="10800"/>
                </a:lnTo>
                <a:lnTo>
                  <a:pt x="21249" y="10800"/>
                </a:lnTo>
                <a:close/>
              </a:path>
              <a:path fill="darkenLess" w="56424" h="21600">
                <a:moveTo>
                  <a:pt x="30788" y="6448"/>
                </a:moveTo>
                <a:lnTo>
                  <a:pt x="30788" y="4707"/>
                </a:lnTo>
                <a:lnTo>
                  <a:pt x="32564" y="4707"/>
                </a:lnTo>
                <a:lnTo>
                  <a:pt x="32564" y="8224"/>
                </a:lnTo>
                <a:close/>
              </a:path>
              <a:path fill="darkenLess" w="56424" h="21600">
                <a:moveTo>
                  <a:pt x="27289" y="14299"/>
                </a:moveTo>
                <a:lnTo>
                  <a:pt x="29135" y="14299"/>
                </a:lnTo>
                <a:lnTo>
                  <a:pt x="29135" y="17989"/>
                </a:lnTo>
                <a:lnTo>
                  <a:pt x="33521" y="17989"/>
                </a:lnTo>
                <a:lnTo>
                  <a:pt x="33521" y="10800"/>
                </a:lnTo>
                <a:lnTo>
                  <a:pt x="22903" y="10800"/>
                </a:lnTo>
                <a:lnTo>
                  <a:pt x="22903" y="17989"/>
                </a:lnTo>
                <a:lnTo>
                  <a:pt x="27289" y="179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рнуться к ка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1125360"/>
            <a:ext cx="576360" cy="28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9635600">
            <a:off x="2339640" y="549000"/>
            <a:ext cx="231840" cy="30312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9635600">
            <a:off x="1474560" y="907560"/>
            <a:ext cx="231480" cy="3034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9635600">
            <a:off x="4571640" y="1125000"/>
            <a:ext cx="231840" cy="30348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9177200">
            <a:off x="7380360" y="764640"/>
            <a:ext cx="576360" cy="28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191600">
            <a:off x="6948000" y="1773360"/>
            <a:ext cx="576360" cy="287280"/>
          </a:xfrm>
          <a:custGeom>
            <a:avLst/>
            <a:gdLst>
              <a:gd name="textAreaLeft" fmla="*/ 237600 w 576360"/>
              <a:gd name="textAreaRight" fmla="*/ 338760 w 57636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797400">
            <a:off x="3203280" y="1413000"/>
            <a:ext cx="576360" cy="287280"/>
          </a:xfrm>
          <a:custGeom>
            <a:avLst/>
            <a:gdLst>
              <a:gd name="textAreaLeft" fmla="*/ 237600 w 576360"/>
              <a:gd name="textAreaRight" fmla="*/ 338760 w 57636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6320" y="5564160"/>
            <a:ext cx="15674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ТРЕН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00520" y="5570640"/>
            <a:ext cx="12690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Н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8120" y="5570640"/>
            <a:ext cx="15296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ЛОД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58800" y="5589720"/>
            <a:ext cx="11026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тём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9640" y="2997360"/>
            <a:ext cx="8353440" cy="185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У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ТРЕННЯ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РОСА  –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ННЯ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СЛЕЗА:  ЕЮ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ЛОД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Л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МЫВАЕТСЯ,  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ёмно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ЧКОЙ  ПРОЩ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3640" y="5084640"/>
            <a:ext cx="31687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ЛОВА ДЛЯ СПРАВ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56000" y="6237360"/>
            <a:ext cx="316836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ВЕРЬ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90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91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500" autoRev="1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94" dur="500" autoRev="1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95" dur="500" autoRev="1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50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698" dur="50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699" dur="50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autoRev="1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02" dur="500" autoRev="1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03" dur="500" autoRev="1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500" autoRev="1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06" dur="500" autoRev="1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07" dur="500" autoRev="1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10" dur="50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11" dur="50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500" autoRev="1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14" dur="500" autoRev="1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15" dur="500" autoRev="1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12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2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5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500" autoRev="1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62" dur="500" autoRev="1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763" dur="500" autoRev="1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2:07:15Z</dcterms:created>
  <dc:creator>Марина</dc:creator>
  <dc:description/>
  <dc:language>en-US</dc:language>
  <cp:lastModifiedBy>Марина</cp:lastModifiedBy>
  <dcterms:modified xsi:type="dcterms:W3CDTF">2009-04-13T13:53:31Z</dcterms:modified>
  <cp:revision>6</cp:revision>
  <dc:subject/>
  <dc:title>Слайд 1</dc:title>
</cp:coreProperties>
</file>