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FE30-7CEB-4648-AF07-E8E6545D8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A79-9991-48BB-8F00-416B3B1148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324-C157-48A4-890B-7E352C43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6C3-F430-4349-BCF6-E56925F7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784-C1BE-4F0A-AD82-E3BDEB09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55A-4573-4E6B-B920-BBC49BA1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8A7-1E47-456A-B1E0-0D9D52F2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CD6-5EB3-4D84-AC16-E24D7E55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5CD-09B9-4D2B-ABD4-1EF7715C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D92-28D0-4635-813F-3EE2BC93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CF7-E088-4F5E-BC1F-024A6975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B3D-1D9C-4034-884B-D63D0A96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F00-F86D-4F3F-BFB3-4B0E656B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DF7-F83E-48A5-91E4-4B39AE96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7E4E-A823-4124-9548-77A67D569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:\Users\111\Desktop\картинки\misli_html_m658e97f.gif"/>
          <p:cNvPicPr/>
          <p:nvPr/>
        </p:nvPicPr>
        <p:blipFill>
          <a:blip r:embed="rId2"/>
          <a:stretch/>
        </p:blipFill>
        <p:spPr>
          <a:xfrm>
            <a:off x="0" y="981000"/>
            <a:ext cx="2314440" cy="23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" name="Text Box 6"/>
          <p:cNvSpPr/>
          <p:nvPr/>
        </p:nvSpPr>
        <p:spPr>
          <a:xfrm>
            <a:off x="1692360" y="981000"/>
            <a:ext cx="745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шем сочинение-расс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тему «Лекс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85128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50920" y="5084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Бирюченской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дина И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2449440" cy="240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2627280" y="396720"/>
            <a:ext cx="2060640" cy="938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427640" y="76500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начимая единица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5" descr=""/>
          <p:cNvPicPr/>
          <p:nvPr/>
        </p:nvPicPr>
        <p:blipFill>
          <a:blip r:embed="rId3"/>
          <a:stretch/>
        </p:blipFill>
        <p:spPr>
          <a:xfrm>
            <a:off x="2170080" y="1262160"/>
            <a:ext cx="2889360" cy="865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4643280" y="162864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всех слов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хема 7" descr=""/>
          <p:cNvPicPr/>
          <p:nvPr/>
        </p:nvPicPr>
        <p:blipFill>
          <a:blip r:embed="rId4"/>
          <a:stretch/>
        </p:blipFill>
        <p:spPr>
          <a:xfrm>
            <a:off x="450720" y="2992320"/>
            <a:ext cx="8169480" cy="3176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Рисунок1123"/>
          <p:cNvPicPr/>
          <p:nvPr/>
        </p:nvPicPr>
        <p:blipFill>
          <a:blip r:embed="rId1"/>
          <a:stretch/>
        </p:blipFill>
        <p:spPr>
          <a:xfrm>
            <a:off x="469800" y="189000"/>
            <a:ext cx="2962440" cy="3260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492360" y="476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ногознач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419640" y="1197000"/>
            <a:ext cx="5256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а, способные иметь несколько зна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ждом конкретном контексте актуализируется какое-нибудь одно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84360" y="3789360"/>
            <a:ext cx="7848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нство слов в русском язык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ногознач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.е. они способны иметь несколько значений. У многозначного слова есть основное значение, и производные от него значения. Основное значение всегда дается в толковом словаре на первом месте, за ним – производ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Рисунок мальчик"/>
          <p:cNvPicPr/>
          <p:nvPr/>
        </p:nvPicPr>
        <p:blipFill>
          <a:blip r:embed="rId1"/>
          <a:stretch/>
        </p:blipFill>
        <p:spPr>
          <a:xfrm>
            <a:off x="6443640" y="4292640"/>
            <a:ext cx="2448000" cy="2303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692360" y="404640"/>
            <a:ext cx="57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инонимы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26920" y="1484280"/>
            <a:ext cx="74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уются для того, чтобы сделать речь более разнообразной и избежать повторов, а также чтобы дать более точную характеристику того, о чем говор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000" y="188640"/>
            <a:ext cx="23749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111\Desktop\Рисунок17.gif"/>
          <p:cNvPicPr/>
          <p:nvPr/>
        </p:nvPicPr>
        <p:blipFill>
          <a:blip r:embed="rId1"/>
          <a:stretch/>
        </p:blipFill>
        <p:spPr>
          <a:xfrm>
            <a:off x="468360" y="260280"/>
            <a:ext cx="208764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Text Box 7"/>
          <p:cNvSpPr/>
          <p:nvPr/>
        </p:nvSpPr>
        <p:spPr>
          <a:xfrm>
            <a:off x="2556000" y="404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иалектн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843280" y="126828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употребляемые только жителями той или иной мест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84360" y="2637000"/>
            <a:ext cx="7775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в художественных произведениях для передачи особенностей речи жителей определенной мест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ессиональные и устаревши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111\Desktop\Рисунок17.gif"/>
          <p:cNvPicPr/>
          <p:nvPr/>
        </p:nvPicPr>
        <p:blipFill>
          <a:blip r:embed="rId1"/>
          <a:stretch/>
        </p:blipFill>
        <p:spPr>
          <a:xfrm>
            <a:off x="468360" y="260280"/>
            <a:ext cx="208764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Box 4"/>
          <p:cNvSpPr/>
          <p:nvPr/>
        </p:nvSpPr>
        <p:spPr>
          <a:xfrm>
            <a:off x="611280" y="2349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ессиональны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лова, употребляемые в речи людей, объединенных какой-либо профессией, специа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ревш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лова, вышедшие из активного, повседневного употре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684360" y="458136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ются в художественных произведениях для более точного описания людей, их за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ются чаще всего для более точного рассказа о жизни людей в прош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2449440" cy="240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Text Box 5"/>
          <p:cNvSpPr/>
          <p:nvPr/>
        </p:nvSpPr>
        <p:spPr>
          <a:xfrm>
            <a:off x="1547640" y="333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разеологиз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39640" y="16286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фразеологизмов придает речи красочность, живость, выразитель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3348000" y="5157720"/>
            <a:ext cx="26640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убить с плеч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5508720" y="3860640"/>
            <a:ext cx="24480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ить баклуш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нна</dc:creator>
  <dc:description/>
  <dc:language>en-US</dc:language>
  <cp:lastModifiedBy>Бирюченская СОШ</cp:lastModifiedBy>
  <dcterms:modified xsi:type="dcterms:W3CDTF">2013-03-12T09:03:56Z</dcterms:modified>
  <cp:revision>143</cp:revision>
  <dc:subject/>
  <dc:title>Слайд 1</dc:title>
</cp:coreProperties>
</file>