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5.png" ContentType="image/png"/>
  <Override PartName="/ppt/media/image5.jpeg" ContentType="image/jpeg"/>
  <Override PartName="/ppt/media/image31.png" ContentType="image/png"/>
  <Override PartName="/ppt/media/image29.png" ContentType="image/png"/>
  <Override PartName="/ppt/media/image43.png" ContentType="image/png"/>
  <Override PartName="/ppt/media/image4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0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965D-9664-4E33-ADB9-F0B9952803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B80C-C8E7-491A-A045-220FF60EA2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51DC-CA66-4953-A21A-F0C79C4F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7880-1568-4E89-890E-396E5356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B796-2F2D-4FE0-A516-A02B4312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06D6-69D6-428C-9162-11DBD78BD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2CB4-81EC-447C-B4FD-C79AFD1D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1B45-78D1-455D-A059-9D36F9EE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6236-7EF3-463F-BD99-701A7F20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BD8D-68E0-4BD6-955E-E0D6AA1A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72B3-E3F6-4736-96BE-F5A9693F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DB09-2C4A-44F6-B7FF-E011E2D1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0D44-72BA-426C-A875-09BA0977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10BA-8569-4BBB-B504-E467131F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AADF-38CE-41D8-8945-0C337C9892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seznaika.do.am/znaika.jpg" TargetMode="External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7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1285560"/>
            <a:ext cx="77724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3300"/>
                </a:solidFill>
                <a:latin typeface="Comic Sans MS"/>
              </a:rPr>
              <a:t>Урок</a:t>
            </a:r>
            <a:br>
              <a:rPr sz="6000"/>
            </a:br>
            <a:r>
              <a:rPr b="1" lang="ru-RU" sz="6000" spc="-1" strike="noStrike">
                <a:solidFill>
                  <a:srgbClr val="663300"/>
                </a:solidFill>
                <a:latin typeface="Comic Sans MS"/>
              </a:rPr>
              <a:t> русского языка в </a:t>
            </a:r>
            <a:br>
              <a:rPr sz="6000"/>
            </a:br>
            <a:r>
              <a:rPr b="1" lang="ru-RU" sz="6000" spc="-1" strike="noStrike">
                <a:solidFill>
                  <a:srgbClr val="663300"/>
                </a:solidFill>
                <a:latin typeface="Comic Sans MS"/>
              </a:rPr>
              <a:t>3 классе.</a:t>
            </a:r>
            <a:r>
              <a:rPr b="1" lang="ru-RU" sz="6000" spc="-1" strike="noStrike">
                <a:solidFill>
                  <a:srgbClr val="0099ff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Прямоугольник 2" descr=""/>
          <p:cNvPicPr/>
          <p:nvPr/>
        </p:nvPicPr>
        <p:blipFill>
          <a:blip r:embed="rId1"/>
          <a:stretch/>
        </p:blipFill>
        <p:spPr>
          <a:xfrm>
            <a:off x="1206360" y="4443480"/>
            <a:ext cx="671832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Calibri"/>
              </a:rPr>
              <a:t>ЛИСТ</a:t>
            </a:r>
            <a:r>
              <a:rPr b="1" lang="ru-RU" sz="4800" spc="-1" strike="noStrike">
                <a:solidFill>
                  <a:srgbClr val="993300"/>
                </a:solidFill>
                <a:latin typeface="Calibri"/>
              </a:rPr>
              <a:t>О</a:t>
            </a:r>
            <a:r>
              <a:rPr b="1" lang="ru-RU" sz="4800" spc="-1" strike="noStrike">
                <a:solidFill>
                  <a:srgbClr val="663300"/>
                </a:solidFill>
                <a:latin typeface="Calibri"/>
              </a:rPr>
              <a:t>ПА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ая соединительная линия 8"/>
          <p:cNvSpPr/>
          <p:nvPr/>
        </p:nvSpPr>
        <p:spPr>
          <a:xfrm flipH="1">
            <a:off x="2339640" y="1285920"/>
            <a:ext cx="1160280" cy="1206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10"/>
          <p:cNvSpPr/>
          <p:nvPr/>
        </p:nvSpPr>
        <p:spPr>
          <a:xfrm>
            <a:off x="5003640" y="1268280"/>
            <a:ext cx="792360" cy="1152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11" descr=""/>
          <p:cNvPicPr/>
          <p:nvPr/>
        </p:nvPicPr>
        <p:blipFill>
          <a:blip r:embed="rId1"/>
          <a:stretch/>
        </p:blipFill>
        <p:spPr>
          <a:xfrm>
            <a:off x="549360" y="2511360"/>
            <a:ext cx="3193920" cy="115272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12" descr=""/>
          <p:cNvPicPr/>
          <p:nvPr/>
        </p:nvPicPr>
        <p:blipFill>
          <a:blip r:embed="rId2"/>
          <a:stretch/>
        </p:blipFill>
        <p:spPr>
          <a:xfrm>
            <a:off x="4456080" y="2438280"/>
            <a:ext cx="3511440" cy="1152720"/>
          </a:xfrm>
          <a:prstGeom prst="rect">
            <a:avLst/>
          </a:prstGeom>
          <a:ln w="0">
            <a:noFill/>
          </a:ln>
        </p:spPr>
      </p:pic>
      <p:sp>
        <p:nvSpPr>
          <p:cNvPr id="89" name="Arc 10"/>
          <p:cNvSpPr/>
          <p:nvPr/>
        </p:nvSpPr>
        <p:spPr>
          <a:xfrm>
            <a:off x="1143000" y="2708280"/>
            <a:ext cx="1500120" cy="647640"/>
          </a:xfrm>
          <a:custGeom>
            <a:avLst/>
            <a:gdLst>
              <a:gd name="textAreaLeft" fmla="*/ 0 w 1500120"/>
              <a:gd name="textAreaRight" fmla="*/ 1500480 w 15001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fill="none" w="27323" h="21600">
                <a:moveTo>
                  <a:pt x="-1" y="4608"/>
                </a:moveTo>
                <a:cubicBezTo>
                  <a:pt x="3803" y="1622"/>
                  <a:pt x="8500" y="-1"/>
                  <a:pt x="13336" y="0"/>
                </a:cubicBezTo>
                <a:cubicBezTo>
                  <a:pt x="18460" y="0"/>
                  <a:pt x="23417" y="1821"/>
                  <a:pt x="27322" y="5140"/>
                </a:cubicBezTo>
              </a:path>
              <a:path stroke="0" w="27323" h="21600">
                <a:moveTo>
                  <a:pt x="-1" y="4608"/>
                </a:moveTo>
                <a:cubicBezTo>
                  <a:pt x="3803" y="1622"/>
                  <a:pt x="8500" y="-1"/>
                  <a:pt x="13336" y="0"/>
                </a:cubicBezTo>
                <a:cubicBezTo>
                  <a:pt x="18460" y="0"/>
                  <a:pt x="23417" y="1821"/>
                  <a:pt x="27322" y="5140"/>
                </a:cubicBezTo>
                <a:lnTo>
                  <a:pt x="13336" y="21600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rc 10"/>
          <p:cNvSpPr/>
          <p:nvPr/>
        </p:nvSpPr>
        <p:spPr>
          <a:xfrm>
            <a:off x="4929120" y="2708280"/>
            <a:ext cx="1285920" cy="647640"/>
          </a:xfrm>
          <a:custGeom>
            <a:avLst/>
            <a:gdLst>
              <a:gd name="textAreaLeft" fmla="*/ 0 w 1285920"/>
              <a:gd name="textAreaRight" fmla="*/ 1286280 w 12859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fill="none" w="27323" h="21600">
                <a:moveTo>
                  <a:pt x="-1" y="4608"/>
                </a:moveTo>
                <a:cubicBezTo>
                  <a:pt x="3803" y="1622"/>
                  <a:pt x="8500" y="-1"/>
                  <a:pt x="13336" y="0"/>
                </a:cubicBezTo>
                <a:cubicBezTo>
                  <a:pt x="18460" y="0"/>
                  <a:pt x="23417" y="1821"/>
                  <a:pt x="27322" y="5140"/>
                </a:cubicBezTo>
              </a:path>
              <a:path stroke="0" w="27323" h="21600">
                <a:moveTo>
                  <a:pt x="-1" y="4608"/>
                </a:moveTo>
                <a:cubicBezTo>
                  <a:pt x="3803" y="1622"/>
                  <a:pt x="8500" y="-1"/>
                  <a:pt x="13336" y="0"/>
                </a:cubicBezTo>
                <a:cubicBezTo>
                  <a:pt x="18460" y="0"/>
                  <a:pt x="23417" y="1821"/>
                  <a:pt x="27322" y="5140"/>
                </a:cubicBezTo>
                <a:lnTo>
                  <a:pt x="13336" y="21600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6"/>
          <p:cNvSpPr/>
          <p:nvPr/>
        </p:nvSpPr>
        <p:spPr>
          <a:xfrm>
            <a:off x="2151000" y="3632040"/>
            <a:ext cx="644760" cy="101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8"/>
          <p:cNvSpPr/>
          <p:nvPr/>
        </p:nvSpPr>
        <p:spPr>
          <a:xfrm flipH="1">
            <a:off x="5435280" y="3573360"/>
            <a:ext cx="431640" cy="122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19" descr=""/>
          <p:cNvPicPr/>
          <p:nvPr/>
        </p:nvPicPr>
        <p:blipFill>
          <a:blip r:embed="rId3"/>
          <a:stretch/>
        </p:blipFill>
        <p:spPr>
          <a:xfrm>
            <a:off x="1536840" y="4443480"/>
            <a:ext cx="2504880" cy="115236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20" descr=""/>
          <p:cNvPicPr/>
          <p:nvPr/>
        </p:nvPicPr>
        <p:blipFill>
          <a:blip r:embed="rId4"/>
          <a:stretch/>
        </p:blipFill>
        <p:spPr>
          <a:xfrm>
            <a:off x="4419720" y="4449600"/>
            <a:ext cx="2182680" cy="115272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21" descr=""/>
          <p:cNvPicPr/>
          <p:nvPr/>
        </p:nvPicPr>
        <p:blipFill>
          <a:blip r:embed="rId5"/>
          <a:stretch/>
        </p:blipFill>
        <p:spPr>
          <a:xfrm>
            <a:off x="3475080" y="4595760"/>
            <a:ext cx="1493640" cy="11527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5"/>
          <p:cNvGrpSpPr/>
          <p:nvPr/>
        </p:nvGrpSpPr>
        <p:grpSpPr>
          <a:xfrm>
            <a:off x="1835280" y="5229360"/>
            <a:ext cx="1799640" cy="359640"/>
            <a:chOff x="1835280" y="5229360"/>
            <a:chExt cx="1799640" cy="359640"/>
          </a:xfrm>
        </p:grpSpPr>
        <p:sp>
          <p:nvSpPr>
            <p:cNvPr id="97" name="Line 6"/>
            <p:cNvSpPr/>
            <p:nvPr/>
          </p:nvSpPr>
          <p:spPr>
            <a:xfrm>
              <a:off x="1835280" y="5547600"/>
              <a:ext cx="179964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7"/>
            <p:cNvSpPr/>
            <p:nvPr/>
          </p:nvSpPr>
          <p:spPr>
            <a:xfrm>
              <a:off x="1835280" y="5229360"/>
              <a:ext cx="0" cy="3596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8"/>
            <p:cNvSpPr/>
            <p:nvPr/>
          </p:nvSpPr>
          <p:spPr>
            <a:xfrm>
              <a:off x="3634920" y="5229360"/>
              <a:ext cx="0" cy="3596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9"/>
          <p:cNvGrpSpPr/>
          <p:nvPr/>
        </p:nvGrpSpPr>
        <p:grpSpPr>
          <a:xfrm>
            <a:off x="4859280" y="5373720"/>
            <a:ext cx="1368000" cy="215640"/>
            <a:chOff x="4859280" y="5373720"/>
            <a:chExt cx="1368000" cy="215640"/>
          </a:xfrm>
        </p:grpSpPr>
        <p:sp>
          <p:nvSpPr>
            <p:cNvPr id="101" name="Line 10"/>
            <p:cNvSpPr/>
            <p:nvPr/>
          </p:nvSpPr>
          <p:spPr>
            <a:xfrm>
              <a:off x="4859280" y="5564520"/>
              <a:ext cx="136800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>
              <a:off x="4859280" y="5373720"/>
              <a:ext cx="0" cy="2156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>
              <a:off x="6227280" y="5373720"/>
              <a:ext cx="0" cy="2156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Rectangle 15"/>
          <p:cNvSpPr/>
          <p:nvPr/>
        </p:nvSpPr>
        <p:spPr>
          <a:xfrm>
            <a:off x="6372360" y="4941720"/>
            <a:ext cx="647640" cy="574920"/>
          </a:xfrm>
          <a:prstGeom prst="rect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rc 10"/>
          <p:cNvSpPr/>
          <p:nvPr/>
        </p:nvSpPr>
        <p:spPr>
          <a:xfrm>
            <a:off x="1908000" y="4437000"/>
            <a:ext cx="1584360" cy="201636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016360"/>
              <a:gd name="textAreaBottom" fmla="*/ 2016720 h 2016360"/>
            </a:gdLst>
            <a:ahLst/>
            <a:rect l="textAreaLeft" t="textAreaTop" r="textAreaRight" b="textAreaBottom"/>
            <a:pathLst>
              <a:path fill="none" w="27323" h="21600">
                <a:moveTo>
                  <a:pt x="-1" y="4608"/>
                </a:moveTo>
                <a:cubicBezTo>
                  <a:pt x="3803" y="1622"/>
                  <a:pt x="8500" y="-1"/>
                  <a:pt x="13336" y="0"/>
                </a:cubicBezTo>
                <a:cubicBezTo>
                  <a:pt x="18460" y="0"/>
                  <a:pt x="23417" y="1821"/>
                  <a:pt x="27322" y="5140"/>
                </a:cubicBezTo>
              </a:path>
              <a:path stroke="0" w="27323" h="21600">
                <a:moveTo>
                  <a:pt x="-1" y="4608"/>
                </a:moveTo>
                <a:cubicBezTo>
                  <a:pt x="3803" y="1622"/>
                  <a:pt x="8500" y="-1"/>
                  <a:pt x="13336" y="0"/>
                </a:cubicBezTo>
                <a:cubicBezTo>
                  <a:pt x="18460" y="0"/>
                  <a:pt x="23417" y="1821"/>
                  <a:pt x="27322" y="5140"/>
                </a:cubicBezTo>
                <a:lnTo>
                  <a:pt x="13336" y="21600"/>
                </a:lnTo>
                <a:close/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rc 10"/>
          <p:cNvSpPr/>
          <p:nvPr/>
        </p:nvSpPr>
        <p:spPr>
          <a:xfrm>
            <a:off x="4788000" y="4437000"/>
            <a:ext cx="1368360" cy="216072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2160720"/>
              <a:gd name="textAreaBottom" fmla="*/ 2160720 h 2160720"/>
            </a:gdLst>
            <a:ahLst/>
            <a:rect l="textAreaLeft" t="textAreaTop" r="textAreaRight" b="textAreaBottom"/>
            <a:pathLst>
              <a:path fill="none" w="27323" h="21600">
                <a:moveTo>
                  <a:pt x="-1" y="4608"/>
                </a:moveTo>
                <a:cubicBezTo>
                  <a:pt x="3803" y="1622"/>
                  <a:pt x="8500" y="-1"/>
                  <a:pt x="13336" y="0"/>
                </a:cubicBezTo>
                <a:cubicBezTo>
                  <a:pt x="18460" y="0"/>
                  <a:pt x="23417" y="1821"/>
                  <a:pt x="27322" y="5140"/>
                </a:cubicBezTo>
              </a:path>
              <a:path stroke="0" w="27323" h="21600">
                <a:moveTo>
                  <a:pt x="-1" y="4608"/>
                </a:moveTo>
                <a:cubicBezTo>
                  <a:pt x="3803" y="1622"/>
                  <a:pt x="8500" y="-1"/>
                  <a:pt x="13336" y="0"/>
                </a:cubicBezTo>
                <a:cubicBezTo>
                  <a:pt x="18460" y="0"/>
                  <a:pt x="23417" y="1821"/>
                  <a:pt x="27322" y="5140"/>
                </a:cubicBezTo>
                <a:lnTo>
                  <a:pt x="13336" y="21600"/>
                </a:lnTo>
                <a:close/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663300"/>
                </a:solidFill>
                <a:latin typeface="Comic Sans MS"/>
              </a:rPr>
              <a:t>Сложн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7" descr="Картинка 14 из 21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357120"/>
            <a:ext cx="2047680" cy="311472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8" descr=""/>
          <p:cNvPicPr/>
          <p:nvPr/>
        </p:nvPicPr>
        <p:blipFill>
          <a:blip r:embed="rId3"/>
          <a:stretch/>
        </p:blipFill>
        <p:spPr>
          <a:xfrm>
            <a:off x="1700280" y="1871640"/>
            <a:ext cx="2311200" cy="11527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9"/>
          <p:cNvSpPr/>
          <p:nvPr/>
        </p:nvSpPr>
        <p:spPr>
          <a:xfrm>
            <a:off x="4415400" y="2071800"/>
            <a:ext cx="23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6600"/>
                </a:solidFill>
                <a:latin typeface="Comic Sans MS"/>
              </a:rPr>
              <a:t>СТЕП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Прямоугольник 10" descr=""/>
          <p:cNvPicPr/>
          <p:nvPr/>
        </p:nvPicPr>
        <p:blipFill>
          <a:blip r:embed="rId4"/>
          <a:stretch/>
        </p:blipFill>
        <p:spPr>
          <a:xfrm>
            <a:off x="3260880" y="1871640"/>
            <a:ext cx="1493640" cy="115272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11" descr=""/>
          <p:cNvPicPr/>
          <p:nvPr/>
        </p:nvPicPr>
        <p:blipFill>
          <a:blip r:embed="rId5"/>
          <a:stretch/>
        </p:blipFill>
        <p:spPr>
          <a:xfrm>
            <a:off x="1700280" y="2766960"/>
            <a:ext cx="2311200" cy="115272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12" descr=""/>
          <p:cNvPicPr/>
          <p:nvPr/>
        </p:nvPicPr>
        <p:blipFill>
          <a:blip r:embed="rId6"/>
          <a:stretch/>
        </p:blipFill>
        <p:spPr>
          <a:xfrm>
            <a:off x="3986280" y="2766960"/>
            <a:ext cx="2884320" cy="115272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13" descr=""/>
          <p:cNvPicPr/>
          <p:nvPr/>
        </p:nvPicPr>
        <p:blipFill>
          <a:blip r:embed="rId7"/>
          <a:stretch/>
        </p:blipFill>
        <p:spPr>
          <a:xfrm>
            <a:off x="3260880" y="2730600"/>
            <a:ext cx="1493640" cy="115236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16" descr=""/>
          <p:cNvPicPr/>
          <p:nvPr/>
        </p:nvPicPr>
        <p:blipFill>
          <a:blip r:embed="rId8"/>
          <a:stretch/>
        </p:blipFill>
        <p:spPr>
          <a:xfrm>
            <a:off x="-109440" y="3876840"/>
            <a:ext cx="6046560" cy="115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9"/>
          <a:stretch/>
        </p:blipFill>
        <p:spPr>
          <a:xfrm>
            <a:off x="6300720" y="4076640"/>
            <a:ext cx="2448000" cy="1986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10"/>
          <a:stretch/>
        </p:blipFill>
        <p:spPr>
          <a:xfrm>
            <a:off x="4500720" y="4941720"/>
            <a:ext cx="20872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Скругленный прямоугольник 1"/>
          <p:cNvSpPr/>
          <p:nvPr/>
        </p:nvSpPr>
        <p:spPr>
          <a:xfrm>
            <a:off x="395280" y="333360"/>
            <a:ext cx="8358120" cy="62150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Comic Sans MS"/>
              </a:rPr>
              <a:t>СЛОЖН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WordArt 22"/>
          <p:cNvSpPr txBox="1"/>
          <p:nvPr/>
        </p:nvSpPr>
        <p:spPr>
          <a:xfrm>
            <a:off x="3714840" y="2428920"/>
            <a:ext cx="642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о</a:t>
            </a:r>
            <a:endParaRPr b="1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121" name="WordArt 23"/>
          <p:cNvSpPr txBox="1"/>
          <p:nvPr/>
        </p:nvSpPr>
        <p:spPr>
          <a:xfrm>
            <a:off x="3786120" y="4392720"/>
            <a:ext cx="50004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е</a:t>
            </a:r>
            <a:endParaRPr b="1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122" name="Прямоугольник 25" descr=""/>
          <p:cNvPicPr/>
          <p:nvPr/>
        </p:nvPicPr>
        <p:blipFill>
          <a:blip r:embed="rId1"/>
          <a:stretch/>
        </p:blipFill>
        <p:spPr>
          <a:xfrm>
            <a:off x="633240" y="1584360"/>
            <a:ext cx="3000600" cy="528624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26" descr=""/>
          <p:cNvPicPr/>
          <p:nvPr/>
        </p:nvPicPr>
        <p:blipFill>
          <a:blip r:embed="rId2"/>
          <a:stretch/>
        </p:blipFill>
        <p:spPr>
          <a:xfrm>
            <a:off x="4157640" y="1884240"/>
            <a:ext cx="453564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>
                  <a:alpha val="80000"/>
                </a:srgbClr>
              </a:gs>
              <a:gs pos="100000">
                <a:srgbClr val="ffff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26"/>
          <p:cNvSpPr/>
          <p:nvPr/>
        </p:nvSpPr>
        <p:spPr>
          <a:xfrm>
            <a:off x="1403280" y="6524640"/>
            <a:ext cx="5616720" cy="647640"/>
          </a:xfrm>
          <a:custGeom>
            <a:avLst/>
            <a:gdLst>
              <a:gd name="textAreaLeft" fmla="*/ 0 w 5616720"/>
              <a:gd name="textAreaRight" fmla="*/ 5617080 w 5616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5050" h="567">
                <a:moveTo>
                  <a:pt x="86" y="329"/>
                </a:moveTo>
                <a:cubicBezTo>
                  <a:pt x="110" y="306"/>
                  <a:pt x="127" y="275"/>
                  <a:pt x="152" y="255"/>
                </a:cubicBezTo>
                <a:cubicBezTo>
                  <a:pt x="167" y="243"/>
                  <a:pt x="186" y="234"/>
                  <a:pt x="201" y="222"/>
                </a:cubicBezTo>
                <a:cubicBezTo>
                  <a:pt x="234" y="195"/>
                  <a:pt x="248" y="176"/>
                  <a:pt x="292" y="165"/>
                </a:cubicBezTo>
                <a:cubicBezTo>
                  <a:pt x="300" y="159"/>
                  <a:pt x="308" y="153"/>
                  <a:pt x="317" y="148"/>
                </a:cubicBezTo>
                <a:cubicBezTo>
                  <a:pt x="325" y="144"/>
                  <a:pt x="334" y="144"/>
                  <a:pt x="341" y="140"/>
                </a:cubicBezTo>
                <a:cubicBezTo>
                  <a:pt x="429" y="88"/>
                  <a:pt x="287" y="160"/>
                  <a:pt x="374" y="107"/>
                </a:cubicBezTo>
                <a:cubicBezTo>
                  <a:pt x="415" y="82"/>
                  <a:pt x="474" y="86"/>
                  <a:pt x="522" y="74"/>
                </a:cubicBezTo>
                <a:cubicBezTo>
                  <a:pt x="547" y="58"/>
                  <a:pt x="569" y="51"/>
                  <a:pt x="596" y="41"/>
                </a:cubicBezTo>
                <a:cubicBezTo>
                  <a:pt x="848" y="49"/>
                  <a:pt x="906" y="58"/>
                  <a:pt x="1156" y="50"/>
                </a:cubicBezTo>
                <a:cubicBezTo>
                  <a:pt x="1233" y="33"/>
                  <a:pt x="1307" y="24"/>
                  <a:pt x="1386" y="17"/>
                </a:cubicBezTo>
                <a:cubicBezTo>
                  <a:pt x="1563" y="28"/>
                  <a:pt x="1463" y="22"/>
                  <a:pt x="1576" y="0"/>
                </a:cubicBezTo>
                <a:cubicBezTo>
                  <a:pt x="1719" y="3"/>
                  <a:pt x="1861" y="3"/>
                  <a:pt x="2004" y="8"/>
                </a:cubicBezTo>
                <a:cubicBezTo>
                  <a:pt x="2045" y="10"/>
                  <a:pt x="2043" y="63"/>
                  <a:pt x="2086" y="66"/>
                </a:cubicBezTo>
                <a:cubicBezTo>
                  <a:pt x="2163" y="71"/>
                  <a:pt x="2239" y="71"/>
                  <a:pt x="2316" y="74"/>
                </a:cubicBezTo>
                <a:cubicBezTo>
                  <a:pt x="2363" y="83"/>
                  <a:pt x="2364" y="96"/>
                  <a:pt x="2407" y="107"/>
                </a:cubicBezTo>
                <a:cubicBezTo>
                  <a:pt x="2437" y="104"/>
                  <a:pt x="2467" y="103"/>
                  <a:pt x="2497" y="99"/>
                </a:cubicBezTo>
                <a:cubicBezTo>
                  <a:pt x="2531" y="94"/>
                  <a:pt x="2562" y="68"/>
                  <a:pt x="2596" y="66"/>
                </a:cubicBezTo>
                <a:cubicBezTo>
                  <a:pt x="2829" y="53"/>
                  <a:pt x="2695" y="60"/>
                  <a:pt x="2999" y="50"/>
                </a:cubicBezTo>
                <a:cubicBezTo>
                  <a:pt x="3079" y="36"/>
                  <a:pt x="3121" y="9"/>
                  <a:pt x="3205" y="0"/>
                </a:cubicBezTo>
                <a:cubicBezTo>
                  <a:pt x="3316" y="14"/>
                  <a:pt x="3439" y="4"/>
                  <a:pt x="3550" y="8"/>
                </a:cubicBezTo>
                <a:cubicBezTo>
                  <a:pt x="3616" y="26"/>
                  <a:pt x="3680" y="66"/>
                  <a:pt x="3748" y="74"/>
                </a:cubicBezTo>
                <a:cubicBezTo>
                  <a:pt x="3784" y="78"/>
                  <a:pt x="3819" y="79"/>
                  <a:pt x="3855" y="82"/>
                </a:cubicBezTo>
                <a:cubicBezTo>
                  <a:pt x="3887" y="104"/>
                  <a:pt x="3920" y="106"/>
                  <a:pt x="3954" y="124"/>
                </a:cubicBezTo>
                <a:cubicBezTo>
                  <a:pt x="4057" y="113"/>
                  <a:pt x="4156" y="120"/>
                  <a:pt x="4258" y="132"/>
                </a:cubicBezTo>
                <a:cubicBezTo>
                  <a:pt x="4285" y="141"/>
                  <a:pt x="4315" y="151"/>
                  <a:pt x="4340" y="165"/>
                </a:cubicBezTo>
                <a:cubicBezTo>
                  <a:pt x="4357" y="175"/>
                  <a:pt x="4370" y="197"/>
                  <a:pt x="4390" y="198"/>
                </a:cubicBezTo>
                <a:cubicBezTo>
                  <a:pt x="4603" y="211"/>
                  <a:pt x="4477" y="205"/>
                  <a:pt x="4768" y="214"/>
                </a:cubicBezTo>
                <a:cubicBezTo>
                  <a:pt x="4774" y="220"/>
                  <a:pt x="4781" y="224"/>
                  <a:pt x="4785" y="231"/>
                </a:cubicBezTo>
                <a:cubicBezTo>
                  <a:pt x="4793" y="246"/>
                  <a:pt x="4784" y="276"/>
                  <a:pt x="4801" y="280"/>
                </a:cubicBezTo>
                <a:cubicBezTo>
                  <a:pt x="4901" y="304"/>
                  <a:pt x="4823" y="288"/>
                  <a:pt x="5040" y="296"/>
                </a:cubicBezTo>
                <a:cubicBezTo>
                  <a:pt x="5050" y="327"/>
                  <a:pt x="5033" y="337"/>
                  <a:pt x="4999" y="338"/>
                </a:cubicBezTo>
                <a:cubicBezTo>
                  <a:pt x="4873" y="343"/>
                  <a:pt x="4746" y="343"/>
                  <a:pt x="4620" y="346"/>
                </a:cubicBezTo>
                <a:cubicBezTo>
                  <a:pt x="4399" y="567"/>
                  <a:pt x="3947" y="184"/>
                  <a:pt x="3732" y="412"/>
                </a:cubicBezTo>
                <a:cubicBezTo>
                  <a:pt x="3690" y="401"/>
                  <a:pt x="3650" y="387"/>
                  <a:pt x="3608" y="379"/>
                </a:cubicBezTo>
                <a:cubicBezTo>
                  <a:pt x="3402" y="382"/>
                  <a:pt x="3197" y="395"/>
                  <a:pt x="2991" y="387"/>
                </a:cubicBezTo>
                <a:cubicBezTo>
                  <a:pt x="2973" y="386"/>
                  <a:pt x="2919" y="339"/>
                  <a:pt x="2892" y="329"/>
                </a:cubicBezTo>
                <a:cubicBezTo>
                  <a:pt x="2144" y="338"/>
                  <a:pt x="2031" y="345"/>
                  <a:pt x="1246" y="338"/>
                </a:cubicBezTo>
                <a:cubicBezTo>
                  <a:pt x="951" y="319"/>
                  <a:pt x="654" y="338"/>
                  <a:pt x="358" y="329"/>
                </a:cubicBezTo>
                <a:cubicBezTo>
                  <a:pt x="0" y="344"/>
                  <a:pt x="234" y="329"/>
                  <a:pt x="86" y="329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35213249"/>
          <p:cNvPicPr/>
          <p:nvPr/>
        </p:nvPicPr>
        <p:blipFill>
          <a:blip r:embed="rId2">
            <a:lum bright="12000"/>
          </a:blip>
          <a:stretch/>
        </p:blipFill>
        <p:spPr>
          <a:xfrm rot="21333600">
            <a:off x="1979640" y="620640"/>
            <a:ext cx="5975280" cy="6048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079513_337"/>
          <p:cNvPicPr/>
          <p:nvPr/>
        </p:nvPicPr>
        <p:blipFill>
          <a:blip r:embed="rId3">
            <a:lum bright="-6000"/>
          </a:blip>
          <a:srcRect l="36625" t="63809" r="32495" b="0"/>
          <a:stretch/>
        </p:blipFill>
        <p:spPr>
          <a:xfrm rot="1960200">
            <a:off x="1476360" y="256536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079513_337"/>
          <p:cNvPicPr/>
          <p:nvPr/>
        </p:nvPicPr>
        <p:blipFill>
          <a:blip r:embed="rId4">
            <a:lum bright="-6000"/>
          </a:blip>
          <a:srcRect l="36625" t="63809" r="32495" b="0"/>
          <a:stretch/>
        </p:blipFill>
        <p:spPr>
          <a:xfrm rot="5754600">
            <a:off x="2771280" y="2565360"/>
            <a:ext cx="1225440" cy="1161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079513_337"/>
          <p:cNvPicPr/>
          <p:nvPr/>
        </p:nvPicPr>
        <p:blipFill>
          <a:blip r:embed="rId5">
            <a:lum bright="-6000"/>
          </a:blip>
          <a:srcRect l="36625" t="63809" r="32495" b="0"/>
          <a:stretch/>
        </p:blipFill>
        <p:spPr>
          <a:xfrm rot="6465000">
            <a:off x="2484000" y="126792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079513_337"/>
          <p:cNvPicPr/>
          <p:nvPr/>
        </p:nvPicPr>
        <p:blipFill>
          <a:blip r:embed="rId6">
            <a:lum bright="-6000"/>
          </a:blip>
          <a:srcRect l="36625" t="63809" r="32495" b="0"/>
          <a:stretch/>
        </p:blipFill>
        <p:spPr>
          <a:xfrm rot="1960200">
            <a:off x="5651640" y="429264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079513_337"/>
          <p:cNvPicPr/>
          <p:nvPr/>
        </p:nvPicPr>
        <p:blipFill>
          <a:blip r:embed="rId7">
            <a:lum bright="-6000"/>
          </a:blip>
          <a:srcRect l="36625" t="63809" r="32495" b="0"/>
          <a:stretch/>
        </p:blipFill>
        <p:spPr>
          <a:xfrm rot="10992000">
            <a:off x="4312440" y="313920"/>
            <a:ext cx="1225800" cy="1162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079513_337"/>
          <p:cNvPicPr/>
          <p:nvPr/>
        </p:nvPicPr>
        <p:blipFill>
          <a:blip r:embed="rId8">
            <a:lum bright="-6000"/>
          </a:blip>
          <a:srcRect l="36625" t="63809" r="32495" b="0"/>
          <a:stretch/>
        </p:blipFill>
        <p:spPr>
          <a:xfrm rot="16351200">
            <a:off x="6567480" y="162828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079513_337"/>
          <p:cNvPicPr/>
          <p:nvPr/>
        </p:nvPicPr>
        <p:blipFill>
          <a:blip r:embed="rId9">
            <a:lum bright="-6000"/>
          </a:blip>
          <a:srcRect l="36625" t="63809" r="32495" b="0"/>
          <a:stretch/>
        </p:blipFill>
        <p:spPr>
          <a:xfrm rot="19569600">
            <a:off x="6516720" y="3573000"/>
            <a:ext cx="1225440" cy="116208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7"/>
          <p:cNvSpPr/>
          <p:nvPr/>
        </p:nvSpPr>
        <p:spPr>
          <a:xfrm>
            <a:off x="0" y="333360"/>
            <a:ext cx="2879640" cy="865080"/>
          </a:xfrm>
          <a:prstGeom prst="cloudCallout">
            <a:avLst>
              <a:gd name="adj1" fmla="val -34342"/>
              <a:gd name="adj2" fmla="val 41194"/>
            </a:avLst>
          </a:prstGeom>
          <a:gradFill rotWithShape="0">
            <a:gsLst>
              <a:gs pos="0">
                <a:srgbClr val="4f81bd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9" descr="079513_337"/>
          <p:cNvPicPr/>
          <p:nvPr/>
        </p:nvPicPr>
        <p:blipFill>
          <a:blip r:embed="rId10">
            <a:lum bright="-6000"/>
          </a:blip>
          <a:srcRect l="36625" t="63809" r="32495" b="0"/>
          <a:stretch/>
        </p:blipFill>
        <p:spPr>
          <a:xfrm rot="13656600">
            <a:off x="5945040" y="47736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4" descr="Ёжик1"/>
          <p:cNvPicPr/>
          <p:nvPr/>
        </p:nvPicPr>
        <p:blipFill>
          <a:blip r:embed="rId11">
            <a:lum bright="-6000"/>
          </a:blip>
          <a:stretch/>
        </p:blipFill>
        <p:spPr>
          <a:xfrm rot="429600">
            <a:off x="4990680" y="5680080"/>
            <a:ext cx="1457280" cy="1090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079513_337"/>
          <p:cNvPicPr/>
          <p:nvPr/>
        </p:nvPicPr>
        <p:blipFill>
          <a:blip r:embed="rId12">
            <a:lum bright="-6000"/>
          </a:blip>
          <a:srcRect l="36625" t="63809" r="32495" b="0"/>
          <a:stretch/>
        </p:blipFill>
        <p:spPr>
          <a:xfrm rot="1222800">
            <a:off x="4716360" y="1988640"/>
            <a:ext cx="12258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0.01271 L 0.07534 0.86864 E">
                                      <p:cBhvr>
                                        <p:cTn id="425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78 -0.08464 L 0.11771 0.56568 E">
                                      <p:cBhvr>
                                        <p:cTn id="428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L -0.06702 0.69213 E">
                                      <p:cBhvr>
                                        <p:cTn id="431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62 -0.04259 L 0.40139 0.28935 E">
                                      <p:cBhvr>
                                        <p:cTn id="43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8000"/>
                            </p:stCondLst>
                            <p:childTnLst>
                              <p:par>
                                <p:cTn id="436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7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44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1064 L 1 -0.0629 E">
                                      <p:cBhvr>
                                        <p:cTn id="449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5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5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1000"/>
                            </p:stCondLst>
                            <p:childTnLst>
                              <p:par>
                                <p:cTn id="4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45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3000"/>
                            </p:stCondLst>
                            <p:childTnLst>
                              <p:par>
                                <p:cTn id="460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1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5000"/>
                            </p:stCondLst>
                            <p:childTnLst>
                              <p:par>
                                <p:cTn id="465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7000"/>
                            </p:stCondLst>
                            <p:childTnLst>
                              <p:par>
                                <p:cTn id="47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32 0.04371 L -0.69253 0.09227 E">
                                      <p:cBhvr>
                                        <p:cTn id="471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00"/>
                            </p:stCondLst>
                            <p:childTnLst>
                              <p:par>
                                <p:cTn id="473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4000"/>
                            </p:stCondLst>
                            <p:childTnLst>
                              <p:par>
                                <p:cTn id="47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93987E-006 L -0.42135 0.61493 E">
                                      <p:cBhvr>
                                        <p:cTn id="478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6000"/>
                            </p:stCondLst>
                            <p:childTnLst>
                              <p:par>
                                <p:cTn id="48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1" dur="3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Прямоугольник 1" descr=""/>
          <p:cNvPicPr/>
          <p:nvPr/>
        </p:nvPicPr>
        <p:blipFill>
          <a:blip r:embed="rId1"/>
          <a:stretch/>
        </p:blipFill>
        <p:spPr>
          <a:xfrm>
            <a:off x="407880" y="371520"/>
            <a:ext cx="4292640" cy="115236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4"/>
          <p:cNvSpPr/>
          <p:nvPr/>
        </p:nvSpPr>
        <p:spPr>
          <a:xfrm>
            <a:off x="428760" y="3071880"/>
            <a:ext cx="8572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камнеход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ледопа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вертопад   звездовоз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паролёт    водолёт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самопа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д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    листоход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omic Sans MS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0243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1547640" y="1844640"/>
            <a:ext cx="7596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ерт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ёт,  лед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ход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ам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ёт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,  лист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ад,  звезд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ад,  пар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з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ар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ход,  вод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ад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мн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ад, вод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з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Прямоугольник 2" descr=""/>
          <p:cNvPicPr/>
          <p:nvPr/>
        </p:nvPicPr>
        <p:blipFill>
          <a:blip r:embed="rId1"/>
          <a:stretch/>
        </p:blipFill>
        <p:spPr>
          <a:xfrm>
            <a:off x="2041560" y="341280"/>
            <a:ext cx="489564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осень в горах!"/>
          <p:cNvPicPr/>
          <p:nvPr/>
        </p:nvPicPr>
        <p:blipFill>
          <a:blip r:embed="rId1"/>
          <a:stretch/>
        </p:blipFill>
        <p:spPr>
          <a:xfrm>
            <a:off x="755640" y="76500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Скругленный прямоугольник 5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1" lang="ru-RU" sz="3200" spc="-1" strike="noStrike">
                <a:solidFill>
                  <a:srgbClr val="993300"/>
                </a:solidFill>
                <a:latin typeface="Comic Sans MS"/>
              </a:rPr>
              <a:t>В горах.</a:t>
            </a:r>
            <a:br>
              <a:rPr sz="3200"/>
            </a:br>
            <a:r>
              <a:rPr b="1" lang="ru-RU" sz="3200" spc="-1" strike="noStrike">
                <a:solidFill>
                  <a:srgbClr val="9933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Осенью наш класс отправился в горы. В лесу на склонах гор было очень красиво.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Листопад </a:t>
            </a: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усыпал землю пёстрым ковром. На открытых участках, не поросших лесом, возникла опасность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камнепада</a:t>
            </a: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. Всех поразила красота горной  речки.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Водопад</a:t>
            </a: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 поднимал тысячи брызг. А ночью на небе мы наблюдали ещё одно интересное явление –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звездопа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Скругленный прямоугольник 1"/>
          <p:cNvSpPr/>
          <p:nvPr/>
        </p:nvSpPr>
        <p:spPr>
          <a:xfrm>
            <a:off x="357120" y="357120"/>
            <a:ext cx="8358120" cy="62150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omic Sans MS"/>
              </a:rPr>
              <a:t>Утром мы во двор идём – </a:t>
            </a:r>
            <a:br>
              <a:rPr sz="3600"/>
            </a:br>
            <a:r>
              <a:rPr b="1" lang="ru-RU" sz="3600" spc="-1" strike="noStrike">
                <a:solidFill>
                  <a:srgbClr val="663300"/>
                </a:solidFill>
                <a:latin typeface="Comic Sans MS"/>
              </a:rPr>
              <a:t>Листья сыплются д…ждём,</a:t>
            </a:r>
            <a:br>
              <a:rPr sz="3600"/>
            </a:br>
            <a:r>
              <a:rPr b="1" lang="ru-RU" sz="3600" spc="-1" strike="noStrike">
                <a:solidFill>
                  <a:srgbClr val="663300"/>
                </a:solidFill>
                <a:latin typeface="Comic Sans MS"/>
              </a:rPr>
              <a:t>Под н…гами ш…лестят</a:t>
            </a:r>
            <a:br>
              <a:rPr sz="3600"/>
            </a:br>
            <a:r>
              <a:rPr b="1" lang="ru-RU" sz="3600" spc="-1" strike="noStrike">
                <a:solidFill>
                  <a:srgbClr val="663300"/>
                </a:solidFill>
                <a:latin typeface="Comic Sans MS"/>
              </a:rPr>
              <a:t>И л…тят, л…тят, л…тят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663300"/>
                </a:solidFill>
                <a:latin typeface="Comic Sans MS"/>
              </a:rPr>
              <a:t>И высоко от з…мли</a:t>
            </a:r>
            <a:br>
              <a:rPr sz="3600"/>
            </a:br>
            <a:r>
              <a:rPr b="1" lang="ru-RU" sz="3600" spc="-1" strike="noStrike">
                <a:solidFill>
                  <a:srgbClr val="663300"/>
                </a:solidFill>
                <a:latin typeface="Comic Sans MS"/>
              </a:rPr>
              <a:t>Прол…тели жур…вли.</a:t>
            </a:r>
            <a:br>
              <a:rPr sz="3600"/>
            </a:br>
            <a:r>
              <a:rPr b="1" lang="ru-RU" sz="3600" spc="-1" strike="noStrike">
                <a:solidFill>
                  <a:srgbClr val="663300"/>
                </a:solidFill>
                <a:latin typeface="Comic Sans MS"/>
              </a:rPr>
              <a:t>Всё л…тит! Должно быть, это</a:t>
            </a:r>
            <a:br>
              <a:rPr sz="3600"/>
            </a:br>
            <a:r>
              <a:rPr b="1" lang="ru-RU" sz="3600" spc="-1" strike="noStrike">
                <a:solidFill>
                  <a:srgbClr val="663300"/>
                </a:solidFill>
                <a:latin typeface="Comic Sans MS"/>
              </a:rPr>
              <a:t>Ул…тает наше лето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WordArt 5"/>
          <p:cNvSpPr txBox="1"/>
          <p:nvPr/>
        </p:nvSpPr>
        <p:spPr>
          <a:xfrm>
            <a:off x="5952960" y="1773360"/>
            <a:ext cx="216000" cy="26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cc3300"/>
                </a:solidFill>
                <a:latin typeface="Comic Sans MS"/>
              </a:rPr>
              <a:t>о</a:t>
            </a:r>
            <a:endParaRPr b="1" lang="en-US" sz="1400" spc="1" strike="noStrike">
              <a:ln w="9360">
                <a:solidFill>
                  <a:srgbClr val="993300"/>
                </a:solidFill>
                <a:miter/>
              </a:ln>
              <a:solidFill>
                <a:srgbClr val="cc3300"/>
              </a:solidFill>
              <a:latin typeface="Comic Sans MS"/>
              <a:ea typeface="Comic Sans MS"/>
            </a:endParaRPr>
          </a:p>
        </p:txBody>
      </p:sp>
      <p:sp>
        <p:nvSpPr>
          <p:cNvPr id="149" name="WordArt 6"/>
          <p:cNvSpPr txBox="1"/>
          <p:nvPr/>
        </p:nvSpPr>
        <p:spPr>
          <a:xfrm>
            <a:off x="3406680" y="2314440"/>
            <a:ext cx="216000" cy="2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cc3300"/>
                </a:solidFill>
                <a:latin typeface="Comic Sans MS"/>
              </a:rPr>
              <a:t>о</a:t>
            </a:r>
            <a:endParaRPr b="1" lang="en-US" sz="1400" spc="1" strike="noStrike">
              <a:ln w="9360">
                <a:solidFill>
                  <a:srgbClr val="993300"/>
                </a:solidFill>
                <a:miter/>
              </a:ln>
              <a:solidFill>
                <a:srgbClr val="cc3300"/>
              </a:solidFill>
              <a:latin typeface="Comic Sans MS"/>
              <a:ea typeface="Comic Sans MS"/>
            </a:endParaRPr>
          </a:p>
        </p:txBody>
      </p:sp>
      <p:sp>
        <p:nvSpPr>
          <p:cNvPr id="150" name="WordArt 7"/>
          <p:cNvSpPr txBox="1"/>
          <p:nvPr/>
        </p:nvSpPr>
        <p:spPr>
          <a:xfrm>
            <a:off x="5351400" y="2314440"/>
            <a:ext cx="216000" cy="2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cc3300"/>
                </a:solidFill>
                <a:latin typeface="Comic Sans MS"/>
              </a:rPr>
              <a:t>е</a:t>
            </a:r>
            <a:endParaRPr b="1" lang="en-US" sz="1400" spc="1" strike="noStrike">
              <a:ln w="9360">
                <a:solidFill>
                  <a:srgbClr val="993300"/>
                </a:solidFill>
                <a:miter/>
              </a:ln>
              <a:solidFill>
                <a:srgbClr val="cc3300"/>
              </a:solidFill>
              <a:latin typeface="Comic Sans MS"/>
              <a:ea typeface="Comic Sans MS"/>
            </a:endParaRPr>
          </a:p>
        </p:txBody>
      </p:sp>
      <p:sp>
        <p:nvSpPr>
          <p:cNvPr id="151" name="WordArt 8"/>
          <p:cNvSpPr txBox="1"/>
          <p:nvPr/>
        </p:nvSpPr>
        <p:spPr>
          <a:xfrm>
            <a:off x="2708280" y="2865600"/>
            <a:ext cx="216000" cy="26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cc3300"/>
                </a:solidFill>
                <a:latin typeface="Comic Sans MS"/>
              </a:rPr>
              <a:t>е</a:t>
            </a:r>
            <a:endParaRPr b="1" lang="en-US" sz="1400" spc="1" strike="noStrike">
              <a:ln w="9360">
                <a:solidFill>
                  <a:srgbClr val="993300"/>
                </a:solidFill>
                <a:miter/>
              </a:ln>
              <a:solidFill>
                <a:srgbClr val="cc3300"/>
              </a:solidFill>
              <a:latin typeface="Comic Sans MS"/>
              <a:ea typeface="Comic Sans MS"/>
            </a:endParaRPr>
          </a:p>
        </p:txBody>
      </p:sp>
      <p:sp>
        <p:nvSpPr>
          <p:cNvPr id="152" name="WordArt 9"/>
          <p:cNvSpPr txBox="1"/>
          <p:nvPr/>
        </p:nvSpPr>
        <p:spPr>
          <a:xfrm>
            <a:off x="4376880" y="2865600"/>
            <a:ext cx="215640" cy="26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cc3300"/>
                </a:solidFill>
                <a:latin typeface="Comic Sans MS"/>
              </a:rPr>
              <a:t>е</a:t>
            </a:r>
            <a:endParaRPr b="1" lang="en-US" sz="1400" spc="1" strike="noStrike">
              <a:ln w="9360">
                <a:solidFill>
                  <a:srgbClr val="993300"/>
                </a:solidFill>
                <a:miter/>
              </a:ln>
              <a:solidFill>
                <a:srgbClr val="cc3300"/>
              </a:solidFill>
              <a:latin typeface="Comic Sans MS"/>
              <a:ea typeface="Comic Sans MS"/>
            </a:endParaRPr>
          </a:p>
        </p:txBody>
      </p:sp>
      <p:sp>
        <p:nvSpPr>
          <p:cNvPr id="153" name="WordArt 10"/>
          <p:cNvSpPr txBox="1"/>
          <p:nvPr/>
        </p:nvSpPr>
        <p:spPr>
          <a:xfrm>
            <a:off x="6046920" y="2865600"/>
            <a:ext cx="215640" cy="26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cc3300"/>
                </a:solidFill>
                <a:latin typeface="Comic Sans MS"/>
              </a:rPr>
              <a:t>е</a:t>
            </a:r>
            <a:endParaRPr b="1" lang="en-US" sz="1400" spc="1" strike="noStrike">
              <a:ln w="9360">
                <a:solidFill>
                  <a:srgbClr val="993300"/>
                </a:solidFill>
                <a:miter/>
              </a:ln>
              <a:solidFill>
                <a:srgbClr val="cc3300"/>
              </a:solidFill>
              <a:latin typeface="Comic Sans MS"/>
              <a:ea typeface="Comic Sans MS"/>
            </a:endParaRPr>
          </a:p>
        </p:txBody>
      </p:sp>
      <p:sp>
        <p:nvSpPr>
          <p:cNvPr id="154" name="WordArt 11"/>
          <p:cNvSpPr txBox="1"/>
          <p:nvPr/>
        </p:nvSpPr>
        <p:spPr>
          <a:xfrm>
            <a:off x="5541840" y="3968640"/>
            <a:ext cx="216000" cy="2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cc3300"/>
                </a:solidFill>
                <a:latin typeface="Comic Sans MS"/>
              </a:rPr>
              <a:t>е</a:t>
            </a:r>
            <a:endParaRPr b="1" lang="en-US" sz="1400" spc="1" strike="noStrike">
              <a:ln w="9360">
                <a:solidFill>
                  <a:srgbClr val="993300"/>
                </a:solidFill>
                <a:miter/>
              </a:ln>
              <a:solidFill>
                <a:srgbClr val="cc3300"/>
              </a:solidFill>
              <a:latin typeface="Comic Sans MS"/>
              <a:ea typeface="Comic Sans MS"/>
            </a:endParaRPr>
          </a:p>
        </p:txBody>
      </p:sp>
      <p:sp>
        <p:nvSpPr>
          <p:cNvPr id="155" name="WordArt 12"/>
          <p:cNvSpPr txBox="1"/>
          <p:nvPr/>
        </p:nvSpPr>
        <p:spPr>
          <a:xfrm>
            <a:off x="3314880" y="4518000"/>
            <a:ext cx="215640" cy="26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cc3300"/>
                </a:solidFill>
                <a:latin typeface="Comic Sans MS"/>
              </a:rPr>
              <a:t>е</a:t>
            </a:r>
            <a:endParaRPr b="1" lang="en-US" sz="1400" spc="1" strike="noStrike">
              <a:ln w="9360">
                <a:solidFill>
                  <a:srgbClr val="993300"/>
                </a:solidFill>
                <a:miter/>
              </a:ln>
              <a:solidFill>
                <a:srgbClr val="cc3300"/>
              </a:solidFill>
              <a:latin typeface="Comic Sans MS"/>
              <a:ea typeface="Comic Sans MS"/>
            </a:endParaRPr>
          </a:p>
        </p:txBody>
      </p:sp>
      <p:sp>
        <p:nvSpPr>
          <p:cNvPr id="156" name="WordArt 13"/>
          <p:cNvSpPr txBox="1"/>
          <p:nvPr/>
        </p:nvSpPr>
        <p:spPr>
          <a:xfrm>
            <a:off x="2459160" y="5064120"/>
            <a:ext cx="215640" cy="26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cc3300"/>
                </a:solidFill>
                <a:latin typeface="Comic Sans MS"/>
              </a:rPr>
              <a:t>е</a:t>
            </a:r>
            <a:endParaRPr b="1" lang="en-US" sz="1400" spc="1" strike="noStrike">
              <a:ln w="9360">
                <a:solidFill>
                  <a:srgbClr val="993300"/>
                </a:solidFill>
                <a:miter/>
              </a:ln>
              <a:solidFill>
                <a:srgbClr val="cc3300"/>
              </a:solidFill>
              <a:latin typeface="Comic Sans MS"/>
              <a:ea typeface="Comic Sans MS"/>
            </a:endParaRPr>
          </a:p>
        </p:txBody>
      </p:sp>
      <p:sp>
        <p:nvSpPr>
          <p:cNvPr id="157" name="WordArt 14"/>
          <p:cNvSpPr txBox="1"/>
          <p:nvPr/>
        </p:nvSpPr>
        <p:spPr>
          <a:xfrm>
            <a:off x="2878200" y="5602320"/>
            <a:ext cx="216000" cy="26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cc3300"/>
                </a:solidFill>
                <a:latin typeface="Comic Sans MS"/>
              </a:rPr>
              <a:t>е</a:t>
            </a:r>
            <a:endParaRPr b="1" lang="en-US" sz="1400" spc="1" strike="noStrike">
              <a:ln w="9360">
                <a:solidFill>
                  <a:srgbClr val="993300"/>
                </a:solidFill>
                <a:miter/>
              </a:ln>
              <a:solidFill>
                <a:srgbClr val="cc3300"/>
              </a:solidFill>
              <a:latin typeface="Comic Sans MS"/>
              <a:ea typeface="Comic Sans MS"/>
            </a:endParaRPr>
          </a:p>
        </p:txBody>
      </p:sp>
      <p:sp>
        <p:nvSpPr>
          <p:cNvPr id="158" name="WordArt 15"/>
          <p:cNvSpPr txBox="1"/>
          <p:nvPr/>
        </p:nvSpPr>
        <p:spPr>
          <a:xfrm>
            <a:off x="5680080" y="4511520"/>
            <a:ext cx="216000" cy="2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cc3300"/>
                </a:solidFill>
                <a:latin typeface="Comic Sans MS"/>
              </a:rPr>
              <a:t>а</a:t>
            </a:r>
            <a:endParaRPr b="1" lang="en-US" sz="1400" spc="1" strike="noStrike">
              <a:ln w="9360">
                <a:solidFill>
                  <a:srgbClr val="993300"/>
                </a:solidFill>
                <a:miter/>
              </a:ln>
              <a:solidFill>
                <a:srgbClr val="cc33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8"/>
          <p:cNvSpPr/>
          <p:nvPr/>
        </p:nvSpPr>
        <p:spPr>
          <a:xfrm>
            <a:off x="7583040" y="4500720"/>
            <a:ext cx="2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кругленный прямоугольник 10"/>
          <p:cNvSpPr/>
          <p:nvPr/>
        </p:nvSpPr>
        <p:spPr>
          <a:xfrm>
            <a:off x="357120" y="500040"/>
            <a:ext cx="8358120" cy="60721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9"/>
          <p:cNvSpPr/>
          <p:nvPr/>
        </p:nvSpPr>
        <p:spPr>
          <a:xfrm>
            <a:off x="611280" y="4619520"/>
            <a:ext cx="3485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omic Sans MS"/>
              </a:rPr>
              <a:t>проле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60"/>
          <p:cNvGrpSpPr/>
          <p:nvPr/>
        </p:nvGrpSpPr>
        <p:grpSpPr>
          <a:xfrm>
            <a:off x="1258920" y="4581360"/>
            <a:ext cx="582480" cy="163800"/>
            <a:chOff x="1258920" y="4581360"/>
            <a:chExt cx="582480" cy="163800"/>
          </a:xfrm>
        </p:grpSpPr>
        <p:sp>
          <p:nvSpPr>
            <p:cNvPr id="163" name="Line 8"/>
            <p:cNvSpPr/>
            <p:nvPr/>
          </p:nvSpPr>
          <p:spPr>
            <a:xfrm>
              <a:off x="1258920" y="4590000"/>
              <a:ext cx="58248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"/>
            <p:cNvSpPr/>
            <p:nvPr/>
          </p:nvSpPr>
          <p:spPr>
            <a:xfrm>
              <a:off x="1841400" y="4581360"/>
              <a:ext cx="0" cy="1638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Arc 10"/>
          <p:cNvSpPr/>
          <p:nvPr/>
        </p:nvSpPr>
        <p:spPr>
          <a:xfrm>
            <a:off x="1979640" y="458136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fill="none" w="27323" h="21600">
                <a:moveTo>
                  <a:pt x="-1" y="4608"/>
                </a:moveTo>
                <a:cubicBezTo>
                  <a:pt x="3803" y="1622"/>
                  <a:pt x="8500" y="-1"/>
                  <a:pt x="13336" y="0"/>
                </a:cubicBezTo>
                <a:cubicBezTo>
                  <a:pt x="18460" y="0"/>
                  <a:pt x="23417" y="1821"/>
                  <a:pt x="27322" y="5140"/>
                </a:cubicBezTo>
              </a:path>
              <a:path stroke="0" w="27323" h="21600">
                <a:moveTo>
                  <a:pt x="-1" y="4608"/>
                </a:moveTo>
                <a:cubicBezTo>
                  <a:pt x="3803" y="1622"/>
                  <a:pt x="8500" y="-1"/>
                  <a:pt x="13336" y="0"/>
                </a:cubicBezTo>
                <a:cubicBezTo>
                  <a:pt x="18460" y="0"/>
                  <a:pt x="23417" y="1821"/>
                  <a:pt x="27322" y="5140"/>
                </a:cubicBezTo>
                <a:lnTo>
                  <a:pt x="13336" y="21600"/>
                </a:lnTo>
                <a:close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2700360" y="4508280"/>
            <a:ext cx="215640" cy="216000"/>
            <a:chOff x="2700360" y="4508280"/>
            <a:chExt cx="215640" cy="216000"/>
          </a:xfrm>
        </p:grpSpPr>
        <p:sp>
          <p:nvSpPr>
            <p:cNvPr id="167" name="Line 5"/>
            <p:cNvSpPr/>
            <p:nvPr/>
          </p:nvSpPr>
          <p:spPr>
            <a:xfrm flipV="1">
              <a:off x="2700360" y="4508280"/>
              <a:ext cx="107640" cy="2156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6"/>
            <p:cNvSpPr/>
            <p:nvPr/>
          </p:nvSpPr>
          <p:spPr>
            <a:xfrm>
              <a:off x="2808000" y="4508640"/>
              <a:ext cx="108000" cy="2156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67"/>
          <p:cNvSpPr/>
          <p:nvPr/>
        </p:nvSpPr>
        <p:spPr>
          <a:xfrm>
            <a:off x="3276720" y="4753080"/>
            <a:ext cx="323640" cy="33156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68"/>
          <p:cNvGrpSpPr/>
          <p:nvPr/>
        </p:nvGrpSpPr>
        <p:grpSpPr>
          <a:xfrm>
            <a:off x="1116000" y="5032440"/>
            <a:ext cx="2087280" cy="69840"/>
            <a:chOff x="1116000" y="5032440"/>
            <a:chExt cx="2087280" cy="69840"/>
          </a:xfrm>
        </p:grpSpPr>
        <p:sp>
          <p:nvSpPr>
            <p:cNvPr id="171" name="Line 69"/>
            <p:cNvSpPr/>
            <p:nvPr/>
          </p:nvSpPr>
          <p:spPr>
            <a:xfrm>
              <a:off x="1116000" y="5094360"/>
              <a:ext cx="208728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70"/>
            <p:cNvSpPr/>
            <p:nvPr/>
          </p:nvSpPr>
          <p:spPr>
            <a:xfrm>
              <a:off x="1116000" y="5032440"/>
              <a:ext cx="0" cy="698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1"/>
            <p:cNvSpPr/>
            <p:nvPr/>
          </p:nvSpPr>
          <p:spPr>
            <a:xfrm>
              <a:off x="3203280" y="5032440"/>
              <a:ext cx="0" cy="698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72"/>
          <p:cNvSpPr/>
          <p:nvPr/>
        </p:nvSpPr>
        <p:spPr>
          <a:xfrm>
            <a:off x="5334120" y="4619520"/>
            <a:ext cx="3485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omic Sans MS"/>
              </a:rPr>
              <a:t>улет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73"/>
          <p:cNvGrpSpPr/>
          <p:nvPr/>
        </p:nvGrpSpPr>
        <p:grpSpPr>
          <a:xfrm>
            <a:off x="5435640" y="4581360"/>
            <a:ext cx="222120" cy="163800"/>
            <a:chOff x="5435640" y="4581360"/>
            <a:chExt cx="222120" cy="163800"/>
          </a:xfrm>
        </p:grpSpPr>
        <p:sp>
          <p:nvSpPr>
            <p:cNvPr id="176" name="Line 8"/>
            <p:cNvSpPr/>
            <p:nvPr/>
          </p:nvSpPr>
          <p:spPr>
            <a:xfrm>
              <a:off x="5435640" y="4590000"/>
              <a:ext cx="22212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>
              <a:off x="5657760" y="4581360"/>
              <a:ext cx="0" cy="1638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Arc 10"/>
          <p:cNvSpPr/>
          <p:nvPr/>
        </p:nvSpPr>
        <p:spPr>
          <a:xfrm>
            <a:off x="5796000" y="4581360"/>
            <a:ext cx="503280" cy="360360"/>
          </a:xfrm>
          <a:custGeom>
            <a:avLst/>
            <a:gdLst>
              <a:gd name="textAreaLeft" fmla="*/ 0 w 503280"/>
              <a:gd name="textAreaRight" fmla="*/ 503640 w 5032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27323" h="21600">
                <a:moveTo>
                  <a:pt x="-1" y="4608"/>
                </a:moveTo>
                <a:cubicBezTo>
                  <a:pt x="3803" y="1622"/>
                  <a:pt x="8500" y="-1"/>
                  <a:pt x="13336" y="0"/>
                </a:cubicBezTo>
                <a:cubicBezTo>
                  <a:pt x="18460" y="0"/>
                  <a:pt x="23417" y="1821"/>
                  <a:pt x="27322" y="5140"/>
                </a:cubicBezTo>
              </a:path>
              <a:path stroke="0" w="27323" h="21600">
                <a:moveTo>
                  <a:pt x="-1" y="4608"/>
                </a:moveTo>
                <a:cubicBezTo>
                  <a:pt x="3803" y="1622"/>
                  <a:pt x="8500" y="-1"/>
                  <a:pt x="13336" y="0"/>
                </a:cubicBezTo>
                <a:cubicBezTo>
                  <a:pt x="18460" y="0"/>
                  <a:pt x="23417" y="1821"/>
                  <a:pt x="27322" y="5140"/>
                </a:cubicBezTo>
                <a:lnTo>
                  <a:pt x="13336" y="21600"/>
                </a:lnTo>
                <a:close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0"/>
          <p:cNvSpPr/>
          <p:nvPr/>
        </p:nvSpPr>
        <p:spPr>
          <a:xfrm>
            <a:off x="6659640" y="4724280"/>
            <a:ext cx="566640" cy="33048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81"/>
          <p:cNvGrpSpPr/>
          <p:nvPr/>
        </p:nvGrpSpPr>
        <p:grpSpPr>
          <a:xfrm>
            <a:off x="5468760" y="5032440"/>
            <a:ext cx="1190880" cy="77760"/>
            <a:chOff x="5468760" y="5032440"/>
            <a:chExt cx="1190880" cy="77760"/>
          </a:xfrm>
        </p:grpSpPr>
        <p:sp>
          <p:nvSpPr>
            <p:cNvPr id="181" name="Line 82"/>
            <p:cNvSpPr/>
            <p:nvPr/>
          </p:nvSpPr>
          <p:spPr>
            <a:xfrm>
              <a:off x="5468760" y="5101200"/>
              <a:ext cx="119088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83"/>
            <p:cNvSpPr/>
            <p:nvPr/>
          </p:nvSpPr>
          <p:spPr>
            <a:xfrm>
              <a:off x="5468760" y="5032440"/>
              <a:ext cx="0" cy="777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84"/>
            <p:cNvSpPr/>
            <p:nvPr/>
          </p:nvSpPr>
          <p:spPr>
            <a:xfrm>
              <a:off x="6659640" y="5032440"/>
              <a:ext cx="0" cy="777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Rectangle 101"/>
          <p:cNvSpPr/>
          <p:nvPr/>
        </p:nvSpPr>
        <p:spPr>
          <a:xfrm>
            <a:off x="2525760" y="2819520"/>
            <a:ext cx="3486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omic Sans MS"/>
              </a:rPr>
              <a:t>летя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02"/>
          <p:cNvGrpSpPr/>
          <p:nvPr/>
        </p:nvGrpSpPr>
        <p:grpSpPr>
          <a:xfrm>
            <a:off x="2979720" y="1320840"/>
            <a:ext cx="871200" cy="163440"/>
            <a:chOff x="2979720" y="1320840"/>
            <a:chExt cx="871200" cy="163440"/>
          </a:xfrm>
        </p:grpSpPr>
        <p:sp>
          <p:nvSpPr>
            <p:cNvPr id="186" name="Line 8"/>
            <p:cNvSpPr/>
            <p:nvPr/>
          </p:nvSpPr>
          <p:spPr>
            <a:xfrm>
              <a:off x="2979720" y="1329480"/>
              <a:ext cx="87120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"/>
            <p:cNvSpPr/>
            <p:nvPr/>
          </p:nvSpPr>
          <p:spPr>
            <a:xfrm>
              <a:off x="3850920" y="1320840"/>
              <a:ext cx="0" cy="1634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Arc 10"/>
          <p:cNvSpPr/>
          <p:nvPr/>
        </p:nvSpPr>
        <p:spPr>
          <a:xfrm>
            <a:off x="3678120" y="2781360"/>
            <a:ext cx="677880" cy="431640"/>
          </a:xfrm>
          <a:custGeom>
            <a:avLst/>
            <a:gdLst>
              <a:gd name="textAreaLeft" fmla="*/ 0 w 677880"/>
              <a:gd name="textAreaRight" fmla="*/ 678240 w 67788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fill="none" w="27323" h="21600">
                <a:moveTo>
                  <a:pt x="-1" y="4608"/>
                </a:moveTo>
                <a:cubicBezTo>
                  <a:pt x="3803" y="1622"/>
                  <a:pt x="8500" y="-1"/>
                  <a:pt x="13336" y="0"/>
                </a:cubicBezTo>
                <a:cubicBezTo>
                  <a:pt x="18460" y="0"/>
                  <a:pt x="23417" y="1821"/>
                  <a:pt x="27322" y="5140"/>
                </a:cubicBezTo>
              </a:path>
              <a:path stroke="0" w="27323" h="21600">
                <a:moveTo>
                  <a:pt x="-1" y="4608"/>
                </a:moveTo>
                <a:cubicBezTo>
                  <a:pt x="3803" y="1622"/>
                  <a:pt x="8500" y="-1"/>
                  <a:pt x="13336" y="0"/>
                </a:cubicBezTo>
                <a:cubicBezTo>
                  <a:pt x="18460" y="0"/>
                  <a:pt x="23417" y="1821"/>
                  <a:pt x="27322" y="5140"/>
                </a:cubicBezTo>
                <a:lnTo>
                  <a:pt x="13336" y="21600"/>
                </a:lnTo>
                <a:close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9"/>
          <p:cNvSpPr/>
          <p:nvPr/>
        </p:nvSpPr>
        <p:spPr>
          <a:xfrm>
            <a:off x="4427640" y="2924280"/>
            <a:ext cx="504720" cy="33156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10"/>
          <p:cNvGrpSpPr/>
          <p:nvPr/>
        </p:nvGrpSpPr>
        <p:grpSpPr>
          <a:xfrm>
            <a:off x="3635280" y="3213000"/>
            <a:ext cx="720720" cy="71640"/>
            <a:chOff x="3635280" y="3213000"/>
            <a:chExt cx="720720" cy="71640"/>
          </a:xfrm>
        </p:grpSpPr>
        <p:sp>
          <p:nvSpPr>
            <p:cNvPr id="191" name="Line 111"/>
            <p:cNvSpPr/>
            <p:nvPr/>
          </p:nvSpPr>
          <p:spPr>
            <a:xfrm>
              <a:off x="3635280" y="3276360"/>
              <a:ext cx="72072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12"/>
            <p:cNvSpPr/>
            <p:nvPr/>
          </p:nvSpPr>
          <p:spPr>
            <a:xfrm>
              <a:off x="3635280" y="3213000"/>
              <a:ext cx="0" cy="716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13"/>
            <p:cNvSpPr/>
            <p:nvPr/>
          </p:nvSpPr>
          <p:spPr>
            <a:xfrm>
              <a:off x="4356000" y="3213000"/>
              <a:ext cx="0" cy="716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Arc 10"/>
          <p:cNvSpPr/>
          <p:nvPr/>
        </p:nvSpPr>
        <p:spPr>
          <a:xfrm>
            <a:off x="3924360" y="1413000"/>
            <a:ext cx="934920" cy="647640"/>
          </a:xfrm>
          <a:custGeom>
            <a:avLst/>
            <a:gdLst>
              <a:gd name="textAreaLeft" fmla="*/ 0 w 934920"/>
              <a:gd name="textAreaRight" fmla="*/ 935280 w 9349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fill="none" w="27323" h="21600">
                <a:moveTo>
                  <a:pt x="-1" y="4608"/>
                </a:moveTo>
                <a:cubicBezTo>
                  <a:pt x="3803" y="1622"/>
                  <a:pt x="8500" y="-1"/>
                  <a:pt x="13336" y="0"/>
                </a:cubicBezTo>
                <a:cubicBezTo>
                  <a:pt x="18460" y="0"/>
                  <a:pt x="23417" y="1821"/>
                  <a:pt x="27322" y="5140"/>
                </a:cubicBezTo>
              </a:path>
              <a:path stroke="0" w="27323" h="21600">
                <a:moveTo>
                  <a:pt x="-1" y="4608"/>
                </a:moveTo>
                <a:cubicBezTo>
                  <a:pt x="3803" y="1622"/>
                  <a:pt x="8500" y="-1"/>
                  <a:pt x="13336" y="0"/>
                </a:cubicBezTo>
                <a:cubicBezTo>
                  <a:pt x="18460" y="0"/>
                  <a:pt x="23417" y="1821"/>
                  <a:pt x="27322" y="5140"/>
                </a:cubicBezTo>
                <a:lnTo>
                  <a:pt x="13336" y="21600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"/>
          <p:cNvGrpSpPr/>
          <p:nvPr/>
        </p:nvGrpSpPr>
        <p:grpSpPr>
          <a:xfrm>
            <a:off x="4932360" y="1196640"/>
            <a:ext cx="701280" cy="365040"/>
            <a:chOff x="4932360" y="1196640"/>
            <a:chExt cx="701280" cy="365040"/>
          </a:xfrm>
        </p:grpSpPr>
        <p:sp>
          <p:nvSpPr>
            <p:cNvPr id="196" name="Line 5"/>
            <p:cNvSpPr/>
            <p:nvPr/>
          </p:nvSpPr>
          <p:spPr>
            <a:xfrm flipV="1">
              <a:off x="4932360" y="1196640"/>
              <a:ext cx="350280" cy="3646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6"/>
            <p:cNvSpPr/>
            <p:nvPr/>
          </p:nvSpPr>
          <p:spPr>
            <a:xfrm>
              <a:off x="5282640" y="1197000"/>
              <a:ext cx="351000" cy="3646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119"/>
          <p:cNvSpPr/>
          <p:nvPr/>
        </p:nvSpPr>
        <p:spPr>
          <a:xfrm>
            <a:off x="5724360" y="1557360"/>
            <a:ext cx="324000" cy="33192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20"/>
          <p:cNvGrpSpPr/>
          <p:nvPr/>
        </p:nvGrpSpPr>
        <p:grpSpPr>
          <a:xfrm>
            <a:off x="2987640" y="1844640"/>
            <a:ext cx="2626920" cy="90360"/>
            <a:chOff x="2987640" y="1844640"/>
            <a:chExt cx="2626920" cy="90360"/>
          </a:xfrm>
        </p:grpSpPr>
        <p:sp>
          <p:nvSpPr>
            <p:cNvPr id="200" name="Line 121"/>
            <p:cNvSpPr/>
            <p:nvPr/>
          </p:nvSpPr>
          <p:spPr>
            <a:xfrm>
              <a:off x="2987640" y="1924560"/>
              <a:ext cx="262692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22"/>
            <p:cNvSpPr/>
            <p:nvPr/>
          </p:nvSpPr>
          <p:spPr>
            <a:xfrm>
              <a:off x="2987640" y="1844640"/>
              <a:ext cx="0" cy="903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23"/>
            <p:cNvSpPr/>
            <p:nvPr/>
          </p:nvSpPr>
          <p:spPr>
            <a:xfrm>
              <a:off x="5614560" y="1844640"/>
              <a:ext cx="0" cy="903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4"/>
          <p:cNvGrpSpPr/>
          <p:nvPr/>
        </p:nvGrpSpPr>
        <p:grpSpPr>
          <a:xfrm>
            <a:off x="2987640" y="4508280"/>
            <a:ext cx="215640" cy="216000"/>
            <a:chOff x="2987640" y="4508280"/>
            <a:chExt cx="215640" cy="216000"/>
          </a:xfrm>
        </p:grpSpPr>
        <p:sp>
          <p:nvSpPr>
            <p:cNvPr id="204" name="Line 5"/>
            <p:cNvSpPr/>
            <p:nvPr/>
          </p:nvSpPr>
          <p:spPr>
            <a:xfrm flipV="1">
              <a:off x="2987640" y="4508280"/>
              <a:ext cx="107640" cy="2156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6"/>
            <p:cNvSpPr/>
            <p:nvPr/>
          </p:nvSpPr>
          <p:spPr>
            <a:xfrm>
              <a:off x="3095280" y="4508640"/>
              <a:ext cx="108000" cy="2156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4"/>
          <p:cNvGrpSpPr/>
          <p:nvPr/>
        </p:nvGrpSpPr>
        <p:grpSpPr>
          <a:xfrm>
            <a:off x="6372360" y="4508280"/>
            <a:ext cx="215640" cy="216000"/>
            <a:chOff x="6372360" y="4508280"/>
            <a:chExt cx="215640" cy="216000"/>
          </a:xfrm>
        </p:grpSpPr>
        <p:sp>
          <p:nvSpPr>
            <p:cNvPr id="207" name="Line 5"/>
            <p:cNvSpPr/>
            <p:nvPr/>
          </p:nvSpPr>
          <p:spPr>
            <a:xfrm flipV="1">
              <a:off x="6372360" y="4508280"/>
              <a:ext cx="107640" cy="2156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6"/>
            <p:cNvSpPr/>
            <p:nvPr/>
          </p:nvSpPr>
          <p:spPr>
            <a:xfrm>
              <a:off x="6480000" y="4508640"/>
              <a:ext cx="108000" cy="2156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Line 131"/>
          <p:cNvSpPr/>
          <p:nvPr/>
        </p:nvSpPr>
        <p:spPr>
          <a:xfrm flipV="1">
            <a:off x="2124000" y="2276640"/>
            <a:ext cx="1511280" cy="201600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33"/>
          <p:cNvSpPr/>
          <p:nvPr/>
        </p:nvSpPr>
        <p:spPr>
          <a:xfrm flipH="1" flipV="1">
            <a:off x="5219280" y="2276640"/>
            <a:ext cx="1297080" cy="201600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6" descr=""/>
          <p:cNvPicPr/>
          <p:nvPr/>
        </p:nvPicPr>
        <p:blipFill>
          <a:blip r:embed="rId1"/>
          <a:stretch/>
        </p:blipFill>
        <p:spPr>
          <a:xfrm>
            <a:off x="4406760" y="360360"/>
            <a:ext cx="3646800" cy="86508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5" descr=""/>
          <p:cNvPicPr/>
          <p:nvPr/>
        </p:nvPicPr>
        <p:blipFill>
          <a:blip r:embed="rId2"/>
          <a:stretch/>
        </p:blipFill>
        <p:spPr>
          <a:xfrm>
            <a:off x="-201600" y="378000"/>
            <a:ext cx="4865760" cy="4138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08c524491fd8"/>
          <p:cNvPicPr/>
          <p:nvPr/>
        </p:nvPicPr>
        <p:blipFill>
          <a:blip r:embed="rId3"/>
          <a:stretch/>
        </p:blipFill>
        <p:spPr>
          <a:xfrm>
            <a:off x="4500720" y="1916280"/>
            <a:ext cx="4298760" cy="4579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1"/>
          <p:cNvSpPr/>
          <p:nvPr/>
        </p:nvSpPr>
        <p:spPr>
          <a:xfrm>
            <a:off x="1214280" y="1500120"/>
            <a:ext cx="64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Comic Sans MS"/>
              </a:rPr>
              <a:t>             </a:t>
            </a:r>
            <a:r>
              <a:rPr b="1" lang="ru-RU" sz="2800" spc="-1" strike="noStrike" u="sng">
                <a:solidFill>
                  <a:srgbClr val="663300"/>
                </a:solidFill>
                <a:uFillTx/>
                <a:latin typeface="Comic Sans MS"/>
              </a:rPr>
              <a:t>А теперь оцените себя,   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Comic Sans MS"/>
              </a:rPr>
              <a:t>      </a:t>
            </a:r>
            <a:r>
              <a:rPr b="1" lang="ru-RU" sz="2800" spc="-1" strike="noStrike" u="sng">
                <a:solidFill>
                  <a:srgbClr val="663300"/>
                </a:solidFill>
                <a:uFillTx/>
                <a:latin typeface="Comic Sans MS"/>
              </a:rPr>
              <a:t>каким был для вас урок:</a:t>
            </a:r>
            <a:br>
              <a:rPr sz="2800"/>
            </a:br>
            <a:r>
              <a:rPr b="1" lang="ru-RU" sz="2800" spc="-1" strike="noStrike" u="sng">
                <a:solidFill>
                  <a:srgbClr val="663300"/>
                </a:solidFill>
                <a:uFillTx/>
                <a:latin typeface="Comic Sans MS"/>
              </a:rPr>
              <a:t>  </a:t>
            </a:r>
            <a:br>
              <a:rPr sz="2800"/>
            </a:br>
            <a:r>
              <a:rPr b="1" lang="ru-RU" sz="3600" spc="-1" strike="noStrike">
                <a:solidFill>
                  <a:srgbClr val="009900"/>
                </a:solidFill>
                <a:latin typeface="Wingdings"/>
                <a:ea typeface="Wingdings"/>
              </a:rPr>
              <a:t></a:t>
            </a:r>
            <a:r>
              <a:rPr b="1" lang="ru-RU" sz="2800" spc="-1" strike="noStrike">
                <a:solidFill>
                  <a:srgbClr val="0099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fall_clip_art"/>
          <p:cNvPicPr/>
          <p:nvPr/>
        </p:nvPicPr>
        <p:blipFill>
          <a:blip r:embed="rId1"/>
          <a:stretch/>
        </p:blipFill>
        <p:spPr>
          <a:xfrm rot="184200">
            <a:off x="1168560" y="4525560"/>
            <a:ext cx="992160" cy="992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67bb10594dce"/>
          <p:cNvPicPr/>
          <p:nvPr/>
        </p:nvPicPr>
        <p:blipFill>
          <a:blip r:embed="rId2"/>
          <a:stretch/>
        </p:blipFill>
        <p:spPr>
          <a:xfrm rot="10594800">
            <a:off x="856800" y="3428280"/>
            <a:ext cx="1247760" cy="1298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a3673fc3f8ac"/>
          <p:cNvPicPr/>
          <p:nvPr/>
        </p:nvPicPr>
        <p:blipFill>
          <a:blip r:embed="rId3"/>
          <a:stretch/>
        </p:blipFill>
        <p:spPr>
          <a:xfrm rot="7894200">
            <a:off x="769320" y="2361960"/>
            <a:ext cx="1485720" cy="115236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6"/>
          <p:cNvGrpSpPr/>
          <p:nvPr/>
        </p:nvGrpSpPr>
        <p:grpSpPr>
          <a:xfrm>
            <a:off x="1332000" y="3213000"/>
            <a:ext cx="6739920" cy="1644840"/>
            <a:chOff x="1332000" y="3213000"/>
            <a:chExt cx="6739920" cy="1644840"/>
          </a:xfrm>
        </p:grpSpPr>
        <p:grpSp>
          <p:nvGrpSpPr>
            <p:cNvPr id="216" name="Group 7"/>
            <p:cNvGrpSpPr/>
            <p:nvPr/>
          </p:nvGrpSpPr>
          <p:grpSpPr>
            <a:xfrm>
              <a:off x="1332000" y="3213000"/>
              <a:ext cx="2054160" cy="1644840"/>
              <a:chOff x="1332000" y="3213000"/>
              <a:chExt cx="2054160" cy="1644840"/>
            </a:xfrm>
          </p:grpSpPr>
          <p:sp>
            <p:nvSpPr>
              <p:cNvPr id="217" name="Oval 8"/>
              <p:cNvSpPr/>
              <p:nvPr/>
            </p:nvSpPr>
            <p:spPr>
              <a:xfrm>
                <a:off x="1332000" y="3213000"/>
                <a:ext cx="2054160" cy="16448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1991520" y="3828960"/>
                <a:ext cx="457200" cy="2286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Group 10"/>
              <p:cNvGrpSpPr/>
              <p:nvPr/>
            </p:nvGrpSpPr>
            <p:grpSpPr>
              <a:xfrm>
                <a:off x="1671480" y="3491640"/>
                <a:ext cx="228600" cy="342720"/>
                <a:chOff x="1671480" y="3491640"/>
                <a:chExt cx="228600" cy="342720"/>
              </a:xfrm>
            </p:grpSpPr>
            <p:sp>
              <p:nvSpPr>
                <p:cNvPr id="220" name="Oval 11"/>
                <p:cNvSpPr/>
                <p:nvPr/>
              </p:nvSpPr>
              <p:spPr>
                <a:xfrm>
                  <a:off x="1671480" y="3491640"/>
                  <a:ext cx="228600" cy="341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12"/>
                <p:cNvSpPr/>
                <p:nvPr/>
              </p:nvSpPr>
              <p:spPr>
                <a:xfrm>
                  <a:off x="1728720" y="3493080"/>
                  <a:ext cx="171360" cy="34128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13"/>
                <p:cNvSpPr/>
                <p:nvPr/>
              </p:nvSpPr>
              <p:spPr>
                <a:xfrm>
                  <a:off x="1785600" y="3561480"/>
                  <a:ext cx="114480" cy="170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14"/>
              <p:cNvGrpSpPr/>
              <p:nvPr/>
            </p:nvGrpSpPr>
            <p:grpSpPr>
              <a:xfrm>
                <a:off x="2585880" y="3491640"/>
                <a:ext cx="228600" cy="342720"/>
                <a:chOff x="2585880" y="3491640"/>
                <a:chExt cx="228600" cy="342720"/>
              </a:xfrm>
            </p:grpSpPr>
            <p:sp>
              <p:nvSpPr>
                <p:cNvPr id="224" name="Oval 15"/>
                <p:cNvSpPr/>
                <p:nvPr/>
              </p:nvSpPr>
              <p:spPr>
                <a:xfrm>
                  <a:off x="2585880" y="3491640"/>
                  <a:ext cx="228600" cy="341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16"/>
                <p:cNvSpPr/>
                <p:nvPr/>
              </p:nvSpPr>
              <p:spPr>
                <a:xfrm>
                  <a:off x="2643120" y="3493080"/>
                  <a:ext cx="171360" cy="34128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17"/>
                <p:cNvSpPr/>
                <p:nvPr/>
              </p:nvSpPr>
              <p:spPr>
                <a:xfrm>
                  <a:off x="2700000" y="3561480"/>
                  <a:ext cx="114480" cy="170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7" name="Group 18"/>
            <p:cNvGrpSpPr/>
            <p:nvPr/>
          </p:nvGrpSpPr>
          <p:grpSpPr>
            <a:xfrm>
              <a:off x="3614760" y="3257280"/>
              <a:ext cx="2171520" cy="1600560"/>
              <a:chOff x="3614760" y="3257280"/>
              <a:chExt cx="2171520" cy="1600560"/>
            </a:xfrm>
          </p:grpSpPr>
          <p:sp>
            <p:nvSpPr>
              <p:cNvPr id="228" name="Oval 19"/>
              <p:cNvSpPr/>
              <p:nvPr/>
            </p:nvSpPr>
            <p:spPr>
              <a:xfrm>
                <a:off x="3614760" y="3257280"/>
                <a:ext cx="2171520" cy="16005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4392000" y="3828960"/>
                <a:ext cx="456840" cy="2286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Group 21"/>
              <p:cNvGrpSpPr/>
              <p:nvPr/>
            </p:nvGrpSpPr>
            <p:grpSpPr>
              <a:xfrm>
                <a:off x="4071600" y="3491640"/>
                <a:ext cx="228600" cy="342720"/>
                <a:chOff x="4071600" y="3491640"/>
                <a:chExt cx="228600" cy="342720"/>
              </a:xfrm>
            </p:grpSpPr>
            <p:sp>
              <p:nvSpPr>
                <p:cNvPr id="231" name="Oval 22"/>
                <p:cNvSpPr/>
                <p:nvPr/>
              </p:nvSpPr>
              <p:spPr>
                <a:xfrm>
                  <a:off x="4071600" y="3491640"/>
                  <a:ext cx="228600" cy="341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3"/>
                <p:cNvSpPr/>
                <p:nvPr/>
              </p:nvSpPr>
              <p:spPr>
                <a:xfrm>
                  <a:off x="4128840" y="3493080"/>
                  <a:ext cx="171360" cy="34128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Oval 24"/>
                <p:cNvSpPr/>
                <p:nvPr/>
              </p:nvSpPr>
              <p:spPr>
                <a:xfrm>
                  <a:off x="4185720" y="3561480"/>
                  <a:ext cx="114480" cy="170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Group 25"/>
              <p:cNvGrpSpPr/>
              <p:nvPr/>
            </p:nvGrpSpPr>
            <p:grpSpPr>
              <a:xfrm>
                <a:off x="4986000" y="3491640"/>
                <a:ext cx="228600" cy="342720"/>
                <a:chOff x="4986000" y="3491640"/>
                <a:chExt cx="228600" cy="342720"/>
              </a:xfrm>
            </p:grpSpPr>
            <p:sp>
              <p:nvSpPr>
                <p:cNvPr id="235" name="Oval 26"/>
                <p:cNvSpPr/>
                <p:nvPr/>
              </p:nvSpPr>
              <p:spPr>
                <a:xfrm>
                  <a:off x="4986000" y="3491640"/>
                  <a:ext cx="228600" cy="341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Oval 27"/>
                <p:cNvSpPr/>
                <p:nvPr/>
              </p:nvSpPr>
              <p:spPr>
                <a:xfrm>
                  <a:off x="5043240" y="3493080"/>
                  <a:ext cx="171360" cy="34128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28"/>
                <p:cNvSpPr/>
                <p:nvPr/>
              </p:nvSpPr>
              <p:spPr>
                <a:xfrm>
                  <a:off x="5100120" y="3561480"/>
                  <a:ext cx="114480" cy="170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8" name="Group 29"/>
            <p:cNvGrpSpPr/>
            <p:nvPr/>
          </p:nvGrpSpPr>
          <p:grpSpPr>
            <a:xfrm>
              <a:off x="5900400" y="3257280"/>
              <a:ext cx="2171520" cy="1600560"/>
              <a:chOff x="5900400" y="3257280"/>
              <a:chExt cx="2171520" cy="1600560"/>
            </a:xfrm>
          </p:grpSpPr>
          <p:sp>
            <p:nvSpPr>
              <p:cNvPr id="239" name="Oval 30"/>
              <p:cNvSpPr/>
              <p:nvPr/>
            </p:nvSpPr>
            <p:spPr>
              <a:xfrm>
                <a:off x="5900400" y="3257280"/>
                <a:ext cx="2171520" cy="16005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31"/>
              <p:cNvSpPr/>
              <p:nvPr/>
            </p:nvSpPr>
            <p:spPr>
              <a:xfrm>
                <a:off x="6677640" y="3828960"/>
                <a:ext cx="456840" cy="2286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Group 32"/>
              <p:cNvGrpSpPr/>
              <p:nvPr/>
            </p:nvGrpSpPr>
            <p:grpSpPr>
              <a:xfrm>
                <a:off x="6357240" y="3491640"/>
                <a:ext cx="228600" cy="342720"/>
                <a:chOff x="6357240" y="3491640"/>
                <a:chExt cx="228600" cy="342720"/>
              </a:xfrm>
            </p:grpSpPr>
            <p:sp>
              <p:nvSpPr>
                <p:cNvPr id="242" name="Oval 33"/>
                <p:cNvSpPr/>
                <p:nvPr/>
              </p:nvSpPr>
              <p:spPr>
                <a:xfrm>
                  <a:off x="6357240" y="3491640"/>
                  <a:ext cx="228600" cy="341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Oval 34"/>
                <p:cNvSpPr/>
                <p:nvPr/>
              </p:nvSpPr>
              <p:spPr>
                <a:xfrm>
                  <a:off x="6414480" y="3493080"/>
                  <a:ext cx="171360" cy="34128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Oval 35"/>
                <p:cNvSpPr/>
                <p:nvPr/>
              </p:nvSpPr>
              <p:spPr>
                <a:xfrm>
                  <a:off x="6471360" y="3561480"/>
                  <a:ext cx="114480" cy="170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36"/>
              <p:cNvGrpSpPr/>
              <p:nvPr/>
            </p:nvGrpSpPr>
            <p:grpSpPr>
              <a:xfrm>
                <a:off x="7271640" y="3491640"/>
                <a:ext cx="228600" cy="342720"/>
                <a:chOff x="7271640" y="3491640"/>
                <a:chExt cx="228600" cy="342720"/>
              </a:xfrm>
            </p:grpSpPr>
            <p:sp>
              <p:nvSpPr>
                <p:cNvPr id="246" name="Oval 37"/>
                <p:cNvSpPr/>
                <p:nvPr/>
              </p:nvSpPr>
              <p:spPr>
                <a:xfrm>
                  <a:off x="7271640" y="3491640"/>
                  <a:ext cx="228600" cy="341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Oval 38"/>
                <p:cNvSpPr/>
                <p:nvPr/>
              </p:nvSpPr>
              <p:spPr>
                <a:xfrm>
                  <a:off x="7328880" y="3493080"/>
                  <a:ext cx="171360" cy="34128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Oval 39"/>
                <p:cNvSpPr/>
                <p:nvPr/>
              </p:nvSpPr>
              <p:spPr>
                <a:xfrm>
                  <a:off x="7385760" y="3561480"/>
                  <a:ext cx="114480" cy="170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9" name="Месяц 41"/>
          <p:cNvSpPr/>
          <p:nvPr/>
        </p:nvSpPr>
        <p:spPr>
          <a:xfrm rot="16200000">
            <a:off x="2091600" y="3956760"/>
            <a:ext cx="380880" cy="99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есяц 42"/>
          <p:cNvSpPr/>
          <p:nvPr/>
        </p:nvSpPr>
        <p:spPr>
          <a:xfrm rot="5400000">
            <a:off x="4607280" y="4035960"/>
            <a:ext cx="285840" cy="785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44"/>
          <p:cNvSpPr/>
          <p:nvPr/>
        </p:nvSpPr>
        <p:spPr>
          <a:xfrm>
            <a:off x="6572160" y="4429080"/>
            <a:ext cx="714600" cy="1800"/>
          </a:xfrm>
          <a:prstGeom prst="line">
            <a:avLst/>
          </a:prstGeom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39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6600"/>
                </a:solidFill>
                <a:latin typeface="Comic Sans MS"/>
              </a:rPr>
              <a:t>Минутка каллиграф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Прямоугольник 30" descr=""/>
          <p:cNvPicPr/>
          <p:nvPr/>
        </p:nvPicPr>
        <p:blipFill>
          <a:blip r:embed="rId1"/>
          <a:stretch/>
        </p:blipFill>
        <p:spPr>
          <a:xfrm>
            <a:off x="4572000" y="1432080"/>
            <a:ext cx="1749600" cy="102528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31" descr=""/>
          <p:cNvPicPr/>
          <p:nvPr/>
        </p:nvPicPr>
        <p:blipFill>
          <a:blip r:embed="rId2"/>
          <a:stretch/>
        </p:blipFill>
        <p:spPr>
          <a:xfrm>
            <a:off x="1646280" y="933480"/>
            <a:ext cx="2547720" cy="166356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32" descr=""/>
          <p:cNvPicPr/>
          <p:nvPr/>
        </p:nvPicPr>
        <p:blipFill>
          <a:blip r:embed="rId3"/>
          <a:stretch/>
        </p:blipFill>
        <p:spPr>
          <a:xfrm>
            <a:off x="1994040" y="2798640"/>
            <a:ext cx="3028680" cy="102420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33" descr=""/>
          <p:cNvPicPr/>
          <p:nvPr/>
        </p:nvPicPr>
        <p:blipFill>
          <a:blip r:embed="rId4"/>
          <a:stretch/>
        </p:blipFill>
        <p:spPr>
          <a:xfrm>
            <a:off x="1554120" y="4194000"/>
            <a:ext cx="4925880" cy="10242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6" descr=""/>
          <p:cNvPicPr/>
          <p:nvPr/>
        </p:nvPicPr>
        <p:blipFill>
          <a:blip r:embed="rId5"/>
          <a:stretch/>
        </p:blipFill>
        <p:spPr>
          <a:xfrm>
            <a:off x="2011320" y="2962440"/>
            <a:ext cx="365760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6600"/>
                </a:solidFill>
                <a:latin typeface="Comic Sans MS"/>
              </a:rPr>
              <a:t>Способы образования</a:t>
            </a:r>
            <a:br>
              <a:rPr sz="4800"/>
            </a:br>
            <a:r>
              <a:rPr b="1" lang="ru-RU" sz="4800" spc="-1" strike="noStrike">
                <a:solidFill>
                  <a:srgbClr val="cc6600"/>
                </a:solidFill>
                <a:latin typeface="Comic Sans MS"/>
              </a:rPr>
              <a:t>новых слов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3600360" y="4262400"/>
            <a:ext cx="194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285920" y="2133720"/>
            <a:ext cx="70722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26262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26"/>
                </a:solidFill>
                <a:latin typeface="Comic Sans MS"/>
              </a:rPr>
              <a:t>суффиксальны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26"/>
                </a:solidFill>
                <a:latin typeface="Comic Sans MS"/>
              </a:rPr>
              <a:t>приставочны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26"/>
                </a:solidFill>
                <a:latin typeface="Comic Sans MS"/>
              </a:rPr>
              <a:t>Приставочно-суффиксальны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26262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42560" y="2338560"/>
            <a:ext cx="720108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Comic Sans MS"/>
              </a:rPr>
              <a:t>СЛОЖНЫЕ СЛОВ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Прямоугольник 3" descr=""/>
          <p:cNvPicPr/>
          <p:nvPr/>
        </p:nvPicPr>
        <p:blipFill>
          <a:blip r:embed="rId1"/>
          <a:stretch/>
        </p:blipFill>
        <p:spPr>
          <a:xfrm>
            <a:off x="2816280" y="768240"/>
            <a:ext cx="3956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8920" y="691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Brush Script Std"/>
              </a:rPr>
              <a:t>С</a:t>
            </a:r>
            <a:r>
              <a:rPr b="1" lang="ru-RU" sz="4400" spc="-1" strike="noStrike">
                <a:solidFill>
                  <a:srgbClr val="00b050"/>
                </a:solidFill>
                <a:latin typeface="Brush Script Std"/>
              </a:rPr>
              <a:t>Е</a:t>
            </a:r>
            <a:r>
              <a:rPr b="1" lang="ru-RU" sz="4400" spc="-1" strike="noStrike">
                <a:solidFill>
                  <a:srgbClr val="993300"/>
                </a:solidFill>
                <a:latin typeface="Brush Script Std"/>
              </a:rPr>
              <a:t>НТЯБРЬ – ХМУРЕ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236332"/>
          <p:cNvPicPr/>
          <p:nvPr/>
        </p:nvPicPr>
        <p:blipFill>
          <a:blip r:embed="rId1"/>
          <a:stretch/>
        </p:blipFill>
        <p:spPr>
          <a:xfrm>
            <a:off x="1547640" y="1773360"/>
            <a:ext cx="619308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691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Brush Script Std"/>
              </a:rPr>
              <a:t>О</a:t>
            </a:r>
            <a:r>
              <a:rPr b="1" lang="ru-RU" sz="4400" spc="-1" strike="noStrike">
                <a:solidFill>
                  <a:srgbClr val="993300"/>
                </a:solidFill>
                <a:latin typeface="Brush Script Std"/>
              </a:rPr>
              <a:t>КТЯБРЬ – ЛИСТОПА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46622385_1248279702_autumn006"/>
          <p:cNvPicPr/>
          <p:nvPr/>
        </p:nvPicPr>
        <p:blipFill>
          <a:blip r:embed="rId1"/>
          <a:stretch/>
        </p:blipFill>
        <p:spPr>
          <a:xfrm>
            <a:off x="1619280" y="1916280"/>
            <a:ext cx="597708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8920" y="691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Brush Script Std"/>
              </a:rPr>
              <a:t>Н</a:t>
            </a:r>
            <a:r>
              <a:rPr b="1" lang="ru-RU" sz="4400" spc="-1" strike="noStrike">
                <a:solidFill>
                  <a:srgbClr val="00b050"/>
                </a:solidFill>
                <a:latin typeface="Brush Script Std"/>
              </a:rPr>
              <a:t>О</a:t>
            </a:r>
            <a:r>
              <a:rPr b="1" lang="ru-RU" sz="4400" spc="-1" strike="noStrike">
                <a:solidFill>
                  <a:srgbClr val="993300"/>
                </a:solidFill>
                <a:latin typeface="Brush Script Std"/>
              </a:rPr>
              <a:t>ЯБРЬ – ГРУДЕ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8" descr="pictureview7-pid-19a98-et-74e3857"/>
          <p:cNvPicPr/>
          <p:nvPr/>
        </p:nvPicPr>
        <p:blipFill>
          <a:blip r:embed="rId1"/>
          <a:stretch/>
        </p:blipFill>
        <p:spPr>
          <a:xfrm>
            <a:off x="2340000" y="1844640"/>
            <a:ext cx="439272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1" descr=""/>
          <p:cNvPicPr/>
          <p:nvPr/>
        </p:nvPicPr>
        <p:blipFill>
          <a:blip r:embed="rId1"/>
          <a:stretch/>
        </p:blipFill>
        <p:spPr>
          <a:xfrm>
            <a:off x="858960" y="804960"/>
            <a:ext cx="7108560" cy="11523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" descr=""/>
          <p:cNvPicPr/>
          <p:nvPr/>
        </p:nvPicPr>
        <p:blipFill>
          <a:blip r:embed="rId2"/>
          <a:stretch/>
        </p:blipFill>
        <p:spPr>
          <a:xfrm>
            <a:off x="3413160" y="4516560"/>
            <a:ext cx="3584520" cy="115236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3" descr=""/>
          <p:cNvPicPr/>
          <p:nvPr/>
        </p:nvPicPr>
        <p:blipFill>
          <a:blip r:embed="rId3"/>
          <a:stretch/>
        </p:blipFill>
        <p:spPr>
          <a:xfrm>
            <a:off x="1938240" y="3230640"/>
            <a:ext cx="4213440" cy="115236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4" descr=""/>
          <p:cNvPicPr/>
          <p:nvPr/>
        </p:nvPicPr>
        <p:blipFill>
          <a:blip r:embed="rId4"/>
          <a:stretch/>
        </p:blipFill>
        <p:spPr>
          <a:xfrm>
            <a:off x="822240" y="1871640"/>
            <a:ext cx="3805200" cy="1152720"/>
          </a:xfrm>
          <a:prstGeom prst="rect">
            <a:avLst/>
          </a:prstGeom>
          <a:ln w="0">
            <a:noFill/>
          </a:ln>
        </p:spPr>
      </p:pic>
      <p:sp>
        <p:nvSpPr>
          <p:cNvPr id="74" name="Arc 10"/>
          <p:cNvSpPr/>
          <p:nvPr/>
        </p:nvSpPr>
        <p:spPr>
          <a:xfrm>
            <a:off x="1285920" y="2071800"/>
            <a:ext cx="1714320" cy="647640"/>
          </a:xfrm>
          <a:custGeom>
            <a:avLst/>
            <a:gdLst>
              <a:gd name="textAreaLeft" fmla="*/ 0 w 1714320"/>
              <a:gd name="textAreaRight" fmla="*/ 1714680 w 17143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fill="none" w="27323" h="21600">
                <a:moveTo>
                  <a:pt x="-1" y="4608"/>
                </a:moveTo>
                <a:cubicBezTo>
                  <a:pt x="3803" y="1622"/>
                  <a:pt x="8500" y="-1"/>
                  <a:pt x="13336" y="0"/>
                </a:cubicBezTo>
                <a:cubicBezTo>
                  <a:pt x="18460" y="0"/>
                  <a:pt x="23417" y="1821"/>
                  <a:pt x="27322" y="5140"/>
                </a:cubicBezTo>
              </a:path>
              <a:path stroke="0" w="27323" h="21600">
                <a:moveTo>
                  <a:pt x="-1" y="4608"/>
                </a:moveTo>
                <a:cubicBezTo>
                  <a:pt x="3803" y="1622"/>
                  <a:pt x="8500" y="-1"/>
                  <a:pt x="13336" y="0"/>
                </a:cubicBezTo>
                <a:cubicBezTo>
                  <a:pt x="18460" y="0"/>
                  <a:pt x="23417" y="1821"/>
                  <a:pt x="27322" y="5140"/>
                </a:cubicBezTo>
                <a:lnTo>
                  <a:pt x="13336" y="21600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rc 10"/>
          <p:cNvSpPr/>
          <p:nvPr/>
        </p:nvSpPr>
        <p:spPr>
          <a:xfrm>
            <a:off x="3929040" y="4786200"/>
            <a:ext cx="1428840" cy="647640"/>
          </a:xfrm>
          <a:custGeom>
            <a:avLst/>
            <a:gdLst>
              <a:gd name="textAreaLeft" fmla="*/ 0 w 1428840"/>
              <a:gd name="textAreaRight" fmla="*/ 1428840 w 14288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fill="none" w="27323" h="21600">
                <a:moveTo>
                  <a:pt x="-1" y="4608"/>
                </a:moveTo>
                <a:cubicBezTo>
                  <a:pt x="3803" y="1622"/>
                  <a:pt x="8500" y="-1"/>
                  <a:pt x="13336" y="0"/>
                </a:cubicBezTo>
                <a:cubicBezTo>
                  <a:pt x="18460" y="0"/>
                  <a:pt x="23417" y="1821"/>
                  <a:pt x="27322" y="5140"/>
                </a:cubicBezTo>
              </a:path>
              <a:path stroke="0" w="27323" h="21600">
                <a:moveTo>
                  <a:pt x="-1" y="4608"/>
                </a:moveTo>
                <a:cubicBezTo>
                  <a:pt x="3803" y="1622"/>
                  <a:pt x="8500" y="-1"/>
                  <a:pt x="13336" y="0"/>
                </a:cubicBezTo>
                <a:cubicBezTo>
                  <a:pt x="18460" y="0"/>
                  <a:pt x="23417" y="1821"/>
                  <a:pt x="27322" y="5140"/>
                </a:cubicBezTo>
                <a:lnTo>
                  <a:pt x="13336" y="21600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4"/>
          <p:cNvGrpSpPr/>
          <p:nvPr/>
        </p:nvGrpSpPr>
        <p:grpSpPr>
          <a:xfrm>
            <a:off x="3214800" y="1920600"/>
            <a:ext cx="701280" cy="365040"/>
            <a:chOff x="3214800" y="1920600"/>
            <a:chExt cx="701280" cy="365040"/>
          </a:xfrm>
        </p:grpSpPr>
        <p:sp>
          <p:nvSpPr>
            <p:cNvPr id="77" name="Line 5"/>
            <p:cNvSpPr/>
            <p:nvPr/>
          </p:nvSpPr>
          <p:spPr>
            <a:xfrm flipV="1">
              <a:off x="3214800" y="1920600"/>
              <a:ext cx="350280" cy="3646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6"/>
            <p:cNvSpPr/>
            <p:nvPr/>
          </p:nvSpPr>
          <p:spPr>
            <a:xfrm>
              <a:off x="3565080" y="1920960"/>
              <a:ext cx="351000" cy="3646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"/>
          <p:cNvGrpSpPr/>
          <p:nvPr/>
        </p:nvGrpSpPr>
        <p:grpSpPr>
          <a:xfrm>
            <a:off x="5513400" y="4563720"/>
            <a:ext cx="701280" cy="365040"/>
            <a:chOff x="5513400" y="4563720"/>
            <a:chExt cx="701280" cy="365040"/>
          </a:xfrm>
        </p:grpSpPr>
        <p:sp>
          <p:nvSpPr>
            <p:cNvPr id="80" name="Line 5"/>
            <p:cNvSpPr/>
            <p:nvPr/>
          </p:nvSpPr>
          <p:spPr>
            <a:xfrm flipV="1">
              <a:off x="5513400" y="4563720"/>
              <a:ext cx="350280" cy="3646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6"/>
            <p:cNvSpPr/>
            <p:nvPr/>
          </p:nvSpPr>
          <p:spPr>
            <a:xfrm>
              <a:off x="5863680" y="4564080"/>
              <a:ext cx="351000" cy="3646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15"/>
          <p:cNvSpPr/>
          <p:nvPr/>
        </p:nvSpPr>
        <p:spPr>
          <a:xfrm>
            <a:off x="6643800" y="4929120"/>
            <a:ext cx="577800" cy="576360"/>
          </a:xfrm>
          <a:prstGeom prst="rect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4286160" y="2214720"/>
            <a:ext cx="577800" cy="576000"/>
          </a:xfrm>
          <a:prstGeom prst="rect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8:36:20Z</dcterms:created>
  <dc:creator>Admin</dc:creator>
  <dc:description/>
  <dc:language>en-US</dc:language>
  <cp:lastModifiedBy>ws-fedo02</cp:lastModifiedBy>
  <dcterms:modified xsi:type="dcterms:W3CDTF">2015-11-18T08:13:58Z</dcterms:modified>
  <cp:revision>174</cp:revision>
  <dc:subject/>
  <dc:title>Неживая природа осенью</dc:title>
</cp:coreProperties>
</file>