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F81B-A1DC-471B-B138-51175C520B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167A-9A76-4813-BDE4-5DDDC5B2AC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64E-E2AC-4984-A5CB-57D91990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6079-92FD-4F4A-8F65-4A630FDA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AEF-AC04-4FA6-9598-BE51E5BA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3EE-C077-4226-9179-F0AFB661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8CDD-BD90-4971-9297-844B90C4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99CC-6B8B-443C-9F00-1ED3B520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8E16-C3DE-4469-B8F8-21B715C0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A2ED-E00F-4FD5-B465-CAA5A5D3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281C-6625-4057-B177-479AA284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0B9B-656B-4E89-9684-6FB337AB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386D-043A-4F07-B800-9E313B85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7B8-97D6-434F-9862-B365A4EF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E7C6-EC70-4C1E-9352-77B65367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A76D-F43C-4262-9C6E-2E3BF19E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57B2-7258-49E2-973B-DCD04845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040A-1EFD-4E7D-8245-4D9E97D0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1EA9-B690-42AC-AF54-F0E618CD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BB5D3-415C-4939-B944-EA60BEF8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6D55E-F069-4A4B-8B6E-CC49A16F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678D1-DAD5-4622-9B8A-3FEEEA38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D09EE-6DB8-4783-940F-57801FC6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3CC82-4ABB-41EA-BB63-7570DD35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8B5C-C61F-4A28-9EA3-D3309759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7B8FE-8917-41DA-8CC8-D907BEFE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3E034-04A5-40EB-B9F4-F6E0D044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1E84B-0A77-4DC1-B41E-706F98A5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91204-29AE-48CC-BE99-7F8B1BA6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8128-615F-4264-B308-DE334271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7F5C4-2BA6-4384-90B8-9ACA0304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34E82-57B6-4A28-A067-7F471599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A65A7-73DE-4905-A747-B7BE1EDD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F57B3-3ADB-4A80-BB99-BD207679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7E75A-6646-4281-B998-9F2768A7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A36-FAC4-41C1-8384-953AE1E0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C96E0-73E4-44D0-87E4-8FFC34D8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B52D3-6FAF-4EEE-B28D-B973A91B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65B36-3C1A-4855-8810-B4155ECE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2B572-4238-4DB4-9BE9-BCAF726B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3283A-08C9-46FD-BD54-5AF991B3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31798-B210-4E94-912C-1B86A7D5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B37E-979F-4995-91FA-539F0154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B44D8-74FC-4E1D-AF9F-FE35E890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32209-029B-406D-8607-800A8928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2CC21-0B72-4652-B4EF-FE51CAE0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5D7-7E92-4307-913D-F0CB1FE4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71612-1F66-4F9C-9CC6-64B7AEE5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A0386-EFD0-4731-8C08-70546C11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FBDA4-AB9D-433D-BD94-7245788E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031E6-893B-48EC-AC54-40E2E69D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FE991-EAB1-436B-A622-ED49132C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CEAEA-1AAA-4F3B-831E-B495DD52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1F385-1FC2-4894-8C69-8E593FD0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C1B58-1797-4E54-ADCC-4BBB1048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AF59C-5C4F-4A24-A75F-51E1F554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37743-DDAC-4806-BF20-6CDFB8A1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7B9-20E4-4D19-9B42-2BB55127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89C36-5F57-4C40-8B29-6B771685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A41-F8F0-457B-A092-FB4551EC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F78-4870-4849-B231-4E18B067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E8F-C46E-4D36-AE47-655DFC4A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853F-0DB0-4766-8372-A8CDC83CEEC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DC15-BD58-4BA4-B85D-A8FE08A159F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8CF7-E4CC-4417-925F-E25C9537038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06F4-5FB9-426A-88BA-FEC929C5E2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E9DB-AE6D-4BAE-A8AD-5D4441F5544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856800"/>
            <a:ext cx="7772400" cy="2792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Verdana"/>
              </a:rPr>
              <a:t>Дивишься драгоценности нашего языка: что ни звук, то и подарок.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. В. Гогол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Цели уро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Научиться различать относительные и вопросительные местоим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Находить относительные местоимения в сложных предложени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азберите предложения (№5)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ав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то участвовал в школьном кроссе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знаю, кто участвовал в школьн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осс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42876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[-=] ?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        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[-=] , (-=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Дуга 5"/>
          <p:cNvSpPr/>
          <p:nvPr/>
        </p:nvSpPr>
        <p:spPr>
          <a:xfrm>
            <a:off x="857160" y="207180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w="93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3" descr="Pic_003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3" descr="3823.jpg"/>
          <p:cNvPicPr/>
          <p:nvPr/>
        </p:nvPicPr>
        <p:blipFill>
          <a:blip r:embed="rId1"/>
          <a:stretch/>
        </p:blipFill>
        <p:spPr>
          <a:xfrm>
            <a:off x="203040" y="152280"/>
            <a:ext cx="8737920" cy="6553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пишите творческую работу на тему : «Зимний лес» с использованием местоимений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 не спеша вхожу в зимний лес. Всё здесь дышит морозным воздухо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68360" y="90792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нтерес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Что интересного  было на уроке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Verdana"/>
              </a:rPr>
              <a:t>Т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ворчеств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Какие творческие работы вы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     выполняли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бучени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Чему вы научились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Verdana"/>
              </a:rPr>
              <a:t>Г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лавно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Что нового на  уроке я узнал (а)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Спасибо за работу 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Домашнее задание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Параграф № 7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Закончить творческую работ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Указать разряды использованных в тексте местоим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Вопросительные местоимения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ществительные . </a:t>
            </a:r>
            <a:r>
              <a:rPr b="1" lang="ru-RU" sz="2800" spc="-1" strike="noStrike">
                <a:solidFill>
                  <a:srgbClr val="4ea5d8"/>
                </a:solidFill>
                <a:latin typeface="Verdana"/>
              </a:rPr>
              <a:t>Кто? Чт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лагательные. </a:t>
            </a: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Какой? Чей? Каков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ислительные. </a:t>
            </a: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Какой? Скольк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Запишите . Объясните пропущенные орфограммы. Укажите разряды изученных местоимений, их синтаксическую роль. 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2920" y="530280"/>
            <a:ext cx="8140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 зам…нить м…гу другие част… реч…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звалив обязанности их (к) себе (на) плеч…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гда приходится сл…ва другие зам…нять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На) их значени… всегда мне надо указ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зам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ть м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 другие част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еч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Verdana"/>
              </a:rPr>
              <a:t>__                                                                      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валив обязанности их к себе на плеч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_._.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гда приходится сл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 другие зам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я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                                   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их значени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е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гда мне надо указа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---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Вопросительные</a:t>
            </a: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местоимения.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8542"/>
                </a:solidFill>
                <a:latin typeface="Verdana"/>
              </a:rPr>
              <a:t>Какие местоимения ранее изученные вам не встретились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2d050"/>
                </a:solidFill>
                <a:latin typeface="Verdana"/>
              </a:rPr>
              <a:t>Какие по цели высказывания эти предложения? Найдите в предложениях вопросительные местоимения, определите их синтаксическую роль.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то читал эту книгу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книги тебя интересуют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верь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В.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то читал эту книг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Verdana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В.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книги тебя интересуют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~~~~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Какое предложение мы записали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ожное предложе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\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юзное           бессоюзн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       \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ожносочиненное  сложноподчиненн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ема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Относительные местоим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(что, кто, какой, чей, каков, который, сколько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4:43:56Z</dcterms:created>
  <dc:creator>Katrin</dc:creator>
  <dc:description/>
  <dc:language>en-US</dc:language>
  <cp:lastModifiedBy>Katerina</cp:lastModifiedBy>
  <dcterms:modified xsi:type="dcterms:W3CDTF">2011-03-18T15:58:16Z</dcterms:modified>
  <cp:revision>36</cp:revision>
  <dc:subject/>
  <dc:title>Тема :  Относительные местоимения.        </dc:title>
</cp:coreProperties>
</file>