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6.wmf" ContentType="image/x-wmf"/>
  <Override PartName="/ppt/media/image9.png" ContentType="image/pn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6C78-B9BD-4CEE-A57A-EDBE41FA72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76C3-BC1F-443C-94CF-F234C25D7C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2099-C695-47FD-B357-BF35ED933E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3F29-A2E0-473B-8193-1C87E8FC5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C83F-7527-49E1-9EA6-2174C8EC1A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E444-6C8E-4D0C-9379-C4D07B57FC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E162-F3BE-4E56-BA64-5D867472D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6362-EBEC-4C78-9328-0D197670A5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2D3B-C4EB-41EA-A374-18DB781BEF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0A42-777E-4F92-BF22-AB4B7E4F92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50AE-6627-42E2-A1FD-D2A93AAD57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1C6B-AD14-4309-8FC0-F253C747EB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6C90-26DB-4BB2-9473-2D1655064E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B86D-699F-4003-B133-4635F4A2E3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1D1-0E58-4A8E-BBCF-214D2713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966-269D-4A80-85A9-59E21E4B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744-155E-4333-BE78-138F18F2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142-137C-4420-A57A-AC2EF273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58FE-13F7-4B03-8C33-16971086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6CDE-28E4-449C-BF7E-3B05C67A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B3B1-293F-4CCB-AB54-48C1815B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AD49-39AA-4BD6-8AE0-92586970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8F9D-CE0A-4A0C-92E0-38583678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1323-317F-4FD0-91CB-51446950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72E1-5647-4A55-BE9F-D4BBCC64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BB3-34B2-4EFA-AA5A-24E32ECF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54BC-0FCA-412D-B269-0D095D03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1F46-31D3-4206-9238-D15905A0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0E5F-3BAB-4022-A9A8-324769F0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9E77-A9AA-4B11-A8E9-0FB70901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3C83-AA62-4F37-9227-ACE0376D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ADF-53D4-4553-9AA4-1CEBA954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A3C0-38AF-4945-9012-E253D890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59E-6221-47B4-9C24-324231A2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177-BD3E-4D0C-905D-3F0A64D0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519-8500-4580-B1E0-E34ACC4C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899-1241-449D-8DFC-E730EA17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30A-9474-49A4-8083-BFE4AAD2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6C76-9017-4408-B9D0-5BAAA87432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6351-EB76-48C3-AA0D-D17D9BBE7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snap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nиapмм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0"/>
            <a:ext cx="8352000" cy="6878520"/>
          </a:xfrm>
          <a:prstGeom prst="rect">
            <a:avLst/>
          </a:prstGeom>
          <a:ln w="0">
            <a:noFill/>
          </a:ln>
        </p:spPr>
      </p:pic>
      <p:sp>
        <p:nvSpPr>
          <p:cNvPr id="91" name="WordArt 8"/>
          <p:cNvSpPr txBox="1"/>
          <p:nvPr/>
        </p:nvSpPr>
        <p:spPr>
          <a:xfrm>
            <a:off x="1258920" y="1413000"/>
            <a:ext cx="6626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man Old Style"/>
              </a:rPr>
              <a:t>УРОК-МАСТЕРСК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Bookman Old Style"/>
              </a:rPr>
              <a:t>ПО ПОВЕСТИ А.С. ПУШКИ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Bookman Old Style"/>
              </a:rPr>
              <a:t>«ДУБРОВСКИЙ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92" name="TextBox 5" descr=""/>
          <p:cNvPicPr/>
          <p:nvPr/>
        </p:nvPicPr>
        <p:blipFill>
          <a:blip r:embed="rId10"/>
          <a:stretch/>
        </p:blipFill>
        <p:spPr>
          <a:xfrm>
            <a:off x="987480" y="5376960"/>
            <a:ext cx="696096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snapbb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1857240" y="0"/>
            <a:ext cx="535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  <a:ea typeface="Lucida Sans Unicode"/>
              </a:rPr>
              <a:t>В имении Дубровског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3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500200" y="857160"/>
            <a:ext cx="407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snapbb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1857240" y="0"/>
            <a:ext cx="535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  <a:ea typeface="Lucida Sans Unicode"/>
              </a:rPr>
              <a:t>В имении Дубровског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Марина\Desktop\Desktop\мастер Бирюк\78.jpg"/>
          <p:cNvPicPr/>
          <p:nvPr/>
        </p:nvPicPr>
        <p:blipFill>
          <a:blip r:embed="rId2">
            <a:lum contrast="30000"/>
          </a:blip>
          <a:srcRect l="0" t="2628" r="0" b="10683"/>
          <a:stretch/>
        </p:blipFill>
        <p:spPr>
          <a:xfrm>
            <a:off x="2143080" y="642960"/>
            <a:ext cx="46436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snapbb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1857240" y="0"/>
            <a:ext cx="535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4572000" y="50004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642960" y="221472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представляет соб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он о себе дум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4143240" y="928800"/>
            <a:ext cx="4429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«Человек подобен дроби: числитель есть то, что он есть, а знаменатель то, что он о себе думает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Л.Н. Толс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2" descr="logo"/>
          <p:cNvPicPr/>
          <p:nvPr/>
        </p:nvPicPr>
        <p:blipFill>
          <a:blip r:embed="rId2"/>
          <a:stretch/>
        </p:blipFill>
        <p:spPr>
          <a:xfrm>
            <a:off x="5072040" y="5310360"/>
            <a:ext cx="36212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snapbb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1857240" y="0"/>
            <a:ext cx="535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3571920" y="0"/>
            <a:ext cx="507204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убр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9194d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19194d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4d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езависимый, горяч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мелый, неосмотрительный,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прямой, нетерпели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ешительный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________________________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гордый, честный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4572000" y="2428920"/>
            <a:ext cx="40006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роеку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амодур-помещик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_____________________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езависимый, гостеприим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огатый, сильный, влиятель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трогий, здоровый, избалован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хороший оте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714240" y="2214720"/>
            <a:ext cx="292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н о себе дум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редставляет соб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Monotype Corsiva"/>
              </a:rPr>
              <a:t>Желтая шляп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2857680" y="1857240"/>
            <a:ext cx="471456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Плюсы, преимущества, только положительные сторо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5" descr=""/>
          <p:cNvPicPr/>
          <p:nvPr/>
        </p:nvPicPr>
        <p:blipFill>
          <a:blip r:embed="rId2"/>
          <a:stretch/>
        </p:blipFill>
        <p:spPr>
          <a:xfrm>
            <a:off x="920880" y="2419200"/>
            <a:ext cx="1944720" cy="1798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6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500040"/>
            <a:ext cx="7961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Белая шляп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080" y="356760"/>
            <a:ext cx="414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Только  факты цифры, события, информ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7" descr=""/>
          <p:cNvPicPr/>
          <p:nvPr/>
        </p:nvPicPr>
        <p:blipFill>
          <a:blip r:embed="rId2"/>
          <a:stretch/>
        </p:blipFill>
        <p:spPr>
          <a:xfrm>
            <a:off x="1143000" y="2428920"/>
            <a:ext cx="178596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6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Черная шляп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3571920" y="2000160"/>
            <a:ext cx="4714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Monotype Corsiva"/>
              </a:rPr>
              <a:t>Минусы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Monotype Corsiva"/>
              </a:rPr>
              <a:t>только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Monotype Corsiva"/>
              </a:rPr>
              <a:t>отрицательные сторо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"/>
          <p:cNvPicPr/>
          <p:nvPr/>
        </p:nvPicPr>
        <p:blipFill>
          <a:blip r:embed="rId2"/>
          <a:stretch/>
        </p:blipFill>
        <p:spPr>
          <a:xfrm>
            <a:off x="1000080" y="257184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6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6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Красная шляп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3500280" y="1928880"/>
            <a:ext cx="4143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Monotype Corsiva"/>
              </a:rPr>
              <a:t>Чувства и интуитивные догад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1071720" y="24289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6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br>
              <a:rPr sz="6600"/>
            </a:br>
            <a:r>
              <a:rPr b="1" lang="ru-RU" sz="6600" spc="-1" strike="noStrike">
                <a:solidFill>
                  <a:srgbClr val="068415"/>
                </a:solidFill>
                <a:latin typeface="Monotype Corsiva"/>
              </a:rPr>
              <a:t>Зеленая шляп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3500280" y="928800"/>
            <a:ext cx="50724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194d"/>
                </a:solidFill>
                <a:latin typeface="Monotype Corsiva"/>
              </a:rPr>
              <a:t>Творче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194d"/>
                </a:solidFill>
                <a:latin typeface="Monotype Corsiva"/>
              </a:rPr>
              <a:t>Различные иде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194d"/>
                </a:solidFill>
                <a:latin typeface="Monotype Corsiva"/>
              </a:rPr>
              <a:t>Новые иде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194d"/>
                </a:solidFill>
                <a:latin typeface="Monotype Corsiva"/>
              </a:rPr>
              <a:t>Предлож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5" descr=""/>
          <p:cNvPicPr/>
          <p:nvPr/>
        </p:nvPicPr>
        <p:blipFill>
          <a:blip r:embed="rId2"/>
          <a:stretch/>
        </p:blipFill>
        <p:spPr>
          <a:xfrm>
            <a:off x="1000080" y="2500200"/>
            <a:ext cx="192888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6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Monotype Corsiva"/>
              </a:rPr>
              <a:t>Синяя шляп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143160" y="1857240"/>
            <a:ext cx="5429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4d"/>
                </a:solidFill>
                <a:latin typeface="Monotype Corsiva"/>
              </a:rPr>
              <a:t>Обоб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4d"/>
                </a:solidFill>
                <a:latin typeface="Monotype Corsiva"/>
              </a:rPr>
              <a:t>достигнуто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4d"/>
                </a:solidFill>
                <a:latin typeface="Monotype Corsiva"/>
              </a:rPr>
              <a:t>Чего мы достигли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4d"/>
                </a:solidFill>
                <a:latin typeface="Monotype Corsiva"/>
              </a:rPr>
              <a:t>Что  нужно   сдел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4d"/>
                </a:solidFill>
                <a:latin typeface="Monotype Corsiva"/>
              </a:rPr>
              <a:t>дальш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5" descr=""/>
          <p:cNvPicPr/>
          <p:nvPr/>
        </p:nvPicPr>
        <p:blipFill>
          <a:blip r:embed="rId2"/>
          <a:stretch/>
        </p:blipFill>
        <p:spPr>
          <a:xfrm>
            <a:off x="714240" y="2500200"/>
            <a:ext cx="1857600" cy="15717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2160" y="360"/>
            <a:ext cx="24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snapbb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Марина\Desktop\Desktop\мастер Бирюк\56.jpg"/>
          <p:cNvPicPr/>
          <p:nvPr/>
        </p:nvPicPr>
        <p:blipFill>
          <a:blip r:embed="rId2"/>
          <a:srcRect l="0" t="2528" r="0" b="11391"/>
          <a:stretch/>
        </p:blipFill>
        <p:spPr>
          <a:xfrm>
            <a:off x="2143080" y="785880"/>
            <a:ext cx="4786200" cy="5786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2"/>
          <p:cNvSpPr/>
          <p:nvPr/>
        </p:nvSpPr>
        <p:spPr>
          <a:xfrm>
            <a:off x="2000160" y="21420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а псарне Троеку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snapbb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2"/>
          <p:cNvPicPr/>
          <p:nvPr/>
        </p:nvPicPr>
        <p:blipFill>
          <a:blip r:embed="rId2">
            <a:lum contrast="20000"/>
          </a:blip>
          <a:srcRect l="0" t="8718" r="5447" b="3698"/>
          <a:stretch/>
        </p:blipFill>
        <p:spPr>
          <a:xfrm>
            <a:off x="2357280" y="857160"/>
            <a:ext cx="4572000" cy="55720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3071880" y="0"/>
            <a:ext cx="31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В су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7:37:23Z</dcterms:created>
  <dc:creator>Наталья</dc:creator>
  <dc:description/>
  <dc:language>en-US</dc:language>
  <cp:lastModifiedBy>Хакуашева</cp:lastModifiedBy>
  <dcterms:modified xsi:type="dcterms:W3CDTF">2011-05-15T19:33:21Z</dcterms:modified>
  <cp:revision>15</cp:revision>
  <dc:subject/>
  <dc:title>Слайд 1</dc:title>
</cp:coreProperties>
</file>