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67A-A10E-42C8-A3B8-4ECF254C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A72-B441-43AD-8A0F-AB26B9CA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726-308D-4BF1-9595-A7FAF1E0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A31-A283-4746-AB0E-C386844A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2ADB-3192-48FD-8063-AA01366A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EBED-D5B2-403B-AC03-EA618820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63B1-7B6C-4E05-92A3-3B8EC8CB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4A2C-6930-4E16-B9C9-40C21ACB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3007-5679-4E48-AFD8-FD3BBFC5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7540-5995-4763-913A-55A501B2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EA83-FA99-48E2-AF8C-42CE521F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D5B-EC52-4329-B7A2-7D68BCFF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0BC9-0CF7-4174-9D60-E5EED5C6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30C4-8215-4432-9453-DA43EE18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D2D5-D8EF-4411-947C-C94F4BDB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2ADE-8A43-402D-BF76-7DBCF6F2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B967-9E8F-466E-8837-A0686E62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35355-3B50-4E57-95D8-6C1CC112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FCEB-0E2A-464A-BD1A-EFC0F575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2DDBD-F05F-41E0-A1CA-846A339A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34B06-A233-4EA1-B98C-F0587597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00C60-3AE8-4155-81E3-7BAEB05E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EE3-13EA-4524-AC84-9D7D5C0A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86A99-9262-4A5A-ABAB-3627A9C1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F21C3-0FFD-4A26-863A-EA11E815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DB7C4-5E49-4CE6-913A-2DBA6C73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0C766-5E4A-4264-88C5-E07B609D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BE3A-C180-419E-995D-4C3A2923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6B8BF-AF37-435E-B0F9-C70F92C2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898E6-18EF-4E34-AA57-904ACCB6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FBB57-C26E-4E43-AFF8-D7834C59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48343-4641-412F-9956-6BDF3F89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C8D23-9298-4415-B95C-4588891E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D81-72E3-429D-AAA0-D0B25ADE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E369B-D298-4777-A021-CCD4B8B7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5AC54-76BD-4366-90DF-55ECE8C7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B5D8E-0372-4787-8693-AD009F43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E7D53-E636-4E3D-A7C8-18404C17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97444-397C-41C3-B745-60EC8611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4D860-4503-43FE-B5AD-2803F7F5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0C004-4A58-403F-B5E5-F408D096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53814-3E8D-4A52-BD80-90D28A40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33B66-3795-47C9-ACDB-9424FAF1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05A6C-3A2A-4FB3-86D4-CB7C7AF9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10D-CF14-4178-8A70-E3F9C1E1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74F63-8151-4812-B803-21B8D934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22BC4-17C9-4F22-AE52-E27E6583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11386-49A6-44F7-B636-13DA26E2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BFD5F-606C-44F3-B8C2-A9091541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840A5-4A9C-4671-9923-A8C2D5DF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9FD66-903B-4EF8-BD8D-C221C72B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C0337-D019-4CA2-B829-58298E81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B618D-67F5-42D7-8865-1C62CE71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D7395-D659-4C0B-8757-E87CC406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8A99A-119C-4E25-8553-BF47D634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896-153B-4AE5-930C-7C5D99CA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16EA4-E466-435A-A99E-889DCE62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1E2-5576-4792-B8C0-F1338BA1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558D-C3A8-4D4B-A810-62847A1F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728-0AB3-4BFB-B8EC-6C6755F6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42BC-2DFA-47F8-AF85-FCD985DCD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0983-99C9-4CB3-81F1-070FD9286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D9C5-0A21-4102-A359-07491B925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A96E-B18C-451A-8383-812D9FD91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4E51-083A-487F-8BD5-0866A8CB9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Тест по творчеству И.С.Тургенева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124000" y="3141720"/>
            <a:ext cx="4638600" cy="3057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58920" y="639720"/>
            <a:ext cx="821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Автор: Гизатулина О.И.- 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Гулистанского колледжа компьютерных и информационных технологий.г.Гулистан,Узбекист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Кому из героев романа принадлежат слова: «Мы приблизительно знаем, отчего происходят телесные недуги, а нравственные болезни происходят от дурного воспитания… от безобразного состояния общества, одним словом, - исправьте общество, - и болезней не будет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Аркадий Кирс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Н.П.Кирс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Е.В.Баз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П.П.Кирс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ипизация – э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Изображение общего через единичное, т.е. соединение характерного и индивидуального в едином художественном образ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Часто повторяющийся характер или ситуация, имеющая большое распростра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Литературный опыт созд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удожественного мира, накопленный многими поколениями ав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итическую статью «Базаров» напис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И.С.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В.Г.Бе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А.И.Герц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Д.И.Писар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Кто из героев романа «Отцы и дети» может быть назван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«маленьким человеком»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Василий Иванович Баз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Николай Петрович Кирс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Аркадий Николаевич Кирс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Другой персонаж ро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На какие круги русского общества возлагает надежды Евгений Базаров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Крестья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Дворянскую аристократ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Русское патриархальное дворя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Интеллиген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ем Евгений Базаров был особенно далёк автору роман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Непониманием роли народа в освободительном дви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Нигилистическим отношением к культурному наследию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Преувеличением роли интеллигенции в освободительном дви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Отрывом от какой-либо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айдите соответствие героев романа социальному положению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«Эмансип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Русский аристок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 Полковой лек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. Студент-бар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. Студент-демок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) Е. Базаров  б) Кукшина  в) В.И.Баз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) А.Н.Кирсанов  д) П.П.Кирс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Людей, близких Евгению Базарову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о духу называю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Шестидеся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Пятидеся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Декабр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Восьмидеся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ой момент в биографии Евгения Базарова стал переломным в осознании своей личност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Любовь к Одинц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Разрыв с Аркад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Спор с П.П.Кирсан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Посещение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Определите, кому из героев романа «Отцы и дети» принадлежат приведённые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«слова и словечки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«Тамошние учёные», «иные скажут дело, я соглашусь», латинские слова, «вы, чай, слыхали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«…Без чувства собственного достоинства», «нет никакого прочного основания общественному», «принсипы», французские слова, «я эфтим хочу доказа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) Павел Петрович   б) Евгений Баз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.С.Тургенев напис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«Записки врач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«Записки на манжет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«Записки охотн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«Записки из «Мёртвого дом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вая роман, И.С.Тургенев широко использует приём антитезы. Что обозначает этот термин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Противостояние персонажей литературного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Учение, ставящее в центр мироздания человека, считающее человека «венцом природ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Художественное противопоставление характеров, обстоятельств, понятий, явлений композиционных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ест взят из книги «Литература. Тесы. 9-11 классы» М. «Дрофа» 199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1 А.Кирсанов, 2 – П.Кирсанов, 3 – Н.Кирсанов, 4 – База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5) – 1 – Кукшина, 2 – П.Кирсанов, 3 – В.И.Базаров, 4 – А.Кирсанов, 5 – Е.База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1 – Базаров, 2 – П.Кирс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 Black"/>
              </a:rPr>
              <a:t>Об авто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7bef1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 Black"/>
              </a:rPr>
              <a:t>Гизатулина Ольга Ивановна-преподаватель</a:t>
            </a:r>
            <a:r>
              <a:rPr b="1" i="1" lang="ru-RU" sz="32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Arial Black"/>
              </a:rPr>
              <a:t>русского языка и литературы</a:t>
            </a:r>
            <a:r>
              <a:rPr b="1" i="1" lang="ru-RU" sz="3200" spc="-1" strike="noStrike">
                <a:solidFill>
                  <a:srgbClr val="0066ff"/>
                </a:solidFill>
                <a:latin typeface="Arial Black"/>
              </a:rPr>
              <a:t> Гулистанского колледжа компьютерных и информационных технологий, Узбеки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3671640" cy="2847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352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«Точно и сильно воспроизвести истину, реальность жизни есть высочайшее счастье для литератора, даже если эта истина не совпадает с его собственными симпатиями».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му симпатизирует И.С.Тургенев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Революционерам-демокра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Разночин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Либерал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Монархис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у адресовано посвящение романа «Отцы и дети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А.И.Герц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В.Г.Белинск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Н.А.Некрас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Другому ли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пилог – э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Относительно самостоятельная часть литературного произведения, в котором происходит какое-либо событие, одна из единиц художественного членения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Дополнительный элемент композиции, часть литературного произведения, отделённая от основного повествования и следующая после его завершения для сообщения читателю дополнительных све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Относительно короткий текст, помещённый автором перед произведением и призванный кратко выразить основное содержание или идейный смысл следующего за ним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ой конфликт рома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«Отцы и дети» являе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сора между П.П.Кирсановым и Е.В.Базаро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онфликт, возникший между Е.В.Базаровым и Н.П.Кирсано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Борьба буржуазно-дворянского либерализма и революционных демокр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Борьба между либеральными монархистами и нар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Споры героев романа «Отцы и дети» велись вокруг разных вопросов, волновавших общественную мысль России. Найдите лишнее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Об отношении к дворянскому и культурному наслед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Об искусстве, нау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О системе поведения человека, о нравственных принцип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О положении рабочего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. Об общественном долге, о воспит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Давая общую оценку политического содержания «Отцов и детей», И.С.Тургенев писал: «Вся моя повесть направлена против…»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(выберите правильное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Пролетариата как передового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Дворянства как передового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Крестьянства как передового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Революционных демократов как передового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му из героев  романа соответствуют характеристики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Представитель молодого дворянского поколения, быстро превращающийся в обыкновенного помещика, духовная ограниченность и слабоволие, поверхность демократических увлечений, склонность к краснобайству, барские замашки и л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Противник всего подлинно демократического, любующийся собой аристократ, жизнь которого свелась к любви и к сожалению об уходящем прошлом, эс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Бесполезность и неприспособленность к жизни, к новым её условиям, тип «уходящего барст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. Натура независимая, не склоняющаяся ни перед какими авторитетами, нигили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Е.Базаров  б) Аркадий  в) Павел Петрович  г) Николай Пет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01T17:50:09Z</dcterms:modified>
  <cp:revision>21</cp:revision>
  <dc:subject/>
  <dc:title>PowerPoint Presentation</dc:title>
</cp:coreProperties>
</file>