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AFCD-1802-4CAC-98DD-7CC590B9C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44CA-FFFE-4711-9FE5-9679E7F39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3DC2-5967-4D6C-8935-2237F7F18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C37A-0AAC-450A-AEE7-814C0564C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F63A08-A29B-49C5-811E-4F71EA260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55D6EE-1436-4326-9330-D16328615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80089A-7B06-4C14-9C00-D86322379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8933B0-C6B8-4831-A6EB-961F74E88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C61DC9-FCC8-4FF4-919E-DD3EEBD7A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E29316-63F7-4715-86D3-7B5EF6FD2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CD7AD2-640D-41D0-AEB2-681AD88A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0346-6E88-432C-A0BB-47112FDEA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D1864B-5640-4A4F-A2E9-BEA2A4A4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A26AD4-CF4E-4FB9-A4A0-FD8D204C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42E278-5976-424D-A71F-8C16E9EC2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22C9D0-D93B-42A3-88F1-36BD2D729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135CEB-DD4E-44CA-89E3-67EC26935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88A7-C2E6-47EA-9C13-4E9A4DB42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18E7-4CAD-431D-9495-73564237F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F983-4F48-46E2-9887-129F1F7A8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D976-0B84-4039-9841-E1FE87A04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C991-2D91-4E06-93CE-3E9B27B2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ECA5-2F79-4D16-9607-450D4DAB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75AD-93BE-4655-9619-53672B66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6A059-0FE0-4AA1-BC90-C8052F6756D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43511-3564-4E40-B77B-326CCE3300F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195640" y="2492280"/>
            <a:ext cx="474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ff66"/>
                </a:solidFill>
                <a:latin typeface="Tahoma"/>
              </a:rPr>
              <a:t>Добрый день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023840" y="2205000"/>
            <a:ext cx="7220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ff66"/>
                </a:solidFill>
                <a:latin typeface="Times New Roman"/>
              </a:rPr>
              <a:t>«Пришел товарищ Иван Ваныч?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ff66"/>
                </a:solidFill>
                <a:latin typeface="Times New Roman"/>
              </a:rPr>
              <a:t>«На заседан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ff66"/>
                </a:solidFill>
                <a:latin typeface="Times New Roman"/>
              </a:rPr>
              <a:t>А-бэ-вэ-гэ-дэ-е-жэ-зэ-кома.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387360"/>
            <a:ext cx="87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. В. Маяковский. «Прозедавшиеся»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730800" y="316080"/>
            <a:ext cx="351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66"/>
                </a:solidFill>
                <a:latin typeface="Tahoma"/>
              </a:rPr>
              <a:t>Это интересно!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3760" y="1539720"/>
            <a:ext cx="773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пределим способ образования сл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66ff66"/>
                </a:solidFill>
                <a:latin typeface="Tahoma"/>
              </a:rPr>
              <a:t>«дояр», «зонт»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34040" y="4275000"/>
            <a:ext cx="615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Обратное словообразов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116000" y="2060640"/>
            <a:ext cx="6356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ff66"/>
                </a:solidFill>
                <a:latin typeface="Tahoma"/>
              </a:rPr>
              <a:t>Домашнее задание</a:t>
            </a:r>
            <a:r>
              <a:rPr b="1" i="1" lang="en-US" sz="3200" spc="-1" strike="noStrike">
                <a:solidFill>
                  <a:srgbClr val="66ff66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стр. 148 – повторить теорию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упр. 323 часть 1,2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931400" y="2492280"/>
            <a:ext cx="522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ff66"/>
                </a:solidFill>
                <a:latin typeface="Tahoma"/>
              </a:rPr>
              <a:t>Спасибо за урок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3049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66"/>
                </a:solidFill>
                <a:latin typeface="Times New Roman"/>
              </a:rPr>
              <a:t>Повторение изученного по морфемике и словообразованию.      9 клас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2057400"/>
            <a:ext cx="853452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повторить понятия и термины раздела «Морфемика и словообразование», способы образования слов, порядок морфемного и словообразовательного разборов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;</a:t>
            </a: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углубить полученные знания по морфемике и словообразованию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познакомить с новыми понятиями («аффикс», «префикс», «интерфикс»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развивать умение различать морфемы в составе слова и определять их значение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38280" y="160020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c00"/>
                </a:solidFill>
                <a:uFillTx/>
                <a:latin typeface="Times New Roman"/>
              </a:rPr>
              <a:t>ЦЕЛ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36480" y="392400"/>
            <a:ext cx="787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.  </a:t>
            </a:r>
            <a:r>
              <a:rPr b="1" lang="en-US" sz="1800" spc="-1" strike="noStrike">
                <a:solidFill>
                  <a:srgbClr val="ffff66"/>
                </a:solidFill>
                <a:latin typeface="Tahoma"/>
              </a:rPr>
              <a:t>Распределите приведенные ниже слова по графам таблицы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539640" y="1125360"/>
          <a:ext cx="8208720" cy="1223640"/>
        </p:xfrm>
        <a:graphic>
          <a:graphicData uri="http://schemas.openxmlformats.org/drawingml/2006/table">
            <a:tbl>
              <a:tblPr/>
              <a:tblGrid>
                <a:gridCol w="4104360"/>
                <a:gridCol w="2007360"/>
                <a:gridCol w="2097000"/>
              </a:tblGrid>
              <a:tr h="406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Неизменяемые сло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Изменяемые сло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осно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оконч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сно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голов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-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250920" y="2651040"/>
            <a:ext cx="8642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Два, скромнее, быстро, земля, знойно, играючи, играя, красив, конечно, лет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мать, навсегда, можно, нарочно, нельзя, шесть, семеро, краснеющий, около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купаный, красный, погаси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0280" y="3660840"/>
            <a:ext cx="8876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ahoma"/>
              </a:rPr>
              <a:t>2. Распределите слова на две группы по функции выделенных морфем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ahoma"/>
              </a:rPr>
              <a:t>а) слова со словоизменительными морфемам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ahoma"/>
              </a:rPr>
              <a:t>б) слова со словообразовательными морфем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Читай-</a:t>
            </a:r>
            <a:r>
              <a:rPr b="1" i="1" lang="en-US" sz="1800" spc="-1" strike="noStrike">
                <a:solidFill>
                  <a:srgbClr val="ffff66"/>
                </a:solidFill>
                <a:latin typeface="Tahoma"/>
              </a:rPr>
              <a:t>те</a:t>
            </a: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, </a:t>
            </a:r>
            <a:r>
              <a:rPr b="1" i="1" lang="en-US" sz="1800" spc="-1" strike="noStrike">
                <a:solidFill>
                  <a:srgbClr val="ffff66"/>
                </a:solidFill>
                <a:latin typeface="Tahoma"/>
              </a:rPr>
              <a:t>рас</a:t>
            </a: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-судить, бел-</a:t>
            </a:r>
            <a:r>
              <a:rPr b="1" i="1" lang="en-US" sz="1800" spc="-1" strike="noStrike">
                <a:solidFill>
                  <a:srgbClr val="ffff66"/>
                </a:solidFill>
                <a:latin typeface="Tahoma"/>
              </a:rPr>
              <a:t>е</a:t>
            </a: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-ть, величествен-</a:t>
            </a:r>
            <a:r>
              <a:rPr b="1" i="1" lang="en-US" sz="1800" spc="-1" strike="noStrike">
                <a:solidFill>
                  <a:srgbClr val="ffff66"/>
                </a:solidFill>
                <a:latin typeface="Tahoma"/>
              </a:rPr>
              <a:t>ее</a:t>
            </a: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66"/>
                </a:solidFill>
                <a:latin typeface="Tahoma"/>
              </a:rPr>
              <a:t>наи</a:t>
            </a: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-лучший, велич-</a:t>
            </a:r>
            <a:r>
              <a:rPr b="1" i="1" lang="en-US" sz="1800" spc="-1" strike="noStrike">
                <a:solidFill>
                  <a:srgbClr val="ffff66"/>
                </a:solidFill>
                <a:latin typeface="Tahoma"/>
              </a:rPr>
              <a:t>ав</a:t>
            </a: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-ый, крепч-</a:t>
            </a:r>
            <a:r>
              <a:rPr b="1" i="1" lang="en-US" sz="1800" spc="-1" strike="noStrike">
                <a:solidFill>
                  <a:srgbClr val="ffff66"/>
                </a:solidFill>
                <a:latin typeface="Tahoma"/>
              </a:rPr>
              <a:t>е</a:t>
            </a: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, шуме-</a:t>
            </a:r>
            <a:r>
              <a:rPr b="1" i="1" lang="en-US" sz="1800" spc="-1" strike="noStrike">
                <a:solidFill>
                  <a:srgbClr val="ffff66"/>
                </a:solidFill>
                <a:latin typeface="Tahoma"/>
              </a:rPr>
              <a:t>л</a:t>
            </a: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-а, велич-</a:t>
            </a:r>
            <a:r>
              <a:rPr b="1" i="1" lang="en-US" sz="1800" spc="-1" strike="noStrike">
                <a:solidFill>
                  <a:srgbClr val="ffff66"/>
                </a:solidFill>
                <a:latin typeface="Tahoma"/>
              </a:rPr>
              <a:t>айш</a:t>
            </a: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-ий, волч-</a:t>
            </a:r>
            <a:r>
              <a:rPr b="1" i="1" lang="en-US" sz="1800" spc="-1" strike="noStrike">
                <a:solidFill>
                  <a:srgbClr val="ffff66"/>
                </a:solidFill>
                <a:latin typeface="Tahoma"/>
              </a:rPr>
              <a:t>ий</a:t>
            </a: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76200" y="436680"/>
            <a:ext cx="485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Tahoma"/>
              </a:rPr>
              <a:t>Давайте поразмышляем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4360" y="2637000"/>
            <a:ext cx="6954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Глокая куздра штеко будланул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бокра и кудрячит бокренка.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ff33"/>
                </a:solidFill>
                <a:latin typeface="Tahoma"/>
              </a:rPr>
              <a:t>Определите значение приставок в данных глаголах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ff33"/>
                </a:solidFill>
                <a:latin typeface="Tahoma"/>
              </a:rPr>
              <a:t>- неполнота</a:t>
            </a:r>
            <a:r>
              <a:rPr b="1" lang="en-US" sz="2400" spc="-1" strike="noStrike">
                <a:solidFill>
                  <a:srgbClr val="ccff33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ff33"/>
                </a:solidFill>
                <a:latin typeface="Tahoma"/>
              </a:rPr>
              <a:t>- начало</a:t>
            </a:r>
            <a:r>
              <a:rPr b="1" lang="en-US" sz="2400" spc="-1" strike="noStrike">
                <a:solidFill>
                  <a:srgbClr val="ccff33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ff33"/>
                </a:solidFill>
                <a:latin typeface="Tahoma"/>
              </a:rPr>
              <a:t>- повторение</a:t>
            </a:r>
            <a:r>
              <a:rPr b="1" lang="en-US" sz="2400" spc="-1" strike="noStrike">
                <a:solidFill>
                  <a:srgbClr val="ccff33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ff33"/>
                </a:solidFill>
                <a:latin typeface="Tahoma"/>
              </a:rPr>
              <a:t>заверше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33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ccff33"/>
                </a:solidFill>
                <a:latin typeface="Tahoma"/>
              </a:rPr>
              <a:t>Надломить, наловить, запеть, вскипеть, переписать, недолить, отцвести, приоткрыть, дочитать, побежать, привстать, закрыть, засмеяться, переделат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611280" y="457200"/>
          <a:ext cx="8064360" cy="5991120"/>
        </p:xfrm>
        <a:graphic>
          <a:graphicData uri="http://schemas.openxmlformats.org/drawingml/2006/table">
            <a:tbl>
              <a:tblPr/>
              <a:tblGrid>
                <a:gridCol w="4032000"/>
                <a:gridCol w="4032360"/>
              </a:tblGrid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Способы образования сл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33"/>
                          </a:solidFill>
                          <a:latin typeface="Tahoma"/>
                        </a:rPr>
                        <a:t>МОРФОЛОГИЧЕСК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33"/>
                          </a:solidFill>
                          <a:latin typeface="Tahoma"/>
                        </a:rPr>
                        <a:t>НЕМОРФОЛОГИЧЕСК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97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УФФИКСАЛЬНЫЙ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Лекция – лекционны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ИСТАВОЧНЫЙ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Спокойно – неспокойн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ИСТАВОЧНО-СУФФИКСАЛЬНЫЙ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Стол –настольны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ЕССУФфИКСНЫЙ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:</a:t>
                      </a:r>
                      <a:r>
                        <a:rPr b="0" lang="ru-RU" sz="16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Высокий – выс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ЛОЖЕНИЕ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Сложение слов</a:t>
                      </a:r>
                      <a:r>
                        <a:rPr b="0" lang="ru-RU" sz="16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: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Диван-крова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Сложение основ с помощью соединительных  гласных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:</a:t>
                      </a:r>
                      <a:r>
                        <a:rPr b="0" lang="ru-RU" sz="16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Лесостепь, зверол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Сложение начальной части слова с целым словом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:</a:t>
                      </a:r>
                      <a:r>
                        <a:rPr b="0" lang="ru-RU" sz="16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 </a:t>
                      </a:r>
                      <a:r>
                        <a:rPr b="0" i="1" lang="ru-RU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стенгазе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Сложение букв</a:t>
                      </a:r>
                      <a:r>
                        <a:rPr b="0" lang="ru-RU" sz="16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: </a:t>
                      </a:r>
                      <a:r>
                        <a:rPr b="0" lang="ru-RU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МГ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Сложение звуков</a:t>
                      </a:r>
                      <a:r>
                        <a:rPr b="0" lang="ru-RU" sz="16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: </a:t>
                      </a:r>
                      <a:r>
                        <a:rPr b="0" i="1" lang="ru-RU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ТЮЗ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ереход слова из одной части речи в  другую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Мороженое мясо – вкусное морожено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лияние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Быстро растворимый – быстрорастворимый коф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u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277920"/>
            <a:ext cx="8991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орядок морфемного анализ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пределите часть реч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 изменяемого слова найдите окончани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кажите основу сло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ыделите приставки (если они есть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ыделите суффиксы (если они есть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ыделите корень, подберите однокоренные сло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Запишите графическую схему сло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8320" y="1904760"/>
            <a:ext cx="4038480" cy="22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ЗАДАЧНИК – имя существительно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меет нулевое окончание (м.р., 2 скл.; в форме Р.П задачник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Tahoma"/>
              </a:rPr>
              <a:t>а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снова – ЗАДАЧНИ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иставка –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Tahoma"/>
              </a:rPr>
              <a:t>ЗА-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уффиксы – Ч-,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Tahoma"/>
              </a:rPr>
              <a:t>-НИК-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орень -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Tahoma"/>
              </a:rPr>
              <a:t>-ДА-,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днокоренные слова ДАТЬ, ОТДАТЬ, ЗАДАНИ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24280" y="4147920"/>
            <a:ext cx="2581560" cy="806760"/>
            <a:chOff x="4724280" y="4147920"/>
            <a:chExt cx="2581560" cy="806760"/>
          </a:xfrm>
        </p:grpSpPr>
        <p:sp>
          <p:nvSpPr>
            <p:cNvPr id="98" name=""/>
            <p:cNvSpPr txBox="1"/>
            <p:nvPr/>
          </p:nvSpPr>
          <p:spPr>
            <a:xfrm>
              <a:off x="4876920" y="4419720"/>
              <a:ext cx="194292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задачник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924600" y="4419720"/>
              <a:ext cx="381240" cy="380880"/>
            </a:xfrm>
            <a:prstGeom prst="rect">
              <a:avLst/>
            </a:prstGeom>
            <a:noFill/>
            <a:ln w="38160">
              <a:solidFill>
                <a:srgbClr val="090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800600" y="4267080"/>
              <a:ext cx="533520" cy="1800"/>
            </a:xfrm>
            <a:prstGeom prst="line">
              <a:avLst/>
            </a:prstGeom>
            <a:ln w="38160">
              <a:solidFill>
                <a:srgbClr val="090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334120" y="4267080"/>
              <a:ext cx="0" cy="228600"/>
            </a:xfrm>
            <a:prstGeom prst="line">
              <a:avLst/>
            </a:prstGeom>
            <a:ln w="38160">
              <a:solidFill>
                <a:srgbClr val="090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4191120"/>
              <a:ext cx="381240" cy="380880"/>
            </a:xfrm>
            <a:prstGeom prst="blockArc">
              <a:avLst>
                <a:gd name="adj1" fmla="val 10800000"/>
                <a:gd name="adj2" fmla="val 0"/>
                <a:gd name="adj3" fmla="val 3009"/>
              </a:avLst>
            </a:prstGeom>
            <a:solidFill>
              <a:srgbClr val="33cccc"/>
            </a:solidFill>
            <a:ln w="38160">
              <a:solidFill>
                <a:srgbClr val="090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6172200" y="4147920"/>
              <a:ext cx="304920" cy="228600"/>
            </a:xfrm>
            <a:prstGeom prst="line">
              <a:avLst/>
            </a:prstGeom>
            <a:ln w="38160">
              <a:solidFill>
                <a:srgbClr val="090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477120" y="4148280"/>
              <a:ext cx="304560" cy="228600"/>
            </a:xfrm>
            <a:prstGeom prst="line">
              <a:avLst/>
            </a:prstGeom>
            <a:ln w="38160">
              <a:solidFill>
                <a:srgbClr val="090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724280" y="4724280"/>
              <a:ext cx="0" cy="228600"/>
            </a:xfrm>
            <a:prstGeom prst="line">
              <a:avLst/>
            </a:prstGeom>
            <a:ln w="38160">
              <a:solidFill>
                <a:srgbClr val="090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724280" y="4952880"/>
              <a:ext cx="2133720" cy="1800"/>
            </a:xfrm>
            <a:prstGeom prst="line">
              <a:avLst/>
            </a:prstGeom>
            <a:ln w="38160">
              <a:solidFill>
                <a:srgbClr val="090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58000" y="4724280"/>
              <a:ext cx="0" cy="228600"/>
            </a:xfrm>
            <a:prstGeom prst="line">
              <a:avLst/>
            </a:prstGeom>
            <a:ln w="38160">
              <a:solidFill>
                <a:srgbClr val="090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5867280" y="4181040"/>
              <a:ext cx="114480" cy="228600"/>
            </a:xfrm>
            <a:prstGeom prst="line">
              <a:avLst/>
            </a:prstGeom>
            <a:ln w="38160">
              <a:solidFill>
                <a:srgbClr val="090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981760" y="4181400"/>
              <a:ext cx="114120" cy="228600"/>
            </a:xfrm>
            <a:prstGeom prst="line">
              <a:avLst/>
            </a:prstGeom>
            <a:ln w="38160">
              <a:solidFill>
                <a:srgbClr val="090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wipe dir="u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50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000"/>
                            </p:stCondLst>
                            <p:childTnLst>
                              <p:par>
                                <p:cTn id="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500"/>
                            </p:stCondLst>
                            <p:childTnLst>
                              <p:par>
                                <p:cTn id="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277920"/>
            <a:ext cx="8991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орядок словообразовательного анализ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Дать толкование лексического значения слов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Сравнить состав данного слова с однокоренным. Найти слово (сочетание слов), от которого оно образован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Выявить морфему, с помощью которой оно образован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Построить словообразовательную цепочку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Определить способ словообразования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038120" y="1599840"/>
            <a:ext cx="4953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ЗАДАЧНИК – существительное имеет значение «сборник задач»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днокоренные слова- ЗАДАЧА, ЗАДАНИЕ,  образовано от слова ЗАДАЧ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лово образовано с помощью суффикса –НИК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АТЬ    ЗАДАТЬ    ЗАДАЧА     ЗАДАЧНИ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пособ словообразования - СУФФИКСАЛЬНЫ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4724280" y="3809880"/>
            <a:ext cx="2285640" cy="0"/>
            <a:chOff x="4724280" y="3809880"/>
            <a:chExt cx="2285640" cy="0"/>
          </a:xfrm>
        </p:grpSpPr>
        <p:sp>
          <p:nvSpPr>
            <p:cNvPr id="114" name=""/>
            <p:cNvSpPr/>
            <p:nvPr/>
          </p:nvSpPr>
          <p:spPr>
            <a:xfrm>
              <a:off x="4724280" y="3809880"/>
              <a:ext cx="175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603040" y="3809880"/>
              <a:ext cx="176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834240" y="3809880"/>
              <a:ext cx="175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wipe dir="u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68360" y="1916280"/>
            <a:ext cx="8064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Аффикс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(от лат. «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fixus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» - «прикрепленный»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рефикс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(от лат. «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ae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» - «впереди» и «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xus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» - «прикрепленный»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Интерфикс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(от лат. «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» - «между» и «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xus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» - «прикрепленный»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8480" y="603360"/>
            <a:ext cx="160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66"/>
                </a:solidFill>
                <a:latin typeface="Tahoma"/>
              </a:rPr>
              <a:t>Ново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7:31:03Z</dcterms:created>
  <dc:creator>МТИ-Банк</dc:creator>
  <dc:description/>
  <dc:language>en-US</dc:language>
  <cp:lastModifiedBy>МТИ-Банк</cp:lastModifiedBy>
  <dcterms:modified xsi:type="dcterms:W3CDTF">2010-04-19T19:20:17Z</dcterms:modified>
  <cp:revision>24</cp:revision>
  <dc:subject/>
  <dc:title>Слайд 1</dc:title>
</cp:coreProperties>
</file>