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13.jpeg" ContentType="image/jpeg"/>
  <Override PartName="/ppt/media/image23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8.jpeg" ContentType="image/jpeg"/>
  <Override PartName="/ppt/media/image8.gif" ContentType="image/gif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0D6-A61F-45DE-B8F0-C8469625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1CC-1D8E-49EF-B332-ADF03AD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596-39EB-4B60-B725-070E68EF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6F6-CACD-41A6-BF4F-DFE7E520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3B42-33C8-499F-BE26-5752B29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115B-A759-4AC6-A089-7996AB7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C7F-BFDF-47E3-9076-E69D420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9A3-198C-492B-8419-321A75A6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8AA-C8C1-459C-B790-F6E23FC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DA8D-1CFC-4030-8057-35726AC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3B3D-6FA4-4E09-8A1B-5559D95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2C8-A547-44E9-8715-F5944A61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392F-1F1C-4DA7-8DC6-C7D7E066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4A62-C1A5-411D-ABC8-EC9D100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BC44-DEBC-4ABE-BCA9-7D7B116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5726-0DD3-453D-A101-C356FDE3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911C-6F4C-4947-A1D9-8B0B7F0A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D915-982F-4731-A922-2D75B5BB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736A-E553-4B9E-BFAF-72699F1E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5EC4-97D9-44E4-BEFD-B9EB85F9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D160-96E6-41C7-B819-F17E87E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ED50-B595-4E1F-8157-7B50DE67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B0E-A131-4AE8-987C-FDE40992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AC70-204D-48F4-B2A6-544317D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F944-C406-4407-B8DC-B37D15B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20C6-B086-4766-B70F-FCC1AE2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E97C-9AD8-4F49-B1A7-5C80B61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EB4F-8267-4EB9-A44A-7ADC83C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231B-B11D-41F9-B4C3-41852127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EDA3-F11D-4CB0-8F27-E2FB772A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FFD8-29B7-49D3-BBCB-98F3F804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B66E-0140-4E6C-9FEE-4C1AED56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C270-74CD-4A36-B08F-2F355511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9EC-9045-41FB-9859-78C7B6A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97B9-6B41-4899-8929-E646E3A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6083-9BE7-42C6-A6C5-01EA7CE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35AC-96CE-45C6-81B7-65604292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5585-5AF8-491C-AB04-24017B6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0F13-3C15-47B6-A34C-C4521A4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AB5E-3E99-4594-A0D0-5523DCF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2CC8-E62D-4E1D-8BD6-4DEC5D35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BA61-DD42-4D1A-A386-F4272DE5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D30C-4F6B-4ABC-BE72-55C62F22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498A-9445-46B6-A082-B8B94CD2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1EA-B29A-42DD-BF95-05815B51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CC2B-6732-497A-A35E-6536AAB5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C136-AACF-45EC-BF42-F72F609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2751-EAC8-45EE-ADEF-CCFBD3DB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F8EB-3256-445E-B732-6AD69B8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2AEB-C173-4732-9A6B-3C857AF1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E1FF-2485-4773-87D1-80CD807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93DC-9C29-4FDA-AF93-0784A93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C066-75A9-4154-BFE0-30D851D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3F43-85EE-4E08-90B9-31F7053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3669-B55C-4D2C-A4A9-3F6F0629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ACF-41B2-4540-B947-75DB4A6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7C2D-E2E4-4828-B6B7-D52BBE92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F230-3640-4719-888C-E0D2D08B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6BD9-6FDE-4BF5-9590-DB6EA38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AEA5-0CD5-4931-87C3-8197C63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49B3-37D5-411C-98DE-DF8B022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CFDA-1FC0-40A6-A395-D4563F6C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9D24-133A-4726-89D1-9D6F81B4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C29E7-036D-406B-969D-EF814E5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CD58-924D-403F-9685-00210DA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221B-C1D6-4C70-B792-F3BE112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4D8-342D-40F7-85AC-BFF9DBD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5A45-6B0A-4EC9-A678-01EC3F9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4C72-AA4B-4AF5-86CF-B0F3D76E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1007-0E80-4D41-86BD-DEC3B3E1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0360-96AE-4B85-82A0-D9CBB2A3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06E2-14BE-4E99-8C96-6A3D788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A3F14-1BC7-477C-B3BA-BD4EBA6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0D72A-F1A0-497F-8CE3-D2B40053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3AF1-D15F-4881-8D57-0F370CE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121D-F0ED-441E-AE8F-515878F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4B1E-DE77-4375-B44F-795CBFD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BBC-063B-4855-A7F8-69C7F79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27A3-A0E9-4F91-82DA-6EE6F7C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881C-4560-4D4D-B298-59B204E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C59F8-E3DB-4B7B-9B1A-3A7FB7E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F5B1B-F0AC-4FE7-88BA-1D0D41E6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BA61-935F-484F-B34C-6F6161E3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DAD3-2950-4B82-8D4D-24E3056A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F8EA-3E65-46EE-9687-11C1D75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E4E0-262A-40D2-B1B1-1E43FEA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BF1E1-B2FB-4F15-9788-86B541D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3367-FAA6-4917-B687-B8A5997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1B2-32E6-4866-94CA-461DF76A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DE72-5E48-4B97-8604-AD560313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0CF31-CBA0-4C52-BDD5-EED393E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7AF18-0727-48EA-B024-78513F7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C118-7B16-4C13-9B6E-A7FAE75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F2FA4-1961-4F31-9ECA-9F78864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325EA-0A79-4FBA-B927-5DDC0A59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F663E-0C0D-4815-8786-6FA3C121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Круговая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996-3028-4E27-9D41-9DCE5CD0054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Круговая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78C-3474-437A-8D03-9953FB681FC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1F8D-74C8-470C-B579-535B1544CE3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F24-4662-4F37-BCC7-A106F29D561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6A8-0A3C-49F3-B34A-84B8AD0B86C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846-BF99-4B70-A59D-53874C936BB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49A-BB37-4C7E-959F-A4B6C75A8FD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Круговая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832-14C3-40E4-9BE9-7DFB11C1936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greekroman.ru/img/gallery/large/prometheus08.htm" TargetMode="External"/><Relationship Id="rId3" Type="http://schemas.openxmlformats.org/officeDocument/2006/relationships/hyperlink" Target="http://www.greekroman.ru/img/gallery/large/zeus11.htm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6413"/>
                </a:solidFill>
                <a:latin typeface="Times New Roman"/>
                <a:ea typeface="Times New Roman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413"/>
                </a:solidFill>
                <a:latin typeface="Times New Roman"/>
                <a:ea typeface="Times New Roman"/>
              </a:rPr>
              <a:t>Н. В. Гог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7" descr="http://im3-tub-ru.yandex.net/i?id=154935455-19-72&amp;n=16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36600"/>
                </a:solidFill>
                <a:latin typeface="Times New Roman"/>
              </a:rPr>
              <a:t>Эпит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51920" y="9907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разное определение предмета или действ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ще всего выражаются прилаг. и наречие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Например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квоз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лнисты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уманы пробирается луна, н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чальн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ляны льёт печально свет о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НО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не являются эпитетами  прилаг., указывающие на отличительные признаки предметов и не дающие их образной характеристик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Например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дубовый листок (дубовый – НЕ эпитет)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енний день (осенний – НЕ эпите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Times New Roman"/>
              </a:rPr>
              <a:t>Сравн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ем, который состоит в сопоставлении двух предметов или явлений на основании общего для них признак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«Анчар, как грозный часовой, 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стоит один во всей вселенной...»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(А. Пушкин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Как выжженная палами степь, черна стала жизнь Григория 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(М. Шолохов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равнение может оформлятьс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– с использованием сравнительных союзов </a:t>
            </a: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как, словно, будто, как будто, точно, что(=как)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– сочетанием глаголов с существительным в творительном падеже  «</a:t>
            </a:r>
            <a:r>
              <a:rPr b="0" i="1" lang="ru-RU" sz="2000" spc="-1" strike="noStrike" u="sng">
                <a:solidFill>
                  <a:srgbClr val="008000"/>
                </a:solidFill>
                <a:uFillTx/>
                <a:latin typeface="Times New Roman"/>
              </a:rPr>
              <a:t>Морозной пылью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 серебрится его бобровый воротник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четанием существительного с прилагательным в сравнительной степени, например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Georgia"/>
              </a:rPr>
              <a:t>«под ним струя светлей лазури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Times New Roman"/>
              </a:rPr>
              <a:t>Гипер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09480" y="16002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ем, представляющий собой образное выражение, содержащее непомерное преувеличение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Я тебе миллион раз говорил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«В сто сорок солнц закат пылал...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	</a:t>
            </a: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	</a:t>
            </a: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	</a:t>
            </a: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	</a:t>
            </a:r>
            <a:r>
              <a:rPr b="0" i="1" lang="ru-RU" sz="2600" spc="-1" strike="noStrike">
                <a:solidFill>
                  <a:srgbClr val="993366"/>
                </a:solidFill>
                <a:latin typeface="Georgia"/>
              </a:rPr>
              <a:t>(В. Маяковский). </a:t>
            </a:r>
            <a:br>
              <a:rPr sz="2600"/>
            </a:b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7760" y="68580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Times New Roman"/>
              </a:rPr>
              <a:t>Лит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9120" y="167652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роп, противоположный гиперболе; художественное преуменьшение тех или иных свойств изображаемого предм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В больших сапогах, в полушубке овчинном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В больших рукавицах… а сам с </a:t>
            </a: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ноготок!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Ваш шпиц, прелестный шпиц,  </a:t>
            </a: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не более напёрстка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Times New Roman"/>
              </a:rPr>
              <a:t>Риторический вопро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08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Это вопрос, который ставится с целью усиления утверждения и на него не  требуется ответа.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«И искусство, выросшее в этой сегодняшней реальности, разве может не быть фантастическим?» </a:t>
            </a: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(</a:t>
            </a: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Е. Замятин)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Куда ты скачешь, гордый конь,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И где отпустишь ты копыта?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6600"/>
                </a:solidFill>
                <a:latin typeface="Georgia"/>
              </a:rPr>
              <a:t>(А. Пушкин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440" y="761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Times New Roman"/>
              </a:rPr>
              <a:t>Риторическое восклиц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437920" y="19051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остроение речи, при котором в форме восклицания в повышенно эмоциональной форме утверждается то или иное понятие.</a:t>
            </a:r>
            <a:br>
              <a:rPr sz="3200"/>
            </a:br>
            <a:br>
              <a:rPr sz="3200"/>
            </a:b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Да, так любить, как любит наша кровь,</a:t>
            </a:r>
            <a:br>
              <a:rPr sz="2400"/>
            </a:b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Никто из вас давно не любит!</a:t>
            </a:r>
            <a:br>
              <a:rPr sz="2400"/>
            </a:b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cc0000"/>
                </a:solidFill>
                <a:latin typeface="Georgia"/>
              </a:rPr>
              <a:t>                   (А. Блок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Times New Roman"/>
              </a:rPr>
              <a:t>Фразеологиз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стойчивые сочетания сл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Не много не мало         Как пить д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Набить оскомину        За тридевять земе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Как кошка с собакой   Вешать лапшу на уш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3048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90"/>
                </a:solidFill>
                <a:latin typeface="Times New Roman"/>
              </a:rPr>
              <a:t>Антите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51920" y="18284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фигура речи, основанная на резком противопоставлении понятий, образ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«Познай, где свет, — поймешь, гдё тьма...»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(А. Блок)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 «Я царь, — я раб, — я червь, — я бог!»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«Полюбил богатый — бедную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Полюбил ученый — глупую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Полюбил румяный — бледн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6666ff"/>
                </a:solidFill>
                <a:latin typeface="Georgia"/>
              </a:rPr>
              <a:t>Полюбил хороший — вредную».</a:t>
            </a:r>
            <a:r>
              <a:rPr b="0" lang="ru-RU" sz="2800" spc="-1" strike="noStrike">
                <a:solidFill>
                  <a:srgbClr val="6666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TextBox 1"/>
          <p:cNvSpPr/>
          <p:nvPr/>
        </p:nvSpPr>
        <p:spPr>
          <a:xfrm>
            <a:off x="-1270080" y="592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Calibri"/>
              </a:rPr>
              <a:t>Экскурсия</a:t>
            </a:r>
            <a:br>
              <a:rPr sz="3900"/>
            </a:br>
            <a:r>
              <a:rPr b="1" lang="en-US" sz="3900" spc="-1" strike="noStrike">
                <a:solidFill>
                  <a:srgbClr val="c00000"/>
                </a:solidFill>
                <a:latin typeface="Calibri"/>
              </a:rPr>
              <a:t>в литературно-художественную галерею Янус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428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32523"/>
                </a:solidFill>
                <a:latin typeface="Calibri"/>
              </a:rPr>
              <a:t>Знакомство с понятием антитез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P1020665.JPG"/>
          <p:cNvPicPr/>
          <p:nvPr/>
        </p:nvPicPr>
        <p:blipFill>
          <a:blip r:embed="rId1"/>
          <a:stretch/>
        </p:blipFill>
        <p:spPr>
          <a:xfrm>
            <a:off x="214200" y="285840"/>
            <a:ext cx="520704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5" name="Рисунок 2" descr="050522_150735.jpg"/>
          <p:cNvPicPr/>
          <p:nvPr/>
        </p:nvPicPr>
        <p:blipFill>
          <a:blip r:embed="rId2"/>
          <a:stretch/>
        </p:blipFill>
        <p:spPr>
          <a:xfrm>
            <a:off x="4071960" y="3286080"/>
            <a:ext cx="4429080" cy="33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0_1176d_52ee3dd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i1185rp"/>
          <p:cNvPicPr/>
          <p:nvPr/>
        </p:nvPicPr>
        <p:blipFill>
          <a:blip r:embed="rId2"/>
          <a:stretch/>
        </p:blipFill>
        <p:spPr>
          <a:xfrm>
            <a:off x="228600" y="6019920"/>
            <a:ext cx="1219320" cy="604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1"/>
          <p:cNvSpPr/>
          <p:nvPr/>
        </p:nvSpPr>
        <p:spPr>
          <a:xfrm>
            <a:off x="304920" y="838080"/>
            <a:ext cx="8076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rbel"/>
              </a:rPr>
              <a:t>Золотой запас русского язы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</a:rPr>
              <a:t>Систематизация знаний по теме «Изобразительные средства язы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1" descr="P10609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Возникновение антите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8" name="Рисунок 5" descr="ri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D:\Мои документы Лена\мастер-класс\антитеза 8кл\янус\янус.jpg"/>
          <p:cNvPicPr/>
          <p:nvPr/>
        </p:nvPicPr>
        <p:blipFill>
          <a:blip r:embed="rId2"/>
          <a:stretch/>
        </p:blipFill>
        <p:spPr>
          <a:xfrm>
            <a:off x="3286080" y="2143080"/>
            <a:ext cx="27432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0" name="Picture 6" descr="D:\Мои документы Лена\мастер-класс\антитеза 8кл\янус\молодое лицо.jpg"/>
          <p:cNvPicPr/>
          <p:nvPr/>
        </p:nvPicPr>
        <p:blipFill>
          <a:blip r:embed="rId3"/>
          <a:stretch/>
        </p:blipFill>
        <p:spPr>
          <a:xfrm>
            <a:off x="500040" y="2571840"/>
            <a:ext cx="2303640" cy="36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1" name="Picture 7" descr="D:\Мои документы Лена\мастер-класс\антитеза 8кл\янус\старое лицо.jpg"/>
          <p:cNvPicPr/>
          <p:nvPr/>
        </p:nvPicPr>
        <p:blipFill>
          <a:blip r:embed="rId4"/>
          <a:stretch/>
        </p:blipFill>
        <p:spPr>
          <a:xfrm>
            <a:off x="6529320" y="2571840"/>
            <a:ext cx="2216160" cy="36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2" name="TextBox 9"/>
          <p:cNvSpPr/>
          <p:nvPr/>
        </p:nvSpPr>
        <p:spPr>
          <a:xfrm>
            <a:off x="285840" y="628668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одое лиц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0"/>
          <p:cNvSpPr/>
          <p:nvPr/>
        </p:nvSpPr>
        <p:spPr>
          <a:xfrm>
            <a:off x="6143760" y="62866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ое лиц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3357720" y="4786200"/>
            <a:ext cx="264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ЯН</a:t>
            </a: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1" descr="Копия 1.bmp"/>
          <p:cNvPicPr/>
          <p:nvPr/>
        </p:nvPicPr>
        <p:blipFill>
          <a:blip r:embed="rId1"/>
          <a:stretch/>
        </p:blipFill>
        <p:spPr>
          <a:xfrm>
            <a:off x="5357880" y="500040"/>
            <a:ext cx="3641760" cy="564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6" name="TextBox 2"/>
          <p:cNvSpPr/>
          <p:nvPr/>
        </p:nvSpPr>
        <p:spPr>
          <a:xfrm>
            <a:off x="285840" y="214200"/>
            <a:ext cx="4857840" cy="64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Ianus — от ianua — двер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имской мифологии божество дверей, входа и выхода, затем — всякого нач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обращении к богам имя Януса призывалось первым. Он считался первым царем Лациума, жившим на Яникуле, научившим людей кораблестроению, возделыванию земли и выращиванию овощей. Он принял у себя Сатурна и разделил с ним власть. Янус изображался с ключами, 365 пальцами по числу дней в году, который он начинал, и с двумя смотрящими в разные стороны лицами, откуда его эпитет «двойной». Янус считался также богом договоров, союзов. Его двули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ясняли   тем,   что   двери   ведут   и внутрь, и вовне дома,   а   также   тем,   что он знает и   в прошлое,   и   будуще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сне салиев Яну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овал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огом богов» и «добрым создателем». Культ Януса в народе не имел широкого распространения. Янус изображался с двумя лицами: одно обращено в  прошлое, другое — в будущее. Богу был посвящен месяц январь (януариус)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ереносном смысле — «двуликий Янус» — лицемерный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5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0" lang="ru-RU" sz="4300" spc="-1" strike="noStrike">
                <a:solidFill>
                  <a:srgbClr val="c00000"/>
                </a:solidFill>
                <a:latin typeface="Calibri"/>
              </a:rPr>
              <a:t>Галерея Яну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8" name="Рисунок 3" descr="Копия 1.bmp"/>
          <p:cNvPicPr/>
          <p:nvPr/>
        </p:nvPicPr>
        <p:blipFill>
          <a:blip r:embed="rId1"/>
          <a:stretch/>
        </p:blipFill>
        <p:spPr>
          <a:xfrm>
            <a:off x="0" y="0"/>
            <a:ext cx="1000080" cy="15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Rectangle 11"/>
          <p:cNvSpPr/>
          <p:nvPr/>
        </p:nvSpPr>
        <p:spPr>
          <a:xfrm>
            <a:off x="0" y="7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2"/>
          <p:cNvSpPr/>
          <p:nvPr/>
        </p:nvSpPr>
        <p:spPr>
          <a:xfrm>
            <a:off x="714240" y="578628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метей приносит человечеству ого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рих Фюгер, 1817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0" y="7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7"/>
          <p:cNvSpPr/>
          <p:nvPr/>
        </p:nvSpPr>
        <p:spPr>
          <a:xfrm>
            <a:off x="6243840" y="60721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ст Зев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5" descr="D:\Мои документы Лена\мастер-класс\антитеза 8кл\янус\prometheus08.jpg"/>
          <p:cNvPicPr/>
          <p:nvPr/>
        </p:nvPicPr>
        <p:blipFill>
          <a:blip r:embed="rId4"/>
          <a:stretch/>
        </p:blipFill>
        <p:spPr>
          <a:xfrm>
            <a:off x="1042920" y="2052720"/>
            <a:ext cx="2624040" cy="37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4" name="Picture 16" descr="D:\Мои документы Лена\мастер-класс\антитеза 8кл\янус\zeus06.jpg"/>
          <p:cNvPicPr/>
          <p:nvPr/>
        </p:nvPicPr>
        <p:blipFill>
          <a:blip r:embed="rId5"/>
          <a:stretch/>
        </p:blipFill>
        <p:spPr>
          <a:xfrm>
            <a:off x="5572080" y="2065320"/>
            <a:ext cx="2529000" cy="37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5" name="Прямоугольник 4"/>
          <p:cNvSpPr/>
          <p:nvPr/>
        </p:nvSpPr>
        <p:spPr>
          <a:xfrm>
            <a:off x="2009520" y="157176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Антитезы греческой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йти соответствия началу пословиц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13840" y="1571760"/>
            <a:ext cx="44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й плачет от зависти, 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дко естся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у молись, 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у помни, 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дна шью, 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работа черна, д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а миловать 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92876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ка бе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рю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о погуби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от рад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та не гнев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спи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 забыва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ксЮморон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антитезы создан еще один интересный литературный прием — оксюморон, что в переводе с греческого означает «остроумно-глупое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четание несочетаем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«Убогая роскошь наряда...»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(Н. Некрасов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«живой труп», «жар холодных чисел».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…С кем мне поделиться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Той грустной радостью, что я остался жив?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(С. Есенин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: дает художественное изображение человека, предмета, явления в их внутренних противоречиях.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ff0000"/>
                </a:solidFill>
                <a:uFillTx/>
                <a:latin typeface="Calibri"/>
              </a:rPr>
              <a:t>Заглавия книг, карт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2" name="Picture 3" descr="D:\Мои документы Лена\мастер-класс\антитеза 8кл\Пукирёв.bmp"/>
          <p:cNvPicPr/>
          <p:nvPr/>
        </p:nvPicPr>
        <p:blipFill>
          <a:blip r:embed="rId1"/>
          <a:stretch/>
        </p:blipFill>
        <p:spPr>
          <a:xfrm>
            <a:off x="5635800" y="1643040"/>
            <a:ext cx="257940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3" name="TextBox 4"/>
          <p:cNvSpPr/>
          <p:nvPr/>
        </p:nvSpPr>
        <p:spPr>
          <a:xfrm>
            <a:off x="5087880" y="5181480"/>
            <a:ext cx="38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. Пукирёв. Неравный бр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"/>
          <p:cNvSpPr/>
          <p:nvPr/>
        </p:nvSpPr>
        <p:spPr>
          <a:xfrm>
            <a:off x="304920" y="1828800"/>
            <a:ext cx="487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прямая антитеза, оксюморон иногда выносится в заглав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рышня-крестьянка» А. С. Пушк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ёртвые души» Н. В. Гого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й труп» Л. Н. Толс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ые мощи» И. С. Турген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тимистическая трагедия» Вс. Вишневског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1723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орная схема 1 для определения троп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6" name="Изображение 8" descr="Без названия1.png"/>
          <p:cNvPicPr/>
          <p:nvPr/>
        </p:nvPicPr>
        <p:blipFill>
          <a:blip r:embed="rId1"/>
          <a:stretch/>
        </p:blipFill>
        <p:spPr>
          <a:xfrm>
            <a:off x="324000" y="992160"/>
            <a:ext cx="82105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1723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орная схема 2 для определения троп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78" name="Изображение 2" descr="Без заголовка.png"/>
          <p:cNvPicPr/>
          <p:nvPr/>
        </p:nvPicPr>
        <p:blipFill>
          <a:blip r:embed="rId1"/>
          <a:stretch/>
        </p:blipFill>
        <p:spPr>
          <a:xfrm>
            <a:off x="3429000" y="1371600"/>
            <a:ext cx="244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Оценочный лист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0" name="Объект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1295280" y="1219320"/>
            <a:ext cx="75009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ства художественной выразитель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нет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рфолог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образователь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ексические (троп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интаксические (фигур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304920" y="60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с таблицей. Укажите  соответствие между теоретическими понятиями и их  опреде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80880" y="914400"/>
          <a:ext cx="8215560" cy="5551560"/>
        </p:xfrm>
        <a:graphic>
          <a:graphicData uri="http://schemas.openxmlformats.org/drawingml/2006/table">
            <a:tbl>
              <a:tblPr/>
              <a:tblGrid>
                <a:gridCol w="3090960"/>
                <a:gridCol w="512460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МетАф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ротивопоставление образов и понятий, контрас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Фразеолог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Усиливает внимание читателя, не требуя от него отв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ойчивые сочетания слов, употреблённые в переносном значе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е начальных частей двух и более относительно самостоятельных отрезков речи (полустиший, стихов, строф или прозаических отрывк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Олице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определение предмета или явления, помогающее живо представить себе предм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ИнвЕ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Сопоставление двух предметов или явлений с целью пояснить один из них при помощи друг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Антит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Изображение неодушевленных предметов, при котором они наделяются свойствами живых существ: даром речи, способностью мыслить и чувствов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Риторический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Сочетание несочетаем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ОксЮмо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Перенесение значения по сходст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рытое сравн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АнАф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Перестановка. Нарушение порядка слов (обратный порядо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1289160" y="71424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тес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8760" y="1428840"/>
          <a:ext cx="3762360" cy="3962160"/>
        </p:xfrm>
        <a:graphic>
          <a:graphicData uri="http://schemas.openxmlformats.org/drawingml/2006/table">
            <a:tbl>
              <a:tblPr/>
              <a:tblGrid>
                <a:gridCol w="1881000"/>
                <a:gridCol w="188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f5e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32d2e"/>
                      </a:solidFill>
                    </a:lnL>
                    <a:lnR w="5760">
                      <a:solidFill>
                        <a:srgbClr val="c32d2e"/>
                      </a:solidFill>
                    </a:lnR>
                    <a:lnT w="5760">
                      <a:solidFill>
                        <a:srgbClr val="c32d2e"/>
                      </a:solidFill>
                    </a:lnT>
                    <a:lnB w="5760">
                      <a:solidFill>
                        <a:srgbClr val="c32d2e"/>
                      </a:solidFill>
                    </a:lnB>
                    <a:solidFill>
                      <a:srgbClr val="e9cdcd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88"/>
          <p:cNvSpPr/>
          <p:nvPr/>
        </p:nvSpPr>
        <p:spPr>
          <a:xfrm>
            <a:off x="5196960" y="99072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вои 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Таблица 89" descr=""/>
          <p:cNvPicPr/>
          <p:nvPr/>
        </p:nvPicPr>
        <p:blipFill>
          <a:blip r:embed="rId1"/>
          <a:stretch/>
        </p:blipFill>
        <p:spPr>
          <a:xfrm>
            <a:off x="5005440" y="1743120"/>
            <a:ext cx="329076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Тест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енировочные задания    А 3 </a:t>
            </a:r>
            <a:br>
              <a:rPr sz="2500"/>
            </a:br>
            <a:r>
              <a:rPr b="1" lang="en-US" sz="25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1.Укажите предложение , в котором средством выразительности речи являе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эпитет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71680" y="1999800"/>
            <a:ext cx="40003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ма, мы нашли странный цветок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 они зашагали к клену с красными листь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веток действительно был похож на белое колесико с желтой сердцевинкой, но и на солнце с белыми лучами тож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 детства до старости человеку светило маленькое солнце с белыми луч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Содержимое 2"/>
          <p:cNvSpPr/>
          <p:nvPr/>
        </p:nvSpPr>
        <p:spPr>
          <a:xfrm>
            <a:off x="4876920" y="1828800"/>
            <a:ext cx="4000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руглый шатер из оленьих шкур натянут на шесты. (Болдыре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ишь изредка большая ночная птица бесшумно проносилась над головой. (Автократов Н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руглые сутки над тундрой светило солнце. Большое, рыжее, лохматое. (Савин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ламя бушует и ревёт, дерево трещит и коробится, выбрасывая фонтаны искр, струи горячего дыма и множество пылающих головешек. (Автократов 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3300"/>
                </a:solidFill>
                <a:latin typeface="Gill Sans MT"/>
              </a:rPr>
              <a:t>2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2.Укажите предложение , в котором средством выразительности речи являе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етафора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28760" y="1714680"/>
            <a:ext cx="39146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руглое разожженное морозом лицо горело, словно его натерли свеклой, а брови были седыми от ине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И вдруг, словно очнувшись от сна, Савушкин приподнялся над партой и громко крикнул: «Зимний дуб!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вушкин возился у подножия дуба, запросто обращаясь со своим старым знакомце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 она вдруг поняла, что самым удивительным в этом лесу был не зимний дуб, а маленький человечек в разношенных валенк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Содержимое 2"/>
          <p:cNvSpPr/>
          <p:nvPr/>
        </p:nvSpPr>
        <p:spPr>
          <a:xfrm>
            <a:off x="4800600" y="1752480"/>
            <a:ext cx="39146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ерез несколько дней наконец-то небо нахмурилось и выпал снег. (Савин В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лева виднелась широкая расщелина скалы, заполненная осыпью, по которой можно было забраться наверх. (Автократов Н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рава площадки, почти у самого леса, позади кустов черёмухи я заметил какое-то сооружение с колесом. (Автократов Н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 воде дрожит золотая сеть солечных зай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швин М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7120" y="22824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3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3.Укажите предложение , в котором средством выразительности речи является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риторический вопрос                           метафор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28760" y="1714680"/>
            <a:ext cx="39146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уда там, она продолжала хлестать, я чувствовал, что держусь шоковым состоянием, боль накатывает все сильнее и надо быстро что-то сдела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оть бы кто на этом пути подошел ко мне, спросил, что со мной, не нужно ли помоч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огли ли люди принять меня за пьяного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же так получилось, что чувство это у нас заросло, заглохло, оказалось запущенным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Содержимое 2"/>
          <p:cNvSpPr/>
          <p:nvPr/>
        </p:nvSpPr>
        <p:spPr>
          <a:xfrm>
            <a:off x="4800600" y="1828800"/>
            <a:ext cx="39146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счезла под стеной сарая лиловая туша ноздреватого сугроба. (Тендряков В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Жизнь была слишком интересной для того, чтобы ломать голову над её смыслом. (Слепухин 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 самого горизонта море было лиловым, тревожным, предвещающим шторм. (Мартьянов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усклый серый свет проходил сквозь маленькие круглые иллюминаторы. (Рысс 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9680" y="2282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4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4.Укажите предложение , в котором средством выразительности реч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равнение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4560" y="1904760"/>
            <a:ext cx="39956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–Давай разберем, что у тебя похоже. Сучок, вон тот, какого цвета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лаз, что ли, у тебя нет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 дух захватило от осинкиной красоты, от той  красоты, мимо которой тысячи раз бегал и не только красоты её не видел, а и вообще осинки не замеч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умаешь, песок обязательно желтый бывает, а ведь он сейчас серый  весь, как зо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Содержимое 2"/>
          <p:cNvSpPr/>
          <p:nvPr/>
        </p:nvSpPr>
        <p:spPr>
          <a:xfrm>
            <a:off x="4343400" y="1828800"/>
            <a:ext cx="460548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икий, торжествующий крик огласил пустынные берега. (Куликов 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о самого утра вокруг пылало небо, красные языки пламени видны были далеко в степи. (Логвиненко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море плавал ковш луны, в луче маяка дремали на рейде баржи, со стороны мола доносился грохот экскаваторов и лебёдок. (Лебеденко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очно лапы погибших гигантских пауков, там и тут изгибаются высохшие распластанные корни и сучья. (Болдыре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1151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5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5.Укажите предложение , в котором средством выразительности реч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фразеологизм</a:t>
            </a:r>
            <a:r>
              <a:rPr b="0" i="1" lang="ru-RU" sz="39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28240" y="1828800"/>
            <a:ext cx="4148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ервом батальоне нашего полка был знаменитый связис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гда он прочитал «Попрыгунью» Чехова, он долго не мог прийти в себ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н лежал на плащ-палатке. Очень бледный,  потерявший свой девичий румянец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думаю, что Хемингуэй стал его любимым писателем, слишком у него много подспудного, недоговоренного, а Лешка любил ясн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Содержимое 2"/>
          <p:cNvSpPr/>
          <p:nvPr/>
        </p:nvSpPr>
        <p:spPr>
          <a:xfrm>
            <a:off x="4724280" y="1828800"/>
            <a:ext cx="4148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 вот перед костром между деревцами в розоватом отблеске пламени появились большие белые птицы, точно снежные комья. (Савин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 всё-таки чувствуем себя на льду океана не в своей тарелке. (Болдыре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учим топорами по голым деревьям, и они звенят, как корабельные мачты. (Болдыре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етер на лету подхватил горящую солому и остервенело швырял её тяжёлыми пригоршнями в ночную степь. (Логвиненко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6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6.Укажите предложение , в котором средством выразительности реч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питет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00040" y="1857240"/>
            <a:ext cx="39196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-прежнему ясно и спокойно светил месяц и освещал величавую голову Бетховена, его мощную и благородную фигур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лодой человек подошел к Бетховен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икогда и ни перед кем не играл Бетховен так, как играл в жилище бедного сапожника и его слепой сестр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днажды в лунный весенний вечер я зашел к Бетховену и предложил прогулятьс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Содержимое 2"/>
          <p:cNvSpPr/>
          <p:nvPr/>
        </p:nvSpPr>
        <p:spPr>
          <a:xfrm>
            <a:off x="4800600" y="1828800"/>
            <a:ext cx="3919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ижов легко отыскал дом, в котором жил Дегтярёв: он знал маленький курортный городок, как свои пять пальцев. (Мартьянов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бильник завибрировал, заскрёбся в ящике тумбочки, как жук в спичечном коробке. (Живо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айское утро дышало особенной прелестью. (Черкасов 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о сих пор во сне я вижу эту замерзшую, голую и печальную долину. (Болдырев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1"/>
          <p:cNvSpPr/>
          <p:nvPr/>
        </p:nvSpPr>
        <p:spPr>
          <a:xfrm>
            <a:off x="1298880" y="990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тес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8"/>
          <p:cNvSpPr/>
          <p:nvPr/>
        </p:nvSpPr>
        <p:spPr>
          <a:xfrm>
            <a:off x="5654160" y="106668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вои 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Таблица 89" descr=""/>
          <p:cNvPicPr/>
          <p:nvPr/>
        </p:nvPicPr>
        <p:blipFill>
          <a:blip r:embed="rId1"/>
          <a:stretch/>
        </p:blipFill>
        <p:spPr>
          <a:xfrm>
            <a:off x="5419800" y="2090880"/>
            <a:ext cx="3290760" cy="28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380880" y="1600200"/>
          <a:ext cx="4876920" cy="3535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49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cd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ccc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Сочинение на лингвистическую тему</a:t>
            </a:r>
            <a:br>
              <a:rPr sz="3900"/>
            </a:br>
            <a:r>
              <a:rPr b="1" lang="en-US" sz="3900" spc="-1" strike="noStrike">
                <a:solidFill>
                  <a:srgbClr val="009900"/>
                </a:solidFill>
                <a:latin typeface="Arial"/>
              </a:rPr>
              <a:t>Формулировка зад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(</a:t>
            </a:r>
            <a:r>
              <a:rPr b="1" lang="ru-RU" sz="2400" spc="-1" strike="noStrike" u="sng">
                <a:solidFill>
                  <a:srgbClr val="00cc00"/>
                </a:solidFill>
                <a:uFillTx/>
                <a:latin typeface="Arial"/>
              </a:rPr>
              <a:t>указан авт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: «(</a:t>
            </a:r>
            <a:r>
              <a:rPr b="1" lang="ru-RU" sz="2400" spc="-1" strike="noStrike" u="sng">
                <a:solidFill>
                  <a:srgbClr val="00cc00"/>
                </a:solidFill>
                <a:uFillTx/>
                <a:latin typeface="Arial"/>
              </a:rPr>
              <a:t>приведена цита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гументируя свой ответ, приведите 2 (два) примера из прочитанного текс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одя примеры, указывайте номера нужных предложений или применяйте цитиров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можете писать работу в научном или публицистическом стиле, раскрывая тему на лингвистическом материале. Начать сочинение Вы можете словами (</a:t>
            </a:r>
            <a:r>
              <a:rPr b="1" lang="ru-RU" sz="2400" spc="-1" strike="noStrike" u="sng">
                <a:solidFill>
                  <a:srgbClr val="00cc00"/>
                </a:solidFill>
                <a:uFillTx/>
                <a:latin typeface="Arial"/>
              </a:rPr>
              <a:t>авто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 сочинения должен составлять не менее 70 слов. Сочинение пишите аккуратно, разборчивым почер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1432080" y="274680"/>
            <a:ext cx="7503840" cy="1146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990720" y="1447560"/>
            <a:ext cx="794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Создают новые сочетания слов с новым значением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Обогащают речь новыми оттенками смысл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Придают речи образност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Придают речи выразительност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Изображение 1" descr=""/>
          <p:cNvPicPr/>
          <p:nvPr/>
        </p:nvPicPr>
        <p:blipFill>
          <a:blip r:embed="rId1"/>
          <a:stretch/>
        </p:blipFill>
        <p:spPr>
          <a:xfrm>
            <a:off x="507960" y="368280"/>
            <a:ext cx="81280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Выгнутая вверх стрелка 18"/>
          <p:cNvSpPr/>
          <p:nvPr/>
        </p:nvSpPr>
        <p:spPr>
          <a:xfrm>
            <a:off x="1619280" y="1052640"/>
            <a:ext cx="5761080" cy="1081080"/>
          </a:xfrm>
          <a:custGeom>
            <a:avLst/>
            <a:gdLst>
              <a:gd name="textAreaLeft" fmla="*/ 1351440 w 5761080"/>
              <a:gd name="textAreaRight" fmla="*/ 4291200 w 576108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34" hR="21600" stAng="10800000" swAng="5400000"/>
                <a:lnTo>
                  <a:pt x="11023" y="0"/>
                </a:lnTo>
                <a:arcTo wR="10134" hR="21600" stAng="-5400000" swAng="3670396"/>
                <a:lnTo>
                  <a:pt x="21278" y="16200"/>
                </a:lnTo>
                <a:lnTo>
                  <a:pt x="20712" y="21600"/>
                </a:lnTo>
                <a:lnTo>
                  <a:pt x="19501" y="16200"/>
                </a:lnTo>
                <a:lnTo>
                  <a:pt x="19945" y="16200"/>
                </a:lnTo>
                <a:arcTo wR="10134" hR="21600" stAng="-1729604" swAng="-3599594"/>
                <a:lnTo>
                  <a:pt x="10578" y="21"/>
                </a:lnTo>
                <a:arcTo wR="10134" hR="21600" stAng="-5470803" swAng="-5329197"/>
                <a:close/>
              </a:path>
              <a:path fill="darkenLess" w="21600" h="21600">
                <a:moveTo>
                  <a:pt x="0" y="21600"/>
                </a:moveTo>
                <a:arcTo wR="10134" hR="21600" stAng="10800000" swAng="5400000"/>
                <a:lnTo>
                  <a:pt x="10134" y="0"/>
                </a:lnTo>
                <a:arcTo wR="10134" hR="21600" stAng="-5400000" swAng="70803"/>
                <a:lnTo>
                  <a:pt x="10578" y="21"/>
                </a:lnTo>
                <a:arcTo wR="10134" hR="21600" stAng="-5470803" swAng="-5329197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Выгнутая вверх стрелка 19"/>
          <p:cNvSpPr/>
          <p:nvPr/>
        </p:nvSpPr>
        <p:spPr>
          <a:xfrm rot="10800000">
            <a:off x="1692360" y="4292640"/>
            <a:ext cx="5643360" cy="928800"/>
          </a:xfrm>
          <a:custGeom>
            <a:avLst/>
            <a:gdLst>
              <a:gd name="textAreaLeft" fmla="*/ 1323720 w 5643360"/>
              <a:gd name="textAreaRight" fmla="*/ 4203720 w 564336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34" hR="21600" stAng="10800000" swAng="5400000"/>
                <a:lnTo>
                  <a:pt x="11023" y="0"/>
                </a:lnTo>
                <a:arcTo wR="10134" hR="21600" stAng="-5400000" swAng="3670396"/>
                <a:lnTo>
                  <a:pt x="21278" y="16200"/>
                </a:lnTo>
                <a:lnTo>
                  <a:pt x="20712" y="21600"/>
                </a:lnTo>
                <a:lnTo>
                  <a:pt x="19501" y="16200"/>
                </a:lnTo>
                <a:lnTo>
                  <a:pt x="19945" y="16200"/>
                </a:lnTo>
                <a:arcTo wR="10134" hR="21600" stAng="-1729604" swAng="-3599594"/>
                <a:lnTo>
                  <a:pt x="10578" y="21"/>
                </a:lnTo>
                <a:arcTo wR="10134" hR="21600" stAng="-5470803" swAng="-5329197"/>
                <a:close/>
              </a:path>
              <a:path fill="darkenLess" w="21600" h="21600">
                <a:moveTo>
                  <a:pt x="0" y="21600"/>
                </a:moveTo>
                <a:arcTo wR="10134" hR="21600" stAng="10800000" swAng="5400000"/>
                <a:lnTo>
                  <a:pt x="10134" y="0"/>
                </a:lnTo>
                <a:arcTo wR="10134" hR="21600" stAng="-5400000" swAng="70803"/>
                <a:lnTo>
                  <a:pt x="10578" y="21"/>
                </a:lnTo>
                <a:arcTo wR="10134" hR="21600" stAng="-5470803" swAng="-5329197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3059280" y="3357720"/>
            <a:ext cx="3024000" cy="720720"/>
          </a:xfrm>
          <a:prstGeom prst="rect">
            <a:avLst/>
          </a:prstGeom>
          <a:solidFill>
            <a:srgbClr val="5cb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2916360" y="2133720"/>
            <a:ext cx="3313080" cy="1081080"/>
          </a:xfrm>
          <a:prstGeom prst="ellipse">
            <a:avLst/>
          </a:prstGeom>
          <a:solidFill>
            <a:srgbClr val="5cb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2"/>
          <p:cNvSpPr/>
          <p:nvPr/>
        </p:nvSpPr>
        <p:spPr>
          <a:xfrm>
            <a:off x="539640" y="2349360"/>
            <a:ext cx="1747800" cy="14734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91658" dir="338234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2"/>
          <p:cNvSpPr/>
          <p:nvPr/>
        </p:nvSpPr>
        <p:spPr>
          <a:xfrm>
            <a:off x="6732720" y="2349360"/>
            <a:ext cx="1747800" cy="158436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91658" dir="338234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3276720" y="350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арг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1"/>
          <p:cNvSpPr/>
          <p:nvPr/>
        </p:nvSpPr>
        <p:spPr>
          <a:xfrm>
            <a:off x="2411280" y="2924280"/>
            <a:ext cx="571680" cy="320400"/>
          </a:xfrm>
          <a:custGeom>
            <a:avLst/>
            <a:gdLst>
              <a:gd name="textAreaLeft" fmla="*/ 71280 w 571680"/>
              <a:gd name="textAreaRight" fmla="*/ 500400 w 571680"/>
              <a:gd name="textAreaTop" fmla="*/ 79920 h 320400"/>
              <a:gd name="textAreaBottom" fmla="*/ 240480 h 32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2"/>
          <p:cNvSpPr/>
          <p:nvPr/>
        </p:nvSpPr>
        <p:spPr>
          <a:xfrm>
            <a:off x="6084720" y="2924280"/>
            <a:ext cx="571680" cy="320400"/>
          </a:xfrm>
          <a:custGeom>
            <a:avLst/>
            <a:gdLst>
              <a:gd name="textAreaLeft" fmla="*/ 71280 w 571680"/>
              <a:gd name="textAreaRight" fmla="*/ 500400 w 571680"/>
              <a:gd name="textAreaTop" fmla="*/ 79920 h 320400"/>
              <a:gd name="textAreaBottom" fmla="*/ 240480 h 32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"/>
          <p:cNvSpPr/>
          <p:nvPr/>
        </p:nvSpPr>
        <p:spPr>
          <a:xfrm>
            <a:off x="609480" y="380880"/>
            <a:ext cx="8001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чинение-рассуждение 6 на ГИ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огласно Проекту 2013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 был К. Г. Паустовский, утверждавший, что «…нет ничего такого в жизни и в нашем сознании, чего нельзя было бы передать русским словом». Прав потому, что русский язык очень богат. Многие слова в нем используются не только в прямом, но и переносном смысле. На этом свойстве языка основываются изобразительные средства: эпитеты, метафоры, олицетворения, которые помогают писателю достигнуть большей выразительности. Обратимся к тек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в предложении 36 говорится о том, что мальчик зашептал «горячо и непонятно». Перед нами эпитеты, выраженные наречиями. Они помогают писателю передать волнение и страх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едложении 53 нахожу ярчайшую метафору: «…их вынули из ее души, и теперь ослепла и оглохла не только она, но и ее душа…». Какие волнующие слова, характеризующие состояние бедной мате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могу сделать вывод, что слово может не только назвать предмет или действие, но и передать любое состояние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1447920" y="380880"/>
            <a:ext cx="69339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а с текст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обрать арг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– по тесту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 – по тесту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 – по тесту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работы: 1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2.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1К2 Наличие примеров-аргумент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914400"/>
          <a:ext cx="8686800" cy="5730840"/>
        </p:xfrm>
        <a:graphic>
          <a:graphicData uri="http://schemas.openxmlformats.org/drawingml/2006/table">
            <a:tbl>
              <a:tblPr/>
              <a:tblGrid>
                <a:gridCol w="7521480"/>
                <a:gridCol w="1165320"/>
              </a:tblGrid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ивёл 2 примера-аргумента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кс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ерно указав их роль в текст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db1"/>
                    </a:solidFill>
                  </a:tcPr>
                </a:tc>
              </a:tr>
              <a:tr h="49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ивёл 2 примера-аргумента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з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кст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о не указал их роль в текст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ёл 2 примера-аргумента из текста, указав роль в тексте одного из них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ёл 1 пример-аргумент из текста, указав его роль в текст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ивёл 1 пример-аргумент из текста, не указав его роль в текст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не привёл ни одного примера-аргумента, иллюстрирующего тезис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ивёл примеры-аргументы не 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го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6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6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88"/>
          <p:cNvSpPr/>
          <p:nvPr/>
        </p:nvSpPr>
        <p:spPr>
          <a:xfrm>
            <a:off x="3215880" y="106668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вои 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Таблица 89" descr=""/>
          <p:cNvPicPr/>
          <p:nvPr/>
        </p:nvPicPr>
        <p:blipFill>
          <a:blip r:embed="rId1"/>
          <a:stretch/>
        </p:blipFill>
        <p:spPr>
          <a:xfrm>
            <a:off x="2908440" y="1865160"/>
            <a:ext cx="328428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1066680" y="11430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м мы сегодня занимались на уро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д чем ещё надо поработ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800640" y="1219320"/>
            <a:ext cx="737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очинение-рассужд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– по тесту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 – по тесту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 – по тесту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Прямоугольник 1"/>
          <p:cNvSpPr/>
          <p:nvPr/>
        </p:nvSpPr>
        <p:spPr>
          <a:xfrm>
            <a:off x="1371600" y="533520"/>
            <a:ext cx="73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ёмся к эпиграфу нашего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 вы с мнением Н.В.Гог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дите тропы в эпигр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i1185rp"/>
          <p:cNvPicPr/>
          <p:nvPr/>
        </p:nvPicPr>
        <p:blipFill>
          <a:blip r:embed="rId1"/>
          <a:stretch/>
        </p:blipFill>
        <p:spPr>
          <a:xfrm>
            <a:off x="228600" y="6019920"/>
            <a:ext cx="1219320" cy="604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457200" y="1371600"/>
            <a:ext cx="80773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того чтобы справиться с заданием А3, необходимо владе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ор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а именно знать определения средств речевой выразительности, а также уметь видеть их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годня на уроке мы не только повторим теоретический материал по теме, но и выполни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цы экзаменационных зада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а также подробнее остановимся на малоизученных средствах выраз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Оценочный лист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2" name="Объект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4"/>
          <p:cNvSpPr/>
          <p:nvPr/>
        </p:nvSpPr>
        <p:spPr>
          <a:xfrm>
            <a:off x="380880" y="762120"/>
            <a:ext cx="85345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ценка урока учащи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условный сим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воих оценочных лис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равился урок                       Не понравил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6" descr="http://school1beloreshensk.siteedit.ru/images/916607147.jpg"/>
          <p:cNvPicPr/>
          <p:nvPr/>
        </p:nvPicPr>
        <p:blipFill>
          <a:blip r:embed="rId1"/>
          <a:stretch/>
        </p:blipFill>
        <p:spPr>
          <a:xfrm>
            <a:off x="1523880" y="4038480"/>
            <a:ext cx="1676520" cy="15433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9" descr="http://school1beloreshensk.siteedit.ru/images/916607186.jpg"/>
          <p:cNvPicPr/>
          <p:nvPr/>
        </p:nvPicPr>
        <p:blipFill>
          <a:blip r:embed="rId2"/>
          <a:stretch/>
        </p:blipFill>
        <p:spPr>
          <a:xfrm>
            <a:off x="6172200" y="4038480"/>
            <a:ext cx="1752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0_1176d_52ee3dd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457200" y="13716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4648320" y="1523880"/>
            <a:ext cx="41907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"/>
          <p:cNvSpPr/>
          <p:nvPr/>
        </p:nvSpPr>
        <p:spPr>
          <a:xfrm>
            <a:off x="533520" y="22860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жел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сть этот год вам принесет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, радость и успех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удет тягостных забот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чит почаще звонкий смех.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сть что хочется – то и сбудется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не ладится – позабудется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сть хорошее приумножится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удачно в дальнейшем сложи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_1176d_52ee3dd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457200" y="13716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енот"/>
          <p:cNvPicPr/>
          <p:nvPr/>
        </p:nvPicPr>
        <p:blipFill>
          <a:blip r:embed="rId2"/>
          <a:stretch/>
        </p:blipFill>
        <p:spPr>
          <a:xfrm>
            <a:off x="228600" y="1600200"/>
            <a:ext cx="4300560" cy="2971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7"/>
          <p:cNvSpPr/>
          <p:nvPr/>
        </p:nvSpPr>
        <p:spPr>
          <a:xfrm>
            <a:off x="4648320" y="1523880"/>
            <a:ext cx="41907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Жела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ыучить тропы и фигуры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на «5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Organization Chart 6"/>
          <p:cNvGrpSpPr/>
          <p:nvPr/>
        </p:nvGrpSpPr>
        <p:grpSpPr>
          <a:xfrm>
            <a:off x="457200" y="306360"/>
            <a:ext cx="8228880" cy="5790960"/>
            <a:chOff x="457200" y="306360"/>
            <a:chExt cx="8228880" cy="5790960"/>
          </a:xfrm>
        </p:grpSpPr>
        <p:cxnSp>
          <p:nvCxnSpPr>
            <p:cNvPr id="377" name="_s9273"/>
            <p:cNvCxnSpPr>
              <a:stCxn id="378" idx="1"/>
              <a:endCxn id="379" idx="2"/>
            </p:cNvCxnSpPr>
            <p:nvPr/>
          </p:nvCxnSpPr>
          <p:spPr>
            <a:xfrm rot="10800000">
              <a:off x="6766920" y="1753200"/>
              <a:ext cx="273240" cy="405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0" name="_s9271"/>
            <p:cNvCxnSpPr>
              <a:stCxn id="381" idx="3"/>
              <a:endCxn id="379" idx="2"/>
            </p:cNvCxnSpPr>
            <p:nvPr/>
          </p:nvCxnSpPr>
          <p:spPr>
            <a:xfrm flipV="1">
              <a:off x="6491520" y="1753560"/>
              <a:ext cx="276480" cy="405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2" name="_s9269"/>
            <p:cNvCxnSpPr>
              <a:stCxn id="383" idx="1"/>
              <a:endCxn id="379" idx="2"/>
            </p:cNvCxnSpPr>
            <p:nvPr/>
          </p:nvCxnSpPr>
          <p:spPr>
            <a:xfrm rot="10800000">
              <a:off x="6766920" y="1753200"/>
              <a:ext cx="273240" cy="318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4" name="_s9267"/>
            <p:cNvCxnSpPr>
              <a:stCxn id="385" idx="3"/>
              <a:endCxn id="386" idx="2"/>
            </p:cNvCxnSpPr>
            <p:nvPr/>
          </p:nvCxnSpPr>
          <p:spPr>
            <a:xfrm flipV="1">
              <a:off x="2103120" y="1753560"/>
              <a:ext cx="275040" cy="405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7" name="_s9263"/>
            <p:cNvCxnSpPr>
              <a:stCxn id="388" idx="3"/>
              <a:endCxn id="379" idx="2"/>
            </p:cNvCxnSpPr>
            <p:nvPr/>
          </p:nvCxnSpPr>
          <p:spPr>
            <a:xfrm flipV="1">
              <a:off x="6491520" y="1753200"/>
              <a:ext cx="276480" cy="318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_s9261"/>
            <p:cNvCxnSpPr>
              <a:stCxn id="390" idx="1"/>
              <a:endCxn id="379" idx="2"/>
            </p:cNvCxnSpPr>
            <p:nvPr/>
          </p:nvCxnSpPr>
          <p:spPr>
            <a:xfrm rot="10800000">
              <a:off x="6766920" y="1753200"/>
              <a:ext cx="273240" cy="231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1" name="_s9259"/>
            <p:cNvCxnSpPr>
              <a:stCxn id="392" idx="1"/>
              <a:endCxn id="386" idx="2"/>
            </p:cNvCxnSpPr>
            <p:nvPr/>
          </p:nvCxnSpPr>
          <p:spPr>
            <a:xfrm rot="10800000">
              <a:off x="2377080" y="1753200"/>
              <a:ext cx="275040" cy="318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3" name="_s9257"/>
            <p:cNvCxnSpPr>
              <a:stCxn id="394" idx="3"/>
              <a:endCxn id="386" idx="2"/>
            </p:cNvCxnSpPr>
            <p:nvPr/>
          </p:nvCxnSpPr>
          <p:spPr>
            <a:xfrm flipV="1">
              <a:off x="2103120" y="1753200"/>
              <a:ext cx="275040" cy="318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5" name="_s9255"/>
            <p:cNvCxnSpPr>
              <a:stCxn id="396" idx="1"/>
              <a:endCxn id="386" idx="2"/>
            </p:cNvCxnSpPr>
            <p:nvPr/>
          </p:nvCxnSpPr>
          <p:spPr>
            <a:xfrm rot="10800000">
              <a:off x="2377080" y="1753200"/>
              <a:ext cx="275040" cy="231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7" name="_s9253"/>
            <p:cNvCxnSpPr>
              <a:stCxn id="398" idx="3"/>
              <a:endCxn id="386" idx="2"/>
            </p:cNvCxnSpPr>
            <p:nvPr/>
          </p:nvCxnSpPr>
          <p:spPr>
            <a:xfrm flipV="1">
              <a:off x="2103120" y="1753200"/>
              <a:ext cx="275040" cy="231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9" name="_s9251"/>
            <p:cNvCxnSpPr>
              <a:stCxn id="400" idx="3"/>
              <a:endCxn id="379" idx="2"/>
            </p:cNvCxnSpPr>
            <p:nvPr/>
          </p:nvCxnSpPr>
          <p:spPr>
            <a:xfrm flipV="1">
              <a:off x="6491520" y="1753200"/>
              <a:ext cx="276480" cy="231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1" name="_s9249"/>
            <p:cNvCxnSpPr>
              <a:stCxn id="402" idx="1"/>
              <a:endCxn id="379" idx="2"/>
            </p:cNvCxnSpPr>
            <p:nvPr/>
          </p:nvCxnSpPr>
          <p:spPr>
            <a:xfrm rot="10800000">
              <a:off x="6766920" y="1753200"/>
              <a:ext cx="273240" cy="14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3" name="_s9247"/>
            <p:cNvCxnSpPr>
              <a:stCxn id="404" idx="3"/>
              <a:endCxn id="379" idx="2"/>
            </p:cNvCxnSpPr>
            <p:nvPr/>
          </p:nvCxnSpPr>
          <p:spPr>
            <a:xfrm flipV="1">
              <a:off x="6491520" y="1753200"/>
              <a:ext cx="276480" cy="14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5" name="_s9245"/>
            <p:cNvCxnSpPr>
              <a:stCxn id="406" idx="1"/>
              <a:endCxn id="379" idx="2"/>
            </p:cNvCxnSpPr>
            <p:nvPr/>
          </p:nvCxnSpPr>
          <p:spPr>
            <a:xfrm rot="10800000">
              <a:off x="6766920" y="1753200"/>
              <a:ext cx="273240" cy="5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7" name="_s9239"/>
            <p:cNvCxnSpPr>
              <a:stCxn id="408" idx="3"/>
              <a:endCxn id="379" idx="2"/>
            </p:cNvCxnSpPr>
            <p:nvPr/>
          </p:nvCxnSpPr>
          <p:spPr>
            <a:xfrm flipV="1">
              <a:off x="6491520" y="1753560"/>
              <a:ext cx="276480" cy="5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9" name="_s9237"/>
            <p:cNvCxnSpPr>
              <a:stCxn id="410" idx="1"/>
              <a:endCxn id="386" idx="2"/>
            </p:cNvCxnSpPr>
            <p:nvPr/>
          </p:nvCxnSpPr>
          <p:spPr>
            <a:xfrm rot="10800000">
              <a:off x="2377080" y="1753200"/>
              <a:ext cx="275040" cy="14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1" name="_s9235"/>
            <p:cNvCxnSpPr>
              <a:stCxn id="412" idx="3"/>
              <a:endCxn id="386" idx="2"/>
            </p:cNvCxnSpPr>
            <p:nvPr/>
          </p:nvCxnSpPr>
          <p:spPr>
            <a:xfrm flipV="1">
              <a:off x="2103120" y="1753200"/>
              <a:ext cx="275040" cy="14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3" name="_s9233"/>
            <p:cNvCxnSpPr>
              <a:stCxn id="414" idx="1"/>
              <a:endCxn id="386" idx="2"/>
            </p:cNvCxnSpPr>
            <p:nvPr/>
          </p:nvCxnSpPr>
          <p:spPr>
            <a:xfrm rot="10800000">
              <a:off x="2377080" y="1753200"/>
              <a:ext cx="275040" cy="5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5" name="_s9231"/>
            <p:cNvCxnSpPr>
              <a:stCxn id="416" idx="3"/>
              <a:endCxn id="386" idx="2"/>
            </p:cNvCxnSpPr>
            <p:nvPr/>
          </p:nvCxnSpPr>
          <p:spPr>
            <a:xfrm flipV="1">
              <a:off x="2103120" y="1753560"/>
              <a:ext cx="275040" cy="5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7" name="_s9228"/>
            <p:cNvCxnSpPr>
              <a:stCxn id="379" idx="1"/>
              <a:endCxn id="418" idx="2"/>
            </p:cNvCxnSpPr>
            <p:nvPr/>
          </p:nvCxnSpPr>
          <p:spPr>
            <a:xfrm rot="10800000">
              <a:off x="4572000" y="988920"/>
              <a:ext cx="1370520" cy="47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9227"/>
            <p:cNvCxnSpPr>
              <a:stCxn id="386" idx="3"/>
              <a:endCxn id="418" idx="2"/>
            </p:cNvCxnSpPr>
            <p:nvPr/>
          </p:nvCxnSpPr>
          <p:spPr>
            <a:xfrm flipV="1">
              <a:off x="3200760" y="989280"/>
              <a:ext cx="1372320" cy="47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8" name="_s9223"/>
            <p:cNvSpPr/>
            <p:nvPr/>
          </p:nvSpPr>
          <p:spPr>
            <a:xfrm>
              <a:off x="3749400" y="306360"/>
              <a:ext cx="1645920" cy="6832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зобразитель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ыразите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9224"/>
            <p:cNvSpPr/>
            <p:nvPr/>
          </p:nvSpPr>
          <p:spPr>
            <a:xfrm>
              <a:off x="1554480" y="117504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оп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9225"/>
            <p:cNvSpPr/>
            <p:nvPr/>
          </p:nvSpPr>
          <p:spPr>
            <a:xfrm>
              <a:off x="5942880" y="117504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илисти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фигу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30"/>
            <p:cNvSpPr/>
            <p:nvPr/>
          </p:nvSpPr>
          <p:spPr>
            <a:xfrm>
              <a:off x="457200" y="204372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Эпите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9232"/>
            <p:cNvSpPr/>
            <p:nvPr/>
          </p:nvSpPr>
          <p:spPr>
            <a:xfrm>
              <a:off x="2652120" y="204372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етафо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9234"/>
            <p:cNvSpPr/>
            <p:nvPr/>
          </p:nvSpPr>
          <p:spPr>
            <a:xfrm>
              <a:off x="457200" y="291240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етоним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9236"/>
            <p:cNvSpPr/>
            <p:nvPr/>
          </p:nvSpPr>
          <p:spPr>
            <a:xfrm>
              <a:off x="2652120" y="291240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инекдо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9238"/>
            <p:cNvSpPr/>
            <p:nvPr/>
          </p:nvSpPr>
          <p:spPr>
            <a:xfrm>
              <a:off x="4847040" y="204372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бращ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9244"/>
            <p:cNvSpPr/>
            <p:nvPr/>
          </p:nvSpPr>
          <p:spPr>
            <a:xfrm>
              <a:off x="7040160" y="2043720"/>
              <a:ext cx="164592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иторическ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опро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9246"/>
            <p:cNvSpPr/>
            <p:nvPr/>
          </p:nvSpPr>
          <p:spPr>
            <a:xfrm>
              <a:off x="4847040" y="291240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Анафо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9248"/>
            <p:cNvSpPr/>
            <p:nvPr/>
          </p:nvSpPr>
          <p:spPr>
            <a:xfrm>
              <a:off x="7040160" y="2912400"/>
              <a:ext cx="1643760" cy="5770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рцелля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9250"/>
            <p:cNvSpPr/>
            <p:nvPr/>
          </p:nvSpPr>
          <p:spPr>
            <a:xfrm>
              <a:off x="4847040" y="378108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Град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9252"/>
            <p:cNvSpPr/>
            <p:nvPr/>
          </p:nvSpPr>
          <p:spPr>
            <a:xfrm>
              <a:off x="458640" y="378108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Гипербо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9254"/>
            <p:cNvSpPr/>
            <p:nvPr/>
          </p:nvSpPr>
          <p:spPr>
            <a:xfrm>
              <a:off x="2652120" y="378108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Лит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9256"/>
            <p:cNvSpPr/>
            <p:nvPr/>
          </p:nvSpPr>
          <p:spPr>
            <a:xfrm>
              <a:off x="458640" y="464976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ерифра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9258"/>
            <p:cNvSpPr/>
            <p:nvPr/>
          </p:nvSpPr>
          <p:spPr>
            <a:xfrm>
              <a:off x="2652120" y="464976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рав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9260"/>
            <p:cNvSpPr/>
            <p:nvPr/>
          </p:nvSpPr>
          <p:spPr>
            <a:xfrm>
              <a:off x="7040160" y="3781080"/>
              <a:ext cx="164376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нверс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9262"/>
            <p:cNvSpPr/>
            <p:nvPr/>
          </p:nvSpPr>
          <p:spPr>
            <a:xfrm>
              <a:off x="4847040" y="464976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интаксическ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раллел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9266"/>
            <p:cNvSpPr/>
            <p:nvPr/>
          </p:nvSpPr>
          <p:spPr>
            <a:xfrm>
              <a:off x="458640" y="5518440"/>
              <a:ext cx="1644480" cy="5788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лицетвор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9268"/>
            <p:cNvSpPr/>
            <p:nvPr/>
          </p:nvSpPr>
          <p:spPr>
            <a:xfrm>
              <a:off x="7040160" y="4649760"/>
              <a:ext cx="1643760" cy="5770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Антите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9270"/>
            <p:cNvSpPr/>
            <p:nvPr/>
          </p:nvSpPr>
          <p:spPr>
            <a:xfrm>
              <a:off x="4847040" y="5518440"/>
              <a:ext cx="1644480" cy="5770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ксюмор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9272"/>
            <p:cNvSpPr/>
            <p:nvPr/>
          </p:nvSpPr>
          <p:spPr>
            <a:xfrm>
              <a:off x="7040160" y="5518440"/>
              <a:ext cx="1643760" cy="57708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Эллипси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380880" y="457200"/>
          <a:ext cx="8229600" cy="610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гуры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5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п (от греч. слова, обозначающего поворот оборот, образ) – это употребление слов, фраз в переносном смысл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гура (от лат. слова оборот речи, внешний вид, очертание). Такие синтаксические построения используются для выразительности текс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пит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тите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вер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аф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ф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лицетвор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пиф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пербо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юморо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Georgia"/>
              </a:rPr>
              <a:t>Метафо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52280" y="121896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	</a:t>
            </a:r>
            <a:r>
              <a:rPr b="0" i="1" lang="ru-RU" sz="2800" spc="-1" strike="noStrike">
                <a:solidFill>
                  <a:srgbClr val="ff6413"/>
                </a:solidFill>
                <a:latin typeface="Times New Roman"/>
              </a:rPr>
              <a:t>Прием, в основе которого лежит перенос значения по сходству явлен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413"/>
                </a:solidFill>
                <a:latin typeface="Times New Roman"/>
              </a:rPr>
              <a:t>(Скрытое сравнение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413"/>
                </a:solidFill>
                <a:latin typeface="Times New Roman"/>
              </a:rPr>
              <a:t>Это слово в переносном смысле.  Чаще всего выражается глаголами, существительн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Речь льется, бурли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Говор волн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Бронза муску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Покатились глаза собачь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Золотыми звездами в снег.</a:t>
            </a:r>
            <a:br>
              <a:rPr sz="2400"/>
            </a:b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ff6413"/>
                </a:solidFill>
                <a:latin typeface="Georgia"/>
              </a:rPr>
              <a:t>(С. Есенин )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Georgia"/>
              </a:rPr>
              <a:t>Олицетвор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676160" y="13716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Наделение неодушевлённых предмето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ризнаками и свойствами челове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«И звезда с звездою говорит...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Зима недаром злится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Прошла ее пора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Весна в окно стучи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И гонит со двор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         (Ф. Тютчев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4-01T09:30:01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