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BD3-B326-4082-B963-A758346F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6A0-5928-4963-87B8-FEE7CD04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170-ED97-4525-8E29-57712FE1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185-726E-4E71-BBA7-3A2A4283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65EB-EA46-4565-9D7E-17B102AC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D5D6-40D3-4AD8-BAE8-73D33D68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C5DA-7AC4-4F5B-8B11-EAF245C4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EA3B-60B5-45CE-B954-8AEFB5E4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2E9B-70E1-4B9A-BAF5-7F184002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D59C-BEE3-4DFB-ABF3-BBC6DEEA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C07C-4C94-40B5-AF4F-1E61C744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E9C-9E32-49CE-ADFE-AA016832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29F8-CD92-47A4-BCAD-C0459B7A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C9DA-5469-4DC4-948F-6A463AFD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D3E5-9D8C-4E26-9C15-52D628B0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F5A1-0B8D-4D65-B13F-FF63A02E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5B12-DD18-4FDE-A376-645DA0F0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439-52B5-4CB5-8982-96B4955B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0A0-DA8B-4B1D-905C-381766ED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3C1-A013-4C67-9E3A-E5A923BF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18A-FFDE-44AD-B335-90C151FD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FE3-057C-4F0E-B55A-E56F1DD7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B4E-D8CA-44CE-89B9-3C45B599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F5A-9E2C-43DC-B45F-CB0457BA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3EC4-C289-4488-AA94-5E9CBAF3361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B240-E250-45A7-B687-1E4435B754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УРОК РУССКОГО ЯЗЫ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АБОТА С ТЕКСТОМ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ПОЛОЖИТЕ ПРЕДЛОЖЕНИЯ ТАК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ЧТОБЫ ПОЛУЧИЛСЯ ТЕКСТ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ИСЛИТЕЛЬНЫЕ ЗАПИШИТЕ СЛОВА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и наблюдали на звездном небе движение 5 планет, которые вместе с Солнцем и Луной составляли 7 небесных свет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возникла (семи)дневная неделя, которая перешла ко многим другим народам и дошла до н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рно 4 тысячи лет тому назад у древних народов, находившихся на территории современного Ирака, были уже первые астрономические позн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ревние ученые заметили, что лунный месяц равен 28 суткам, и разделили его на 4 равные части с тем, чтобы каждый из 7 дней посвящать одному из 7 бож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авильный вариан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но четыре тысячи лет тому назад у древних народов, находившихся на территории современного Ирака, были уже первые астрономические позн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наблюдали на звездном небе движение пяти планет, которые вместе с Солнцем и Луной составляют семь небесных свет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евние ученые заметили, что лунный месяц равен двадцати восьми сутка, и разделили его на четыре равные части с тем, чтобы каждый из семи дней посвятить одному из семи бож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к появилась семидневная неделя, которая перешла ко многим народам и дошла до на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 новых встреч 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ОПИСАНИЕ ЧИСЛИТЕЛЬН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ЖНЫ ЗНА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ОПИСАНИЕ ИМЕН ЧИСЛИТЕЛЬ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ЖНЫ УМЕ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ПРАВИЛЬНО ПИСАТЬ ИМЕНА ЧИСЛИТЕЛЬ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МЕНА ЧИСЛИТЕЛЬНЫЕ МОГУТ ПИСАТЬ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0360" y="2281320"/>
            <a:ext cx="8351280" cy="2178000"/>
            <a:chOff x="360360" y="2281320"/>
            <a:chExt cx="8351280" cy="2178000"/>
          </a:xfrm>
        </p:grpSpPr>
        <p:cxnSp>
          <p:nvCxnSpPr>
            <p:cNvPr id="168" name="_s3085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5864760" y="1409400"/>
              <a:ext cx="229320" cy="2886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3084"/>
            <p:cNvCxnSpPr>
              <a:stCxn id="172" idx="0"/>
              <a:endCxn id="170" idx="2"/>
            </p:cNvCxnSpPr>
            <p:nvPr/>
          </p:nvCxnSpPr>
          <p:spPr>
            <a:xfrm flipV="1">
              <a:off x="4536000" y="2737800"/>
              <a:ext cx="252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3083"/>
            <p:cNvCxnSpPr>
              <a:stCxn id="174" idx="0"/>
              <a:endCxn id="170" idx="2"/>
            </p:cNvCxnSpPr>
            <p:nvPr/>
          </p:nvCxnSpPr>
          <p:spPr>
            <a:xfrm flipH="1" flipV="1" rot="5400000">
              <a:off x="2978280" y="1409040"/>
              <a:ext cx="229320" cy="2886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0" name="_s3079"/>
            <p:cNvSpPr/>
            <p:nvPr/>
          </p:nvSpPr>
          <p:spPr>
            <a:xfrm>
              <a:off x="2886480" y="2281320"/>
              <a:ext cx="3299400" cy="457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ИМЯ ЧИСЛИТЕЛЬНО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3080"/>
            <p:cNvSpPr/>
            <p:nvPr/>
          </p:nvSpPr>
          <p:spPr>
            <a:xfrm>
              <a:off x="360360" y="2967120"/>
              <a:ext cx="2579400" cy="1492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ЛИТН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ВОСЕМНАДЦА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СЕМЬДЕСЯ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ПЯТИСОТЫ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ДВАДЦАТИМИЛЛИОННЫ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3081"/>
            <p:cNvSpPr/>
            <p:nvPr/>
          </p:nvSpPr>
          <p:spPr>
            <a:xfrm>
              <a:off x="3246480" y="2967120"/>
              <a:ext cx="2579400" cy="1492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АЗДЕЛЬН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ДВАДЦАТЬ СЕМ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ТРИСТА ПЯТЬДЕСЯТ ЧЕТЫР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ПЯТЬ СЕДЬМЫ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ДВАДЦАТЬ ШЕСТО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_s3082"/>
            <p:cNvSpPr/>
            <p:nvPr/>
          </p:nvSpPr>
          <p:spPr>
            <a:xfrm>
              <a:off x="6132960" y="2967120"/>
              <a:ext cx="2578680" cy="1492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280" rIns="6228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ЧЕРЕЗ ДЕФИС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5-ТЫСЯЧНЫ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9-МИЛЛИОННЫ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ЯГКИЙ ЗНАК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В ЧИСЛИТЕЛЬН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ЕРЕДИНЕ                         НА КОН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 50 ДО 80                       ОТ 5 ДО 20,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 500 ДО 9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КЛОНЕНИЕ ЧИСЛИТЕЛЬН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ИН =      КАК МЕСТОИМЕНИЕ ЭТ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4      -       СВОЙ ТИП СКЛО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А-ДВУХ- ДВУМ, ДВА, ДВУМЯ, О ДВ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-20,30 =     КАК СУЩЕСТВИТЕЛЬ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СКЛО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,90,100 = И. В.-О, Д,Р,Т,П-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-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-900 =    СКЛОНЯЮТСЯ ОБЕ Ч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ЫСЯЧА = КАК СУЩЕСТВИТЕЛЬН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СКЛО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ИЛЛИ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ИЛЛИАРД = КАК СУЩЕСТВИТЕЛЬН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СКЛО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АПИШИТЕ ЧИСЛИТЕЛЬНЫЕ СЛОВ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7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0000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Я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НАДЦ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ДЦАТЬ ДЕВЯ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МЬДЕСЯТ ЧЕТЫ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О ВОСЕМЬДЕСЯТ ПЯ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СЕМЬСОТ СЕМЬДЕСЯТ Т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ЫСЯЧА ДЕВЯТЬСОТ ШЕСТЬДЕСЯТ  Д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ЛЛИОН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БЪЯСНИТЕЛЬНЫЙ ДИКТАНТ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ТАВЬТЕ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ПРОПУЩЕННЫЕ БУК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ИН…АДЦ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ИЛ…ИАРД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ЕС…НАДЦ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СЕМ…СО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ТЫРНАДЦАТ…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ЯТЬ (СЕДЬМЫХ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64) ТЫСЯЧН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СЕМИ)СОТ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СТО)СОРОК..(ПЯТИ)МИЛ…ИО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СОРОК…)ЛЕТ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ЯТЬ ТЫСЯЧ… ТРИСТ…СЕМ…ДЕСЯТ ВОСЕМ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ТРЕХ)ТО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ИННАДЦ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НАДЦ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СЕМЬС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ТЫРНАДЦ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ЯТЬ СЕДЬМ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ИДЕСЯТИЧЕТЫРЕХТЫСЯЧ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МИСОТ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РОКАЛЕТ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ЯТЬ ТЫСЯЧ ТРИСТА СЕМЬДЕСЯТ ВОСЕМ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ХЭТАЖ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98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9:04:56Z</dcterms:created>
  <dc:creator>User</dc:creator>
  <dc:description/>
  <dc:language>en-US</dc:language>
  <cp:lastModifiedBy>1</cp:lastModifiedBy>
  <dcterms:modified xsi:type="dcterms:W3CDTF">2012-12-23T16:24:46Z</dcterms:modified>
  <cp:revision>4</cp:revision>
  <dc:subject/>
  <dc:title>УРОК РУССКОГО ЯЗЫКА</dc:title>
</cp:coreProperties>
</file>