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1A15-D1B4-4C1B-A8A3-5AB334F5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A06-D574-4A3D-8142-A0879E06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FF4-3458-41BA-B99E-AAC8A781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A86-B1A6-461C-A5C9-88128611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7127-362E-491A-824E-60A4689B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D2AD-CD0F-48CE-9B39-FCE1E8D8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FF74-7F53-478D-8CAA-FE49EC84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B416-41D1-479E-95A3-AD030BDF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D232-E4ED-4481-8E12-AA81A792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C78A-4281-4F3B-80FD-9973EB11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3C33-161B-4AF3-B1FB-9D740844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AD9-0E7E-442E-9889-8C049477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08A8-89E9-43A2-A817-AFAAB8BF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69F3-6E44-49FC-BE61-14C801AD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DC12-CCD4-40A5-80FA-5478C72C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0802-27A8-4B60-9FCD-B60F2CC9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9FE3-ECD2-4BAB-A9D6-49D02731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085-5F0B-45A7-A7FF-F5991787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040-7256-4E0A-99B8-1389D805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526-F9E6-4D4E-A5E7-A379C299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336-D28F-4EE4-AC73-004EC12B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015-E0CC-446D-A018-820936F2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08A-1F3C-4AD8-A0D0-0D00DF6A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7B4-B398-4E7C-8F1C-A9CD5AFE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4493-D40C-448E-9A8C-4E602D17CB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67C7-8BE2-44F9-AECC-4DEA12EB8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83664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Урок развития реч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2565360"/>
            <a:ext cx="69976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частье – это быть с природой, видеть ее, говорить с н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Л.Н.Толст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рогулка в  лес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908000"/>
            <a:ext cx="8078760" cy="4227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рогулка в лес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равила вежливост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Ветки не ломайте, лист не рви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Можно нарвать букет цветов. Подумаешь! Много зелени – еще выраст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жно пошуметь, покрича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айтесь не шуметь, а то лес испугается, и вы не узнаете ни одной тай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Хозяйка белоч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913440" cy="3730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2960" y="246240"/>
            <a:ext cx="1533600" cy="1428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зяйка белочка В лесу орехи собир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в лесу том каждый сук и каждый кустик зн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жды в лес противный тип пришел с большой котомкой. Небрежно сбил ногою гриб, сломал орешину немн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бедной белочке смотреть на это было боль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Ладонников «Дикарь в лесу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то в домике живет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4537080" cy="2374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651640" y="3860640"/>
            <a:ext cx="2520720" cy="2355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Учимся читать подтекст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 чем говорится в текс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чувства вы испытывали, когда читали миниатюр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 тексты про муравья и белочк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объединяет текс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 чем рассуждает автор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Учимся читать подтекст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иначе мог поступить человек в этой ситуа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бы вы поступили, если бы заметили в лесу муравья с ягод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, по-вашему, автор относится к поступку челове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м вы представляете авто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м изображен мурав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Лесные жител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рый лес, старый лес (широко развести руки в сторо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ный сказочных чудес! (повороты влево – вправо с вытянутыми рукам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 идем гулять сейчас и зовем с собою вас. (ходьб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ружились мы с тобой (широко развести рук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м теперь пора домой (взмахи рукам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Напишите изложе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азите свое  отношение к поступку человека, аргументируя свою точку зр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ращайтесь за доказательствами к исходному тексту из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рассказывай о том, что читал, а рассказывай о том, что поня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Речь – любит течь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ечь человека – это его визитная карточка, его паспорт. По этой визитке составляется впечатление о челове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Подготовьте мини-рассказ от имени муравья. Ответьте на вопрос: «Что же с ним произошло однажды?..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Творческий пересказ от лица одного из герое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Если бы вы были художником, как бы изобразили муравья из миниатюры Приставкина «Муравей»? Рису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!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01080" cy="376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Текст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кст – это сочетание предложений, связанных по смыслу и грамматическ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Тема текс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Это то, о чем (о ком) в нем говорится. Очень часто тема текста отражается в его заглави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Основная мысль текс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Это то, к чему он призывает,  чему учит, ради чего он написан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Миниатюр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Жанр малой формы, это художественное произведение малого размера и тонкой работы, а также изящной отделк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ринадцатое ноября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зложение – миниатюра с элементами интерпретаци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Интерпретировать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столковывать, раскрывать смысл содержания чего-нибуд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Цели урока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тать текст, понимать его содерж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литься своими мнени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ься оригинально мысл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ься вступать в диалог в авто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здадим свой тек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5:23:31Z</dcterms:created>
  <dc:creator>1</dc:creator>
  <dc:description/>
  <dc:language>en-US</dc:language>
  <cp:lastModifiedBy>1</cp:lastModifiedBy>
  <dcterms:modified xsi:type="dcterms:W3CDTF">2012-11-12T17:41:43Z</dcterms:modified>
  <cp:revision>21</cp:revision>
  <dc:subject/>
  <dc:title> Урок развития реч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