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961-B9D4-40BE-87D5-C8F413E1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EE7-F04D-436F-85F8-B72F6F0B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8D1-1924-413E-A4D9-F39BF2B9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A43-CE54-4C7D-832F-D8973A03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AA89-BEEC-4506-B761-EDD9CB23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1873-693D-4F2A-AE1C-CEEEAD37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72F1-253A-4727-BCB1-F791DD2D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FCA0-F458-4846-B80A-3B620B91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EADA-A8AF-4D8A-B004-587348B1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2FCC-B3B6-4453-A5FF-1EFA2F59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4EA1-8129-4FEE-88CE-AA07F3E5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DBF-C3AD-4642-B4A1-87585BF1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15C0-5441-4103-A0FA-7A7955D3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80DE-9E50-4C4F-9CE3-228B3232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FC05-EF3B-406D-A245-53FB5B7E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248E-792A-4F8F-9B94-DF9B95D2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AB19-0A91-4AF4-A467-D153DB81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9DA75-881F-40CD-9046-9CFC95C6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E75B8-6944-4F83-872D-7D0B7885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E6209-CCBF-45CB-8906-C4763E85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3B0CC-99FA-45F3-AB38-9F8FAC09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0E44-CB08-48B5-BBA7-9EDF75EC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E8EF-D66F-4264-BB69-156DE3A5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10C1-C25B-4047-9806-A1E5C666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33CC-F0DD-457D-BEF8-E015D9C5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4DFC-3B5F-4FE8-9486-6234CA32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ADC77-94F9-4106-A02B-B2FF34C6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57A70-3E45-4E1F-9CCE-48F222E5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EC173-1634-4A48-812A-C0E0D147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AD7E-4952-4CEC-869E-69230C29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13C5D-F36B-423B-AC09-2DE9D871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66D41-3864-4E41-A6EA-102A7813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F428-D032-4200-9654-2672E4CF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617-CA53-4D46-8C51-BAD20C74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F9434-25CA-4BC1-BF13-05AA851A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A3B1A-EE52-4164-B294-20D2EE24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A94CA-F771-4A2F-91B9-E3ADD75E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95AE7-7A0E-40F2-A690-5307F432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AFA39-FC3B-4C11-B8FC-57847A47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25C2F-F7B4-457F-8775-75EE97E4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A4B08-A7F7-4E45-83C0-4869AD2A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0935-5D63-40CD-8747-4CB1395B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140F4-BC6C-4675-A182-57BAA65F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DF9F6-213C-44D9-BB9A-A4958C8D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FDB-77D6-4952-97CF-7E916BBB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F678E-8D80-4840-B766-456F84A5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7A6C5-1827-4AAD-B26D-E57D89EB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2E757-8446-4990-920A-ACA34BE0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D80D3-76DD-477D-BBCC-AFEBACD3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3F660-3393-4693-B706-E93F75AD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6E474-94A8-462E-BF57-C441A532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80EBF-249E-48EE-93BD-C312C3B4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B1993-5C19-4731-A619-53738A0D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F4F45-9E8B-4E60-98D0-CC4F4AD8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FC837-BE98-4A75-94D5-B4B3C048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463-8EAB-4E4D-8E2A-37051E85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CD885-449C-4C26-87C6-4C94634A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5BD6F-9C9B-4173-BBD2-372A2D63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1459F-F194-48C0-BD83-6760EEDC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4FEAB-5446-4844-B6E4-E8E4A5D3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7100A-61A5-4D2B-830F-A370CA9E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A31D-4F9C-4FE4-949C-B46D10FD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F7CE2-3365-401F-B90B-488B037A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7BC30-CD94-49BF-A57B-BF421822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91C40-247F-401B-BEB0-76F1E521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B7461-CBD6-4F9E-9B78-0E7E5144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1D3-81BD-4495-A481-919396D8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6272E-413A-4C68-A6F8-72161312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A9613-4B03-4149-8C46-84AF43B7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84AB7-8B2E-49AE-B647-F5927CEC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6C1D3-4879-40A2-8CAB-006A5931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79FAB-1257-4E14-9465-E88A55EE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FE119-88E4-4352-B73A-E0205FEB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12629-C743-4A49-8B33-3DC611BB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4C7C9-EB66-43D3-B37E-CBEA3A57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DB22E-21EE-4D00-85BB-B4943CFB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B2EDA-6679-43AD-A8F2-5B5E0BA2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247-BDFD-4C3E-A623-7DCAFEA8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DB464-35D6-4BEB-808B-6681BF95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2F02D-DB8B-4DB7-B485-8F5A869E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4B0D9-0876-4090-AABB-73919827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7FA41-5B5E-4D17-81F1-BE8ACC2B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D6150-CCD0-4726-9F56-9044D051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41209-7F52-493D-B4C9-F3D28603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6B7A5-691E-4908-862F-4ACA1098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632CF-7FFE-4858-ADA8-F077C3E6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3E588-232F-4CF0-955C-C65BACE4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C7254-7AEA-4EB5-B23B-EC98724A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E91-FD16-49FB-BD4A-4494CC0B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E04F3-3EC3-4396-AC83-EFB89406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BC462-2E3A-4716-A33B-E54ABEF2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A3676-EF32-4126-8265-ADA22738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6CE67-6207-4300-B448-55986B1A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DE459-1816-4949-8C15-7D80AEA5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939A3-B423-428F-90CB-7FEEAAE3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B3CCE-07EF-440F-B22C-7D2327B6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26E3-4F8E-4FB6-A602-010CA7595F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0037-680A-455F-AC8D-27974C45B7E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1434-C1E8-4CFA-9AC4-D9258D1CA7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E0DB-D57C-4FE3-9CA1-30F95221B8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6362-7323-4014-8652-E4DC652091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676F-D7BE-4255-821D-6A643D6677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11EE-EA6B-4933-8383-71FC65CD36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4699-2F89-407C-BBCF-A99A5F77014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3193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дготовила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учитель МОУ «СОШ №40»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Мишкина И.В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85680" y="2279520"/>
            <a:ext cx="4327560" cy="281628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2" descr=""/>
          <p:cNvPicPr/>
          <p:nvPr/>
        </p:nvPicPr>
        <p:blipFill>
          <a:blip r:embed="rId2"/>
          <a:stretch/>
        </p:blipFill>
        <p:spPr>
          <a:xfrm>
            <a:off x="4500720" y="189000"/>
            <a:ext cx="40719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689040" y="262080"/>
            <a:ext cx="7864560" cy="17427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10920" y="1773360"/>
            <a:ext cx="7846920" cy="303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5160"/>
                </a:solidFill>
                <a:latin typeface="Lucida Sans Unicode"/>
              </a:rPr>
              <a:t>Элеонора Петерсо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5160"/>
                </a:solidFill>
                <a:latin typeface="Lucida Sans Unicode"/>
              </a:rPr>
              <a:t>Эрнестина Дернберг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5160"/>
                </a:solidFill>
                <a:latin typeface="Lucida Sans Unicode"/>
              </a:rPr>
              <a:t>Елена Александровна Денисьева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5160"/>
                </a:solidFill>
                <a:latin typeface="Lucida Sans Unicode"/>
              </a:rPr>
              <a:t>Амалия Крюденер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3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240000" cy="430380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1" descr=""/>
          <p:cNvPicPr/>
          <p:nvPr/>
        </p:nvPicPr>
        <p:blipFill>
          <a:blip r:embed="rId2"/>
          <a:stretch/>
        </p:blipFill>
        <p:spPr>
          <a:xfrm>
            <a:off x="109440" y="262080"/>
            <a:ext cx="56149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2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4392720" cy="5162400"/>
          </a:xfrm>
          <a:prstGeom prst="rect">
            <a:avLst/>
          </a:prstGeom>
          <a:ln w="0">
            <a:noFill/>
          </a:ln>
        </p:spPr>
      </p:pic>
      <p:pic>
        <p:nvPicPr>
          <p:cNvPr id="379" name="Подзаголовок 2" descr=""/>
          <p:cNvPicPr/>
          <p:nvPr/>
        </p:nvPicPr>
        <p:blipFill>
          <a:blip r:embed="rId2"/>
          <a:stretch/>
        </p:blipFill>
        <p:spPr>
          <a:xfrm>
            <a:off x="4992840" y="1596960"/>
            <a:ext cx="386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0" y="36360"/>
            <a:ext cx="4645080" cy="235296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3"/>
          <p:cNvSpPr/>
          <p:nvPr/>
        </p:nvSpPr>
        <p:spPr>
          <a:xfrm>
            <a:off x="250920" y="2133720"/>
            <a:ext cx="482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В разлуке есть высокое значенье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Как ни люби, хоть день один, хоть век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Любовь есть сон, а сон — одно мгновенье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И рано ль, поздно ль пробужденье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А должен наконец проснуться человек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Рисунок 2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440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3998880" y="1268280"/>
            <a:ext cx="4748400" cy="299880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30243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Рисунок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3024360" cy="453708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3" descr=""/>
          <p:cNvPicPr/>
          <p:nvPr/>
        </p:nvPicPr>
        <p:blipFill>
          <a:blip r:embed="rId2"/>
          <a:stretch/>
        </p:blipFill>
        <p:spPr>
          <a:xfrm>
            <a:off x="4284720" y="476280"/>
            <a:ext cx="35053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0" y="390600"/>
            <a:ext cx="7772400" cy="115236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3708000" y="1052280"/>
            <a:ext cx="525636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1f28"/>
                </a:solidFill>
                <a:latin typeface="Lucida Sans Unicode"/>
              </a:rPr>
              <a:t>«Денисьевский цикл»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da1f28"/>
                </a:solidFill>
                <a:latin typeface="Lucida Sans Unicode"/>
              </a:rPr>
              <a:t>	</a:t>
            </a:r>
            <a:r>
              <a:rPr b="1" lang="ru-RU" sz="2100" spc="-1" strike="noStrike">
                <a:solidFill>
                  <a:srgbClr val="da1f28"/>
                </a:solidFill>
                <a:latin typeface="Lucida Sans Unicode"/>
              </a:rPr>
              <a:t>(более 15 стихотворений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Прямоугольник 3"/>
          <p:cNvSpPr/>
          <p:nvPr/>
        </p:nvSpPr>
        <p:spPr>
          <a:xfrm>
            <a:off x="755640" y="1916280"/>
            <a:ext cx="8137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Ф.И.Тютчев посвятил безумной страсти к своей Лёле самый пронзительный цикл стихотворений, среди которых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«О как убийственно мы любим…»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«Не говори: меня он, как и прежде, любит…»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«Чему молилась ты с любовью…»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«Я очи знал, – о, эти очи!..»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Весь день она лежала в забытьи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«Последняя любовь» </a:t>
            </a:r>
            <a:r>
              <a:rPr b="1" i="1" lang="ru-RU" sz="2800" spc="-1" strike="noStrike">
                <a:solidFill>
                  <a:srgbClr val="000000"/>
                </a:solidFill>
                <a:latin typeface="Lucida Sans Unicode"/>
              </a:rPr>
              <a:t>и други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5:35:54Z</dcterms:created>
  <dc:creator>Ирина</dc:creator>
  <dc:description/>
  <dc:language>en-US</dc:language>
  <cp:lastModifiedBy>Ирина</cp:lastModifiedBy>
  <dcterms:modified xsi:type="dcterms:W3CDTF">2012-01-24T17:18:38Z</dcterms:modified>
  <cp:revision>17</cp:revision>
  <dc:subject/>
  <dc:title>ФЁДОР ИВАНОВИЧ ТЮТЧЕВ</dc:title>
</cp:coreProperties>
</file>