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0AC1-5980-46A5-B11B-2FBA8DEB2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CF36-7BF3-44F8-902F-23916E17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619C-B758-4767-8E2A-1E8A72E3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C2B0-087B-4516-B85C-636DB7B7E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CBA9-A7B6-4EF3-92A6-4708C4AC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AEAF-D400-4D53-9FED-28482CE0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66E4-242D-45D8-84DC-AB94DE4B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6DB9-F1EE-406E-8D7C-E5D23930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2F60-326B-4470-8E9A-7B0133AD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C734-A266-4C07-A70B-731A9119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0C43-81F3-42E0-8FC0-55F7B971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80CE-9EA7-47CF-8791-86433999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F905-BD28-46F4-BF3C-F10C506E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D6C1-1F42-4E1F-A590-546F12B6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33CB-69A7-4191-8376-0AF73C78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C586-D7E0-4DFD-8814-FB4C687D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AC80-DB2A-4F02-9AA1-88183F45B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F018-E700-4316-89A0-EB5008CB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4758-472C-494A-A91E-3699FCC8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3969-BAD0-4A51-8BF6-9274283D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1AC9-3499-4516-A90C-6547B734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D1E4-863E-429E-86F9-3F12F19D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6A06-0792-43A4-843B-1F64BAAE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0A61-01CF-45E1-A713-C97BE54F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D7BC-70D6-47F3-9596-E06857C0A410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C13E-9D5C-4CC6-935F-402749F351B7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Презентация урока учителя русского языка </a:t>
            </a:r>
            <a:br>
              <a:rPr sz="4000"/>
            </a:b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 Журавлевой Оксаны Сергеевн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8920" y="292428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г. Ногинск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МБСКОУ ГОШИ №2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5.06.2013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7d47d"/>
                </a:solidFill>
                <a:latin typeface="Arial"/>
              </a:rPr>
              <a:t>Что такое «настоящая дружба»?</a:t>
            </a:r>
            <a:br>
              <a:rPr sz="3500"/>
            </a:br>
            <a:r>
              <a:rPr b="1" lang="en-US" sz="3500" spc="-1" strike="noStrike">
                <a:solidFill>
                  <a:srgbClr val="f7d47d"/>
                </a:solidFill>
                <a:latin typeface="Arial"/>
              </a:rPr>
              <a:t>(мини-сочинение)</a:t>
            </a:r>
            <a:endParaRPr b="0" lang="en-US" sz="35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2f1311"/>
                </a:solidFill>
                <a:latin typeface="Arial"/>
              </a:rPr>
              <a:t>Дружить – это …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2f1311"/>
                </a:solidFill>
                <a:latin typeface="Arial"/>
              </a:rPr>
              <a:t>Я считаю, что …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2f1311"/>
                </a:solidFill>
                <a:latin typeface="Arial"/>
              </a:rPr>
              <a:t>Мне кажется, что…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2f1311"/>
                </a:solidFill>
                <a:latin typeface="Arial"/>
              </a:rPr>
              <a:t>Я решил, что…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4257720"/>
            <a:ext cx="37800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1" i="1" lang="en-US" sz="5800" spc="-1" strike="noStrike">
                <a:solidFill>
                  <a:srgbClr val="2f1311"/>
                </a:solidFill>
                <a:latin typeface="Arial"/>
              </a:rPr>
              <a:t>Тема урока:</a:t>
            </a:r>
            <a:br>
              <a:rPr sz="5800"/>
            </a:br>
            <a:r>
              <a:rPr b="1" i="1" lang="en-US" sz="5800" spc="-1" strike="noStrike">
                <a:solidFill>
                  <a:srgbClr val="c16059"/>
                </a:solidFill>
                <a:latin typeface="Arial"/>
              </a:rPr>
              <a:t>Тема урока:</a:t>
            </a:r>
            <a:br>
              <a:rPr sz="5800"/>
            </a:br>
            <a:r>
              <a:rPr b="1" i="1" lang="en-US" sz="5800" spc="-1" strike="noStrike">
                <a:solidFill>
                  <a:srgbClr val="f7d47d"/>
                </a:solidFill>
                <a:latin typeface="Arial"/>
              </a:rPr>
              <a:t>Обобщение и систематизация знаний по теме «Глагол»</a:t>
            </a:r>
            <a:endParaRPr b="0" lang="en-US" sz="58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920" y="-1717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7d47d"/>
                </a:solidFill>
                <a:latin typeface="Arial"/>
              </a:rPr>
              <a:t>Цели урока:</a:t>
            </a:r>
            <a:endParaRPr b="0" lang="en-US" sz="3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1311"/>
                </a:solidFill>
                <a:latin typeface="Arial"/>
              </a:rPr>
              <a:t>1) систематизация и обобщение знаний о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2f1311"/>
                </a:solidFill>
                <a:latin typeface="Arial"/>
              </a:rPr>
              <a:t>глаголе;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1311"/>
                </a:solidFill>
                <a:latin typeface="Arial"/>
              </a:rPr>
              <a:t>2) формирование умения  находить глагол и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2f1311"/>
                </a:solidFill>
                <a:latin typeface="Arial"/>
              </a:rPr>
              <a:t>определять его морфологические признаки,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2f1311"/>
                </a:solidFill>
                <a:latin typeface="Arial"/>
              </a:rPr>
              <a:t>синтаксическую роль;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1311"/>
                </a:solidFill>
                <a:latin typeface="Arial"/>
              </a:rPr>
              <a:t>3) обосновывать правильность выбора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2f1311"/>
                </a:solidFill>
                <a:latin typeface="Arial"/>
              </a:rPr>
              <a:t>орфограмм при написании глагола;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2f1311"/>
                </a:solidFill>
                <a:latin typeface="Arial"/>
              </a:rPr>
              <a:t>использовать глагол в речи;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1311"/>
                </a:solidFill>
                <a:latin typeface="Arial"/>
              </a:rPr>
              <a:t>4) формировать  интерес  к  предмету  через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2f1311"/>
                </a:solidFill>
                <a:latin typeface="Arial"/>
              </a:rPr>
              <a:t>использование   различных   форм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2f1311"/>
                </a:solidFill>
                <a:latin typeface="Arial"/>
              </a:rPr>
              <a:t>обучения и  создания  ситуации успеха.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796000" y="4437000"/>
            <a:ext cx="1944720" cy="22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r>
              <a:rPr b="1" i="1" lang="en-US" sz="4200" spc="-1" strike="noStrike">
                <a:solidFill>
                  <a:srgbClr val="f7d47d"/>
                </a:solidFill>
                <a:latin typeface="Arial"/>
              </a:rPr>
              <a:t>Девиз урока:</a:t>
            </a:r>
            <a:br>
              <a:rPr sz="4200"/>
            </a:b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4000" y="476280"/>
            <a:ext cx="7127640" cy="3962520"/>
          </a:xfrm>
          <a:prstGeom prst="horizontalScrol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2f1311"/>
                </a:solidFill>
                <a:latin typeface="Arial"/>
              </a:rPr>
              <a:t>«Учись, смекай, активным будь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2f1311"/>
                </a:solidFill>
                <a:latin typeface="Arial"/>
              </a:rPr>
              <a:t>И к знаниям откроешь путь!»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195640" y="4149720"/>
            <a:ext cx="331128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f7d47d"/>
                </a:solidFill>
                <a:latin typeface="Arial"/>
              </a:rPr>
              <a:t>Синтаксическая пятиминутка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73868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Уж та..т снег, бегут ручьи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В окно повеяло весною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Засвищ..т скоро соловь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И лес оден..т(?)ся листвою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А. Плещеев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116000" y="386064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250560" y="1628280"/>
            <a:ext cx="3616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f1311"/>
                </a:solidFill>
                <a:latin typeface="Arial"/>
              </a:rPr>
              <a:t>1) Хоч…ш(?) быть счастливым –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f1311"/>
                </a:solidFill>
                <a:latin typeface="Arial"/>
              </a:rPr>
              <a:t>2) Совреш(?) – не помреш(?),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f1311"/>
                </a:solidFill>
                <a:latin typeface="Arial"/>
              </a:rPr>
              <a:t>3) Дружба, что стекло:</a:t>
            </a:r>
            <a:r>
              <a:rPr b="0" lang="ru-RU" sz="25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066920" y="1628280"/>
            <a:ext cx="36176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f1311"/>
                </a:solidFill>
                <a:latin typeface="Arial"/>
              </a:rPr>
              <a:t>а вперед не 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f1311"/>
                </a:solidFill>
                <a:latin typeface="Arial"/>
              </a:rPr>
              <a:t>повер…т.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f1311"/>
                </a:solidFill>
                <a:latin typeface="Arial"/>
              </a:rPr>
              <a:t>будь чес(?)ным. 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f1311"/>
                </a:solidFill>
                <a:latin typeface="Arial"/>
              </a:rPr>
              <a:t>не почин…ш(?).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0920" y="404640"/>
            <a:ext cx="7343640" cy="790920"/>
          </a:xfrm>
          <a:prstGeom prst="wedgeRoundRectCallout">
            <a:avLst>
              <a:gd name="adj1" fmla="val 7652"/>
              <a:gd name="adj2" fmla="val 51606"/>
              <a:gd name="adj3" fmla="val 16667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f1311"/>
                </a:solidFill>
                <a:latin typeface="Arial"/>
              </a:rPr>
              <a:t>Собери пословицы: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 rot="853800">
            <a:off x="611280" y="5444640"/>
            <a:ext cx="1438200" cy="1152720"/>
          </a:xfrm>
          <a:prstGeom prst="star5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203600">
            <a:off x="5724000" y="1700280"/>
            <a:ext cx="1943280" cy="1728720"/>
          </a:xfrm>
          <a:custGeom>
            <a:avLst/>
            <a:gdLst>
              <a:gd name="textAreaLeft" fmla="*/ 800640 w 1943280"/>
              <a:gd name="textAreaRight" fmla="*/ 1142640 w 1943280"/>
              <a:gd name="textAreaTop" fmla="*/ 712440 h 1728720"/>
              <a:gd name="textAreaBottom" fmla="*/ 101628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396200">
            <a:off x="5866920" y="5516280"/>
            <a:ext cx="1440000" cy="914400"/>
          </a:xfrm>
          <a:prstGeom prst="star5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771640" y="5013360"/>
            <a:ext cx="2016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7d47d"/>
                </a:solidFill>
                <a:latin typeface="Arial"/>
              </a:rPr>
              <a:t>Отрывок из сказки  Экхольма «Тута Ларсен, Людвиг 14 и другие»</a:t>
            </a:r>
            <a:endParaRPr b="0" lang="en-US" sz="3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738684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2f1311"/>
                </a:solidFill>
                <a:latin typeface="Arial"/>
              </a:rPr>
              <a:t>Не хитрость.</a:t>
            </a:r>
            <a:r>
              <a:rPr b="0" lang="ru-RU" sz="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f1311"/>
                </a:solidFill>
                <a:latin typeface="Arial"/>
              </a:rPr>
              <a:t>               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В нору Ларссонов пришло ужасное горе. Родители (не) доумевали и (не) годовали.</a:t>
            </a:r>
            <a:br>
              <a:rPr sz="2000"/>
            </a:b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      - Хорош сын! Я этого (не) переживу,- сказал папа.</a:t>
            </a:r>
            <a:br>
              <a:rPr sz="2000"/>
            </a:b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      - Никогда (не) могла предположить, что вместо помощника у нас вырастет такой сын, - грустно вздохнула мама.</a:t>
            </a:r>
            <a:br>
              <a:rPr sz="2000"/>
            </a:b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      Что же случилось в лисьей семье? Сын Людвиг (не) захотел учиться лисьей хитрости.</a:t>
            </a:r>
            <a:br>
              <a:rPr sz="2000"/>
            </a:b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      - Только (не) наказывай его, - сказала мама.</a:t>
            </a:r>
            <a:br>
              <a:rPr sz="2000"/>
            </a:b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      - Хорошо, (не) буду. Но (не) поговорить с ним я (не) могу.</a:t>
            </a:r>
            <a:br>
              <a:rPr sz="2000"/>
            </a:b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      Папа Ларссон вошел в комнату сына. 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68360" y="5013360"/>
            <a:ext cx="2880000" cy="18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7d47d"/>
                </a:solidFill>
                <a:latin typeface="Arial"/>
              </a:rPr>
              <a:t>Проверь себя!</a:t>
            </a:r>
            <a:endParaRPr b="0" lang="en-US" sz="4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3429000"/>
            <a:ext cx="7200720" cy="914400"/>
          </a:xfrm>
          <a:custGeom>
            <a:avLst/>
            <a:gdLst>
              <a:gd name="textAreaLeft" fmla="*/ 0 w 7200720"/>
              <a:gd name="textAreaRight" fmla="*/ 7201080 w 720072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f1311"/>
                </a:solidFill>
                <a:latin typeface="Arial"/>
              </a:rPr>
              <a:t>Хочешь быть счастливым – будь честным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360" y="4437000"/>
            <a:ext cx="7200720" cy="914400"/>
          </a:xfrm>
          <a:custGeom>
            <a:avLst/>
            <a:gdLst>
              <a:gd name="textAreaLeft" fmla="*/ 0 w 7200720"/>
              <a:gd name="textAreaRight" fmla="*/ 7201080 w 720072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2f1311"/>
                </a:solidFill>
                <a:latin typeface="Arial"/>
              </a:rPr>
              <a:t>Соврешь – не помрешь, а вперед не поверят.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5589720"/>
            <a:ext cx="7200720" cy="914400"/>
          </a:xfrm>
          <a:custGeom>
            <a:avLst/>
            <a:gdLst>
              <a:gd name="textAreaLeft" fmla="*/ 44640 w 7200720"/>
              <a:gd name="textAreaRight" fmla="*/ 7245720 w 720072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134" y="1400"/>
                </a:moveTo>
                <a:cubicBezTo>
                  <a:pt x="7267" y="-3560"/>
                  <a:pt x="14467" y="6360"/>
                  <a:pt x="21600" y="1400"/>
                </a:cubicBezTo>
                <a:lnTo>
                  <a:pt x="21466" y="20200"/>
                </a:lnTo>
                <a:cubicBezTo>
                  <a:pt x="14333" y="25160"/>
                  <a:pt x="7133" y="15240"/>
                  <a:pt x="0" y="20200"/>
                </a:cubicBez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2f1311"/>
                </a:solidFill>
                <a:latin typeface="Arial"/>
              </a:rPr>
              <a:t>Дружба, что стекло: сломаешь – не починишь.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2242800">
            <a:off x="398160" y="177480"/>
            <a:ext cx="4054320" cy="4049640"/>
          </a:xfrm>
          <a:prstGeom prst="irregularSeal2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1944720" cy="16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2276280"/>
            <a:ext cx="73864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f1311"/>
                </a:solidFill>
                <a:latin typeface="Arial"/>
              </a:rPr>
              <a:t>Пиш..т, купа..т, верт..т, руб..т, дума..т,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f1311"/>
                </a:solidFill>
                <a:latin typeface="Arial"/>
              </a:rPr>
              <a:t>постел..т, рису..шь, крас..т, пол..т,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f1311"/>
                </a:solidFill>
                <a:latin typeface="Arial"/>
              </a:rPr>
              <a:t>терп..т, чувству..т, выход..т, бре..т,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f1311"/>
                </a:solidFill>
                <a:latin typeface="Arial"/>
              </a:rPr>
              <a:t>суш..т.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735000">
            <a:off x="899640" y="188640"/>
            <a:ext cx="1635120" cy="1366920"/>
          </a:xfrm>
          <a:prstGeom prst="irregularSeal2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2f1311"/>
                </a:solidFill>
                <a:latin typeface="Arial"/>
              </a:rPr>
              <a:t>Е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189000"/>
            <a:ext cx="1562400" cy="1484280"/>
          </a:xfrm>
          <a:prstGeom prst="irregularSeal1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2f1311"/>
                </a:solidFill>
                <a:latin typeface="Arial"/>
              </a:rPr>
              <a:t>И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19640" y="836640"/>
            <a:ext cx="914400" cy="799920"/>
          </a:xfrm>
          <a:prstGeom prst="flowChartPunchedTap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2f1311"/>
                </a:solidFill>
                <a:latin typeface="Arial"/>
              </a:rPr>
              <a:t>или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276720" y="4005360"/>
            <a:ext cx="20872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3T19:16:52Z</dcterms:created>
  <dc:creator>Журавлев</dc:creator>
  <dc:description/>
  <dc:language>en-US</dc:language>
  <cp:lastModifiedBy>Журавлев</cp:lastModifiedBy>
  <dcterms:modified xsi:type="dcterms:W3CDTF">2013-06-24T19:13:30Z</dcterms:modified>
  <cp:revision>5</cp:revision>
  <dc:subject/>
  <dc:title>  Обобщение и систематизация знаний по теме «Глагол»</dc:title>
</cp:coreProperties>
</file>