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6DD-5263-4812-8DB4-9440714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1AD-A3C6-4F27-869A-825FB3A1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611-3F27-45D8-8255-0422F3F8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BD4-2C90-42C7-B9CC-2DC6A45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5CCE-8332-4B17-A513-B23071E9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335-ABBA-4F77-8DD5-EF75CB40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4A1C-4DC8-40F7-851A-5DD3B76F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F9A-F179-480A-8DE6-6EB4CB0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4DA-E46B-416C-867F-49C43818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12D4-6BDF-4BE4-9217-C79E0842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268F-E090-4DE6-B567-FC8EF8B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B3E-4CFE-4D8E-8580-80775470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6D8C-49C5-4C70-8E67-B40BF70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D4FA-B91E-43C0-A8A8-D28A9A7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FA9A-972C-4443-A49A-4DD1B8E1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5410-7573-40BC-AF7D-85EBE2FF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177-B8B2-43B5-9377-3100D59D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991-A779-4925-96CA-75040C7A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7B1-DD95-4196-B3C2-2661EDD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A9-55F0-412F-99D4-BD5B8FF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0D4-FA42-48E5-911E-4829FBD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161-67C8-4A28-B928-E03D1EF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D69-9FD1-4AE0-9A6D-96C67BD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D45-53E7-474A-B8F6-D89354E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AA7-7CED-4C86-90F8-E0E6471AC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0CA-C568-454D-94AD-191EB5944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9900"/>
                </a:solidFill>
                <a:latin typeface="Times New Roman"/>
              </a:rPr>
              <a:t>Конспект урока по теме:</a:t>
            </a:r>
            <a:br>
              <a:rPr sz="4000"/>
            </a:br>
            <a:r>
              <a:rPr b="1" i="1" lang="ru-RU" sz="4000" spc="-1" strike="noStrike">
                <a:solidFill>
                  <a:srgbClr val="ff9900"/>
                </a:solidFill>
                <a:latin typeface="Times New Roman"/>
              </a:rPr>
              <a:t>Сочинение – описание</a:t>
            </a:r>
            <a:br>
              <a:rPr sz="4000"/>
            </a:br>
            <a:r>
              <a:rPr b="1" i="1" lang="ru-RU" sz="4000" spc="-1" strike="noStrike">
                <a:solidFill>
                  <a:srgbClr val="ff9900"/>
                </a:solidFill>
                <a:latin typeface="Times New Roman"/>
              </a:rPr>
              <a:t> по картине А. А. Пластова «Летом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340000" y="3789360"/>
            <a:ext cx="680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Учитель: Журавлева О. 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МБСКОУ ГОШИ №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г. Ногин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ff9900"/>
                </a:solidFill>
                <a:latin typeface="Times New Roman"/>
              </a:rPr>
              <a:t>2013 г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Словосочетания со словами-синонимами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1988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500" spc="-1" strike="noStrike">
                <a:solidFill>
                  <a:srgbClr val="feec94"/>
                </a:solidFill>
                <a:latin typeface="Times New Roman"/>
              </a:rPr>
              <a:t>Зеленый - изумрудный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16000" y="206064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500" spc="-1" strike="noStrike">
                <a:solidFill>
                  <a:srgbClr val="feec94"/>
                </a:solidFill>
                <a:latin typeface="Times New Roman"/>
              </a:rPr>
              <a:t>Яркий - ослепительный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3795840"/>
            <a:ext cx="403848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eec94"/>
                </a:solidFill>
                <a:latin typeface="Times New Roman"/>
              </a:rPr>
              <a:t>(Зеленая полянка, изумрудная трава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00720" y="3141360"/>
            <a:ext cx="403848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eec94"/>
                </a:solidFill>
                <a:latin typeface="Times New Roman"/>
              </a:rPr>
              <a:t>(Яркие краски, ослепительный луг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6968400">
            <a:off x="2780640" y="1978560"/>
            <a:ext cx="976320" cy="4190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04760 h 419040"/>
              <a:gd name="textAreaBottom" fmla="*/ 314280 h 419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865200">
            <a:off x="5162760" y="2045520"/>
            <a:ext cx="976320" cy="431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-171360"/>
            <a:ext cx="82296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ставить пропущенные букв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литая солнц… поляна, на опушке лес…, толст… стволы двух берез, тень под раскидист… кроной деревьев, знойн… жарк… полдень, устал… грибники, наполнена дыханием летн… дня, запахи трав, в тен… деревьев; грибники, отдыхающие на тра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4753080" cy="2637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ан к сочинению – описанию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1. Солнечный ден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2. Лесная полян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3. Девочка с ягод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4. Спящая ма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5. Усталая собач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6. Чем привлекательна карт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1279200">
            <a:off x="5003280" y="2276280"/>
            <a:ext cx="3802320" cy="2657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6037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исьменная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464000" cy="468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906800" cy="5337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443640" y="1052640"/>
            <a:ext cx="2232000" cy="1368360"/>
          </a:xfrm>
          <a:prstGeom prst="wedgeRoundRectCallout">
            <a:avLst>
              <a:gd name="adj1" fmla="val -55407"/>
              <a:gd name="adj2" fmla="val 63111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eec94"/>
                </a:solidFill>
                <a:latin typeface="Times New Roman"/>
              </a:rPr>
              <a:t>Хороших оценок!!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931800">
            <a:off x="6227640" y="414936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Цели урока</a:t>
            </a: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1. Познакомить учащихся с творчеством русского художника А. А. Пластов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2. приобщить учащихся к искусству: живописи, литератур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3. развивать связную речь учащихся, учить составлять описание внешности человека, прир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4. активизировать лексику учащихся по данной те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ластов Аркадий Александрович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1893 – 1972 г. г.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54200" y="1557360"/>
            <a:ext cx="4024440" cy="530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иография А. А. Пласт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28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А.  Пластов родился в 1893 году в селе Прислониха Ульяновской области, где провел большую часть своей жизни. Прадед, дед и отец Пластова тоже были живописцами. Сам он начал рисовать с раннего детства и юношей дал себе клятву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только живописцем и никем боле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Он был влюблен в русскую природу, в деревенскую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А. Пластов написал много картин. Например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т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ден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ноко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сне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шист прилете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творчестве Пластова нашли отражение и суровые годы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то- самое любимое время года этого чело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. А. Баратын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164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юблю деревню я и лето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говор вод, и тень дубров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благовоние цветов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ой душе не мило это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ыть так, прощаю комаров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признаюсь — пустыни жител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кой пустынный в ней любя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ар двуногий, гость-мучител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, не прощаю я тебя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56000" y="1824120"/>
            <a:ext cx="4788000" cy="3830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. И. Тютче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0"/>
            <a:ext cx="500364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Сияет солнце, воды блещут,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а всем улыбка, жизнь во всем,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Деревья радостно трепещут,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упаясь в небе голубом.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Поют деревья, блещут воды,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Любовью воздух растворен,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И мир, цветущий мир природы,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Избытком жизни упоен.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о и в избытке упоенья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Нет упоения сильней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дной улыбки умиленья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Измученной души твоей…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20753400">
            <a:off x="395280" y="2707920"/>
            <a:ext cx="4667400" cy="3724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яла корзина на полке без дел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кучала, наверно, все лето о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т осень пришла, и листва пожелт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стала пора собирать урожа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зинка доволь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а удивилас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так много фруктов в саду уродило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0680" y="331920"/>
            <a:ext cx="6840720" cy="1079280"/>
          </a:xfrm>
          <a:custGeom>
            <a:avLst/>
            <a:gdLst>
              <a:gd name="textAreaLeft" fmla="*/ 0 w 6840720"/>
              <a:gd name="textAreaRight" fmla="*/ 6841080 w 6840720"/>
              <a:gd name="textAreaTop" fmla="*/ 139680 h 1079280"/>
              <a:gd name="textAreaBottom" fmla="*/ 939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472000">
            <a:off x="1332000" y="1773360"/>
            <a:ext cx="2735280" cy="200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83200">
            <a:off x="899640" y="4292640"/>
            <a:ext cx="3505320" cy="22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686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1" i="1" lang="ru-RU" sz="3000" spc="-1" strike="noStrike">
                <a:solidFill>
                  <a:srgbClr val="feec94"/>
                </a:solidFill>
                <a:latin typeface="Times New Roman"/>
              </a:rPr>
              <a:t>Картина А. А. Пластова </a:t>
            </a:r>
            <a:br>
              <a:rPr sz="3000"/>
            </a:br>
            <a:r>
              <a:rPr b="1" i="1" lang="ru-RU" sz="30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«Летом»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457520" cy="651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ексическая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3789360"/>
            <a:ext cx="4506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1. Художник, специалист по портретной живописи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16320" y="4130640"/>
            <a:ext cx="402732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1. Живописец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специализирующийся на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написании живописи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2. Писатель, описывающий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природу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197000"/>
            <a:ext cx="3456000" cy="25210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ортрет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68280"/>
            <a:ext cx="4176720" cy="237672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ейзаж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050920" y="3428640"/>
            <a:ext cx="547920" cy="576360"/>
          </a:xfrm>
          <a:prstGeom prst="upArrow">
            <a:avLst>
              <a:gd name="adj1" fmla="val 50000"/>
              <a:gd name="adj2" fmla="val 262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6372000" y="3499920"/>
            <a:ext cx="485640" cy="576360"/>
          </a:xfrm>
          <a:prstGeom prst="upArrow">
            <a:avLst>
              <a:gd name="adj1" fmla="val 50000"/>
              <a:gd name="adj2" fmla="val 296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20:10:03Z</dcterms:created>
  <dc:creator>Makeev</dc:creator>
  <dc:description/>
  <dc:language>en-US</dc:language>
  <cp:lastModifiedBy>zhuravleva</cp:lastModifiedBy>
  <dcterms:modified xsi:type="dcterms:W3CDTF">2013-07-09T11:52:09Z</dcterms:modified>
  <cp:revision>4</cp:revision>
  <dc:subject/>
  <dc:title>Конспект урока по теме: Сочинение – описание по картине А. А. Пластова «Летом»</dc:title>
</cp:coreProperties>
</file>