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4BFF-4FB4-4C96-9933-E67F267B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BDBF1-B920-462B-8B60-F13FD2AA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167E7-2047-4182-9632-5BC615BE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51136-4CD5-4748-B937-EAC0212A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FD17-2540-4344-A629-D6E7BD5E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8612-0CA0-498C-838E-A7990F48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B23F-1A1F-4B5D-AED7-62349A8E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7466-E2F7-4184-A042-CE303FB3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C6F8-879B-412D-A238-0EDF4516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56F1-423D-4274-83D5-0DC60956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2B43-B071-44CD-9AA1-B8C18E0B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EA131-1B1E-40EF-8806-CEA2CF3C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1FE9-3BBF-4748-861F-B5CB4752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603A-8D4E-4599-80B8-BAC5EA28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8598-D770-4DE6-B3DB-C16C1A5D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0B2A-9229-495F-BCE6-8EF9108A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8787-5B42-42A4-AB42-200A0F73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34F0-9BDF-48CE-A12E-E7E337C9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89D7-B3E2-47FE-850D-B4B81EB4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39A2D-2F6E-4412-89F4-A83F8126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60705-120F-4B7C-ADEF-5395C779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7169C-FD26-4162-9B78-9EECB14E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CC78F-8589-492B-B98F-CA593167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69D0-7AC5-4712-B541-9D7284B4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6950-EBBD-4B6F-B706-06CE2E58FAC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35D2-7697-4F18-8005-BF689057AF0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ideo.mail.ru/list/tango1000/307/803.html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ема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: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Строки,опаленные войной…» (Поэзия военных лет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214200" y="500040"/>
            <a:ext cx="8215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Почему в годы Великой Отечественной войны было написано так много лирических произведений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Фильм.wmv" descr=""/>
          <p:cNvPicPr/>
          <p:nvPr/>
        </p:nvPicPr>
        <p:blipFill>
          <a:blip r:embed="rId1"/>
          <a:stretch/>
        </p:blipFill>
        <p:spPr>
          <a:xfrm>
            <a:off x="0" y="0"/>
            <a:ext cx="8858160" cy="6643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Война – жесточе нету слова, </a:t>
            </a: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Война – печальней нету слова. </a:t>
            </a: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Война – святее нету слова </a:t>
            </a: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В тоске и славе этих лет. </a:t>
            </a: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И на устах у нас иного </a:t>
            </a: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Еще не может быть и нет… </a:t>
            </a: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А. Твардовск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[proMinusovki.ru]_voennye-svyashhennaya-vojna-minusovka.mp3" descr=""/>
          <p:cNvPicPr/>
          <p:nvPr/>
        </p:nvPicPr>
        <p:blipFill>
          <a:blip r:embed="rId2"/>
          <a:stretch/>
        </p:blipFill>
        <p:spPr>
          <a:xfrm>
            <a:off x="792972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44733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79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Почему в годы Великой Отечественной войны было написано так много лирических произведений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435280" y="1599840"/>
            <a:ext cx="325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на Андреевна Ахмат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1889-196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ахматова"/>
          <p:cNvPicPr/>
          <p:nvPr/>
        </p:nvPicPr>
        <p:blipFill>
          <a:blip r:embed="rId1"/>
          <a:stretch/>
        </p:blipFill>
        <p:spPr>
          <a:xfrm>
            <a:off x="0" y="0"/>
            <a:ext cx="539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3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ександр Трифонович Твардо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1910-197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твардовский"/>
          <p:cNvPicPr/>
          <p:nvPr/>
        </p:nvPicPr>
        <p:blipFill>
          <a:blip r:embed="rId1"/>
          <a:stretch/>
        </p:blipFill>
        <p:spPr>
          <a:xfrm>
            <a:off x="4062240" y="260280"/>
            <a:ext cx="50817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3280" y="1599840"/>
            <a:ext cx="3683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антин Симо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симонов"/>
          <p:cNvPicPr/>
          <p:nvPr/>
        </p:nvPicPr>
        <p:blipFill>
          <a:blip r:embed="rId1"/>
          <a:stretch/>
        </p:blipFill>
        <p:spPr>
          <a:xfrm>
            <a:off x="0" y="0"/>
            <a:ext cx="483228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жди меня.mp3" descr=""/>
          <p:cNvPicPr/>
          <p:nvPr/>
        </p:nvPicPr>
        <p:blipFill>
          <a:blip r:embed="rId2"/>
          <a:stretch/>
        </p:blipFill>
        <p:spPr>
          <a:xfrm>
            <a:off x="5072040" y="6000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жди меня.mp3" descr=""/>
          <p:cNvPicPr/>
          <p:nvPr/>
        </p:nvPicPr>
        <p:blipFill>
          <a:blip r:embed="rId3"/>
          <a:stretch/>
        </p:blipFill>
        <p:spPr>
          <a:xfrm>
            <a:off x="507204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8238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1" descr="пос боя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поппури.mp3" descr=""/>
          <p:cNvPicPr/>
          <p:nvPr/>
        </p:nvPicPr>
        <p:blipFill>
          <a:blip r:embed="rId3"/>
          <a:stretch/>
        </p:blipFill>
        <p:spPr>
          <a:xfrm>
            <a:off x="871524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9344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са Джали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джалиль"/>
          <p:cNvPicPr/>
          <p:nvPr/>
        </p:nvPicPr>
        <p:blipFill>
          <a:blip r:embed="rId1"/>
          <a:stretch/>
        </p:blipFill>
        <p:spPr>
          <a:xfrm>
            <a:off x="4014720" y="0"/>
            <a:ext cx="46497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расстрел.jpg"/>
          <p:cNvPicPr/>
          <p:nvPr/>
        </p:nvPicPr>
        <p:blipFill>
          <a:blip r:embed="rId1"/>
          <a:stretch/>
        </p:blipFill>
        <p:spPr>
          <a:xfrm>
            <a:off x="-3816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3:45:22Z</dcterms:created>
  <dc:creator>польщзователь</dc:creator>
  <dc:description/>
  <dc:language>en-US</dc:language>
  <cp:lastModifiedBy>Молчанов Н. И.</cp:lastModifiedBy>
  <dcterms:modified xsi:type="dcterms:W3CDTF">2011-03-09T15:27:39Z</dcterms:modified>
  <cp:revision>15</cp:revision>
  <dc:subject/>
  <dc:title>Воина – жесточе нету слова,  Война – печальней нету слова.  Война – святее нету слова  В тоске и славе этих лет.  И на устах у нас иного  Еще не может быть и нет…  А. Твардовский</dc:title>
</cp:coreProperties>
</file>