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9D4-3DB3-44EF-87E3-029F54B6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79B-36A1-4342-AD10-0D51073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55D-68C3-4086-A262-C7D0643D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5E7-5908-46AA-AA83-B04B7E68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42A-4EFE-4C93-960E-8750F2F8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063D-4CDF-4E9F-95E6-828C9BB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D516-9FD7-42CD-BA78-7D14682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6AD4-A60D-4D69-8BE8-3B1FF2B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67B2-536F-44E7-86BF-8F1E6F9C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FB0-47C2-4373-9747-344A2618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C7D4-82AE-4CC8-9A9E-6DD03F8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EF1-2727-40A0-9565-B598557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EF53-632C-4469-9F53-B298964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61F-48A9-4853-8EEA-A536D2D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BD7-EA4D-4D98-AED2-D2C83DB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C6C-C189-430E-92E0-D279B893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9F3-FCF3-4B23-8282-CC38EFE8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160-D282-467B-AD15-635A907D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340-B457-4775-B5EE-9717D20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0CD-7AEC-4EA5-8054-46DE701E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622-8C31-4540-9F6C-E0CC3B0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190-F916-4039-8611-60D7E7E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C92-5223-4679-9155-C09AF47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927-11BD-4462-8683-A497380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CBDB-12F8-4E03-BA55-87FC0CB3CA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A143-434F-476F-A16E-F5E17EDCFD7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10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«ТЕПЛОВЫЕ ЯВЛЕНИЯ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468360" y="25002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пиграф: «Человек страшится только того,  чего не знает, знанием побеждается всякий страх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.Г. Белински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нтеллектуальная игра по физике для 8-х класс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85840" y="1000080"/>
          <a:ext cx="8143920" cy="4808520"/>
        </p:xfrm>
        <a:graphic>
          <a:graphicData uri="http://schemas.openxmlformats.org/drawingml/2006/table">
            <a:tbl>
              <a:tblPr/>
              <a:tblGrid>
                <a:gridCol w="1714320"/>
                <a:gridCol w="1062000"/>
                <a:gridCol w="366840"/>
                <a:gridCol w="428760"/>
                <a:gridCol w="428400"/>
                <a:gridCol w="428760"/>
                <a:gridCol w="428760"/>
                <a:gridCol w="428400"/>
                <a:gridCol w="428760"/>
                <a:gridCol w="361800"/>
                <a:gridCol w="995400"/>
                <a:gridCol w="1071720"/>
              </a:tblGrid>
              <a:tr h="563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азвание команды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ласс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ичество баллов за конкурсы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того баллов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0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Т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олельщик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ейтрон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 «А»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1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том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 «Б»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40"/>
          <p:cNvSpPr/>
          <p:nvPr/>
        </p:nvSpPr>
        <p:spPr>
          <a:xfrm>
            <a:off x="428760" y="2858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токол результатов  интеллектуальной игры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тепловые явления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щение к участникам игр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бят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«И пусть преграды вас не остановят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 новые миры к себе манят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ам оставить след в науке стои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 внести в открытия свой вклад!»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Цель игры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Актуализация знаний обучающихся в  предметной области «Физика», а также выявление одаренных обучающихся, способных  применять полученные знания в нестандартной ситуаци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9285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дачи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высить интерес обучающихся к физике, как одному из предметов естественно - научного цикл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тимулировать познавательную активность и творчество обучающихся, их смекалку, наблюдательность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учить применять знания в новой ситуации, а также  грамотно объяснять происходящие физические явления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должить развивать и закреплять навыки решения экспериментальных, расчетных и качественных задач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формировать у обучающихся коммуникативные навыки, умения работать  в группах, умения оценивать деятельность товарища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борудование: компьютер, видеопроектор, приборы для эксперимент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яснительная записка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игре участвуют несколько команд в составе 4-5 обучающихся в 8 классе. Это могут быть команды из разных школ города или команды из разных классов на параллели  одной школ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грой руководит учитель-организатор, ему помогают обучающиеся старших классов. Членами жюри могут быть как учителя физики из других школ, так и подготовленные заранее старшеклассники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ремя длительности каждого конкурса определяют члены жюри перед началом игр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еред  конкурсом каждая из команд получает задание в письменном виде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сле выполнения каждого задания команды передают результаты своей работы через помощников учителя членам жюри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тоги каждого конкурса проектируются на экран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Ход игр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читель-организатор предлагает членам команд задания, используя компьютерную презентацию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1 «Физический лабиринт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2 Кроссворд «Основной закон тепловых явлений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 3 «Сильное звено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 4 «Волшебный метр...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 5 «Дешифратор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капитанов «Заморочки из бочки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 6 «Турнир знатоков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болельщиков «Физические загадки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болельщиков «Физические загадки»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аждый правильный ответ приносит  1 балл команде болельщик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се поведает, хоть и без языка, когда будет ясно, а когда – облака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лубится, а не дым, ложится, а не снег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ист и ясен, как алмаз,  дорог не бывает, он от матери рожден, сам ее рождает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ечером наземь слетает, ночь на земле пребывает, утром опять улетает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5 вопрос – 3 балла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йдите ошибку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ин поэт так написал о капле:                                                                                           Она жила и по стеклу текла,                                                                                                         Но вдруг её морозом оковало,                                                                                                              И неподвижной льдинкой капля стала,                                                                                        А в мире поубавилось тепла.                                                                     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450036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ая физическая ошибка здесь допущена. Укажите строчку. Запишите название и формулировку закона, который опровергает поэ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6 вопрос – 3 балла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визит для эксперимента: 2 кубика льда, бумажное полотенце, верёвка длиной 30 см, солонка, вазочка для льд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428580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 поднять кубик льда со стола, не прикасаясь к нему (можно воспользоваться всеми предметами, находящимися на столе)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нкурс № 6 «Турнир знатоков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57132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скорится ли таяние льда в теплой комнате, если накрыть лед шубой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апля воды, попав на раскаленную плиту, начинает на ней прыгать. Почему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чему мокрые пальцы примерзают зимой к металлическим предметам и не примерзают к деревянным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то сильнее обжигает: пар, вырывающийся из носика кипящего чайника, или брызги самой воды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чему изморозь (иней) на деревьях исчезает иногда без оттепели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Если в мае или в сентябре днем было ясно, а вечером небо затянулось облаками, то следует ли ожидать ночью заморозка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оличество тепла, получаемое от солнечных лучей в течение года Арктикой, значительно больше, чем получаемой же площадью в Крыму. Почему же в Крыму летом жарко, а в Арктике холодно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чему в мороз снег скрипит под ногами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ведение итогов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85480" y="199980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Обращение к членам жюр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Жюри!  От Вас в игре зависит очень много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ы рассудите справедливо ход игры и стро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бята верят Вам, надеются на Вас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Жюри подводит подсчет набранных очков за игру каждой командой, объявляет победителе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5:16:28Z</dcterms:created>
  <dc:creator>Юровицкий</dc:creator>
  <dc:description/>
  <dc:language>en-US</dc:language>
  <cp:lastModifiedBy>User</cp:lastModifiedBy>
  <dcterms:modified xsi:type="dcterms:W3CDTF">2015-11-08T10:22:19Z</dcterms:modified>
  <cp:revision>34</cp:revision>
  <dc:subject/>
  <dc:title>Проблемы колонизации Солнечной системы</dc:title>
</cp:coreProperties>
</file>