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B61-324F-4BB3-B5EA-14872BB9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B09-8738-4AE1-81BC-A39122F0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C87-CF72-4A34-AA58-1C7C2E24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A41-3E31-4E95-8C54-2A29AA73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015-3A21-4D4A-9298-89FB54E9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BEC-3FD3-4EF0-ABBD-48A0F67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794-67D9-45F9-8BD5-7C9745B2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6A5-9FF2-4174-89B2-5B437975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0F7-1D32-49DC-BB36-02A35D32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208-CE19-4884-AB8C-48C5885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489-509A-4BF0-B7F1-D27F6DFB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6FF-BE3E-46A8-B4E9-5FA5D2AD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6470-341B-4259-BE88-6E5C14958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ambria"/>
              </a:rPr>
              <a:t>Мастер-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560" y="2708280"/>
            <a:ext cx="542916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ffff"/>
                </a:solidFill>
                <a:latin typeface="Lucida Calligraphy"/>
              </a:rPr>
              <a:t>Методы и приёмы развития орфографической зоркости на уроках русского языка в начальных классах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итель начальных классов МОБУ СОШ № 20 Прохорова Марина Григорь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Users\Prohorov\Desktop\qn6l4md4bd9e.jpg"/>
          <p:cNvPicPr/>
          <p:nvPr/>
        </p:nvPicPr>
        <p:blipFill>
          <a:blip r:embed="rId2"/>
          <a:stretch/>
        </p:blipFill>
        <p:spPr>
          <a:xfrm>
            <a:off x="324000" y="3068640"/>
            <a:ext cx="307332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71360" y="0"/>
            <a:ext cx="8072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.Д.Ушинский писал: «Грамматическая правильность речи из устной и письменной есть не только знание, но и привычка, или, лучше сказать, очень сложная и обширная система мелочных навыков выражать свои мысли правильно в речи и на письме. Для грамотности мало того, чтобы человек знал грамматические пра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а их множество): но необходим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тобы он привык мгновен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полнять и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Documents and Settings\Люба\Мои документы\Мои рисунки\i[5].jpg"/>
          <p:cNvPicPr/>
          <p:nvPr/>
        </p:nvPicPr>
        <p:blipFill>
          <a:blip r:embed="rId2"/>
          <a:stretch/>
        </p:blipFill>
        <p:spPr>
          <a:xfrm>
            <a:off x="7429680" y="5000760"/>
            <a:ext cx="151128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13920" y="213840"/>
            <a:ext cx="79297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  мой взгляд, полезны следующие упра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 Разбор слова по составу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 данном виду работы я использую следующие карто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H:\МАРИНА ГРИГОРЬЕВНА\карточки\DSC00402.JPG"/>
          <p:cNvPicPr/>
          <p:nvPr/>
        </p:nvPicPr>
        <p:blipFill>
          <a:blip r:embed="rId2"/>
          <a:stretch/>
        </p:blipFill>
        <p:spPr>
          <a:xfrm>
            <a:off x="2000160" y="2928960"/>
            <a:ext cx="6215040" cy="3765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28480" y="357120"/>
            <a:ext cx="72579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.Морфологические шар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:\МАРИНА ГРИГОРЬЕВНА\Фото\DSC00615.JPG"/>
          <p:cNvPicPr/>
          <p:nvPr/>
        </p:nvPicPr>
        <p:blipFill>
          <a:blip r:embed="rId2"/>
          <a:stretch/>
        </p:blipFill>
        <p:spPr>
          <a:xfrm>
            <a:off x="714240" y="928800"/>
            <a:ext cx="3857760" cy="2892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:\МАРИНА ГРИГОРЬЕВНА\Фото\DSC00616.JPG"/>
          <p:cNvPicPr/>
          <p:nvPr/>
        </p:nvPicPr>
        <p:blipFill>
          <a:blip r:embed="rId3"/>
          <a:stretch/>
        </p:blipFill>
        <p:spPr>
          <a:xfrm>
            <a:off x="4762440" y="3571920"/>
            <a:ext cx="4281480" cy="3211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2640" y="357120"/>
            <a:ext cx="75438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285920" y="285840"/>
            <a:ext cx="7429320" cy="621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214280" y="642960"/>
            <a:ext cx="7542360" cy="5608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Лото «Ромашка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MOV00684.AVI" descr=""/>
          <p:cNvPicPr/>
          <p:nvPr/>
        </p:nvPicPr>
        <p:blipFill>
          <a:blip r:embed="rId2"/>
          <a:stretch/>
        </p:blipFill>
        <p:spPr>
          <a:xfrm>
            <a:off x="1928880" y="1278000"/>
            <a:ext cx="6485040" cy="4865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:\МАРИНА ГРИГОРЬЕВНА\карточки\DSC00409.JPG"/>
          <p:cNvPicPr/>
          <p:nvPr/>
        </p:nvPicPr>
        <p:blipFill>
          <a:blip r:embed="rId2"/>
          <a:stretch/>
        </p:blipFill>
        <p:spPr>
          <a:xfrm>
            <a:off x="1571760" y="500040"/>
            <a:ext cx="3517920" cy="279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H:\МАРИНА ГРИГОРЬЕВНА\карточки\DSC00411.JPG"/>
          <p:cNvPicPr/>
          <p:nvPr/>
        </p:nvPicPr>
        <p:blipFill>
          <a:blip r:embed="rId3"/>
          <a:stretch/>
        </p:blipFill>
        <p:spPr>
          <a:xfrm>
            <a:off x="5715000" y="1000080"/>
            <a:ext cx="2373480" cy="368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:\МАРИНА ГРИГОРЬЕВНА\карточки\DSC00412.JPG"/>
          <p:cNvPicPr/>
          <p:nvPr/>
        </p:nvPicPr>
        <p:blipFill>
          <a:blip r:embed="rId4"/>
          <a:stretch/>
        </p:blipFill>
        <p:spPr>
          <a:xfrm>
            <a:off x="1571760" y="3479760"/>
            <a:ext cx="364644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абота с перфокарт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:\МАРИНА ГРИГОРЬЕВНА\карточки\DSC00404.JPG"/>
          <p:cNvPicPr/>
          <p:nvPr/>
        </p:nvPicPr>
        <p:blipFill>
          <a:blip r:embed="rId2"/>
          <a:stretch/>
        </p:blipFill>
        <p:spPr>
          <a:xfrm>
            <a:off x="857160" y="1071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:\МАРИНА ГРИГОРЬЕВНА\Фото\DSC00422.JPG"/>
          <p:cNvPicPr/>
          <p:nvPr/>
        </p:nvPicPr>
        <p:blipFill>
          <a:blip r:embed="rId3"/>
          <a:stretch/>
        </p:blipFill>
        <p:spPr>
          <a:xfrm>
            <a:off x="4214880" y="3162240"/>
            <a:ext cx="4829040" cy="362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1867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иём какограф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57200" y="1071360"/>
            <a:ext cx="73296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У  гришы жыл Кот рыжы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:\МАРИНА ГРИГОРЬЕВНА\Фото\DSC00611.JPG"/>
          <p:cNvPicPr/>
          <p:nvPr/>
        </p:nvPicPr>
        <p:blipFill>
          <a:blip r:embed="rId2"/>
          <a:stretch/>
        </p:blipFill>
        <p:spPr>
          <a:xfrm>
            <a:off x="2571840" y="3611520"/>
            <a:ext cx="4329000" cy="3246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horov</cp:lastModifiedBy>
  <dcterms:modified xsi:type="dcterms:W3CDTF">2013-06-26T16:59:59Z</dcterms:modified>
  <cp:revision>36</cp:revision>
  <dc:subject/>
  <dc:title>Конкурс «Учитель года 2010»</dc:title>
</cp:coreProperties>
</file>