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420-25FD-408B-A305-974C359C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7CB-B29D-4666-84CC-A90D5EBE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3D5-1E19-4280-80FE-7CED9E9C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947-AFD3-40AE-8C12-6941C5B9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65C-8489-44F7-B186-9F54328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08D-8B41-4B09-9EBA-086AD6F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061-61CB-4FDB-B62E-53FC3E5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049-2C92-4A62-B2A6-ED900EA7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7C3-68DA-4875-B0F3-83443BA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7F8-FF60-4A58-9DC9-D06C654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E5F-D328-4628-A395-AD43B1EE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26C-7E06-4BDB-AB7C-20444CB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299-04C7-43EA-987A-4829FAD05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олечк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сканирование0002"/>
          <p:cNvPicPr/>
          <p:nvPr/>
        </p:nvPicPr>
        <p:blipFill>
          <a:blip r:embed="rId1"/>
          <a:stretch/>
        </p:blipFill>
        <p:spPr>
          <a:xfrm>
            <a:off x="3352680" y="2133720"/>
            <a:ext cx="272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улак – ребро – лад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сканирование0003"/>
          <p:cNvPicPr/>
          <p:nvPr/>
        </p:nvPicPr>
        <p:blipFill>
          <a:blip r:embed="rId1"/>
          <a:stretch/>
        </p:blipFill>
        <p:spPr>
          <a:xfrm>
            <a:off x="3352680" y="1828800"/>
            <a:ext cx="20257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тичк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льчики – головка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ылышки – ладошки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сканирование0014"/>
          <p:cNvPicPr/>
          <p:nvPr/>
        </p:nvPicPr>
        <p:blipFill>
          <a:blip r:embed="rId1"/>
          <a:stretch/>
        </p:blipFill>
        <p:spPr>
          <a:xfrm>
            <a:off x="3505320" y="2590920"/>
            <a:ext cx="222876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тенчики в гнезде.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тичка крылышками маше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летит к себе в гнездо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тенчикам своим расскажет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де она взяла з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сканирование0016"/>
          <p:cNvPicPr/>
          <p:nvPr/>
        </p:nvPicPr>
        <p:blipFill>
          <a:blip r:embed="rId1"/>
          <a:stretch/>
        </p:blipFill>
        <p:spPr>
          <a:xfrm>
            <a:off x="3657600" y="3505320"/>
            <a:ext cx="20113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енажёр Базар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3701880" y="2209680"/>
            <a:ext cx="32324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15-11-12T19:06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