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gif" ContentType="image/gif"/>
  <Override PartName="/ppt/media/image5.wmf" ContentType="image/x-wmf"/>
  <Override PartName="/ppt/media/image17.wmf" ContentType="image/x-wmf"/>
  <Override PartName="/ppt/media/image56.jpeg" ContentType="image/jpeg"/>
  <Override PartName="/ppt/media/image53.png" ContentType="image/png"/>
  <Override PartName="/ppt/media/image10.wmf" ContentType="image/x-wmf"/>
  <Override PartName="/ppt/media/image58.jpeg" ContentType="image/jpeg"/>
  <Override PartName="/ppt/media/image51.jpeg" ContentType="image/jpeg"/>
  <Override PartName="/ppt/media/image16.wmf" ContentType="image/x-wmf"/>
  <Override PartName="/ppt/media/image45.jpeg" ContentType="image/jpeg"/>
  <Override PartName="/ppt/media/image36.jpeg" ContentType="image/jpeg"/>
  <Override PartName="/ppt/media/image1.png" ContentType="image/png"/>
  <Override PartName="/ppt/media/image2.jpeg" ContentType="image/jpeg"/>
  <Override PartName="/ppt/media/image31.png" ContentType="image/png"/>
  <Override PartName="/ppt/media/image15.png" ContentType="image/png"/>
  <Override PartName="/ppt/media/image22.gif" ContentType="image/gif"/>
  <Override PartName="/ppt/media/image69.wmf" ContentType="image/x-wmf"/>
  <Override PartName="/ppt/media/image7.wmf" ContentType="image/x-wmf"/>
  <Override PartName="/ppt/media/image19.wmf" ContentType="image/x-wmf"/>
  <Override PartName="/ppt/media/image68.wmf" ContentType="image/x-wmf"/>
  <Override PartName="/ppt/media/image20.wmf" ContentType="image/x-wmf"/>
  <Override PartName="/ppt/media/image4.gif" ContentType="image/gif"/>
  <Override PartName="/ppt/media/image33.jpeg" ContentType="image/jpeg"/>
  <Override PartName="/ppt/media/image24.gif" ContentType="image/gif"/>
  <Override PartName="/ppt/media/image27.png" ContentType="image/png"/>
  <Override PartName="/ppt/media/image67.png" ContentType="image/png"/>
  <Override PartName="/ppt/media/image30.png" ContentType="image/png"/>
  <Override PartName="/ppt/media/image66.wmf" ContentType="image/x-wmf"/>
  <Override PartName="/ppt/media/image65.wmf" ContentType="image/x-wmf"/>
  <Override PartName="/ppt/media/image64.wmf" ContentType="image/x-wmf"/>
  <Override PartName="/ppt/media/image55.png" ContentType="image/png"/>
  <Override PartName="/ppt/media/image12.wmf" ContentType="image/x-wmf"/>
  <Override PartName="/ppt/media/image21.wmf" ContentType="image/x-wmf"/>
  <Override PartName="/ppt/media/image60.jpeg" ContentType="image/jpeg"/>
  <Override PartName="/ppt/media/image61.gif" ContentType="image/gif"/>
  <Override PartName="/ppt/media/image62.png" ContentType="image/png"/>
  <Override PartName="/ppt/media/image29.png" ContentType="image/png"/>
  <Override PartName="/ppt/media/image26.gif" ContentType="image/gif"/>
  <Override PartName="/ppt/media/image18.wmf" ContentType="image/x-wmf"/>
  <Override PartName="/ppt/media/image6.wmf" ContentType="image/x-wmf"/>
  <Override PartName="/ppt/media/image47.jpeg" ContentType="image/jpeg"/>
  <Override PartName="/ppt/media/image23.gif" ContentType="image/gif"/>
  <Override PartName="/ppt/media/image49.jpeg" ContentType="image/jpeg"/>
  <Override PartName="/ppt/media/image8.wmf" ContentType="image/x-wmf"/>
  <Override PartName="/ppt/media/image52.png" ContentType="image/png"/>
  <Override PartName="/ppt/media/image14.png" ContentType="image/png"/>
  <Override PartName="/ppt/media/image9.wmf" ContentType="image/x-wmf"/>
  <Override PartName="/ppt/media/image34.png" ContentType="image/png"/>
  <Override PartName="/ppt/media/image32.gif" ContentType="image/gif"/>
  <Override PartName="/ppt/media/image35.png" ContentType="image/png"/>
  <Override PartName="/ppt/media/image37.png" ContentType="image/png"/>
  <Override PartName="/ppt/media/image39.jpeg" ContentType="image/jpeg"/>
  <Override PartName="/ppt/media/image13.wmf" ContentType="image/x-wmf"/>
  <Override PartName="/ppt/media/image40.jpeg" ContentType="image/jpeg"/>
  <Override PartName="/ppt/media/image41.jpeg" ContentType="image/jpeg"/>
  <Override PartName="/ppt/media/image63.gif" ContentType="image/gif"/>
  <Override PartName="/ppt/media/image54.png" ContentType="image/png"/>
  <Override PartName="/ppt/media/image11.wmf" ContentType="image/x-wmf"/>
  <Override PartName="/ppt/media/image38.png" ContentType="image/png"/>
  <Override PartName="/ppt/media/image44.jpeg" ContentType="image/jpeg"/>
  <Override PartName="/ppt/media/image3.wmf" ContentType="image/x-wmf"/>
  <Override PartName="/ppt/media/image46.jpeg" ContentType="image/jpeg"/>
  <Override PartName="/ppt/media/image48.jpeg" ContentType="image/jpeg"/>
  <Override PartName="/ppt/media/image25.gif" ContentType="image/gif"/>
  <Override PartName="/ppt/media/image28.png" ContentType="image/png"/>
  <Override PartName="/ppt/media/image43.jpeg" ContentType="image/jpeg"/>
  <Override PartName="/ppt/media/image5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56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56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2857320" y="-257040"/>
            <a:ext cx="3422520" cy="41148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0872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56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56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8D9D7-82CB-488F-AC78-FCD6569B67A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Составление примеров, решение –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B58F-550F-4FAF-B754-2F802C12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4677-1DF7-4601-A0B7-BA0450BD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FC4-D992-4722-A846-8A7F6862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5464-251D-4A5E-8437-3D1880491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40E-4090-4B79-8458-25878040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089-54F7-4DEC-8E7C-C5CDE7A1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4F79-716C-4049-B5E7-8343BE86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B9B-AEF1-407C-9FD4-3630FD3F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4D8-5382-432F-B353-B036AFAD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A1E9-BF45-496A-9B32-F0F8C46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257A-7F89-4436-8992-1FFE0AF6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C3D-028F-4163-96CE-D1FC1FE9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93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6F754-6F23-410D-A8F4-35316D494DD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2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gif"/><Relationship Id="rId2" Type="http://schemas.openxmlformats.org/officeDocument/2006/relationships/image" Target="../media/image62.png"/><Relationship Id="rId3" Type="http://schemas.openxmlformats.org/officeDocument/2006/relationships/image" Target="../media/image63.gi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png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84360" y="836640"/>
            <a:ext cx="6257880" cy="3717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овые элемент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 дидактические игр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применением ИКТ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уроках математики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5-6 классах для учащихся с ДЦП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4741920" y="553716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26920" y="297000"/>
            <a:ext cx="7309080" cy="62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начале урока можно предложить ребятам, разгадав ребус или кроссворд, самим назвать тему занятия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 меня накопилась уже приличная коллекция ребусов, составленных совместно с учащимися 5-6 клас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2781360"/>
            <a:ext cx="2960640" cy="2279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92360" y="1989000"/>
            <a:ext cx="3149640" cy="32799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020000" y="2133720"/>
            <a:ext cx="1771560" cy="3279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5640" y="58896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24560" y="62532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76360" y="1197000"/>
            <a:ext cx="96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=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46880" y="5624640"/>
            <a:ext cx="244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тре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95280" y="1700280"/>
            <a:ext cx="1030320" cy="3092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75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П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55640" y="1305000"/>
            <a:ext cx="3454560" cy="3803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148360" y="2349360"/>
            <a:ext cx="3995640" cy="2544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00720" y="368280"/>
            <a:ext cx="420480" cy="1712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75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</a:rPr>
              <a:t>,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75"/>
                  </a:gs>
                  <a:gs pos="100000">
                    <a:srgbClr val="ff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2881800" y="5445000"/>
            <a:ext cx="33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лоск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2097000"/>
            <a:ext cx="2701800" cy="2702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140328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184720" y="3392640"/>
            <a:ext cx="1293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79240" y="1376280"/>
            <a:ext cx="11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=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81280" y="5162400"/>
            <a:ext cx="517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Arial"/>
              </a:rPr>
              <a:t>Знаменате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00" y="1341360"/>
            <a:ext cx="1451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0" spc="-1" strike="noStrike">
                <a:solidFill>
                  <a:srgbClr val="008000"/>
                </a:solidFill>
                <a:latin typeface="Arial"/>
              </a:rPr>
              <a:t>Р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227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03960" y="36828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3280" y="595440"/>
            <a:ext cx="462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441360"/>
            <a:ext cx="26496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5800" y="4976640"/>
            <a:ext cx="2914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87280" y="91440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192360" y="5229360"/>
            <a:ext cx="277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</a:rPr>
              <a:t>Объе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357720" y="114300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0680" y="214200"/>
            <a:ext cx="10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Ж=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62280" y="-357120"/>
            <a:ext cx="6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21720" y="142920"/>
            <a:ext cx="120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,2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215120" y="1214280"/>
            <a:ext cx="1214640" cy="2098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574760" y="214200"/>
            <a:ext cx="4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00040" y="4357800"/>
            <a:ext cx="2244600" cy="164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17120" y="6000840"/>
            <a:ext cx="4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12800" y="6000840"/>
            <a:ext cx="428760" cy="64296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36120" y="6072120"/>
            <a:ext cx="584280" cy="57168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34960" y="6000840"/>
            <a:ext cx="96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=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3714840" y="4143240"/>
            <a:ext cx="2500200" cy="187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08240" y="6000840"/>
            <a:ext cx="132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alibri"/>
              </a:rPr>
              <a:t>М х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36160" y="4357800"/>
            <a:ext cx="110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b0f0"/>
                </a:solidFill>
                <a:latin typeface="Calibri"/>
              </a:rPr>
              <a:t>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4760" y="6165720"/>
            <a:ext cx="29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руговые диа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57000"/>
            <a:ext cx="822960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Прежде чем смел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К задачам идт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Тему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cc6600"/>
                </a:solidFill>
                <a:latin typeface="Arial"/>
              </a:rPr>
              <a:t>В кроссворде найд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63480" y="1036800"/>
            <a:ext cx="3116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. Часть прямой, ограниченная двумя точ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2. Это есть у слова, растения и урав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3. Равенство, содержащее неизвестное число, обозначенное бук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4. Компонент действия вычитания, который находят слож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Arial"/>
              </a:rPr>
              <a:t>5. Решение задач способом составления урав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7440" y="191628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21080" y="1916280"/>
            <a:ext cx="33840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5080" y="191628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68720" y="1916280"/>
            <a:ext cx="33840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292720" y="191628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16720" y="191628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40360" y="191628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1577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32360" y="125424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224172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6580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980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1200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23744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144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8508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0908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256536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288936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321300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353700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386064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418464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450864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353700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321300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0360" y="288936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40360" y="226224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584208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0232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236000" y="551664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36000" y="519264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236000" y="486900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36000" y="454500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22100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236000" y="389736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236000" y="357336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236000" y="324972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6000" y="292428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236000" y="161460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36000" y="193824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6000" y="2262240"/>
            <a:ext cx="338040" cy="3380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959280" y="1916280"/>
            <a:ext cx="2297160" cy="331560"/>
            <a:chOff x="3959280" y="1916280"/>
            <a:chExt cx="2297160" cy="331560"/>
          </a:xfrm>
        </p:grpSpPr>
        <p:sp>
          <p:nvSpPr>
            <p:cNvPr id="166" name=""/>
            <p:cNvSpPr/>
            <p:nvPr/>
          </p:nvSpPr>
          <p:spPr>
            <a:xfrm>
              <a:off x="3959280" y="1916280"/>
              <a:ext cx="35388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2920" y="1916280"/>
              <a:ext cx="35424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06920" y="1916280"/>
              <a:ext cx="35388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0920" y="1916280"/>
              <a:ext cx="35388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54560" y="1916280"/>
              <a:ext cx="35424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78560" y="1916280"/>
              <a:ext cx="35388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02200" y="1916280"/>
              <a:ext cx="35424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40360" y="2241720"/>
            <a:ext cx="333360" cy="1591920"/>
            <a:chOff x="5940360" y="2241720"/>
            <a:chExt cx="333360" cy="1591920"/>
          </a:xfrm>
        </p:grpSpPr>
        <p:sp>
          <p:nvSpPr>
            <p:cNvPr id="174" name=""/>
            <p:cNvSpPr/>
            <p:nvPr/>
          </p:nvSpPr>
          <p:spPr>
            <a:xfrm>
              <a:off x="5942160" y="3502080"/>
              <a:ext cx="33156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40360" y="319248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40360" y="286848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0360" y="256536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940360" y="2241720"/>
              <a:ext cx="33192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602320" y="2585880"/>
            <a:ext cx="338040" cy="33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264360" y="2585880"/>
            <a:ext cx="2274840" cy="331920"/>
            <a:chOff x="6264360" y="2585880"/>
            <a:chExt cx="2274840" cy="331920"/>
          </a:xfrm>
        </p:grpSpPr>
        <p:sp>
          <p:nvSpPr>
            <p:cNvPr id="181" name=""/>
            <p:cNvSpPr/>
            <p:nvPr/>
          </p:nvSpPr>
          <p:spPr>
            <a:xfrm>
              <a:off x="6264360" y="258588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88000" y="258588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10560" y="258588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36000" y="258588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59640" y="258588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83640" y="258588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07280" y="258588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932360" y="1233360"/>
            <a:ext cx="331920" cy="641520"/>
            <a:chOff x="4932360" y="1233360"/>
            <a:chExt cx="331920" cy="641520"/>
          </a:xfrm>
        </p:grpSpPr>
        <p:sp>
          <p:nvSpPr>
            <p:cNvPr id="189" name=""/>
            <p:cNvSpPr/>
            <p:nvPr/>
          </p:nvSpPr>
          <p:spPr>
            <a:xfrm>
              <a:off x="4932360" y="154296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32360" y="123336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801960" y="1131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932360" y="2241720"/>
            <a:ext cx="331920" cy="2598480"/>
            <a:chOff x="4932360" y="2241720"/>
            <a:chExt cx="331920" cy="2598480"/>
          </a:xfrm>
        </p:grpSpPr>
        <p:sp>
          <p:nvSpPr>
            <p:cNvPr id="193" name=""/>
            <p:cNvSpPr/>
            <p:nvPr/>
          </p:nvSpPr>
          <p:spPr>
            <a:xfrm>
              <a:off x="4932360" y="2241720"/>
              <a:ext cx="33192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32360" y="256536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32360" y="2889360"/>
              <a:ext cx="33192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32360" y="321300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2360" y="3537000"/>
              <a:ext cx="33192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32360" y="386064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32360" y="4184640"/>
              <a:ext cx="3319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32360" y="4508640"/>
              <a:ext cx="33192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236000" y="1577880"/>
            <a:ext cx="331560" cy="1015920"/>
            <a:chOff x="7236000" y="1577880"/>
            <a:chExt cx="331560" cy="1015920"/>
          </a:xfrm>
        </p:grpSpPr>
        <p:sp>
          <p:nvSpPr>
            <p:cNvPr id="202" name=""/>
            <p:cNvSpPr/>
            <p:nvPr/>
          </p:nvSpPr>
          <p:spPr>
            <a:xfrm>
              <a:off x="7237440" y="1577880"/>
              <a:ext cx="33012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36000" y="1916280"/>
              <a:ext cx="33156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6000" y="2262240"/>
              <a:ext cx="33156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236000" y="2924280"/>
            <a:ext cx="331560" cy="3247920"/>
            <a:chOff x="7236000" y="2924280"/>
            <a:chExt cx="331560" cy="3247920"/>
          </a:xfrm>
        </p:grpSpPr>
        <p:sp>
          <p:nvSpPr>
            <p:cNvPr id="206" name=""/>
            <p:cNvSpPr/>
            <p:nvPr/>
          </p:nvSpPr>
          <p:spPr>
            <a:xfrm>
              <a:off x="7236000" y="584028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6000" y="5516640"/>
              <a:ext cx="33156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36000" y="519264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6000" y="4869000"/>
              <a:ext cx="33156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236000" y="454500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236000" y="422100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36000" y="389556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6000" y="357192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36000" y="3247920"/>
              <a:ext cx="331560" cy="33192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6000" y="2924280"/>
              <a:ext cx="331560" cy="331560"/>
            </a:xfrm>
            <a:prstGeom prst="rect">
              <a:avLst/>
            </a:prstGeom>
            <a:solidFill>
              <a:srgbClr val="bbe0e3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1600" y="657000"/>
            <a:ext cx="640080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у-ка, смекал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вою прояви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ему из бук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ы скорей собери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4545000"/>
            <a:ext cx="2217600" cy="1905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516720" y="4437000"/>
            <a:ext cx="2039760" cy="20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27280" y="441000"/>
            <a:ext cx="36003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"Человек, не знающий математики, не способен ни к какой другой науке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.Бэ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214 – 1294))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00280"/>
            <a:ext cx="297684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5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17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5    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– 37 = 18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 62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1 +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=16 + 44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0 – с =21 + 19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0 – 3 = с + 13  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44520" y="4869000"/>
            <a:ext cx="69876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43280" y="4869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12880" y="4869000"/>
            <a:ext cx="69876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97240" y="4869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81600" y="4869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65600" y="4869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49960" y="4869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33960" y="4869000"/>
            <a:ext cx="69876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32720" y="4869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58920" y="5553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43280" y="5553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5553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11640" y="5553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95640" y="5553000"/>
            <a:ext cx="69876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80000" y="5553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64000" y="5553000"/>
            <a:ext cx="69876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48360" y="5553000"/>
            <a:ext cx="69840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46760" y="5553000"/>
            <a:ext cx="698760" cy="6984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ложенные дидактические игры можно проводить не только в начале урока, чтобы привлечь внимание детей и подготовить их к усвоению последующего материала, но и в конце урока, подводя ито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70200" y="4653000"/>
            <a:ext cx="180360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6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ие дидактические игры в 5-6 классах я  связываю с определенными сюжетами. Сюжеты эти весьма просты, рассчитаны на детское воображение. Иногда сюжеты подсказываются названием игры: «Магические квадраты», «Индивидуальное лото», «Кто быстрее», 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ла»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ие устные разминки, занимают немного времени, развивают быстроту реакции, внимательность, умение четко и конкретно мысл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7280" y="1449360"/>
            <a:ext cx="84963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Arial"/>
              </a:rPr>
              <a:t>Установите закономерность и назовите число, которое следует вписать в пустую клетку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39640" y="368280"/>
            <a:ext cx="18669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934920" y="3429000"/>
            <a:ext cx="144000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7640" y="3429000"/>
            <a:ext cx="144000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3429000"/>
            <a:ext cx="143964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1233360"/>
            <a:ext cx="143964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51280" y="1233360"/>
            <a:ext cx="144000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1233360"/>
            <a:ext cx="143964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816360" y="4941720"/>
            <a:ext cx="170496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dur="indefinite" fill="hold">
                      <p:stCondLst>
                        <p:cond delay="indefinite"/>
                      </p:stCondLst>
                      <p:childTnLst>
                        <p:par>
                          <p:cTn id="2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934920" y="3429000"/>
            <a:ext cx="144000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7640" y="3429000"/>
            <a:ext cx="144000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67640" y="3429000"/>
            <a:ext cx="143964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1268280"/>
            <a:ext cx="143964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851280" y="1268280"/>
            <a:ext cx="144000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32720" y="1268280"/>
            <a:ext cx="143964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780000" y="4905360"/>
            <a:ext cx="1704960" cy="12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dur="indefinite" fill="hold">
                      <p:stCondLst>
                        <p:cond delay="indefinite"/>
                      </p:stCondLst>
                      <p:childTnLst>
                        <p:par>
                          <p:cTn id="2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34920" y="3429000"/>
            <a:ext cx="144000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7640" y="3429000"/>
            <a:ext cx="144000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67640" y="3429000"/>
            <a:ext cx="143964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1233360"/>
            <a:ext cx="143964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1233360"/>
            <a:ext cx="144000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732720" y="1233360"/>
            <a:ext cx="1439640" cy="720720"/>
          </a:xfrm>
          <a:prstGeom prst="rect">
            <a:avLst/>
          </a:prstGeom>
          <a:solidFill>
            <a:srgbClr val="ff66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924360" y="5229360"/>
            <a:ext cx="1704960" cy="125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4535640" y="981000"/>
          <a:ext cx="4319280" cy="4319640"/>
        </p:xfrm>
        <a:graphic>
          <a:graphicData uri="http://schemas.openxmlformats.org/drawingml/2006/table">
            <a:tbl>
              <a:tblPr/>
              <a:tblGrid>
                <a:gridCol w="1439640"/>
                <a:gridCol w="1440000"/>
                <a:gridCol w="1439640"/>
              </a:tblGrid>
              <a:tr h="1514880">
                <a:tc>
                  <a:txBody>
                    <a:bodyPr lIns="90000" rIns="90000" tIns="55332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332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332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4880">
                <a:tc>
                  <a:txBody>
                    <a:bodyPr lIns="90000" rIns="90000" tIns="55332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332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332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4880">
                <a:tc>
                  <a:txBody>
                    <a:bodyPr lIns="90000" rIns="90000" tIns="55332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332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53320" bIns="46800" anchor="t">
                      <a:noAutofit/>
                    </a:bodyPr>
                    <a:p>
                      <a:pPr algn="ctr">
                        <a:lnSpc>
                          <a:spcPct val="74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0" y="512640"/>
            <a:ext cx="4140360" cy="48610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bbe0e3"/>
              </a:gs>
              <a:gs pos="50000">
                <a:srgbClr val="e1f0f2"/>
              </a:gs>
              <a:gs pos="100000">
                <a:srgbClr val="bbe0e3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Запишите в кл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вадрата такие чис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чтобы сумма в каж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толбце, строке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кажд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была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«магическ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числу 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848720" y="2708280"/>
            <a:ext cx="6364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,2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812000" y="4184640"/>
            <a:ext cx="682560" cy="712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,7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372360" y="4184640"/>
            <a:ext cx="6667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,4</a:t>
            </a:r>
            <a:endParaRPr b="1" lang="en-US" sz="1800" spc="1" strike="noStrike">
              <a:ln cap="sq"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967280" y="4184640"/>
            <a:ext cx="6667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,9</a:t>
            </a:r>
            <a:endParaRPr b="1" lang="en-US" sz="1800" spc="1" strike="noStrike">
              <a:ln cap="sq"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885080" y="1305000"/>
            <a:ext cx="5907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,1</a:t>
            </a:r>
            <a:endParaRPr b="1" lang="en-US" sz="1800" spc="1" strike="noStrike">
              <a:ln cap="sq"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659640" y="2708280"/>
            <a:ext cx="25236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800" spc="1" strike="noStrike">
              <a:ln cap="sq"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896000" y="2744640"/>
            <a:ext cx="78084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,8</a:t>
            </a:r>
            <a:endParaRPr b="1" lang="en-US" sz="1800" spc="1" strike="noStrike">
              <a:ln cap="sq"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967280" y="1305000"/>
            <a:ext cx="68580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,3</a:t>
            </a:r>
            <a:endParaRPr b="1" lang="en-US" sz="1800" spc="1" strike="noStrike">
              <a:ln cap="sq"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300720" y="1305000"/>
            <a:ext cx="790560" cy="7617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908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0,6</a:t>
            </a:r>
            <a:endParaRPr b="1" lang="en-US" sz="1800" spc="1" strike="noStrike">
              <a:ln cap="sq" w="1908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030560" y="5481720"/>
            <a:ext cx="1308240" cy="13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dur="indefinite" fill="hold">
                      <p:stCondLst>
                        <p:cond delay="indefinite"/>
                      </p:stCondLst>
                      <p:childTnLst>
                        <p:par>
                          <p:cTn id="2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dur="indefinite" fill="hold">
                      <p:stCondLst>
                        <p:cond delay="indefinite"/>
                      </p:stCondLst>
                      <p:childTnLst>
                        <p:par>
                          <p:cTn id="2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16000" y="4184640"/>
            <a:ext cx="7200720" cy="1403280"/>
          </a:xfrm>
          <a:prstGeom prst="rect">
            <a:avLst/>
          </a:prstGeom>
          <a:solidFill>
            <a:srgbClr val="effca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416720" y="4184640"/>
            <a:ext cx="1332000" cy="1405080"/>
          </a:xfrm>
          <a:custGeom>
            <a:avLst/>
            <a:gdLst>
              <a:gd name="textAreaLeft" fmla="*/ 0 w 1332000"/>
              <a:gd name="textAreaRight" fmla="*/ 1332360 w 133200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ffca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2360" y="4184640"/>
            <a:ext cx="1440" cy="14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32000" y="4184640"/>
            <a:ext cx="1800" cy="14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184640"/>
            <a:ext cx="1440" cy="14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12000" y="4184640"/>
            <a:ext cx="1440" cy="14050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47640" y="4437000"/>
            <a:ext cx="771480" cy="8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,1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016000" y="4473720"/>
            <a:ext cx="857520" cy="82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,2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419640" y="4437000"/>
            <a:ext cx="876240" cy="8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,3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859280" y="4400640"/>
            <a:ext cx="885960" cy="8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,5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227640" y="4437000"/>
            <a:ext cx="885960" cy="8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0,8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667640" y="4473720"/>
            <a:ext cx="762120" cy="82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,3</a:t>
            </a:r>
            <a:endParaRPr b="1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404640"/>
            <a:ext cx="2987640" cy="1195560"/>
          </a:xfrm>
          <a:prstGeom prst="leftRightArrow">
            <a:avLst>
              <a:gd name="adj1" fmla="val 50000"/>
              <a:gd name="adj2" fmla="val 49747"/>
            </a:avLst>
          </a:prstGeom>
          <a:solidFill>
            <a:srgbClr val="fec2e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Стр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00360" y="2133720"/>
            <a:ext cx="5580000" cy="1417680"/>
          </a:xfrm>
          <a:prstGeom prst="downArrowCallout">
            <a:avLst>
              <a:gd name="adj1" fmla="val 98409"/>
              <a:gd name="adj2" fmla="val 98400"/>
              <a:gd name="adj3" fmla="val 16667"/>
              <a:gd name="adj4" fmla="val 66667"/>
            </a:avLst>
          </a:prstGeom>
          <a:solidFill>
            <a:srgbClr val="fbc457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Заполните полосу числами, записыва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каждую новую клетку сумму дву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c6600"/>
                </a:solidFill>
                <a:latin typeface="Arial"/>
              </a:rPr>
              <a:t>предыдущих чис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dur="indefinite" fill="hold">
                      <p:stCondLst>
                        <p:cond delay="indefinite"/>
                      </p:stCondLst>
                      <p:childTnLst>
                        <p:par>
                          <p:cTn id="3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dur="indefinite" fill="hold">
                      <p:stCondLst>
                        <p:cond delay="indefinite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dur="indefinite" fill="hold">
                      <p:stCondLst>
                        <p:cond delay="indefinite"/>
                      </p:stCondLst>
                      <p:childTnLst>
                        <p:par>
                          <p:cTn id="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игрой ученики получают по одной большой карточке, разделенной на квадратики с ответами (числами) и буквами, а также  маленькие квадратики. Учитель предлагает задание (читает, пишет на доске или использует слайды). Выполняя упражнения, ученики закрывают маленькими квадратиками на большой карточке те числа, которые совпадают с ответами решенных примеров. При верных вычислениях после выполнения всех основных упражнений из всех чисел на карточке часть будет закрыта, а из оставшихся надо сложить слово. Можно сразу просмотреть и указать ошибки, выставить оце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743280" y="152280"/>
            <a:ext cx="1314360" cy="892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ОТО</a:t>
            </a:r>
            <a:endParaRPr b="1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1640" y="225360"/>
            <a:ext cx="82296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еличение умственной нагрузки на уроках математики заставляет задуматься над тем, как вызвать интерес к изучению математики, поддержать его и обеспечить активную деятельность учащихся в течении всего урок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и с этим становится актуальным применение нестандартных форм и  метод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08360" y="3284640"/>
            <a:ext cx="3384360" cy="11872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етрадиционные формы, мето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и средства обучения.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280" y="5157720"/>
            <a:ext cx="1692360" cy="1320840"/>
          </a:xfrm>
          <a:prstGeom prst="flowChartAlternateProcess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5192640"/>
            <a:ext cx="1692360" cy="1320840"/>
          </a:xfrm>
          <a:prstGeom prst="flowChartAlternateProcess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скур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 истор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43280" y="5192640"/>
            <a:ext cx="1692360" cy="1320840"/>
          </a:xfrm>
          <a:prstGeom prst="flowChartAlternateProcess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актику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43640" y="5157720"/>
            <a:ext cx="1692360" cy="1320840"/>
          </a:xfrm>
          <a:prstGeom prst="flowChartAlternateProcess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естандарт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80360" y="5157720"/>
            <a:ext cx="1692360" cy="1320840"/>
          </a:xfrm>
          <a:prstGeom prst="flowChartAlternateProcess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нтегр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учеб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едм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93520" y="4473720"/>
            <a:ext cx="3684600" cy="684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693520" y="4473720"/>
            <a:ext cx="1884600" cy="71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473720"/>
            <a:ext cx="1440" cy="718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4473720"/>
            <a:ext cx="1871640" cy="684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473720"/>
            <a:ext cx="3672000" cy="6840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692360" y="1268280"/>
            <a:ext cx="5759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692360" y="1268280"/>
            <a:ext cx="1440" cy="288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92360" y="4149720"/>
            <a:ext cx="5724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1640" y="1268280"/>
            <a:ext cx="1800" cy="288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2000" y="1268280"/>
            <a:ext cx="1800" cy="288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1268280"/>
            <a:ext cx="1440" cy="288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12000" y="1268280"/>
            <a:ext cx="1440" cy="288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692360" y="1989000"/>
            <a:ext cx="575928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692360" y="2673360"/>
            <a:ext cx="5759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3429000"/>
            <a:ext cx="575928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126520" y="134136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02880" y="134136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006520" y="130500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411240" y="130500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61440" y="20239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37800" y="20239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86880" y="20239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82520" y="20239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33440" y="27446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26000" y="280044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66360" y="276552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25800" y="2781360"/>
            <a:ext cx="3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05080" y="3537000"/>
            <a:ext cx="33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02520" y="346536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50160" y="35002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69640" y="3556080"/>
            <a:ext cx="4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003640" y="2695680"/>
            <a:ext cx="733680" cy="7333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3640" y="3429000"/>
            <a:ext cx="733680" cy="7333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443640" y="1233360"/>
            <a:ext cx="733320" cy="733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24000" y="3429000"/>
            <a:ext cx="733680" cy="7333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4000" y="2695680"/>
            <a:ext cx="733320" cy="7333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492360" y="1255680"/>
            <a:ext cx="733680" cy="7333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087640" y="1952640"/>
            <a:ext cx="733320" cy="7333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92360" y="3429000"/>
            <a:ext cx="733680" cy="7333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443640" y="3429000"/>
            <a:ext cx="733320" cy="7333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7280" y="1989000"/>
            <a:ext cx="733320" cy="733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443640" y="1952640"/>
            <a:ext cx="733320" cy="7333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25800" y="297000"/>
            <a:ext cx="13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ЛО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72560" y="4565520"/>
            <a:ext cx="31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3660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8 уменьшить в 4 ра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90 вычесть 8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0 увеличить на 1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1 умножить на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900 вычесть 23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94360" y="467352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оставшихся бук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ть сло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dur="indefinite" fill="hold">
                      <p:stCondLst>
                        <p:cond delay="indefinite"/>
                      </p:stCondLst>
                      <p:childTnLst>
                        <p:par>
                          <p:cTn id="4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dur="indefinite" fill="hold">
                      <p:stCondLst>
                        <p:cond delay="indefinite"/>
                      </p:stCondLst>
                      <p:childTnLst>
                        <p:par>
                          <p:cTn id="4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dur="indefinite" fill="hold">
                      <p:stCondLst>
                        <p:cond delay="indefinite"/>
                      </p:stCondLst>
                      <p:childTnLst>
                        <p:par>
                          <p:cTn id="4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dur="indefinite" fill="hold">
                      <p:stCondLst>
                        <p:cond delay="indefinite"/>
                      </p:stCondLst>
                      <p:childTnLst>
                        <p:par>
                          <p:cTn id="4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dur="indefinite" fill="hold">
                      <p:stCondLst>
                        <p:cond delay="indefinite"/>
                      </p:stCondLst>
                      <p:childTnLst>
                        <p:par>
                          <p:cTn id="4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dur="indefinite" fill="hold">
                      <p:stCondLst>
                        <p:cond delay="indefinite"/>
                      </p:stCondLst>
                      <p:childTnLst>
                        <p:par>
                          <p:cTn id="4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dur="indefinite" fill="hold">
                      <p:stCondLst>
                        <p:cond delay="indefinite"/>
                      </p:stCondLst>
                      <p:childTnLst>
                        <p:par>
                          <p:cTn id="4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44100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ой интерес у моих  учащихся вызывают задания, которые позволяют узнавать интересные факты из других областей знаний, получая эту информацию посредством математики и  расширяя таким образом кругозор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7308720" y="5049720"/>
            <a:ext cx="152424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правило это контролирующие задания, дидактическая цель которых состоит в повторении, закреплении, проверке ранее полученных знаний. Для выполнения их каждому ученику необходима определенная математическая подготов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800360" y="0"/>
            <a:ext cx="56880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822400" y="83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09440" y="112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68200" y="965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44360" y="141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44360" y="16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017800" y="1484280"/>
            <a:ext cx="3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34000" y="19731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860200" y="190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25280" y="2189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017440" y="2565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844360" y="24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0944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17440" y="30621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825280" y="294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44360" y="32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34000" y="359244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86020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09440" y="38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06820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25280" y="4024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809440" y="436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97280" y="47084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825280" y="456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44360" y="49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052720" y="521352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09440" y="512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93600" y="54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149640" y="55371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ил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dur="indefinite" fill="hold">
                      <p:stCondLst>
                        <p:cond delay="indefinite"/>
                      </p:stCondLst>
                      <p:childTnLst>
                        <p:par>
                          <p:cTn id="4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dur="indefinite" fill="hold">
                      <p:stCondLst>
                        <p:cond delay="indefinite"/>
                      </p:stCondLst>
                      <p:childTnLst>
                        <p:par>
                          <p:cTn id="4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dur="indefinite" fill="hold">
                      <p:stCondLst>
                        <p:cond delay="indefinite"/>
                      </p:stCondLst>
                      <p:childTnLst>
                        <p:par>
                          <p:cTn id="5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dur="indefinite" fill="hold">
                      <p:stCondLst>
                        <p:cond delay="indefinite"/>
                      </p:stCondLst>
                      <p:childTnLst>
                        <p:par>
                          <p:cTn id="5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dur="indefinite" fill="hold">
                      <p:stCondLst>
                        <p:cond delay="indefinite"/>
                      </p:stCondLst>
                      <p:childTnLst>
                        <p:par>
                          <p:cTn id="5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dur="indefinite" fill="hold">
                      <p:stCondLst>
                        <p:cond delay="indefinite"/>
                      </p:stCondLst>
                      <p:childTnLst>
                        <p:par>
                          <p:cTn id="5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-1174680" y="25718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3844800"/>
            <a:ext cx="85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д кактусов Маммиллярия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- небольшие кактусы шаровидной или укороченно-цилиндрической формы. Стебель одиночный или дающий отрос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ки у большинства видов некрупные, расположены в виде венка на верхушке, часто в 2-3 круга. Плоды сочные, ягодообразные, погружены в мякоть стебля и выходят наружу после созревания, обычно на второ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70880" y="189000"/>
            <a:ext cx="455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Мамилля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847880" cy="191952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1295280" y="1484280"/>
            <a:ext cx="1533600" cy="22687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2987640" y="1916280"/>
            <a:ext cx="2344680" cy="1750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7056360" y="189000"/>
            <a:ext cx="1805040" cy="2090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5688000" y="1557360"/>
            <a:ext cx="1784520" cy="21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1805040" y="298440"/>
            <a:ext cx="4998960" cy="640728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3311640" y="620640"/>
            <a:ext cx="496800" cy="569880"/>
            <a:chOff x="3311640" y="620640"/>
            <a:chExt cx="496800" cy="569880"/>
          </a:xfrm>
        </p:grpSpPr>
        <mc:AlternateContent>
          <mc:Choice xmlns:a14="http://schemas.microsoft.com/office/drawing/2010/main" Requires="a14">
            <p:sp>
              <p:nvSpPr>
                <p:cNvPr id="374" name=""/>
                <p:cNvSpPr txBox="1"/>
                <p:nvPr/>
              </p:nvSpPr>
              <p:spPr>
                <a:xfrm>
                  <a:off x="3311640" y="620640"/>
                  <a:ext cx="49680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9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5" name=""/>
            <p:cNvSpPr/>
            <p:nvPr/>
          </p:nvSpPr>
          <p:spPr>
            <a:xfrm>
              <a:off x="3311640" y="620640"/>
              <a:ext cx="49680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255840" y="1268280"/>
            <a:ext cx="428760" cy="533520"/>
            <a:chOff x="3255840" y="1268280"/>
            <a:chExt cx="428760" cy="533520"/>
          </a:xfrm>
        </p:grpSpPr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3255840" y="1268280"/>
                  <a:ext cx="4287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78" name=""/>
            <p:cNvSpPr/>
            <p:nvPr/>
          </p:nvSpPr>
          <p:spPr>
            <a:xfrm>
              <a:off x="3255840" y="1268280"/>
              <a:ext cx="428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240000" y="1844640"/>
            <a:ext cx="432000" cy="584280"/>
            <a:chOff x="3240000" y="1844640"/>
            <a:chExt cx="432000" cy="584280"/>
          </a:xfrm>
        </p:grpSpPr>
        <mc:AlternateContent>
          <mc:Choice xmlns:a14="http://schemas.microsoft.com/office/drawing/2010/main" Requires="a14">
            <p:sp>
              <p:nvSpPr>
                <p:cNvPr id="380" name=""/>
                <p:cNvSpPr txBox="1"/>
                <p:nvPr/>
              </p:nvSpPr>
              <p:spPr>
                <a:xfrm>
                  <a:off x="3240000" y="1844640"/>
                  <a:ext cx="43200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1" name=""/>
            <p:cNvSpPr/>
            <p:nvPr/>
          </p:nvSpPr>
          <p:spPr>
            <a:xfrm>
              <a:off x="3240000" y="1844640"/>
              <a:ext cx="4320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384720" y="2457360"/>
            <a:ext cx="468000" cy="606600"/>
            <a:chOff x="3384720" y="2457360"/>
            <a:chExt cx="468000" cy="606600"/>
          </a:xfrm>
        </p:grpSpPr>
        <mc:AlternateContent>
          <mc:Choice xmlns:a14="http://schemas.microsoft.com/office/drawing/2010/main" Requires="a14">
            <p:sp>
              <p:nvSpPr>
                <p:cNvPr id="383" name=""/>
                <p:cNvSpPr txBox="1"/>
                <p:nvPr/>
              </p:nvSpPr>
              <p:spPr>
                <a:xfrm>
                  <a:off x="3384720" y="2457360"/>
                  <a:ext cx="4680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4" name=""/>
            <p:cNvSpPr/>
            <p:nvPr/>
          </p:nvSpPr>
          <p:spPr>
            <a:xfrm>
              <a:off x="3384720" y="2457360"/>
              <a:ext cx="4680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311640" y="3645000"/>
            <a:ext cx="392040" cy="642960"/>
            <a:chOff x="3311640" y="3645000"/>
            <a:chExt cx="392040" cy="642960"/>
          </a:xfrm>
        </p:grpSpPr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3311640" y="3645000"/>
                  <a:ext cx="39204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f>
                        <m:num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7" name=""/>
            <p:cNvSpPr/>
            <p:nvPr/>
          </p:nvSpPr>
          <p:spPr>
            <a:xfrm>
              <a:off x="3311640" y="3645000"/>
              <a:ext cx="392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276720" y="4329000"/>
            <a:ext cx="349200" cy="606600"/>
            <a:chOff x="3276720" y="4329000"/>
            <a:chExt cx="349200" cy="606600"/>
          </a:xfrm>
        </p:grpSpPr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3276720" y="4329000"/>
                  <a:ext cx="349200" cy="60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6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3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"/>
            <p:cNvSpPr/>
            <p:nvPr/>
          </p:nvSpPr>
          <p:spPr>
            <a:xfrm>
              <a:off x="3276720" y="4329000"/>
              <a:ext cx="34920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206160" y="32446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25280" y="712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60560" y="1324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96920" y="19368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60560" y="2548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9800" y="31701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944360" y="3854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44360" y="4467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28920" y="5465880"/>
            <a:ext cx="102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квой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dur="indefinite" fill="hold">
                      <p:stCondLst>
                        <p:cond delay="indefinite"/>
                      </p:stCondLst>
                      <p:childTnLst>
                        <p:par>
                          <p:cTn id="5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dur="indefinite" fill="hold">
                      <p:stCondLst>
                        <p:cond delay="indefinite"/>
                      </p:stCondLst>
                      <p:childTnLst>
                        <p:par>
                          <p:cTn id="6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dur="indefinite" fill="hold">
                      <p:stCondLst>
                        <p:cond delay="indefinite"/>
                      </p:stCondLst>
                      <p:childTnLst>
                        <p:par>
                          <p:cTn id="6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dur="indefinite" fill="hold">
                      <p:stCondLst>
                        <p:cond delay="indefinite"/>
                      </p:stCondLst>
                      <p:childTnLst>
                        <p:par>
                          <p:cTn id="6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dur="indefinite" fill="hold">
                      <p:stCondLst>
                        <p:cond delay="indefinite"/>
                      </p:stCondLst>
                      <p:childTnLst>
                        <p:par>
                          <p:cTn id="6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dur="indefinite" fill="hold">
                      <p:stCondLst>
                        <p:cond delay="indefinite"/>
                      </p:stCondLst>
                      <p:childTnLst>
                        <p:par>
                          <p:cTn id="6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35280" y="0"/>
            <a:ext cx="5472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Arial"/>
              </a:rPr>
              <a:t>Секвой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33200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мечательна секвойя тем, что является самым высоким деревом в мире. Секвойя высотой в 60 метров (два десятиэтажных дома, поставленных друг на друга) – обычное дело. Но экземпляры выше 90 метров – тоже не ре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1596960" cy="21333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250920" y="2960640"/>
            <a:ext cx="2685960" cy="34210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981160" y="3753000"/>
            <a:ext cx="3181680" cy="23889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335640" y="2889360"/>
            <a:ext cx="2597400" cy="34560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7527960" y="189000"/>
            <a:ext cx="161604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124000" y="438120"/>
            <a:ext cx="4932360" cy="6267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619080" y="1000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45280" y="6122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564000" y="1484280"/>
            <a:ext cx="287280" cy="533520"/>
            <a:chOff x="3564000" y="1484280"/>
            <a:chExt cx="287280" cy="533520"/>
          </a:xfrm>
        </p:grpSpPr>
        <mc:AlternateContent>
          <mc:Choice xmlns:a14="http://schemas.microsoft.com/office/drawing/2010/main" Requires="a14">
            <p:sp>
              <p:nvSpPr>
                <p:cNvPr id="411" name=""/>
                <p:cNvSpPr txBox="1"/>
                <p:nvPr/>
              </p:nvSpPr>
              <p:spPr>
                <a:xfrm>
                  <a:off x="3564000" y="1484280"/>
                  <a:ext cx="2872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2" name=""/>
            <p:cNvSpPr/>
            <p:nvPr/>
          </p:nvSpPr>
          <p:spPr>
            <a:xfrm>
              <a:off x="3564000" y="1484280"/>
              <a:ext cx="287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5005080" y="61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635280" y="2133720"/>
            <a:ext cx="250920" cy="461880"/>
            <a:chOff x="3635280" y="2133720"/>
            <a:chExt cx="250920" cy="461880"/>
          </a:xfrm>
        </p:grpSpPr>
        <mc:AlternateContent>
          <mc:Choice xmlns:a14="http://schemas.microsoft.com/office/drawing/2010/main" Requires="a14">
            <p:sp>
              <p:nvSpPr>
                <p:cNvPr id="415" name=""/>
                <p:cNvSpPr txBox="1"/>
                <p:nvPr/>
              </p:nvSpPr>
              <p:spPr>
                <a:xfrm>
                  <a:off x="3635280" y="2133720"/>
                  <a:ext cx="250920" cy="46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6" name=""/>
            <p:cNvSpPr/>
            <p:nvPr/>
          </p:nvSpPr>
          <p:spPr>
            <a:xfrm>
              <a:off x="3635280" y="2133720"/>
              <a:ext cx="250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4321080" y="615780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635280" y="2744640"/>
            <a:ext cx="287280" cy="498600"/>
            <a:chOff x="3635280" y="2744640"/>
            <a:chExt cx="287280" cy="498600"/>
          </a:xfrm>
        </p:grpSpPr>
        <mc:AlternateContent>
          <mc:Choice xmlns:a14="http://schemas.microsoft.com/office/drawing/2010/main" Requires="a14">
            <p:sp>
              <p:nvSpPr>
                <p:cNvPr id="419" name=""/>
                <p:cNvSpPr txBox="1"/>
                <p:nvPr/>
              </p:nvSpPr>
              <p:spPr>
                <a:xfrm>
                  <a:off x="3635280" y="2744640"/>
                  <a:ext cx="2872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20" name=""/>
            <p:cNvSpPr/>
            <p:nvPr/>
          </p:nvSpPr>
          <p:spPr>
            <a:xfrm>
              <a:off x="3635280" y="2744640"/>
              <a:ext cx="28728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997080" y="612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30160" y="342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97640" y="6157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3600360" y="4041720"/>
            <a:ext cx="306360" cy="533520"/>
            <a:chOff x="3600360" y="4041720"/>
            <a:chExt cx="306360" cy="533520"/>
          </a:xfrm>
        </p:grpSpPr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3600360" y="4041720"/>
                  <a:ext cx="3063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26" name=""/>
            <p:cNvSpPr/>
            <p:nvPr/>
          </p:nvSpPr>
          <p:spPr>
            <a:xfrm>
              <a:off x="3600360" y="4041720"/>
              <a:ext cx="3063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4789440" y="61484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3564000" y="4653000"/>
            <a:ext cx="185760" cy="533520"/>
            <a:chOff x="3564000" y="4653000"/>
            <a:chExt cx="185760" cy="533520"/>
          </a:xfrm>
        </p:grpSpPr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3564000" y="4653000"/>
                  <a:ext cx="1857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30" name=""/>
            <p:cNvSpPr/>
            <p:nvPr/>
          </p:nvSpPr>
          <p:spPr>
            <a:xfrm>
              <a:off x="3564000" y="4653000"/>
              <a:ext cx="18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528720" y="61578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58160" y="5373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745080" y="616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dur="indefinite" fill="hold">
                      <p:stCondLst>
                        <p:cond delay="indefinite"/>
                      </p:stCondLst>
                      <p:childTnLst>
                        <p:par>
                          <p:cTn id="6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dur="indefinite" fill="hold">
                      <p:stCondLst>
                        <p:cond delay="indefinite"/>
                      </p:stCondLst>
                      <p:childTnLst>
                        <p:par>
                          <p:cTn id="6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dur="indefinite" fill="hold">
                      <p:stCondLst>
                        <p:cond delay="indefinite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dur="indefinite" fill="hold">
                      <p:stCondLst>
                        <p:cond delay="indefinite"/>
                      </p:stCondLst>
                      <p:childTnLst>
                        <p:par>
                          <p:cTn id="7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dur="indefinite" fill="hold">
                      <p:stCondLst>
                        <p:cond delay="indefinite"/>
                      </p:stCondLst>
                      <p:childTnLst>
                        <p:par>
                          <p:cTn id="7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dur="indefinite" fill="hold">
                      <p:stCondLst>
                        <p:cond delay="indefinite"/>
                      </p:stCondLst>
                      <p:childTnLst>
                        <p:par>
                          <p:cTn id="7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dur="indefinite" fill="hold">
                      <p:stCondLst>
                        <p:cond delay="indefinite"/>
                      </p:stCondLst>
                      <p:childTnLst>
                        <p:par>
                          <p:cTn id="7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539640" y="584280"/>
            <a:ext cx="808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лебное дерево (джек-фрут) – родное для западных островов Тихого оке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лебное дерево вырастает примерно до 20-26 метров в высоту, листья его большие и толстые. Но не за рост его уважаю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431640" y="2529000"/>
            <a:ext cx="2679840" cy="39942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494320" cy="412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600000" y="333360"/>
            <a:ext cx="50864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и плоды являются основным продуктом питания для жителей тропических островов, где растут хлебные деревья. Плоды едят и жареными, и печёными, и варёными. На вкус эта еда – что-то среднее между картошкой и хлеб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е хлебом единым жив человек! Из хлебного дерева также делают лодки, ведь древесина его лёгкая и прочная, к тому же чрезвычайно устойчива к термит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539640" y="297000"/>
            <a:ext cx="2800440" cy="292392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971640" y="3429000"/>
            <a:ext cx="2019240" cy="30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Дидактическая игр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современный и признанный метод обучения и воспитания, обладающий органическим единством функци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образовательной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развивающей,</a:t>
            </a: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9999"/>
                </a:solidFill>
                <a:latin typeface="Arial"/>
              </a:rPr>
              <a:t>воспитывающ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Arial"/>
              </a:rPr>
              <a:t>Артокарпу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научное название хлебного дер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39160" cy="28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говатые плоды артокарпуса поражают своими разм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значения выражений и узнайте эти разм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сса плодов (кг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258920" y="4616280"/>
                <a:ext cx="4038480" cy="167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,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5219640" y="4724280"/>
            <a:ext cx="1403280" cy="1476360"/>
          </a:xfrm>
          <a:prstGeom prst="irregularSeal1">
            <a:avLst/>
          </a:prstGeom>
          <a:solidFill>
            <a:srgbClr val="d511d5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dur="indefinite" fill="hold">
                      <p:stCondLst>
                        <p:cond delay="indefinite"/>
                      </p:stCondLst>
                      <p:childTnLst>
                        <p:par>
                          <p:cTn id="7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880920" y="453960"/>
            <a:ext cx="42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лина плодов (см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76360" y="1233360"/>
                <a:ext cx="475272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,4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6" name=""/>
          <p:cNvSpPr/>
          <p:nvPr/>
        </p:nvSpPr>
        <p:spPr>
          <a:xfrm>
            <a:off x="5508720" y="1305000"/>
            <a:ext cx="1655640" cy="1655640"/>
          </a:xfrm>
          <a:prstGeom prst="irregularSeal1">
            <a:avLst/>
          </a:prstGeom>
          <a:solidFill>
            <a:srgbClr val="d511d5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9440" y="3235320"/>
            <a:ext cx="47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иаметр плодов (см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792000" y="4329000"/>
                <a:ext cx="4038840" cy="181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2,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788000" y="4473720"/>
            <a:ext cx="1727280" cy="1547640"/>
          </a:xfrm>
          <a:prstGeom prst="irregularSeal1">
            <a:avLst/>
          </a:prstGeom>
          <a:solidFill>
            <a:srgbClr val="d511d5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dur="indefinite" fill="hold">
                      <p:stCondLst>
                        <p:cond delay="indefinite"/>
                      </p:stCondLst>
                      <p:childTnLst>
                        <p:par>
                          <p:cTn id="7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ой любовью учащихся 5-6 классов пользуются задания, в которых я предлагаю создать цветную иллюстрацию, предварительно рассмотрев математический аспект задачи. Это усиливает интерес, делая учащихся активными участниками происходяще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5435640" y="4659480"/>
            <a:ext cx="1998720" cy="21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349280" y="311040"/>
            <a:ext cx="6443640" cy="623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519280" y="333360"/>
            <a:ext cx="3121200" cy="45482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30200" y="1522440"/>
            <a:ext cx="3065400" cy="446400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4789440" y="511200"/>
            <a:ext cx="3017880" cy="44625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4572000" y="2887560"/>
            <a:ext cx="424800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457200" y="87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ольшой интерес учащихся вызывают задания, содержащие малоизвестные, интересные факты о природе родного края, о редких животных Росс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3381480" y="4834080"/>
            <a:ext cx="238104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539640" y="410760"/>
            <a:ext cx="727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а большей части территории России, вплоть до бассейна реки Колымы и Забайкалья, гнездуется серый журав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иневато-серое оперение большей части тела позволяет птице маскироваться от врагов среди лесистой местности. Эта красивая крупная птица имеет высоту около 115 см, размах крыльев 180—200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 вот вес серого журавля вы узнаете из «Геометрического лабиринт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754760" y="836640"/>
            <a:ext cx="1136880" cy="18716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216000" y="3429000"/>
            <a:ext cx="3346200" cy="29592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3780000" y="3068640"/>
            <a:ext cx="1871640" cy="30909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5832360" y="3429000"/>
            <a:ext cx="3102120" cy="310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dur="indefinite" fill="hold">
                      <p:stCondLst>
                        <p:cond delay="indefinite"/>
                      </p:stCondLst>
                      <p:childTnLst>
                        <p:par>
                          <p:cTn id="7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7272360" y="48340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ef2c1d"/>
              </a:gs>
              <a:gs pos="50000">
                <a:srgbClr val="f7a9a3"/>
              </a:gs>
              <a:gs pos="100000">
                <a:srgbClr val="ef2c1d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48000" y="4976640"/>
            <a:ext cx="1309680" cy="640080"/>
          </a:xfrm>
          <a:prstGeom prst="hexagon">
            <a:avLst>
              <a:gd name="adj" fmla="val 51153"/>
              <a:gd name="vf" fmla="val 115470"/>
            </a:avLst>
          </a:prstGeom>
          <a:gradFill rotWithShape="0">
            <a:gsLst>
              <a:gs pos="0">
                <a:srgbClr val="764be1"/>
              </a:gs>
              <a:gs pos="50000">
                <a:srgbClr val="d3c6f4"/>
              </a:gs>
              <a:gs pos="100000">
                <a:srgbClr val="764be1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95640" y="4905360"/>
            <a:ext cx="1309680" cy="639720"/>
          </a:xfrm>
          <a:prstGeom prst="hexagon">
            <a:avLst>
              <a:gd name="adj" fmla="val 51182"/>
              <a:gd name="vf" fmla="val 115470"/>
            </a:avLst>
          </a:prstGeom>
          <a:gradFill rotWithShape="0">
            <a:gsLst>
              <a:gs pos="0">
                <a:srgbClr val="764be1"/>
              </a:gs>
              <a:gs pos="50000">
                <a:srgbClr val="d3c6f4"/>
              </a:gs>
              <a:gs pos="100000">
                <a:srgbClr val="764be1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187280" y="4869000"/>
            <a:ext cx="562320" cy="849240"/>
            <a:chOff x="1187280" y="4869000"/>
            <a:chExt cx="562320" cy="849240"/>
          </a:xfrm>
        </p:grpSpPr>
        <p:sp>
          <p:nvSpPr>
            <p:cNvPr id="468" name=""/>
            <p:cNvSpPr/>
            <p:nvPr/>
          </p:nvSpPr>
          <p:spPr>
            <a:xfrm>
              <a:off x="1187280" y="4869000"/>
              <a:ext cx="562320" cy="822240"/>
            </a:xfrm>
            <a:prstGeom prst="rect">
              <a:avLst/>
            </a:prstGeom>
            <a:gradFill rotWithShape="0">
              <a:gsLst>
                <a:gs pos="0">
                  <a:srgbClr val="e6f05e"/>
                </a:gs>
                <a:gs pos="50000">
                  <a:srgbClr val="f4f8bd"/>
                </a:gs>
                <a:gs pos="100000">
                  <a:srgbClr val="e6f05e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9" name=""/>
                <p:cNvSpPr txBox="1"/>
                <p:nvPr/>
              </p:nvSpPr>
              <p:spPr>
                <a:xfrm>
                  <a:off x="1332000" y="4869000"/>
                  <a:ext cx="32544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0" name=""/>
          <p:cNvGrpSpPr/>
          <p:nvPr/>
        </p:nvGrpSpPr>
        <p:grpSpPr>
          <a:xfrm>
            <a:off x="6551640" y="3141720"/>
            <a:ext cx="561960" cy="849240"/>
            <a:chOff x="6551640" y="3141720"/>
            <a:chExt cx="561960" cy="849240"/>
          </a:xfrm>
        </p:grpSpPr>
        <p:sp>
          <p:nvSpPr>
            <p:cNvPr id="471" name=""/>
            <p:cNvSpPr/>
            <p:nvPr/>
          </p:nvSpPr>
          <p:spPr>
            <a:xfrm>
              <a:off x="6551640" y="3141720"/>
              <a:ext cx="561960" cy="822240"/>
            </a:xfrm>
            <a:prstGeom prst="rect">
              <a:avLst/>
            </a:prstGeom>
            <a:gradFill rotWithShape="0">
              <a:gsLst>
                <a:gs pos="0">
                  <a:srgbClr val="e6f05e"/>
                </a:gs>
                <a:gs pos="50000">
                  <a:srgbClr val="f4f8bd"/>
                </a:gs>
                <a:gs pos="100000">
                  <a:srgbClr val="e6f05e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6696000" y="3141720"/>
                  <a:ext cx="32544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3" name=""/>
          <p:cNvSpPr/>
          <p:nvPr/>
        </p:nvSpPr>
        <p:spPr>
          <a:xfrm>
            <a:off x="4751280" y="3176640"/>
            <a:ext cx="804960" cy="696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8ee6a"/>
              </a:gs>
              <a:gs pos="50000">
                <a:srgbClr val="a1f4ab"/>
              </a:gs>
              <a:gs pos="100000">
                <a:srgbClr val="58ee6a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376360" y="3105000"/>
            <a:ext cx="804960" cy="696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8ee6a"/>
              </a:gs>
              <a:gs pos="50000">
                <a:srgbClr val="a1f4ab"/>
              </a:gs>
              <a:gs pos="100000">
                <a:srgbClr val="58ee6a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156360" y="4834080"/>
            <a:ext cx="509400" cy="893520"/>
            <a:chOff x="6156360" y="4834080"/>
            <a:chExt cx="509400" cy="893520"/>
          </a:xfrm>
        </p:grpSpPr>
        <p:sp>
          <p:nvSpPr>
            <p:cNvPr id="476" name=""/>
            <p:cNvSpPr/>
            <p:nvPr/>
          </p:nvSpPr>
          <p:spPr>
            <a:xfrm>
              <a:off x="6156360" y="4834080"/>
              <a:ext cx="509400" cy="893520"/>
            </a:xfrm>
            <a:prstGeom prst="ellipse">
              <a:avLst/>
            </a:prstGeom>
            <a:gradFill rotWithShape="0">
              <a:gsLst>
                <a:gs pos="0">
                  <a:srgbClr val="f6b4e9"/>
                </a:gs>
                <a:gs pos="50000">
                  <a:srgbClr val="f8cdef"/>
                </a:gs>
                <a:gs pos="100000">
                  <a:srgbClr val="f6b4e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6264360" y="4906800"/>
                  <a:ext cx="29664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78" name=""/>
          <p:cNvGrpSpPr/>
          <p:nvPr/>
        </p:nvGrpSpPr>
        <p:grpSpPr>
          <a:xfrm>
            <a:off x="719280" y="3068640"/>
            <a:ext cx="509400" cy="893880"/>
            <a:chOff x="719280" y="3068640"/>
            <a:chExt cx="509400" cy="893880"/>
          </a:xfrm>
        </p:grpSpPr>
        <p:sp>
          <p:nvSpPr>
            <p:cNvPr id="479" name=""/>
            <p:cNvSpPr/>
            <p:nvPr/>
          </p:nvSpPr>
          <p:spPr>
            <a:xfrm>
              <a:off x="719280" y="3068640"/>
              <a:ext cx="509400" cy="893880"/>
            </a:xfrm>
            <a:prstGeom prst="ellipse">
              <a:avLst/>
            </a:prstGeom>
            <a:gradFill rotWithShape="0">
              <a:gsLst>
                <a:gs pos="0">
                  <a:srgbClr val="f6b4e9"/>
                </a:gs>
                <a:gs pos="50000">
                  <a:srgbClr val="f8cdef"/>
                </a:gs>
                <a:gs pos="100000">
                  <a:srgbClr val="f6b4e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0" name=""/>
                <p:cNvSpPr txBox="1"/>
                <p:nvPr/>
              </p:nvSpPr>
              <p:spPr>
                <a:xfrm>
                  <a:off x="826920" y="3141720"/>
                  <a:ext cx="29700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1" name=""/>
          <p:cNvGrpSpPr/>
          <p:nvPr/>
        </p:nvGrpSpPr>
        <p:grpSpPr>
          <a:xfrm>
            <a:off x="6948360" y="1268280"/>
            <a:ext cx="509760" cy="893880"/>
            <a:chOff x="6948360" y="1268280"/>
            <a:chExt cx="509760" cy="893880"/>
          </a:xfrm>
        </p:grpSpPr>
        <p:sp>
          <p:nvSpPr>
            <p:cNvPr id="482" name=""/>
            <p:cNvSpPr/>
            <p:nvPr/>
          </p:nvSpPr>
          <p:spPr>
            <a:xfrm>
              <a:off x="6948360" y="1268280"/>
              <a:ext cx="509760" cy="893880"/>
            </a:xfrm>
            <a:prstGeom prst="ellipse">
              <a:avLst/>
            </a:prstGeom>
            <a:gradFill rotWithShape="0">
              <a:gsLst>
                <a:gs pos="0">
                  <a:srgbClr val="f6b4e9"/>
                </a:gs>
                <a:gs pos="50000">
                  <a:srgbClr val="f8cdef"/>
                </a:gs>
                <a:gs pos="100000">
                  <a:srgbClr val="f6b4e9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7056360" y="1341360"/>
                  <a:ext cx="29700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4" name=""/>
          <p:cNvGrpSpPr/>
          <p:nvPr/>
        </p:nvGrpSpPr>
        <p:grpSpPr>
          <a:xfrm>
            <a:off x="4788000" y="1305000"/>
            <a:ext cx="849240" cy="673200"/>
            <a:chOff x="4788000" y="1305000"/>
            <a:chExt cx="849240" cy="673200"/>
          </a:xfrm>
        </p:grpSpPr>
        <p:sp>
          <p:nvSpPr>
            <p:cNvPr id="485" name=""/>
            <p:cNvSpPr/>
            <p:nvPr/>
          </p:nvSpPr>
          <p:spPr>
            <a:xfrm>
              <a:off x="4788000" y="1339920"/>
              <a:ext cx="849240" cy="638280"/>
            </a:xfrm>
            <a:custGeom>
              <a:avLst/>
              <a:gdLst>
                <a:gd name="textAreaLeft" fmla="*/ 186480 w 849240"/>
                <a:gd name="textAreaRight" fmla="*/ 662760 w 849240"/>
                <a:gd name="textAreaTop" fmla="*/ 140400 h 638280"/>
                <a:gd name="textAreaBottom" fmla="*/ 49788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b4fefe"/>
                </a:gs>
                <a:gs pos="100000">
                  <a:srgbClr val="00ffff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6" name=""/>
                <p:cNvSpPr txBox="1"/>
                <p:nvPr/>
              </p:nvSpPr>
              <p:spPr>
                <a:xfrm>
                  <a:off x="5113440" y="1305000"/>
                  <a:ext cx="25560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7" name=""/>
          <p:cNvGrpSpPr/>
          <p:nvPr/>
        </p:nvGrpSpPr>
        <p:grpSpPr>
          <a:xfrm>
            <a:off x="1224000" y="1341360"/>
            <a:ext cx="849240" cy="673200"/>
            <a:chOff x="1224000" y="1341360"/>
            <a:chExt cx="849240" cy="673200"/>
          </a:xfrm>
        </p:grpSpPr>
        <p:sp>
          <p:nvSpPr>
            <p:cNvPr id="488" name=""/>
            <p:cNvSpPr/>
            <p:nvPr/>
          </p:nvSpPr>
          <p:spPr>
            <a:xfrm>
              <a:off x="1224000" y="1376280"/>
              <a:ext cx="849240" cy="638280"/>
            </a:xfrm>
            <a:custGeom>
              <a:avLst/>
              <a:gdLst>
                <a:gd name="textAreaLeft" fmla="*/ 186480 w 849240"/>
                <a:gd name="textAreaRight" fmla="*/ 662760 w 849240"/>
                <a:gd name="textAreaTop" fmla="*/ 140400 h 638280"/>
                <a:gd name="textAreaBottom" fmla="*/ 497880 h 6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ffff"/>
                </a:gs>
                <a:gs pos="50000">
                  <a:srgbClr val="b4fefe"/>
                </a:gs>
                <a:gs pos="100000">
                  <a:srgbClr val="00ffff"/>
                </a:gs>
              </a:gsLst>
              <a:lin ang="5400000"/>
            </a:gra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9" name=""/>
                <p:cNvSpPr txBox="1"/>
                <p:nvPr/>
              </p:nvSpPr>
              <p:spPr>
                <a:xfrm>
                  <a:off x="1549440" y="1341360"/>
                  <a:ext cx="255600" cy="66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0" name=""/>
          <p:cNvSpPr/>
          <p:nvPr/>
        </p:nvSpPr>
        <p:spPr>
          <a:xfrm>
            <a:off x="794880" y="549360"/>
            <a:ext cx="78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полните пропуски, учитывая, что в одинаковых фигурах записа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вные чис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24000" y="1376280"/>
            <a:ext cx="855720" cy="644760"/>
          </a:xfrm>
          <a:custGeom>
            <a:avLst/>
            <a:gdLst>
              <a:gd name="textAreaLeft" fmla="*/ 187920 w 855720"/>
              <a:gd name="textAreaRight" fmla="*/ 667800 w 855720"/>
              <a:gd name="textAreaTop" fmla="*/ 141840 h 644760"/>
              <a:gd name="textAreaBottom" fmla="*/ 502920 h 64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b4fefe"/>
              </a:gs>
              <a:gs pos="100000">
                <a:srgbClr val="00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3800" y="1484280"/>
            <a:ext cx="5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33440" y="1521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788000" y="1341360"/>
            <a:ext cx="890640" cy="669960"/>
          </a:xfrm>
          <a:custGeom>
            <a:avLst/>
            <a:gdLst>
              <a:gd name="textAreaLeft" fmla="*/ 195840 w 890640"/>
              <a:gd name="textAreaRight" fmla="*/ 694800 w 890640"/>
              <a:gd name="textAreaTop" fmla="*/ 147240 h 669960"/>
              <a:gd name="textAreaBottom" fmla="*/ 522720 h 66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b4fefe"/>
              </a:gs>
              <a:gs pos="100000">
                <a:srgbClr val="00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68720" y="1484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264360" y="1268280"/>
                <a:ext cx="2728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6605280" y="1468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948360" y="1268280"/>
            <a:ext cx="516240" cy="900360"/>
          </a:xfrm>
          <a:prstGeom prst="ellipse">
            <a:avLst/>
          </a:prstGeom>
          <a:gradFill rotWithShape="0">
            <a:gsLst>
              <a:gs pos="0">
                <a:srgbClr val="f6b4e9"/>
              </a:gs>
              <a:gs pos="50000">
                <a:srgbClr val="f8cdef"/>
              </a:gs>
              <a:gs pos="100000">
                <a:srgbClr val="f6b4e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56360" y="4834080"/>
            <a:ext cx="515880" cy="900000"/>
          </a:xfrm>
          <a:prstGeom prst="ellipse">
            <a:avLst/>
          </a:prstGeom>
          <a:gradFill rotWithShape="0">
            <a:gsLst>
              <a:gs pos="0">
                <a:srgbClr val="f6b4e9"/>
              </a:gs>
              <a:gs pos="50000">
                <a:srgbClr val="f8cdef"/>
              </a:gs>
              <a:gs pos="100000">
                <a:srgbClr val="f6b4e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19280" y="3068640"/>
            <a:ext cx="515880" cy="900000"/>
          </a:xfrm>
          <a:prstGeom prst="ellipse">
            <a:avLst/>
          </a:prstGeom>
          <a:gradFill rotWithShape="0">
            <a:gsLst>
              <a:gs pos="0">
                <a:srgbClr val="f6b4e9"/>
              </a:gs>
              <a:gs pos="50000">
                <a:srgbClr val="f8cdef"/>
              </a:gs>
              <a:gs pos="100000">
                <a:srgbClr val="f6b4e9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57280" y="3268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09640" y="33051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,2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76360" y="3105000"/>
            <a:ext cx="804960" cy="696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8ee6a"/>
              </a:gs>
              <a:gs pos="50000">
                <a:srgbClr val="a1f4ab"/>
              </a:gs>
              <a:gs pos="100000">
                <a:srgbClr val="58ee6a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751280" y="3176640"/>
            <a:ext cx="804960" cy="696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58ee6a"/>
              </a:gs>
              <a:gs pos="50000">
                <a:srgbClr val="a1f4ab"/>
              </a:gs>
              <a:gs pos="100000">
                <a:srgbClr val="58ee6a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45440" y="335772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551640" y="3141720"/>
            <a:ext cx="568440" cy="828720"/>
          </a:xfrm>
          <a:prstGeom prst="rect">
            <a:avLst/>
          </a:prstGeom>
          <a:gradFill rotWithShape="0">
            <a:gsLst>
              <a:gs pos="0">
                <a:srgbClr val="e6f05e"/>
              </a:gs>
              <a:gs pos="50000">
                <a:srgbClr val="f4f8bd"/>
              </a:gs>
              <a:gs pos="100000">
                <a:srgbClr val="e6f05e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187280" y="4869000"/>
            <a:ext cx="568440" cy="828360"/>
          </a:xfrm>
          <a:prstGeom prst="rect">
            <a:avLst/>
          </a:prstGeom>
          <a:gradFill rotWithShape="0">
            <a:gsLst>
              <a:gs pos="0">
                <a:srgbClr val="e6f05e"/>
              </a:gs>
              <a:gs pos="50000">
                <a:srgbClr val="f4f8bd"/>
              </a:gs>
              <a:gs pos="100000">
                <a:srgbClr val="e6f05e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576360" y="4941720"/>
                <a:ext cx="284040" cy="7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880920" y="50688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52200" y="5032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195640" y="4905360"/>
            <a:ext cx="1309680" cy="639720"/>
          </a:xfrm>
          <a:prstGeom prst="hexagon">
            <a:avLst>
              <a:gd name="adj" fmla="val 51182"/>
              <a:gd name="vf" fmla="val 115470"/>
            </a:avLst>
          </a:prstGeom>
          <a:gradFill rotWithShape="0">
            <a:gsLst>
              <a:gs pos="0">
                <a:srgbClr val="764be1"/>
              </a:gs>
              <a:gs pos="50000">
                <a:srgbClr val="d3c6f4"/>
              </a:gs>
              <a:gs pos="100000">
                <a:srgbClr val="764be1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48000" y="4976640"/>
            <a:ext cx="1309680" cy="640080"/>
          </a:xfrm>
          <a:prstGeom prst="hexagon">
            <a:avLst>
              <a:gd name="adj" fmla="val 51153"/>
              <a:gd name="vf" fmla="val 115470"/>
            </a:avLst>
          </a:prstGeom>
          <a:gradFill rotWithShape="0">
            <a:gsLst>
              <a:gs pos="0">
                <a:srgbClr val="764be1"/>
              </a:gs>
              <a:gs pos="50000">
                <a:srgbClr val="d3c6f4"/>
              </a:gs>
              <a:gs pos="100000">
                <a:srgbClr val="764be1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76920" y="51055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1800" y="51213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272360" y="4834080"/>
            <a:ext cx="1047600" cy="914400"/>
          </a:xfrm>
          <a:custGeom>
            <a:avLst/>
            <a:gdLst>
              <a:gd name="textAreaLeft" fmla="*/ 246240 w 1047600"/>
              <a:gd name="textAreaRight" fmla="*/ 800640 w 1047600"/>
              <a:gd name="textAreaTop" fmla="*/ 107280 h 914400"/>
              <a:gd name="textAreaBottom" fmla="*/ 573480 h 9144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ef2c1d"/>
              </a:gs>
              <a:gs pos="50000">
                <a:srgbClr val="f7a9a3"/>
              </a:gs>
              <a:gs pos="100000">
                <a:srgbClr val="ef2c1d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79320" y="115920"/>
            <a:ext cx="361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ческий лабири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dur="indefinite" fill="hold">
                      <p:stCondLst>
                        <p:cond delay="indefinite"/>
                      </p:stCondLst>
                      <p:childTnLst>
                        <p:par>
                          <p:cTn id="8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8" dur="500" fill="hold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dur="indefinite" fill="hold">
                      <p:stCondLst>
                        <p:cond delay="indefinite"/>
                      </p:stCondLst>
                      <p:childTnLst>
                        <p:par>
                          <p:cTn id="8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3" dur="500" fill="hold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dur="indefinite" fill="hold">
                      <p:stCondLst>
                        <p:cond delay="indefinite"/>
                      </p:stCondLst>
                      <p:childTnLst>
                        <p:par>
                          <p:cTn id="8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8" dur="500" fill="hold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dur="indefinite" fill="hold">
                      <p:stCondLst>
                        <p:cond delay="indefinite"/>
                      </p:stCondLst>
                      <p:childTnLst>
                        <p:par>
                          <p:cTn id="8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3" dur="500" fill="hold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dur="indefinite" fill="hold">
                      <p:stCondLst>
                        <p:cond delay="indefinite"/>
                      </p:stCondLst>
                      <p:childTnLst>
                        <p:par>
                          <p:cTn id="8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8" dur="500" fill="hold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dur="indefinite" fill="hold">
                      <p:stCondLst>
                        <p:cond delay="indefinite"/>
                      </p:stCondLst>
                      <p:childTnLst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3" dur="500" fill="hold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fill="hold">
                      <p:stCondLst>
                        <p:cond delay="indefinite"/>
                      </p:stCondLst>
                      <p:childTnLst>
                        <p:par>
                          <p:cTn id="8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8" dur="500" fill="hold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dur="indefinite" fill="hold">
                      <p:stCondLst>
                        <p:cond delay="indefinite"/>
                      </p:stCondLst>
                      <p:childTnLst>
                        <p:par>
                          <p:cTn id="8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3" dur="500" fill="hold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dur="indefinite" fill="hold">
                      <p:stCondLst>
                        <p:cond delay="indefinite"/>
                      </p:stCondLst>
                      <p:childTnLst>
                        <p:par>
                          <p:cTn id="8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8" dur="500" fill="hold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dur="indefinite" fill="hold">
                      <p:stCondLst>
                        <p:cond delay="indefinite"/>
                      </p:stCondLst>
                      <p:childTnLst>
                        <p:par>
                          <p:cTn id="8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3" dur="500" fill="hold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dur="indefinite" fill="hold">
                      <p:stCondLst>
                        <p:cond delay="indefinite"/>
                      </p:stCondLst>
                      <p:childTnLst>
                        <p:par>
                          <p:cTn id="8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dur="indefinite" fill="hold">
                      <p:stCondLst>
                        <p:cond delay="indefinite"/>
                      </p:stCondLst>
                      <p:childTnLst>
                        <p:par>
                          <p:cTn id="8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3" dur="500" fill="hold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dur="indefinite" fill="hold">
                      <p:stCondLst>
                        <p:cond delay="indefinite"/>
                      </p:stCondLst>
                      <p:childTnLst>
                        <p:par>
                          <p:cTn id="8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8" dur="2000" fill="hold"/>
                                        <p:tgtEl>
                                          <p:spTgt spid="4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42920" y="1305000"/>
            <a:ext cx="1952640" cy="14097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2119320" y="0"/>
            <a:ext cx="4905360" cy="685800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3"/>
          <a:stretch/>
        </p:blipFill>
        <p:spPr>
          <a:xfrm>
            <a:off x="5999040" y="4473720"/>
            <a:ext cx="3144960" cy="68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ще один нетрадиционный вид заданий — блиц-турнир, имеющий достаточно высокий уровень сложности, но  не требующий длительного времени на  выпол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едлагаемом задании учащимся необходимо составить выражение по тексту задачи и, если возможно, упростить 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68280"/>
            <a:ext cx="8229600" cy="57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ти требуют деятельности  беспрестанно и утомляются  не    деятельностью, а её однообразием и  односторонность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Г. Ушин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Играют люди на плане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Играют птицы и ж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Играют все, но только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Играют ото всей ду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И если в школе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Вдруг поведётся поигр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То нет счастливей их на св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И выучат все всё на пять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Г. Уши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7056360" y="2529000"/>
                <a:ext cx="13557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 txBox="1"/>
          <p:nvPr/>
        </p:nvSpPr>
        <p:spPr>
          <a:xfrm>
            <a:off x="2771640" y="0"/>
            <a:ext cx="3637080" cy="981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99"/>
                    </a:gs>
                    <a:gs pos="100000">
                      <a:srgbClr val="ffffcc"/>
                    </a:gs>
                  </a:gsLst>
                  <a:lin ang="5400000"/>
                </a:gradFill>
                <a:latin typeface="Times New Roman"/>
              </a:rPr>
              <a:t>Блиц-турнир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99"/>
                  </a:gs>
                  <a:gs pos="100000">
                    <a:srgbClr val="ffffc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539640" y="907920"/>
          <a:ext cx="7983720" cy="5408640"/>
        </p:xfrm>
        <a:graphic>
          <a:graphicData uri="http://schemas.openxmlformats.org/drawingml/2006/table">
            <a:tbl>
              <a:tblPr/>
              <a:tblGrid>
                <a:gridCol w="1765440"/>
                <a:gridCol w="4645080"/>
                <a:gridCol w="1573200"/>
              </a:tblGrid>
              <a:tr h="108108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магазин привезли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г картофеля. До      обеда продали       всего картофел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картофеля продали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288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уристы прошли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м,  что составило         всего пути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лько км весь пу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ниге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иц. Девочка прочитала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ниги. Сколько страниц ей осталось прочитать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3760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,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рзине лежат яблоки.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сех яблок красные, что составляет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.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колько всего яблок в корзин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0,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972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коробке было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фет. Юля съел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х конфет, а Миша в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за больше. Сколько конфет съел Миша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26892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140360" y="1125360"/>
                <a:ext cx="223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6588000" y="1989000"/>
                <a:ext cx="168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7451640" y="981000"/>
                <a:ext cx="5954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6948360" y="907920"/>
            <a:ext cx="158436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7559640" y="2023920"/>
                <a:ext cx="4064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6948360" y="1989000"/>
            <a:ext cx="158436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48360" y="3068640"/>
            <a:ext cx="158436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48360" y="4149720"/>
            <a:ext cx="1584360" cy="10796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48360" y="5229360"/>
            <a:ext cx="1584360" cy="10792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1150920" y="2060640"/>
            <a:ext cx="612720" cy="93672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3"/>
          <a:stretch/>
        </p:blipFill>
        <p:spPr>
          <a:xfrm>
            <a:off x="792000" y="4149720"/>
            <a:ext cx="1190880" cy="10447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826920" y="5300640"/>
            <a:ext cx="1094040" cy="106380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863640" y="981000"/>
            <a:ext cx="1168200" cy="9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dur="indefinite" fill="hold">
                      <p:stCondLst>
                        <p:cond delay="indefinite"/>
                      </p:stCondLst>
                      <p:childTnLst>
                        <p:par>
                          <p:cTn id="8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dur="indefinite" fill="hold">
                      <p:stCondLst>
                        <p:cond delay="indefinite"/>
                      </p:stCondLst>
                      <p:childTnLst>
                        <p:par>
                          <p:cTn id="8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dur="indefinite" fill="hold">
                      <p:stCondLst>
                        <p:cond delay="indefinite"/>
                      </p:stCondLst>
                      <p:childTnLst>
                        <p:par>
                          <p:cTn id="8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dur="indefinite" fill="hold">
                      <p:stCondLst>
                        <p:cond delay="indefinite"/>
                      </p:stCondLst>
                      <p:childTnLst>
                        <p:par>
                          <p:cTn id="8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dur="indefinite" fill="hold">
                      <p:stCondLst>
                        <p:cond delay="indefinite"/>
                      </p:stCondLst>
                      <p:childTnLst>
                        <p:par>
                          <p:cTn id="8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44100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ие игры очень хорошо уживаются с «серьезным» учением.  Использование мною  на  уроках дидактических игр и игровых моментов делает процесс обучения интересным и занимательным, создает у детей бодрое рабочее настроение, облегчает преодоление трудностей в усвоении учебного матери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217440" y="1547640"/>
            <a:ext cx="8709120" cy="1881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Спасибо за внимание!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735280" y="2565360"/>
            <a:ext cx="3529080" cy="33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8640" y="255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7c7"/>
                </a:solidFill>
                <a:latin typeface="Arial"/>
              </a:rPr>
              <a:t>Игровые технологии способствуют достижению следующих цел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6360" y="1125360"/>
            <a:ext cx="795636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изации мыслительной деятельности,  развитию познавательны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ю логического мыш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углублению знаний по матема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риятию межпредметных связ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итию математической куль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лочению коллектива, формированию деловых взаимоотнош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ю индивидуальности и коммуникативных способ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52280"/>
            <a:ext cx="8229600" cy="54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атематическая сторона содержания игры всегда должна отчетливо выдвигаться на первый план. Только тогда игра будет выполнять свою роль в математическом развитии детей и воспитании интереса к предмет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4152960"/>
            <a:ext cx="356364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61880" y="225360"/>
            <a:ext cx="821844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Остановлюсь на тех игровых компонентах, которые я применяю чаще других и которые дают положительный эффект в обучении.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уроки-игры (КВН, урок-путешествие, урок-экскурсия), использование игровых ситуаций на уроках (лото, эстафеты), отгадывание ребусов, кроссвордов, решение занимательны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592440" y="4869000"/>
            <a:ext cx="18446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dffec1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97000"/>
            <a:ext cx="8229600" cy="63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издается большое количество методической литературы в помощь учителю. Например, вышла серия книг авторов Беленковой Е.Ю. и Лебединцевой Е.А. «Задания для обучения и развития учащихся», много интересных заданий и кроссвордов, содержится в книге А.Поповой «Поурочные разработки к учебнику Н.Я.Виленкин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которые задания  мною  переработаны с применением ИКТ и разработаны сво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е хотелось показать, какие новые горизонты открывает применение ИКТ на уроках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24000" y="5121360"/>
            <a:ext cx="1150920" cy="149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15:41:33Z</dcterms:created>
  <dc:creator>Administrator</dc:creator>
  <dc:description/>
  <dc:language>en-US</dc:language>
  <cp:lastModifiedBy>ольга</cp:lastModifiedBy>
  <dcterms:modified xsi:type="dcterms:W3CDTF">2010-04-18T07:52:42Z</dcterms:modified>
  <cp:revision>42</cp:revision>
  <dc:subject/>
  <dc:title>Слайд 1</dc:title>
</cp:coreProperties>
</file>