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42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20.jpeg" ContentType="image/jpeg"/>
  <Override PartName="/ppt/media/image31.jpeg" ContentType="image/jpeg"/>
  <Override PartName="/ppt/media/image48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1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C60-554E-49B6-A946-9EDD7DAD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054-F0EA-4613-9EC4-1404295E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AFE-D284-43BD-852B-1D0FCD1B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960-F1EB-4CBE-AB6E-F6E77F11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3BB-66A1-47C9-A203-E76A3251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A96-31A2-4824-934E-9F779A0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5AC-A1F2-4872-AE45-4CC93F00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1D6-0694-42AB-A76A-5EC98C1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695-7256-4BF2-95C9-4EF51BE9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17C-D5BD-409F-A9E7-9A0C500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D9F-C7B8-43BA-B7AC-B29697A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82C-77D6-4BDA-816F-A06CFB92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EE11-8ECC-447E-AFAF-C18E15AC2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s.wikimedia.org/wiki/Category:Oka_River?uselang=ru" TargetMode="External"/><Relationship Id="rId3" Type="http://schemas.openxmlformats.org/officeDocument/2006/relationships/hyperlink" Target="http://www.spas-extreme.ru/kids/el.php?SID=203" TargetMode="External"/><Relationship Id="rId4" Type="http://schemas.openxmlformats.org/officeDocument/2006/relationships/hyperlink" Target="http://www.spas-extreme.ru/kids/el.php?SID=203" TargetMode="External"/><Relationship Id="rId5" Type="http://schemas.openxmlformats.org/officeDocument/2006/relationships/hyperlink" Target="http://www.spas-extreme.ru/kids/el.php?SID=203" TargetMode="External"/><Relationship Id="rId6" Type="http://schemas.openxmlformats.org/officeDocument/2006/relationships/hyperlink" Target="http://www.spas-extreme.ru/kids/el.php?SID=203" TargetMode="External"/><Relationship Id="rId7" Type="http://schemas.openxmlformats.org/officeDocument/2006/relationships/hyperlink" Target="http://www.spas-extreme.ru/kids/el.php?SID=203" TargetMode="External"/><Relationship Id="rId8" Type="http://schemas.openxmlformats.org/officeDocument/2006/relationships/hyperlink" Target="http://www.spas-extreme.ru/kids/el.php?SID=203" TargetMode="External"/><Relationship Id="rId9" Type="http://schemas.openxmlformats.org/officeDocument/2006/relationships/hyperlink" Target="http://www.spas-extreme.ru/kids/el.php?SID=203" TargetMode="External"/><Relationship Id="rId10" Type="http://schemas.openxmlformats.org/officeDocument/2006/relationships/hyperlink" Target="http://www.spas-extreme.ru/kids/el.php?SID=203" TargetMode="External"/><Relationship Id="rId11" Type="http://schemas.openxmlformats.org/officeDocument/2006/relationships/hyperlink" Target="http://www.spas-extreme.ru/kids/el.php?SID=203" TargetMode="External"/><Relationship Id="rId12" Type="http://schemas.openxmlformats.org/officeDocument/2006/relationships/hyperlink" Target="http://www.spas-extreme.ru/kids/el.php?SID=203" TargetMode="External"/><Relationship Id="rId13" Type="http://schemas.openxmlformats.org/officeDocument/2006/relationships/hyperlink" Target="http://www.spas-extreme.ru/kids/el.php?SID=203" TargetMode="External"/><Relationship Id="rId14" Type="http://schemas.openxmlformats.org/officeDocument/2006/relationships/hyperlink" Target="http://www.spas-extreme.ru/kids/el.php?SID=203" TargetMode="External"/><Relationship Id="rId15" Type="http://schemas.openxmlformats.org/officeDocument/2006/relationships/hyperlink" Target="http://www.spas-extreme.ru/kids/el.php?SID=203" TargetMode="External"/><Relationship Id="rId16" Type="http://schemas.openxmlformats.org/officeDocument/2006/relationships/hyperlink" Target="http://www.spas-extreme.ru/kids/el.php?SID=203" TargetMode="External"/><Relationship Id="rId17" Type="http://schemas.openxmlformats.org/officeDocument/2006/relationships/hyperlink" Target="http://www.spas-extreme.ru/kids/el.php?SID=203" TargetMode="External"/><Relationship Id="rId18" Type="http://schemas.openxmlformats.org/officeDocument/2006/relationships/hyperlink" Target="http://www.spas-extreme.ru/kids/el.php?SID=203" TargetMode="External"/><Relationship Id="rId19" Type="http://schemas.openxmlformats.org/officeDocument/2006/relationships/hyperlink" Target="http://www.spas-extreme.ru/kids/el.php?SID=203" TargetMode="External"/><Relationship Id="rId20" Type="http://schemas.openxmlformats.org/officeDocument/2006/relationships/hyperlink" Target="http://www.spas-extreme.ru/kids/el.php?SID=203" TargetMode="External"/><Relationship Id="rId21" Type="http://schemas.openxmlformats.org/officeDocument/2006/relationships/hyperlink" Target="http://forum.materinstvo.ru/index.php?showtopic=692618&amp;st=330" TargetMode="External"/><Relationship Id="rId22" Type="http://schemas.openxmlformats.org/officeDocument/2006/relationships/hyperlink" Target="http://ru.wikipedia.org/wiki/&#1060;&#1072;&#1081;&#1083;:Oka_basin.png" TargetMode="External"/><Relationship Id="rId23" Type="http://schemas.openxmlformats.org/officeDocument/2006/relationships/hyperlink" Target="http://murom.3dn.ru/load/novosti_v_murome/reka_oka_murom/2-1-0-6" TargetMode="External"/><Relationship Id="rId24" Type="http://schemas.openxmlformats.org/officeDocument/2006/relationships/hyperlink" Target="http://commons.wikimedia.org/wiki/Category:Oka_River?uselang=ru" TargetMode="External"/><Relationship Id="rId25" Type="http://schemas.openxmlformats.org/officeDocument/2006/relationships/hyperlink" Target="http://amoralll.narod.ru/oka.htm" TargetMode="External"/><Relationship Id="rId26" Type="http://schemas.openxmlformats.org/officeDocument/2006/relationships/hyperlink" Target="http://www.ser-esenin.ru/foto4.html" TargetMode="External"/><Relationship Id="rId27" Type="http://schemas.openxmlformats.org/officeDocument/2006/relationships/hyperlink" Target="http://ru.wikipedia.org/wiki/&#1060;&#1072;&#1081;&#1083;:Coat_of_Arms_of_Oryol_(Oryol_oblast)_(1781).png" TargetMode="External"/><Relationship Id="rId28" Type="http://schemas.openxmlformats.org/officeDocument/2006/relationships/hyperlink" Target="http://aderbenko.narod.ru/Oryol_0039_1.htm" TargetMode="External"/><Relationship Id="rId29" Type="http://schemas.openxmlformats.org/officeDocument/2006/relationships/hyperlink" Target="http://www.people.su/89/r1" TargetMode="External"/><Relationship Id="rId30" Type="http://schemas.openxmlformats.org/officeDocument/2006/relationships/hyperlink" Target="http://www.priestt.com/article/rel/religion_1420.html" TargetMode="External"/><Relationship Id="rId31" Type="http://schemas.openxmlformats.org/officeDocument/2006/relationships/hyperlink" Target="http://ru.wikipedia.org/wiki/&#1050;&#1072;&#1083;&#1091;&#1075;&#1072;" TargetMode="External"/><Relationship Id="rId32" Type="http://schemas.openxmlformats.org/officeDocument/2006/relationships/hyperlink" Target="http://russian-goldenring.ru/Cities.aspx?id=99&amp;type=sights" TargetMode="External"/><Relationship Id="rId33" Type="http://schemas.openxmlformats.org/officeDocument/2006/relationships/hyperlink" Target="http://batfx.com/lofiversion/index.php/t178.html&amp;text=http:/batfx.com/lofiversion/index.php/t1648.html" TargetMode="External"/><Relationship Id="rId34" Type="http://schemas.openxmlformats.org/officeDocument/2006/relationships/hyperlink" Target="http://ru.wikipedia.org/wiki/&#1058;&#1072;&#1088;&#1091;&#1089;&#1072;_(&#1075;&#1086;&#1088;&#1086;&#1076;)" TargetMode="External"/><Relationship Id="rId35" Type="http://schemas.openxmlformats.org/officeDocument/2006/relationships/hyperlink" Target="http://www.tarusa.ru/gorod/main/index.phtml?photo/index.php&amp;page_last=6&amp;name_photo=vid_kolokol.jpg" TargetMode="External"/><Relationship Id="rId36" Type="http://schemas.openxmlformats.org/officeDocument/2006/relationships/hyperlink" Target="http://www.rma.su/e-store/vyshivka/71.php" TargetMode="External"/><Relationship Id="rId37" Type="http://schemas.openxmlformats.org/officeDocument/2006/relationships/hyperlink" Target="http://verstka.livejournal.com/5457.html" TargetMode="External"/><Relationship Id="rId38" Type="http://schemas.openxmlformats.org/officeDocument/2006/relationships/hyperlink" Target="http://talks.guns.ru/forummessage/145/473734-59.html" TargetMode="External"/><Relationship Id="rId3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rostblog.ru/photos/index.php?cat=10&amp;page=2" TargetMode="External"/><Relationship Id="rId3" Type="http://schemas.openxmlformats.org/officeDocument/2006/relationships/hyperlink" Target="http://ru.wikipedia.org/wiki/&#1055;&#1091;&#1097;&#1080;&#1085;&#1086;-&#1085;&#1072;-&#1054;&#1082;&#1077;" TargetMode="External"/><Relationship Id="rId4" Type="http://schemas.openxmlformats.org/officeDocument/2006/relationships/hyperlink" Target="http://www.rosrealt.ru/flat.php?id=40516" TargetMode="External"/><Relationship Id="rId5" Type="http://schemas.openxmlformats.org/officeDocument/2006/relationships/hyperlink" Target="http://ru.wikipedia.org/wiki/&#1055;&#1088;&#1080;&#1086;&#1082;&#1089;&#1082;&#1086;-&#1058;&#1077;&#1088;&#1088;&#1072;&#1089;&#1085;&#1099;&#1081;_&#1079;&#1072;&#1087;&#1086;&#1074;&#1077;&#1076;&#1085;&#1080;&#1082;" TargetMode="External"/><Relationship Id="rId6" Type="http://schemas.openxmlformats.org/officeDocument/2006/relationships/hyperlink" Target="http://ru.wikipedia.org/wiki/Kolomna" TargetMode="External"/><Relationship Id="rId7" Type="http://schemas.openxmlformats.org/officeDocument/2006/relationships/hyperlink" Target="http://ru.wikipedia.org/wiki/Ryazan" TargetMode="External"/><Relationship Id="rId8" Type="http://schemas.openxmlformats.org/officeDocument/2006/relationships/hyperlink" Target="http://www.regnum.ru/news/polit/1348690.html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алуга - 1371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5346720"/>
            <a:ext cx="8589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те в учебнике 3 абзац на стр. 1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ем знаменит город Кал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539640" y="1341360"/>
            <a:ext cx="7921800" cy="3960720"/>
            <a:chOff x="539640" y="1341360"/>
            <a:chExt cx="7921800" cy="3960720"/>
          </a:xfrm>
        </p:grpSpPr>
        <p:pic>
          <p:nvPicPr>
            <p:cNvPr id="120" name="Picture 4" descr="10"/>
            <p:cNvPicPr/>
            <p:nvPr/>
          </p:nvPicPr>
          <p:blipFill>
            <a:blip r:embed="rId2"/>
            <a:stretch/>
          </p:blipFill>
          <p:spPr>
            <a:xfrm>
              <a:off x="539640" y="1341360"/>
              <a:ext cx="244800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10"/>
            <p:cNvPicPr/>
            <p:nvPr/>
          </p:nvPicPr>
          <p:blipFill>
            <a:blip r:embed="rId3"/>
            <a:stretch/>
          </p:blipFill>
          <p:spPr>
            <a:xfrm>
              <a:off x="826920" y="3141720"/>
              <a:ext cx="18799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11"/>
            <p:cNvPicPr/>
            <p:nvPr/>
          </p:nvPicPr>
          <p:blipFill>
            <a:blip r:embed="rId4"/>
            <a:stretch/>
          </p:blipFill>
          <p:spPr>
            <a:xfrm>
              <a:off x="3276720" y="1341360"/>
              <a:ext cx="5184720" cy="388944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8"/>
          <p:cNvGrpSpPr/>
          <p:nvPr/>
        </p:nvGrpSpPr>
        <p:grpSpPr>
          <a:xfrm>
            <a:off x="250920" y="260280"/>
            <a:ext cx="8532720" cy="6335640"/>
            <a:chOff x="250920" y="260280"/>
            <a:chExt cx="8532720" cy="6335640"/>
          </a:xfrm>
        </p:grpSpPr>
        <p:pic>
          <p:nvPicPr>
            <p:cNvPr id="124" name="Picture 5" descr="10"/>
            <p:cNvPicPr/>
            <p:nvPr/>
          </p:nvPicPr>
          <p:blipFill>
            <a:blip r:embed="rId2"/>
            <a:stretch/>
          </p:blipFill>
          <p:spPr>
            <a:xfrm>
              <a:off x="3780000" y="3262320"/>
              <a:ext cx="500364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12"/>
            <p:cNvPicPr/>
            <p:nvPr/>
          </p:nvPicPr>
          <p:blipFill>
            <a:blip r:embed="rId3"/>
            <a:stretch/>
          </p:blipFill>
          <p:spPr>
            <a:xfrm>
              <a:off x="250920" y="260280"/>
              <a:ext cx="4608360" cy="322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6"/>
          <p:cNvSpPr/>
          <p:nvPr/>
        </p:nvSpPr>
        <p:spPr>
          <a:xfrm>
            <a:off x="4924080" y="620640"/>
            <a:ext cx="399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.Э. Циолковски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опол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време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онав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65400" y="5373720"/>
            <a:ext cx="322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ей 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онав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руса - 1246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4941720"/>
            <a:ext cx="8964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этим городом связана история жизни и твор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тва многих художников и поэтов, писателей и режиссеров. Их привлекала сюда необычай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я красота окружающе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395280" y="1268280"/>
            <a:ext cx="8137440" cy="3560760"/>
            <a:chOff x="395280" y="1268280"/>
            <a:chExt cx="8137440" cy="3560760"/>
          </a:xfrm>
        </p:grpSpPr>
        <p:pic>
          <p:nvPicPr>
            <p:cNvPr id="131" name="Picture 4" descr="13"/>
            <p:cNvPicPr/>
            <p:nvPr/>
          </p:nvPicPr>
          <p:blipFill>
            <a:blip r:embed="rId2"/>
            <a:stretch/>
          </p:blipFill>
          <p:spPr>
            <a:xfrm>
              <a:off x="395280" y="1771560"/>
              <a:ext cx="21654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14"/>
            <p:cNvPicPr/>
            <p:nvPr/>
          </p:nvPicPr>
          <p:blipFill>
            <a:blip r:embed="rId3"/>
            <a:stretch/>
          </p:blipFill>
          <p:spPr>
            <a:xfrm>
              <a:off x="2700360" y="1268280"/>
              <a:ext cx="5832360" cy="356076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ещё в Тарусе живут вышивальщицы. Разноцветными нитками вышивают они платки, скатерти, наки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539640" y="692280"/>
            <a:ext cx="7890120" cy="4392360"/>
            <a:chOff x="539640" y="692280"/>
            <a:chExt cx="7890120" cy="4392360"/>
          </a:xfrm>
        </p:grpSpPr>
        <p:pic>
          <p:nvPicPr>
            <p:cNvPr id="136" name="Picture 4" descr="15"/>
            <p:cNvPicPr/>
            <p:nvPr/>
          </p:nvPicPr>
          <p:blipFill>
            <a:blip r:embed="rId2"/>
            <a:stretch/>
          </p:blipFill>
          <p:spPr>
            <a:xfrm>
              <a:off x="539640" y="981000"/>
              <a:ext cx="4297320" cy="39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16"/>
            <p:cNvPicPr/>
            <p:nvPr/>
          </p:nvPicPr>
          <p:blipFill>
            <a:blip r:embed="rId3"/>
            <a:stretch/>
          </p:blipFill>
          <p:spPr>
            <a:xfrm>
              <a:off x="5076720" y="692280"/>
              <a:ext cx="3353040" cy="439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08360" y="1557360"/>
            <a:ext cx="5184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вариан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прочитайте в учебнике последний абзац на стр.1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I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вариан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прочитайте в учебнике 1 и 2 абзацы на стр.11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gfj"/>
          <p:cNvPicPr/>
          <p:nvPr/>
        </p:nvPicPr>
        <p:blipFill>
          <a:blip r:embed="rId2"/>
          <a:stretch/>
        </p:blipFill>
        <p:spPr>
          <a:xfrm>
            <a:off x="468360" y="1628640"/>
            <a:ext cx="3110040" cy="4105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41" name="Picture 5" descr="17"/>
          <p:cNvPicPr/>
          <p:nvPr/>
        </p:nvPicPr>
        <p:blipFill>
          <a:blip r:embed="rId3"/>
          <a:stretch/>
        </p:blipFill>
        <p:spPr>
          <a:xfrm>
            <a:off x="7586640" y="4941720"/>
            <a:ext cx="1557360" cy="1916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3588840" y="2565360"/>
            <a:ext cx="513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 каком городе вы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итали и что интерес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 узнали об этом го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ерпухов - 1339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417040" y="1341360"/>
            <a:ext cx="6313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авл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тал элементом герб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ании присланного в геро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ю из Серпухова сообщения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ом говорилось что недале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 города «в монастыре од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дятся павлин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395280" y="1484280"/>
            <a:ext cx="7056360" cy="5004000"/>
            <a:chOff x="395280" y="1484280"/>
            <a:chExt cx="7056360" cy="5004000"/>
          </a:xfrm>
        </p:grpSpPr>
        <p:pic>
          <p:nvPicPr>
            <p:cNvPr id="147" name="Picture 5" descr="17"/>
            <p:cNvPicPr/>
            <p:nvPr/>
          </p:nvPicPr>
          <p:blipFill>
            <a:blip r:embed="rId2"/>
            <a:stretch/>
          </p:blipFill>
          <p:spPr>
            <a:xfrm>
              <a:off x="395280" y="1484280"/>
              <a:ext cx="1905120" cy="23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8" descr="17"/>
            <p:cNvPicPr/>
            <p:nvPr/>
          </p:nvPicPr>
          <p:blipFill>
            <a:blip r:embed="rId3"/>
            <a:stretch/>
          </p:blipFill>
          <p:spPr>
            <a:xfrm>
              <a:off x="1547640" y="4005360"/>
              <a:ext cx="5904000" cy="24829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18"/>
          <p:cNvPicPr/>
          <p:nvPr/>
        </p:nvPicPr>
        <p:blipFill>
          <a:blip r:embed="rId2"/>
          <a:stretch/>
        </p:blipFill>
        <p:spPr>
          <a:xfrm>
            <a:off x="246240" y="260280"/>
            <a:ext cx="4398840" cy="6337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адиоастрономическая      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                обсерватор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73200" y="5013360"/>
            <a:ext cx="44751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ый большой радиотелескоп этой обсерватори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ущино - 1966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2803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ный центр биологических исслед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роде расположено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исследовательских институ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539640" y="1413000"/>
            <a:ext cx="7697880" cy="3348000"/>
            <a:chOff x="539640" y="1413000"/>
            <a:chExt cx="7697880" cy="3348000"/>
          </a:xfrm>
        </p:grpSpPr>
        <p:pic>
          <p:nvPicPr>
            <p:cNvPr id="155" name="Picture 4" descr="19"/>
            <p:cNvPicPr/>
            <p:nvPr/>
          </p:nvPicPr>
          <p:blipFill>
            <a:blip r:embed="rId2"/>
            <a:stretch/>
          </p:blipFill>
          <p:spPr>
            <a:xfrm>
              <a:off x="539640" y="1700280"/>
              <a:ext cx="242568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20"/>
            <p:cNvPicPr/>
            <p:nvPr/>
          </p:nvPicPr>
          <p:blipFill>
            <a:blip r:embed="rId3"/>
            <a:stretch/>
          </p:blipFill>
          <p:spPr>
            <a:xfrm>
              <a:off x="3564000" y="1413000"/>
              <a:ext cx="4673520" cy="3348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Comic Sans MS"/>
              </a:rPr>
              <a:t>Приокско-Террасный заповед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360" y="4264200"/>
            <a:ext cx="89647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территории заповедника произрас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коло 1000 видов растений, в том чи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редких, занесенных в Красную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ссии и обитает 54 вида млекопитающи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6"/>
          <p:cNvGrpSpPr/>
          <p:nvPr/>
        </p:nvGrpSpPr>
        <p:grpSpPr>
          <a:xfrm>
            <a:off x="466560" y="1484280"/>
            <a:ext cx="8209080" cy="2651040"/>
            <a:chOff x="466560" y="1484280"/>
            <a:chExt cx="8209080" cy="2651040"/>
          </a:xfrm>
        </p:grpSpPr>
        <p:pic>
          <p:nvPicPr>
            <p:cNvPr id="160" name="Picture 4" descr="21"/>
            <p:cNvPicPr/>
            <p:nvPr/>
          </p:nvPicPr>
          <p:blipFill>
            <a:blip r:embed="rId2"/>
            <a:stretch/>
          </p:blipFill>
          <p:spPr>
            <a:xfrm>
              <a:off x="466560" y="1484280"/>
              <a:ext cx="3961080" cy="26431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61" name="Picture 5" descr="21"/>
            <p:cNvPicPr/>
            <p:nvPr/>
          </p:nvPicPr>
          <p:blipFill>
            <a:blip r:embed="rId3"/>
            <a:stretch/>
          </p:blipFill>
          <p:spPr>
            <a:xfrm>
              <a:off x="4707000" y="1484280"/>
              <a:ext cx="3968640" cy="26510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ломна - 1177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395280" y="1268280"/>
            <a:ext cx="8372520" cy="4713120"/>
            <a:chOff x="395280" y="1268280"/>
            <a:chExt cx="8372520" cy="4713120"/>
          </a:xfrm>
        </p:grpSpPr>
        <p:pic>
          <p:nvPicPr>
            <p:cNvPr id="165" name="Picture 4" descr="22"/>
            <p:cNvPicPr/>
            <p:nvPr/>
          </p:nvPicPr>
          <p:blipFill>
            <a:blip r:embed="rId2"/>
            <a:stretch/>
          </p:blipFill>
          <p:spPr>
            <a:xfrm>
              <a:off x="2484360" y="1268280"/>
              <a:ext cx="6283440" cy="47131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66" name="Picture 5" descr="22"/>
            <p:cNvPicPr/>
            <p:nvPr/>
          </p:nvPicPr>
          <p:blipFill>
            <a:blip r:embed="rId3"/>
            <a:stretch/>
          </p:blipFill>
          <p:spPr>
            <a:xfrm>
              <a:off x="395280" y="2276280"/>
              <a:ext cx="1905120" cy="234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7"/>
          <p:cNvSpPr/>
          <p:nvPr/>
        </p:nvSpPr>
        <p:spPr>
          <a:xfrm>
            <a:off x="3460320" y="602136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оменский Крем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Отгадайте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5770800" cy="1612800"/>
          </a:xfrm>
          <a:prstGeom prst="rect">
            <a:avLst/>
          </a:prstGeom>
          <a:solidFill>
            <a:srgbClr val="ffff99"/>
          </a:solidFill>
          <a:ln w="5724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нее льется, из нее ль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а по земле плет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539280" y="2565360"/>
            <a:ext cx="8031600" cy="3848040"/>
            <a:chOff x="539280" y="2565360"/>
            <a:chExt cx="8031600" cy="3848040"/>
          </a:xfrm>
        </p:grpSpPr>
        <p:pic>
          <p:nvPicPr>
            <p:cNvPr id="46" name="Picture 4" descr="4"/>
            <p:cNvPicPr/>
            <p:nvPr/>
          </p:nvPicPr>
          <p:blipFill>
            <a:blip r:embed="rId2"/>
            <a:stretch/>
          </p:blipFill>
          <p:spPr>
            <a:xfrm>
              <a:off x="6732720" y="2565360"/>
              <a:ext cx="1838160" cy="38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5" descr="17"/>
            <p:cNvPicPr/>
            <p:nvPr/>
          </p:nvPicPr>
          <p:blipFill>
            <a:blip r:embed="rId3"/>
            <a:stretch/>
          </p:blipFill>
          <p:spPr>
            <a:xfrm flipH="1">
              <a:off x="539280" y="3141720"/>
              <a:ext cx="2519640" cy="309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6"/>
          <p:cNvSpPr/>
          <p:nvPr/>
        </p:nvSpPr>
        <p:spPr>
          <a:xfrm>
            <a:off x="3943080" y="41497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язань - 1301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179280" y="260280"/>
            <a:ext cx="8423280" cy="5964480"/>
            <a:chOff x="179280" y="260280"/>
            <a:chExt cx="8423280" cy="5964480"/>
          </a:xfrm>
        </p:grpSpPr>
        <p:pic>
          <p:nvPicPr>
            <p:cNvPr id="170" name="Picture 6" descr="24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7918200" cy="50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23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2521080" cy="230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5876640"/>
            <a:ext cx="79200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язанский Кремль (заложен в 109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08360" y="1557360"/>
            <a:ext cx="5184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вариан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прочитайте в учебнике на стр.114 про город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ур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I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вариан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прочитайте в учебнике на стр.115 про город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ижний Нов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gfj"/>
          <p:cNvPicPr/>
          <p:nvPr/>
        </p:nvPicPr>
        <p:blipFill>
          <a:blip r:embed="rId2"/>
          <a:stretch/>
        </p:blipFill>
        <p:spPr>
          <a:xfrm>
            <a:off x="468360" y="1628640"/>
            <a:ext cx="3110040" cy="4105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6" name="Picture 5" descr="17"/>
          <p:cNvPicPr/>
          <p:nvPr/>
        </p:nvPicPr>
        <p:blipFill>
          <a:blip r:embed="rId3"/>
          <a:stretch/>
        </p:blipFill>
        <p:spPr>
          <a:xfrm>
            <a:off x="7586640" y="4941720"/>
            <a:ext cx="1557360" cy="191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3635280" y="2781360"/>
            <a:ext cx="51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интересного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знали об этих город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уром - 862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4"/>
          <p:cNvGrpSpPr/>
          <p:nvPr/>
        </p:nvGrpSpPr>
        <p:grpSpPr>
          <a:xfrm>
            <a:off x="382680" y="403200"/>
            <a:ext cx="8564760" cy="6293880"/>
            <a:chOff x="382680" y="403200"/>
            <a:chExt cx="8564760" cy="6293880"/>
          </a:xfrm>
        </p:grpSpPr>
        <p:pic>
          <p:nvPicPr>
            <p:cNvPr id="181" name="Picture 7" descr="24"/>
            <p:cNvPicPr/>
            <p:nvPr/>
          </p:nvPicPr>
          <p:blipFill>
            <a:blip r:embed="rId2"/>
            <a:stretch/>
          </p:blipFill>
          <p:spPr>
            <a:xfrm>
              <a:off x="5711760" y="1125360"/>
              <a:ext cx="3022560" cy="51134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82" name="Picture 10" descr="25"/>
            <p:cNvPicPr/>
            <p:nvPr/>
          </p:nvPicPr>
          <p:blipFill>
            <a:blip r:embed="rId3"/>
            <a:stretch/>
          </p:blipFill>
          <p:spPr>
            <a:xfrm>
              <a:off x="382680" y="2637000"/>
              <a:ext cx="5184720" cy="3625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83" name="Picture 11" descr="25"/>
            <p:cNvPicPr/>
            <p:nvPr/>
          </p:nvPicPr>
          <p:blipFill>
            <a:blip r:embed="rId4"/>
            <a:stretch/>
          </p:blipFill>
          <p:spPr>
            <a:xfrm>
              <a:off x="455760" y="403200"/>
              <a:ext cx="165708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8"/>
            <p:cNvSpPr/>
            <p:nvPr/>
          </p:nvSpPr>
          <p:spPr>
            <a:xfrm>
              <a:off x="4978080" y="6237360"/>
              <a:ext cx="396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Памятник Илье Муромц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181080" y="5084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вято-Троицком женском монасты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ходятся мощи святых чудотворцев Петра и Февронии - покровителей любви и бр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24"/>
          <p:cNvPicPr/>
          <p:nvPr/>
        </p:nvPicPr>
        <p:blipFill>
          <a:blip r:embed="rId2"/>
          <a:stretch/>
        </p:blipFill>
        <p:spPr>
          <a:xfrm>
            <a:off x="1476360" y="333360"/>
            <a:ext cx="6408720" cy="4807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ижний Новгород - 1221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395280" y="1197000"/>
            <a:ext cx="8207280" cy="4290840"/>
            <a:chOff x="395280" y="1197000"/>
            <a:chExt cx="8207280" cy="4290840"/>
          </a:xfrm>
        </p:grpSpPr>
        <p:pic>
          <p:nvPicPr>
            <p:cNvPr id="191" name="Picture 5" descr="26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8207280" cy="28508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92" name="Picture 6" descr="26"/>
            <p:cNvPicPr/>
            <p:nvPr/>
          </p:nvPicPr>
          <p:blipFill>
            <a:blip r:embed="rId3"/>
            <a:stretch/>
          </p:blipFill>
          <p:spPr>
            <a:xfrm>
              <a:off x="468360" y="1197000"/>
              <a:ext cx="15048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Flag_of_Nizhny_Novgorod"/>
            <p:cNvPicPr/>
            <p:nvPr/>
          </p:nvPicPr>
          <p:blipFill>
            <a:blip r:embed="rId4"/>
            <a:stretch/>
          </p:blipFill>
          <p:spPr>
            <a:xfrm>
              <a:off x="6659640" y="1341360"/>
              <a:ext cx="1733400" cy="11527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sp>
        <p:nvSpPr>
          <p:cNvPr id="194" name="Text Box 8"/>
          <p:cNvSpPr/>
          <p:nvPr/>
        </p:nvSpPr>
        <p:spPr>
          <a:xfrm>
            <a:off x="1116000" y="551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пятый город по численности населения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519588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оложен  город в центре Восточно-Европейской равнины на месте слияния Оки и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Рисунок2"/>
          <p:cNvPicPr/>
          <p:nvPr/>
        </p:nvPicPr>
        <p:blipFill>
          <a:blip r:embed="rId2"/>
          <a:stretch/>
        </p:blipFill>
        <p:spPr>
          <a:xfrm>
            <a:off x="468360" y="385920"/>
            <a:ext cx="8210520" cy="4843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Крем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 Нижнем Новгороде - главный символ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27"/>
          <p:cNvPicPr/>
          <p:nvPr/>
        </p:nvPicPr>
        <p:blipFill>
          <a:blip r:embed="rId2"/>
          <a:stretch/>
        </p:blipFill>
        <p:spPr>
          <a:xfrm>
            <a:off x="971640" y="476280"/>
            <a:ext cx="6985080" cy="491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1" name="Text Box 7"/>
          <p:cNvSpPr/>
          <p:nvPr/>
        </p:nvSpPr>
        <p:spPr>
          <a:xfrm>
            <a:off x="324000" y="537372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та стен Кремля 12 метров, толщина 5 метров, длина 2 километ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29"/>
          <p:cNvPicPr/>
          <p:nvPr/>
        </p:nvPicPr>
        <p:blipFill>
          <a:blip r:embed="rId3"/>
          <a:stretch/>
        </p:blipFill>
        <p:spPr>
          <a:xfrm>
            <a:off x="971640" y="476280"/>
            <a:ext cx="7400880" cy="4903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3" name="Text Box 9"/>
          <p:cNvSpPr/>
          <p:nvPr/>
        </p:nvSpPr>
        <p:spPr>
          <a:xfrm>
            <a:off x="1089000" y="5373720"/>
            <a:ext cx="722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емль имеет 13 башен: п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оугольных и восемь кругл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755640" y="404640"/>
            <a:ext cx="7510320" cy="5040360"/>
            <a:chOff x="755640" y="404640"/>
            <a:chExt cx="7510320" cy="5040360"/>
          </a:xfrm>
        </p:grpSpPr>
        <p:pic>
          <p:nvPicPr>
            <p:cNvPr id="205" name="Picture 12" descr="30"/>
            <p:cNvPicPr/>
            <p:nvPr/>
          </p:nvPicPr>
          <p:blipFill>
            <a:blip r:embed="rId4"/>
            <a:stretch/>
          </p:blipFill>
          <p:spPr>
            <a:xfrm>
              <a:off x="755640" y="404640"/>
              <a:ext cx="3716280" cy="504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206" name="Picture 13" descr="31"/>
            <p:cNvPicPr/>
            <p:nvPr/>
          </p:nvPicPr>
          <p:blipFill>
            <a:blip r:embed="rId5"/>
            <a:stretch/>
          </p:blipFill>
          <p:spPr>
            <a:xfrm>
              <a:off x="4716360" y="404640"/>
              <a:ext cx="3549600" cy="504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mmons.wikimedia.org/wiki/Category:Oka_River?uselang=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pa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xtrem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kid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el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h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?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SI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=2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forum.materinstvo.ru/index.php?showtopic=692618&amp;st=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ru.wikipedia.org/wiki/Файл:Oka_basin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murom.3dn.ru/load/novosti_v_murome/reka_oka_murom/2-1-0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commons.wikimedia.org/wiki/Category:Oka_River?uselang=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amoralll.narod.ru/ok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ser-esenin.ru/foto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ru.wikipedia.org/wiki/Файл:Coat_of_Arms_of_Oryol_(Oryol_oblast)_(1781)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aderbenko.narod.ru/Oryol_0039_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www.people.su/89/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//www.priestt.com/article/rel/religion_142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//ru.wikipedia.org/wiki/Кал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://russian-goldenring.ru/Cities.aspx?id=99&amp;type=s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://batfx.com/lofiversion/index.php/t178.html&amp;text=http:/batfx.com/lofiversion/index.php/t1648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ru.wikipedia.org/wiki/Таруса_(гор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tarusa.ru/gorod/main/index.phtml?photo/index.php&amp;page_last=6&amp;name_photo=vid_koloko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://www.rma.su/e-store/vyshivka/71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://verstka.livejournal.com/545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://talks.guns.ru/forummessage/145/473734-5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stblog.ru/photos/index.php?cat=10&amp;page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Пущино-на-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rosrealt.ru/flat.php?id=40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/wiki/Приокско-Террасный_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u.wikipedia.org/wiki/Kolo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Rya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regnum.ru/news/polit/134869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honda-club.ru/forum/showthread.php?p=131629&amp;mode=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Нижний_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hotel.ru/interview/71-0-0-0-0/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diacratia.ru/owa/mc/mc_region_time.html?p_page=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ravel.aviastar.org/picture.php?dir=transsib/nn&amp;p=13&amp;lang=rus&amp;commen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rip-guide.ru/page_343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no-poccuu.ru/content/nizhni_novgorod/00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Части ре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55558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называют начало ре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Безымянный"/>
          <p:cNvPicPr/>
          <p:nvPr/>
        </p:nvPicPr>
        <p:blipFill>
          <a:blip r:embed="rId2"/>
          <a:stretch/>
        </p:blipFill>
        <p:spPr>
          <a:xfrm>
            <a:off x="468360" y="1341360"/>
            <a:ext cx="8064360" cy="399276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395280" y="1989000"/>
            <a:ext cx="2890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2080" y="119700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292480" y="5589720"/>
            <a:ext cx="45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усть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ре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7640" y="5445000"/>
            <a:ext cx="861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 место, где река впадает в дру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ку, в озеро или море, называют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устье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300720" y="3429000"/>
            <a:ext cx="2890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773240" y="378936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168640" y="57340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русло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890640" y="5445000"/>
            <a:ext cx="738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Русл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это углубление, по котор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чёт р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39640" y="21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817920" y="5516640"/>
            <a:ext cx="744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реки есть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авый и левый берега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их опре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92200" y="5114880"/>
            <a:ext cx="803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мотреть в сторону течения р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 справа будет правый бере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слева – ле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657720" y="2349360"/>
            <a:ext cx="30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Правый 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873800" y="126828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Левый 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05840" y="5084640"/>
            <a:ext cx="90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воём пути река встречает другие р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ручейки, которые впадают в неё и от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ю воду. Они называю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итокам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6924960" y="620640"/>
            <a:ext cx="160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Л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при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897120" y="3789360"/>
            <a:ext cx="177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Пра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при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6227280" y="1125360"/>
            <a:ext cx="792360" cy="5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 flipV="1">
            <a:off x="2627280" y="3860280"/>
            <a:ext cx="1008000" cy="50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93 0.00208 C 0.0184 -0.0037 0.02187 -0.00925 0.02448 -0.0148 C 0.02708 -0.02035 0.02795 -0.02613 0.0309 -0.03167 C 0.03385 -0.03722 0.03854 -0.04532 0.04201 -0.04855 C 0.04548 -0.05179 0.04809 -0.05133 0.05156 -0.05063 C 0.05503 -0.04994 0.05902 -0.04601 0.06267 -0.04439 C 0.06632 -0.04277 0.06875 -0.04439 0.07378 -0.04023 C 0.07882 -0.03607 0.08802 -0.02451 0.0927 -0.01896 C 0.09739 -0.01341 0.09809 -0.00902 0.10225 -0.00624 C 0.10642 -0.00347 0.11406 -0.00277 0.11823 -0.00208 C 0.12239 -0.00139 0.12413 -0.00231 0.12777 -0.00208 C 0.13142 -0.00185 0.13524 -1.44509E-006 0.14045 -1.44509E-006 C 0.14566 -1.44509E-006 0.15434 -0.00115 0.15937 -0.00208 C 0.16441 -0.003 0.16597 -0.00485 0.17048 -0.00624 C 0.175 -0.00763 0.18003 -0.00925 0.18645 -0.01063 C 0.19288 -0.01202 0.20173 -0.01387 0.20868 -0.0148 C 0.21545 -0.01572 0.22048 -0.01618 0.22777 -0.01688 C 0.23489 -0.01757 0.24444 -0.01965 0.25156 -0.01896 C 0.25868 -0.01826 0.26441 -0.01549 0.27048 -0.01272 C 0.27656 -0.00994 0.28298 -0.00624 0.28802 -0.00208 C 0.29305 0.00208 0.29566 0.00809 0.30069 0.01272 C 0.30573 0.01734 0.31163 0.01804 0.31823 0.02543 C 0.32482 0.03283 0.33437 0.04902 0.34045 0.05711 C 0.34652 0.0652 0.34965 0.06728 0.35468 0.07399 C 0.35972 0.0807 0.36493 0.09041 0.37048 0.09734 C 0.37586 0.10428 0.38211 0.1089 0.38802 0.1163 C 0.39392 0.1237 0.39982 0.13364 0.40555 0.14174 C 0.41128 0.14983 0.41718 0.15885 0.42291 0.16486 C 0.42847 0.17087 0.43159 0.17503 0.43888 0.17757 C 0.44583 0.18012 0.45468 0.17942 0.46579 0.17965 C 0.47691 0.17989 0.49496 0.17827 0.50555 0.17965 C 0.51597 0.18104 0.52222 0.18266 0.52916 0.18821 C 0.53611 0.19376 0.53923 0.20925 0.5467 0.21341 C 0.55416 0.21757 0.56458 0.21295 0.57378 0.21341 C 0.58281 0.21387 0.59548 0.21526 0.60225 0.21572 C 0.60868 0.21619 0.60937 0.21572 0.61336 0.21572 C 0.61718 0.21572 0.62152 0.21572 0.62604 0.21572 E">
                                      <p:cBhvr>
                                        <p:cTn id="91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720" y="386028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том Серёжа и Надя вместе с родителя- ми путешествовали на теплоходе п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ке О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Они узнали, что исток реки начина- ется маленьким ручейком недалеко от города Орла, а впадает она в великую русскую реку Вол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6"/>
          <p:cNvGrpSpPr/>
          <p:nvPr/>
        </p:nvGrpSpPr>
        <p:grpSpPr>
          <a:xfrm>
            <a:off x="468360" y="404640"/>
            <a:ext cx="8136000" cy="3384720"/>
            <a:chOff x="468360" y="404640"/>
            <a:chExt cx="8136000" cy="3384720"/>
          </a:xfrm>
        </p:grpSpPr>
        <p:pic>
          <p:nvPicPr>
            <p:cNvPr id="73" name="Picture 4" descr="Копия uuu0002"/>
            <p:cNvPicPr/>
            <p:nvPr/>
          </p:nvPicPr>
          <p:blipFill>
            <a:blip r:embed="rId2"/>
            <a:stretch/>
          </p:blipFill>
          <p:spPr>
            <a:xfrm>
              <a:off x="468360" y="404640"/>
              <a:ext cx="2922480" cy="33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5" descr="2"/>
            <p:cNvPicPr/>
            <p:nvPr/>
          </p:nvPicPr>
          <p:blipFill>
            <a:blip r:embed="rId3"/>
            <a:stretch/>
          </p:blipFill>
          <p:spPr>
            <a:xfrm>
              <a:off x="3635280" y="476280"/>
              <a:ext cx="4969080" cy="328608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3933360"/>
            <a:ext cx="86421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й реке боле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50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ысяч лет. Д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ки Оки составляет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50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кило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ого речек впадает в Оку. На бере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ки построено 18 городов, много 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дерев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3"/>
          <p:cNvPicPr/>
          <p:nvPr/>
        </p:nvPicPr>
        <p:blipFill>
          <a:blip r:embed="rId2"/>
          <a:stretch/>
        </p:blipFill>
        <p:spPr>
          <a:xfrm>
            <a:off x="1332000" y="476280"/>
            <a:ext cx="6408720" cy="3343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79640" y="1989000"/>
            <a:ext cx="4824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те схему на стр. 112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gfj"/>
          <p:cNvPicPr/>
          <p:nvPr/>
        </p:nvPicPr>
        <p:blipFill>
          <a:blip r:embed="rId2"/>
          <a:stretch/>
        </p:blipFill>
        <p:spPr>
          <a:xfrm>
            <a:off x="468360" y="1628640"/>
            <a:ext cx="3110040" cy="4105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81" name="Picture 5" descr="17"/>
          <p:cNvPicPr/>
          <p:nvPr/>
        </p:nvPicPr>
        <p:blipFill>
          <a:blip r:embed="rId3"/>
          <a:stretch/>
        </p:blipFill>
        <p:spPr>
          <a:xfrm>
            <a:off x="6012000" y="3213000"/>
            <a:ext cx="25192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9" descr="4"/>
          <p:cNvPicPr/>
          <p:nvPr/>
        </p:nvPicPr>
        <p:blipFill>
          <a:blip r:embed="rId2"/>
          <a:stretch/>
        </p:blipFill>
        <p:spPr>
          <a:xfrm>
            <a:off x="250920" y="243000"/>
            <a:ext cx="8620200" cy="642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1"/>
          <p:cNvPicPr/>
          <p:nvPr/>
        </p:nvPicPr>
        <p:blipFill>
          <a:blip r:embed="rId3"/>
          <a:stretch/>
        </p:blipFill>
        <p:spPr>
          <a:xfrm>
            <a:off x="826920" y="76320"/>
            <a:ext cx="734724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1116000" y="587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1332000" y="3645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2050920" y="3284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2340000" y="306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262728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3348000" y="278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414036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651640" y="2133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6804000" y="981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1233360" y="566100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Ор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305360" y="3789360"/>
            <a:ext cx="14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Ка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640440" y="30686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Та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990720" y="2565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Серпу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2295720" y="328464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ущ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2639880" y="227664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Коло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3824640" y="36450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Ряз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4303800" y="177336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Му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3291120" y="69228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Нижний Нов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3394440" y="5084640"/>
            <a:ext cx="560304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города, начи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истока реки, в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бывали наши гер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80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89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1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ёл - 1566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16000" y="3860640"/>
            <a:ext cx="9180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генда гласит, что когда по велению Царя Ивана Грозного началось строительство города-крепости, стали рубить дуб, росший на берегу. С вершины дерева слетел орёл. «А вот и хозяин», — сказал один из мужиков. Иван Грозный и повелел назвать город именем гордой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900000" y="1125360"/>
            <a:ext cx="7561440" cy="2806920"/>
            <a:chOff x="900000" y="1125360"/>
            <a:chExt cx="7561440" cy="2806920"/>
          </a:xfrm>
        </p:grpSpPr>
        <p:pic>
          <p:nvPicPr>
            <p:cNvPr id="108" name="Picture 4" descr="6"/>
            <p:cNvPicPr/>
            <p:nvPr/>
          </p:nvPicPr>
          <p:blipFill>
            <a:blip r:embed="rId2"/>
            <a:stretch/>
          </p:blipFill>
          <p:spPr>
            <a:xfrm>
              <a:off x="900000" y="1125360"/>
              <a:ext cx="2210040" cy="28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7"/>
            <p:cNvPicPr/>
            <p:nvPr/>
          </p:nvPicPr>
          <p:blipFill>
            <a:blip r:embed="rId3"/>
            <a:stretch/>
          </p:blipFill>
          <p:spPr>
            <a:xfrm>
              <a:off x="4284720" y="1138320"/>
              <a:ext cx="4176720" cy="272232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Военно-исторический муз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7"/>
          <p:cNvPicPr/>
          <p:nvPr/>
        </p:nvPicPr>
        <p:blipFill>
          <a:blip r:embed="rId2"/>
          <a:stretch/>
        </p:blipFill>
        <p:spPr>
          <a:xfrm>
            <a:off x="684360" y="1413000"/>
            <a:ext cx="7777080" cy="48006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113" name="Text Box 6"/>
          <p:cNvSpPr/>
          <p:nvPr/>
        </p:nvSpPr>
        <p:spPr>
          <a:xfrm>
            <a:off x="1503360" y="404640"/>
            <a:ext cx="638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Музей   И.С. Турге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80880" y="1700280"/>
            <a:ext cx="8367840" cy="4032360"/>
            <a:chOff x="380880" y="1700280"/>
            <a:chExt cx="8367840" cy="4032360"/>
          </a:xfrm>
        </p:grpSpPr>
        <p:pic>
          <p:nvPicPr>
            <p:cNvPr id="115" name="Picture 8" descr="8"/>
            <p:cNvPicPr/>
            <p:nvPr/>
          </p:nvPicPr>
          <p:blipFill>
            <a:blip r:embed="rId3"/>
            <a:stretch/>
          </p:blipFill>
          <p:spPr>
            <a:xfrm>
              <a:off x="3406680" y="1700280"/>
              <a:ext cx="5342040" cy="4006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6" name="Picture 7" descr="9"/>
            <p:cNvPicPr/>
            <p:nvPr/>
          </p:nvPicPr>
          <p:blipFill>
            <a:blip r:embed="rId4"/>
            <a:stretch/>
          </p:blipFill>
          <p:spPr>
            <a:xfrm>
              <a:off x="380880" y="1700280"/>
              <a:ext cx="2895840" cy="4032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6:04:40Z</dcterms:created>
  <dc:creator>мама</dc:creator>
  <dc:description/>
  <dc:language>en-US</dc:language>
  <cp:lastModifiedBy>Admin</cp:lastModifiedBy>
  <dcterms:modified xsi:type="dcterms:W3CDTF">2013-01-01T11:39:36Z</dcterms:modified>
  <cp:revision>7</cp:revision>
  <dc:subject/>
  <dc:title>Слайд 1</dc:title>
</cp:coreProperties>
</file>