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gif" ContentType="image/gif"/>
  <Override PartName="/ppt/media/image24.jpeg" ContentType="image/jpeg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2.jpeg" ContentType="image/jpeg"/>
  <Override PartName="/ppt/media/image39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10.gif" ContentType="image/gif"/>
  <Override PartName="/ppt/media/image13.png" ContentType="image/png"/>
  <Override PartName="/ppt/media/image30.jpeg" ContentType="image/jpeg"/>
  <Override PartName="/ppt/media/image34.png" ContentType="image/png"/>
  <Override PartName="/ppt/media/image44.jpeg" ContentType="image/jpeg"/>
  <Override PartName="/ppt/media/image35.jpeg" ContentType="image/jpeg"/>
  <Override PartName="/ppt/media/image31.jpeg" ContentType="image/jpeg"/>
  <Override PartName="/ppt/media/image7.jpeg" ContentType="image/jpeg"/>
  <Override PartName="/ppt/media/image41.png" ContentType="image/png"/>
  <Override PartName="/ppt/media/image42.png" ContentType="image/png"/>
  <Override PartName="/ppt/media/image43.jpeg" ContentType="image/jpeg"/>
  <Override PartName="/ppt/media/image36.wmf" ContentType="image/x-wmf"/>
  <Override PartName="/ppt/media/image40.wmf" ContentType="image/x-wmf"/>
  <Override PartName="/ppt/media/image37.png" ContentType="image/png"/>
  <Override PartName="/ppt/media/image45.jpeg" ContentType="image/jpeg"/>
  <Override PartName="/ppt/media/image4.wmf" ContentType="image/x-wmf"/>
  <Override PartName="/ppt/media/image8.jpeg" ContentType="image/jpeg"/>
  <Override PartName="/ppt/media/image3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jpeg" ContentType="image/jpeg"/>
  <Override PartName="/ppt/media/image2.png" ContentType="image/pn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DC1-690F-4298-A424-07DBD89FC6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9DB0-8654-4335-8BE0-C1E0983519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похожа буква А. дети предлагают свои вариан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4134-F204-46CD-A5F6-95B3D81FB6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C49C-B230-4833-A345-03486953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4AD-C8D2-41F7-A60E-D616FB17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04A-C422-4900-810C-F544EDE9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A93-DEA8-42C4-8A18-FB5F5BCF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0D4-2566-44E0-B789-AD74E9BA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61D-8CA9-480F-BF48-BCD4202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D3E-DAA7-4913-82A0-6B8CF923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2D7-AAAB-486E-AFE6-56E27D43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1E2-E220-4A35-8887-4A7CB171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E97-5EFF-4EF4-873A-87CD56CE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07CD-84FB-4CAC-884F-B76228C4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F5FF-4AE3-4BE8-B762-2E7CB5F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249-007F-49B1-BD90-A0A371D03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2.xml"/><Relationship Id="rId3" Type="http://schemas.openxmlformats.org/officeDocument/2006/relationships/image" Target="../media/image16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images.yandex.ru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teremoc.ru/game/game111.htm" TargetMode="External"/><Relationship Id="rId3" Type="http://schemas.openxmlformats.org/officeDocument/2006/relationships/image" Target="../media/image12.png"/><Relationship Id="rId4" Type="http://schemas.openxmlformats.org/officeDocument/2006/relationships/slide" Target="slide18.xml"/><Relationship Id="rId5" Type="http://schemas.openxmlformats.org/officeDocument/2006/relationships/image" Target="../media/image13.png"/><Relationship Id="rId6" Type="http://schemas.openxmlformats.org/officeDocument/2006/relationships/slide" Target="slide11.xml"/><Relationship Id="rId7" Type="http://schemas.openxmlformats.org/officeDocument/2006/relationships/image" Target="../media/image14.png"/><Relationship Id="rId8" Type="http://schemas.openxmlformats.org/officeDocument/2006/relationships/slide" Target="slide23.xml"/><Relationship Id="rId9" Type="http://schemas.openxmlformats.org/officeDocument/2006/relationships/image" Target="../media/image15.wmf"/><Relationship Id="rId10" Type="http://schemas.openxmlformats.org/officeDocument/2006/relationships/slide" Target="slide12.xml"/><Relationship Id="rId11" Type="http://schemas.openxmlformats.org/officeDocument/2006/relationships/image" Target="../media/image16.png"/><Relationship Id="rId12" Type="http://schemas.openxmlformats.org/officeDocument/2006/relationships/slide" Target="slide6.xml"/><Relationship Id="rId13" Type="http://schemas.openxmlformats.org/officeDocument/2006/relationships/image" Target="../media/image17.png"/><Relationship Id="rId14" Type="http://schemas.openxmlformats.org/officeDocument/2006/relationships/slide" Target="slide7.xml"/><Relationship Id="rId15" Type="http://schemas.openxmlformats.org/officeDocument/2006/relationships/slide" Target="slide21.xml"/><Relationship Id="rId16" Type="http://schemas.openxmlformats.org/officeDocument/2006/relationships/image" Target="../media/image18.png"/><Relationship Id="rId17" Type="http://schemas.openxmlformats.org/officeDocument/2006/relationships/hyperlink" Target="http://www.youtube.com/watch?gl=RU&amp;hl=ru&amp;v=xQa6tWPCe_g" TargetMode="External"/><Relationship Id="rId18" Type="http://schemas.openxmlformats.org/officeDocument/2006/relationships/image" Target="../media/image19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ff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763640" y="333360"/>
            <a:ext cx="578016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к обучения грамоте </a:t>
            </a:r>
            <a:endParaRPr b="0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Блок-схема: ручное управление 4"/>
          <p:cNvSpPr/>
          <p:nvPr/>
        </p:nvSpPr>
        <p:spPr>
          <a:xfrm flipV="1">
            <a:off x="1351080" y="5915160"/>
            <a:ext cx="950760" cy="637920"/>
          </a:xfrm>
          <a:prstGeom prst="flowChartManualOperati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F:\подготовка\1015 011.jpg"/>
          <p:cNvPicPr/>
          <p:nvPr/>
        </p:nvPicPr>
        <p:blipFill>
          <a:blip r:embed="rId1"/>
          <a:srcRect l="0" t="3121" r="4304" b="3121"/>
          <a:stretch/>
        </p:blipFill>
        <p:spPr>
          <a:xfrm>
            <a:off x="1398600" y="1828800"/>
            <a:ext cx="5535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F:\подготовка\1015 012.jpg"/>
          <p:cNvPicPr/>
          <p:nvPr/>
        </p:nvPicPr>
        <p:blipFill>
          <a:blip r:embed="rId1"/>
          <a:srcRect l="0" t="3521" r="3698" b="0"/>
          <a:stretch/>
        </p:blipFill>
        <p:spPr>
          <a:xfrm>
            <a:off x="677880" y="762120"/>
            <a:ext cx="7932600" cy="20811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F:\подготовка\1015 013.jpg"/>
          <p:cNvPicPr/>
          <p:nvPr/>
        </p:nvPicPr>
        <p:blipFill>
          <a:blip r:embed="rId2"/>
          <a:srcRect l="1476" t="9184" r="4186" b="3495"/>
          <a:stretch/>
        </p:blipFill>
        <p:spPr>
          <a:xfrm>
            <a:off x="609480" y="3733920"/>
            <a:ext cx="7239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WordArt 4"/>
          <p:cNvSpPr txBox="1"/>
          <p:nvPr/>
        </p:nvSpPr>
        <p:spPr>
          <a:xfrm>
            <a:off x="1523880" y="1143000"/>
            <a:ext cx="30481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3" name="WordArt 5"/>
          <p:cNvSpPr txBox="1"/>
          <p:nvPr/>
        </p:nvSpPr>
        <p:spPr>
          <a:xfrm>
            <a:off x="5486400" y="2971800"/>
            <a:ext cx="2057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64" name="a2.wav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950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F:\подготовка\1015 014.jpg"/>
          <p:cNvPicPr/>
          <p:nvPr/>
        </p:nvPicPr>
        <p:blipFill>
          <a:blip r:embed="rId1"/>
          <a:srcRect l="0" t="8780" r="4024" b="0"/>
          <a:stretch/>
        </p:blipFill>
        <p:spPr>
          <a:xfrm>
            <a:off x="1066680" y="1752480"/>
            <a:ext cx="6705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Documents and Settings\admin\Local Settings\Temporary Internet Files\Content.IE5\MC7EOJMT\MCj04347190000[1].png"/>
          <p:cNvPicPr/>
          <p:nvPr/>
        </p:nvPicPr>
        <p:blipFill>
          <a:blip r:embed="rId2"/>
          <a:stretch/>
        </p:blipFill>
        <p:spPr>
          <a:xfrm>
            <a:off x="594360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5.53191E-006 C -2.22222E-006 -5.53191E-006 -0.28455 -0.26758 -0.56909 -0.53493 E">
                                      <p:cBhvr>
                                        <p:cTn id="248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354560" cy="68580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4876920" y="0"/>
            <a:ext cx="4267080" cy="68580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cc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2" descr="photo27.jpg"/>
          <p:cNvPicPr/>
          <p:nvPr/>
        </p:nvPicPr>
        <p:blipFill>
          <a:blip r:embed="rId1"/>
          <a:stretch/>
        </p:blipFill>
        <p:spPr>
          <a:xfrm>
            <a:off x="2895480" y="1752480"/>
            <a:ext cx="1303560" cy="228600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10" descr="39.jpg"/>
          <p:cNvPicPr/>
          <p:nvPr/>
        </p:nvPicPr>
        <p:blipFill>
          <a:blip r:embed="rId2"/>
          <a:stretch/>
        </p:blipFill>
        <p:spPr>
          <a:xfrm>
            <a:off x="2819520" y="1371600"/>
            <a:ext cx="6476760" cy="48578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11" descr="81737_sevi.jpg"/>
          <p:cNvPicPr/>
          <p:nvPr/>
        </p:nvPicPr>
        <p:blipFill>
          <a:blip r:embed="rId3"/>
          <a:stretch/>
        </p:blipFill>
        <p:spPr>
          <a:xfrm>
            <a:off x="0" y="914400"/>
            <a:ext cx="2666880" cy="4876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F:\подготовка\1015 016.jpg"/>
          <p:cNvPicPr/>
          <p:nvPr/>
        </p:nvPicPr>
        <p:blipFill>
          <a:blip r:embed="rId4"/>
          <a:srcRect l="8884" t="2115" r="3400" b="2873"/>
          <a:stretch/>
        </p:blipFill>
        <p:spPr>
          <a:xfrm>
            <a:off x="3352680" y="1523880"/>
            <a:ext cx="4876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489040" y="990720"/>
            <a:ext cx="4465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858920" y="3499920"/>
            <a:ext cx="647640" cy="575640"/>
            <a:chOff x="4858920" y="3499920"/>
            <a:chExt cx="647640" cy="575640"/>
          </a:xfrm>
        </p:grpSpPr>
        <p:grpSp>
          <p:nvGrpSpPr>
            <p:cNvPr id="51" name="Group 3"/>
            <p:cNvGrpSpPr/>
            <p:nvPr/>
          </p:nvGrpSpPr>
          <p:grpSpPr>
            <a:xfrm>
              <a:off x="4858920" y="3729240"/>
              <a:ext cx="647280" cy="346320"/>
              <a:chOff x="4858920" y="3729240"/>
              <a:chExt cx="647280" cy="346320"/>
            </a:xfrm>
          </p:grpSpPr>
          <p:sp>
            <p:nvSpPr>
              <p:cNvPr id="52" name="AutoShape 4"/>
              <p:cNvSpPr/>
              <p:nvPr/>
            </p:nvSpPr>
            <p:spPr>
              <a:xfrm>
                <a:off x="4859280" y="372960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5"/>
              <p:cNvSpPr/>
              <p:nvPr/>
            </p:nvSpPr>
            <p:spPr>
              <a:xfrm rot="10800000">
                <a:off x="4858920" y="372924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AutoShape 6"/>
            <p:cNvSpPr/>
            <p:nvPr/>
          </p:nvSpPr>
          <p:spPr>
            <a:xfrm rot="10800000">
              <a:off x="4859280" y="349992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7"/>
          <p:cNvGrpSpPr/>
          <p:nvPr/>
        </p:nvGrpSpPr>
        <p:grpSpPr>
          <a:xfrm>
            <a:off x="4140000" y="2852280"/>
            <a:ext cx="647640" cy="575640"/>
            <a:chOff x="4140000" y="2852280"/>
            <a:chExt cx="647640" cy="575640"/>
          </a:xfrm>
        </p:grpSpPr>
        <p:grpSp>
          <p:nvGrpSpPr>
            <p:cNvPr id="56" name="Group 8"/>
            <p:cNvGrpSpPr/>
            <p:nvPr/>
          </p:nvGrpSpPr>
          <p:grpSpPr>
            <a:xfrm>
              <a:off x="4140000" y="3081600"/>
              <a:ext cx="647280" cy="346320"/>
              <a:chOff x="4140000" y="3081600"/>
              <a:chExt cx="647280" cy="346320"/>
            </a:xfrm>
          </p:grpSpPr>
          <p:sp>
            <p:nvSpPr>
              <p:cNvPr id="57" name="AutoShape 9"/>
              <p:cNvSpPr/>
              <p:nvPr/>
            </p:nvSpPr>
            <p:spPr>
              <a:xfrm>
                <a:off x="4140360" y="3081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AutoShape 10"/>
              <p:cNvSpPr/>
              <p:nvPr/>
            </p:nvSpPr>
            <p:spPr>
              <a:xfrm rot="10800000">
                <a:off x="4140000" y="3081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AutoShape 11"/>
            <p:cNvSpPr/>
            <p:nvPr/>
          </p:nvSpPr>
          <p:spPr>
            <a:xfrm rot="10800000">
              <a:off x="4140360" y="2852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2"/>
          <p:cNvGrpSpPr/>
          <p:nvPr/>
        </p:nvGrpSpPr>
        <p:grpSpPr>
          <a:xfrm>
            <a:off x="7738560" y="3499920"/>
            <a:ext cx="647640" cy="575640"/>
            <a:chOff x="7738560" y="3499920"/>
            <a:chExt cx="647640" cy="575640"/>
          </a:xfrm>
        </p:grpSpPr>
        <p:grpSp>
          <p:nvGrpSpPr>
            <p:cNvPr id="61" name="Group 13"/>
            <p:cNvGrpSpPr/>
            <p:nvPr/>
          </p:nvGrpSpPr>
          <p:grpSpPr>
            <a:xfrm>
              <a:off x="7738920" y="3729240"/>
              <a:ext cx="647280" cy="346320"/>
              <a:chOff x="7738920" y="3729240"/>
              <a:chExt cx="647280" cy="346320"/>
            </a:xfrm>
          </p:grpSpPr>
          <p:sp>
            <p:nvSpPr>
              <p:cNvPr id="62" name="AutoShape 14"/>
              <p:cNvSpPr/>
              <p:nvPr/>
            </p:nvSpPr>
            <p:spPr>
              <a:xfrm>
                <a:off x="7738920" y="3729600"/>
                <a:ext cx="64728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AutoShape 15"/>
              <p:cNvSpPr/>
              <p:nvPr/>
            </p:nvSpPr>
            <p:spPr>
              <a:xfrm rot="10800000">
                <a:off x="7738920" y="3729240"/>
                <a:ext cx="64728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AutoShape 16"/>
            <p:cNvSpPr/>
            <p:nvPr/>
          </p:nvSpPr>
          <p:spPr>
            <a:xfrm rot="10800000">
              <a:off x="7738560" y="3499920"/>
              <a:ext cx="64764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7"/>
          <p:cNvSpPr/>
          <p:nvPr/>
        </p:nvSpPr>
        <p:spPr>
          <a:xfrm>
            <a:off x="4067280" y="3068640"/>
            <a:ext cx="89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б]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б</a:t>
            </a:r>
            <a:r>
              <a:rPr b="1" lang="ru-RU" sz="1600" spc="-1" strike="noStrike">
                <a:solidFill>
                  <a:srgbClr val="33cc33"/>
                </a:solidFill>
                <a:latin typeface="Arial"/>
              </a:rPr>
              <a:t>'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18"/>
          <p:cNvGrpSpPr/>
          <p:nvPr/>
        </p:nvGrpSpPr>
        <p:grpSpPr>
          <a:xfrm>
            <a:off x="1331640" y="3429000"/>
            <a:ext cx="576000" cy="576000"/>
            <a:chOff x="1331640" y="3429000"/>
            <a:chExt cx="576000" cy="576000"/>
          </a:xfrm>
        </p:grpSpPr>
        <p:sp>
          <p:nvSpPr>
            <p:cNvPr id="67" name="Rectangle 19"/>
            <p:cNvSpPr/>
            <p:nvPr/>
          </p:nvSpPr>
          <p:spPr>
            <a:xfrm>
              <a:off x="1332000" y="3659760"/>
              <a:ext cx="57564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20"/>
            <p:cNvSpPr/>
            <p:nvPr/>
          </p:nvSpPr>
          <p:spPr>
            <a:xfrm rot="10800000">
              <a:off x="1331640" y="3429000"/>
              <a:ext cx="575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1"/>
          <p:cNvGrpSpPr/>
          <p:nvPr/>
        </p:nvGrpSpPr>
        <p:grpSpPr>
          <a:xfrm>
            <a:off x="7596360" y="1844640"/>
            <a:ext cx="647280" cy="576000"/>
            <a:chOff x="7596360" y="1844640"/>
            <a:chExt cx="647280" cy="576000"/>
          </a:xfrm>
        </p:grpSpPr>
        <p:sp>
          <p:nvSpPr>
            <p:cNvPr id="70" name="AutoShape 22"/>
            <p:cNvSpPr/>
            <p:nvPr/>
          </p:nvSpPr>
          <p:spPr>
            <a:xfrm rot="10800000">
              <a:off x="7596360" y="1844640"/>
              <a:ext cx="64728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3"/>
            <p:cNvSpPr/>
            <p:nvPr/>
          </p:nvSpPr>
          <p:spPr>
            <a:xfrm>
              <a:off x="7596360" y="2075400"/>
              <a:ext cx="647280" cy="345240"/>
            </a:xfrm>
            <a:prstGeom prst="rect">
              <a:avLst/>
            </a:prstGeom>
            <a:solidFill>
              <a:srgbClr val="00ff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4"/>
          <p:cNvSpPr/>
          <p:nvPr/>
        </p:nvSpPr>
        <p:spPr>
          <a:xfrm>
            <a:off x="5292720" y="148428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самых зву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7020000" y="2852640"/>
            <a:ext cx="647280" cy="576000"/>
            <a:chOff x="7020000" y="2852640"/>
            <a:chExt cx="647280" cy="576000"/>
          </a:xfrm>
        </p:grpSpPr>
        <p:sp>
          <p:nvSpPr>
            <p:cNvPr id="74" name="Rectangle 26"/>
            <p:cNvSpPr/>
            <p:nvPr/>
          </p:nvSpPr>
          <p:spPr>
            <a:xfrm>
              <a:off x="7020000" y="3083400"/>
              <a:ext cx="647280" cy="345240"/>
            </a:xfrm>
            <a:prstGeom prst="rect">
              <a:avLst/>
            </a:prstGeom>
            <a:solidFill>
              <a:srgbClr val="0000ff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AutoShape 27"/>
            <p:cNvSpPr/>
            <p:nvPr/>
          </p:nvSpPr>
          <p:spPr>
            <a:xfrm rot="10800000">
              <a:off x="7020000" y="2852640"/>
              <a:ext cx="64728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28"/>
          <p:cNvSpPr/>
          <p:nvPr/>
        </p:nvSpPr>
        <p:spPr>
          <a:xfrm rot="16200000">
            <a:off x="7244280" y="51328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улок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9"/>
          <p:cNvSpPr/>
          <p:nvPr/>
        </p:nvSpPr>
        <p:spPr>
          <a:xfrm rot="16200000">
            <a:off x="5870160" y="1770480"/>
            <a:ext cx="4546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звон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 rot="5400000">
            <a:off x="5864400" y="3584880"/>
            <a:ext cx="454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глух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1"/>
          <p:cNvSpPr txBox="1"/>
          <p:nvPr/>
        </p:nvSpPr>
        <p:spPr>
          <a:xfrm>
            <a:off x="3048120" y="189000"/>
            <a:ext cx="2457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 Звуко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WordArt 32"/>
          <p:cNvSpPr txBox="1"/>
          <p:nvPr/>
        </p:nvSpPr>
        <p:spPr>
          <a:xfrm>
            <a:off x="6372360" y="333360"/>
            <a:ext cx="19270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й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гласных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WordArt 33"/>
          <p:cNvSpPr txBox="1"/>
          <p:nvPr/>
        </p:nvSpPr>
        <p:spPr>
          <a:xfrm>
            <a:off x="762120" y="2590920"/>
            <a:ext cx="171432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й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сных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34" descr="Рисунок3"/>
          <p:cNvPicPr/>
          <p:nvPr/>
        </p:nvPicPr>
        <p:blipFill>
          <a:blip r:embed="rId1"/>
          <a:stretch/>
        </p:blipFill>
        <p:spPr>
          <a:xfrm>
            <a:off x="2971800" y="1219320"/>
            <a:ext cx="1440000" cy="14364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35"/>
          <p:cNvGrpSpPr/>
          <p:nvPr/>
        </p:nvGrpSpPr>
        <p:grpSpPr>
          <a:xfrm>
            <a:off x="6298920" y="2852280"/>
            <a:ext cx="647640" cy="575640"/>
            <a:chOff x="6298920" y="2852280"/>
            <a:chExt cx="647640" cy="575640"/>
          </a:xfrm>
        </p:grpSpPr>
        <p:grpSp>
          <p:nvGrpSpPr>
            <p:cNvPr id="84" name="Group 36"/>
            <p:cNvGrpSpPr/>
            <p:nvPr/>
          </p:nvGrpSpPr>
          <p:grpSpPr>
            <a:xfrm>
              <a:off x="6298920" y="3081600"/>
              <a:ext cx="647280" cy="346320"/>
              <a:chOff x="6298920" y="3081600"/>
              <a:chExt cx="647280" cy="346320"/>
            </a:xfrm>
          </p:grpSpPr>
          <p:sp>
            <p:nvSpPr>
              <p:cNvPr id="85" name="AutoShape 37"/>
              <p:cNvSpPr/>
              <p:nvPr/>
            </p:nvSpPr>
            <p:spPr>
              <a:xfrm>
                <a:off x="6299280" y="3081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AutoShape 38"/>
              <p:cNvSpPr/>
              <p:nvPr/>
            </p:nvSpPr>
            <p:spPr>
              <a:xfrm rot="10800000">
                <a:off x="6298920" y="3081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AutoShape 39"/>
            <p:cNvSpPr/>
            <p:nvPr/>
          </p:nvSpPr>
          <p:spPr>
            <a:xfrm rot="10800000">
              <a:off x="6299280" y="2852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5578200" y="3499920"/>
            <a:ext cx="647640" cy="575640"/>
            <a:chOff x="5578200" y="3499920"/>
            <a:chExt cx="647640" cy="575640"/>
          </a:xfrm>
        </p:grpSpPr>
        <p:grpSp>
          <p:nvGrpSpPr>
            <p:cNvPr id="89" name="Group 41"/>
            <p:cNvGrpSpPr/>
            <p:nvPr/>
          </p:nvGrpSpPr>
          <p:grpSpPr>
            <a:xfrm>
              <a:off x="5578200" y="3729240"/>
              <a:ext cx="647280" cy="346320"/>
              <a:chOff x="5578200" y="3729240"/>
              <a:chExt cx="647280" cy="346320"/>
            </a:xfrm>
          </p:grpSpPr>
          <p:sp>
            <p:nvSpPr>
              <p:cNvPr id="90" name="AutoShape 42"/>
              <p:cNvSpPr/>
              <p:nvPr/>
            </p:nvSpPr>
            <p:spPr>
              <a:xfrm>
                <a:off x="5578560" y="372960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43"/>
              <p:cNvSpPr/>
              <p:nvPr/>
            </p:nvSpPr>
            <p:spPr>
              <a:xfrm rot="10800000">
                <a:off x="5578200" y="372924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44"/>
            <p:cNvSpPr/>
            <p:nvPr/>
          </p:nvSpPr>
          <p:spPr>
            <a:xfrm rot="10800000">
              <a:off x="5578560" y="349992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45"/>
          <p:cNvGrpSpPr/>
          <p:nvPr/>
        </p:nvGrpSpPr>
        <p:grpSpPr>
          <a:xfrm>
            <a:off x="5578200" y="2852280"/>
            <a:ext cx="647640" cy="575640"/>
            <a:chOff x="5578200" y="2852280"/>
            <a:chExt cx="647640" cy="575640"/>
          </a:xfrm>
        </p:grpSpPr>
        <p:grpSp>
          <p:nvGrpSpPr>
            <p:cNvPr id="94" name="Group 46"/>
            <p:cNvGrpSpPr/>
            <p:nvPr/>
          </p:nvGrpSpPr>
          <p:grpSpPr>
            <a:xfrm>
              <a:off x="5578200" y="3081600"/>
              <a:ext cx="647280" cy="346320"/>
              <a:chOff x="5578200" y="3081600"/>
              <a:chExt cx="647280" cy="346320"/>
            </a:xfrm>
          </p:grpSpPr>
          <p:sp>
            <p:nvSpPr>
              <p:cNvPr id="95" name="AutoShape 47"/>
              <p:cNvSpPr/>
              <p:nvPr/>
            </p:nvSpPr>
            <p:spPr>
              <a:xfrm>
                <a:off x="5578560" y="3081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48"/>
              <p:cNvSpPr/>
              <p:nvPr/>
            </p:nvSpPr>
            <p:spPr>
              <a:xfrm rot="10800000">
                <a:off x="5578200" y="3081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49"/>
            <p:cNvSpPr/>
            <p:nvPr/>
          </p:nvSpPr>
          <p:spPr>
            <a:xfrm rot="10800000">
              <a:off x="5578560" y="2852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0"/>
          <p:cNvGrpSpPr/>
          <p:nvPr/>
        </p:nvGrpSpPr>
        <p:grpSpPr>
          <a:xfrm>
            <a:off x="6298920" y="3499920"/>
            <a:ext cx="647640" cy="575640"/>
            <a:chOff x="6298920" y="3499920"/>
            <a:chExt cx="647640" cy="575640"/>
          </a:xfrm>
        </p:grpSpPr>
        <p:grpSp>
          <p:nvGrpSpPr>
            <p:cNvPr id="99" name="Group 51"/>
            <p:cNvGrpSpPr/>
            <p:nvPr/>
          </p:nvGrpSpPr>
          <p:grpSpPr>
            <a:xfrm>
              <a:off x="6298920" y="3729240"/>
              <a:ext cx="647280" cy="346320"/>
              <a:chOff x="6298920" y="3729240"/>
              <a:chExt cx="647280" cy="346320"/>
            </a:xfrm>
          </p:grpSpPr>
          <p:sp>
            <p:nvSpPr>
              <p:cNvPr id="100" name="AutoShape 52"/>
              <p:cNvSpPr/>
              <p:nvPr/>
            </p:nvSpPr>
            <p:spPr>
              <a:xfrm>
                <a:off x="6299280" y="372960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53"/>
              <p:cNvSpPr/>
              <p:nvPr/>
            </p:nvSpPr>
            <p:spPr>
              <a:xfrm rot="10800000">
                <a:off x="6298920" y="372924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AutoShape 54"/>
            <p:cNvSpPr/>
            <p:nvPr/>
          </p:nvSpPr>
          <p:spPr>
            <a:xfrm rot="10800000">
              <a:off x="6299280" y="349992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55"/>
          <p:cNvGrpSpPr/>
          <p:nvPr/>
        </p:nvGrpSpPr>
        <p:grpSpPr>
          <a:xfrm>
            <a:off x="7308360" y="980640"/>
            <a:ext cx="647640" cy="575640"/>
            <a:chOff x="7308360" y="980640"/>
            <a:chExt cx="647640" cy="575640"/>
          </a:xfrm>
        </p:grpSpPr>
        <p:grpSp>
          <p:nvGrpSpPr>
            <p:cNvPr id="104" name="Group 56"/>
            <p:cNvGrpSpPr/>
            <p:nvPr/>
          </p:nvGrpSpPr>
          <p:grpSpPr>
            <a:xfrm>
              <a:off x="7308720" y="1209960"/>
              <a:ext cx="647280" cy="346320"/>
              <a:chOff x="7308720" y="1209960"/>
              <a:chExt cx="647280" cy="346320"/>
            </a:xfrm>
          </p:grpSpPr>
          <p:sp>
            <p:nvSpPr>
              <p:cNvPr id="105" name="AutoShape 57"/>
              <p:cNvSpPr/>
              <p:nvPr/>
            </p:nvSpPr>
            <p:spPr>
              <a:xfrm>
                <a:off x="7308720" y="1210320"/>
                <a:ext cx="64728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58"/>
              <p:cNvSpPr/>
              <p:nvPr/>
            </p:nvSpPr>
            <p:spPr>
              <a:xfrm rot="10800000">
                <a:off x="7308720" y="1209960"/>
                <a:ext cx="64728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AutoShape 59"/>
            <p:cNvSpPr/>
            <p:nvPr/>
          </p:nvSpPr>
          <p:spPr>
            <a:xfrm rot="10800000">
              <a:off x="7308360" y="980640"/>
              <a:ext cx="64764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60"/>
          <p:cNvGrpSpPr/>
          <p:nvPr/>
        </p:nvGrpSpPr>
        <p:grpSpPr>
          <a:xfrm>
            <a:off x="6011640" y="1844280"/>
            <a:ext cx="647640" cy="575640"/>
            <a:chOff x="6011640" y="1844280"/>
            <a:chExt cx="647640" cy="575640"/>
          </a:xfrm>
        </p:grpSpPr>
        <p:grpSp>
          <p:nvGrpSpPr>
            <p:cNvPr id="109" name="Group 61"/>
            <p:cNvGrpSpPr/>
            <p:nvPr/>
          </p:nvGrpSpPr>
          <p:grpSpPr>
            <a:xfrm>
              <a:off x="6011640" y="2073600"/>
              <a:ext cx="647280" cy="346320"/>
              <a:chOff x="6011640" y="2073600"/>
              <a:chExt cx="647280" cy="346320"/>
            </a:xfrm>
          </p:grpSpPr>
          <p:sp>
            <p:nvSpPr>
              <p:cNvPr id="110" name="AutoShape 62"/>
              <p:cNvSpPr/>
              <p:nvPr/>
            </p:nvSpPr>
            <p:spPr>
              <a:xfrm>
                <a:off x="6012000" y="2073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AutoShape 63"/>
              <p:cNvSpPr/>
              <p:nvPr/>
            </p:nvSpPr>
            <p:spPr>
              <a:xfrm rot="10800000">
                <a:off x="6011640" y="2073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AutoShape 64"/>
            <p:cNvSpPr/>
            <p:nvPr/>
          </p:nvSpPr>
          <p:spPr>
            <a:xfrm rot="10800000">
              <a:off x="6012000" y="1844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65"/>
          <p:cNvGrpSpPr/>
          <p:nvPr/>
        </p:nvGrpSpPr>
        <p:grpSpPr>
          <a:xfrm>
            <a:off x="6587640" y="980640"/>
            <a:ext cx="647640" cy="575640"/>
            <a:chOff x="6587640" y="980640"/>
            <a:chExt cx="647640" cy="575640"/>
          </a:xfrm>
        </p:grpSpPr>
        <p:grpSp>
          <p:nvGrpSpPr>
            <p:cNvPr id="114" name="Group 66"/>
            <p:cNvGrpSpPr/>
            <p:nvPr/>
          </p:nvGrpSpPr>
          <p:grpSpPr>
            <a:xfrm>
              <a:off x="6588000" y="1209960"/>
              <a:ext cx="647280" cy="346320"/>
              <a:chOff x="6588000" y="1209960"/>
              <a:chExt cx="647280" cy="346320"/>
            </a:xfrm>
          </p:grpSpPr>
          <p:sp>
            <p:nvSpPr>
              <p:cNvPr id="115" name="AutoShape 67"/>
              <p:cNvSpPr/>
              <p:nvPr/>
            </p:nvSpPr>
            <p:spPr>
              <a:xfrm>
                <a:off x="6588000" y="1210320"/>
                <a:ext cx="64728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utoShape 68"/>
              <p:cNvSpPr/>
              <p:nvPr/>
            </p:nvSpPr>
            <p:spPr>
              <a:xfrm rot="10800000">
                <a:off x="6588000" y="1209960"/>
                <a:ext cx="64728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AutoShape 69"/>
            <p:cNvSpPr/>
            <p:nvPr/>
          </p:nvSpPr>
          <p:spPr>
            <a:xfrm rot="10800000">
              <a:off x="6587640" y="980640"/>
              <a:ext cx="64764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70"/>
          <p:cNvGrpSpPr/>
          <p:nvPr/>
        </p:nvGrpSpPr>
        <p:grpSpPr>
          <a:xfrm>
            <a:off x="6803640" y="1844280"/>
            <a:ext cx="647640" cy="575640"/>
            <a:chOff x="6803640" y="1844280"/>
            <a:chExt cx="647640" cy="575640"/>
          </a:xfrm>
        </p:grpSpPr>
        <p:grpSp>
          <p:nvGrpSpPr>
            <p:cNvPr id="119" name="Group 71"/>
            <p:cNvGrpSpPr/>
            <p:nvPr/>
          </p:nvGrpSpPr>
          <p:grpSpPr>
            <a:xfrm>
              <a:off x="6803640" y="2073600"/>
              <a:ext cx="647280" cy="346320"/>
              <a:chOff x="6803640" y="2073600"/>
              <a:chExt cx="647280" cy="346320"/>
            </a:xfrm>
          </p:grpSpPr>
          <p:sp>
            <p:nvSpPr>
              <p:cNvPr id="120" name="AutoShape 72"/>
              <p:cNvSpPr/>
              <p:nvPr/>
            </p:nvSpPr>
            <p:spPr>
              <a:xfrm>
                <a:off x="6804000" y="2073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AutoShape 73"/>
              <p:cNvSpPr/>
              <p:nvPr/>
            </p:nvSpPr>
            <p:spPr>
              <a:xfrm rot="10800000">
                <a:off x="6803640" y="2073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AutoShape 74"/>
            <p:cNvSpPr/>
            <p:nvPr/>
          </p:nvSpPr>
          <p:spPr>
            <a:xfrm rot="10800000">
              <a:off x="6804000" y="1844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75"/>
          <p:cNvGrpSpPr/>
          <p:nvPr/>
        </p:nvGrpSpPr>
        <p:grpSpPr>
          <a:xfrm>
            <a:off x="7020000" y="3500280"/>
            <a:ext cx="647280" cy="576000"/>
            <a:chOff x="7020000" y="3500280"/>
            <a:chExt cx="647280" cy="576000"/>
          </a:xfrm>
        </p:grpSpPr>
        <p:sp>
          <p:nvSpPr>
            <p:cNvPr id="124" name="Rectangle 76"/>
            <p:cNvSpPr/>
            <p:nvPr/>
          </p:nvSpPr>
          <p:spPr>
            <a:xfrm>
              <a:off x="7020000" y="3731040"/>
              <a:ext cx="647280" cy="345240"/>
            </a:xfrm>
            <a:prstGeom prst="rect">
              <a:avLst/>
            </a:prstGeom>
            <a:solidFill>
              <a:srgbClr val="0000ff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77"/>
            <p:cNvSpPr/>
            <p:nvPr/>
          </p:nvSpPr>
          <p:spPr>
            <a:xfrm rot="10800000">
              <a:off x="7020000" y="3500280"/>
              <a:ext cx="64728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78"/>
          <p:cNvGrpSpPr/>
          <p:nvPr/>
        </p:nvGrpSpPr>
        <p:grpSpPr>
          <a:xfrm>
            <a:off x="8370360" y="4149360"/>
            <a:ext cx="647640" cy="575640"/>
            <a:chOff x="8370360" y="4149360"/>
            <a:chExt cx="647640" cy="575640"/>
          </a:xfrm>
        </p:grpSpPr>
        <p:grpSp>
          <p:nvGrpSpPr>
            <p:cNvPr id="127" name="Group 79"/>
            <p:cNvGrpSpPr/>
            <p:nvPr/>
          </p:nvGrpSpPr>
          <p:grpSpPr>
            <a:xfrm>
              <a:off x="8370720" y="4378680"/>
              <a:ext cx="647280" cy="346320"/>
              <a:chOff x="8370720" y="4378680"/>
              <a:chExt cx="647280" cy="346320"/>
            </a:xfrm>
          </p:grpSpPr>
          <p:sp>
            <p:nvSpPr>
              <p:cNvPr id="128" name="AutoShape 80"/>
              <p:cNvSpPr/>
              <p:nvPr/>
            </p:nvSpPr>
            <p:spPr>
              <a:xfrm>
                <a:off x="8370720" y="4379040"/>
                <a:ext cx="64728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81"/>
              <p:cNvSpPr/>
              <p:nvPr/>
            </p:nvSpPr>
            <p:spPr>
              <a:xfrm rot="10800000">
                <a:off x="8370720" y="4378680"/>
                <a:ext cx="64728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AutoShape 82"/>
            <p:cNvSpPr/>
            <p:nvPr/>
          </p:nvSpPr>
          <p:spPr>
            <a:xfrm rot="10800000">
              <a:off x="8370360" y="4149360"/>
              <a:ext cx="64764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3"/>
          <p:cNvGrpSpPr/>
          <p:nvPr/>
        </p:nvGrpSpPr>
        <p:grpSpPr>
          <a:xfrm>
            <a:off x="8370360" y="4797360"/>
            <a:ext cx="648000" cy="576000"/>
            <a:chOff x="8370360" y="4797360"/>
            <a:chExt cx="648000" cy="576000"/>
          </a:xfrm>
        </p:grpSpPr>
        <p:sp>
          <p:nvSpPr>
            <p:cNvPr id="132" name="Rectangle 84"/>
            <p:cNvSpPr/>
            <p:nvPr/>
          </p:nvSpPr>
          <p:spPr>
            <a:xfrm>
              <a:off x="8370720" y="5028120"/>
              <a:ext cx="647640" cy="345240"/>
            </a:xfrm>
            <a:prstGeom prst="rect">
              <a:avLst/>
            </a:prstGeom>
            <a:solidFill>
              <a:srgbClr val="0000ff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85"/>
            <p:cNvSpPr/>
            <p:nvPr/>
          </p:nvSpPr>
          <p:spPr>
            <a:xfrm rot="10800000">
              <a:off x="8370360" y="4797360"/>
              <a:ext cx="647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86"/>
          <p:cNvGrpSpPr/>
          <p:nvPr/>
        </p:nvGrpSpPr>
        <p:grpSpPr>
          <a:xfrm>
            <a:off x="8370360" y="5445000"/>
            <a:ext cx="648000" cy="576000"/>
            <a:chOff x="8370360" y="5445000"/>
            <a:chExt cx="648000" cy="576000"/>
          </a:xfrm>
        </p:grpSpPr>
        <p:sp>
          <p:nvSpPr>
            <p:cNvPr id="135" name="AutoShape 87"/>
            <p:cNvSpPr/>
            <p:nvPr/>
          </p:nvSpPr>
          <p:spPr>
            <a:xfrm rot="10800000">
              <a:off x="8370360" y="5445000"/>
              <a:ext cx="647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8"/>
            <p:cNvSpPr/>
            <p:nvPr/>
          </p:nvSpPr>
          <p:spPr>
            <a:xfrm>
              <a:off x="8370720" y="5675760"/>
              <a:ext cx="647640" cy="345240"/>
            </a:xfrm>
            <a:prstGeom prst="rect">
              <a:avLst/>
            </a:prstGeom>
            <a:solidFill>
              <a:srgbClr val="00ff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9"/>
          <p:cNvGrpSpPr/>
          <p:nvPr/>
        </p:nvGrpSpPr>
        <p:grpSpPr>
          <a:xfrm>
            <a:off x="8370360" y="6066000"/>
            <a:ext cx="648000" cy="575280"/>
            <a:chOff x="8370360" y="6066000"/>
            <a:chExt cx="648000" cy="575280"/>
          </a:xfrm>
        </p:grpSpPr>
        <p:sp>
          <p:nvSpPr>
            <p:cNvPr id="138" name="AutoShape 90"/>
            <p:cNvSpPr/>
            <p:nvPr/>
          </p:nvSpPr>
          <p:spPr>
            <a:xfrm rot="10800000">
              <a:off x="8370360" y="6066000"/>
              <a:ext cx="647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1"/>
            <p:cNvSpPr/>
            <p:nvPr/>
          </p:nvSpPr>
          <p:spPr>
            <a:xfrm>
              <a:off x="8370720" y="6296400"/>
              <a:ext cx="647640" cy="344880"/>
            </a:xfrm>
            <a:prstGeom prst="rect">
              <a:avLst/>
            </a:prstGeom>
            <a:solidFill>
              <a:srgbClr val="00ff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92"/>
          <p:cNvGrpSpPr/>
          <p:nvPr/>
        </p:nvGrpSpPr>
        <p:grpSpPr>
          <a:xfrm>
            <a:off x="2050920" y="3429000"/>
            <a:ext cx="576000" cy="576000"/>
            <a:chOff x="2050920" y="3429000"/>
            <a:chExt cx="576000" cy="576000"/>
          </a:xfrm>
        </p:grpSpPr>
        <p:sp>
          <p:nvSpPr>
            <p:cNvPr id="141" name="Rectangle 93"/>
            <p:cNvSpPr/>
            <p:nvPr/>
          </p:nvSpPr>
          <p:spPr>
            <a:xfrm>
              <a:off x="2050920" y="3659760"/>
              <a:ext cx="57600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94"/>
            <p:cNvSpPr/>
            <p:nvPr/>
          </p:nvSpPr>
          <p:spPr>
            <a:xfrm rot="10800000">
              <a:off x="2050920" y="3429000"/>
              <a:ext cx="57600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95"/>
          <p:cNvGrpSpPr/>
          <p:nvPr/>
        </p:nvGrpSpPr>
        <p:grpSpPr>
          <a:xfrm>
            <a:off x="610920" y="3429000"/>
            <a:ext cx="576000" cy="576000"/>
            <a:chOff x="610920" y="3429000"/>
            <a:chExt cx="576000" cy="576000"/>
          </a:xfrm>
        </p:grpSpPr>
        <p:sp>
          <p:nvSpPr>
            <p:cNvPr id="144" name="Rectangle 96"/>
            <p:cNvSpPr/>
            <p:nvPr/>
          </p:nvSpPr>
          <p:spPr>
            <a:xfrm>
              <a:off x="611280" y="3659760"/>
              <a:ext cx="57564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97"/>
            <p:cNvSpPr/>
            <p:nvPr/>
          </p:nvSpPr>
          <p:spPr>
            <a:xfrm rot="10800000">
              <a:off x="610920" y="3429000"/>
              <a:ext cx="575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98"/>
          <p:cNvGrpSpPr/>
          <p:nvPr/>
        </p:nvGrpSpPr>
        <p:grpSpPr>
          <a:xfrm>
            <a:off x="2050920" y="4221000"/>
            <a:ext cx="576000" cy="576000"/>
            <a:chOff x="2050920" y="4221000"/>
            <a:chExt cx="576000" cy="576000"/>
          </a:xfrm>
        </p:grpSpPr>
        <p:sp>
          <p:nvSpPr>
            <p:cNvPr id="147" name="Rectangle 99"/>
            <p:cNvSpPr/>
            <p:nvPr/>
          </p:nvSpPr>
          <p:spPr>
            <a:xfrm>
              <a:off x="2050920" y="4451760"/>
              <a:ext cx="57600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00"/>
            <p:cNvSpPr/>
            <p:nvPr/>
          </p:nvSpPr>
          <p:spPr>
            <a:xfrm rot="10800000">
              <a:off x="2050920" y="4221000"/>
              <a:ext cx="57600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101"/>
          <p:cNvGrpSpPr/>
          <p:nvPr/>
        </p:nvGrpSpPr>
        <p:grpSpPr>
          <a:xfrm>
            <a:off x="1331640" y="4221000"/>
            <a:ext cx="576000" cy="576000"/>
            <a:chOff x="1331640" y="4221000"/>
            <a:chExt cx="576000" cy="576000"/>
          </a:xfrm>
        </p:grpSpPr>
        <p:sp>
          <p:nvSpPr>
            <p:cNvPr id="150" name="Rectangle 102"/>
            <p:cNvSpPr/>
            <p:nvPr/>
          </p:nvSpPr>
          <p:spPr>
            <a:xfrm>
              <a:off x="1332000" y="4451760"/>
              <a:ext cx="57564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3"/>
            <p:cNvSpPr/>
            <p:nvPr/>
          </p:nvSpPr>
          <p:spPr>
            <a:xfrm rot="10800000">
              <a:off x="1331640" y="4221000"/>
              <a:ext cx="57564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04"/>
          <p:cNvGrpSpPr/>
          <p:nvPr/>
        </p:nvGrpSpPr>
        <p:grpSpPr>
          <a:xfrm>
            <a:off x="539640" y="4221000"/>
            <a:ext cx="576000" cy="576000"/>
            <a:chOff x="539640" y="4221000"/>
            <a:chExt cx="576000" cy="576000"/>
          </a:xfrm>
        </p:grpSpPr>
        <p:sp>
          <p:nvSpPr>
            <p:cNvPr id="153" name="Rectangle 105"/>
            <p:cNvSpPr/>
            <p:nvPr/>
          </p:nvSpPr>
          <p:spPr>
            <a:xfrm>
              <a:off x="539640" y="4451760"/>
              <a:ext cx="576000" cy="345240"/>
            </a:xfrm>
            <a:prstGeom prst="rect">
              <a:avLst/>
            </a:prstGeom>
            <a:solidFill>
              <a:srgbClr val="ff0000">
                <a:alpha val="7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6"/>
            <p:cNvSpPr/>
            <p:nvPr/>
          </p:nvSpPr>
          <p:spPr>
            <a:xfrm rot="10800000">
              <a:off x="539640" y="4221000"/>
              <a:ext cx="576000" cy="22824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Picture 107" descr="Копия (4) b9bcf5fbcdcc"/>
          <p:cNvPicPr/>
          <p:nvPr/>
        </p:nvPicPr>
        <p:blipFill>
          <a:blip r:embed="rId2"/>
          <a:stretch/>
        </p:blipFill>
        <p:spPr>
          <a:xfrm>
            <a:off x="6156360" y="4724280"/>
            <a:ext cx="741240" cy="136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8" descr="Копия (3) b9bcf5fbcdcc"/>
          <p:cNvPicPr/>
          <p:nvPr/>
        </p:nvPicPr>
        <p:blipFill>
          <a:blip r:embed="rId3"/>
          <a:stretch/>
        </p:blipFill>
        <p:spPr>
          <a:xfrm>
            <a:off x="611280" y="5473800"/>
            <a:ext cx="2700360" cy="138420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109"/>
          <p:cNvGrpSpPr/>
          <p:nvPr/>
        </p:nvGrpSpPr>
        <p:grpSpPr>
          <a:xfrm>
            <a:off x="3635280" y="3573000"/>
            <a:ext cx="517680" cy="648000"/>
            <a:chOff x="3635280" y="3573000"/>
            <a:chExt cx="517680" cy="648000"/>
          </a:xfrm>
        </p:grpSpPr>
        <p:pic>
          <p:nvPicPr>
            <p:cNvPr id="158" name="Picture 110" descr="ED0236"/>
            <p:cNvPicPr/>
            <p:nvPr/>
          </p:nvPicPr>
          <p:blipFill>
            <a:blip r:embed="rId4"/>
            <a:stretch/>
          </p:blipFill>
          <p:spPr>
            <a:xfrm>
              <a:off x="3635280" y="3644640"/>
              <a:ext cx="517680" cy="57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111"/>
            <p:cNvGrpSpPr/>
            <p:nvPr/>
          </p:nvGrpSpPr>
          <p:grpSpPr>
            <a:xfrm>
              <a:off x="3706920" y="3573000"/>
              <a:ext cx="358200" cy="504360"/>
              <a:chOff x="3706920" y="3573000"/>
              <a:chExt cx="358200" cy="504360"/>
            </a:xfrm>
          </p:grpSpPr>
          <p:sp>
            <p:nvSpPr>
              <p:cNvPr id="160" name="Line 112"/>
              <p:cNvSpPr/>
              <p:nvPr/>
            </p:nvSpPr>
            <p:spPr>
              <a:xfrm flipV="1">
                <a:off x="3706920" y="3573000"/>
                <a:ext cx="239760" cy="50436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113"/>
              <p:cNvSpPr/>
              <p:nvPr/>
            </p:nvSpPr>
            <p:spPr>
              <a:xfrm>
                <a:off x="3706920" y="3675600"/>
                <a:ext cx="358200" cy="30240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" name="Group 114"/>
          <p:cNvGrpSpPr/>
          <p:nvPr/>
        </p:nvGrpSpPr>
        <p:grpSpPr>
          <a:xfrm>
            <a:off x="4140000" y="3499920"/>
            <a:ext cx="647640" cy="575640"/>
            <a:chOff x="4140000" y="3499920"/>
            <a:chExt cx="647640" cy="575640"/>
          </a:xfrm>
        </p:grpSpPr>
        <p:grpSp>
          <p:nvGrpSpPr>
            <p:cNvPr id="163" name="Group 115"/>
            <p:cNvGrpSpPr/>
            <p:nvPr/>
          </p:nvGrpSpPr>
          <p:grpSpPr>
            <a:xfrm>
              <a:off x="4140000" y="3729240"/>
              <a:ext cx="647280" cy="346320"/>
              <a:chOff x="4140000" y="3729240"/>
              <a:chExt cx="647280" cy="346320"/>
            </a:xfrm>
          </p:grpSpPr>
          <p:sp>
            <p:nvSpPr>
              <p:cNvPr id="164" name="AutoShape 116"/>
              <p:cNvSpPr/>
              <p:nvPr/>
            </p:nvSpPr>
            <p:spPr>
              <a:xfrm>
                <a:off x="4140360" y="372960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117"/>
              <p:cNvSpPr/>
              <p:nvPr/>
            </p:nvSpPr>
            <p:spPr>
              <a:xfrm rot="10800000">
                <a:off x="4140000" y="372924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AutoShape 118"/>
            <p:cNvSpPr/>
            <p:nvPr/>
          </p:nvSpPr>
          <p:spPr>
            <a:xfrm rot="10800000">
              <a:off x="4140360" y="349992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19"/>
          <p:cNvGrpSpPr/>
          <p:nvPr/>
        </p:nvGrpSpPr>
        <p:grpSpPr>
          <a:xfrm>
            <a:off x="7738560" y="2852280"/>
            <a:ext cx="647640" cy="575640"/>
            <a:chOff x="7738560" y="2852280"/>
            <a:chExt cx="647640" cy="575640"/>
          </a:xfrm>
        </p:grpSpPr>
        <p:grpSp>
          <p:nvGrpSpPr>
            <p:cNvPr id="168" name="Group 120"/>
            <p:cNvGrpSpPr/>
            <p:nvPr/>
          </p:nvGrpSpPr>
          <p:grpSpPr>
            <a:xfrm>
              <a:off x="7738920" y="3081600"/>
              <a:ext cx="647280" cy="346320"/>
              <a:chOff x="7738920" y="3081600"/>
              <a:chExt cx="647280" cy="346320"/>
            </a:xfrm>
          </p:grpSpPr>
          <p:sp>
            <p:nvSpPr>
              <p:cNvPr id="169" name="AutoShape 121"/>
              <p:cNvSpPr/>
              <p:nvPr/>
            </p:nvSpPr>
            <p:spPr>
              <a:xfrm>
                <a:off x="7738920" y="3081960"/>
                <a:ext cx="64728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22"/>
              <p:cNvSpPr/>
              <p:nvPr/>
            </p:nvSpPr>
            <p:spPr>
              <a:xfrm rot="10800000">
                <a:off x="7738920" y="3081600"/>
                <a:ext cx="64728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AutoShape 123"/>
            <p:cNvSpPr/>
            <p:nvPr/>
          </p:nvSpPr>
          <p:spPr>
            <a:xfrm rot="10800000">
              <a:off x="7738560" y="2852280"/>
              <a:ext cx="64764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124"/>
          <p:cNvSpPr/>
          <p:nvPr/>
        </p:nvSpPr>
        <p:spPr>
          <a:xfrm>
            <a:off x="4071240" y="371628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п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5"/>
          <p:cNvSpPr/>
          <p:nvPr/>
        </p:nvSpPr>
        <p:spPr>
          <a:xfrm>
            <a:off x="5512680" y="3068640"/>
            <a:ext cx="84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г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г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6"/>
          <p:cNvSpPr/>
          <p:nvPr/>
        </p:nvSpPr>
        <p:spPr>
          <a:xfrm>
            <a:off x="6231960" y="3068640"/>
            <a:ext cx="8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д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7"/>
          <p:cNvSpPr/>
          <p:nvPr/>
        </p:nvSpPr>
        <p:spPr>
          <a:xfrm>
            <a:off x="4721040" y="3716280"/>
            <a:ext cx="90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ф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ф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28"/>
          <p:cNvGrpSpPr/>
          <p:nvPr/>
        </p:nvGrpSpPr>
        <p:grpSpPr>
          <a:xfrm>
            <a:off x="4858920" y="2852280"/>
            <a:ext cx="647640" cy="575640"/>
            <a:chOff x="4858920" y="2852280"/>
            <a:chExt cx="647640" cy="575640"/>
          </a:xfrm>
        </p:grpSpPr>
        <p:grpSp>
          <p:nvGrpSpPr>
            <p:cNvPr id="177" name="Group 129"/>
            <p:cNvGrpSpPr/>
            <p:nvPr/>
          </p:nvGrpSpPr>
          <p:grpSpPr>
            <a:xfrm>
              <a:off x="4858920" y="3081600"/>
              <a:ext cx="647280" cy="346320"/>
              <a:chOff x="4858920" y="3081600"/>
              <a:chExt cx="647280" cy="346320"/>
            </a:xfrm>
          </p:grpSpPr>
          <p:sp>
            <p:nvSpPr>
              <p:cNvPr id="178" name="AutoShape 130"/>
              <p:cNvSpPr/>
              <p:nvPr/>
            </p:nvSpPr>
            <p:spPr>
              <a:xfrm>
                <a:off x="4859280" y="3081960"/>
                <a:ext cx="646920" cy="345960"/>
              </a:xfrm>
              <a:prstGeom prst="rtTriangl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31"/>
              <p:cNvSpPr/>
              <p:nvPr/>
            </p:nvSpPr>
            <p:spPr>
              <a:xfrm rot="10800000">
                <a:off x="4858920" y="3081600"/>
                <a:ext cx="646920" cy="345960"/>
              </a:xfrm>
              <a:prstGeom prst="rtTriangl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AutoShape 132"/>
            <p:cNvSpPr/>
            <p:nvPr/>
          </p:nvSpPr>
          <p:spPr>
            <a:xfrm rot="10800000">
              <a:off x="4859280" y="2852280"/>
              <a:ext cx="647280" cy="2271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Rectangle 133"/>
          <p:cNvSpPr/>
          <p:nvPr/>
        </p:nvSpPr>
        <p:spPr>
          <a:xfrm>
            <a:off x="4716360" y="306864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в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в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4"/>
          <p:cNvSpPr/>
          <p:nvPr/>
        </p:nvSpPr>
        <p:spPr>
          <a:xfrm>
            <a:off x="7672320" y="30686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з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5"/>
          <p:cNvSpPr/>
          <p:nvPr/>
        </p:nvSpPr>
        <p:spPr>
          <a:xfrm>
            <a:off x="7671240" y="3716280"/>
            <a:ext cx="77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с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6"/>
          <p:cNvSpPr/>
          <p:nvPr/>
        </p:nvSpPr>
        <p:spPr>
          <a:xfrm>
            <a:off x="6232320" y="371628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т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т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37"/>
          <p:cNvSpPr/>
          <p:nvPr/>
        </p:nvSpPr>
        <p:spPr>
          <a:xfrm>
            <a:off x="5511960" y="371628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к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к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8"/>
          <p:cNvSpPr/>
          <p:nvPr/>
        </p:nvSpPr>
        <p:spPr>
          <a:xfrm>
            <a:off x="7023600" y="306864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ж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9"/>
          <p:cNvSpPr/>
          <p:nvPr/>
        </p:nvSpPr>
        <p:spPr>
          <a:xfrm>
            <a:off x="7096320" y="3716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ш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0"/>
          <p:cNvSpPr/>
          <p:nvPr/>
        </p:nvSpPr>
        <p:spPr>
          <a:xfrm>
            <a:off x="6520680" y="119700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н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н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1"/>
          <p:cNvSpPr/>
          <p:nvPr/>
        </p:nvSpPr>
        <p:spPr>
          <a:xfrm>
            <a:off x="7236000" y="119700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м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м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42"/>
          <p:cNvSpPr/>
          <p:nvPr/>
        </p:nvSpPr>
        <p:spPr>
          <a:xfrm>
            <a:off x="5945040" y="206064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л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43"/>
          <p:cNvSpPr/>
          <p:nvPr/>
        </p:nvSpPr>
        <p:spPr>
          <a:xfrm>
            <a:off x="6736680" y="206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р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4"/>
          <p:cNvSpPr/>
          <p:nvPr/>
        </p:nvSpPr>
        <p:spPr>
          <a:xfrm>
            <a:off x="7670160" y="2060640"/>
            <a:ext cx="48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й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5"/>
          <p:cNvSpPr/>
          <p:nvPr/>
        </p:nvSpPr>
        <p:spPr>
          <a:xfrm>
            <a:off x="8445240" y="50148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ц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46"/>
          <p:cNvSpPr/>
          <p:nvPr/>
        </p:nvSpPr>
        <p:spPr>
          <a:xfrm>
            <a:off x="8303400" y="436572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х] 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х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47"/>
          <p:cNvSpPr/>
          <p:nvPr/>
        </p:nvSpPr>
        <p:spPr>
          <a:xfrm>
            <a:off x="8444520" y="5662440"/>
            <a:ext cx="4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ч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48"/>
          <p:cNvSpPr/>
          <p:nvPr/>
        </p:nvSpPr>
        <p:spPr>
          <a:xfrm>
            <a:off x="8444880" y="631044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щ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'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49" descr="ED0236"/>
          <p:cNvPicPr/>
          <p:nvPr/>
        </p:nvPicPr>
        <p:blipFill>
          <a:blip r:embed="rId5"/>
          <a:stretch/>
        </p:blipFill>
        <p:spPr>
          <a:xfrm>
            <a:off x="3564000" y="2924280"/>
            <a:ext cx="517320" cy="576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50"/>
          <p:cNvSpPr/>
          <p:nvPr/>
        </p:nvSpPr>
        <p:spPr>
          <a:xfrm>
            <a:off x="1405080" y="4437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у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1"/>
          <p:cNvSpPr/>
          <p:nvPr/>
        </p:nvSpPr>
        <p:spPr>
          <a:xfrm>
            <a:off x="612720" y="4437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о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2"/>
          <p:cNvSpPr/>
          <p:nvPr/>
        </p:nvSpPr>
        <p:spPr>
          <a:xfrm>
            <a:off x="2052720" y="364500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ы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3"/>
          <p:cNvSpPr/>
          <p:nvPr/>
        </p:nvSpPr>
        <p:spPr>
          <a:xfrm>
            <a:off x="2125800" y="4437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э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4"/>
          <p:cNvSpPr/>
          <p:nvPr/>
        </p:nvSpPr>
        <p:spPr>
          <a:xfrm>
            <a:off x="1405440" y="3645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и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5"/>
          <p:cNvSpPr/>
          <p:nvPr/>
        </p:nvSpPr>
        <p:spPr>
          <a:xfrm>
            <a:off x="68616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[а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0"/>
          <p:cNvSpPr/>
          <p:nvPr/>
        </p:nvSpPr>
        <p:spPr>
          <a:xfrm>
            <a:off x="611280" y="342900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1"/>
          <p:cNvSpPr/>
          <p:nvPr/>
        </p:nvSpPr>
        <p:spPr>
          <a:xfrm>
            <a:off x="1332000" y="342900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2"/>
          <p:cNvSpPr/>
          <p:nvPr/>
        </p:nvSpPr>
        <p:spPr>
          <a:xfrm>
            <a:off x="2050920" y="3429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3"/>
          <p:cNvSpPr/>
          <p:nvPr/>
        </p:nvSpPr>
        <p:spPr>
          <a:xfrm>
            <a:off x="539640" y="4221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4"/>
          <p:cNvSpPr/>
          <p:nvPr/>
        </p:nvSpPr>
        <p:spPr>
          <a:xfrm>
            <a:off x="1332000" y="4221000"/>
            <a:ext cx="57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5"/>
          <p:cNvSpPr/>
          <p:nvPr/>
        </p:nvSpPr>
        <p:spPr>
          <a:xfrm>
            <a:off x="2050920" y="4221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6"/>
          <p:cNvSpPr/>
          <p:nvPr/>
        </p:nvSpPr>
        <p:spPr>
          <a:xfrm>
            <a:off x="414036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7"/>
          <p:cNvSpPr/>
          <p:nvPr/>
        </p:nvSpPr>
        <p:spPr>
          <a:xfrm>
            <a:off x="414036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8"/>
          <p:cNvSpPr/>
          <p:nvPr/>
        </p:nvSpPr>
        <p:spPr>
          <a:xfrm>
            <a:off x="485928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9"/>
          <p:cNvSpPr/>
          <p:nvPr/>
        </p:nvSpPr>
        <p:spPr>
          <a:xfrm>
            <a:off x="485928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0"/>
          <p:cNvSpPr/>
          <p:nvPr/>
        </p:nvSpPr>
        <p:spPr>
          <a:xfrm>
            <a:off x="558000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1"/>
          <p:cNvSpPr/>
          <p:nvPr/>
        </p:nvSpPr>
        <p:spPr>
          <a:xfrm>
            <a:off x="558000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2"/>
          <p:cNvSpPr/>
          <p:nvPr/>
        </p:nvSpPr>
        <p:spPr>
          <a:xfrm>
            <a:off x="630072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3"/>
          <p:cNvSpPr/>
          <p:nvPr/>
        </p:nvSpPr>
        <p:spPr>
          <a:xfrm>
            <a:off x="630072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4"/>
          <p:cNvSpPr/>
          <p:nvPr/>
        </p:nvSpPr>
        <p:spPr>
          <a:xfrm>
            <a:off x="702000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5"/>
          <p:cNvSpPr/>
          <p:nvPr/>
        </p:nvSpPr>
        <p:spPr>
          <a:xfrm>
            <a:off x="702000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6"/>
          <p:cNvSpPr/>
          <p:nvPr/>
        </p:nvSpPr>
        <p:spPr>
          <a:xfrm>
            <a:off x="7740720" y="2852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7"/>
          <p:cNvSpPr/>
          <p:nvPr/>
        </p:nvSpPr>
        <p:spPr>
          <a:xfrm>
            <a:off x="7740720" y="35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8"/>
          <p:cNvSpPr/>
          <p:nvPr/>
        </p:nvSpPr>
        <p:spPr>
          <a:xfrm>
            <a:off x="6588000" y="98100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9"/>
          <p:cNvSpPr/>
          <p:nvPr/>
        </p:nvSpPr>
        <p:spPr>
          <a:xfrm>
            <a:off x="7308720" y="981000"/>
            <a:ext cx="6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0"/>
          <p:cNvSpPr/>
          <p:nvPr/>
        </p:nvSpPr>
        <p:spPr>
          <a:xfrm>
            <a:off x="6012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1"/>
          <p:cNvSpPr/>
          <p:nvPr/>
        </p:nvSpPr>
        <p:spPr>
          <a:xfrm>
            <a:off x="680400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2"/>
          <p:cNvSpPr/>
          <p:nvPr/>
        </p:nvSpPr>
        <p:spPr>
          <a:xfrm>
            <a:off x="7596360" y="1844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3"/>
          <p:cNvSpPr/>
          <p:nvPr/>
        </p:nvSpPr>
        <p:spPr>
          <a:xfrm>
            <a:off x="8317080" y="602136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4"/>
          <p:cNvSpPr/>
          <p:nvPr/>
        </p:nvSpPr>
        <p:spPr>
          <a:xfrm>
            <a:off x="8388360" y="544500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5"/>
          <p:cNvSpPr/>
          <p:nvPr/>
        </p:nvSpPr>
        <p:spPr>
          <a:xfrm>
            <a:off x="8388360" y="479736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6"/>
          <p:cNvSpPr/>
          <p:nvPr/>
        </p:nvSpPr>
        <p:spPr>
          <a:xfrm>
            <a:off x="8388360" y="4149720"/>
            <a:ext cx="5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87" descr="j516514_1246647804"/>
          <p:cNvPicPr/>
          <p:nvPr/>
        </p:nvPicPr>
        <p:blipFill>
          <a:blip r:embed="rId6"/>
          <a:stretch/>
        </p:blipFill>
        <p:spPr>
          <a:xfrm>
            <a:off x="533520" y="0"/>
            <a:ext cx="1857240" cy="2514600"/>
          </a:xfrm>
          <a:prstGeom prst="rect">
            <a:avLst/>
          </a:prstGeom>
          <a:ln w="0">
            <a:noFill/>
          </a:ln>
        </p:spPr>
      </p:pic>
      <p:sp>
        <p:nvSpPr>
          <p:cNvPr id="232" name="Овал 183"/>
          <p:cNvSpPr/>
          <p:nvPr/>
        </p:nvSpPr>
        <p:spPr>
          <a:xfrm>
            <a:off x="3124080" y="1371600"/>
            <a:ext cx="1143000" cy="1066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indefinite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indefinite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indefinite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indefinite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indefinite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1523880" y="1143000"/>
            <a:ext cx="304812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6" name="WordArt 3"/>
          <p:cNvSpPr txBox="1"/>
          <p:nvPr/>
        </p:nvSpPr>
        <p:spPr>
          <a:xfrm>
            <a:off x="5486400" y="2971800"/>
            <a:ext cx="20574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0" descr=""/>
          <p:cNvPicPr/>
          <p:nvPr/>
        </p:nvPicPr>
        <p:blipFill>
          <a:blip r:embed="rId2"/>
          <a:stretch/>
        </p:blipFill>
        <p:spPr>
          <a:xfrm>
            <a:off x="1384200" y="0"/>
            <a:ext cx="65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"/>
          <p:cNvGrpSpPr/>
          <p:nvPr/>
        </p:nvGrpSpPr>
        <p:grpSpPr>
          <a:xfrm>
            <a:off x="468360" y="2276280"/>
            <a:ext cx="503280" cy="576360"/>
            <a:chOff x="468360" y="2276280"/>
            <a:chExt cx="503280" cy="576360"/>
          </a:xfrm>
        </p:grpSpPr>
        <p:sp>
          <p:nvSpPr>
            <p:cNvPr id="279" name="Line 4"/>
            <p:cNvSpPr/>
            <p:nvPr/>
          </p:nvSpPr>
          <p:spPr>
            <a:xfrm>
              <a:off x="506160" y="2420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5"/>
            <p:cNvSpPr/>
            <p:nvPr/>
          </p:nvSpPr>
          <p:spPr>
            <a:xfrm rot="10800000">
              <a:off x="468360" y="227628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6"/>
            <p:cNvSpPr/>
            <p:nvPr/>
          </p:nvSpPr>
          <p:spPr>
            <a:xfrm>
              <a:off x="938160" y="2420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"/>
            <p:cNvSpPr/>
            <p:nvPr/>
          </p:nvSpPr>
          <p:spPr>
            <a:xfrm flipH="1">
              <a:off x="506160" y="285264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8"/>
            <p:cNvSpPr/>
            <p:nvPr/>
          </p:nvSpPr>
          <p:spPr>
            <a:xfrm flipH="1">
              <a:off x="506160" y="242064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 Box 9"/>
          <p:cNvSpPr/>
          <p:nvPr/>
        </p:nvSpPr>
        <p:spPr>
          <a:xfrm>
            <a:off x="5724360" y="1484280"/>
            <a:ext cx="34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самых зву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 rot="16200000">
            <a:off x="6942240" y="502092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ереул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епа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 rot="16200000">
            <a:off x="5797080" y="1700640"/>
            <a:ext cx="45468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звон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"/>
          <p:cNvSpPr/>
          <p:nvPr/>
        </p:nvSpPr>
        <p:spPr>
          <a:xfrm rot="5400000">
            <a:off x="5793120" y="3654720"/>
            <a:ext cx="45468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глух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13"/>
          <p:cNvSpPr txBox="1"/>
          <p:nvPr/>
        </p:nvSpPr>
        <p:spPr>
          <a:xfrm>
            <a:off x="6443640" y="260280"/>
            <a:ext cx="17146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й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гласных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9" name="WordArt 14"/>
          <p:cNvSpPr txBox="1"/>
          <p:nvPr/>
        </p:nvSpPr>
        <p:spPr>
          <a:xfrm>
            <a:off x="1042920" y="1557360"/>
            <a:ext cx="171468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йон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ласных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0" name="WordArt 15"/>
          <p:cNvSpPr txBox="1"/>
          <p:nvPr/>
        </p:nvSpPr>
        <p:spPr>
          <a:xfrm>
            <a:off x="2743200" y="333360"/>
            <a:ext cx="319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од Бук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0" y="544500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9640" y="2421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8"/>
          <p:cNvGrpSpPr/>
          <p:nvPr/>
        </p:nvGrpSpPr>
        <p:grpSpPr>
          <a:xfrm>
            <a:off x="5364000" y="2925720"/>
            <a:ext cx="503280" cy="576000"/>
            <a:chOff x="5364000" y="2925720"/>
            <a:chExt cx="503280" cy="576000"/>
          </a:xfrm>
        </p:grpSpPr>
        <p:sp>
          <p:nvSpPr>
            <p:cNvPr id="294" name="Line 19"/>
            <p:cNvSpPr/>
            <p:nvPr/>
          </p:nvSpPr>
          <p:spPr>
            <a:xfrm>
              <a:off x="5402160" y="307008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0"/>
            <p:cNvSpPr/>
            <p:nvPr/>
          </p:nvSpPr>
          <p:spPr>
            <a:xfrm rot="10800000">
              <a:off x="536400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>
              <a:off x="5834160" y="3070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2"/>
            <p:cNvSpPr/>
            <p:nvPr/>
          </p:nvSpPr>
          <p:spPr>
            <a:xfrm flipH="1">
              <a:off x="5402160" y="350172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3"/>
            <p:cNvSpPr/>
            <p:nvPr/>
          </p:nvSpPr>
          <p:spPr>
            <a:xfrm flipH="1">
              <a:off x="5402160" y="307008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24"/>
          <p:cNvGrpSpPr/>
          <p:nvPr/>
        </p:nvGrpSpPr>
        <p:grpSpPr>
          <a:xfrm>
            <a:off x="1116000" y="2276280"/>
            <a:ext cx="503280" cy="576360"/>
            <a:chOff x="1116000" y="2276280"/>
            <a:chExt cx="503280" cy="576360"/>
          </a:xfrm>
        </p:grpSpPr>
        <p:sp>
          <p:nvSpPr>
            <p:cNvPr id="300" name="Line 25"/>
            <p:cNvSpPr/>
            <p:nvPr/>
          </p:nvSpPr>
          <p:spPr>
            <a:xfrm>
              <a:off x="1153800" y="2420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 rot="10800000">
              <a:off x="1116000" y="227628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7"/>
            <p:cNvSpPr/>
            <p:nvPr/>
          </p:nvSpPr>
          <p:spPr>
            <a:xfrm>
              <a:off x="1585800" y="242064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28"/>
            <p:cNvSpPr/>
            <p:nvPr/>
          </p:nvSpPr>
          <p:spPr>
            <a:xfrm flipH="1">
              <a:off x="1153800" y="285264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29"/>
            <p:cNvSpPr/>
            <p:nvPr/>
          </p:nvSpPr>
          <p:spPr>
            <a:xfrm flipH="1">
              <a:off x="1153800" y="242064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30"/>
          <p:cNvGrpSpPr/>
          <p:nvPr/>
        </p:nvGrpSpPr>
        <p:grpSpPr>
          <a:xfrm>
            <a:off x="468360" y="2923920"/>
            <a:ext cx="503280" cy="576360"/>
            <a:chOff x="468360" y="2923920"/>
            <a:chExt cx="503280" cy="576360"/>
          </a:xfrm>
        </p:grpSpPr>
        <p:sp>
          <p:nvSpPr>
            <p:cNvPr id="306" name="Line 31"/>
            <p:cNvSpPr/>
            <p:nvPr/>
          </p:nvSpPr>
          <p:spPr>
            <a:xfrm>
              <a:off x="506160" y="306828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2"/>
            <p:cNvSpPr/>
            <p:nvPr/>
          </p:nvSpPr>
          <p:spPr>
            <a:xfrm rot="10800000">
              <a:off x="468360" y="292392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3"/>
            <p:cNvSpPr/>
            <p:nvPr/>
          </p:nvSpPr>
          <p:spPr>
            <a:xfrm>
              <a:off x="938160" y="306828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34"/>
            <p:cNvSpPr/>
            <p:nvPr/>
          </p:nvSpPr>
          <p:spPr>
            <a:xfrm flipH="1">
              <a:off x="506160" y="350028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35"/>
            <p:cNvSpPr/>
            <p:nvPr/>
          </p:nvSpPr>
          <p:spPr>
            <a:xfrm flipH="1">
              <a:off x="506160" y="306828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36"/>
          <p:cNvGrpSpPr/>
          <p:nvPr/>
        </p:nvGrpSpPr>
        <p:grpSpPr>
          <a:xfrm>
            <a:off x="1116000" y="2923920"/>
            <a:ext cx="503280" cy="576360"/>
            <a:chOff x="1116000" y="2923920"/>
            <a:chExt cx="503280" cy="576360"/>
          </a:xfrm>
        </p:grpSpPr>
        <p:sp>
          <p:nvSpPr>
            <p:cNvPr id="312" name="Line 37"/>
            <p:cNvSpPr/>
            <p:nvPr/>
          </p:nvSpPr>
          <p:spPr>
            <a:xfrm>
              <a:off x="1153800" y="306828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38"/>
            <p:cNvSpPr/>
            <p:nvPr/>
          </p:nvSpPr>
          <p:spPr>
            <a:xfrm rot="10800000">
              <a:off x="1116000" y="292392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39"/>
            <p:cNvSpPr/>
            <p:nvPr/>
          </p:nvSpPr>
          <p:spPr>
            <a:xfrm>
              <a:off x="1585800" y="306828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40"/>
            <p:cNvSpPr/>
            <p:nvPr/>
          </p:nvSpPr>
          <p:spPr>
            <a:xfrm flipH="1">
              <a:off x="1153800" y="350028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41"/>
            <p:cNvSpPr/>
            <p:nvPr/>
          </p:nvSpPr>
          <p:spPr>
            <a:xfrm flipH="1">
              <a:off x="1153800" y="306828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Group 42"/>
          <p:cNvGrpSpPr/>
          <p:nvPr/>
        </p:nvGrpSpPr>
        <p:grpSpPr>
          <a:xfrm>
            <a:off x="468360" y="3573360"/>
            <a:ext cx="503280" cy="576360"/>
            <a:chOff x="468360" y="3573360"/>
            <a:chExt cx="503280" cy="576360"/>
          </a:xfrm>
        </p:grpSpPr>
        <p:sp>
          <p:nvSpPr>
            <p:cNvPr id="318" name="Line 43"/>
            <p:cNvSpPr/>
            <p:nvPr/>
          </p:nvSpPr>
          <p:spPr>
            <a:xfrm>
              <a:off x="506160" y="371772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44"/>
            <p:cNvSpPr/>
            <p:nvPr/>
          </p:nvSpPr>
          <p:spPr>
            <a:xfrm rot="10800000">
              <a:off x="46836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938160" y="371772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 flipH="1">
              <a:off x="506160" y="414972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 flipH="1">
              <a:off x="506160" y="371772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Group 48"/>
          <p:cNvGrpSpPr/>
          <p:nvPr/>
        </p:nvGrpSpPr>
        <p:grpSpPr>
          <a:xfrm>
            <a:off x="1116000" y="3573360"/>
            <a:ext cx="503280" cy="576360"/>
            <a:chOff x="1116000" y="3573360"/>
            <a:chExt cx="503280" cy="576360"/>
          </a:xfrm>
        </p:grpSpPr>
        <p:sp>
          <p:nvSpPr>
            <p:cNvPr id="324" name="Line 49"/>
            <p:cNvSpPr/>
            <p:nvPr/>
          </p:nvSpPr>
          <p:spPr>
            <a:xfrm>
              <a:off x="1153800" y="371772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50"/>
            <p:cNvSpPr/>
            <p:nvPr/>
          </p:nvSpPr>
          <p:spPr>
            <a:xfrm rot="10800000">
              <a:off x="111600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51"/>
            <p:cNvSpPr/>
            <p:nvPr/>
          </p:nvSpPr>
          <p:spPr>
            <a:xfrm>
              <a:off x="1585800" y="371772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2"/>
            <p:cNvSpPr/>
            <p:nvPr/>
          </p:nvSpPr>
          <p:spPr>
            <a:xfrm flipH="1">
              <a:off x="1153800" y="414972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53"/>
            <p:cNvSpPr/>
            <p:nvPr/>
          </p:nvSpPr>
          <p:spPr>
            <a:xfrm flipH="1">
              <a:off x="1153800" y="371772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54"/>
          <p:cNvGrpSpPr/>
          <p:nvPr/>
        </p:nvGrpSpPr>
        <p:grpSpPr>
          <a:xfrm>
            <a:off x="468360" y="4221000"/>
            <a:ext cx="503280" cy="576360"/>
            <a:chOff x="468360" y="4221000"/>
            <a:chExt cx="503280" cy="576360"/>
          </a:xfrm>
        </p:grpSpPr>
        <p:sp>
          <p:nvSpPr>
            <p:cNvPr id="330" name="Line 55"/>
            <p:cNvSpPr/>
            <p:nvPr/>
          </p:nvSpPr>
          <p:spPr>
            <a:xfrm>
              <a:off x="506160" y="436536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56"/>
            <p:cNvSpPr/>
            <p:nvPr/>
          </p:nvSpPr>
          <p:spPr>
            <a:xfrm rot="10800000">
              <a:off x="468360" y="4221000"/>
              <a:ext cx="503280" cy="115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7"/>
            <p:cNvSpPr/>
            <p:nvPr/>
          </p:nvSpPr>
          <p:spPr>
            <a:xfrm>
              <a:off x="938160" y="436536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58"/>
            <p:cNvSpPr/>
            <p:nvPr/>
          </p:nvSpPr>
          <p:spPr>
            <a:xfrm flipH="1">
              <a:off x="506160" y="479736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59"/>
            <p:cNvSpPr/>
            <p:nvPr/>
          </p:nvSpPr>
          <p:spPr>
            <a:xfrm flipH="1">
              <a:off x="506160" y="436536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60"/>
          <p:cNvGrpSpPr/>
          <p:nvPr/>
        </p:nvGrpSpPr>
        <p:grpSpPr>
          <a:xfrm>
            <a:off x="1116000" y="4221000"/>
            <a:ext cx="503280" cy="576360"/>
            <a:chOff x="1116000" y="4221000"/>
            <a:chExt cx="503280" cy="576360"/>
          </a:xfrm>
        </p:grpSpPr>
        <p:sp>
          <p:nvSpPr>
            <p:cNvPr id="336" name="Line 61"/>
            <p:cNvSpPr/>
            <p:nvPr/>
          </p:nvSpPr>
          <p:spPr>
            <a:xfrm>
              <a:off x="1153800" y="436536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62"/>
            <p:cNvSpPr/>
            <p:nvPr/>
          </p:nvSpPr>
          <p:spPr>
            <a:xfrm rot="10800000">
              <a:off x="1116000" y="4221000"/>
              <a:ext cx="503280" cy="1159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63"/>
            <p:cNvSpPr/>
            <p:nvPr/>
          </p:nvSpPr>
          <p:spPr>
            <a:xfrm>
              <a:off x="1585800" y="4365360"/>
              <a:ext cx="0" cy="432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64"/>
            <p:cNvSpPr/>
            <p:nvPr/>
          </p:nvSpPr>
          <p:spPr>
            <a:xfrm flipH="1">
              <a:off x="1153800" y="479736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65"/>
            <p:cNvSpPr/>
            <p:nvPr/>
          </p:nvSpPr>
          <p:spPr>
            <a:xfrm flipH="1">
              <a:off x="1153800" y="436536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6"/>
          <p:cNvGrpSpPr/>
          <p:nvPr/>
        </p:nvGrpSpPr>
        <p:grpSpPr>
          <a:xfrm>
            <a:off x="468360" y="4868640"/>
            <a:ext cx="503280" cy="576360"/>
            <a:chOff x="468360" y="4868640"/>
            <a:chExt cx="503280" cy="576360"/>
          </a:xfrm>
        </p:grpSpPr>
        <p:sp>
          <p:nvSpPr>
            <p:cNvPr id="342" name="Line 67"/>
            <p:cNvSpPr/>
            <p:nvPr/>
          </p:nvSpPr>
          <p:spPr>
            <a:xfrm>
              <a:off x="506160" y="501300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68"/>
            <p:cNvSpPr/>
            <p:nvPr/>
          </p:nvSpPr>
          <p:spPr>
            <a:xfrm rot="10800000">
              <a:off x="468360" y="486864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9"/>
            <p:cNvSpPr/>
            <p:nvPr/>
          </p:nvSpPr>
          <p:spPr>
            <a:xfrm>
              <a:off x="938160" y="501300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0"/>
            <p:cNvSpPr/>
            <p:nvPr/>
          </p:nvSpPr>
          <p:spPr>
            <a:xfrm flipH="1">
              <a:off x="506160" y="5445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71"/>
            <p:cNvSpPr/>
            <p:nvPr/>
          </p:nvSpPr>
          <p:spPr>
            <a:xfrm flipH="1">
              <a:off x="506160" y="5013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72"/>
          <p:cNvGrpSpPr/>
          <p:nvPr/>
        </p:nvGrpSpPr>
        <p:grpSpPr>
          <a:xfrm>
            <a:off x="1116000" y="4868640"/>
            <a:ext cx="503280" cy="576360"/>
            <a:chOff x="1116000" y="4868640"/>
            <a:chExt cx="503280" cy="576360"/>
          </a:xfrm>
        </p:grpSpPr>
        <p:sp>
          <p:nvSpPr>
            <p:cNvPr id="348" name="Line 73"/>
            <p:cNvSpPr/>
            <p:nvPr/>
          </p:nvSpPr>
          <p:spPr>
            <a:xfrm>
              <a:off x="1153800" y="501300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74"/>
            <p:cNvSpPr/>
            <p:nvPr/>
          </p:nvSpPr>
          <p:spPr>
            <a:xfrm rot="10800000">
              <a:off x="1116000" y="4868640"/>
              <a:ext cx="503280" cy="1155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75"/>
            <p:cNvSpPr/>
            <p:nvPr/>
          </p:nvSpPr>
          <p:spPr>
            <a:xfrm>
              <a:off x="1585800" y="5013000"/>
              <a:ext cx="0" cy="43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76"/>
            <p:cNvSpPr/>
            <p:nvPr/>
          </p:nvSpPr>
          <p:spPr>
            <a:xfrm flipH="1">
              <a:off x="1153800" y="5445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 flipH="1">
              <a:off x="1153800" y="5013000"/>
              <a:ext cx="432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78"/>
          <p:cNvGrpSpPr/>
          <p:nvPr/>
        </p:nvGrpSpPr>
        <p:grpSpPr>
          <a:xfrm>
            <a:off x="1116000" y="6021360"/>
            <a:ext cx="503280" cy="576360"/>
            <a:chOff x="1116000" y="6021360"/>
            <a:chExt cx="503280" cy="576360"/>
          </a:xfrm>
        </p:grpSpPr>
        <p:sp>
          <p:nvSpPr>
            <p:cNvPr id="354" name="Line 79"/>
            <p:cNvSpPr/>
            <p:nvPr/>
          </p:nvSpPr>
          <p:spPr>
            <a:xfrm>
              <a:off x="1153800" y="616572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80"/>
            <p:cNvSpPr/>
            <p:nvPr/>
          </p:nvSpPr>
          <p:spPr>
            <a:xfrm rot="10800000">
              <a:off x="1116000" y="6021360"/>
              <a:ext cx="503280" cy="11592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81"/>
            <p:cNvSpPr/>
            <p:nvPr/>
          </p:nvSpPr>
          <p:spPr>
            <a:xfrm>
              <a:off x="1585800" y="616572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82"/>
            <p:cNvSpPr/>
            <p:nvPr/>
          </p:nvSpPr>
          <p:spPr>
            <a:xfrm flipH="1">
              <a:off x="1153800" y="6597720"/>
              <a:ext cx="432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83"/>
            <p:cNvSpPr/>
            <p:nvPr/>
          </p:nvSpPr>
          <p:spPr>
            <a:xfrm flipH="1">
              <a:off x="1153800" y="6165720"/>
              <a:ext cx="432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84"/>
          <p:cNvGrpSpPr/>
          <p:nvPr/>
        </p:nvGrpSpPr>
        <p:grpSpPr>
          <a:xfrm>
            <a:off x="468360" y="6021360"/>
            <a:ext cx="503280" cy="576360"/>
            <a:chOff x="468360" y="6021360"/>
            <a:chExt cx="503280" cy="576360"/>
          </a:xfrm>
        </p:grpSpPr>
        <p:sp>
          <p:nvSpPr>
            <p:cNvPr id="360" name="Line 85"/>
            <p:cNvSpPr/>
            <p:nvPr/>
          </p:nvSpPr>
          <p:spPr>
            <a:xfrm>
              <a:off x="506160" y="616572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86"/>
            <p:cNvSpPr/>
            <p:nvPr/>
          </p:nvSpPr>
          <p:spPr>
            <a:xfrm rot="10800000">
              <a:off x="468360" y="6021360"/>
              <a:ext cx="503280" cy="115920"/>
            </a:xfrm>
            <a:prstGeom prst="pie">
              <a:avLst/>
            </a:pr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7"/>
            <p:cNvSpPr/>
            <p:nvPr/>
          </p:nvSpPr>
          <p:spPr>
            <a:xfrm>
              <a:off x="938160" y="6165720"/>
              <a:ext cx="0" cy="4320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88"/>
            <p:cNvSpPr/>
            <p:nvPr/>
          </p:nvSpPr>
          <p:spPr>
            <a:xfrm flipH="1">
              <a:off x="506160" y="6597720"/>
              <a:ext cx="432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89"/>
            <p:cNvSpPr/>
            <p:nvPr/>
          </p:nvSpPr>
          <p:spPr>
            <a:xfrm flipH="1">
              <a:off x="506160" y="6165720"/>
              <a:ext cx="432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90"/>
          <p:cNvGrpSpPr/>
          <p:nvPr/>
        </p:nvGrpSpPr>
        <p:grpSpPr>
          <a:xfrm>
            <a:off x="5364000" y="3573360"/>
            <a:ext cx="503280" cy="576000"/>
            <a:chOff x="5364000" y="3573360"/>
            <a:chExt cx="503280" cy="576000"/>
          </a:xfrm>
        </p:grpSpPr>
        <p:sp>
          <p:nvSpPr>
            <p:cNvPr id="366" name="Line 91"/>
            <p:cNvSpPr/>
            <p:nvPr/>
          </p:nvSpPr>
          <p:spPr>
            <a:xfrm>
              <a:off x="5402160" y="3717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92"/>
            <p:cNvSpPr/>
            <p:nvPr/>
          </p:nvSpPr>
          <p:spPr>
            <a:xfrm rot="10800000">
              <a:off x="536400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93"/>
            <p:cNvSpPr/>
            <p:nvPr/>
          </p:nvSpPr>
          <p:spPr>
            <a:xfrm>
              <a:off x="5834160" y="3717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4"/>
            <p:cNvSpPr/>
            <p:nvPr/>
          </p:nvSpPr>
          <p:spPr>
            <a:xfrm flipH="1">
              <a:off x="5402160" y="4149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95"/>
            <p:cNvSpPr/>
            <p:nvPr/>
          </p:nvSpPr>
          <p:spPr>
            <a:xfrm flipH="1">
              <a:off x="5402160" y="3717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96"/>
          <p:cNvGrpSpPr/>
          <p:nvPr/>
        </p:nvGrpSpPr>
        <p:grpSpPr>
          <a:xfrm>
            <a:off x="6516720" y="1844640"/>
            <a:ext cx="503280" cy="576000"/>
            <a:chOff x="6516720" y="1844640"/>
            <a:chExt cx="503280" cy="576000"/>
          </a:xfrm>
        </p:grpSpPr>
        <p:sp>
          <p:nvSpPr>
            <p:cNvPr id="372" name="Line 97"/>
            <p:cNvSpPr/>
            <p:nvPr/>
          </p:nvSpPr>
          <p:spPr>
            <a:xfrm>
              <a:off x="6554880" y="198900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98"/>
            <p:cNvSpPr/>
            <p:nvPr/>
          </p:nvSpPr>
          <p:spPr>
            <a:xfrm rot="10800000">
              <a:off x="6516720" y="184464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99"/>
            <p:cNvSpPr/>
            <p:nvPr/>
          </p:nvSpPr>
          <p:spPr>
            <a:xfrm>
              <a:off x="6986880" y="198900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00"/>
            <p:cNvSpPr/>
            <p:nvPr/>
          </p:nvSpPr>
          <p:spPr>
            <a:xfrm flipH="1">
              <a:off x="6554880" y="242064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01"/>
            <p:cNvSpPr/>
            <p:nvPr/>
          </p:nvSpPr>
          <p:spPr>
            <a:xfrm flipH="1">
              <a:off x="6554880" y="198900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02"/>
          <p:cNvGrpSpPr/>
          <p:nvPr/>
        </p:nvGrpSpPr>
        <p:grpSpPr>
          <a:xfrm>
            <a:off x="7093080" y="1844640"/>
            <a:ext cx="503280" cy="576000"/>
            <a:chOff x="7093080" y="1844640"/>
            <a:chExt cx="503280" cy="576000"/>
          </a:xfrm>
        </p:grpSpPr>
        <p:sp>
          <p:nvSpPr>
            <p:cNvPr id="378" name="Line 103"/>
            <p:cNvSpPr/>
            <p:nvPr/>
          </p:nvSpPr>
          <p:spPr>
            <a:xfrm>
              <a:off x="7131240" y="198900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04"/>
            <p:cNvSpPr/>
            <p:nvPr/>
          </p:nvSpPr>
          <p:spPr>
            <a:xfrm rot="10800000">
              <a:off x="7093080" y="184464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05"/>
            <p:cNvSpPr/>
            <p:nvPr/>
          </p:nvSpPr>
          <p:spPr>
            <a:xfrm>
              <a:off x="7563240" y="198900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06"/>
            <p:cNvSpPr/>
            <p:nvPr/>
          </p:nvSpPr>
          <p:spPr>
            <a:xfrm flipH="1">
              <a:off x="7131240" y="242064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07"/>
            <p:cNvSpPr/>
            <p:nvPr/>
          </p:nvSpPr>
          <p:spPr>
            <a:xfrm flipH="1">
              <a:off x="7131240" y="198900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8"/>
          <p:cNvGrpSpPr/>
          <p:nvPr/>
        </p:nvGrpSpPr>
        <p:grpSpPr>
          <a:xfrm>
            <a:off x="6588000" y="981000"/>
            <a:ext cx="503280" cy="576000"/>
            <a:chOff x="6588000" y="981000"/>
            <a:chExt cx="503280" cy="576000"/>
          </a:xfrm>
        </p:grpSpPr>
        <p:sp>
          <p:nvSpPr>
            <p:cNvPr id="384" name="Line 109"/>
            <p:cNvSpPr/>
            <p:nvPr/>
          </p:nvSpPr>
          <p:spPr>
            <a:xfrm>
              <a:off x="6626160" y="112536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10"/>
            <p:cNvSpPr/>
            <p:nvPr/>
          </p:nvSpPr>
          <p:spPr>
            <a:xfrm rot="10800000">
              <a:off x="6588000" y="98100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11"/>
            <p:cNvSpPr/>
            <p:nvPr/>
          </p:nvSpPr>
          <p:spPr>
            <a:xfrm>
              <a:off x="7058160" y="112536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2"/>
            <p:cNvSpPr/>
            <p:nvPr/>
          </p:nvSpPr>
          <p:spPr>
            <a:xfrm flipH="1">
              <a:off x="6626160" y="155700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13"/>
            <p:cNvSpPr/>
            <p:nvPr/>
          </p:nvSpPr>
          <p:spPr>
            <a:xfrm flipH="1">
              <a:off x="6626160" y="112536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114"/>
          <p:cNvGrpSpPr/>
          <p:nvPr/>
        </p:nvGrpSpPr>
        <p:grpSpPr>
          <a:xfrm>
            <a:off x="7667640" y="1844640"/>
            <a:ext cx="503280" cy="576360"/>
            <a:chOff x="7667640" y="1844640"/>
            <a:chExt cx="503280" cy="576360"/>
          </a:xfrm>
        </p:grpSpPr>
        <p:sp>
          <p:nvSpPr>
            <p:cNvPr id="390" name="Line 115"/>
            <p:cNvSpPr/>
            <p:nvPr/>
          </p:nvSpPr>
          <p:spPr>
            <a:xfrm>
              <a:off x="7705800" y="1989000"/>
              <a:ext cx="0" cy="432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16"/>
            <p:cNvSpPr/>
            <p:nvPr/>
          </p:nvSpPr>
          <p:spPr>
            <a:xfrm rot="10800000">
              <a:off x="7667640" y="184464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17"/>
            <p:cNvSpPr/>
            <p:nvPr/>
          </p:nvSpPr>
          <p:spPr>
            <a:xfrm>
              <a:off x="8137440" y="1989000"/>
              <a:ext cx="0" cy="432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18"/>
            <p:cNvSpPr/>
            <p:nvPr/>
          </p:nvSpPr>
          <p:spPr>
            <a:xfrm flipH="1">
              <a:off x="7705440" y="242100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19"/>
            <p:cNvSpPr/>
            <p:nvPr/>
          </p:nvSpPr>
          <p:spPr>
            <a:xfrm flipH="1">
              <a:off x="7705440" y="198900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20"/>
          <p:cNvGrpSpPr/>
          <p:nvPr/>
        </p:nvGrpSpPr>
        <p:grpSpPr>
          <a:xfrm>
            <a:off x="7235640" y="981000"/>
            <a:ext cx="502920" cy="576000"/>
            <a:chOff x="7235640" y="981000"/>
            <a:chExt cx="502920" cy="576000"/>
          </a:xfrm>
        </p:grpSpPr>
        <p:sp>
          <p:nvSpPr>
            <p:cNvPr id="396" name="Line 121"/>
            <p:cNvSpPr/>
            <p:nvPr/>
          </p:nvSpPr>
          <p:spPr>
            <a:xfrm>
              <a:off x="7273800" y="112536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AutoShape 122"/>
            <p:cNvSpPr/>
            <p:nvPr/>
          </p:nvSpPr>
          <p:spPr>
            <a:xfrm rot="10800000">
              <a:off x="7235640" y="981000"/>
              <a:ext cx="50292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23"/>
            <p:cNvSpPr/>
            <p:nvPr/>
          </p:nvSpPr>
          <p:spPr>
            <a:xfrm>
              <a:off x="7705800" y="112536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24"/>
            <p:cNvSpPr/>
            <p:nvPr/>
          </p:nvSpPr>
          <p:spPr>
            <a:xfrm flipH="1">
              <a:off x="7273440" y="155700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25"/>
            <p:cNvSpPr/>
            <p:nvPr/>
          </p:nvSpPr>
          <p:spPr>
            <a:xfrm flipH="1">
              <a:off x="7273440" y="112536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126"/>
          <p:cNvGrpSpPr/>
          <p:nvPr/>
        </p:nvGrpSpPr>
        <p:grpSpPr>
          <a:xfrm>
            <a:off x="8172360" y="5300640"/>
            <a:ext cx="503280" cy="576360"/>
            <a:chOff x="8172360" y="5300640"/>
            <a:chExt cx="503280" cy="576360"/>
          </a:xfrm>
        </p:grpSpPr>
        <p:sp>
          <p:nvSpPr>
            <p:cNvPr id="402" name="Line 127"/>
            <p:cNvSpPr/>
            <p:nvPr/>
          </p:nvSpPr>
          <p:spPr>
            <a:xfrm>
              <a:off x="8210520" y="5445000"/>
              <a:ext cx="0" cy="432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128"/>
            <p:cNvSpPr/>
            <p:nvPr/>
          </p:nvSpPr>
          <p:spPr>
            <a:xfrm rot="10800000">
              <a:off x="8172360" y="530064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29"/>
            <p:cNvSpPr/>
            <p:nvPr/>
          </p:nvSpPr>
          <p:spPr>
            <a:xfrm>
              <a:off x="8642160" y="5445000"/>
              <a:ext cx="0" cy="43200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0"/>
            <p:cNvSpPr/>
            <p:nvPr/>
          </p:nvSpPr>
          <p:spPr>
            <a:xfrm flipH="1">
              <a:off x="8210160" y="587700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31"/>
            <p:cNvSpPr/>
            <p:nvPr/>
          </p:nvSpPr>
          <p:spPr>
            <a:xfrm flipH="1">
              <a:off x="8210160" y="544500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132"/>
          <p:cNvGrpSpPr/>
          <p:nvPr/>
        </p:nvGrpSpPr>
        <p:grpSpPr>
          <a:xfrm>
            <a:off x="8172360" y="5949720"/>
            <a:ext cx="503280" cy="576360"/>
            <a:chOff x="8172360" y="5949720"/>
            <a:chExt cx="503280" cy="576360"/>
          </a:xfrm>
        </p:grpSpPr>
        <p:sp>
          <p:nvSpPr>
            <p:cNvPr id="408" name="Line 133"/>
            <p:cNvSpPr/>
            <p:nvPr/>
          </p:nvSpPr>
          <p:spPr>
            <a:xfrm>
              <a:off x="8210520" y="6094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134"/>
            <p:cNvSpPr/>
            <p:nvPr/>
          </p:nvSpPr>
          <p:spPr>
            <a:xfrm rot="10800000">
              <a:off x="8172360" y="5949720"/>
              <a:ext cx="503280" cy="11556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35"/>
            <p:cNvSpPr/>
            <p:nvPr/>
          </p:nvSpPr>
          <p:spPr>
            <a:xfrm>
              <a:off x="8642160" y="6094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36"/>
            <p:cNvSpPr/>
            <p:nvPr/>
          </p:nvSpPr>
          <p:spPr>
            <a:xfrm flipH="1">
              <a:off x="8210160" y="652608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37"/>
            <p:cNvSpPr/>
            <p:nvPr/>
          </p:nvSpPr>
          <p:spPr>
            <a:xfrm flipH="1">
              <a:off x="8210160" y="6094080"/>
              <a:ext cx="43164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8"/>
          <p:cNvGrpSpPr/>
          <p:nvPr/>
        </p:nvGrpSpPr>
        <p:grpSpPr>
          <a:xfrm>
            <a:off x="6013440" y="3573360"/>
            <a:ext cx="503280" cy="576000"/>
            <a:chOff x="6013440" y="3573360"/>
            <a:chExt cx="503280" cy="576000"/>
          </a:xfrm>
        </p:grpSpPr>
        <p:sp>
          <p:nvSpPr>
            <p:cNvPr id="414" name="Line 139"/>
            <p:cNvSpPr/>
            <p:nvPr/>
          </p:nvSpPr>
          <p:spPr>
            <a:xfrm>
              <a:off x="6051600" y="3717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140"/>
            <p:cNvSpPr/>
            <p:nvPr/>
          </p:nvSpPr>
          <p:spPr>
            <a:xfrm rot="10800000">
              <a:off x="601344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41"/>
            <p:cNvSpPr/>
            <p:nvPr/>
          </p:nvSpPr>
          <p:spPr>
            <a:xfrm>
              <a:off x="6483600" y="3717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42"/>
            <p:cNvSpPr/>
            <p:nvPr/>
          </p:nvSpPr>
          <p:spPr>
            <a:xfrm flipH="1">
              <a:off x="6051600" y="4149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43"/>
            <p:cNvSpPr/>
            <p:nvPr/>
          </p:nvSpPr>
          <p:spPr>
            <a:xfrm flipH="1">
              <a:off x="6051600" y="3717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44"/>
          <p:cNvGrpSpPr/>
          <p:nvPr/>
        </p:nvGrpSpPr>
        <p:grpSpPr>
          <a:xfrm>
            <a:off x="8172360" y="4653000"/>
            <a:ext cx="503280" cy="576360"/>
            <a:chOff x="8172360" y="4653000"/>
            <a:chExt cx="503280" cy="576360"/>
          </a:xfrm>
        </p:grpSpPr>
        <p:sp>
          <p:nvSpPr>
            <p:cNvPr id="420" name="Line 145"/>
            <p:cNvSpPr/>
            <p:nvPr/>
          </p:nvSpPr>
          <p:spPr>
            <a:xfrm>
              <a:off x="8210520" y="479736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AutoShape 146"/>
            <p:cNvSpPr/>
            <p:nvPr/>
          </p:nvSpPr>
          <p:spPr>
            <a:xfrm rot="10800000">
              <a:off x="8172360" y="465300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47"/>
            <p:cNvSpPr/>
            <p:nvPr/>
          </p:nvSpPr>
          <p:spPr>
            <a:xfrm>
              <a:off x="8642160" y="479736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48"/>
            <p:cNvSpPr/>
            <p:nvPr/>
          </p:nvSpPr>
          <p:spPr>
            <a:xfrm flipH="1">
              <a:off x="8210160" y="522936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49"/>
            <p:cNvSpPr/>
            <p:nvPr/>
          </p:nvSpPr>
          <p:spPr>
            <a:xfrm flipH="1">
              <a:off x="8210160" y="479736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50"/>
          <p:cNvGrpSpPr/>
          <p:nvPr/>
        </p:nvGrpSpPr>
        <p:grpSpPr>
          <a:xfrm>
            <a:off x="6661080" y="2925720"/>
            <a:ext cx="503280" cy="576360"/>
            <a:chOff x="6661080" y="2925720"/>
            <a:chExt cx="503280" cy="576360"/>
          </a:xfrm>
        </p:grpSpPr>
        <p:sp>
          <p:nvSpPr>
            <p:cNvPr id="426" name="Line 151"/>
            <p:cNvSpPr/>
            <p:nvPr/>
          </p:nvSpPr>
          <p:spPr>
            <a:xfrm>
              <a:off x="6699240" y="307008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152"/>
            <p:cNvSpPr/>
            <p:nvPr/>
          </p:nvSpPr>
          <p:spPr>
            <a:xfrm rot="10800000">
              <a:off x="666108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53"/>
            <p:cNvSpPr/>
            <p:nvPr/>
          </p:nvSpPr>
          <p:spPr>
            <a:xfrm>
              <a:off x="7130880" y="307008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154"/>
            <p:cNvSpPr/>
            <p:nvPr/>
          </p:nvSpPr>
          <p:spPr>
            <a:xfrm flipH="1">
              <a:off x="6698880" y="350208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55"/>
            <p:cNvSpPr/>
            <p:nvPr/>
          </p:nvSpPr>
          <p:spPr>
            <a:xfrm flipH="1">
              <a:off x="6698880" y="307008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56"/>
          <p:cNvGrpSpPr/>
          <p:nvPr/>
        </p:nvGrpSpPr>
        <p:grpSpPr>
          <a:xfrm>
            <a:off x="6661080" y="3573360"/>
            <a:ext cx="503280" cy="576360"/>
            <a:chOff x="6661080" y="3573360"/>
            <a:chExt cx="503280" cy="576360"/>
          </a:xfrm>
        </p:grpSpPr>
        <p:sp>
          <p:nvSpPr>
            <p:cNvPr id="432" name="Line 157"/>
            <p:cNvSpPr/>
            <p:nvPr/>
          </p:nvSpPr>
          <p:spPr>
            <a:xfrm>
              <a:off x="6699240" y="371772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158"/>
            <p:cNvSpPr/>
            <p:nvPr/>
          </p:nvSpPr>
          <p:spPr>
            <a:xfrm rot="10800000">
              <a:off x="666108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59"/>
            <p:cNvSpPr/>
            <p:nvPr/>
          </p:nvSpPr>
          <p:spPr>
            <a:xfrm>
              <a:off x="7130880" y="3717720"/>
              <a:ext cx="0" cy="43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60"/>
            <p:cNvSpPr/>
            <p:nvPr/>
          </p:nvSpPr>
          <p:spPr>
            <a:xfrm flipH="1">
              <a:off x="6698880" y="414972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61"/>
            <p:cNvSpPr/>
            <p:nvPr/>
          </p:nvSpPr>
          <p:spPr>
            <a:xfrm flipH="1">
              <a:off x="6698880" y="3717720"/>
              <a:ext cx="43164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Group 162"/>
          <p:cNvGrpSpPr/>
          <p:nvPr/>
        </p:nvGrpSpPr>
        <p:grpSpPr>
          <a:xfrm>
            <a:off x="4716360" y="2925720"/>
            <a:ext cx="503280" cy="576000"/>
            <a:chOff x="4716360" y="2925720"/>
            <a:chExt cx="503280" cy="576000"/>
          </a:xfrm>
        </p:grpSpPr>
        <p:sp>
          <p:nvSpPr>
            <p:cNvPr id="438" name="Line 163"/>
            <p:cNvSpPr/>
            <p:nvPr/>
          </p:nvSpPr>
          <p:spPr>
            <a:xfrm>
              <a:off x="4754520" y="307008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64"/>
            <p:cNvSpPr/>
            <p:nvPr/>
          </p:nvSpPr>
          <p:spPr>
            <a:xfrm rot="10800000">
              <a:off x="471636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165"/>
            <p:cNvSpPr/>
            <p:nvPr/>
          </p:nvSpPr>
          <p:spPr>
            <a:xfrm>
              <a:off x="5186520" y="3070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166"/>
            <p:cNvSpPr/>
            <p:nvPr/>
          </p:nvSpPr>
          <p:spPr>
            <a:xfrm flipH="1">
              <a:off x="4754520" y="350172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167"/>
            <p:cNvSpPr/>
            <p:nvPr/>
          </p:nvSpPr>
          <p:spPr>
            <a:xfrm flipH="1">
              <a:off x="4754520" y="307008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68"/>
          <p:cNvGrpSpPr/>
          <p:nvPr/>
        </p:nvGrpSpPr>
        <p:grpSpPr>
          <a:xfrm>
            <a:off x="7308720" y="2925720"/>
            <a:ext cx="503280" cy="576000"/>
            <a:chOff x="7308720" y="2925720"/>
            <a:chExt cx="503280" cy="576000"/>
          </a:xfrm>
        </p:grpSpPr>
        <p:sp>
          <p:nvSpPr>
            <p:cNvPr id="444" name="Line 169"/>
            <p:cNvSpPr/>
            <p:nvPr/>
          </p:nvSpPr>
          <p:spPr>
            <a:xfrm>
              <a:off x="7346880" y="307008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170"/>
            <p:cNvSpPr/>
            <p:nvPr/>
          </p:nvSpPr>
          <p:spPr>
            <a:xfrm rot="10800000">
              <a:off x="730872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71"/>
            <p:cNvSpPr/>
            <p:nvPr/>
          </p:nvSpPr>
          <p:spPr>
            <a:xfrm>
              <a:off x="7778880" y="3070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72"/>
            <p:cNvSpPr/>
            <p:nvPr/>
          </p:nvSpPr>
          <p:spPr>
            <a:xfrm flipH="1">
              <a:off x="7346880" y="350172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73"/>
            <p:cNvSpPr/>
            <p:nvPr/>
          </p:nvSpPr>
          <p:spPr>
            <a:xfrm flipH="1">
              <a:off x="7346880" y="307008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Group 174"/>
          <p:cNvGrpSpPr/>
          <p:nvPr/>
        </p:nvGrpSpPr>
        <p:grpSpPr>
          <a:xfrm>
            <a:off x="4068720" y="3573360"/>
            <a:ext cx="503280" cy="576000"/>
            <a:chOff x="4068720" y="3573360"/>
            <a:chExt cx="503280" cy="576000"/>
          </a:xfrm>
        </p:grpSpPr>
        <p:sp>
          <p:nvSpPr>
            <p:cNvPr id="450" name="Line 175"/>
            <p:cNvSpPr/>
            <p:nvPr/>
          </p:nvSpPr>
          <p:spPr>
            <a:xfrm>
              <a:off x="4106880" y="3717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76"/>
            <p:cNvSpPr/>
            <p:nvPr/>
          </p:nvSpPr>
          <p:spPr>
            <a:xfrm rot="10800000">
              <a:off x="406872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177"/>
            <p:cNvSpPr/>
            <p:nvPr/>
          </p:nvSpPr>
          <p:spPr>
            <a:xfrm>
              <a:off x="4538880" y="3717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178"/>
            <p:cNvSpPr/>
            <p:nvPr/>
          </p:nvSpPr>
          <p:spPr>
            <a:xfrm flipH="1">
              <a:off x="4106880" y="4149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179"/>
            <p:cNvSpPr/>
            <p:nvPr/>
          </p:nvSpPr>
          <p:spPr>
            <a:xfrm flipH="1">
              <a:off x="4106880" y="3717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80"/>
          <p:cNvGrpSpPr/>
          <p:nvPr/>
        </p:nvGrpSpPr>
        <p:grpSpPr>
          <a:xfrm>
            <a:off x="4068720" y="2925720"/>
            <a:ext cx="503280" cy="576000"/>
            <a:chOff x="4068720" y="2925720"/>
            <a:chExt cx="503280" cy="576000"/>
          </a:xfrm>
        </p:grpSpPr>
        <p:sp>
          <p:nvSpPr>
            <p:cNvPr id="456" name="Line 181"/>
            <p:cNvSpPr/>
            <p:nvPr/>
          </p:nvSpPr>
          <p:spPr>
            <a:xfrm>
              <a:off x="4106880" y="307008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182"/>
            <p:cNvSpPr/>
            <p:nvPr/>
          </p:nvSpPr>
          <p:spPr>
            <a:xfrm rot="10800000">
              <a:off x="406872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183"/>
            <p:cNvSpPr/>
            <p:nvPr/>
          </p:nvSpPr>
          <p:spPr>
            <a:xfrm>
              <a:off x="4538880" y="3070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84"/>
            <p:cNvSpPr/>
            <p:nvPr/>
          </p:nvSpPr>
          <p:spPr>
            <a:xfrm flipH="1">
              <a:off x="4106880" y="350172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85"/>
            <p:cNvSpPr/>
            <p:nvPr/>
          </p:nvSpPr>
          <p:spPr>
            <a:xfrm flipH="1">
              <a:off x="4106880" y="307008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186"/>
          <p:cNvGrpSpPr/>
          <p:nvPr/>
        </p:nvGrpSpPr>
        <p:grpSpPr>
          <a:xfrm>
            <a:off x="6013440" y="2925720"/>
            <a:ext cx="503280" cy="576000"/>
            <a:chOff x="6013440" y="2925720"/>
            <a:chExt cx="503280" cy="576000"/>
          </a:xfrm>
        </p:grpSpPr>
        <p:sp>
          <p:nvSpPr>
            <p:cNvPr id="462" name="Line 187"/>
            <p:cNvSpPr/>
            <p:nvPr/>
          </p:nvSpPr>
          <p:spPr>
            <a:xfrm>
              <a:off x="6051600" y="307008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188"/>
            <p:cNvSpPr/>
            <p:nvPr/>
          </p:nvSpPr>
          <p:spPr>
            <a:xfrm rot="10800000">
              <a:off x="6013440" y="292572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89"/>
            <p:cNvSpPr/>
            <p:nvPr/>
          </p:nvSpPr>
          <p:spPr>
            <a:xfrm>
              <a:off x="6483600" y="307008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90"/>
            <p:cNvSpPr/>
            <p:nvPr/>
          </p:nvSpPr>
          <p:spPr>
            <a:xfrm flipH="1">
              <a:off x="6051600" y="350172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91"/>
            <p:cNvSpPr/>
            <p:nvPr/>
          </p:nvSpPr>
          <p:spPr>
            <a:xfrm flipH="1">
              <a:off x="6051600" y="307008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92"/>
          <p:cNvGrpSpPr/>
          <p:nvPr/>
        </p:nvGrpSpPr>
        <p:grpSpPr>
          <a:xfrm>
            <a:off x="8172360" y="4005360"/>
            <a:ext cx="503280" cy="576000"/>
            <a:chOff x="8172360" y="4005360"/>
            <a:chExt cx="503280" cy="576000"/>
          </a:xfrm>
        </p:grpSpPr>
        <p:sp>
          <p:nvSpPr>
            <p:cNvPr id="468" name="Line 193"/>
            <p:cNvSpPr/>
            <p:nvPr/>
          </p:nvSpPr>
          <p:spPr>
            <a:xfrm>
              <a:off x="8210520" y="4149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94"/>
            <p:cNvSpPr/>
            <p:nvPr/>
          </p:nvSpPr>
          <p:spPr>
            <a:xfrm rot="10800000">
              <a:off x="8172360" y="4005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95"/>
            <p:cNvSpPr/>
            <p:nvPr/>
          </p:nvSpPr>
          <p:spPr>
            <a:xfrm>
              <a:off x="8642520" y="4149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96"/>
            <p:cNvSpPr/>
            <p:nvPr/>
          </p:nvSpPr>
          <p:spPr>
            <a:xfrm flipH="1">
              <a:off x="8210520" y="4581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7"/>
            <p:cNvSpPr/>
            <p:nvPr/>
          </p:nvSpPr>
          <p:spPr>
            <a:xfrm flipH="1">
              <a:off x="8210520" y="4149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98"/>
          <p:cNvGrpSpPr/>
          <p:nvPr/>
        </p:nvGrpSpPr>
        <p:grpSpPr>
          <a:xfrm>
            <a:off x="7308720" y="3573360"/>
            <a:ext cx="503280" cy="576000"/>
            <a:chOff x="7308720" y="3573360"/>
            <a:chExt cx="503280" cy="576000"/>
          </a:xfrm>
        </p:grpSpPr>
        <p:sp>
          <p:nvSpPr>
            <p:cNvPr id="474" name="Line 199"/>
            <p:cNvSpPr/>
            <p:nvPr/>
          </p:nvSpPr>
          <p:spPr>
            <a:xfrm>
              <a:off x="7346880" y="3717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200"/>
            <p:cNvSpPr/>
            <p:nvPr/>
          </p:nvSpPr>
          <p:spPr>
            <a:xfrm rot="10800000">
              <a:off x="730872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01"/>
            <p:cNvSpPr/>
            <p:nvPr/>
          </p:nvSpPr>
          <p:spPr>
            <a:xfrm>
              <a:off x="7778880" y="3717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02"/>
            <p:cNvSpPr/>
            <p:nvPr/>
          </p:nvSpPr>
          <p:spPr>
            <a:xfrm flipH="1">
              <a:off x="7346880" y="4149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03"/>
            <p:cNvSpPr/>
            <p:nvPr/>
          </p:nvSpPr>
          <p:spPr>
            <a:xfrm flipH="1">
              <a:off x="7346880" y="3717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204"/>
          <p:cNvGrpSpPr/>
          <p:nvPr/>
        </p:nvGrpSpPr>
        <p:grpSpPr>
          <a:xfrm>
            <a:off x="4716360" y="3573360"/>
            <a:ext cx="503280" cy="576000"/>
            <a:chOff x="4716360" y="3573360"/>
            <a:chExt cx="503280" cy="576000"/>
          </a:xfrm>
        </p:grpSpPr>
        <p:sp>
          <p:nvSpPr>
            <p:cNvPr id="480" name="Line 205"/>
            <p:cNvSpPr/>
            <p:nvPr/>
          </p:nvSpPr>
          <p:spPr>
            <a:xfrm>
              <a:off x="4754520" y="3717720"/>
              <a:ext cx="0" cy="431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AutoShape 206"/>
            <p:cNvSpPr/>
            <p:nvPr/>
          </p:nvSpPr>
          <p:spPr>
            <a:xfrm rot="10800000">
              <a:off x="4716360" y="3573360"/>
              <a:ext cx="503280" cy="115920"/>
            </a:xfrm>
            <a:prstGeom prst="pie">
              <a:avLst/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07"/>
            <p:cNvSpPr/>
            <p:nvPr/>
          </p:nvSpPr>
          <p:spPr>
            <a:xfrm>
              <a:off x="5186520" y="3717720"/>
              <a:ext cx="0" cy="4316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08"/>
            <p:cNvSpPr/>
            <p:nvPr/>
          </p:nvSpPr>
          <p:spPr>
            <a:xfrm flipH="1">
              <a:off x="4754520" y="4149360"/>
              <a:ext cx="432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09"/>
            <p:cNvSpPr/>
            <p:nvPr/>
          </p:nvSpPr>
          <p:spPr>
            <a:xfrm flipH="1">
              <a:off x="4754520" y="3717720"/>
              <a:ext cx="43200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 Box 210"/>
          <p:cNvSpPr/>
          <p:nvPr/>
        </p:nvSpPr>
        <p:spPr>
          <a:xfrm rot="5400000">
            <a:off x="740880" y="4637520"/>
            <a:ext cx="729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упик беззвуч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1"/>
          <p:cNvSpPr/>
          <p:nvPr/>
        </p:nvSpPr>
        <p:spPr>
          <a:xfrm rot="16200000">
            <a:off x="-1218240" y="35715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тверды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12"/>
          <p:cNvSpPr/>
          <p:nvPr/>
        </p:nvSpPr>
        <p:spPr>
          <a:xfrm rot="16200000">
            <a:off x="576720" y="368424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лица мягких коман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244">
            <a:hlinkClick r:id="rId1" action="ppaction://hlinksldjump"/>
          </p:cNvPr>
          <p:cNvSpPr/>
          <p:nvPr/>
        </p:nvSpPr>
        <p:spPr>
          <a:xfrm>
            <a:off x="4211640" y="6093000"/>
            <a:ext cx="720720" cy="76500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65000"/>
              <a:gd name="textAreaBottom" fmla="*/ 718560 h 765000"/>
            </a:gdLst>
            <a:ahLst/>
            <a:rect l="textAreaLeft" t="textAreaTop" r="textAreaRight" b="textAreaBottom"/>
            <a:pathLst>
              <a:path w="21600" h="22926">
                <a:moveTo>
                  <a:pt x="0" y="0"/>
                </a:moveTo>
                <a:lnTo>
                  <a:pt x="21600" y="0"/>
                </a:lnTo>
                <a:lnTo>
                  <a:pt x="21600" y="22926"/>
                </a:lnTo>
                <a:lnTo>
                  <a:pt x="0" y="22926"/>
                </a:lnTo>
                <a:close/>
              </a:path>
              <a:path fill="lightenLess" w="21600" h="229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26">
                <a:moveTo>
                  <a:pt x="21600" y="0"/>
                </a:moveTo>
                <a:lnTo>
                  <a:pt x="21600" y="22926"/>
                </a:lnTo>
                <a:lnTo>
                  <a:pt x="20200" y="21526"/>
                </a:lnTo>
                <a:lnTo>
                  <a:pt x="20200" y="1400"/>
                </a:lnTo>
                <a:close/>
              </a:path>
              <a:path fill="darkenLess" w="21600" h="22926">
                <a:moveTo>
                  <a:pt x="21600" y="22926"/>
                </a:moveTo>
                <a:lnTo>
                  <a:pt x="0" y="22926"/>
                </a:lnTo>
                <a:lnTo>
                  <a:pt x="1400" y="21526"/>
                </a:lnTo>
                <a:lnTo>
                  <a:pt x="20200" y="21526"/>
                </a:lnTo>
                <a:close/>
              </a:path>
              <a:path fill="lighten" w="21600" h="22926">
                <a:moveTo>
                  <a:pt x="0" y="229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26"/>
                </a:lnTo>
                <a:close/>
              </a:path>
              <a:path fill="darken" w="21600" h="22926">
                <a:moveTo>
                  <a:pt x="10800" y="4500"/>
                </a:moveTo>
                <a:lnTo>
                  <a:pt x="13376" y="7111"/>
                </a:ln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lnTo>
                  <a:pt x="17763" y="11463"/>
                </a:lnTo>
                <a:lnTo>
                  <a:pt x="16109" y="11463"/>
                </a:lnTo>
                <a:lnTo>
                  <a:pt x="16109" y="18652"/>
                </a:lnTo>
                <a:lnTo>
                  <a:pt x="5491" y="18652"/>
                </a:lnTo>
                <a:lnTo>
                  <a:pt x="5491" y="11463"/>
                </a:lnTo>
                <a:lnTo>
                  <a:pt x="3837" y="11463"/>
                </a:lnTo>
                <a:close/>
              </a:path>
              <a:path fill="darkenLess" w="21600" h="22926">
                <a:moveTo>
                  <a:pt x="13376" y="7111"/>
                </a:moveTo>
                <a:lnTo>
                  <a:pt x="13376" y="5371"/>
                </a:lnTo>
                <a:lnTo>
                  <a:pt x="15152" y="5371"/>
                </a:lnTo>
                <a:lnTo>
                  <a:pt x="15152" y="8887"/>
                </a:lnTo>
                <a:close/>
              </a:path>
              <a:path fill="darkenLess" w="21600" h="22926">
                <a:moveTo>
                  <a:pt x="9877" y="14962"/>
                </a:moveTo>
                <a:lnTo>
                  <a:pt x="11723" y="14962"/>
                </a:lnTo>
                <a:lnTo>
                  <a:pt x="11723" y="18652"/>
                </a:lnTo>
                <a:lnTo>
                  <a:pt x="16109" y="18652"/>
                </a:lnTo>
                <a:lnTo>
                  <a:pt x="16109" y="11463"/>
                </a:lnTo>
                <a:lnTo>
                  <a:pt x="5491" y="11463"/>
                </a:lnTo>
                <a:lnTo>
                  <a:pt x="5491" y="18652"/>
                </a:lnTo>
                <a:lnTo>
                  <a:pt x="9877" y="18652"/>
                </a:lnTo>
                <a:close/>
              </a:path>
            </a:pathLst>
          </a:custGeom>
          <a:solidFill>
            <a:srgbClr val="008080">
              <a:alpha val="7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45" descr="Рисунок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08240" y="3141720"/>
            <a:ext cx="1434960" cy="187164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249"/>
          <p:cNvSpPr/>
          <p:nvPr/>
        </p:nvSpPr>
        <p:spPr>
          <a:xfrm>
            <a:off x="468360" y="2205000"/>
            <a:ext cx="50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65"/>
          <p:cNvSpPr/>
          <p:nvPr/>
        </p:nvSpPr>
        <p:spPr>
          <a:xfrm>
            <a:off x="4716360" y="2924280"/>
            <a:ext cx="503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66"/>
          <p:cNvSpPr/>
          <p:nvPr/>
        </p:nvSpPr>
        <p:spPr>
          <a:xfrm>
            <a:off x="5791320" y="2895480"/>
            <a:ext cx="50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82" descr="domik115"/>
          <p:cNvPicPr/>
          <p:nvPr/>
        </p:nvPicPr>
        <p:blipFill>
          <a:blip r:embed="rId4"/>
          <a:stretch/>
        </p:blipFill>
        <p:spPr>
          <a:xfrm>
            <a:off x="1979640" y="5407200"/>
            <a:ext cx="6100560" cy="14508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83" descr="domik79"/>
          <p:cNvPicPr/>
          <p:nvPr/>
        </p:nvPicPr>
        <p:blipFill>
          <a:blip r:embed="rId5"/>
          <a:stretch/>
        </p:blipFill>
        <p:spPr>
          <a:xfrm>
            <a:off x="0" y="0"/>
            <a:ext cx="143208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F:\подготовка\1015 015.jpg"/>
          <p:cNvPicPr/>
          <p:nvPr/>
        </p:nvPicPr>
        <p:blipFill>
          <a:blip r:embed="rId1"/>
          <a:stretch/>
        </p:blipFill>
        <p:spPr>
          <a:xfrm>
            <a:off x="1066680" y="762120"/>
            <a:ext cx="7620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Группа 5"/>
          <p:cNvGrpSpPr/>
          <p:nvPr/>
        </p:nvGrpSpPr>
        <p:grpSpPr>
          <a:xfrm>
            <a:off x="4343400" y="2590920"/>
            <a:ext cx="2895480" cy="4267080"/>
            <a:chOff x="4343400" y="2590920"/>
            <a:chExt cx="2895480" cy="4267080"/>
          </a:xfrm>
        </p:grpSpPr>
        <p:pic>
          <p:nvPicPr>
            <p:cNvPr id="497" name="Рисунок 2" descr="3f4f05876e5d.jpg"/>
            <p:cNvPicPr/>
            <p:nvPr/>
          </p:nvPicPr>
          <p:blipFill>
            <a:blip r:embed="rId1"/>
            <a:srcRect l="0" t="29103" r="49334" b="8003"/>
            <a:stretch/>
          </p:blipFill>
          <p:spPr>
            <a:xfrm>
              <a:off x="4343400" y="2590920"/>
              <a:ext cx="2895480" cy="39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Блок-схема: ручное управление 4"/>
            <p:cNvSpPr/>
            <p:nvPr/>
          </p:nvSpPr>
          <p:spPr>
            <a:xfrm flipV="1">
              <a:off x="5181480" y="5857920"/>
              <a:ext cx="1828800" cy="1000080"/>
            </a:xfrm>
            <a:prstGeom prst="flowChartManualOperation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WordArt 7"/>
          <p:cNvSpPr txBox="1"/>
          <p:nvPr/>
        </p:nvSpPr>
        <p:spPr>
          <a:xfrm>
            <a:off x="3124080" y="304920"/>
            <a:ext cx="46483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ff33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[а]</a:t>
            </a:r>
            <a:endParaRPr b="1" lang="en-US" sz="1800" spc="1" strike="noStrike">
              <a:ln w="0">
                <a:noFill/>
              </a:ln>
              <a:solidFill>
                <a:srgbClr val="66ff33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0" name="Рисунок 1" descr="ээ.jpg"/>
          <p:cNvPicPr/>
          <p:nvPr/>
        </p:nvPicPr>
        <p:blipFill>
          <a:blip r:embed="rId2"/>
          <a:stretch/>
        </p:blipFill>
        <p:spPr>
          <a:xfrm>
            <a:off x="0" y="0"/>
            <a:ext cx="236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images.yandex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animashky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www.youtube.com/watch?gl=RU&amp;hl=ru&amp;v=xQa6tWPCe_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сенка 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hoto.pedsovet.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fonegallery.narod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rusedu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914400" y="45720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F:\подготовка\1015.jpg"/>
          <p:cNvPicPr/>
          <p:nvPr/>
        </p:nvPicPr>
        <p:blipFill>
          <a:blip r:embed="rId1"/>
          <a:srcRect l="1358" t="4429" r="4304" b="10935"/>
          <a:stretch/>
        </p:blipFill>
        <p:spPr>
          <a:xfrm>
            <a:off x="1752480" y="1219320"/>
            <a:ext cx="58676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F:\подготовка\1015 008.jpg"/>
          <p:cNvPicPr/>
          <p:nvPr/>
        </p:nvPicPr>
        <p:blipFill>
          <a:blip r:embed="rId1"/>
          <a:srcRect l="1180" t="6446" r="0" b="0"/>
          <a:stretch/>
        </p:blipFill>
        <p:spPr>
          <a:xfrm>
            <a:off x="1371600" y="1066680"/>
            <a:ext cx="637848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"/>
          <p:cNvPicPr/>
          <p:nvPr/>
        </p:nvPicPr>
        <p:blipFill>
          <a:blip r:embed="rId2"/>
          <a:srcRect l="34714" t="0" r="0" b="3158"/>
          <a:stretch/>
        </p:blipFill>
        <p:spPr>
          <a:xfrm rot="21436800">
            <a:off x="3269880" y="1510920"/>
            <a:ext cx="2736720" cy="30193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7"/>
          <p:cNvSpPr txBox="1"/>
          <p:nvPr/>
        </p:nvSpPr>
        <p:spPr>
          <a:xfrm>
            <a:off x="4343400" y="1295280"/>
            <a:ext cx="48006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[  ] -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7" name="Picture 8" descr="350f2e2b04d8"/>
          <p:cNvPicPr/>
          <p:nvPr/>
        </p:nvPicPr>
        <p:blipFill>
          <a:blip r:embed="rId1"/>
          <a:stretch/>
        </p:blipFill>
        <p:spPr>
          <a:xfrm>
            <a:off x="0" y="0"/>
            <a:ext cx="41688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Овал 3"/>
          <p:cNvSpPr/>
          <p:nvPr/>
        </p:nvSpPr>
        <p:spPr>
          <a:xfrm>
            <a:off x="4648320" y="2057400"/>
            <a:ext cx="1295280" cy="1219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Копия стрелки"/>
          <p:cNvPicPr/>
          <p:nvPr/>
        </p:nvPicPr>
        <p:blipFill>
          <a:blip r:embed="rId1"/>
          <a:stretch/>
        </p:blipFill>
        <p:spPr>
          <a:xfrm>
            <a:off x="4427640" y="0"/>
            <a:ext cx="2390760" cy="29527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5257800" y="403848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у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371960" y="281952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5"/>
          <p:cNvSpPr/>
          <p:nvPr/>
        </p:nvSpPr>
        <p:spPr>
          <a:xfrm>
            <a:off x="900000" y="3284640"/>
            <a:ext cx="287280" cy="287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6"/>
          <p:cNvSpPr/>
          <p:nvPr/>
        </p:nvSpPr>
        <p:spPr>
          <a:xfrm>
            <a:off x="4859280" y="4365720"/>
            <a:ext cx="287280" cy="2872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9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solidFill>
            <a:srgbClr val="ffcc66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0" descr="11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6360" y="5950080"/>
            <a:ext cx="1403280" cy="503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1" descr="ff962c65118d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763640" y="5805360"/>
            <a:ext cx="714600" cy="7635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i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643280" y="5877000"/>
            <a:ext cx="935280" cy="679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ED0279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885080" y="5950080"/>
            <a:ext cx="536760" cy="4600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Рисунок4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26920" y="692280"/>
            <a:ext cx="115920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5" descr="Рисунок3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04000" y="2276640"/>
            <a:ext cx="1800360" cy="17953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6">
            <a:hlinkClick r:id="rId14" action="ppaction://hlinksldjump"/>
          </p:cNvPr>
          <p:cNvSpPr/>
          <p:nvPr/>
        </p:nvSpPr>
        <p:spPr>
          <a:xfrm>
            <a:off x="2124000" y="2997360"/>
            <a:ext cx="2376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3f4f05876e5d.jpg">
            <a:hlinkClick r:id="rId15" action="ppaction://hlinksldjump"/>
          </p:cNvPr>
          <p:cNvPicPr/>
          <p:nvPr/>
        </p:nvPicPr>
        <p:blipFill>
          <a:blip r:embed="rId16"/>
          <a:srcRect l="0" t="26661" r="0" b="8006"/>
          <a:stretch/>
        </p:blipFill>
        <p:spPr>
          <a:xfrm>
            <a:off x="250920" y="5734080"/>
            <a:ext cx="1008000" cy="898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8" descr="Копия 99bf16d6fb15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084720" y="5877000"/>
            <a:ext cx="649440" cy="582480"/>
          </a:xfrm>
          <a:prstGeom prst="rect">
            <a:avLst/>
          </a:prstGeom>
          <a:ln w="0">
            <a:noFill/>
          </a:ln>
        </p:spPr>
      </p:pic>
      <p:sp>
        <p:nvSpPr>
          <p:cNvPr id="254" name="Овал 16"/>
          <p:cNvSpPr/>
          <p:nvPr/>
        </p:nvSpPr>
        <p:spPr>
          <a:xfrm>
            <a:off x="7086600" y="2438280"/>
            <a:ext cx="1295280" cy="1295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Ink 7"/>
          <p:cNvSpPr/>
          <p:nvPr/>
        </p:nvSpPr>
        <p:spPr>
          <a:xfrm>
            <a:off x="71280" y="2768760"/>
            <a:ext cx="5054760" cy="3660480"/>
          </a:xfrm>
          <a:custGeom>
            <a:avLst/>
            <a:gdLst/>
            <a:ahLst/>
            <a:rect l="l" t="t" r="r" b="b"/>
            <a:pathLst>
              <a:path w="14041" h="10171">
                <a:moveTo>
                  <a:pt x="273" y="17810"/>
                </a:moveTo>
                <a:cubicBezTo>
                  <a:pt x="273" y="17835"/>
                  <a:pt x="273" y="17843"/>
                  <a:pt x="273" y="17859"/>
                </a:cubicBezTo>
                <a:cubicBezTo>
                  <a:pt x="248" y="17859"/>
                  <a:pt x="223" y="17859"/>
                  <a:pt x="198" y="17859"/>
                </a:cubicBezTo>
                <a:cubicBezTo>
                  <a:pt x="206" y="17809"/>
                  <a:pt x="203" y="17836"/>
                  <a:pt x="223" y="17810"/>
                </a:cubicBezTo>
                <a:cubicBezTo>
                  <a:pt x="236" y="17794"/>
                  <a:pt x="241" y="17749"/>
                  <a:pt x="273" y="17735"/>
                </a:cubicBezTo>
                <a:cubicBezTo>
                  <a:pt x="281" y="17735"/>
                  <a:pt x="290" y="17735"/>
                  <a:pt x="298" y="17735"/>
                </a:cubicBezTo>
                <a:cubicBezTo>
                  <a:pt x="322" y="17693"/>
                  <a:pt x="336" y="17688"/>
                  <a:pt x="372" y="17661"/>
                </a:cubicBezTo>
                <a:cubicBezTo>
                  <a:pt x="409" y="17633"/>
                  <a:pt x="457" y="17633"/>
                  <a:pt x="496" y="17611"/>
                </a:cubicBezTo>
                <a:cubicBezTo>
                  <a:pt x="535" y="17590"/>
                  <a:pt x="557" y="17562"/>
                  <a:pt x="595" y="17537"/>
                </a:cubicBezTo>
                <a:cubicBezTo>
                  <a:pt x="627" y="17517"/>
                  <a:pt x="663" y="17516"/>
                  <a:pt x="695" y="17487"/>
                </a:cubicBezTo>
                <a:cubicBezTo>
                  <a:pt x="731" y="17454"/>
                  <a:pt x="726" y="17468"/>
                  <a:pt x="769" y="17462"/>
                </a:cubicBezTo>
                <a:cubicBezTo>
                  <a:pt x="785" y="17434"/>
                  <a:pt x="803" y="17391"/>
                  <a:pt x="819" y="17363"/>
                </a:cubicBezTo>
                <a:cubicBezTo>
                  <a:pt x="859" y="17343"/>
                  <a:pt x="905" y="17324"/>
                  <a:pt x="943" y="17289"/>
                </a:cubicBezTo>
                <a:cubicBezTo>
                  <a:pt x="986" y="17249"/>
                  <a:pt x="984" y="17247"/>
                  <a:pt x="992" y="17190"/>
                </a:cubicBezTo>
                <a:cubicBezTo>
                  <a:pt x="1020" y="17174"/>
                  <a:pt x="1063" y="17156"/>
                  <a:pt x="1091" y="17140"/>
                </a:cubicBezTo>
                <a:cubicBezTo>
                  <a:pt x="1111" y="17120"/>
                  <a:pt x="1130" y="17110"/>
                  <a:pt x="1166" y="17090"/>
                </a:cubicBezTo>
                <a:cubicBezTo>
                  <a:pt x="1185" y="17066"/>
                  <a:pt x="1183" y="17048"/>
                  <a:pt x="1215" y="17016"/>
                </a:cubicBezTo>
                <a:cubicBezTo>
                  <a:pt x="1256" y="16974"/>
                  <a:pt x="1295" y="16943"/>
                  <a:pt x="1339" y="16917"/>
                </a:cubicBezTo>
                <a:cubicBezTo>
                  <a:pt x="1354" y="16899"/>
                  <a:pt x="1374" y="16875"/>
                  <a:pt x="1389" y="16842"/>
                </a:cubicBezTo>
                <a:cubicBezTo>
                  <a:pt x="1408" y="16801"/>
                  <a:pt x="1394" y="16831"/>
                  <a:pt x="1439" y="16818"/>
                </a:cubicBezTo>
              </a:path>
              <a:path w="14041" h="10171">
                <a:moveTo>
                  <a:pt x="1836" y="16545"/>
                </a:moveTo>
                <a:lnTo>
                  <a:pt x="1836" y="16545"/>
                </a:lnTo>
              </a:path>
              <a:path w="14041" h="10171">
                <a:moveTo>
                  <a:pt x="1836" y="16545"/>
                </a:moveTo>
                <a:cubicBezTo>
                  <a:pt x="1860" y="16545"/>
                  <a:pt x="1868" y="16545"/>
                  <a:pt x="1860" y="16520"/>
                </a:cubicBezTo>
              </a:path>
              <a:path w="14041" h="10171">
                <a:moveTo>
                  <a:pt x="1860" y="16520"/>
                </a:moveTo>
                <a:cubicBezTo>
                  <a:pt x="1860" y="16512"/>
                  <a:pt x="1860" y="16503"/>
                  <a:pt x="1860" y="16495"/>
                </a:cubicBezTo>
                <a:cubicBezTo>
                  <a:pt x="1891" y="16485"/>
                  <a:pt x="1899" y="16477"/>
                  <a:pt x="1910" y="16446"/>
                </a:cubicBezTo>
              </a:path>
              <a:path w="14041" h="10171">
                <a:moveTo>
                  <a:pt x="2307" y="16247"/>
                </a:moveTo>
                <a:cubicBezTo>
                  <a:pt x="2315" y="16247"/>
                  <a:pt x="2324" y="16247"/>
                  <a:pt x="2332" y="16247"/>
                </a:cubicBezTo>
                <a:cubicBezTo>
                  <a:pt x="2353" y="16215"/>
                  <a:pt x="2350" y="16218"/>
                  <a:pt x="2381" y="16197"/>
                </a:cubicBezTo>
                <a:cubicBezTo>
                  <a:pt x="2396" y="16177"/>
                  <a:pt x="2391" y="16168"/>
                  <a:pt x="2406" y="16148"/>
                </a:cubicBezTo>
                <a:cubicBezTo>
                  <a:pt x="2427" y="16133"/>
                  <a:pt x="2435" y="16138"/>
                  <a:pt x="2456" y="16123"/>
                </a:cubicBezTo>
                <a:cubicBezTo>
                  <a:pt x="2456" y="16090"/>
                  <a:pt x="2456" y="16057"/>
                  <a:pt x="2456" y="16024"/>
                </a:cubicBezTo>
                <a:cubicBezTo>
                  <a:pt x="2476" y="16009"/>
                  <a:pt x="2485" y="16014"/>
                  <a:pt x="2505" y="15999"/>
                </a:cubicBezTo>
                <a:cubicBezTo>
                  <a:pt x="2531" y="15979"/>
                  <a:pt x="2504" y="15982"/>
                  <a:pt x="2555" y="15974"/>
                </a:cubicBezTo>
                <a:cubicBezTo>
                  <a:pt x="2574" y="15950"/>
                  <a:pt x="2575" y="15935"/>
                  <a:pt x="2604" y="15900"/>
                </a:cubicBezTo>
                <a:cubicBezTo>
                  <a:pt x="2627" y="15872"/>
                  <a:pt x="2639" y="15850"/>
                  <a:pt x="2654" y="15825"/>
                </a:cubicBezTo>
                <a:cubicBezTo>
                  <a:pt x="2691" y="15799"/>
                  <a:pt x="2703" y="15787"/>
                  <a:pt x="2729" y="15751"/>
                </a:cubicBezTo>
                <a:cubicBezTo>
                  <a:pt x="2749" y="15736"/>
                  <a:pt x="2758" y="15741"/>
                  <a:pt x="2778" y="15726"/>
                </a:cubicBezTo>
                <a:cubicBezTo>
                  <a:pt x="2793" y="15706"/>
                  <a:pt x="2788" y="15697"/>
                  <a:pt x="2803" y="15677"/>
                </a:cubicBezTo>
                <a:cubicBezTo>
                  <a:pt x="2854" y="15669"/>
                  <a:pt x="2827" y="15672"/>
                  <a:pt x="2853" y="15652"/>
                </a:cubicBezTo>
                <a:cubicBezTo>
                  <a:pt x="2883" y="15632"/>
                  <a:pt x="2882" y="15632"/>
                  <a:pt x="2902" y="15602"/>
                </a:cubicBezTo>
                <a:cubicBezTo>
                  <a:pt x="2916" y="15588"/>
                  <a:pt x="2947" y="15549"/>
                  <a:pt x="2977" y="15528"/>
                </a:cubicBezTo>
                <a:cubicBezTo>
                  <a:pt x="3018" y="15499"/>
                  <a:pt x="3006" y="15514"/>
                  <a:pt x="3051" y="15503"/>
                </a:cubicBezTo>
                <a:cubicBezTo>
                  <a:pt x="3077" y="15483"/>
                  <a:pt x="3050" y="15486"/>
                  <a:pt x="3101" y="15478"/>
                </a:cubicBezTo>
                <a:cubicBezTo>
                  <a:pt x="3120" y="15454"/>
                  <a:pt x="3116" y="15433"/>
                  <a:pt x="3150" y="15404"/>
                </a:cubicBezTo>
                <a:cubicBezTo>
                  <a:pt x="3184" y="15375"/>
                  <a:pt x="3221" y="15371"/>
                  <a:pt x="3249" y="15329"/>
                </a:cubicBezTo>
                <a:cubicBezTo>
                  <a:pt x="3249" y="15321"/>
                  <a:pt x="3249" y="15312"/>
                  <a:pt x="3249" y="15304"/>
                </a:cubicBezTo>
                <a:cubicBezTo>
                  <a:pt x="3263" y="15287"/>
                  <a:pt x="3281" y="15262"/>
                  <a:pt x="3299" y="15230"/>
                </a:cubicBezTo>
                <a:cubicBezTo>
                  <a:pt x="3320" y="15214"/>
                  <a:pt x="3328" y="15221"/>
                  <a:pt x="3349" y="15205"/>
                </a:cubicBezTo>
                <a:cubicBezTo>
                  <a:pt x="3365" y="15182"/>
                  <a:pt x="3360" y="15182"/>
                  <a:pt x="3373" y="15156"/>
                </a:cubicBezTo>
                <a:cubicBezTo>
                  <a:pt x="3405" y="15137"/>
                  <a:pt x="3400" y="15138"/>
                  <a:pt x="3448" y="15131"/>
                </a:cubicBezTo>
                <a:cubicBezTo>
                  <a:pt x="3464" y="15110"/>
                  <a:pt x="3457" y="15102"/>
                  <a:pt x="3473" y="15081"/>
                </a:cubicBezTo>
                <a:cubicBezTo>
                  <a:pt x="3493" y="15066"/>
                  <a:pt x="3502" y="15071"/>
                  <a:pt x="3522" y="15056"/>
                </a:cubicBezTo>
                <a:cubicBezTo>
                  <a:pt x="3537" y="15036"/>
                  <a:pt x="3532" y="15027"/>
                  <a:pt x="3547" y="15007"/>
                </a:cubicBezTo>
                <a:cubicBezTo>
                  <a:pt x="3578" y="14988"/>
                  <a:pt x="3611" y="14955"/>
                  <a:pt x="3646" y="14932"/>
                </a:cubicBezTo>
                <a:cubicBezTo>
                  <a:pt x="3687" y="14905"/>
                  <a:pt x="3678" y="14919"/>
                  <a:pt x="3721" y="14908"/>
                </a:cubicBezTo>
                <a:cubicBezTo>
                  <a:pt x="3747" y="14871"/>
                  <a:pt x="3757" y="14866"/>
                  <a:pt x="3795" y="14833"/>
                </a:cubicBezTo>
                <a:cubicBezTo>
                  <a:pt x="3823" y="14808"/>
                  <a:pt x="3844" y="14800"/>
                  <a:pt x="3870" y="14784"/>
                </a:cubicBezTo>
                <a:cubicBezTo>
                  <a:pt x="3891" y="14752"/>
                  <a:pt x="3888" y="14755"/>
                  <a:pt x="3919" y="14734"/>
                </a:cubicBezTo>
                <a:cubicBezTo>
                  <a:pt x="3937" y="14716"/>
                  <a:pt x="3934" y="14707"/>
                  <a:pt x="3969" y="14684"/>
                </a:cubicBezTo>
              </a:path>
              <a:path w="14041" h="10171">
                <a:moveTo>
                  <a:pt x="4242" y="14511"/>
                </a:moveTo>
                <a:cubicBezTo>
                  <a:pt x="4249" y="14481"/>
                  <a:pt x="4259" y="14466"/>
                  <a:pt x="4266" y="14436"/>
                </a:cubicBezTo>
                <a:cubicBezTo>
                  <a:pt x="4303" y="14424"/>
                  <a:pt x="4288" y="14412"/>
                  <a:pt x="4341" y="14412"/>
                </a:cubicBezTo>
                <a:cubicBezTo>
                  <a:pt x="4349" y="14412"/>
                  <a:pt x="4358" y="14412"/>
                  <a:pt x="4366" y="14412"/>
                </a:cubicBezTo>
                <a:cubicBezTo>
                  <a:pt x="4377" y="14366"/>
                  <a:pt x="4395" y="14348"/>
                  <a:pt x="4440" y="14337"/>
                </a:cubicBezTo>
                <a:cubicBezTo>
                  <a:pt x="4440" y="14312"/>
                  <a:pt x="4440" y="14304"/>
                  <a:pt x="4440" y="14288"/>
                </a:cubicBezTo>
              </a:path>
              <a:path w="14041" h="10171">
                <a:moveTo>
                  <a:pt x="4812" y="14064"/>
                </a:moveTo>
                <a:cubicBezTo>
                  <a:pt x="4820" y="14064"/>
                  <a:pt x="4829" y="14064"/>
                  <a:pt x="4837" y="14064"/>
                </a:cubicBezTo>
                <a:cubicBezTo>
                  <a:pt x="4846" y="14012"/>
                  <a:pt x="4841" y="14042"/>
                  <a:pt x="4862" y="14015"/>
                </a:cubicBezTo>
                <a:cubicBezTo>
                  <a:pt x="4877" y="13996"/>
                  <a:pt x="4896" y="13974"/>
                  <a:pt x="4911" y="13940"/>
                </a:cubicBezTo>
                <a:cubicBezTo>
                  <a:pt x="4911" y="13932"/>
                  <a:pt x="4911" y="13923"/>
                  <a:pt x="4911" y="13915"/>
                </a:cubicBezTo>
                <a:cubicBezTo>
                  <a:pt x="4932" y="13895"/>
                  <a:pt x="4940" y="13877"/>
                  <a:pt x="4961" y="13841"/>
                </a:cubicBezTo>
                <a:cubicBezTo>
                  <a:pt x="4981" y="13815"/>
                  <a:pt x="4978" y="13842"/>
                  <a:pt x="4986" y="13791"/>
                </a:cubicBezTo>
                <a:cubicBezTo>
                  <a:pt x="5007" y="13776"/>
                  <a:pt x="5014" y="13782"/>
                  <a:pt x="5035" y="13767"/>
                </a:cubicBezTo>
                <a:cubicBezTo>
                  <a:pt x="5052" y="13750"/>
                  <a:pt x="5068" y="13721"/>
                  <a:pt x="5085" y="13692"/>
                </a:cubicBezTo>
                <a:cubicBezTo>
                  <a:pt x="5098" y="13679"/>
                  <a:pt x="5144" y="13653"/>
                  <a:pt x="5159" y="13618"/>
                </a:cubicBezTo>
                <a:cubicBezTo>
                  <a:pt x="5159" y="13610"/>
                  <a:pt x="5159" y="13601"/>
                  <a:pt x="5159" y="13593"/>
                </a:cubicBezTo>
                <a:cubicBezTo>
                  <a:pt x="5189" y="13578"/>
                  <a:pt x="5228" y="13556"/>
                  <a:pt x="5259" y="13543"/>
                </a:cubicBezTo>
                <a:cubicBezTo>
                  <a:pt x="5267" y="13543"/>
                  <a:pt x="5275" y="13543"/>
                  <a:pt x="5283" y="13543"/>
                </a:cubicBezTo>
                <a:cubicBezTo>
                  <a:pt x="5299" y="13515"/>
                  <a:pt x="5317" y="13472"/>
                  <a:pt x="5333" y="13444"/>
                </a:cubicBezTo>
                <a:cubicBezTo>
                  <a:pt x="5354" y="13428"/>
                  <a:pt x="5362" y="13434"/>
                  <a:pt x="5383" y="13419"/>
                </a:cubicBezTo>
                <a:cubicBezTo>
                  <a:pt x="5403" y="13388"/>
                  <a:pt x="5402" y="13390"/>
                  <a:pt x="5432" y="13370"/>
                </a:cubicBezTo>
                <a:cubicBezTo>
                  <a:pt x="5458" y="13350"/>
                  <a:pt x="5431" y="13353"/>
                  <a:pt x="5482" y="13345"/>
                </a:cubicBezTo>
                <a:cubicBezTo>
                  <a:pt x="5508" y="13325"/>
                  <a:pt x="5481" y="13328"/>
                  <a:pt x="5531" y="13320"/>
                </a:cubicBezTo>
                <a:cubicBezTo>
                  <a:pt x="5546" y="13300"/>
                  <a:pt x="5541" y="13291"/>
                  <a:pt x="5556" y="13271"/>
                </a:cubicBezTo>
                <a:cubicBezTo>
                  <a:pt x="5577" y="13255"/>
                  <a:pt x="5585" y="13262"/>
                  <a:pt x="5606" y="13246"/>
                </a:cubicBezTo>
                <a:cubicBezTo>
                  <a:pt x="5616" y="13222"/>
                  <a:pt x="5621" y="13195"/>
                  <a:pt x="5631" y="13171"/>
                </a:cubicBezTo>
                <a:cubicBezTo>
                  <a:pt x="5651" y="13156"/>
                  <a:pt x="5660" y="13161"/>
                  <a:pt x="5680" y="13146"/>
                </a:cubicBezTo>
                <a:cubicBezTo>
                  <a:pt x="5712" y="13108"/>
                  <a:pt x="5694" y="13102"/>
                  <a:pt x="5755" y="13097"/>
                </a:cubicBezTo>
                <a:cubicBezTo>
                  <a:pt x="5763" y="13097"/>
                  <a:pt x="5771" y="13097"/>
                  <a:pt x="5779" y="13097"/>
                </a:cubicBezTo>
                <a:cubicBezTo>
                  <a:pt x="5789" y="13073"/>
                  <a:pt x="5794" y="13046"/>
                  <a:pt x="5804" y="13022"/>
                </a:cubicBezTo>
                <a:cubicBezTo>
                  <a:pt x="5814" y="13013"/>
                  <a:pt x="5853" y="12960"/>
                  <a:pt x="5879" y="12948"/>
                </a:cubicBezTo>
                <a:cubicBezTo>
                  <a:pt x="5905" y="12937"/>
                  <a:pt x="5908" y="12939"/>
                  <a:pt x="5928" y="12923"/>
                </a:cubicBezTo>
              </a:path>
              <a:path w="14041" h="10171">
                <a:moveTo>
                  <a:pt x="6251" y="12675"/>
                </a:moveTo>
                <a:cubicBezTo>
                  <a:pt x="6276" y="12675"/>
                  <a:pt x="6300" y="12675"/>
                  <a:pt x="6325" y="12675"/>
                </a:cubicBezTo>
                <a:cubicBezTo>
                  <a:pt x="6333" y="12645"/>
                  <a:pt x="6342" y="12631"/>
                  <a:pt x="6350" y="12601"/>
                </a:cubicBezTo>
                <a:cubicBezTo>
                  <a:pt x="6388" y="12588"/>
                  <a:pt x="6375" y="12571"/>
                  <a:pt x="6375" y="12526"/>
                </a:cubicBezTo>
                <a:cubicBezTo>
                  <a:pt x="6408" y="12516"/>
                  <a:pt x="6414" y="12493"/>
                  <a:pt x="6424" y="12452"/>
                </a:cubicBezTo>
              </a:path>
              <a:path w="14041" h="10171">
                <a:moveTo>
                  <a:pt x="6796" y="12303"/>
                </a:moveTo>
                <a:cubicBezTo>
                  <a:pt x="6804" y="12303"/>
                  <a:pt x="6813" y="12303"/>
                  <a:pt x="6821" y="12303"/>
                </a:cubicBezTo>
                <a:cubicBezTo>
                  <a:pt x="6842" y="12272"/>
                  <a:pt x="6839" y="12275"/>
                  <a:pt x="6871" y="12254"/>
                </a:cubicBezTo>
                <a:cubicBezTo>
                  <a:pt x="6882" y="12241"/>
                  <a:pt x="6913" y="12207"/>
                  <a:pt x="6921" y="12179"/>
                </a:cubicBezTo>
                <a:cubicBezTo>
                  <a:pt x="6929" y="12151"/>
                  <a:pt x="6921" y="12109"/>
                  <a:pt x="6921" y="12080"/>
                </a:cubicBezTo>
                <a:cubicBezTo>
                  <a:pt x="6956" y="12059"/>
                  <a:pt x="6986" y="12039"/>
                  <a:pt x="7020" y="12005"/>
                </a:cubicBezTo>
                <a:cubicBezTo>
                  <a:pt x="7049" y="11977"/>
                  <a:pt x="7053" y="11960"/>
                  <a:pt x="7069" y="11931"/>
                </a:cubicBezTo>
                <a:cubicBezTo>
                  <a:pt x="7090" y="11916"/>
                  <a:pt x="7098" y="11922"/>
                  <a:pt x="7119" y="11906"/>
                </a:cubicBezTo>
                <a:cubicBezTo>
                  <a:pt x="7138" y="11874"/>
                  <a:pt x="7137" y="11880"/>
                  <a:pt x="7144" y="11832"/>
                </a:cubicBezTo>
                <a:cubicBezTo>
                  <a:pt x="7160" y="11816"/>
                  <a:pt x="7189" y="11786"/>
                  <a:pt x="7218" y="11757"/>
                </a:cubicBezTo>
                <a:cubicBezTo>
                  <a:pt x="7250" y="11726"/>
                  <a:pt x="7282" y="11719"/>
                  <a:pt x="7317" y="11683"/>
                </a:cubicBezTo>
                <a:cubicBezTo>
                  <a:pt x="7351" y="11649"/>
                  <a:pt x="7366" y="11644"/>
                  <a:pt x="7392" y="11609"/>
                </a:cubicBezTo>
                <a:cubicBezTo>
                  <a:pt x="7454" y="11588"/>
                  <a:pt x="7421" y="11622"/>
                  <a:pt x="7441" y="11559"/>
                </a:cubicBezTo>
                <a:cubicBezTo>
                  <a:pt x="7492" y="11551"/>
                  <a:pt x="7465" y="11554"/>
                  <a:pt x="7491" y="11534"/>
                </a:cubicBezTo>
                <a:cubicBezTo>
                  <a:pt x="7542" y="11526"/>
                  <a:pt x="7515" y="11529"/>
                  <a:pt x="7541" y="11509"/>
                </a:cubicBezTo>
                <a:cubicBezTo>
                  <a:pt x="7562" y="11494"/>
                  <a:pt x="7569" y="11500"/>
                  <a:pt x="7590" y="11485"/>
                </a:cubicBezTo>
                <a:cubicBezTo>
                  <a:pt x="7590" y="11460"/>
                  <a:pt x="7590" y="11435"/>
                  <a:pt x="7590" y="11410"/>
                </a:cubicBezTo>
                <a:cubicBezTo>
                  <a:pt x="7615" y="11410"/>
                  <a:pt x="7623" y="11410"/>
                  <a:pt x="7615" y="11385"/>
                </a:cubicBezTo>
              </a:path>
              <a:path w="14041" h="10171">
                <a:moveTo>
                  <a:pt x="8037" y="11162"/>
                </a:moveTo>
                <a:cubicBezTo>
                  <a:pt x="8068" y="11154"/>
                  <a:pt x="8120" y="11123"/>
                  <a:pt x="8136" y="11088"/>
                </a:cubicBezTo>
                <a:cubicBezTo>
                  <a:pt x="8136" y="11080"/>
                  <a:pt x="8136" y="11071"/>
                  <a:pt x="8136" y="11063"/>
                </a:cubicBezTo>
                <a:cubicBezTo>
                  <a:pt x="8168" y="11052"/>
                  <a:pt x="8176" y="11029"/>
                  <a:pt x="8186" y="10988"/>
                </a:cubicBezTo>
                <a:cubicBezTo>
                  <a:pt x="8214" y="10979"/>
                  <a:pt x="8231" y="10954"/>
                  <a:pt x="8235" y="10914"/>
                </a:cubicBezTo>
                <a:cubicBezTo>
                  <a:pt x="8235" y="10906"/>
                  <a:pt x="8235" y="10897"/>
                  <a:pt x="8235" y="10889"/>
                </a:cubicBezTo>
                <a:cubicBezTo>
                  <a:pt x="8275" y="10876"/>
                  <a:pt x="8245" y="10877"/>
                  <a:pt x="8285" y="10864"/>
                </a:cubicBezTo>
                <a:cubicBezTo>
                  <a:pt x="8294" y="10829"/>
                  <a:pt x="8306" y="10819"/>
                  <a:pt x="8334" y="10790"/>
                </a:cubicBezTo>
              </a:path>
              <a:path w="14041" h="10171">
                <a:moveTo>
                  <a:pt x="9029" y="10542"/>
                </a:moveTo>
                <a:cubicBezTo>
                  <a:pt x="9037" y="10542"/>
                  <a:pt x="9046" y="10542"/>
                  <a:pt x="9054" y="10542"/>
                </a:cubicBezTo>
                <a:cubicBezTo>
                  <a:pt x="9074" y="10521"/>
                  <a:pt x="9093" y="10512"/>
                  <a:pt x="9128" y="10492"/>
                </a:cubicBezTo>
                <a:cubicBezTo>
                  <a:pt x="9143" y="10472"/>
                  <a:pt x="9138" y="10463"/>
                  <a:pt x="9153" y="10443"/>
                </a:cubicBezTo>
                <a:cubicBezTo>
                  <a:pt x="9174" y="10428"/>
                  <a:pt x="9182" y="10434"/>
                  <a:pt x="9203" y="10418"/>
                </a:cubicBezTo>
                <a:cubicBezTo>
                  <a:pt x="9220" y="10359"/>
                  <a:pt x="9230" y="10394"/>
                  <a:pt x="9252" y="10344"/>
                </a:cubicBezTo>
                <a:cubicBezTo>
                  <a:pt x="9252" y="10336"/>
                  <a:pt x="9252" y="10327"/>
                  <a:pt x="9252" y="10319"/>
                </a:cubicBezTo>
                <a:cubicBezTo>
                  <a:pt x="9272" y="10299"/>
                  <a:pt x="9282" y="10280"/>
                  <a:pt x="9302" y="10244"/>
                </a:cubicBezTo>
                <a:cubicBezTo>
                  <a:pt x="9323" y="10217"/>
                  <a:pt x="9318" y="10247"/>
                  <a:pt x="9327" y="10195"/>
                </a:cubicBezTo>
                <a:cubicBezTo>
                  <a:pt x="9336" y="10186"/>
                  <a:pt x="9375" y="10132"/>
                  <a:pt x="9401" y="10120"/>
                </a:cubicBezTo>
                <a:cubicBezTo>
                  <a:pt x="9409" y="10120"/>
                  <a:pt x="9418" y="10120"/>
                  <a:pt x="9426" y="10120"/>
                </a:cubicBezTo>
                <a:cubicBezTo>
                  <a:pt x="9450" y="10102"/>
                  <a:pt x="9427" y="10104"/>
                  <a:pt x="9475" y="10096"/>
                </a:cubicBezTo>
                <a:cubicBezTo>
                  <a:pt x="9490" y="10075"/>
                  <a:pt x="9484" y="10067"/>
                  <a:pt x="9500" y="10046"/>
                </a:cubicBezTo>
                <a:cubicBezTo>
                  <a:pt x="9562" y="10037"/>
                  <a:pt x="9542" y="10036"/>
                  <a:pt x="9575" y="9996"/>
                </a:cubicBezTo>
                <a:cubicBezTo>
                  <a:pt x="9599" y="9977"/>
                  <a:pt x="9617" y="9979"/>
                  <a:pt x="9649" y="9947"/>
                </a:cubicBezTo>
                <a:cubicBezTo>
                  <a:pt x="9678" y="9919"/>
                  <a:pt x="9736" y="9906"/>
                  <a:pt x="9773" y="9897"/>
                </a:cubicBezTo>
                <a:cubicBezTo>
                  <a:pt x="9781" y="9897"/>
                  <a:pt x="9790" y="9897"/>
                  <a:pt x="9798" y="9897"/>
                </a:cubicBezTo>
                <a:cubicBezTo>
                  <a:pt x="9818" y="9876"/>
                  <a:pt x="9837" y="9867"/>
                  <a:pt x="9872" y="9847"/>
                </a:cubicBezTo>
                <a:cubicBezTo>
                  <a:pt x="9897" y="9829"/>
                  <a:pt x="9873" y="9831"/>
                  <a:pt x="9922" y="9823"/>
                </a:cubicBezTo>
                <a:cubicBezTo>
                  <a:pt x="9943" y="9801"/>
                  <a:pt x="9952" y="9788"/>
                  <a:pt x="9996" y="9773"/>
                </a:cubicBezTo>
                <a:cubicBezTo>
                  <a:pt x="10004" y="9773"/>
                  <a:pt x="10013" y="9773"/>
                  <a:pt x="10021" y="9773"/>
                </a:cubicBezTo>
                <a:cubicBezTo>
                  <a:pt x="10037" y="9757"/>
                  <a:pt x="10055" y="9727"/>
                  <a:pt x="10071" y="9699"/>
                </a:cubicBezTo>
                <a:cubicBezTo>
                  <a:pt x="10087" y="9683"/>
                  <a:pt x="10116" y="9653"/>
                  <a:pt x="10145" y="9624"/>
                </a:cubicBezTo>
                <a:cubicBezTo>
                  <a:pt x="10168" y="9601"/>
                  <a:pt x="10172" y="9593"/>
                  <a:pt x="10195" y="9599"/>
                </a:cubicBezTo>
                <a:cubicBezTo>
                  <a:pt x="10205" y="9590"/>
                  <a:pt x="10239" y="9534"/>
                  <a:pt x="10269" y="9525"/>
                </a:cubicBezTo>
                <a:cubicBezTo>
                  <a:pt x="10294" y="9525"/>
                  <a:pt x="10302" y="9525"/>
                  <a:pt x="10319" y="9525"/>
                </a:cubicBezTo>
              </a:path>
              <a:path w="14041" h="10171">
                <a:moveTo>
                  <a:pt x="10790" y="9327"/>
                </a:moveTo>
                <a:cubicBezTo>
                  <a:pt x="10823" y="9327"/>
                  <a:pt x="10856" y="9327"/>
                  <a:pt x="10889" y="9327"/>
                </a:cubicBezTo>
                <a:cubicBezTo>
                  <a:pt x="10901" y="9292"/>
                  <a:pt x="10896" y="9302"/>
                  <a:pt x="10939" y="9302"/>
                </a:cubicBezTo>
                <a:cubicBezTo>
                  <a:pt x="10946" y="9272"/>
                  <a:pt x="10957" y="9257"/>
                  <a:pt x="10964" y="9227"/>
                </a:cubicBezTo>
                <a:cubicBezTo>
                  <a:pt x="11000" y="9215"/>
                  <a:pt x="10988" y="9197"/>
                  <a:pt x="10988" y="9153"/>
                </a:cubicBezTo>
                <a:cubicBezTo>
                  <a:pt x="11013" y="9153"/>
                  <a:pt x="11038" y="9153"/>
                  <a:pt x="11063" y="9153"/>
                </a:cubicBezTo>
                <a:cubicBezTo>
                  <a:pt x="11076" y="9115"/>
                  <a:pt x="11088" y="9132"/>
                  <a:pt x="11088" y="9079"/>
                </a:cubicBezTo>
                <a:cubicBezTo>
                  <a:pt x="11088" y="9071"/>
                  <a:pt x="11088" y="9062"/>
                  <a:pt x="11088" y="9054"/>
                </a:cubicBezTo>
                <a:cubicBezTo>
                  <a:pt x="11121" y="9054"/>
                  <a:pt x="11154" y="9054"/>
                  <a:pt x="11187" y="9054"/>
                </a:cubicBezTo>
                <a:cubicBezTo>
                  <a:pt x="11200" y="9016"/>
                  <a:pt x="11216" y="9029"/>
                  <a:pt x="11261" y="9029"/>
                </a:cubicBezTo>
                <a:cubicBezTo>
                  <a:pt x="11261" y="9004"/>
                  <a:pt x="11261" y="8996"/>
                  <a:pt x="11286" y="9004"/>
                </a:cubicBezTo>
              </a:path>
              <a:path w="14041" h="10171">
                <a:moveTo>
                  <a:pt x="11757" y="8756"/>
                </a:moveTo>
                <a:cubicBezTo>
                  <a:pt x="11799" y="8751"/>
                  <a:pt x="11820" y="8745"/>
                  <a:pt x="11857" y="8731"/>
                </a:cubicBezTo>
                <a:cubicBezTo>
                  <a:pt x="11892" y="8689"/>
                  <a:pt x="11873" y="8698"/>
                  <a:pt x="11931" y="8682"/>
                </a:cubicBezTo>
                <a:cubicBezTo>
                  <a:pt x="11947" y="8661"/>
                  <a:pt x="11963" y="8638"/>
                  <a:pt x="11981" y="8607"/>
                </a:cubicBezTo>
                <a:cubicBezTo>
                  <a:pt x="12020" y="8592"/>
                  <a:pt x="12033" y="8588"/>
                  <a:pt x="12080" y="8582"/>
                </a:cubicBezTo>
                <a:cubicBezTo>
                  <a:pt x="12091" y="8573"/>
                  <a:pt x="12123" y="8540"/>
                  <a:pt x="12154" y="8533"/>
                </a:cubicBezTo>
                <a:cubicBezTo>
                  <a:pt x="12177" y="8528"/>
                  <a:pt x="12205" y="8536"/>
                  <a:pt x="12229" y="8533"/>
                </a:cubicBezTo>
                <a:cubicBezTo>
                  <a:pt x="12253" y="8518"/>
                  <a:pt x="12251" y="8511"/>
                  <a:pt x="12303" y="8508"/>
                </a:cubicBezTo>
                <a:cubicBezTo>
                  <a:pt x="12353" y="8505"/>
                  <a:pt x="12389" y="8520"/>
                  <a:pt x="12427" y="8483"/>
                </a:cubicBezTo>
                <a:cubicBezTo>
                  <a:pt x="12449" y="8461"/>
                  <a:pt x="12458" y="8456"/>
                  <a:pt x="12452" y="8434"/>
                </a:cubicBezTo>
                <a:cubicBezTo>
                  <a:pt x="12480" y="8417"/>
                  <a:pt x="12519" y="8377"/>
                  <a:pt x="12551" y="8359"/>
                </a:cubicBezTo>
                <a:cubicBezTo>
                  <a:pt x="12559" y="8359"/>
                  <a:pt x="12568" y="8359"/>
                  <a:pt x="12576" y="8359"/>
                </a:cubicBezTo>
                <a:cubicBezTo>
                  <a:pt x="12592" y="8339"/>
                  <a:pt x="12608" y="8316"/>
                  <a:pt x="12626" y="8285"/>
                </a:cubicBezTo>
                <a:cubicBezTo>
                  <a:pt x="12646" y="8270"/>
                  <a:pt x="12655" y="8275"/>
                  <a:pt x="12675" y="8260"/>
                </a:cubicBezTo>
                <a:cubicBezTo>
                  <a:pt x="12696" y="8229"/>
                  <a:pt x="12694" y="8231"/>
                  <a:pt x="12725" y="8210"/>
                </a:cubicBezTo>
                <a:cubicBezTo>
                  <a:pt x="12740" y="8190"/>
                  <a:pt x="12735" y="8181"/>
                  <a:pt x="12750" y="8161"/>
                </a:cubicBezTo>
                <a:cubicBezTo>
                  <a:pt x="12770" y="8146"/>
                  <a:pt x="12779" y="8151"/>
                  <a:pt x="12799" y="8136"/>
                </a:cubicBezTo>
                <a:cubicBezTo>
                  <a:pt x="12820" y="8120"/>
                  <a:pt x="12832" y="8100"/>
                  <a:pt x="12874" y="8086"/>
                </a:cubicBezTo>
                <a:cubicBezTo>
                  <a:pt x="12882" y="8086"/>
                  <a:pt x="12890" y="8086"/>
                  <a:pt x="12898" y="8086"/>
                </a:cubicBezTo>
                <a:cubicBezTo>
                  <a:pt x="12913" y="8066"/>
                  <a:pt x="12908" y="8057"/>
                  <a:pt x="12923" y="8037"/>
                </a:cubicBezTo>
                <a:cubicBezTo>
                  <a:pt x="12974" y="8029"/>
                  <a:pt x="12947" y="8032"/>
                  <a:pt x="12973" y="8012"/>
                </a:cubicBezTo>
                <a:cubicBezTo>
                  <a:pt x="13027" y="8012"/>
                  <a:pt x="13054" y="7997"/>
                  <a:pt x="13097" y="7987"/>
                </a:cubicBezTo>
                <a:cubicBezTo>
                  <a:pt x="13105" y="7987"/>
                  <a:pt x="13114" y="7987"/>
                  <a:pt x="13122" y="7987"/>
                </a:cubicBezTo>
                <a:cubicBezTo>
                  <a:pt x="13137" y="7966"/>
                  <a:pt x="13131" y="7959"/>
                  <a:pt x="13146" y="7938"/>
                </a:cubicBezTo>
                <a:cubicBezTo>
                  <a:pt x="13179" y="7938"/>
                  <a:pt x="13213" y="7938"/>
                  <a:pt x="13246" y="7938"/>
                </a:cubicBezTo>
                <a:cubicBezTo>
                  <a:pt x="13270" y="7923"/>
                  <a:pt x="13268" y="7916"/>
                  <a:pt x="13320" y="7913"/>
                </a:cubicBezTo>
                <a:cubicBezTo>
                  <a:pt x="13345" y="7913"/>
                  <a:pt x="13353" y="7913"/>
                  <a:pt x="13370" y="7913"/>
                </a:cubicBezTo>
              </a:path>
              <a:path w="14041" h="10171">
                <a:moveTo>
                  <a:pt x="13717" y="7838"/>
                </a:moveTo>
                <a:cubicBezTo>
                  <a:pt x="13717" y="7830"/>
                  <a:pt x="13717" y="7821"/>
                  <a:pt x="13717" y="7813"/>
                </a:cubicBezTo>
                <a:cubicBezTo>
                  <a:pt x="13757" y="7800"/>
                  <a:pt x="13727" y="7802"/>
                  <a:pt x="13767" y="7789"/>
                </a:cubicBezTo>
                <a:cubicBezTo>
                  <a:pt x="13780" y="7749"/>
                  <a:pt x="13778" y="7779"/>
                  <a:pt x="13791" y="7739"/>
                </a:cubicBezTo>
                <a:cubicBezTo>
                  <a:pt x="13816" y="7739"/>
                  <a:pt x="13841" y="7739"/>
                  <a:pt x="13866" y="7739"/>
                </a:cubicBezTo>
                <a:cubicBezTo>
                  <a:pt x="13873" y="7717"/>
                  <a:pt x="13908" y="7700"/>
                  <a:pt x="13940" y="7689"/>
                </a:cubicBezTo>
                <a:cubicBezTo>
                  <a:pt x="14019" y="7663"/>
                  <a:pt x="14154" y="7689"/>
                  <a:pt x="14238" y="7689"/>
                </a:cubicBezTo>
              </a:path>
            </a:pathLst>
          </a:custGeom>
          <a:noFill/>
          <a:ln cap="rnd" w="3492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Ink 8"/>
          <p:cNvSpPr/>
          <p:nvPr/>
        </p:nvSpPr>
        <p:spPr>
          <a:xfrm>
            <a:off x="5668920" y="0"/>
            <a:ext cx="3475080" cy="2579760"/>
          </a:xfrm>
          <a:custGeom>
            <a:avLst/>
            <a:gdLst/>
            <a:ahLst/>
            <a:rect l="l" t="t" r="r" b="b"/>
            <a:pathLst>
              <a:path w="9650" h="7169">
                <a:moveTo>
                  <a:pt x="15453" y="7193"/>
                </a:moveTo>
                <a:cubicBezTo>
                  <a:pt x="15486" y="7167"/>
                  <a:pt x="15515" y="7156"/>
                  <a:pt x="15553" y="7144"/>
                </a:cubicBezTo>
                <a:cubicBezTo>
                  <a:pt x="15561" y="7144"/>
                  <a:pt x="15569" y="7144"/>
                  <a:pt x="15577" y="7144"/>
                </a:cubicBezTo>
                <a:cubicBezTo>
                  <a:pt x="15598" y="7123"/>
                  <a:pt x="15615" y="7114"/>
                  <a:pt x="15652" y="7094"/>
                </a:cubicBezTo>
                <a:cubicBezTo>
                  <a:pt x="15696" y="7070"/>
                  <a:pt x="15702" y="7062"/>
                  <a:pt x="15726" y="7020"/>
                </a:cubicBezTo>
                <a:cubicBezTo>
                  <a:pt x="15747" y="7005"/>
                  <a:pt x="15755" y="7010"/>
                  <a:pt x="15776" y="6995"/>
                </a:cubicBezTo>
                <a:cubicBezTo>
                  <a:pt x="15802" y="6958"/>
                  <a:pt x="15813" y="6954"/>
                  <a:pt x="15850" y="6921"/>
                </a:cubicBezTo>
                <a:cubicBezTo>
                  <a:pt x="15873" y="6898"/>
                  <a:pt x="15877" y="6890"/>
                  <a:pt x="15900" y="6896"/>
                </a:cubicBezTo>
                <a:cubicBezTo>
                  <a:pt x="15925" y="6881"/>
                  <a:pt x="15924" y="6878"/>
                  <a:pt x="15974" y="6871"/>
                </a:cubicBezTo>
                <a:cubicBezTo>
                  <a:pt x="15971" y="6860"/>
                  <a:pt x="15927" y="6842"/>
                  <a:pt x="15999" y="6821"/>
                </a:cubicBezTo>
                <a:cubicBezTo>
                  <a:pt x="16032" y="6811"/>
                  <a:pt x="16071" y="6777"/>
                  <a:pt x="16098" y="6772"/>
                </a:cubicBezTo>
                <a:cubicBezTo>
                  <a:pt x="16144" y="6763"/>
                  <a:pt x="16184" y="6771"/>
                  <a:pt x="16222" y="6747"/>
                </a:cubicBezTo>
                <a:cubicBezTo>
                  <a:pt x="16245" y="6724"/>
                  <a:pt x="16253" y="6720"/>
                  <a:pt x="16247" y="6697"/>
                </a:cubicBezTo>
                <a:cubicBezTo>
                  <a:pt x="16275" y="6681"/>
                  <a:pt x="16318" y="6664"/>
                  <a:pt x="16346" y="6648"/>
                </a:cubicBezTo>
                <a:cubicBezTo>
                  <a:pt x="16381" y="6606"/>
                  <a:pt x="16373" y="6622"/>
                  <a:pt x="16421" y="6598"/>
                </a:cubicBezTo>
                <a:cubicBezTo>
                  <a:pt x="16458" y="6579"/>
                  <a:pt x="16480" y="6560"/>
                  <a:pt x="16520" y="6548"/>
                </a:cubicBezTo>
                <a:cubicBezTo>
                  <a:pt x="16528" y="6548"/>
                  <a:pt x="16537" y="6548"/>
                  <a:pt x="16545" y="6548"/>
                </a:cubicBezTo>
                <a:cubicBezTo>
                  <a:pt x="16565" y="6528"/>
                  <a:pt x="16574" y="6510"/>
                  <a:pt x="16619" y="6499"/>
                </a:cubicBezTo>
                <a:cubicBezTo>
                  <a:pt x="16700" y="6480"/>
                  <a:pt x="16809" y="6499"/>
                  <a:pt x="16892" y="6499"/>
                </a:cubicBezTo>
              </a:path>
              <a:path w="9650" h="7169">
                <a:moveTo>
                  <a:pt x="17686" y="6028"/>
                </a:moveTo>
                <a:cubicBezTo>
                  <a:pt x="17711" y="6028"/>
                  <a:pt x="17719" y="6028"/>
                  <a:pt x="17735" y="6028"/>
                </a:cubicBezTo>
                <a:cubicBezTo>
                  <a:pt x="17747" y="5993"/>
                  <a:pt x="17773" y="6001"/>
                  <a:pt x="17785" y="5953"/>
                </a:cubicBezTo>
                <a:cubicBezTo>
                  <a:pt x="17819" y="5942"/>
                  <a:pt x="17815" y="5918"/>
                  <a:pt x="17859" y="5904"/>
                </a:cubicBezTo>
                <a:cubicBezTo>
                  <a:pt x="17887" y="5895"/>
                  <a:pt x="17905" y="5886"/>
                  <a:pt x="17934" y="5879"/>
                </a:cubicBezTo>
                <a:cubicBezTo>
                  <a:pt x="17944" y="5850"/>
                  <a:pt x="17968" y="5834"/>
                  <a:pt x="18008" y="5829"/>
                </a:cubicBezTo>
                <a:cubicBezTo>
                  <a:pt x="18048" y="5825"/>
                  <a:pt x="18092" y="5829"/>
                  <a:pt x="18132" y="5829"/>
                </a:cubicBezTo>
                <a:cubicBezTo>
                  <a:pt x="18145" y="5789"/>
                  <a:pt x="18144" y="5819"/>
                  <a:pt x="18157" y="5779"/>
                </a:cubicBezTo>
                <a:cubicBezTo>
                  <a:pt x="18200" y="5779"/>
                  <a:pt x="18217" y="5775"/>
                  <a:pt x="18231" y="5730"/>
                </a:cubicBezTo>
                <a:cubicBezTo>
                  <a:pt x="18231" y="5722"/>
                  <a:pt x="18231" y="5713"/>
                  <a:pt x="18231" y="5705"/>
                </a:cubicBezTo>
                <a:cubicBezTo>
                  <a:pt x="18269" y="5692"/>
                  <a:pt x="18256" y="5676"/>
                  <a:pt x="18256" y="5631"/>
                </a:cubicBezTo>
                <a:cubicBezTo>
                  <a:pt x="18314" y="5612"/>
                  <a:pt x="18246" y="5584"/>
                  <a:pt x="18281" y="5556"/>
                </a:cubicBezTo>
                <a:cubicBezTo>
                  <a:pt x="18289" y="5556"/>
                  <a:pt x="18298" y="5556"/>
                  <a:pt x="18306" y="5556"/>
                </a:cubicBezTo>
              </a:path>
              <a:path w="9650" h="7169">
                <a:moveTo>
                  <a:pt x="18777" y="5110"/>
                </a:moveTo>
                <a:cubicBezTo>
                  <a:pt x="18834" y="5102"/>
                  <a:pt x="18828" y="5091"/>
                  <a:pt x="18876" y="5060"/>
                </a:cubicBezTo>
                <a:cubicBezTo>
                  <a:pt x="18902" y="5043"/>
                  <a:pt x="18949" y="5026"/>
                  <a:pt x="18976" y="5011"/>
                </a:cubicBezTo>
                <a:cubicBezTo>
                  <a:pt x="18992" y="4989"/>
                  <a:pt x="18984" y="4983"/>
                  <a:pt x="19000" y="4961"/>
                </a:cubicBezTo>
                <a:cubicBezTo>
                  <a:pt x="19032" y="4942"/>
                  <a:pt x="19027" y="4943"/>
                  <a:pt x="19075" y="4936"/>
                </a:cubicBezTo>
                <a:cubicBezTo>
                  <a:pt x="19090" y="4916"/>
                  <a:pt x="19085" y="4907"/>
                  <a:pt x="19100" y="4887"/>
                </a:cubicBezTo>
                <a:cubicBezTo>
                  <a:pt x="19119" y="4867"/>
                  <a:pt x="19130" y="4846"/>
                  <a:pt x="19149" y="4812"/>
                </a:cubicBezTo>
                <a:cubicBezTo>
                  <a:pt x="19189" y="4779"/>
                  <a:pt x="19190" y="4799"/>
                  <a:pt x="19199" y="4738"/>
                </a:cubicBezTo>
                <a:cubicBezTo>
                  <a:pt x="19219" y="4723"/>
                  <a:pt x="19228" y="4728"/>
                  <a:pt x="19248" y="4713"/>
                </a:cubicBezTo>
                <a:cubicBezTo>
                  <a:pt x="19273" y="4670"/>
                  <a:pt x="19280" y="4663"/>
                  <a:pt x="19323" y="4638"/>
                </a:cubicBezTo>
                <a:cubicBezTo>
                  <a:pt x="19343" y="4618"/>
                  <a:pt x="19361" y="4608"/>
                  <a:pt x="19397" y="4589"/>
                </a:cubicBezTo>
                <a:cubicBezTo>
                  <a:pt x="19429" y="4572"/>
                  <a:pt x="19457" y="4570"/>
                  <a:pt x="19496" y="4564"/>
                </a:cubicBezTo>
                <a:cubicBezTo>
                  <a:pt x="19517" y="4543"/>
                  <a:pt x="19533" y="4534"/>
                  <a:pt x="19571" y="4514"/>
                </a:cubicBezTo>
                <a:cubicBezTo>
                  <a:pt x="19592" y="4503"/>
                  <a:pt x="19622" y="4498"/>
                  <a:pt x="19645" y="4490"/>
                </a:cubicBezTo>
                <a:cubicBezTo>
                  <a:pt x="19661" y="4469"/>
                  <a:pt x="19654" y="4461"/>
                  <a:pt x="19670" y="4440"/>
                </a:cubicBezTo>
                <a:cubicBezTo>
                  <a:pt x="19706" y="4426"/>
                  <a:pt x="19728" y="4421"/>
                  <a:pt x="19769" y="4415"/>
                </a:cubicBezTo>
                <a:cubicBezTo>
                  <a:pt x="19786" y="4398"/>
                  <a:pt x="19802" y="4383"/>
                  <a:pt x="19819" y="4366"/>
                </a:cubicBezTo>
              </a:path>
              <a:path w="9650" h="7169">
                <a:moveTo>
                  <a:pt x="20191" y="3994"/>
                </a:moveTo>
                <a:cubicBezTo>
                  <a:pt x="20199" y="3994"/>
                  <a:pt x="20208" y="3994"/>
                  <a:pt x="20216" y="3994"/>
                </a:cubicBezTo>
                <a:cubicBezTo>
                  <a:pt x="20229" y="3954"/>
                  <a:pt x="20228" y="3984"/>
                  <a:pt x="20241" y="3944"/>
                </a:cubicBezTo>
                <a:cubicBezTo>
                  <a:pt x="20280" y="3931"/>
                  <a:pt x="20251" y="3932"/>
                  <a:pt x="20290" y="3919"/>
                </a:cubicBezTo>
                <a:cubicBezTo>
                  <a:pt x="20303" y="3880"/>
                  <a:pt x="20302" y="3909"/>
                  <a:pt x="20315" y="3870"/>
                </a:cubicBezTo>
                <a:cubicBezTo>
                  <a:pt x="20349" y="3859"/>
                  <a:pt x="20345" y="3835"/>
                  <a:pt x="20389" y="3820"/>
                </a:cubicBezTo>
                <a:cubicBezTo>
                  <a:pt x="20397" y="3820"/>
                  <a:pt x="20406" y="3820"/>
                  <a:pt x="20414" y="3820"/>
                </a:cubicBezTo>
                <a:cubicBezTo>
                  <a:pt x="20427" y="3780"/>
                  <a:pt x="20426" y="3810"/>
                  <a:pt x="20439" y="3770"/>
                </a:cubicBezTo>
                <a:cubicBezTo>
                  <a:pt x="20479" y="3757"/>
                  <a:pt x="20449" y="3759"/>
                  <a:pt x="20489" y="3746"/>
                </a:cubicBezTo>
                <a:cubicBezTo>
                  <a:pt x="20502" y="3706"/>
                  <a:pt x="20500" y="3736"/>
                  <a:pt x="20513" y="3696"/>
                </a:cubicBezTo>
                <a:cubicBezTo>
                  <a:pt x="20551" y="3683"/>
                  <a:pt x="20534" y="3671"/>
                  <a:pt x="20588" y="3671"/>
                </a:cubicBezTo>
              </a:path>
              <a:path w="9650" h="7169">
                <a:moveTo>
                  <a:pt x="21109" y="3274"/>
                </a:moveTo>
                <a:cubicBezTo>
                  <a:pt x="21109" y="3241"/>
                  <a:pt x="21109" y="3208"/>
                  <a:pt x="21109" y="3175"/>
                </a:cubicBezTo>
                <a:cubicBezTo>
                  <a:pt x="21131" y="3157"/>
                  <a:pt x="21147" y="3148"/>
                  <a:pt x="21183" y="3125"/>
                </a:cubicBezTo>
                <a:cubicBezTo>
                  <a:pt x="21201" y="3114"/>
                  <a:pt x="21238" y="3111"/>
                  <a:pt x="21258" y="3101"/>
                </a:cubicBezTo>
                <a:cubicBezTo>
                  <a:pt x="21285" y="3063"/>
                  <a:pt x="21294" y="3060"/>
                  <a:pt x="21332" y="3026"/>
                </a:cubicBezTo>
                <a:cubicBezTo>
                  <a:pt x="21358" y="3002"/>
                  <a:pt x="21416" y="2979"/>
                  <a:pt x="21431" y="2952"/>
                </a:cubicBezTo>
                <a:cubicBezTo>
                  <a:pt x="21431" y="2944"/>
                  <a:pt x="21431" y="2935"/>
                  <a:pt x="21431" y="2927"/>
                </a:cubicBezTo>
                <a:cubicBezTo>
                  <a:pt x="21452" y="2912"/>
                  <a:pt x="21460" y="2917"/>
                  <a:pt x="21481" y="2902"/>
                </a:cubicBezTo>
                <a:cubicBezTo>
                  <a:pt x="21490" y="2893"/>
                  <a:pt x="21544" y="2854"/>
                  <a:pt x="21555" y="2828"/>
                </a:cubicBezTo>
                <a:cubicBezTo>
                  <a:pt x="21555" y="2820"/>
                  <a:pt x="21555" y="2811"/>
                  <a:pt x="21555" y="2803"/>
                </a:cubicBezTo>
                <a:cubicBezTo>
                  <a:pt x="21576" y="2782"/>
                  <a:pt x="21590" y="2773"/>
                  <a:pt x="21605" y="2729"/>
                </a:cubicBezTo>
                <a:cubicBezTo>
                  <a:pt x="21605" y="2721"/>
                  <a:pt x="21605" y="2712"/>
                  <a:pt x="21605" y="2704"/>
                </a:cubicBezTo>
                <a:cubicBezTo>
                  <a:pt x="21627" y="2686"/>
                  <a:pt x="21643" y="2677"/>
                  <a:pt x="21679" y="2654"/>
                </a:cubicBezTo>
                <a:cubicBezTo>
                  <a:pt x="21712" y="2633"/>
                  <a:pt x="21745" y="2614"/>
                  <a:pt x="21779" y="2580"/>
                </a:cubicBezTo>
                <a:cubicBezTo>
                  <a:pt x="21801" y="2557"/>
                  <a:pt x="21809" y="2552"/>
                  <a:pt x="21803" y="2530"/>
                </a:cubicBezTo>
                <a:cubicBezTo>
                  <a:pt x="21834" y="2509"/>
                  <a:pt x="21832" y="2511"/>
                  <a:pt x="21853" y="2480"/>
                </a:cubicBezTo>
                <a:cubicBezTo>
                  <a:pt x="21881" y="2464"/>
                  <a:pt x="21924" y="2447"/>
                  <a:pt x="21952" y="2431"/>
                </a:cubicBezTo>
                <a:cubicBezTo>
                  <a:pt x="21967" y="2410"/>
                  <a:pt x="21962" y="2402"/>
                  <a:pt x="21977" y="2381"/>
                </a:cubicBezTo>
                <a:cubicBezTo>
                  <a:pt x="22002" y="2381"/>
                  <a:pt x="22026" y="2381"/>
                  <a:pt x="22051" y="2381"/>
                </a:cubicBezTo>
                <a:cubicBezTo>
                  <a:pt x="22072" y="2350"/>
                  <a:pt x="22069" y="2353"/>
                  <a:pt x="22101" y="2332"/>
                </a:cubicBezTo>
              </a:path>
              <a:path w="9650" h="7169">
                <a:moveTo>
                  <a:pt x="22647" y="2009"/>
                </a:moveTo>
                <a:cubicBezTo>
                  <a:pt x="22647" y="2001"/>
                  <a:pt x="22647" y="1992"/>
                  <a:pt x="22647" y="1984"/>
                </a:cubicBezTo>
                <a:cubicBezTo>
                  <a:pt x="22686" y="1971"/>
                  <a:pt x="22656" y="1973"/>
                  <a:pt x="22696" y="1960"/>
                </a:cubicBezTo>
                <a:cubicBezTo>
                  <a:pt x="22704" y="1928"/>
                  <a:pt x="22735" y="1876"/>
                  <a:pt x="22771" y="1860"/>
                </a:cubicBezTo>
                <a:cubicBezTo>
                  <a:pt x="22817" y="1840"/>
                  <a:pt x="22805" y="1806"/>
                  <a:pt x="22845" y="1786"/>
                </a:cubicBezTo>
                <a:cubicBezTo>
                  <a:pt x="22853" y="1786"/>
                  <a:pt x="22862" y="1786"/>
                  <a:pt x="22870" y="1786"/>
                </a:cubicBezTo>
                <a:cubicBezTo>
                  <a:pt x="22881" y="1741"/>
                  <a:pt x="22899" y="1723"/>
                  <a:pt x="22944" y="1712"/>
                </a:cubicBezTo>
                <a:cubicBezTo>
                  <a:pt x="22956" y="1675"/>
                  <a:pt x="23001" y="1688"/>
                  <a:pt x="23019" y="1662"/>
                </a:cubicBezTo>
                <a:cubicBezTo>
                  <a:pt x="23019" y="1654"/>
                  <a:pt x="23019" y="1645"/>
                  <a:pt x="23019" y="1637"/>
                </a:cubicBezTo>
              </a:path>
              <a:path w="9650" h="7169">
                <a:moveTo>
                  <a:pt x="23292" y="1339"/>
                </a:moveTo>
                <a:cubicBezTo>
                  <a:pt x="23300" y="1339"/>
                  <a:pt x="23308" y="1339"/>
                  <a:pt x="23316" y="1339"/>
                </a:cubicBezTo>
                <a:cubicBezTo>
                  <a:pt x="23329" y="1300"/>
                  <a:pt x="23328" y="1329"/>
                  <a:pt x="23341" y="1290"/>
                </a:cubicBezTo>
                <a:cubicBezTo>
                  <a:pt x="23376" y="1278"/>
                  <a:pt x="23368" y="1252"/>
                  <a:pt x="23416" y="1240"/>
                </a:cubicBezTo>
                <a:cubicBezTo>
                  <a:pt x="23426" y="1210"/>
                  <a:pt x="23458" y="1198"/>
                  <a:pt x="23490" y="1166"/>
                </a:cubicBezTo>
                <a:cubicBezTo>
                  <a:pt x="23519" y="1137"/>
                  <a:pt x="23528" y="1125"/>
                  <a:pt x="23564" y="1116"/>
                </a:cubicBezTo>
                <a:cubicBezTo>
                  <a:pt x="23577" y="1077"/>
                  <a:pt x="23576" y="1106"/>
                  <a:pt x="23589" y="1067"/>
                </a:cubicBezTo>
                <a:cubicBezTo>
                  <a:pt x="23629" y="1054"/>
                  <a:pt x="23599" y="1055"/>
                  <a:pt x="23639" y="1042"/>
                </a:cubicBezTo>
                <a:cubicBezTo>
                  <a:pt x="23639" y="1002"/>
                  <a:pt x="23644" y="962"/>
                  <a:pt x="23688" y="943"/>
                </a:cubicBezTo>
                <a:cubicBezTo>
                  <a:pt x="23696" y="943"/>
                  <a:pt x="23705" y="943"/>
                  <a:pt x="23713" y="943"/>
                </a:cubicBezTo>
                <a:cubicBezTo>
                  <a:pt x="23713" y="900"/>
                  <a:pt x="23703" y="905"/>
                  <a:pt x="23738" y="893"/>
                </a:cubicBezTo>
                <a:cubicBezTo>
                  <a:pt x="23748" y="852"/>
                  <a:pt x="23747" y="853"/>
                  <a:pt x="23788" y="843"/>
                </a:cubicBezTo>
                <a:cubicBezTo>
                  <a:pt x="23798" y="803"/>
                  <a:pt x="23797" y="804"/>
                  <a:pt x="23837" y="794"/>
                </a:cubicBezTo>
              </a:path>
              <a:path w="9650" h="7169">
                <a:moveTo>
                  <a:pt x="24433" y="471"/>
                </a:moveTo>
                <a:cubicBezTo>
                  <a:pt x="24455" y="449"/>
                  <a:pt x="24463" y="444"/>
                  <a:pt x="24457" y="422"/>
                </a:cubicBezTo>
                <a:cubicBezTo>
                  <a:pt x="24498" y="412"/>
                  <a:pt x="24497" y="413"/>
                  <a:pt x="24507" y="372"/>
                </a:cubicBezTo>
                <a:cubicBezTo>
                  <a:pt x="24552" y="372"/>
                  <a:pt x="24567" y="357"/>
                  <a:pt x="24606" y="347"/>
                </a:cubicBezTo>
                <a:cubicBezTo>
                  <a:pt x="24616" y="316"/>
                  <a:pt x="24648" y="306"/>
                  <a:pt x="24681" y="273"/>
                </a:cubicBezTo>
                <a:cubicBezTo>
                  <a:pt x="24711" y="242"/>
                  <a:pt x="24749" y="244"/>
                  <a:pt x="24780" y="223"/>
                </a:cubicBezTo>
                <a:cubicBezTo>
                  <a:pt x="24815" y="200"/>
                  <a:pt x="24863" y="178"/>
                  <a:pt x="24904" y="174"/>
                </a:cubicBezTo>
                <a:cubicBezTo>
                  <a:pt x="24929" y="174"/>
                  <a:pt x="24937" y="174"/>
                  <a:pt x="24954" y="174"/>
                </a:cubicBezTo>
                <a:cubicBezTo>
                  <a:pt x="24963" y="145"/>
                  <a:pt x="24987" y="129"/>
                  <a:pt x="25028" y="124"/>
                </a:cubicBezTo>
                <a:cubicBezTo>
                  <a:pt x="25036" y="124"/>
                  <a:pt x="25045" y="124"/>
                  <a:pt x="25053" y="124"/>
                </a:cubicBezTo>
                <a:cubicBezTo>
                  <a:pt x="25066" y="84"/>
                  <a:pt x="25065" y="114"/>
                  <a:pt x="25078" y="74"/>
                </a:cubicBezTo>
                <a:cubicBezTo>
                  <a:pt x="25112" y="63"/>
                  <a:pt x="25102" y="67"/>
                  <a:pt x="25102" y="25"/>
                </a:cubicBezTo>
              </a:path>
            </a:pathLst>
          </a:custGeom>
          <a:noFill/>
          <a:ln cap="rnd" w="34920">
            <a:solidFill>
              <a:srgbClr val="8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подготовка\1015 009.jpg"/>
          <p:cNvPicPr/>
          <p:nvPr/>
        </p:nvPicPr>
        <p:blipFill>
          <a:blip r:embed="rId1"/>
          <a:srcRect l="1336" t="7111" r="29335" b="6225"/>
          <a:stretch/>
        </p:blipFill>
        <p:spPr>
          <a:xfrm>
            <a:off x="1371600" y="169560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F:\подготовка\1015 010.jpg"/>
          <p:cNvPicPr/>
          <p:nvPr/>
        </p:nvPicPr>
        <p:blipFill>
          <a:blip r:embed="rId1"/>
          <a:srcRect l="2256" t="7690" r="3705" b="0"/>
          <a:stretch/>
        </p:blipFill>
        <p:spPr>
          <a:xfrm>
            <a:off x="547560" y="2438280"/>
            <a:ext cx="64627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2-03-03T13:12:33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