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5F7-89D7-4BB2-9DFB-69BB5DC8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0BD-2346-47BA-8E15-28909BCB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324-90CD-4020-B8EA-300C5056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857-DE29-4E63-92AA-6C979A61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3A1-5FBC-443A-9BD0-F446683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1BE-510F-4E7C-A5C2-69D1B408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701-2919-4849-91E6-D8681AE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111-11FE-4881-A73C-05E7CC5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A2D-1BCA-44B2-BA97-4F021AD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01B-99C8-4D99-AA55-58B6DA7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C3C-79B7-4A6C-B146-F51A5BD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85F-82EE-4A77-94B9-99646A8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0C58-EE37-4FD4-93E5-75E3DB11A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ОДИН – МНОГО» </a:t>
            </a:r>
            <a:br>
              <a:rPr sz="40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ДЛЯ ДЕТЕЙ 5-7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441936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5520" y="4571640"/>
            <a:ext cx="25909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ьянова Т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БДОУ №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4724280"/>
            <a:ext cx="3124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 з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3434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800240"/>
            <a:ext cx="2895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 зна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243828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43864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4"/>
          <a:stretch/>
        </p:blipFill>
        <p:spPr>
          <a:xfrm>
            <a:off x="6553080" y="2514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4956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пеш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8006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 пеше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0481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505320" cy="218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5410080" y="4343400"/>
            <a:ext cx="3429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343040"/>
            <a:ext cx="365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пешеходный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502920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 пешеходных пере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962520" cy="23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4648320" y="4191120"/>
            <a:ext cx="3962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9"/>
          <p:cNvSpPr txBox="1"/>
          <p:nvPr/>
        </p:nvSpPr>
        <p:spPr>
          <a:xfrm>
            <a:off x="2362320" y="2133720"/>
            <a:ext cx="441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ОЛОДЕЦ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чник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и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86880" y="31273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 flipV="1" rot="10800000">
            <a:off x="685800" y="3885840"/>
            <a:ext cx="54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09480" y="1981080"/>
            <a:ext cx="624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forum.in-ku.com/showth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avto-novosti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william.rumsoc.ru/igry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www.worldslist.info/i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dayoflife.ru/sed/?cont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www.ulyanovskcity.ru/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www.ivakomobr.ru/glav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igry-dlya-detey.ru/te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avtokreslaonline.ru/e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http://www.nadezhda-fc.ru/vos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знания о правилах дорожного дви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жнять в умении образовывать и употреблять в речи  существительные в единственном и во множественном числе, согласовывать числительное с существи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мышление, речь,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стремление к преодолению трудностей, уверенность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овое пособие предназначено для детей старшего дошкольного возраста от 5-7 лет выполнено в использованием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должен посмотреть на картинки и назвать изображенные   на них предметы  в  единственном и множественном числе; образовывать формы родительного падежа множественного числа со словом «много». На клик мышки «появляется» правильно названное слово и изобра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ебёнок предложил неверный ответ, обсудить и подвести его к верному отв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ком мышки перейти на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800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  автоб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035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71840" y="480024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бу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90852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3429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5334120"/>
            <a:ext cx="2895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грузови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40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419720"/>
            <a:ext cx="335268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 грузов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3279600" cy="226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5486400" y="41148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4"/>
          <a:stretch/>
        </p:blipFill>
        <p:spPr>
          <a:xfrm>
            <a:off x="3505320" y="21337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419360"/>
            <a:ext cx="3886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ин 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562720"/>
            <a:ext cx="3505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о светоф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294480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2793960" cy="241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2514600" y="2743200"/>
            <a:ext cx="30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0:27:58Z</dcterms:created>
  <dc:creator>Мария</dc:creator>
  <dc:description/>
  <dc:language>en-US</dc:language>
  <cp:lastModifiedBy>Home</cp:lastModifiedBy>
  <dcterms:modified xsi:type="dcterms:W3CDTF">2015-11-05T18:14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