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2B3-164C-4A43-8EB8-9C257661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093-842C-45EA-9F88-0B68DB30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F49-8B33-4D0A-B707-DC27AAD7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372-AF64-499E-9878-B8BA1577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5BA7-D72D-4045-9ACE-C5D118A5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E02E-6B3E-4C8F-ABED-8B3B0CE9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B119-AB6C-4D8F-A2F6-F38F4F5F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160A-5B20-4E9B-B604-77929B43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4ED8-A6FE-47CB-BBDA-3612D7A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E8E5-57AD-4A1F-8E04-2913EF85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ECAF-2B09-4A24-A8E8-0E671CAE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919-63DE-4944-8C31-07D5F3C9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E51A-7C5F-4E7A-ACBF-553111B2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AE36-8E99-4FF7-9A88-BF7EB803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865D-1A56-4653-A385-8FC8FAD1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0CD4-FD39-41DE-8E9F-A8685647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797E-7237-4F17-971B-AFAE6835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667AF-3214-454B-B407-03740BDA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35969-7928-46D3-B9C0-4EF90282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B8810-A79C-4CF0-915A-A50C492C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A9FAB-03CA-4929-94D9-9B1174F8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3E273-C422-4659-B513-F0560E1E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7C5-2AA4-4FEE-B9E0-5225C9B6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01EEB-F5C5-4E39-99A6-BE6CA734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78179-AA20-42FC-80B4-83AE7B43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E571F-DC75-47D2-A7E9-F7C7119C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0E1BF-FE36-483E-BFB6-2BC7B8DD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47756-8EEF-4655-8E0D-228FF7E4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354A4-E715-4187-AC2D-FA64DBC4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A3BB6-398C-47CA-AD35-F5D5193B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2B90D-932B-4AA4-9E6C-5EE44CFA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9AEB-9B4D-40A6-A0C5-40C18EFB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A915-F6CF-4766-9515-B0550176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52E-E4C4-4136-9BC0-F55447C6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26A27-DA8E-406A-A783-52DE2984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B571-5224-4F1B-AED6-FD2B5165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97E9-4970-4052-9938-F3960424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F66BE-27AA-44CF-ADF2-749D9FC7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8918C-0426-49A7-B026-0295810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D127-6E42-41E1-8CD9-68BD9DE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90F23-8306-431E-BD6B-5A4726E2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0F9F-D128-483B-8B2A-09CD32DC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1AD92-E6C3-4D1B-8F09-AA39827F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BA260-FAA4-4949-A5FD-98172D76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97F-B30F-4556-915A-D8C755AB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79C60-1051-4158-8C32-F33848AB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9C201-4198-4013-AEDB-913F5324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65BCA-1D99-421D-BC28-A3CDAE30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D6288-1373-4FFC-B714-4C54E0C1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56AB1-A69B-4C6F-A5FD-CE6EB6D0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C49E0-3DE6-47F1-8DBA-DA0390DB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178B2-3E65-4659-B766-42AF4936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F5671-658A-44B0-ADA2-CAAF5A97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89872-A1AF-4AE4-ABA1-EA9BADB4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93ADC-88F6-4199-B513-FFCF8986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257-C1F5-4E69-A77B-BE4CB3A1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A8E74-2F70-43D1-9D0E-4271D7E0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5790D-8A35-4D3D-8F16-FD66334E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7A4DC-809A-4344-8B84-86A9D72D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EF518E-4892-4CE9-8123-53C7C15C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D867B-8417-44BB-9F08-4288D024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7AA1F2-8932-4ECB-94AD-62C27ACB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8D6ADA-3E9F-4E52-9D73-5FBD704C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04011-70E0-4CE7-8AAD-BD879B5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49F98-E86D-4DE4-BCFB-5D7A231E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132CC-BB79-458E-9BFF-21769BB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420-FC46-4C76-9B8A-1FF63E89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466E4-54D0-4506-AFD4-787BB4B3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05B41-7C71-4432-9CE2-2B88C96B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57659-8371-4F4C-9B89-D60CB2D5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17406-6F45-4FD3-A21E-FD145AC8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C95F09-E0B9-4723-ABAB-1306460B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91FA84-20C4-48FD-B271-81AFD631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7EA5A-0C5F-4740-A3E6-072FBE96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C2F5D-08E4-487B-823A-C4ECE331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68E14C-3342-49EE-BFBB-003EA4BB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7439FB-E8D6-43F3-8C4B-82333F9C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6AC-75F7-43B4-873B-122BB889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4727A-9B5D-419C-BB04-DEE3CDD7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32F98-637C-4B80-82C2-3156B350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7DCFE-237D-4512-9387-F820905A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88F2A-26E8-48AC-A645-102B6F20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FA931-7A34-4CA2-8E82-0FF1D749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AB0-F03A-4A42-8FA7-FB35BAD8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641E-FE1D-446B-BB2B-5FD38D4DBA39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0607-02F1-4D4C-BE37-719585616D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4B3E-1C9F-47E6-AF2A-637C5DED71D2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2AF-365B-4073-9F85-3530843340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D743-C208-4BAD-8127-A86345A45DB1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6ED4-31F0-4124-84E4-312260F8C04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AEFD-742B-4B1F-8207-20AE34F47E46}" type="datetime"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AB69-BC4D-486A-A5EF-BDDC33F240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4353-D955-44BD-A834-A7977ABCD783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944A-6E07-4B03-A12B-4E97F22A16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76C0-2905-4AF5-83BC-14812DE4390A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034F-DC4A-446E-8305-73F6CFF327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E64F-57F6-45C4-9DF0-68B2BC383BD0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CB9F-43EC-474C-9A96-252B5F2D66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3"/>
          <p:cNvSpPr/>
          <p:nvPr/>
        </p:nvSpPr>
        <p:spPr>
          <a:xfrm>
            <a:off x="2484360" y="260280"/>
            <a:ext cx="49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© МОУ Пречистенская СОШ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1116000" y="170028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ткрытый классный час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рамках проведения семинар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Эффективные формы работы с педагогическим коллективо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МОУ Пречистенской СОШ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4211640" y="515772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Автор: Булыгина Наталия Владимировна, классный руководитель 10 класс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3635280" y="63403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. Пречистое, 20.10.2015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847200" cy="4843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385" name="Номер слайда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41BD-8072-4F5E-AB94-045D7B82AC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3"/>
          <p:cNvSpPr/>
          <p:nvPr/>
        </p:nvSpPr>
        <p:spPr>
          <a:xfrm>
            <a:off x="1763640" y="189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арта движе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Прямоугольник 4"/>
          <p:cNvSpPr/>
          <p:nvPr/>
        </p:nvSpPr>
        <p:spPr>
          <a:xfrm>
            <a:off x="395280" y="1197000"/>
            <a:ext cx="8137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ИО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ласс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ую профессию я выбрал и/или выберу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ие школьные предметы мне надо углублённо изучать, чтобы освоить эту профессию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ими чертами характера я должен обладать, чтобы работать в этой профессии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какое учебное заведение я могу поступить, выбрав эту профессию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то я должен делать сегодня, чтобы мои желания и возможности совпали, и мечта о выбранной профессии осуществилась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Номер слайда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009E-CACB-4D93-B86B-1762335533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268360" y="530280"/>
            <a:ext cx="5758200" cy="60847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3"/>
          <p:cNvSpPr/>
          <p:nvPr/>
        </p:nvSpPr>
        <p:spPr>
          <a:xfrm>
            <a:off x="324000" y="228600"/>
            <a:ext cx="64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 Я сегодня задумался…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 Я сегодня узнал …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 Меня удивило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 Я сделал вывод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Номер слайда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05FA-98E4-401E-ADB4-9618A9CF7B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C:\Users\пк\Desktop\1\hello_html_77d45eee.jpg"/>
          <p:cNvPicPr/>
          <p:nvPr/>
        </p:nvPicPr>
        <p:blipFill>
          <a:blip r:embed="rId1"/>
          <a:stretch/>
        </p:blipFill>
        <p:spPr>
          <a:xfrm>
            <a:off x="395280" y="260280"/>
            <a:ext cx="7507440" cy="5545080"/>
          </a:xfrm>
          <a:prstGeom prst="rect">
            <a:avLst/>
          </a:prstGeom>
          <a:ln w="0">
            <a:noFill/>
          </a:ln>
        </p:spPr>
      </p:pic>
      <p:sp>
        <p:nvSpPr>
          <p:cNvPr id="356" name="Номер слайда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4E6B-CC63-4FE5-A999-C0F1163B69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3"/>
          <p:cNvSpPr/>
          <p:nvPr/>
        </p:nvSpPr>
        <p:spPr>
          <a:xfrm>
            <a:off x="422280" y="368280"/>
            <a:ext cx="78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«Я выбираю профессию»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528920" y="1981080"/>
            <a:ext cx="5610240" cy="4453200"/>
          </a:xfrm>
          <a:prstGeom prst="rect">
            <a:avLst/>
          </a:prstGeom>
          <a:ln w="0">
            <a:noFill/>
          </a:ln>
        </p:spPr>
      </p:pic>
      <p:sp>
        <p:nvSpPr>
          <p:cNvPr id="359" name="Номер слайда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47CF-5373-496B-8026-B1FDB07A8E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061040" cy="41054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3"/>
          <p:cNvSpPr/>
          <p:nvPr/>
        </p:nvSpPr>
        <p:spPr>
          <a:xfrm>
            <a:off x="1332000" y="243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циологический опрос учащихся 10 класс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971640" y="981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Определились ли Вы с будущей профессией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Номер слайда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A1C6-141A-4528-A57A-774E31A790E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169320" cy="36007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539640" y="5176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 Предметы какого школьного цикла Вы больше предпочитаете: гуманитарного или естественно-математического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Номер слайда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EDA7-B587-47F4-89F6-9EEC98942F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481800" cy="377640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1131840" y="5176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 Какую профессию Вы выбрали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Номер слайда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E946-A754-4F08-917F-690CF44160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3"/>
          <p:cNvSpPr/>
          <p:nvPr/>
        </p:nvSpPr>
        <p:spPr>
          <a:xfrm>
            <a:off x="900000" y="119700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Учитель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оенны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сихолог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Юрист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Экономист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пециалист в области ИКТ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3743280" y="115920"/>
            <a:ext cx="1835280" cy="147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6735600" y="388800"/>
            <a:ext cx="1730520" cy="2332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4287960" y="1817640"/>
            <a:ext cx="2280960" cy="1657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4"/>
          <a:stretch/>
        </p:blipFill>
        <p:spPr>
          <a:xfrm>
            <a:off x="5421240" y="4724280"/>
            <a:ext cx="2297160" cy="1724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"/>
          <p:cNvPicPr/>
          <p:nvPr/>
        </p:nvPicPr>
        <p:blipFill>
          <a:blip r:embed="rId5"/>
          <a:stretch/>
        </p:blipFill>
        <p:spPr>
          <a:xfrm>
            <a:off x="3059280" y="4768920"/>
            <a:ext cx="2182680" cy="1636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"/>
          <p:cNvPicPr/>
          <p:nvPr/>
        </p:nvPicPr>
        <p:blipFill>
          <a:blip r:embed="rId6"/>
          <a:stretch/>
        </p:blipFill>
        <p:spPr>
          <a:xfrm>
            <a:off x="468360" y="4889520"/>
            <a:ext cx="2190600" cy="1395360"/>
          </a:xfrm>
          <a:prstGeom prst="rect">
            <a:avLst/>
          </a:prstGeom>
          <a:ln w="0">
            <a:noFill/>
          </a:ln>
        </p:spPr>
      </p:pic>
      <p:sp>
        <p:nvSpPr>
          <p:cNvPr id="377" name="Номер слайда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2E82-7C6D-4056-8312-1F93282D3C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3"/>
          <p:cNvSpPr/>
          <p:nvPr/>
        </p:nvSpPr>
        <p:spPr>
          <a:xfrm>
            <a:off x="2286000" y="90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пражнение по профориентации "Основной мотив твоего выбора"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Прямоугольник 4"/>
          <p:cNvSpPr/>
          <p:nvPr/>
        </p:nvSpPr>
        <p:spPr>
          <a:xfrm>
            <a:off x="395280" y="185904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писок мотивов включает 16 фраз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ается задание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зачеркните 8 из 16 мотивов, которые к тебе меньше всего относятся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зачеркните 4 мотива, которые в меньшей степени руководят тобой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сключите еще 2 менее важных из четырех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далите еще один из двух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Номер слайда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7BCD-A130-483A-A9D6-6E08802727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3"/>
          <p:cNvSpPr/>
          <p:nvPr/>
        </p:nvSpPr>
        <p:spPr>
          <a:xfrm>
            <a:off x="468360" y="3016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новной мотив твоего выбора професс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236520" y="1125360"/>
            <a:ext cx="85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Возможность получить известность, прославитьс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 Возможность продолжать семейные традиц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 Возможность продолжать учебу со своими товарища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4. Возможность служить людя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5. Заработок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6. Значение для экономики страны, общественное и государственное значение професс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7. Легкость поступления на работу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8. Перспективность рабо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9. Позволяет проявить свои способ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0. Позволяет общаться с людь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1. Обогащает знания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2. Разнообразная по содержанию рабо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3. Романтичность, благородство професс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4. Творческий характер труда, возможность делать открыт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5. Трудная, сложная професс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6. Чистая, легкая, спокойная рабо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Номер слайда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3361-F7EF-4A97-88C5-B9C100ED58C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5:14:21Z</dcterms:created>
  <dc:creator>пк</dc:creator>
  <dc:description/>
  <dc:language>en-US</dc:language>
  <cp:lastModifiedBy>пк</cp:lastModifiedBy>
  <dcterms:modified xsi:type="dcterms:W3CDTF">2015-10-19T16:39:25Z</dcterms:modified>
  <cp:revision>21</cp:revision>
  <dc:subject/>
  <dc:title>Презентация PowerPoint</dc:title>
</cp:coreProperties>
</file>