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13.gif" ContentType="image/gif"/>
  <Override PartName="/ppt/media/image4.jpeg" ContentType="image/jpeg"/>
  <Override PartName="/ppt/media/image3.jpeg" ContentType="image/jpeg"/>
  <Override PartName="/ppt/media/image23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22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C109-A395-4C90-B568-3BF7552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BB57-A653-4C15-88B0-D74C0B1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4734-AD38-4624-B9F5-6556E7C6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63DB-546A-4FEF-9E55-B5A24930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8129-C314-4B9E-BADD-EA205AF2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CD3-34B4-4F1E-9E63-A8826C9E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E03C-A8FE-4590-85A4-7655A82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6C50-92B2-4EEF-B1BD-9419484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113-5276-4C77-8089-897F8910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B797-2815-403A-9335-33FB7672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0270-7B2A-4722-B447-36E7AD2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883A-D1F6-46DF-9450-ED0E4E37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D88-F339-4638-B453-33CF467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75F-EBB3-4FD1-8E3F-F31619E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D90E-26E3-4B58-8B7B-05D33D8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FC00-DC84-4192-9687-68266B66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424C-A651-4AA5-B8A4-B41448B9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22CC-1406-4DB9-8CB2-7E48C8C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0559-00B6-4F19-8396-F38B530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56D2-2397-4CC1-8D61-F5BD9C3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E84C-3E1F-40F9-A7E1-7038238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8E27-C304-44DC-ABCC-A1738E9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C24D-848B-4140-A7D9-030B0D1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56CE-9A73-4A5B-B13E-F98B93D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4239-813F-4304-936B-CCC6EABFD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300-6A7F-4F1A-9EA5-9268C42F2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url?url=http://miranimashek.com/photo/&amp;rct=j&amp;sa=X&amp;ei=om9-UMvpD6qj4gSczICIAg&amp;ved=0CDQQ6QUoADAE&amp;q=&#1082;&#1072;&#1088;&#1090;&#1080;&#1085;&#1082;&#1072;+&#1080;&#1075;&#1088;&#1091;&#1096;&#1082;&#1080;&amp;usg=AFQjCNFasFhCKV0bLus_qYgh95FnNBoo7Q" TargetMode="External"/><Relationship Id="rId2" Type="http://schemas.openxmlformats.org/officeDocument/2006/relationships/hyperlink" Target="http://www.google.ru/url?url=http://miranimashek.com/photo/98&amp;rct=j&amp;sa=X&amp;ei=om9-UMvpD6qj4gSczICIAg&amp;ved=0CDUQ6QUoATAE&amp;q=&#1082;&#1072;&#1088;&#1090;&#1080;&#1085;&#1082;&#1072;+&#1080;&#1075;&#1088;&#1091;&#1096;&#1082;&#1080;&amp;usg=AFQjCNH63VfAYDSq1FeINjlkFwqyei3EOQ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1828800"/>
            <a:ext cx="643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Числа от 10 до 20»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тематика. 1 класс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787640" y="4365720"/>
            <a:ext cx="420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І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икитина Елена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7840" y="260280"/>
            <a:ext cx="740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ендат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259236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39440" y="1020600"/>
            <a:ext cx="65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У нашей кошки шесть кот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Двое на диване сп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Один котёнок катает клуб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Другой котёнок забрался в сап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 остальные сидят на око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мотрят, как Бобик бежит по доро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колько котят на окошке си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142848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544500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843280" y="5229360"/>
            <a:ext cx="1809720" cy="1428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643280" y="5300640"/>
            <a:ext cx="1224000" cy="132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227640" y="5178600"/>
            <a:ext cx="1800360" cy="143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11800" y="4135320"/>
            <a:ext cx="423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6 – 2 – 1 – 1 =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06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28000" y="3068640"/>
            <a:ext cx="86364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6200" y="1144440"/>
            <a:ext cx="80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один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3400" y="907920"/>
            <a:ext cx="39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две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7960" y="917640"/>
            <a:ext cx="385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три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9240" y="701640"/>
            <a:ext cx="461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четыр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2160" y="628560"/>
            <a:ext cx="383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ят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0160" y="628560"/>
            <a:ext cx="43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шест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4520" y="412920"/>
            <a:ext cx="39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сем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7040" y="404640"/>
            <a:ext cx="46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восем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8880" y="412920"/>
            <a:ext cx="45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девят-н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8000" y="2205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3440" y="412920"/>
            <a:ext cx="303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два-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0" y="4643280"/>
            <a:ext cx="90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11 12 13 14 15 16 17 18 19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00000" y="692280"/>
            <a:ext cx="669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2200" y="200808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120" y="1865160"/>
            <a:ext cx="50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Миша шёл, шёл, шё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Белый гриб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аз - грибок, два – гриб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ложили в кузов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1544760" cy="2017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635280" y="4724280"/>
            <a:ext cx="1793880" cy="1927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14889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875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975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75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00360" y="457200"/>
            <a:ext cx="424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Рефлекс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нравился урок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Нормально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онравился урок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198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7a7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997360"/>
            <a:ext cx="914400" cy="914400"/>
          </a:xfrm>
          <a:prstGeom prst="smileyFace">
            <a:avLst>
              <a:gd name="adj" fmla="val -1110"/>
            </a:avLst>
          </a:prstGeom>
          <a:solidFill>
            <a:srgbClr val="f7a7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429264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7a7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42920" y="1268280"/>
            <a:ext cx="6913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143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9480" y="1557360"/>
            <a:ext cx="772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miranimashek.com ›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Фотоальбо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›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артинки, 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llforchildren.ru/pictures/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st-picture.ucoz.ru/photo/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lolko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krovk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ucoz.ru/konstrukt_vedernikovoj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estival.1september.ru/articles/5371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estival.1september.ru/articles/subjects/15?sz%5B%5D..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456840"/>
            <a:ext cx="208764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ыки счёта в предела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детям усвоить название, образование, разрядный состав и последовательность чисел второго деся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некоторыми историческими сведениями о появлении позиционной записи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зрительное восприятие, слуховое внимание, зрительную пам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мать зрительное и физическое напря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самостоятельность, дисциплинированность, умение работать в коллекти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981000"/>
            <a:ext cx="60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Вот подали нам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 ну-ка, дети, встаньте в р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Готов к работе мой отр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56000" y="3386160"/>
            <a:ext cx="4248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6920" y="1052640"/>
            <a:ext cx="763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ёлый  счё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348000" cy="4186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398680" cy="194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25196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549360"/>
            <a:ext cx="3384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050920" y="2060640"/>
          <a:ext cx="4681800" cy="3889440"/>
        </p:xfrm>
        <a:graphic>
          <a:graphicData uri="http://schemas.openxmlformats.org/drawingml/2006/table">
            <a:tbl>
              <a:tblPr/>
              <a:tblGrid>
                <a:gridCol w="1560600"/>
                <a:gridCol w="1560240"/>
                <a:gridCol w="156096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484360" y="2349360"/>
            <a:ext cx="792360" cy="770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349360"/>
            <a:ext cx="1079640" cy="698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645000"/>
            <a:ext cx="792000" cy="771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97360"/>
            <a:ext cx="863640" cy="865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1480" y="981000"/>
            <a:ext cx="513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У меня 4 книж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машинки и 3 миш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то ответит побыст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колько у меня ве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120" y="344808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4 + 3 +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3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03640" y="5373720"/>
            <a:ext cx="115416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27640" y="5229360"/>
            <a:ext cx="137160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24360" y="5197320"/>
            <a:ext cx="1068480" cy="147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643280" y="4287960"/>
            <a:ext cx="1368720" cy="82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372360" y="407664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132000" y="423864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0760" y="1216080"/>
            <a:ext cx="542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ромашки-желтоглаз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есёлых васи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одарили маме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колько же цветов в бук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43280" y="5084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95640" y="5084640"/>
            <a:ext cx="100800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148360" y="5084640"/>
            <a:ext cx="1008000" cy="1094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3240" y="342576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3 + 2 =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0520" y="1308240"/>
            <a:ext cx="516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Дружно муравьи жив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И без дела не сн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Два несут трави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Два несут были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Три несут иго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колько муравьёв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48360" y="5661000"/>
            <a:ext cx="865440" cy="903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87280" y="5445000"/>
            <a:ext cx="865440" cy="903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5661000"/>
            <a:ext cx="865440" cy="903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8000" y="5516640"/>
            <a:ext cx="865440" cy="903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76720" y="5516640"/>
            <a:ext cx="1003320" cy="104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995640" y="5661000"/>
            <a:ext cx="865440" cy="90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508720" y="5661000"/>
            <a:ext cx="865080" cy="90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99440" y="4208400"/>
            <a:ext cx="33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2 + 2 +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3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9600" y="1092240"/>
            <a:ext cx="587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емь ребят катались с г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Убежал домой Его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 потом ушёл Ва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И Серёжа вслед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колько на горке осталось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то посчитал, отвечайте скор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8200" y="4240080"/>
            <a:ext cx="23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7 – 3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59280" y="3524400"/>
            <a:ext cx="3909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21:23Z</dcterms:created>
  <dc:creator>Admin</dc:creator>
  <dc:description/>
  <dc:language>en-US</dc:language>
  <cp:lastModifiedBy>House</cp:lastModifiedBy>
  <dcterms:modified xsi:type="dcterms:W3CDTF">2012-10-18T13:10:41Z</dcterms:modified>
  <cp:revision>21</cp:revision>
  <dc:subject/>
  <dc:title>ТЕМА</dc:title>
</cp:coreProperties>
</file>