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47D-6D13-4756-A4B4-22BD260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28D-1953-491A-856F-4F5B3E7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420-19BA-4539-AA56-229898FC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65C-253A-459D-A582-DA0B02AE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567C-0855-4868-8FE8-F1FE1321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2F0-DFE2-49DA-BFFD-F4BBBEB2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C4D-56D8-4D7E-A938-3AC35063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D89-E91C-4C16-86B8-AC9DE934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8FCC-9ACC-41D0-8E8F-1918FFE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2313-317E-4979-B36A-53CB6DC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4C5-2F5E-489A-A4AB-C6D439B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397-13AB-4F51-B09A-22AA9BE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636-82FB-4A89-BA07-6F8FD94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65EA-9481-4C70-9D11-9C199C8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6D06-3888-4252-B85B-ACCF6E12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D3F-AED4-4D35-A367-04B9106B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99F-25BD-48D0-9F80-21D56D0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677-ECB2-4A0A-A72A-F8695A7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D09-448A-4499-8655-A2AD670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20E-F4F3-4F86-8C6D-7258F3D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AE9-C785-47AE-88D9-2ACFE4A0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096-2030-40CA-AFA7-186A833B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35D-1267-48D5-A51F-D409873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03C-7198-476B-86E7-0A8287D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CB55-928D-435B-8E9E-AE7C3CA22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C36-0519-4DD4-A5EF-374A0FDDF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8840" y="0"/>
            <a:ext cx="750096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Система работы над правописанием проверяемых безударных гласных в корне слова – основа формирования грамотного письма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14440" y="5000400"/>
            <a:ext cx="5715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                                                  ГБОУ СОШ № 31 г. Севастополя     Лапина Елена Серге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9720" y="499680"/>
            <a:ext cx="7683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Формирование навыков грамотного письма было и остаётся одной из самых трудных задач, которые приходится решать учителю, и становится  успешным тогда , когда оно проводится в системе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дна из самых трудных тем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истеме обучения грамотному письму – тем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«Правописание проверяемых безударных гласных в корнях слов»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истему работы над правописанием безударных гласных в корнях слов условно можно разделить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на 4 этап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49968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м этапом системы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д безударными проверяемыми гласным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ечевого слух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Ребенок осваивает понятие об ударении в слове, сопоставляет  гласные в ударных и безударных слог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начинается с букварного пери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работы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ктическое знакомство с удар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тановление факта подвижности ударения  в русском язы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дарные и безударные слоги и глас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71360" y="499680"/>
            <a:ext cx="807228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торым этапом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ы над безударными проверяемыми гласным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навыка разбора слов по соста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Для правописания безударных гласных навык разбора слов по составу имеет первостепенное зна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м шагом к изучению состава слова, к развитию навыка обнаруживать корень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однокоренными слова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их общей ча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задача 2 этапа – это подвести учащихся к осознанию единообразного написания корней в однокоренных слов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этап -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работа с упражнениями, предусматривающими предупреждение ошибок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Четвертый этап -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овладение способами самостоятельно видеть и проверять безударный гласный в корне слова. В этом этапе возрастает место творческих работ в системе упражнен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4040" y="299880"/>
            <a:ext cx="8143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я должны быть разнообраз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ффективным упражнением есть  поиск орфограмм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ы орфоэпического и орфографического чтения на всех этап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ый и систематический характер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9720" y="1571760"/>
            <a:ext cx="76834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Хочешь грамотно писать – каждое слово должен проверять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Графическая работа на уроках языка выполняется постоянно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9720" y="357120"/>
            <a:ext cx="7683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69999"/>
                </a:solidFill>
                <a:latin typeface="Times New Roman"/>
              </a:rPr>
              <a:t>Благодарю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69999"/>
                </a:solidFill>
                <a:latin typeface="Times New Roman"/>
              </a:rPr>
              <a:t>за 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96666"/>
                </a:solidFill>
                <a:latin typeface="Times New Roman"/>
              </a:rPr>
              <a:t>Успехов  во  всех  начинаниях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8:53:31Z</dcterms:created>
  <dc:creator>Home</dc:creator>
  <dc:description/>
  <dc:language>en-US</dc:language>
  <cp:lastModifiedBy>Елена</cp:lastModifiedBy>
  <dcterms:modified xsi:type="dcterms:W3CDTF">2015-10-16T09:43:38Z</dcterms:modified>
  <cp:revision>19</cp:revision>
  <dc:subject/>
  <dc:title>Тема проекта «Безударные гласные в корне слова»</dc:title>
</cp:coreProperties>
</file>