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059-894E-41DB-A344-A3E8A268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640-B4DA-4919-A824-80FC6D35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619-B9D3-44E7-B5E8-71FB856D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398-BE7E-4474-A165-801B25EA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26D6-753D-42D9-BC0E-C9CB9FFC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9397-65C9-4C4D-8EF8-723AB3BF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308B-C656-463E-8E5F-89E9E38B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11B1-F419-4A32-9DD4-FE163401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6AD1-E121-4086-AD47-4144CC78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C1CF-ED75-4B55-A64D-600EF2AC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0E97-22FB-4F0F-8399-F9ABF81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0D5-10FE-4FA6-A3CC-B1D78F1B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9002-2761-4CD1-AEB5-A4DEFE9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0AD2-F4E5-49DB-AF20-DEAA96A7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30D1-4D92-4FCD-A301-CC9B2475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1BD5-8D83-4FEC-BD75-ADA802ED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8EA1-D132-4AB1-9BE1-9021E303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02F9-BDF0-41EF-A16C-025E5D46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6C30-56F3-4406-8B91-364FC226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3299-4F32-42FF-B3F8-B66E9DE7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77AB-70D2-4AB2-AABA-137F46D0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AF85-3FA7-4687-8125-6E066C6E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AB4-D54F-4C96-8838-7F0438C0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4CBC-A195-488C-A5E1-85B76E18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7ECF-9C70-4191-BE93-DEEFEEAD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C28A-99AC-40CE-9EB5-37148B0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3A75-2B30-4469-9BAE-044A33CC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0305-D1C1-479E-8A16-0B28B64B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45764-DCB4-410A-B6E9-C3264661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53C7-9221-477F-89C1-78E32638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F722-A888-493C-A68B-D270C180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7BD87-1283-4160-BA06-47BF82AB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579F0-D768-4CC7-BFAA-A0050526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8DB-D293-4C25-96F5-201CD64F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EF2E-8510-4037-82AA-159635BC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C8AE9-4C51-4176-853A-9C9A851D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8440-4486-45EB-B26A-13D88970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D3F9-7C42-484A-A645-F2A27115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66E4B-B088-4EFB-AB30-3D772F7E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022D-09B8-4560-BF80-F7CCB23D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E7B31-B041-4DB8-9BAF-20946156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D14E-2EF4-4AE8-8611-BED4FDD3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C8515-3696-4C3D-80CB-70E7C712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171-ADD6-42E2-8361-2032DCB7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689-B3E1-4323-83BF-FEA5BD39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4B5-34F0-47CE-96DA-207FA908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430-1FE2-4877-B6BD-B7FAB61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DF4-47BC-4D00-A976-839DD665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614C-78C5-4D59-8E0F-ECD66715CF9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D174-5E7C-476E-9E1D-EABF5231CE5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7EF4-C5DC-4AF9-883E-3CABCC29FDD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0FDA-F4F2-4BA6-9C08-7652183EF60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863960" y="920880"/>
            <a:ext cx="4383360" cy="4998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4" descr="071013144031.jpg"/>
          <p:cNvPicPr/>
          <p:nvPr/>
        </p:nvPicPr>
        <p:blipFill>
          <a:blip r:embed="rId2"/>
          <a:stretch/>
        </p:blipFill>
        <p:spPr>
          <a:xfrm>
            <a:off x="214200" y="428760"/>
            <a:ext cx="45770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Picture 2" descr="http://0lik.ru/uploads/posts/1187689768_0lik.ru_apple000.jpg"/>
          <p:cNvPicPr/>
          <p:nvPr/>
        </p:nvPicPr>
        <p:blipFill>
          <a:blip r:embed="rId1"/>
          <a:stretch/>
        </p:blipFill>
        <p:spPr>
          <a:xfrm>
            <a:off x="1170000" y="428760"/>
            <a:ext cx="6116760" cy="595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Picture 2" descr="http://content.foto.mail.ru/mail/lenucik/188/i-241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1760" y="68400"/>
            <a:ext cx="5500440" cy="652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2" descr="http://horo.ukr.net/img/b-zoro/image044.jpg"/>
          <p:cNvPicPr/>
          <p:nvPr/>
        </p:nvPicPr>
        <p:blipFill>
          <a:blip r:embed="rId1"/>
          <a:stretch/>
        </p:blipFill>
        <p:spPr>
          <a:xfrm>
            <a:off x="428760" y="500040"/>
            <a:ext cx="8130960" cy="585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972280" cy="2858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А.С.Пушкин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7" descr="Riba1i"/>
          <p:cNvPicPr/>
          <p:nvPr/>
        </p:nvPicPr>
        <p:blipFill>
          <a:blip r:embed="rId1"/>
          <a:stretch/>
        </p:blipFill>
        <p:spPr>
          <a:xfrm>
            <a:off x="1000080" y="571680"/>
            <a:ext cx="7167600" cy="556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1643040" y="192240"/>
            <a:ext cx="5500800" cy="634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Picture 2" descr="http://www.screen.ru/school/pushkintales/Bilibin/Resize%20of%2023.JPG"/>
          <p:cNvPicPr/>
          <p:nvPr/>
        </p:nvPicPr>
        <p:blipFill>
          <a:blip r:embed="rId1"/>
          <a:stretch/>
        </p:blipFill>
        <p:spPr>
          <a:xfrm>
            <a:off x="1711440" y="142920"/>
            <a:ext cx="5646600" cy="653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3" name="Picture 4" descr="Сказка о попе и о работнике его Балде: иллюстрация 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9880" y="428760"/>
            <a:ext cx="7827840" cy="564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6" name="Picture 2" descr="Иллюстрация к "/>
          <p:cNvPicPr/>
          <p:nvPr/>
        </p:nvPicPr>
        <p:blipFill>
          <a:blip r:embed="rId1"/>
          <a:stretch/>
        </p:blipFill>
        <p:spPr>
          <a:xfrm>
            <a:off x="2143080" y="190440"/>
            <a:ext cx="5286600" cy="645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44440" y="981000"/>
            <a:ext cx="4559400" cy="5170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Рисунок 6" descr="pushkin_04.jpg"/>
          <p:cNvPicPr/>
          <p:nvPr/>
        </p:nvPicPr>
        <p:blipFill>
          <a:blip r:embed="rId2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4243320" y="554040"/>
            <a:ext cx="4327560" cy="5597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Рисунок 3" descr="pushkin_s_l.jpg"/>
          <p:cNvPicPr/>
          <p:nvPr/>
        </p:nvPicPr>
        <p:blipFill>
          <a:blip r:embed="rId2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986360" y="285840"/>
            <a:ext cx="4065480" cy="5913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Рисунок 4" descr="pushkina_n_o.jpg"/>
          <p:cNvPicPr/>
          <p:nvPr/>
        </p:nvPicPr>
        <p:blipFill>
          <a:blip r:embed="rId2"/>
          <a:stretch/>
        </p:blipFill>
        <p:spPr>
          <a:xfrm>
            <a:off x="214200" y="357120"/>
            <a:ext cx="50356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3925800" y="353880"/>
            <a:ext cx="4998960" cy="65106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3" descr="C:\Documents and Settings\Admin\Рабочий стол\Пушкин\gannibal_m_a.jpg"/>
          <p:cNvPicPr/>
          <p:nvPr/>
        </p:nvPicPr>
        <p:blipFill>
          <a:blip r:embed="rId2"/>
          <a:stretch/>
        </p:blipFill>
        <p:spPr>
          <a:xfrm>
            <a:off x="0" y="428760"/>
            <a:ext cx="41482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406760" y="353880"/>
            <a:ext cx="4335480" cy="59914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0" y="0"/>
            <a:ext cx="465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28520" y="493560"/>
            <a:ext cx="8856720" cy="35848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33160" y="4286160"/>
            <a:ext cx="7854840" cy="1928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А.С.Пушкин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http://library.dozory.ru/i/artefacts/zerkalo_erosa.jpg"/>
          <p:cNvPicPr/>
          <p:nvPr/>
        </p:nvPicPr>
        <p:blipFill>
          <a:blip r:embed="rId1"/>
          <a:stretch/>
        </p:blipFill>
        <p:spPr>
          <a:xfrm>
            <a:off x="744480" y="428760"/>
            <a:ext cx="7566120" cy="585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Picture 2" descr="http://tmorozova.ru/images/ideal03.jpg"/>
          <p:cNvPicPr/>
          <p:nvPr/>
        </p:nvPicPr>
        <p:blipFill>
          <a:blip r:embed="rId1"/>
          <a:stretch/>
        </p:blipFill>
        <p:spPr>
          <a:xfrm>
            <a:off x="592200" y="1643040"/>
            <a:ext cx="7765920" cy="324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09:42Z</dcterms:created>
  <dc:creator>user</dc:creator>
  <dc:description/>
  <dc:language>en-US</dc:language>
  <cp:lastModifiedBy>Владимир</cp:lastModifiedBy>
  <dcterms:modified xsi:type="dcterms:W3CDTF">2011-12-24T18:57:56Z</dcterms:modified>
  <cp:revision>30</cp:revision>
  <dc:subject/>
  <dc:title>Александр Сергеевич Пушкин  1799-1837</dc:title>
</cp:coreProperties>
</file>