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3D2-F6BD-4820-9898-7FC4B66A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B00-82CE-4B3E-8D7A-54A0F90F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4E11-A39F-47D2-8037-6D12ACD7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5AA-17A5-4EE6-936B-F09D036A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9A57-152C-49AA-83FC-2A663390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F953-BDD1-4012-9308-96511F77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30A2-05C3-42BF-96DC-C75C67A3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1225-A01E-4FE8-8CA8-7E5BF296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7796-5954-4C6D-AF7F-847CAF21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4DDC-3B2F-4FBC-8EA0-7AEDF17B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6368-DCE4-4C1F-A761-114D9ADB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995-D9B6-463F-A228-E8A1880A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5D08-AC65-43EB-A3D4-13762FE9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3718-A5C5-4B30-93DC-E0E11572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6E8D-73D4-4D53-8148-1004EBD4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8A00-0C7E-44AC-A2E9-9FAC13AA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64B2-44B2-4918-89FF-E0581932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B80BC-E851-499D-B12E-B1C36EB5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F774C-FFA5-4A0F-A676-C3260B48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76D51-716A-4964-9873-B2CFF036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EC2EE-3989-4A3A-BC51-81D70A81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4D4B8-D83C-4488-9E0F-E397DE94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279C-2641-4C8F-B2E7-2EC70DDC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75C0D-2363-4793-95F9-DE5857A5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F2528-3B3E-4DF2-A657-C484EAB3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5577-67FB-4F1E-BB6B-D7CF79EE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B34D2-99AE-4AF7-8BA5-32AA53E9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3FFBD-3893-44B9-B18D-AADD4989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ACA5F-7557-4810-ADDD-97ABE7F1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5A298-D6B7-4D5C-A9C9-BE0DD8ED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16AF9-A70A-4261-8D55-0BB9079D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A9F06-D37A-41D9-9A23-8FFCEE3E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70D95-C197-497E-B290-09FBF57E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E466-117E-4B00-A557-FE02924A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E0C06-1DE6-482D-A175-4E98FAB7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4C8C1-0EB6-490C-B1CC-1E7F6AC3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B2BD8-68B6-4431-9DFD-1D2BE8AC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0375E-A75F-4E1F-AD02-75B169D1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2E405-8C9A-4A14-9504-4618FB09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D8245-67C5-4CD1-BAA4-32113A3E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0138A-CBAA-45BD-92F7-13C0A5C0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C2503-FF4B-4399-81F0-3616EEE7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1C1F0-730D-4D73-9700-04548C09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E9E81-EE5E-4241-8E8C-80416F2D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934B-801E-4BF1-8B19-4867453D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5783E-F882-4A6F-8133-B6BDAA3D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2B7D8-B2DF-42A1-A7A2-AE65B88D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EFFDF-439A-4BCC-8CDE-AE22CCDD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E8A63-C2F9-43A9-9C79-1136A41E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05724-8D83-4605-AA3A-BDDC6BBE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2C0BF-5010-4B4C-9FB4-0DED0E7F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39246-F30A-4F73-91CD-8760FB34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E289B-B214-4B7A-95C2-B4EBA78E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E10A7-E5E7-481A-B750-41D604D8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40C11-266A-41CC-AFEE-95FB0F68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5C2-C86A-4377-B2E4-F12730C3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1417C-0BDF-43AD-898F-0FA713E1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55C-FDE9-4A84-AEA8-8E47D77C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57C-9F04-41C2-9B33-01A4EB0A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ABA-E736-40D8-9142-0A2B31E2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659F-56EE-4C7F-9788-FB5335752FC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D0E7-F50E-4D91-949A-3BA032FDAA1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5C54-3E34-4248-82AB-82E9A98DE4B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2D4A-C71E-47FF-A3EF-78DB2092BA55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48D0-D5C4-4619-A063-F4650FEE7D4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AutoShape 2" descr=""/>
          <p:cNvPicPr/>
          <p:nvPr/>
        </p:nvPicPr>
        <p:blipFill>
          <a:blip r:embed="rId1"/>
          <a:stretch/>
        </p:blipFill>
        <p:spPr>
          <a:xfrm>
            <a:off x="609480" y="390600"/>
            <a:ext cx="8199720" cy="1766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09480" y="3276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AutoShap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, 2, 3, 4, </a:t>
            </a:r>
            <a:r>
              <a:rPr b="0" lang="ru-RU" sz="2600" spc="-1" strike="noStrike">
                <a:solidFill>
                  <a:srgbClr val="b13f9a"/>
                </a:solidFill>
                <a:latin typeface="Trebuchet MS"/>
              </a:rPr>
              <a:t>5</a:t>
            </a:r>
            <a:r>
              <a:rPr b="0" lang="ru-RU" sz="2600" spc="-1" strike="noStrike">
                <a:solidFill>
                  <a:srgbClr val="ac66bb"/>
                </a:solidFill>
                <a:latin typeface="Trebuchet MS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6, 7, 8, 9, </a:t>
            </a: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10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11... 10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Каждое пято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число из данного множества делится на 5. Значит, вероятность равна 1/5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AutoShap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Брошена игральная кость. Найдите вероятность того, что выпадет нечетное число очков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AutoShap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, 3, 5 — нечетные числа; 2, 4, 6 — четные. Вероятность нечетного числа очков равна 1/2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вет: 0,5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AutoShap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Монета брошена три раза. Какова вероятность двух «орлов» и одной «решки»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AutoShap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83772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Заметим, что задачу можно сформулировать по-другому: бросили три монеты одновременно. На решение это не повлияет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Как вы думаете, сколько здесь возможных исходов?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Бросаем монету. У этого действия два возможных исхода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рел и реш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Две монеты — уже четыре исхода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рел – орел; орел – решка; решка – орел; решка – решк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Три монеты? Правильно, 8 исходов, так как 2 2 2 = 2³ = 8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Вот они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рел–орел-орел;       орел-орел-решка;    орел-решка-орел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решка-орел-орел;      орел-решка-решка; решка-орел-решка;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решка-решка-орел;    решка-решка-решка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Два орла и одна решка выпадают в трех случаях из восьм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Ответ: 3/8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AutoShap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 случайном эксперименте бросают две игральные кости. Найдите вероятность того, что в сумме выпадет 8 очков. Результат округлите до соты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AutoShap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росаем первую кость — шесть исходов. И для каждого из них возможны еще шесть — когда мы бросаем вторую кость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лучаем, что у данного действия — бросания двух игральных костей — всего 36 возможных исходов, так как 6² = 36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 теперь — благоприятные исходы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2 6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3 5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4 4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5 3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6 2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ероятность выпадения восьми очков равна 5/36 ≈ 0,14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AutoShap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трелок попадает в цель с вероятностью 0,9. Найдите вероятность того, что он попадёт в цель четыре раза выстрела подряд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AutoShap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Если вероятность попадания равна 0,9 — следовательно, вероятность промаха 0,1. Рассуждаем так же, как и в предыдущей задаче. Вероятность двух попадания подряд равна 0,9* 0,9 = 0,81. А вероятность четырех попаданий подряд равна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0,9* 0,9* 0,9* 0,9 = 0,6561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AutoShap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 кармане у Пети было 2 монеты по 5 рублей и 4 монеты по 10 рублей. Петя, не глядя, переложил какие-то 3 монеты в другой карман. Найдите вероятность того, что пятирублевые монеты лежат теперь в разных кармана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AutoShap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 фирме такси в данный момент свободно 15 машин: 2 красных, 9 желтых и 4 зеленых. По вызову выехала одна из машин, случайно оказавшихся ближе всего к заказчице. Найдите вероятность того, что к ней приедет желтое такси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AutoShap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838080" y="2361960"/>
            <a:ext cx="7693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Мы знаем, что вероятность события равна отношению числа благоприятных исходов к общему числу исходов. Но как посчитать все эти исходы?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Кодируем монеты числами: 1, 2 (это пятирублёвые), 3, 4, 5, 6 (это десятирублёвые). Условие задачи можно теперь сформулировать так: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Trebuchet MS"/>
              </a:rPr>
              <a:t>Есть шесть фишек с номерами от 1 до 6. Сколькими способами можно разложить их по двум карманам поровну, так чтобы фишки с номерами 1 и 2 не оказались вместе?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Давайте запишем, что у нас в первом карман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Для этого составим все возможные комбинации из набора 1 2 3 4 5 6. Набор из трёх фишек будет трёхзначным числом. Очевидно, что в наших условиях 1 2 3 и 2 3 1 — это один и тот же набор фишек. Чтобы ничего не пропустить и не повториться, располагаем соответствующие трехзначные числа по возрастанию: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123, 124, 125, 126..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А дальше? Мы же говорили, что располагаем числа по возрастанию. Значит, следующее — 134, а затем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135, 136, 145, 146, 15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Все! Мы перебрали все возможные комбинации, начинающиеся на 1. Продолжаем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234, 235, 236, 245, 246, 256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345, 346, 356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456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Всего 20 возможных исходов.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У нас есть условие — фишки с номерами 1 и 2 не должны оказаться вместе. Это значит, например, что комбинация 356 нам не подходит — она означает, что фишки 1 и 2 обе оказались в не в первом, а во втором кармане. Благоприятные для нас исходы — такие, где есть либо только 1, либо только 2. Вот они: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134, 135, 136, 145, 146, 156, 234, 235, 236, 245, 246, 256 — всего 12 благоприятных исходов.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Тогда искомая вероятность равна 12/20.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Ответ: 0,6.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AutoShap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380880" y="25146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сего имеется 15 машин, то есть к заказчице приедет одна из пятнадцати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елтых — девять, и значит, вероятность приезда именно желтой машины равна 9/15, то есть 0,6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AutoShap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 сборнике билетов по биологии всего 25 билетов, в двух из них встречается вопрос о грибах. На экзамене школьнику достаётся один случайно выбранный билет. Найдите вероятность того, что в этом билете не будет вопроса о грибах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AutoShap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5 - 2 = 23(столько билетов в которых нет вопроса о грибах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чевидно, вероятность вытащить билет без вопроса о грибах равна 23/25, то есть 0,92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AutoShap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Родительский комитет закупил 30 пазлов для подарков детям на окончание учебного года, из них 12 с картинами известных художников и 18 с изображениями животных. Подарки распределяются случайным образом. Найдите вероятность того, что Вовочке достанется пазл с животным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адача решается аналогично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твет: 0,6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AutoShap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 чемпионате по гимнастике участвуют 20 спортсменок: 8 из России, 7 из США, остальные — из Китая. Порядок, в котором выступают гимнастки, определяется жребием. Найдите вероятность того, что спортсменка, выступающая последней, окажется из Китая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AutoShap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авайте представим, что все спортсменки одновременно подошли к шляпе и вытянули из нее бумажки с номерами. Кому-то из них достанется двадцатый номер. Вероятность того, что его вытянет китайская спортсменка, равен 5/20 (поскольку из Китая — 5 спортсменок). Ответ: 0,25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AutoShap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Ученика попросили назвать число от 1 до 100. Какова вероятность того, что он назовет число кратное пяти?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3-07-04T07:02:1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